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DDF-2056-404C-8B8B-79742478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41B-2CFF-4B88-A514-A722CEFC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92F14-1871-499B-8FFB-A02E464E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60201-8125-478D-AB79-D97AF0A6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A74DB-FF9C-4813-A5F8-179006F6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2AD8A-5CAB-45C8-AD5D-68AB2249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54662-1713-48A1-93B7-D5B09E78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38212-6E86-45C1-8B47-F0C12375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1EFD9-4A0E-41D2-AE20-CA533440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ED1E1-BF18-43BE-B8C9-7A4E61DC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7E34B-64C1-4947-B21A-875A39AC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979B7-71B1-456F-810D-C8F76F4D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A4B-0EB9-4666-952E-527D762E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84532-06D8-497E-BEBD-1B3B159D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149FD-20D3-45F2-9ADF-92DE0463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59887-F627-4AEE-A2C0-94A9193B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79B8D-2B7E-45C9-B542-55B4E88F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F6BB3-4BAA-417D-8CB0-9864182E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15FB9-B00A-4F1E-AF4B-9DEE69FB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D6F93-5CFE-4EA6-8BBA-CB49A96B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E5A9C-4D17-432D-87C5-60D15CA6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FB3DB-4203-412A-ACFB-6AAF7467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7235D-F1C0-44FF-8296-CD6B102A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2A7-5598-42FF-A543-2A4719E0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CC4D5-51CE-4BEE-8149-548AB35E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5744D-9054-4694-9BCC-7059543E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432C1-A98D-431A-9E53-54F86066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A971F-3F78-4849-AC17-33ADA4FE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6E248-0749-44A1-BEA6-39F1AB70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BE4C1-BE45-4C96-87A8-328876D7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A66C8-9A12-44C1-ACC7-1229A901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11FC3-997B-413B-9850-4E607924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F0399-AECD-4BE0-8C06-6751C0D7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02A5B-782A-453F-9E38-567B6F57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6001-46A5-4684-B4E8-EEB6ED7E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7FA65-AFD3-4EC5-8528-568E169E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F7B2D-7F71-4167-A7EC-4497A863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9DE1B-2036-4DEA-8540-16A66DF3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A18F5-8F4F-4E22-B773-EA75BF49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1E5CF-4E8D-4475-BFFA-D26ABD62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DA482-0462-4760-9105-9C04976D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27C87-33F5-4016-BE83-5D4FD479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6FC31-3C36-4DB0-9E43-C8CA62A3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CD108-EC1E-4791-987B-CB51B99A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8B689-DC91-4909-A202-38985290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5F6F-B0A0-4516-AB05-4465B78E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CDBAC-EF4D-4DAC-B1F1-E25703F3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D5781-865A-40F1-AFB1-4448F63A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466B4-3E79-4166-A4A4-8AD990DE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E5BEB-B8E7-431E-A26B-36F561D7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2B89F-003C-4B2E-B1B6-71EC4E5C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176DC-1C7F-4252-823E-5E94A87F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E17C3-6D05-4703-9269-F8731FCB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DBE05-7C79-49BB-BEB3-40C0CA49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03F20-3539-45B2-8DBD-07B1CDE4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AEBBF-F347-427E-A7CE-48416990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B1E0-8F80-49A8-8688-963B1EBF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B951C-DC28-4B83-A711-E76A0FB6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22274-D237-46AF-AE1B-3DB7643B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77769-BB70-4194-95DF-3EAE746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022A1-E6AE-4492-868F-776C3844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D4C64-119C-4002-AD75-3928D1AB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FA555-01DD-46C0-B033-8B9E7F9D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14890-D199-4C21-9854-03FA166A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198A-59DB-4FF2-90B4-A6C4C60E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6438-316C-4666-9E62-28098700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2442-3D29-4FCC-8DA8-3ADCF739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D036-DFC6-4F45-BF84-FA9CA6C5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340-CAF5-41D4-A715-48A0D225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F1DD-132E-4F32-9AF3-02FA266F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E88C-CF33-42CC-8DC2-176C72A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E42E-6A53-4D63-B00F-B958E4A1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0EB6-DD27-4B62-B001-5C28CB6C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0945-5ECC-48DD-81FD-BA80C55D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CF59-4F76-4C9A-A4A7-DA735F7D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22FD-C3AF-463D-9EDA-87285D6B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EB2F-67DA-4080-96FF-A5EB24C0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3996-72E0-4B2C-8CF7-3C235893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1B0A-15A4-4442-AA82-C4526473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A11-FA5D-4575-8C88-22638400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817AC-151B-467B-828B-5CAE227C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5410-A443-45A0-965B-3A82561A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9C1D-BEDB-4E7F-AE06-D87BF974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324B-6FC0-4EBB-914D-80351DFF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0144-F01A-4B3D-9568-6CAAC72F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E279-9426-479A-A422-8323EBEC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EF95-20F4-47A9-9167-30CEA53D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24DF-C3EF-419F-82F4-A6CE2663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49BFC-D4BE-4797-8E1A-F1EA7554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2D83-B343-4298-B53A-4A8ADAA1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18C-301E-4FB0-B38F-2F0B3CF3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66A3-04F8-4CBC-8421-98F6D55F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9CE3-32D1-4D6E-A861-8A0C41AC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7DEF8-F393-4111-AB7C-F75B9818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8DE12-3316-4634-8155-1DF062C5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76A1-7848-4CDF-8051-E2648DB2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2B0C-39C2-466E-8148-36F8AB0E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32BE6-CEA4-4D2C-B89F-2AE51B09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4DCE-DAF2-42EA-A934-DBAA50E4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E5C80-8A4D-4094-B81C-82ACDD3B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FFBDC-44C4-4ED9-BC86-3BCF14A7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579-4432-4685-95A4-E0FAC60F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03052-81E3-49A9-A188-E947CBF3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D46D-5969-4E2A-9811-0A080E1F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7F50D-47F4-4FBB-ACB5-5DAE20FB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637C8-A308-46CF-8443-F6971A90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18130-D49A-4438-B231-4D94A66D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DB678-97EC-4B74-9AAF-DC5E04C8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2C532-661C-4B99-A142-B37A5F07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41D06-7C1E-4BAC-A57A-71E8FBB7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A51E8-DC76-466D-AAFA-C9C1EE50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147A4-7FE9-4387-BAEF-FC1FECF3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CDE-721A-45CB-AC60-030E9058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C1F12-5C21-4D37-81E9-8894B3D5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B510B-D32E-4A88-A274-62533583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0B551-B506-4D52-9BF8-A729416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F3B97-A38B-4FEB-B03D-26D61A2D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1504B-B62A-4F99-872E-A7805039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069D3-3650-471C-9C06-6FD64107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885CA-90A1-4C3B-A8F8-A0C19E2D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F2801-B99E-4624-A893-C80AFE70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75898-2EC6-4429-BA3D-55D9CE96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E63EF-1275-4622-8EE6-9BEFD28B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360-2149-41AD-B77C-A7C1716A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08ACF-25C6-4222-A869-75B2DE31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473C6-8C4B-4701-AF8A-25D5C7D8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9D36C-CE71-4A3A-9DFD-02B07544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90775-3316-4626-87AE-4D8E12D5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1F2B0-0D29-4B52-9670-FD64AD43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ED092-3B1F-47CE-B8D7-5EFCFFEB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49D62-EFDE-409A-8459-B126946E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537CB-B111-49CD-81B4-1A369D81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DB6B5-A17A-4608-A190-64E5CA7F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46C95-5BD1-4F1E-A021-1A6328AC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B2E-BB68-4F64-91C7-325D11BC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37C52-5254-4DC0-AD94-4ED84151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8DF2C-8741-424A-BA44-7F75F912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ADB74-634C-47D5-98BE-5E282FC8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FF600-5EF0-4334-95F7-9F3854E7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F08D7-608B-4396-BD09-C0E641C6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B8EB3-732C-4B4B-B963-CB0A8202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165CF-635D-4FE0-8B50-095239EA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9A3D0-4956-4D7F-AD64-CEC46431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1D5BD-9AFC-4E40-85FE-C1E44672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8ED52-8741-4A99-AEB7-2A347AD4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7A0-ADD5-4D5B-B357-E9D14E1B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B98D1-353D-4947-AA10-0A43FBAF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42CC2-BE0B-4172-8D85-B8C660A7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95656-5B75-45DA-A03C-C11BCCF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F6824-3447-4D39-BEE3-76542B36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4C1FD-791A-497F-AE75-0AB515BF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92B4B-84D6-4993-9BD6-C6BC15BB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EF81F-FC99-42A0-917B-61B02FC1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825E6-5DDF-4C72-AD45-2CCA0292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F545D-3077-49B8-B52C-D874B430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0F88E-4309-4BF8-BE49-8B4E49C8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42A1-0145-4990-8915-0BBB3B9FCCA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267C-420A-41F0-AA0A-EC9A4A4F7D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3044-4F2A-480F-8948-92B8715B9F9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6A5E-D956-4544-B3F7-7DF25DA4A2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C08D-4DC5-43C9-9043-9A1EBE7E266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7F0B-6518-4534-9E1D-5E9E6E3875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A1EA-4348-4CE4-BF95-8703ACF45A8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B7E9-499E-40AF-9625-A7C154DD44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C918-0EC1-46C8-9056-52705CF32B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D2FF-1AFB-4F30-841D-242B25A25E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7610-D805-49FB-AC2F-91FDF86462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46A9-A05A-48B8-9D8B-2C9CAE18CD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671A-30B8-4F29-8E11-5EEA4C30506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EA1E-9933-4845-8324-5D2B92674A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0142-B9F3-413B-A6F5-2D4D02D347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1F45-E03C-43B0-8635-17A6EC251B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B1D0-C521-4042-BEE1-F49EED33CF1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4246-D45E-4E4F-AEF8-B692727CE1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030E-EC80-45BC-93A8-795425B1BC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8C5D-3B7A-471A-8383-6B7798BE62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DF50-654C-45DD-AE95-6EDC03961E9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942F-2366-4EB2-A437-BA28E062AC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6BC3-3400-454F-B502-8CAF9B41128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527A-8C4A-48FF-9593-7C8B1C4355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859F-7594-47F9-BB8B-570A713EE6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44FF-9BC0-481C-8202-21C755872B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6"/>
          <p:cNvSpPr/>
          <p:nvPr/>
        </p:nvSpPr>
        <p:spPr>
          <a:xfrm>
            <a:off x="0" y="1633680"/>
            <a:ext cx="9144000" cy="21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190440" y="193680"/>
            <a:ext cx="1981440" cy="1368360"/>
          </a:xfrm>
          <a:prstGeom prst="rect">
            <a:avLst/>
          </a:prstGeom>
          <a:ln w="0">
            <a:noFill/>
          </a:ln>
        </p:spPr>
      </p:pic>
      <p:sp>
        <p:nvSpPr>
          <p:cNvPr id="536" name="直接连接符 11"/>
          <p:cNvSpPr/>
          <p:nvPr/>
        </p:nvSpPr>
        <p:spPr>
          <a:xfrm>
            <a:off x="0" y="1633680"/>
            <a:ext cx="9144000" cy="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13"/>
          <p:cNvSpPr/>
          <p:nvPr/>
        </p:nvSpPr>
        <p:spPr>
          <a:xfrm>
            <a:off x="0" y="3759120"/>
            <a:ext cx="9144000" cy="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2"/>
          <a:stretch/>
        </p:blipFill>
        <p:spPr>
          <a:xfrm rot="718200">
            <a:off x="4951440" y="1267920"/>
            <a:ext cx="3462480" cy="34624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3794040"/>
            <a:ext cx="8174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美亚航空控股有限公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副标题 2"/>
          <p:cNvSpPr/>
          <p:nvPr/>
        </p:nvSpPr>
        <p:spPr>
          <a:xfrm>
            <a:off x="2556000" y="1201680"/>
            <a:ext cx="640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Meiya Aviation Holdings Co.,L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2"/>
          <p:cNvSpPr/>
          <p:nvPr/>
        </p:nvSpPr>
        <p:spPr>
          <a:xfrm>
            <a:off x="396720" y="52592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7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6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8"/>
          <p:cNvSpPr/>
          <p:nvPr/>
        </p:nvSpPr>
        <p:spPr>
          <a:xfrm>
            <a:off x="-12600" y="878040"/>
            <a:ext cx="9142200" cy="144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 rot="718200">
            <a:off x="7307280" y="4035240"/>
            <a:ext cx="1681200" cy="16808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7"/>
          <p:cNvGrpSpPr/>
          <p:nvPr/>
        </p:nvGrpSpPr>
        <p:grpSpPr>
          <a:xfrm>
            <a:off x="3060720" y="1994040"/>
            <a:ext cx="503280" cy="647640"/>
            <a:chOff x="3060720" y="1994040"/>
            <a:chExt cx="503280" cy="647640"/>
          </a:xfrm>
        </p:grpSpPr>
        <p:sp>
          <p:nvSpPr>
            <p:cNvPr id="548" name="圆角矩形 3"/>
            <p:cNvSpPr/>
            <p:nvPr/>
          </p:nvSpPr>
          <p:spPr>
            <a:xfrm>
              <a:off x="3060720" y="1994040"/>
              <a:ext cx="503280" cy="647640"/>
            </a:xfrm>
            <a:custGeom>
              <a:avLst/>
              <a:gdLst>
                <a:gd name="textAreaLeft" fmla="*/ 24480 w 503280"/>
                <a:gd name="textAreaRight" fmla="*/ 478800 w 503280"/>
                <a:gd name="textAreaTop" fmla="*/ 24480 h 647640"/>
                <a:gd name="textAreaBottom" fmla="*/ 623160 h 647640"/>
              </a:gdLst>
              <a:ahLst/>
              <a:rect l="textAreaLeft" t="textAreaTop" r="textAreaRight" b="textAreaBottom"/>
              <a:pathLst>
                <a:path w="21600" h="27791">
                  <a:moveTo>
                    <a:pt x="3600" y="0"/>
                  </a:moveTo>
                  <a:arcTo wR="3600" hR="3600" stAng="16200000" swAng="-5400000"/>
                  <a:lnTo>
                    <a:pt x="0" y="24191"/>
                  </a:lnTo>
                  <a:arcTo wR="3600" hR="3600" stAng="10800000" swAng="-5400000"/>
                  <a:lnTo>
                    <a:pt x="18000" y="27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c527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圆角矩形 4"/>
            <p:cNvSpPr/>
            <p:nvPr/>
          </p:nvSpPr>
          <p:spPr>
            <a:xfrm>
              <a:off x="3060720" y="2065680"/>
              <a:ext cx="503280" cy="503640"/>
            </a:xfrm>
            <a:custGeom>
              <a:avLst/>
              <a:gdLst>
                <a:gd name="textAreaLeft" fmla="*/ 24480 w 503280"/>
                <a:gd name="textAreaRight" fmla="*/ 478800 w 503280"/>
                <a:gd name="textAreaTop" fmla="*/ 24480 h 503640"/>
                <a:gd name="textAreaBottom" fmla="*/ 479160 h 503640"/>
              </a:gdLst>
              <a:ahLst/>
              <a:rect l="textAreaLeft" t="textAreaTop" r="textAreaRight" b="textAreaBottom"/>
              <a:pathLst>
                <a:path w="21600" h="21615">
                  <a:moveTo>
                    <a:pt x="3600" y="0"/>
                  </a:moveTo>
                  <a:arcTo wR="3600" hR="3600" stAng="16200000" swAng="-5400000"/>
                  <a:lnTo>
                    <a:pt x="0" y="18015"/>
                  </a:lnTo>
                  <a:arcTo wR="3600" hR="3600" stAng="10800000" swAng="-5400000"/>
                  <a:lnTo>
                    <a:pt x="18000" y="216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c0c0c">
                <a:alpha val="78000"/>
              </a:srgbClr>
            </a:solidFill>
            <a:ln w="6480">
              <a:solidFill>
                <a:srgbClr val="c527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圆角矩形 7"/>
          <p:cNvSpPr/>
          <p:nvPr/>
        </p:nvSpPr>
        <p:spPr>
          <a:xfrm>
            <a:off x="3060720" y="2928960"/>
            <a:ext cx="503280" cy="64944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9440"/>
              <a:gd name="textAreaBottom" fmla="*/ 624960 h 649440"/>
            </a:gdLst>
            <a:ahLst/>
            <a:rect l="textAreaLeft" t="textAreaTop" r="textAreaRight" b="textAreaBottom"/>
            <a:pathLst>
              <a:path w="21600" h="27868">
                <a:moveTo>
                  <a:pt x="3600" y="0"/>
                </a:moveTo>
                <a:arcTo wR="3600" hR="3600" stAng="16200000" swAng="-5400000"/>
                <a:lnTo>
                  <a:pt x="0" y="24268"/>
                </a:lnTo>
                <a:arcTo wR="3600" hR="3600" stAng="10800000" swAng="-5400000"/>
                <a:lnTo>
                  <a:pt x="18000" y="27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52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圆角矩形 8"/>
          <p:cNvSpPr/>
          <p:nvPr/>
        </p:nvSpPr>
        <p:spPr>
          <a:xfrm>
            <a:off x="3060720" y="300204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0c0c0c">
              <a:alpha val="78000"/>
            </a:srgbClr>
          </a:solidFill>
          <a:ln w="6480">
            <a:solidFill>
              <a:srgbClr val="c52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圆角矩形 10"/>
          <p:cNvSpPr/>
          <p:nvPr/>
        </p:nvSpPr>
        <p:spPr>
          <a:xfrm>
            <a:off x="3060720" y="3865680"/>
            <a:ext cx="503280" cy="649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9080"/>
              <a:gd name="textAreaBottom" fmla="*/ 624600 h 649080"/>
            </a:gdLst>
            <a:ahLst/>
            <a:rect l="textAreaLeft" t="textAreaTop" r="textAreaRight" b="textAreaBottom"/>
            <a:pathLst>
              <a:path w="21600" h="27853">
                <a:moveTo>
                  <a:pt x="3600" y="0"/>
                </a:moveTo>
                <a:arcTo wR="3600" hR="3600" stAng="16200000" swAng="-5400000"/>
                <a:lnTo>
                  <a:pt x="0" y="24253"/>
                </a:lnTo>
                <a:arcTo wR="3600" hR="3600" stAng="10800000" swAng="-5400000"/>
                <a:lnTo>
                  <a:pt x="18000" y="27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52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圆角矩形 11"/>
          <p:cNvSpPr/>
          <p:nvPr/>
        </p:nvSpPr>
        <p:spPr>
          <a:xfrm>
            <a:off x="3060720" y="39369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c0c0c">
              <a:alpha val="78000"/>
            </a:srgbClr>
          </a:solidFill>
          <a:ln w="6480">
            <a:solidFill>
              <a:srgbClr val="c52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3851280" y="2133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3851280" y="3068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4"/>
          <p:cNvSpPr/>
          <p:nvPr/>
        </p:nvSpPr>
        <p:spPr>
          <a:xfrm>
            <a:off x="3851280" y="4005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矩形 7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6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接连接符 8"/>
          <p:cNvSpPr/>
          <p:nvPr/>
        </p:nvSpPr>
        <p:spPr>
          <a:xfrm>
            <a:off x="-12600" y="878040"/>
            <a:ext cx="9142200" cy="144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"/>
          <p:cNvPicPr/>
          <p:nvPr/>
        </p:nvPicPr>
        <p:blipFill>
          <a:blip r:embed="rId1"/>
          <a:stretch/>
        </p:blipFill>
        <p:spPr>
          <a:xfrm rot="718200">
            <a:off x="7307280" y="4035240"/>
            <a:ext cx="1681200" cy="16808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7"/>
          <p:cNvGrpSpPr/>
          <p:nvPr/>
        </p:nvGrpSpPr>
        <p:grpSpPr>
          <a:xfrm>
            <a:off x="3048120" y="2862360"/>
            <a:ext cx="504720" cy="647640"/>
            <a:chOff x="3048120" y="2862360"/>
            <a:chExt cx="504720" cy="647640"/>
          </a:xfrm>
        </p:grpSpPr>
        <p:sp>
          <p:nvSpPr>
            <p:cNvPr id="563" name="圆角矩形 4"/>
            <p:cNvSpPr/>
            <p:nvPr/>
          </p:nvSpPr>
          <p:spPr>
            <a:xfrm>
              <a:off x="3048120" y="2862360"/>
              <a:ext cx="504720" cy="647640"/>
            </a:xfrm>
            <a:custGeom>
              <a:avLst/>
              <a:gdLst>
                <a:gd name="textAreaLeft" fmla="*/ 24480 w 504720"/>
                <a:gd name="textAreaRight" fmla="*/ 480240 w 504720"/>
                <a:gd name="textAreaTop" fmla="*/ 24480 h 647640"/>
                <a:gd name="textAreaBottom" fmla="*/ 623160 h 647640"/>
              </a:gdLst>
              <a:ahLst/>
              <a:rect l="textAreaLeft" t="textAreaTop" r="textAreaRight" b="textAreaBottom"/>
              <a:pathLst>
                <a:path w="21600" h="27712">
                  <a:moveTo>
                    <a:pt x="3600" y="0"/>
                  </a:moveTo>
                  <a:arcTo wR="3600" hR="3600" stAng="16200000" swAng="-5400000"/>
                  <a:lnTo>
                    <a:pt x="0" y="24112"/>
                  </a:lnTo>
                  <a:arcTo wR="3600" hR="3600" stAng="10800000" swAng="-5400000"/>
                  <a:lnTo>
                    <a:pt x="18000" y="277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c527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圆角矩形 5"/>
            <p:cNvSpPr/>
            <p:nvPr/>
          </p:nvSpPr>
          <p:spPr>
            <a:xfrm>
              <a:off x="3048120" y="2934000"/>
              <a:ext cx="504720" cy="503640"/>
            </a:xfrm>
            <a:prstGeom prst="roundRect">
              <a:avLst>
                <a:gd name="adj" fmla="val 16667"/>
              </a:avLst>
            </a:prstGeom>
            <a:solidFill>
              <a:srgbClr val="0c0c0c">
                <a:alpha val="78000"/>
              </a:srgbClr>
            </a:solidFill>
            <a:ln w="6480">
              <a:solidFill>
                <a:srgbClr val="c527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6"/>
          <p:cNvSpPr/>
          <p:nvPr/>
        </p:nvSpPr>
        <p:spPr>
          <a:xfrm>
            <a:off x="3840120" y="30020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6"/>
          <p:cNvSpPr/>
          <p:nvPr/>
        </p:nvSpPr>
        <p:spPr>
          <a:xfrm>
            <a:off x="0" y="1633680"/>
            <a:ext cx="9144000" cy="21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190440" y="193680"/>
            <a:ext cx="1981440" cy="1368360"/>
          </a:xfrm>
          <a:prstGeom prst="rect">
            <a:avLst/>
          </a:prstGeom>
          <a:ln w="0">
            <a:noFill/>
          </a:ln>
        </p:spPr>
      </p:pic>
      <p:sp>
        <p:nvSpPr>
          <p:cNvPr id="569" name="直接连接符 11"/>
          <p:cNvSpPr/>
          <p:nvPr/>
        </p:nvSpPr>
        <p:spPr>
          <a:xfrm>
            <a:off x="0" y="1633680"/>
            <a:ext cx="9144000" cy="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13"/>
          <p:cNvSpPr/>
          <p:nvPr/>
        </p:nvSpPr>
        <p:spPr>
          <a:xfrm>
            <a:off x="0" y="3759120"/>
            <a:ext cx="9144000" cy="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2"/>
          <a:stretch/>
        </p:blipFill>
        <p:spPr>
          <a:xfrm rot="718200">
            <a:off x="4951440" y="1267920"/>
            <a:ext cx="3462480" cy="34624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37940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谢谢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副标题 2"/>
          <p:cNvSpPr/>
          <p:nvPr/>
        </p:nvSpPr>
        <p:spPr>
          <a:xfrm>
            <a:off x="2556000" y="1201680"/>
            <a:ext cx="640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Meiya Aviation Holdings Co.,L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7:00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5T01:30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