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ED7-9EA2-41C9-B464-48B180E5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55A-ABE9-4F99-8BF4-542E508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DA6-B25E-4285-AD57-AC9C7758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444-927E-4083-A8CA-95B88D2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A98-03D4-438E-8DCB-4B98582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BEF-D76E-4B90-8011-A7E25879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0C5-5EAE-465D-ABD8-F02AD95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C25-3252-4908-B32C-8344297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E30-A084-4F5B-93A4-9D890AD4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0F0-7079-459C-A6CA-BAAA4F5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FD9-FDE0-433B-B8C2-654CE98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B31-3A95-4DCE-846B-C86EF62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348-2666-46A9-80B3-5B3C88148EDF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Calibri"/>
                <a:ea typeface="宋体"/>
              </a:rPr>
              <a:t>柠檬创意设计</a:t>
            </a:r>
            <a:r>
              <a:rPr b="0" lang="en-US" sz="4000" spc="-1" strike="noStrike">
                <a:solidFill>
                  <a:srgbClr val="595959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595959"/>
                </a:solidFill>
                <a:latin typeface="Calibri"/>
                <a:ea typeface="宋体"/>
              </a:rPr>
              <a:t>免费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71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34:26Z</dcterms:created>
  <dc:creator>幻灯片 http://www.eeppt.com</dc:creator>
  <dc:description/>
  <cp:keywords>幻灯片 http:/www.eeppt.com</cp:keywords>
  <dc:language>en-US</dc:language>
  <cp:lastModifiedBy/>
  <dcterms:modified xsi:type="dcterms:W3CDTF">2015-07-24T05:33:59Z</dcterms:modified>
  <cp:revision>0</cp:revision>
  <dc:subject/>
  <dc:title/>
</cp:coreProperties>
</file>