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FF4-5965-4347-8FF2-A3CD82F9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602F-1138-444D-AA64-D1EF53B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DB2-AD23-4BFD-9E45-CDF9F6A7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9AA-0E17-4046-9D1E-45B7114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43F-C792-42DB-AB91-93000A7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2B4-9909-465F-9B59-8B11CC63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60F-9BBA-41C5-BE2D-86D9DB84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0CE-95AE-4D23-8F91-AF0DE464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B74-B070-49DF-B31A-12375187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6764-4291-4EBB-B9BE-5BB233C3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5A0-AAD8-43A2-A8FB-1B77D974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EE7-F101-415A-96D2-EFC43DDC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78016-6D10-4DEF-A263-6073C39BF6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矩形 3"/>
          <p:cNvSpPr/>
          <p:nvPr/>
        </p:nvSpPr>
        <p:spPr>
          <a:xfrm>
            <a:off x="2431800" y="548640"/>
            <a:ext cx="4547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欧美风卡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28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7640" y="65232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28</Words>
  <Paragraphs>3</Paragraphs>
  <Company>p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08:32:45Z</dcterms:created>
  <dc:creator>www.pptbz.com</dc:creator>
  <dc:description/>
  <cp:keywords>ppt宝藏</cp:keywords>
  <dc:language>en-US</dc:language>
  <cp:lastModifiedBy>a</cp:lastModifiedBy>
  <dcterms:modified xsi:type="dcterms:W3CDTF">2015-07-24T07:10:39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3</vt:r8>
  </property>
</Properties>
</file>