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B0F-CA5A-4ED4-A473-767E31B94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53B-47C3-4183-A825-B530C99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3D7-51E1-4D2B-9E81-54CF2B73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9523-348F-450D-A29C-7D1D21D2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0350-2B8D-4455-9143-78BD619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4C68-271F-4C74-B441-3A99C57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B6B8-4BF3-4E6E-8BF3-D8E4C95C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8768-BDDF-404E-9F76-3F9140C3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2A8E-52C8-4385-A1E5-C4D5BC7F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0614-E851-446F-864E-45136F7B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658-DB43-4713-B189-3C69FBD7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39C5-310B-4422-9955-C6C65D08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2B17-D349-46FD-B539-F6B8EC61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213-FC43-4436-8CDC-F94A430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02C2-975F-44CB-8B1B-C384CF35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8554-327D-455F-9B68-B2DDC2CB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0429-8938-46F7-82AC-EFEA3231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BE1-87D3-479C-807E-B362D886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2A5-AB5E-4CCE-B77D-F5AB31D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CAA-3F01-41C8-95C5-45EA2FEB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A71-CF9D-48B0-83F0-F22E6804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F102-F554-4388-8D94-27C544DA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E4A-623B-43B5-AA20-A841CFA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1C8-457F-4407-A9C2-D8BF28B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7E63-8037-4076-B23E-FE87C42CB2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633B-9613-4A4A-9C5B-098A767003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appy_Business_Man_Outside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747080" y="152280"/>
            <a:ext cx="53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漂亮国外商务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Georgia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Feed the MArke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279400" y="2354400"/>
            <a:ext cx="373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eorgia"/>
                <a:ea typeface="宋体"/>
              </a:rPr>
              <a:t>Be </a:t>
            </a:r>
            <a:r>
              <a:rPr b="1" lang="en-US" sz="5000" spc="-1" strike="noStrike">
                <a:solidFill>
                  <a:srgbClr val="ff9900"/>
                </a:solidFill>
                <a:latin typeface="Georgia"/>
                <a:ea typeface="宋体"/>
              </a:rPr>
              <a:t>Creative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715387_161569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04840" y="1523880"/>
            <a:ext cx="372096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Crea</a:t>
            </a:r>
            <a:r>
              <a:rPr b="1" lang="en-US" sz="3000" spc="-1" strike="noStrike">
                <a:solidFill>
                  <a:srgbClr val="ffffff"/>
                </a:solidFill>
                <a:latin typeface="Georgia"/>
                <a:ea typeface="宋体"/>
              </a:rPr>
              <a:t>tivity is 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not </a:t>
            </a:r>
            <a:br>
              <a:rPr sz="3000"/>
            </a:br>
            <a:r>
              <a:rPr b="1" lang="en-US" sz="2500" spc="-1" strike="noStrike">
                <a:solidFill>
                  <a:srgbClr val="000000"/>
                </a:solidFill>
                <a:latin typeface="Georgia"/>
                <a:ea typeface="宋体"/>
              </a:rPr>
              <a:t>just </a:t>
            </a:r>
            <a:r>
              <a:rPr b="1" lang="en-US" sz="6900" spc="-1" strike="noStrike">
                <a:solidFill>
                  <a:srgbClr val="000066"/>
                </a:solidFill>
                <a:latin typeface="Georgia"/>
                <a:ea typeface="宋体"/>
              </a:rPr>
              <a:t>C</a:t>
            </a:r>
            <a:r>
              <a:rPr b="1" lang="en-US" sz="6900" spc="-1" strike="noStrike">
                <a:solidFill>
                  <a:srgbClr val="ff0000"/>
                </a:solidFill>
                <a:latin typeface="Georgia"/>
                <a:ea typeface="宋体"/>
              </a:rPr>
              <a:t>o</a:t>
            </a:r>
            <a:r>
              <a:rPr b="1" lang="en-US" sz="6900" spc="-1" strike="noStrike">
                <a:solidFill>
                  <a:srgbClr val="00ffff"/>
                </a:solidFill>
                <a:latin typeface="Georgia"/>
                <a:ea typeface="宋体"/>
              </a:rPr>
              <a:t>l</a:t>
            </a:r>
            <a:r>
              <a:rPr b="1" lang="en-US" sz="6900" spc="-1" strike="noStrike">
                <a:solidFill>
                  <a:srgbClr val="ffff00"/>
                </a:solidFill>
                <a:latin typeface="Georgia"/>
                <a:ea typeface="宋体"/>
              </a:rPr>
              <a:t>o</a:t>
            </a:r>
            <a:r>
              <a:rPr b="1" lang="en-US" sz="6900" spc="-1" strike="noStrike">
                <a:solidFill>
                  <a:srgbClr val="ff0000"/>
                </a:solidFill>
                <a:latin typeface="Georgia"/>
                <a:ea typeface="宋体"/>
              </a:rPr>
              <a:t>r</a:t>
            </a:r>
            <a:r>
              <a:rPr b="1" lang="en-US" sz="6900" spc="-1" strike="noStrike">
                <a:solidFill>
                  <a:srgbClr val="000000"/>
                </a:solidFill>
                <a:latin typeface="Georgia"/>
                <a:ea typeface="宋体"/>
              </a:rPr>
              <a:t>s</a:t>
            </a:r>
            <a:endParaRPr b="0" lang="en-US" sz="6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99880" y="4876920"/>
            <a:ext cx="884412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00"/>
                </a:solidFill>
                <a:latin typeface="Georgia"/>
                <a:ea typeface="宋体"/>
              </a:rPr>
              <a:t>Design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is the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fundamental soul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of man-made creation – </a:t>
            </a:r>
            <a:r>
              <a:rPr b="1" i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Steve Jobs 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Untitled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426680" y="609480"/>
            <a:ext cx="6980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eorgia"/>
                <a:ea typeface="宋体"/>
              </a:rPr>
              <a:t>Brainstorm</a:t>
            </a:r>
            <a:r>
              <a:rPr b="1" lang="en-US" sz="3800" spc="-1" strike="noStrike">
                <a:solidFill>
                  <a:srgbClr val="ffff00"/>
                </a:solidFill>
                <a:latin typeface="Georgia"/>
                <a:ea typeface="宋体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with your</a:t>
            </a:r>
            <a:r>
              <a:rPr b="1" lang="en-US" sz="3800" spc="-1" strike="noStrike">
                <a:solidFill>
                  <a:srgbClr val="ffff00"/>
                </a:solidFill>
                <a:latin typeface="Georgia"/>
                <a:ea typeface="宋体"/>
              </a:rPr>
              <a:t> </a:t>
            </a:r>
            <a:r>
              <a:rPr b="1" lang="en-US" sz="3800" spc="-1" strike="noStrike">
                <a:solidFill>
                  <a:srgbClr val="99cc00"/>
                </a:solidFill>
                <a:latin typeface="Georgia"/>
                <a:ea typeface="宋体"/>
              </a:rPr>
              <a:t>Team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066680" y="2438280"/>
            <a:ext cx="2286000" cy="3276720"/>
          </a:xfrm>
          <a:prstGeom prst="cloudCallout">
            <a:avLst>
              <a:gd name="adj1" fmla="val -60416"/>
              <a:gd name="adj2" fmla="val 3372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3000" y="3124080"/>
            <a:ext cx="197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宋体"/>
              </a:rPr>
              <a:t>Great Product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宋体"/>
              </a:rPr>
              <a:t>are bor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eorgia"/>
                <a:ea typeface="宋体"/>
              </a:rPr>
              <a:t>that wa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mlowstetter\Desktop\Four Factors of Effective Leadership\Four Factors of Effective Leadership\Slide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691920" y="4343400"/>
            <a:ext cx="809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Keep an eye on </a:t>
            </a:r>
            <a:r>
              <a:rPr b="1" lang="en-US" sz="3800" spc="-1" strike="noStrike">
                <a:solidFill>
                  <a:srgbClr val="ff0000"/>
                </a:solidFill>
                <a:latin typeface="Georgia"/>
                <a:ea typeface="宋体"/>
              </a:rPr>
              <a:t>Changing Trend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Now do it yoursel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181240" y="5854680"/>
            <a:ext cx="4969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Georgia"/>
                <a:ea typeface="宋体"/>
              </a:rPr>
              <a:t>Now, do it</a:t>
            </a:r>
            <a:r>
              <a:rPr b="1" lang="en-US" sz="3900" spc="-1" strike="noStrike">
                <a:solidFill>
                  <a:srgbClr val="ffffff"/>
                </a:solidFill>
                <a:latin typeface="Georgia"/>
                <a:ea typeface="宋体"/>
              </a:rPr>
              <a:t> </a:t>
            </a:r>
            <a:r>
              <a:rPr b="1" lang="en-US" sz="3900" spc="-1" strike="noStrike">
                <a:solidFill>
                  <a:srgbClr val="ff0000"/>
                </a:solidFill>
                <a:latin typeface="Georgia"/>
                <a:ea typeface="宋体"/>
              </a:rPr>
              <a:t>Yourself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Rectangle 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21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23" name="Text Box 3"/>
          <p:cNvSpPr/>
          <p:nvPr/>
        </p:nvSpPr>
        <p:spPr>
          <a:xfrm>
            <a:off x="18129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98920" y="4267080"/>
            <a:ext cx="74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Get to know your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Georgia"/>
                <a:ea typeface="宋体"/>
              </a:rPr>
              <a:t>Custom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39176_1500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339176_15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11240" y="5410080"/>
            <a:ext cx="4310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Know more about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your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  <a:ea typeface="宋体"/>
              </a:rPr>
              <a:t>competitors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003092_914866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394240" y="647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0" name="Picture 4" descr="1003092_9148666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267080" y="533520"/>
            <a:ext cx="472464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  <a:ea typeface="宋体"/>
              </a:rPr>
              <a:t>Feed the </a:t>
            </a:r>
            <a:r>
              <a:rPr b="1" lang="en-US" sz="4500" spc="-1" strike="noStrike">
                <a:solidFill>
                  <a:srgbClr val="ff0000"/>
                </a:solidFill>
                <a:latin typeface="Georgia"/>
                <a:ea typeface="宋体"/>
              </a:rPr>
              <a:t>Market</a:t>
            </a:r>
            <a:r>
              <a:rPr b="1" lang="en-US" sz="4000" spc="-1" strike="noStrike">
                <a:solidFill>
                  <a:srgbClr val="663300"/>
                </a:solidFill>
                <a:latin typeface="Georgia"/>
                <a:ea typeface="宋体"/>
              </a:rPr>
              <a:t> with your idea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066680" y="472428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3300"/>
                </a:solidFill>
                <a:latin typeface="Georgia"/>
                <a:ea typeface="宋体"/>
              </a:rPr>
              <a:t>That’s how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Post-it</a:t>
            </a:r>
            <a:r>
              <a:rPr b="1" lang="en-US" sz="3000" spc="-1" strike="noStrike">
                <a:solidFill>
                  <a:srgbClr val="663300"/>
                </a:solidFill>
                <a:latin typeface="Georgia"/>
                <a:ea typeface="宋体"/>
              </a:rPr>
              <a:t> </a:t>
            </a:r>
            <a:r>
              <a:rPr b="1" lang="en-US" sz="3000" spc="-1" strike="noStrike">
                <a:solidFill>
                  <a:srgbClr val="663300"/>
                </a:solidFill>
                <a:latin typeface="Georgia"/>
                <a:ea typeface="宋体"/>
              </a:rPr>
              <a:t>came in to Picture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253880" y="1752480"/>
            <a:ext cx="23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Georgia"/>
                <a:ea typeface="宋体"/>
              </a:rPr>
              <a:t>Courtesy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Georgia"/>
                <a:ea typeface="宋体"/>
              </a:rPr>
              <a:t>     – </a:t>
            </a:r>
            <a:r>
              <a:rPr b="1" lang="en-US" sz="1800" spc="-1" strike="noStrike">
                <a:solidFill>
                  <a:srgbClr val="663300"/>
                </a:solidFill>
                <a:latin typeface="Georgia"/>
                <a:ea typeface="宋体"/>
              </a:rPr>
              <a:t>Spencer Silv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Do not complicate make it simple III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5199120" y="3886200"/>
            <a:ext cx="39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  <a:ea typeface="宋体"/>
              </a:rPr>
              <a:t>Do not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  <a:ea typeface="宋体"/>
              </a:rPr>
              <a:t>complicat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215320" y="1555920"/>
            <a:ext cx="3818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eorgia"/>
                <a:ea typeface="宋体"/>
              </a:rPr>
              <a:t>Make it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1" lang="en-US" sz="3800" spc="-1" strike="noStrike">
                <a:solidFill>
                  <a:srgbClr val="99cc00"/>
                </a:solidFill>
                <a:latin typeface="Georgia"/>
                <a:ea typeface="宋体"/>
              </a:rPr>
              <a:t>Simple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Think Differ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489960" y="609480"/>
            <a:ext cx="5059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  <a:ea typeface="宋体"/>
              </a:rPr>
              <a:t>Think different</a:t>
            </a:r>
            <a:endParaRPr b="0" lang="en-US" sz="4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627728_52wqed780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882000" y="2590920"/>
            <a:ext cx="3762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9900"/>
                </a:solidFill>
                <a:latin typeface="Georgia"/>
                <a:ea typeface="宋体"/>
              </a:rPr>
              <a:t>Do you </a:t>
            </a:r>
            <a:endParaRPr b="0" lang="en-US" sz="7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9900"/>
                </a:solidFill>
                <a:latin typeface="Georgia"/>
                <a:ea typeface="宋体"/>
              </a:rPr>
              <a:t>know?</a:t>
            </a:r>
            <a:endParaRPr b="0" lang="en-US" sz="7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Do not Over communicate"/>
          <p:cNvPicPr/>
          <p:nvPr/>
        </p:nvPicPr>
        <p:blipFill>
          <a:blip r:embed="rId1"/>
          <a:stretch/>
        </p:blipFill>
        <p:spPr>
          <a:xfrm>
            <a:off x="2438280" y="1143000"/>
            <a:ext cx="3549600" cy="5297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653840" y="539640"/>
            <a:ext cx="6567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Do not </a:t>
            </a:r>
            <a:r>
              <a:rPr b="1" lang="en-US" sz="3800" spc="-1" strike="noStrike">
                <a:solidFill>
                  <a:srgbClr val="ff0000"/>
                </a:solidFill>
                <a:latin typeface="Georgia"/>
                <a:ea typeface="宋体"/>
              </a:rPr>
              <a:t>Over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 communicate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Be a great Team Paly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930480" y="777960"/>
            <a:ext cx="458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Be a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Team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 Player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Its ok to fail in some deals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17360" y="2362320"/>
            <a:ext cx="448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eorgia"/>
                <a:ea typeface="宋体"/>
              </a:rPr>
              <a:t>It’s ok to lose some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Deal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747680" y="3665520"/>
            <a:ext cx="369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eorgia"/>
                <a:ea typeface="宋体"/>
              </a:rPr>
              <a:t>You learn from them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Sucess is directly Propotional to percevera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457200" y="3733920"/>
            <a:ext cx="6858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  <a:ea typeface="宋体"/>
              </a:rPr>
              <a:t>Success is </a:t>
            </a:r>
            <a:br>
              <a:rPr sz="3300"/>
            </a:br>
            <a:r>
              <a:rPr b="1" lang="en-US" sz="3300" spc="-1" strike="noStrike">
                <a:solidFill>
                  <a:srgbClr val="ff0000"/>
                </a:solidFill>
                <a:latin typeface="Georgia"/>
                <a:ea typeface="宋体"/>
              </a:rPr>
              <a:t>directly proportional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Georgia"/>
                <a:ea typeface="宋体"/>
              </a:rPr>
              <a:t>to 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Georgia"/>
                <a:ea typeface="宋体"/>
              </a:rPr>
              <a:t>perseveranc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07440" y="1295280"/>
            <a:ext cx="4799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  <a:ea typeface="宋体"/>
              </a:rPr>
              <a:t>Never believe in </a:t>
            </a:r>
            <a:r>
              <a:rPr b="1" lang="en-US" sz="3300" spc="-1" strike="noStrike">
                <a:solidFill>
                  <a:srgbClr val="ff0000"/>
                </a:solidFill>
                <a:latin typeface="Georgia"/>
                <a:ea typeface="宋体"/>
              </a:rPr>
              <a:t>Luck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think-differ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186120" y="228600"/>
            <a:ext cx="546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cc00"/>
                </a:solidFill>
                <a:latin typeface="Georgia"/>
                <a:ea typeface="宋体"/>
              </a:rPr>
              <a:t>But, believe in Miracles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elebrate your success let more ppl know abt ur fac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543040" y="549360"/>
            <a:ext cx="5769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eorgia"/>
                <a:ea typeface="宋体"/>
              </a:rPr>
              <a:t>Celebrate your</a:t>
            </a:r>
            <a:r>
              <a:rPr b="1" lang="en-US" sz="38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1" lang="en-US" sz="3800" spc="-1" strike="noStrike">
                <a:solidFill>
                  <a:srgbClr val="333399"/>
                </a:solidFill>
                <a:latin typeface="Georgia"/>
                <a:ea typeface="宋体"/>
              </a:rPr>
              <a:t>success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If u cant serve suggest your best competit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41360" y="2057400"/>
            <a:ext cx="340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  <a:ea typeface="宋体"/>
              </a:rPr>
              <a:t>Be a Savior</a:t>
            </a:r>
            <a:endParaRPr b="0" lang="en-US" sz="4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376080" y="6095880"/>
            <a:ext cx="5414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Georgia"/>
                <a:ea typeface="宋体"/>
              </a:rPr>
              <a:t>You will be remembered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hom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1559880" y="914400"/>
            <a:ext cx="3422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eorgia"/>
                <a:ea typeface="宋体"/>
              </a:rPr>
              <a:t>Be a </a:t>
            </a:r>
            <a:r>
              <a:rPr b="1" lang="en-US" sz="4600" spc="-1" strike="noStrike">
                <a:solidFill>
                  <a:srgbClr val="ffcc00"/>
                </a:solidFill>
                <a:latin typeface="Georgia"/>
                <a:ea typeface="宋体"/>
              </a:rPr>
              <a:t>Maven</a:t>
            </a:r>
            <a:endParaRPr b="0" lang="en-US" sz="4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alculator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759480" y="461880"/>
            <a:ext cx="512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Dark Bastion"/>
                <a:ea typeface="宋体"/>
              </a:rPr>
              <a:t>Be good at Nu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4" descr="calculator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2961360" y="549360"/>
            <a:ext cx="53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Georgia"/>
                <a:ea typeface="宋体"/>
              </a:rPr>
              <a:t>Be good at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Number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o more research"/>
          <p:cNvPicPr/>
          <p:nvPr/>
        </p:nvPicPr>
        <p:blipFill>
          <a:blip r:embed="rId1"/>
          <a:stretch/>
        </p:blipFill>
        <p:spPr>
          <a:xfrm>
            <a:off x="2133720" y="99072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4007520" y="5400720"/>
            <a:ext cx="47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Do more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627728_52780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352680" y="2743200"/>
            <a:ext cx="49532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宋体"/>
              </a:rPr>
              <a:t>70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  <a:ea typeface="宋体"/>
              </a:rPr>
              <a:t>%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of the CEO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are from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  <a:ea typeface="宋体"/>
              </a:rPr>
              <a:t>Marketing/Sal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4724280" y="106668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  <a:ea typeface="宋体"/>
              </a:rPr>
              <a:t>Have a good </a:t>
            </a:r>
            <a:r>
              <a:rPr b="1" lang="en-US" sz="3000" spc="-1" strike="noStrike">
                <a:solidFill>
                  <a:srgbClr val="99cc00"/>
                </a:solidFill>
                <a:latin typeface="Georgia"/>
                <a:ea typeface="宋体"/>
              </a:rPr>
              <a:t>rolodex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6" name="Picture 3" descr="business_meeting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4738680" y="4867200"/>
            <a:ext cx="41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cc00"/>
                </a:solidFill>
                <a:latin typeface="Georgia"/>
                <a:ea typeface="宋体"/>
              </a:rPr>
              <a:t>Business</a:t>
            </a:r>
            <a:r>
              <a:rPr b="1" lang="en-US" sz="2700" spc="-1" strike="noStrike">
                <a:solidFill>
                  <a:srgbClr val="ffffff"/>
                </a:solidFill>
                <a:latin typeface="Georgia"/>
                <a:ea typeface="宋体"/>
              </a:rPr>
              <a:t> is all 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Georgia"/>
                <a:ea typeface="宋体"/>
              </a:rPr>
              <a:t>          about </a:t>
            </a:r>
            <a:r>
              <a:rPr b="1" lang="en-US" sz="2700" spc="-1" strike="noStrike">
                <a:solidFill>
                  <a:srgbClr val="ff0000"/>
                </a:solidFill>
                <a:latin typeface="Georgia"/>
                <a:ea typeface="宋体"/>
              </a:rPr>
              <a:t>networ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99AB855-E7F2-99DF-3F5B805607632E11_1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199AB855-E7F2-99DF-3F5B805607632E11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418920" y="3811680"/>
            <a:ext cx="3688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Georgia"/>
                <a:ea typeface="宋体"/>
              </a:rPr>
              <a:t>Follow-up</a:t>
            </a:r>
            <a:endParaRPr b="0" lang="en-US" sz="5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o not get in to aplogy loop"/>
          <p:cNvPicPr/>
          <p:nvPr/>
        </p:nvPicPr>
        <p:blipFill>
          <a:blip r:embed="rId1"/>
          <a:stretch/>
        </p:blipFill>
        <p:spPr>
          <a:xfrm>
            <a:off x="2590920" y="1219320"/>
            <a:ext cx="4038480" cy="43434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2549880" y="5585760"/>
            <a:ext cx="49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Be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helpful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 instead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11080" y="457200"/>
            <a:ext cx="8056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Don’t get stuck in the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  <a:ea typeface="宋体"/>
              </a:rPr>
              <a:t>apology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 loop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Help Client with non Business solution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457200" y="2286000"/>
            <a:ext cx="4038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Georgia"/>
                <a:ea typeface="宋体"/>
              </a:rPr>
              <a:t>Help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 Your Customer with </a:t>
            </a:r>
            <a:r>
              <a:rPr b="1" lang="en-US" sz="3500" spc="-1" strike="noStrike">
                <a:solidFill>
                  <a:srgbClr val="66ff33"/>
                </a:solidFill>
                <a:latin typeface="Georgia"/>
                <a:ea typeface="宋体"/>
              </a:rPr>
              <a:t>non Business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 solutions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peak with Veterans their recommedations are priceless"/>
          <p:cNvPicPr/>
          <p:nvPr/>
        </p:nvPicPr>
        <p:blipFill>
          <a:blip r:embed="rId1"/>
          <a:stretch/>
        </p:blipFill>
        <p:spPr>
          <a:xfrm>
            <a:off x="0" y="0"/>
            <a:ext cx="5029200" cy="5562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12760" y="112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985280" y="2432160"/>
            <a:ext cx="413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  <a:ea typeface="宋体"/>
              </a:rPr>
              <a:t>Speak with </a:t>
            </a:r>
            <a:r>
              <a:rPr b="1" lang="en-US" sz="3000" spc="-1" strike="noStrike">
                <a:solidFill>
                  <a:srgbClr val="66ff33"/>
                </a:solidFill>
                <a:latin typeface="Georgia"/>
                <a:ea typeface="宋体"/>
              </a:rPr>
              <a:t>Veterans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43400" y="6172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7960" y="5943600"/>
            <a:ext cx="8831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eorgia"/>
                <a:ea typeface="宋体"/>
              </a:rPr>
              <a:t>Their recommendations are </a:t>
            </a:r>
            <a:r>
              <a:rPr b="1" lang="en-US" sz="3400" spc="-1" strike="noStrike">
                <a:solidFill>
                  <a:srgbClr val="ff0000"/>
                </a:solidFill>
                <a:latin typeface="Georgia"/>
                <a:ea typeface="宋体"/>
              </a:rPr>
              <a:t>priceless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3323160" y="990720"/>
            <a:ext cx="2489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Dark Bastion"/>
                <a:ea typeface="宋体"/>
              </a:rPr>
              <a:t>Be Human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82" name="Picture 3" descr="TWIP_2003_0213_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4"/>
          <p:cNvSpPr/>
          <p:nvPr/>
        </p:nvSpPr>
        <p:spPr>
          <a:xfrm>
            <a:off x="2404080" y="1066680"/>
            <a:ext cx="5010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Get along with Kids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782000" y="2046240"/>
            <a:ext cx="62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宋体"/>
              </a:rPr>
              <a:t>They are </a:t>
            </a:r>
            <a:r>
              <a:rPr b="1" lang="en-US" sz="3600" spc="-1" strike="noStrike">
                <a:solidFill>
                  <a:srgbClr val="99cc00"/>
                </a:solidFill>
                <a:latin typeface="Georgia"/>
                <a:ea typeface="宋体"/>
              </a:rPr>
              <a:t>great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  <a:ea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  <a:ea typeface="宋体"/>
              </a:rPr>
              <a:t>influencer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eople People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3"/>
          <p:cNvSpPr/>
          <p:nvPr/>
        </p:nvSpPr>
        <p:spPr>
          <a:xfrm>
            <a:off x="3984480" y="3656520"/>
            <a:ext cx="500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eorgia"/>
                <a:ea typeface="宋体"/>
              </a:rPr>
              <a:t>People relate to people </a:t>
            </a:r>
            <a:br>
              <a:rPr sz="3200"/>
            </a:br>
            <a:r>
              <a:rPr b="1" lang="en-US" sz="3200" spc="-1" strike="noStrike">
                <a:solidFill>
                  <a:srgbClr val="66ff33"/>
                </a:solidFill>
                <a:latin typeface="Georgia"/>
                <a:ea typeface="宋体"/>
              </a:rPr>
              <a:t>not </a:t>
            </a:r>
            <a:br>
              <a:rPr sz="3200"/>
            </a:br>
            <a:r>
              <a:rPr b="1" lang="en-US" sz="3200" spc="-1" strike="noStrike">
                <a:solidFill>
                  <a:srgbClr val="66ff33"/>
                </a:solidFill>
                <a:latin typeface="Georgia"/>
                <a:ea typeface="宋体"/>
              </a:rPr>
              <a:t>companies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Join Communit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808280" y="3657600"/>
            <a:ext cx="59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eorgia"/>
                <a:ea typeface="宋体"/>
              </a:rPr>
              <a:t>Join Communities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Read a Lot Nothing Keeps you more informed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762120" y="2286000"/>
            <a:ext cx="358128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Georgia"/>
                <a:ea typeface="宋体"/>
              </a:rPr>
              <a:t>Read more </a:t>
            </a:r>
            <a:r>
              <a:rPr b="1" lang="en-US" sz="3900" spc="-1" strike="noStrike">
                <a:solidFill>
                  <a:srgbClr val="ff0000"/>
                </a:solidFill>
                <a:latin typeface="Georgia"/>
                <a:ea typeface="宋体"/>
              </a:rPr>
              <a:t>Books</a:t>
            </a:r>
            <a:r>
              <a:rPr b="1" lang="en-US" sz="3900" spc="-1" strike="noStrike">
                <a:solidFill>
                  <a:srgbClr val="000000"/>
                </a:solidFill>
                <a:latin typeface="Georgia"/>
                <a:ea typeface="宋体"/>
              </a:rPr>
              <a:t> nothing better than that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log well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1172880" y="1447920"/>
            <a:ext cx="72856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Georgia"/>
                <a:ea typeface="宋体"/>
              </a:rPr>
              <a:t>Blog and write great articles</a:t>
            </a:r>
            <a:endParaRPr b="0" lang="en-US" sz="3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627728_52780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352680" y="2743200"/>
            <a:ext cx="495324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  <a:ea typeface="宋体"/>
              </a:rPr>
              <a:t>40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%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of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Product succes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 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depends on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Marketing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Go Viral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967680" y="371520"/>
            <a:ext cx="40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Now, go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Viral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341680" y="5661000"/>
            <a:ext cx="3785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Georgia"/>
                <a:ea typeface="宋体"/>
              </a:rPr>
              <a:t>Web</a:t>
            </a:r>
            <a:r>
              <a:rPr b="1" lang="en-US" sz="3300" spc="-1" strike="noStrike">
                <a:solidFill>
                  <a:srgbClr val="ffffff"/>
                </a:solidFill>
                <a:latin typeface="Georgia"/>
                <a:ea typeface="宋体"/>
              </a:rPr>
              <a:t> 2.0 Rocks !!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Twitter_wallpaper_1440x900_by_rikul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253080" y="2392200"/>
            <a:ext cx="878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  <a:ea typeface="宋体"/>
              </a:rPr>
              <a:t>Use Twitter, it can help you in getting 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  <a:ea typeface="宋体"/>
              </a:rPr>
              <a:t>feedbac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280880" y="2583000"/>
            <a:ext cx="7136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Georgia"/>
                <a:ea typeface="宋体"/>
              </a:rPr>
              <a:t>And most Importantly…</a:t>
            </a:r>
            <a:endParaRPr b="0" lang="en-US" sz="4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4048560" y="5105520"/>
            <a:ext cx="392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Dark Bastion"/>
                <a:ea typeface="宋体"/>
              </a:rPr>
              <a:t>Be a Maven</a:t>
            </a:r>
            <a:endParaRPr b="0" lang="en-US" sz="4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0" name="Picture 3" descr="obama34_16959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4542840" y="852480"/>
            <a:ext cx="3736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0000"/>
                </a:solidFill>
                <a:latin typeface="Georgia"/>
                <a:ea typeface="宋体"/>
              </a:rPr>
              <a:t>C</a:t>
            </a:r>
            <a:r>
              <a:rPr b="1" lang="en-US" sz="7500" spc="-1" strike="noStrike">
                <a:solidFill>
                  <a:srgbClr val="ffffff"/>
                </a:solidFill>
                <a:latin typeface="Georgia"/>
                <a:ea typeface="宋体"/>
              </a:rPr>
              <a:t>h</a:t>
            </a:r>
            <a:r>
              <a:rPr b="1" lang="en-US" sz="7500" spc="-1" strike="noStrike">
                <a:solidFill>
                  <a:srgbClr val="99cc00"/>
                </a:solidFill>
                <a:latin typeface="Georgia"/>
                <a:ea typeface="宋体"/>
              </a:rPr>
              <a:t>a</a:t>
            </a:r>
            <a:r>
              <a:rPr b="1" lang="en-US" sz="7500" spc="-1" strike="noStrike">
                <a:solidFill>
                  <a:srgbClr val="bbe0e3"/>
                </a:solidFill>
                <a:latin typeface="Georgia"/>
                <a:ea typeface="宋体"/>
              </a:rPr>
              <a:t>n</a:t>
            </a:r>
            <a:r>
              <a:rPr b="1" lang="en-US" sz="7500" spc="-1" strike="noStrike">
                <a:solidFill>
                  <a:srgbClr val="cc9900"/>
                </a:solidFill>
                <a:latin typeface="Georgia"/>
                <a:ea typeface="宋体"/>
              </a:rPr>
              <a:t>g</a:t>
            </a:r>
            <a:r>
              <a:rPr b="1" lang="en-US" sz="7500" spc="-1" strike="noStrike">
                <a:solidFill>
                  <a:srgbClr val="3366ff"/>
                </a:solidFill>
                <a:latin typeface="Georgia"/>
                <a:ea typeface="宋体"/>
              </a:rPr>
              <a:t>e</a:t>
            </a:r>
            <a:endParaRPr b="0" lang="en-US" sz="7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175306_55941078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384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297800" y="4114800"/>
            <a:ext cx="2465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63300"/>
                </a:solidFill>
                <a:latin typeface="Georgia"/>
                <a:ea typeface="宋体"/>
              </a:rPr>
              <a:t>Thank You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77080" y="5972040"/>
            <a:ext cx="753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3300"/>
                </a:solidFill>
                <a:latin typeface="Georgia"/>
                <a:ea typeface="宋体"/>
              </a:rPr>
              <a:t>If you like my presentation, Vote for me - Shiv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627728_52780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627728_5278097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3585960" y="2362320"/>
            <a:ext cx="436608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  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  <a:ea typeface="宋体"/>
              </a:rPr>
              <a:t>Business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宋体"/>
              </a:rPr>
              <a:t> has only two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宋体"/>
              </a:rPr>
              <a:t>                functions 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Georgia"/>
                <a:ea typeface="宋体"/>
              </a:rPr>
              <a:t>Marketing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宋体"/>
              </a:rPr>
              <a:t>and</a:t>
            </a:r>
            <a:r>
              <a:rPr b="0" lang="en-US" sz="2500" spc="-1" strike="noStrike">
                <a:solidFill>
                  <a:srgbClr val="ffffff"/>
                </a:solidFill>
                <a:latin typeface="Georgia"/>
                <a:ea typeface="宋体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Georgia"/>
                <a:ea typeface="宋体"/>
              </a:rPr>
              <a:t>Innovation</a:t>
            </a:r>
            <a:br>
              <a:rPr sz="2500"/>
            </a:br>
            <a:r>
              <a:rPr b="0" lang="en-US" sz="2700" spc="-1" strike="noStrike">
                <a:solidFill>
                  <a:srgbClr val="ff0000"/>
                </a:solidFill>
                <a:latin typeface="Georgia"/>
                <a:ea typeface="宋体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宋体"/>
              </a:rPr>
              <a:t>- Peter. F. Druck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877661_78371318"/>
          <p:cNvPicPr/>
          <p:nvPr/>
        </p:nvPicPr>
        <p:blipFill>
          <a:blip r:embed="rId1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582840" y="533520"/>
            <a:ext cx="541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If </a:t>
            </a:r>
            <a:r>
              <a:rPr b="1" lang="en-US" sz="4000" spc="-1" strike="noStrike">
                <a:solidFill>
                  <a:srgbClr val="ff9900"/>
                </a:solidFill>
                <a:latin typeface="Georgia"/>
                <a:ea typeface="宋体"/>
              </a:rPr>
              <a:t>Marketing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 is such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  <a:ea typeface="宋体"/>
              </a:rPr>
              <a:t>a crucial func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82520" y="5638680"/>
            <a:ext cx="737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What it takes to be a good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Marketer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  <a:ea typeface="宋体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Georgia"/>
                <a:ea typeface="宋体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nunsTWIP_2003_0123_04[1]"/>
          <p:cNvPicPr/>
          <p:nvPr/>
        </p:nvPicPr>
        <p:blipFill>
          <a:blip r:embed="rId1"/>
          <a:stretch/>
        </p:blipFill>
        <p:spPr>
          <a:xfrm>
            <a:off x="-179280" y="-41400"/>
            <a:ext cx="9323280" cy="6899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486400" y="380880"/>
            <a:ext cx="36385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Marketers are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to </a:t>
            </a:r>
            <a:br>
              <a:rPr sz="3500"/>
            </a:br>
            <a:r>
              <a:rPr b="1" lang="en-US" sz="3500" spc="-1" strike="noStrike">
                <a:solidFill>
                  <a:srgbClr val="ff0000"/>
                </a:solidFill>
                <a:latin typeface="Georgia"/>
                <a:ea typeface="宋体"/>
              </a:rPr>
              <a:t>Break</a:t>
            </a: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 the </a:t>
            </a:r>
            <a:r>
              <a:rPr b="1" lang="en-US" sz="3500" spc="-1" strike="noStrike">
                <a:solidFill>
                  <a:srgbClr val="ff0000"/>
                </a:solidFill>
                <a:latin typeface="Georgia"/>
                <a:ea typeface="宋体"/>
              </a:rPr>
              <a:t>rules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489480" y="3541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124080" y="2514600"/>
            <a:ext cx="5562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Georgia"/>
                <a:ea typeface="宋体"/>
              </a:rPr>
              <a:t>Apple does it very often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e clear on your though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488520" y="76212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Georgia"/>
                <a:ea typeface="宋体"/>
              </a:rPr>
              <a:t>Be Clear in </a:t>
            </a:r>
            <a:br>
              <a:rPr sz="3600"/>
            </a:br>
            <a:r>
              <a:rPr b="1" lang="en-US" sz="3600" spc="-1" strike="noStrike">
                <a:solidFill>
                  <a:srgbClr val="663300"/>
                </a:solidFill>
                <a:latin typeface="Georgia"/>
                <a:ea typeface="宋体"/>
              </a:rPr>
              <a:t>your </a:t>
            </a:r>
            <a:r>
              <a:rPr b="1" lang="en-US" sz="3600" spc="-1" strike="noStrike">
                <a:solidFill>
                  <a:srgbClr val="ff0000"/>
                </a:solidFill>
                <a:latin typeface="Georgia"/>
                <a:ea typeface="宋体"/>
              </a:rPr>
              <a:t>Thought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irdTWIP_2003_0424_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989280" y="52380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  <a:ea typeface="宋体"/>
              </a:rPr>
              <a:t>Believe in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  <a:ea typeface="宋体"/>
              </a:rPr>
              <a:t>Word of Mout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362320" y="5562720"/>
            <a:ext cx="761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eorgia"/>
                <a:ea typeface="宋体"/>
              </a:rPr>
              <a:t>Even </a:t>
            </a:r>
            <a:r>
              <a:rPr b="1" lang="en-US" sz="3400" spc="-1" strike="noStrike">
                <a:solidFill>
                  <a:srgbClr val="0099ff"/>
                </a:solidFill>
                <a:latin typeface="Georgia"/>
                <a:ea typeface="宋体"/>
              </a:rPr>
              <a:t>Twitter</a:t>
            </a:r>
            <a:r>
              <a:rPr b="1" lang="en-US" sz="3400" spc="-1" strike="noStrike">
                <a:solidFill>
                  <a:srgbClr val="ffffff"/>
                </a:solidFill>
                <a:latin typeface="Georgia"/>
                <a:ea typeface="宋体"/>
              </a:rPr>
              <a:t> does the same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6:42:49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5T03:15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