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hdphoto3.wdp" ContentType="image/vnd.ms-photo"/>
  <Override PartName="/ppt/media/hdphoto6.wdp" ContentType="image/vnd.ms-photo"/>
  <Override PartName="/ppt/media/hdphoto4.wdp" ContentType="image/vnd.ms-photo"/>
  <Override PartName="/ppt/media/hdphoto5.wdp" ContentType="image/vnd.ms-photo"/>
  <Override PartName="/ppt/media/image4.jpeg" ContentType="image/jpeg"/>
  <Override PartName="/ppt/media/hdphoto8.wdp" ContentType="image/vnd.ms-photo"/>
  <Override PartName="/ppt/media/hdphoto9.wdp" ContentType="image/vnd.ms-photo"/>
  <Override PartName="/ppt/media/image2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hdphoto7.wdp" ContentType="image/vnd.ms-photo"/>
  <Override PartName="/ppt/media/image3.jpeg" ContentType="image/jpeg"/>
  <Override PartName="/ppt/media/image1.jpeg" ContentType="image/jpeg"/>
  <Override PartName="/ppt/media/hdphoto1.wdp" ContentType="image/vnd.ms-photo"/>
  <Override PartName="/ppt/media/hdphoto10.wdp" ContentType="image/vnd.ms-photo"/>
  <Override PartName="/ppt/media/image6.jpeg" ContentType="image/jpeg"/>
  <Override PartName="/ppt/media/hdphoto2.wdp" ContentType="image/vnd.ms-photo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221-8E6B-4BC5-A740-87CDA3D4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629-27F4-4741-8EAC-FA90787E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0F6-17F5-47FC-B405-0F4FAE6E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044-3A56-404D-8332-4439B523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0D71-E443-4857-853F-F9549F05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529A-9C7B-41F1-8A95-46507962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3B77-C943-41B5-84B1-A1EEDBB5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A9DA-046A-4193-8B86-B1D017EA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2450-4D4E-4D91-BA09-E19D8B1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B6AE-2D4A-472E-B635-74954C78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433B-8272-41DA-A942-2319F5C0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F76-590F-4FE5-AB21-6F2A1671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815A-688C-406B-B519-EE821678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E931-21CC-496D-869B-3F63B8F1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696B-AEB5-4EE7-9760-A04C4ED9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7A44-BD70-4686-A6A8-66B6BD63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1356-4040-463D-B7BF-2B3CBD9B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E4B-C49E-46E6-BE3A-A761441D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FE1-571A-4CEB-84D2-F16F8323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542-CA7C-4C44-B728-33291632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83F-266E-4059-A758-E9C21BB0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A3B-6C2B-44A0-8D84-BAE6B460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D44-0A0E-4C17-AD2E-909AEDC7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9E7-AC1A-455B-85D9-E1614887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>
                  <a:alpha val="63137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1E6B73-57D3-4271-A348-45797DE1CFF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>
                  <a:alpha val="63137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143EFF-64A0-4FB3-A746-670DF803FF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.jpeg"/><Relationship Id="rId3" Type="http://schemas.microsoft.com/office/2007/relationships/hdphoto" Target="../media/hdphoto1.wdp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microsoft.com/office/2007/relationships/hdphoto" Target="../media/hdphoto10.wdp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microsoft.com/office/2007/relationships/hdphoto" Target="../media/hdphoto2.wdp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microsoft.com/office/2007/relationships/hdphoto" Target="../media/hdphoto3.wdp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microsoft.com/office/2007/relationships/hdphoto" Target="../media/hdphoto4.wdp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microsoft.com/office/2007/relationships/hdphoto" Target="../media/hdphoto5.wdp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microsoft.com/office/2007/relationships/hdphoto" Target="../media/hdphoto6.wdp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microsoft.com/office/2007/relationships/hdphoto" Target="../media/hdphoto7.wdp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microsoft.com/office/2007/relationships/hdphoto" Target="../media/hdphoto8.wdp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microsoft.com/office/2007/relationships/hdphoto" Target="../media/hdphoto9.wdp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3136320" y="2402640"/>
            <a:ext cx="2870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600" spc="-1" strike="noStrike">
                <a:solidFill>
                  <a:srgbClr val="000040"/>
                </a:solidFill>
                <a:latin typeface="Calibri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2">
            <a:grayscl/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86" name="矩形 3"/>
          <p:cNvSpPr/>
          <p:nvPr/>
        </p:nvSpPr>
        <p:spPr>
          <a:xfrm>
            <a:off x="0" y="3948480"/>
            <a:ext cx="914364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42560" y="4000320"/>
            <a:ext cx="855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策划公司培训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125280" y="4708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eece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eece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eece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ttp://pic24.nipic.com/20120925/5955207_093635342000_2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2644" r="0" b="7357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19" name="矩形 5"/>
          <p:cNvSpPr/>
          <p:nvPr/>
        </p:nvSpPr>
        <p:spPr>
          <a:xfrm>
            <a:off x="0" y="2009520"/>
            <a:ext cx="563580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3507840" y="2834640"/>
            <a:ext cx="563580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4712400" y="2886480"/>
            <a:ext cx="97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新</a:t>
            </a:r>
            <a:r>
              <a:rPr b="0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3166200" y="2061360"/>
            <a:ext cx="97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</a:t>
            </a:r>
            <a:r>
              <a:rPr b="0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5049" r="0" b="1058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0" y="545040"/>
            <a:ext cx="914364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726640" y="597240"/>
            <a:ext cx="602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使我们成为行业之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巅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不断 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攀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355752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0" y="3948480"/>
            <a:ext cx="914364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6048360" y="4000320"/>
            <a:ext cx="275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优质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5669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99" name="矩形 2"/>
          <p:cNvSpPr/>
          <p:nvPr/>
        </p:nvSpPr>
        <p:spPr>
          <a:xfrm>
            <a:off x="6364800" y="0"/>
            <a:ext cx="2778840" cy="459576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精致</a:t>
            </a:r>
            <a:br>
              <a:rPr sz="2800"/>
            </a:b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本</a:t>
            </a: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14337" r="0" b="6434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5715000" y="3296520"/>
            <a:ext cx="3428640" cy="122688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12152" b="0"/>
          <a:stretch/>
        </p:blipFill>
        <p:spPr>
          <a:xfrm>
            <a:off x="0" y="0"/>
            <a:ext cx="6749280" cy="5143320"/>
          </a:xfrm>
          <a:prstGeom prst="rect">
            <a:avLst/>
          </a:prstGeom>
          <a:ln w="0">
            <a:noFill/>
          </a:ln>
        </p:spPr>
      </p:pic>
      <p:sp>
        <p:nvSpPr>
          <p:cNvPr id="105" name="矩形 2"/>
          <p:cNvSpPr/>
          <p:nvPr/>
        </p:nvSpPr>
        <p:spPr>
          <a:xfrm>
            <a:off x="6749640" y="0"/>
            <a:ext cx="2394000" cy="514332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完善</a:t>
            </a:r>
            <a:br>
              <a:rPr sz="2800"/>
            </a:b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客户体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82960" y="4808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707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09" name="矩形 2"/>
          <p:cNvSpPr/>
          <p:nvPr/>
        </p:nvSpPr>
        <p:spPr>
          <a:xfrm>
            <a:off x="6063840" y="0"/>
            <a:ext cx="2369880" cy="345276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的团队激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19342" t="0" r="10313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12" name="矩形 2"/>
          <p:cNvSpPr/>
          <p:nvPr/>
        </p:nvSpPr>
        <p:spPr>
          <a:xfrm>
            <a:off x="0" y="3140280"/>
            <a:ext cx="4920480" cy="149148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具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的团队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合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3170" t="0" r="4182" b="0"/>
          <a:stretch/>
        </p:blipFill>
        <p:spPr>
          <a:xfrm>
            <a:off x="0" y="314640"/>
            <a:ext cx="9143640" cy="4173120"/>
          </a:xfrm>
          <a:prstGeom prst="rect">
            <a:avLst/>
          </a:prstGeom>
          <a:ln w="0">
            <a:noFill/>
          </a:ln>
        </p:spPr>
      </p:pic>
      <p:sp>
        <p:nvSpPr>
          <p:cNvPr id="115" name="矩形 2"/>
          <p:cNvSpPr/>
          <p:nvPr/>
        </p:nvSpPr>
        <p:spPr>
          <a:xfrm>
            <a:off x="0" y="2743200"/>
            <a:ext cx="9143640" cy="98640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76840" y="29246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完善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战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  <Words>72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05:53:16Z</dcterms:created>
  <dc:creator>admin</dc:creator>
  <dc:description/>
  <dc:language>en-US</dc:language>
  <cp:lastModifiedBy>a</cp:lastModifiedBy>
  <dcterms:modified xsi:type="dcterms:W3CDTF">2015-07-24T12:42:03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0</vt:r8>
  </property>
</Properties>
</file>