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FA0-9022-43EA-90FC-93F88428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676-34CA-4156-86C9-92CBD368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162-EC17-46A6-87B0-DFC37862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D47-AB49-4D4D-95B2-2F37A04C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1A94-908D-44E6-9EBE-C715CDD2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98F9-488C-4677-8AD5-45D016B6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9C16-3C6F-472D-8E0B-BABA731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5C3E-B7AF-47B4-9B0B-11C990DA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1B65-2972-4B32-BFFA-421D0E54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F39D-F29A-451C-A66E-097D2CD1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615B-367A-4F69-99A0-88C6ECB7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F1B-C53B-407A-A084-400837D7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8CEF-AACB-49FF-8B1E-A1083BDE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2864-86C4-48CC-8130-76F9ED29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D8F7-F9EA-4426-A0A8-B388D7EC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5DC5-C0AF-4935-A47E-36807F59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AD26-CC08-414E-809C-29DBAAFB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714E-4FBF-4BA6-8D30-54044D25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FE3E-D7B9-4BAE-8994-9E0056C2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DAA3-217D-4166-8E16-F40C012F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11D0-07AB-4002-96F1-0F8A066F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B223-F8DE-41F9-828A-1CE83997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609-9B41-4CC6-BD7C-1D3683A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78D3-EE8A-47B5-9DF2-2FCF65D0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88611-D359-4906-BC25-8BFCF68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CAD1-0ED1-4467-BAA6-E771CE4E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9663-5F35-4351-BE54-F2E7A941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1B67-DDA3-42FE-9A15-A49E0216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2E95-2AAE-49D7-BB42-8C839819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CB65-3581-4CF2-A3D9-30B55050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240-9A8D-40B8-A8EB-E5612054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4AE-9EC0-487E-83E4-E2B97250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11A-44E2-47A4-AD4A-BE9EDDCA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F82-0F9A-4950-923C-2372A12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942-5093-4280-AEFC-56288724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B8F-8628-45AB-9EA7-E0DA978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3165-4074-452E-B578-7103357999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2290680"/>
            <a:ext cx="9139320" cy="18003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Administrator\桌面\未标题-1.png"/>
          <p:cNvPicPr/>
          <p:nvPr/>
        </p:nvPicPr>
        <p:blipFill>
          <a:blip r:embed="rId2"/>
          <a:srcRect l="17871" t="0" r="21752" b="0"/>
          <a:stretch/>
        </p:blipFill>
        <p:spPr>
          <a:xfrm>
            <a:off x="11160" y="1268280"/>
            <a:ext cx="1752480" cy="2833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7742880" y="33012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6" descr="C:\Users\Soloman\Desktop\九逸作品 印章1.png"/>
          <p:cNvPicPr/>
          <p:nvPr/>
        </p:nvPicPr>
        <p:blipFill>
          <a:blip r:embed="rId3"/>
          <a:stretch/>
        </p:blipFill>
        <p:spPr>
          <a:xfrm>
            <a:off x="8308800" y="5589720"/>
            <a:ext cx="487440" cy="2195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D5B7-FAF2-4DD1-8070-799FE5FB82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Administrator\桌面\未标题-1.png"/>
          <p:cNvPicPr/>
          <p:nvPr/>
        </p:nvPicPr>
        <p:blipFill>
          <a:blip r:embed="rId2"/>
          <a:srcRect l="17870" t="0" r="21767" b="0"/>
          <a:stretch/>
        </p:blipFill>
        <p:spPr>
          <a:xfrm>
            <a:off x="8267760" y="5452920"/>
            <a:ext cx="876240" cy="1416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08720" y="63626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6" descr="C:\Users\Soloman\Desktop\九逸作品 印章1.png"/>
          <p:cNvPicPr/>
          <p:nvPr/>
        </p:nvPicPr>
        <p:blipFill>
          <a:blip r:embed="rId3"/>
          <a:stretch/>
        </p:blipFill>
        <p:spPr>
          <a:xfrm>
            <a:off x="255600" y="5084640"/>
            <a:ext cx="487440" cy="2206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255A-59D7-44C3-958B-FCF2C09C81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43280" y="4652640"/>
            <a:ext cx="51134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XXX</a:t>
            </a: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有限公司入职培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2750400" y="299736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企业文化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extBox 6" descr=""/>
          <p:cNvPicPr/>
          <p:nvPr/>
        </p:nvPicPr>
        <p:blipFill>
          <a:blip r:embed="rId1"/>
          <a:stretch/>
        </p:blipFill>
        <p:spPr>
          <a:xfrm>
            <a:off x="3492360" y="365040"/>
            <a:ext cx="2133720" cy="117792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3"/>
          <p:cNvGrpSpPr/>
          <p:nvPr/>
        </p:nvGrpSpPr>
        <p:grpSpPr>
          <a:xfrm>
            <a:off x="2141640" y="1628640"/>
            <a:ext cx="4860720" cy="758880"/>
            <a:chOff x="2141640" y="1628640"/>
            <a:chExt cx="4860720" cy="758880"/>
          </a:xfrm>
        </p:grpSpPr>
        <p:sp>
          <p:nvSpPr>
            <p:cNvPr id="136" name="椭圆 8"/>
            <p:cNvSpPr/>
            <p:nvPr/>
          </p:nvSpPr>
          <p:spPr>
            <a:xfrm>
              <a:off x="2141640" y="2235240"/>
              <a:ext cx="4860720" cy="152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" name="Group 5"/>
            <p:cNvGrpSpPr/>
            <p:nvPr/>
          </p:nvGrpSpPr>
          <p:grpSpPr>
            <a:xfrm>
              <a:off x="2374920" y="1628640"/>
              <a:ext cx="4286880" cy="651240"/>
              <a:chOff x="2374920" y="1628640"/>
              <a:chExt cx="4286880" cy="651240"/>
            </a:xfrm>
          </p:grpSpPr>
          <p:grpSp>
            <p:nvGrpSpPr>
              <p:cNvPr id="138" name="Group 6"/>
              <p:cNvGrpSpPr/>
              <p:nvPr/>
            </p:nvGrpSpPr>
            <p:grpSpPr>
              <a:xfrm>
                <a:off x="2374920" y="1628640"/>
                <a:ext cx="4286880" cy="651240"/>
                <a:chOff x="2374920" y="1628640"/>
                <a:chExt cx="4286880" cy="651240"/>
              </a:xfrm>
            </p:grpSpPr>
            <p:sp>
              <p:nvSpPr>
                <p:cNvPr id="139" name="圆角矩形 12"/>
                <p:cNvSpPr/>
                <p:nvPr/>
              </p:nvSpPr>
              <p:spPr>
                <a:xfrm>
                  <a:off x="2374920" y="1628640"/>
                  <a:ext cx="4286880" cy="65124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40" name="Group 8"/>
                <p:cNvGrpSpPr/>
                <p:nvPr/>
              </p:nvGrpSpPr>
              <p:grpSpPr>
                <a:xfrm>
                  <a:off x="6247800" y="1920240"/>
                  <a:ext cx="408240" cy="359640"/>
                  <a:chOff x="6247800" y="1920240"/>
                  <a:chExt cx="408240" cy="359640"/>
                </a:xfrm>
              </p:grpSpPr>
              <p:pic>
                <p:nvPicPr>
                  <p:cNvPr id="141" name="对角圆角矩形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7800" y="1920240"/>
                    <a:ext cx="408240" cy="3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2" name="Text Box 10"/>
                  <p:cNvSpPr/>
                  <p:nvPr/>
                </p:nvSpPr>
                <p:spPr>
                  <a:xfrm>
                    <a:off x="6260400" y="1933200"/>
                    <a:ext cx="383400" cy="3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43" name="矩形 40"/>
              <p:cNvSpPr/>
              <p:nvPr/>
            </p:nvSpPr>
            <p:spPr>
              <a:xfrm>
                <a:off x="2511360" y="1668240"/>
                <a:ext cx="4120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XX</a:t>
                </a:r>
                <a:r>
                  <a:rPr b="0" lang="zh-CN" sz="20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简介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4" name="Group 12"/>
          <p:cNvGrpSpPr/>
          <p:nvPr/>
        </p:nvGrpSpPr>
        <p:grpSpPr>
          <a:xfrm>
            <a:off x="2124000" y="2671920"/>
            <a:ext cx="4859280" cy="757080"/>
            <a:chOff x="2124000" y="2671920"/>
            <a:chExt cx="4859280" cy="757080"/>
          </a:xfrm>
        </p:grpSpPr>
        <p:sp>
          <p:nvSpPr>
            <p:cNvPr id="145" name="椭圆 15"/>
            <p:cNvSpPr/>
            <p:nvPr/>
          </p:nvSpPr>
          <p:spPr>
            <a:xfrm>
              <a:off x="2124000" y="3276720"/>
              <a:ext cx="4859280" cy="152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6" name="Group 14"/>
            <p:cNvGrpSpPr/>
            <p:nvPr/>
          </p:nvGrpSpPr>
          <p:grpSpPr>
            <a:xfrm>
              <a:off x="2357280" y="2671920"/>
              <a:ext cx="4285800" cy="649800"/>
              <a:chOff x="2357280" y="2671920"/>
              <a:chExt cx="4285800" cy="649800"/>
            </a:xfrm>
          </p:grpSpPr>
          <p:grpSp>
            <p:nvGrpSpPr>
              <p:cNvPr id="147" name="Group 15"/>
              <p:cNvGrpSpPr/>
              <p:nvPr/>
            </p:nvGrpSpPr>
            <p:grpSpPr>
              <a:xfrm>
                <a:off x="2357280" y="2671920"/>
                <a:ext cx="4285800" cy="649800"/>
                <a:chOff x="2357280" y="2671920"/>
                <a:chExt cx="4285800" cy="649800"/>
              </a:xfrm>
            </p:grpSpPr>
            <p:sp>
              <p:nvSpPr>
                <p:cNvPr id="148" name="圆角矩形 19"/>
                <p:cNvSpPr/>
                <p:nvPr/>
              </p:nvSpPr>
              <p:spPr>
                <a:xfrm>
                  <a:off x="2357280" y="2671920"/>
                  <a:ext cx="4285800" cy="64872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49" name="Group 17"/>
                <p:cNvGrpSpPr/>
                <p:nvPr/>
              </p:nvGrpSpPr>
              <p:grpSpPr>
                <a:xfrm>
                  <a:off x="6229800" y="2962440"/>
                  <a:ext cx="408240" cy="359280"/>
                  <a:chOff x="6229800" y="2962440"/>
                  <a:chExt cx="408240" cy="359280"/>
                </a:xfrm>
              </p:grpSpPr>
              <p:pic>
                <p:nvPicPr>
                  <p:cNvPr id="150" name="对角圆角矩形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9800" y="2962440"/>
                    <a:ext cx="408240" cy="3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" name="Text Box 19"/>
                  <p:cNvSpPr/>
                  <p:nvPr/>
                </p:nvSpPr>
                <p:spPr>
                  <a:xfrm>
                    <a:off x="6241680" y="2975040"/>
                    <a:ext cx="383400" cy="334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52" name="矩形 47"/>
              <p:cNvSpPr/>
              <p:nvPr/>
            </p:nvSpPr>
            <p:spPr>
              <a:xfrm>
                <a:off x="2493720" y="2711520"/>
                <a:ext cx="4119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XX</a:t>
                </a:r>
                <a:r>
                  <a:rPr b="0" lang="zh-CN" sz="20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文化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3" name="Group 21"/>
          <p:cNvGrpSpPr/>
          <p:nvPr/>
        </p:nvGrpSpPr>
        <p:grpSpPr>
          <a:xfrm>
            <a:off x="2124000" y="3718080"/>
            <a:ext cx="4859280" cy="757080"/>
            <a:chOff x="2124000" y="3718080"/>
            <a:chExt cx="4859280" cy="757080"/>
          </a:xfrm>
        </p:grpSpPr>
        <p:sp>
          <p:nvSpPr>
            <p:cNvPr id="154" name="椭圆 22"/>
            <p:cNvSpPr/>
            <p:nvPr/>
          </p:nvSpPr>
          <p:spPr>
            <a:xfrm>
              <a:off x="2124000" y="4322880"/>
              <a:ext cx="4859280" cy="152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5" name="Group 23"/>
            <p:cNvGrpSpPr/>
            <p:nvPr/>
          </p:nvGrpSpPr>
          <p:grpSpPr>
            <a:xfrm>
              <a:off x="2357280" y="3718080"/>
              <a:ext cx="4285800" cy="649800"/>
              <a:chOff x="2357280" y="3718080"/>
              <a:chExt cx="4285800" cy="649800"/>
            </a:xfrm>
          </p:grpSpPr>
          <p:grpSp>
            <p:nvGrpSpPr>
              <p:cNvPr id="156" name="Group 24"/>
              <p:cNvGrpSpPr/>
              <p:nvPr/>
            </p:nvGrpSpPr>
            <p:grpSpPr>
              <a:xfrm>
                <a:off x="2357280" y="3718080"/>
                <a:ext cx="4285800" cy="649800"/>
                <a:chOff x="2357280" y="3718080"/>
                <a:chExt cx="4285800" cy="649800"/>
              </a:xfrm>
            </p:grpSpPr>
            <p:sp>
              <p:nvSpPr>
                <p:cNvPr id="157" name="圆角矩形 26"/>
                <p:cNvSpPr/>
                <p:nvPr/>
              </p:nvSpPr>
              <p:spPr>
                <a:xfrm>
                  <a:off x="2357280" y="3718080"/>
                  <a:ext cx="4285800" cy="64980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8" name="Group 26"/>
                <p:cNvGrpSpPr/>
                <p:nvPr/>
              </p:nvGrpSpPr>
              <p:grpSpPr>
                <a:xfrm>
                  <a:off x="6229800" y="4011480"/>
                  <a:ext cx="408240" cy="353880"/>
                  <a:chOff x="6229800" y="4011480"/>
                  <a:chExt cx="408240" cy="353880"/>
                </a:xfrm>
              </p:grpSpPr>
              <p:pic>
                <p:nvPicPr>
                  <p:cNvPr id="159" name="对角圆角矩形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9800" y="4011480"/>
                    <a:ext cx="4082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0" name="Text Box 28"/>
                  <p:cNvSpPr/>
                  <p:nvPr/>
                </p:nvSpPr>
                <p:spPr>
                  <a:xfrm>
                    <a:off x="6241680" y="4021920"/>
                    <a:ext cx="383400" cy="33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61" name="矩形 54"/>
              <p:cNvSpPr/>
              <p:nvPr/>
            </p:nvSpPr>
            <p:spPr>
              <a:xfrm>
                <a:off x="2493720" y="3757680"/>
                <a:ext cx="4119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XXXX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2" name="Group 30"/>
          <p:cNvGrpSpPr/>
          <p:nvPr/>
        </p:nvGrpSpPr>
        <p:grpSpPr>
          <a:xfrm>
            <a:off x="2124000" y="4726080"/>
            <a:ext cx="4859280" cy="758880"/>
            <a:chOff x="2124000" y="4726080"/>
            <a:chExt cx="4859280" cy="758880"/>
          </a:xfrm>
        </p:grpSpPr>
        <p:sp>
          <p:nvSpPr>
            <p:cNvPr id="163" name="椭圆 29"/>
            <p:cNvSpPr/>
            <p:nvPr/>
          </p:nvSpPr>
          <p:spPr>
            <a:xfrm>
              <a:off x="2124000" y="5332680"/>
              <a:ext cx="4859280" cy="152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4" name="Group 32"/>
            <p:cNvGrpSpPr/>
            <p:nvPr/>
          </p:nvGrpSpPr>
          <p:grpSpPr>
            <a:xfrm>
              <a:off x="2357280" y="4726080"/>
              <a:ext cx="4285800" cy="651240"/>
              <a:chOff x="2357280" y="4726080"/>
              <a:chExt cx="4285800" cy="651240"/>
            </a:xfrm>
          </p:grpSpPr>
          <p:grpSp>
            <p:nvGrpSpPr>
              <p:cNvPr id="165" name="Group 33"/>
              <p:cNvGrpSpPr/>
              <p:nvPr/>
            </p:nvGrpSpPr>
            <p:grpSpPr>
              <a:xfrm>
                <a:off x="2357280" y="4726080"/>
                <a:ext cx="4285800" cy="651240"/>
                <a:chOff x="2357280" y="4726080"/>
                <a:chExt cx="4285800" cy="651240"/>
              </a:xfrm>
            </p:grpSpPr>
            <p:sp>
              <p:nvSpPr>
                <p:cNvPr id="166" name="圆角矩形 33"/>
                <p:cNvSpPr/>
                <p:nvPr/>
              </p:nvSpPr>
              <p:spPr>
                <a:xfrm>
                  <a:off x="2357280" y="4726080"/>
                  <a:ext cx="4285800" cy="65124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7" name="Group 35"/>
                <p:cNvGrpSpPr/>
                <p:nvPr/>
              </p:nvGrpSpPr>
              <p:grpSpPr>
                <a:xfrm>
                  <a:off x="6229800" y="5017320"/>
                  <a:ext cx="408240" cy="360000"/>
                  <a:chOff x="6229800" y="5017320"/>
                  <a:chExt cx="408240" cy="360000"/>
                </a:xfrm>
              </p:grpSpPr>
              <p:pic>
                <p:nvPicPr>
                  <p:cNvPr id="168" name="对角圆角矩形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9800" y="5017320"/>
                    <a:ext cx="408240" cy="36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Text Box 37"/>
                  <p:cNvSpPr/>
                  <p:nvPr/>
                </p:nvSpPr>
                <p:spPr>
                  <a:xfrm>
                    <a:off x="6241680" y="5030640"/>
                    <a:ext cx="383040" cy="33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70" name="矩形 61"/>
              <p:cNvSpPr/>
              <p:nvPr/>
            </p:nvSpPr>
            <p:spPr>
              <a:xfrm>
                <a:off x="2493720" y="4765680"/>
                <a:ext cx="4119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XXXX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1" name="平行四边形 35"/>
          <p:cNvSpPr/>
          <p:nvPr/>
        </p:nvSpPr>
        <p:spPr>
          <a:xfrm>
            <a:off x="2627280" y="1628640"/>
            <a:ext cx="576360" cy="650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平行四边形 36"/>
          <p:cNvSpPr/>
          <p:nvPr/>
        </p:nvSpPr>
        <p:spPr>
          <a:xfrm>
            <a:off x="2627280" y="2674800"/>
            <a:ext cx="576360" cy="650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平行四边形 37"/>
          <p:cNvSpPr/>
          <p:nvPr/>
        </p:nvSpPr>
        <p:spPr>
          <a:xfrm>
            <a:off x="2627280" y="3718080"/>
            <a:ext cx="576360" cy="650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平行四边形 38"/>
          <p:cNvSpPr/>
          <p:nvPr/>
        </p:nvSpPr>
        <p:spPr>
          <a:xfrm>
            <a:off x="2614680" y="4726080"/>
            <a:ext cx="576360" cy="650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6" descr="C:\Users\Soloman\Desktop\九逸作品 印章1.png"/>
          <p:cNvPicPr/>
          <p:nvPr/>
        </p:nvPicPr>
        <p:blipFill>
          <a:blip r:embed="rId1"/>
          <a:stretch/>
        </p:blipFill>
        <p:spPr>
          <a:xfrm>
            <a:off x="4127400" y="1517760"/>
            <a:ext cx="889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5:28:03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5T01:35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