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FA6-EABD-4CA6-8904-3AA150B6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A2C-9843-431B-8CDD-A8AE41C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B90-7F90-490D-B9D2-BC0954B0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2CD-0230-4A91-956E-52EEF22A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96B-62A7-4E2D-9AA9-74760078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18F-A9D1-44ED-A7C2-CBAE630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F6E-BBA1-44DF-B99E-54DD5932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D68-43DE-4452-8B84-548AA7B6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108-27AB-4C72-BE23-3D80982F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F39-AD53-4FF1-A048-DAC254A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4BB-7A2A-46C7-9D94-8D1C5B0C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60E-00A2-4452-9BBB-AB459A51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EE10-FD64-4798-8378-C15DEF8512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689920" y="9810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尚圆形简约创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285920" y="250020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571920" y="20718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4214880" y="42861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426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5497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3711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2716200" y="2786040"/>
            <a:ext cx="16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355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7118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6426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3357720" y="321480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854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643040" y="478620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2926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"/>
          <p:cNvSpPr/>
          <p:nvPr/>
        </p:nvSpPr>
        <p:spPr>
          <a:xfrm>
            <a:off x="3640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"/>
          <p:cNvSpPr/>
          <p:nvPr/>
        </p:nvSpPr>
        <p:spPr>
          <a:xfrm>
            <a:off x="5355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1"/>
          <p:cNvSpPr/>
          <p:nvPr/>
        </p:nvSpPr>
        <p:spPr>
          <a:xfrm>
            <a:off x="4497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6283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3"/>
          <p:cNvSpPr/>
          <p:nvPr/>
        </p:nvSpPr>
        <p:spPr>
          <a:xfrm>
            <a:off x="7069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4"/>
          <p:cNvSpPr/>
          <p:nvPr/>
        </p:nvSpPr>
        <p:spPr>
          <a:xfrm>
            <a:off x="2426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5"/>
          <p:cNvSpPr/>
          <p:nvPr/>
        </p:nvSpPr>
        <p:spPr>
          <a:xfrm>
            <a:off x="57121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3"/>
          <p:cNvSpPr/>
          <p:nvPr/>
        </p:nvSpPr>
        <p:spPr>
          <a:xfrm>
            <a:off x="1928880" y="442908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3714840" y="31431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6212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20689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4497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1280" y="59500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3"/>
          <p:cNvSpPr/>
          <p:nvPr/>
        </p:nvSpPr>
        <p:spPr>
          <a:xfrm>
            <a:off x="1928880" y="242892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357720" y="321480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2118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214880" y="542916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140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71409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26Z</dcterms:created>
  <dc:creator>幻灯片 http://www.eeppt.com</dc:creator>
  <dc:description/>
  <cp:keywords>幻灯片 http:/www.eeppt.com</cp:keywords>
  <dc:language>en-US</dc:language>
  <cp:lastModifiedBy/>
  <dcterms:modified xsi:type="dcterms:W3CDTF">2015-07-24T07:11:15Z</dcterms:modified>
  <cp:revision>0</cp:revision>
  <dc:subject/>
  <dc:title/>
</cp:coreProperties>
</file>