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BE17-3055-47C8-9FB9-E0CB061CCCE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01AE-7223-44AB-835D-F53A9083BF1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F4F0-6BEF-4636-95BC-60BF49F1338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A5A6-B33F-462A-8F2B-9C2AE56FF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851A-3FCC-4125-A5BD-2DDAB215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DE97-04D5-4C58-99E1-AA7C2AFF3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6741-8365-45EB-8875-9D46E7113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8B7F-7F9C-4F87-AC07-6390DA32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7C55-A7F7-45E3-93EF-3678D944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1348-60FA-4DCB-84F8-A82DB51B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CCAF-85AF-422B-A41C-628A4853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CE0F-77AA-4EFE-B265-6A1513CA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1C31-31B4-48B9-8756-E6D9D294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2F48-DCDB-43B7-BAD4-0522A208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D6DC-2FEA-4824-A33B-B7DCE015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EA35-97E5-4793-9FCC-CDEC74909A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（中~右上右）圆角矩形 1"/>
          <p:cNvSpPr/>
          <p:nvPr/>
        </p:nvSpPr>
        <p:spPr>
          <a:xfrm>
            <a:off x="3635280" y="2852640"/>
            <a:ext cx="1800360" cy="1152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接连接符 3"/>
          <p:cNvSpPr/>
          <p:nvPr/>
        </p:nvSpPr>
        <p:spPr>
          <a:xfrm>
            <a:off x="-5472000" y="2852640"/>
            <a:ext cx="543564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直接连接符 4"/>
          <p:cNvSpPr/>
          <p:nvPr/>
        </p:nvSpPr>
        <p:spPr>
          <a:xfrm>
            <a:off x="9180360" y="4005360"/>
            <a:ext cx="550872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直接连接符 5"/>
          <p:cNvSpPr/>
          <p:nvPr/>
        </p:nvSpPr>
        <p:spPr>
          <a:xfrm>
            <a:off x="5435640" y="-4032360"/>
            <a:ext cx="0" cy="400536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直接连接符 7"/>
          <p:cNvSpPr/>
          <p:nvPr/>
        </p:nvSpPr>
        <p:spPr>
          <a:xfrm>
            <a:off x="3635280" y="6840360"/>
            <a:ext cx="0" cy="400536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（左下左）圆角矩形 16"/>
          <p:cNvSpPr/>
          <p:nvPr/>
        </p:nvSpPr>
        <p:spPr>
          <a:xfrm>
            <a:off x="755640" y="4437000"/>
            <a:ext cx="180036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（左下右）圆角矩形 18"/>
          <p:cNvSpPr/>
          <p:nvPr/>
        </p:nvSpPr>
        <p:spPr>
          <a:xfrm>
            <a:off x="1619280" y="5373720"/>
            <a:ext cx="1800360" cy="1150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（右上左）圆角矩形 19"/>
          <p:cNvSpPr/>
          <p:nvPr/>
        </p:nvSpPr>
        <p:spPr>
          <a:xfrm>
            <a:off x="5003640" y="836640"/>
            <a:ext cx="1800360" cy="115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（右上右）圆角矩形 20"/>
          <p:cNvSpPr/>
          <p:nvPr/>
        </p:nvSpPr>
        <p:spPr>
          <a:xfrm>
            <a:off x="6588000" y="333360"/>
            <a:ext cx="1800360" cy="1150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矩形 21"/>
          <p:cNvSpPr/>
          <p:nvPr/>
        </p:nvSpPr>
        <p:spPr>
          <a:xfrm>
            <a:off x="1042920" y="5661000"/>
            <a:ext cx="504720" cy="2890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矩形 22"/>
          <p:cNvSpPr/>
          <p:nvPr/>
        </p:nvSpPr>
        <p:spPr>
          <a:xfrm>
            <a:off x="900000" y="5805360"/>
            <a:ext cx="503280" cy="28764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24"/>
          <p:cNvSpPr/>
          <p:nvPr/>
        </p:nvSpPr>
        <p:spPr>
          <a:xfrm>
            <a:off x="2627280" y="4941720"/>
            <a:ext cx="360360" cy="35892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矩形 25"/>
          <p:cNvSpPr/>
          <p:nvPr/>
        </p:nvSpPr>
        <p:spPr>
          <a:xfrm>
            <a:off x="2771640" y="4691160"/>
            <a:ext cx="216000" cy="21564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矩形 26"/>
          <p:cNvSpPr/>
          <p:nvPr/>
        </p:nvSpPr>
        <p:spPr>
          <a:xfrm>
            <a:off x="3024360" y="4941720"/>
            <a:ext cx="215640" cy="21456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矩形 27"/>
          <p:cNvSpPr/>
          <p:nvPr/>
        </p:nvSpPr>
        <p:spPr>
          <a:xfrm>
            <a:off x="3024360" y="4799160"/>
            <a:ext cx="107640" cy="10764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矩形 28"/>
          <p:cNvSpPr/>
          <p:nvPr/>
        </p:nvSpPr>
        <p:spPr>
          <a:xfrm>
            <a:off x="3168720" y="480528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矩形 29"/>
          <p:cNvSpPr/>
          <p:nvPr/>
        </p:nvSpPr>
        <p:spPr>
          <a:xfrm>
            <a:off x="3078000" y="471636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矩形 30"/>
          <p:cNvSpPr/>
          <p:nvPr/>
        </p:nvSpPr>
        <p:spPr>
          <a:xfrm>
            <a:off x="3168720" y="4653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矩形 32"/>
          <p:cNvSpPr/>
          <p:nvPr/>
        </p:nvSpPr>
        <p:spPr>
          <a:xfrm rot="5400000">
            <a:off x="6876000" y="1556640"/>
            <a:ext cx="358920" cy="36036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矩形 33"/>
          <p:cNvSpPr/>
          <p:nvPr/>
        </p:nvSpPr>
        <p:spPr>
          <a:xfrm rot="5400000">
            <a:off x="7273080" y="1701000"/>
            <a:ext cx="214560" cy="216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矩形 34"/>
          <p:cNvSpPr/>
          <p:nvPr/>
        </p:nvSpPr>
        <p:spPr>
          <a:xfrm rot="5400000">
            <a:off x="7021440" y="1952640"/>
            <a:ext cx="216000" cy="216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矩形 35"/>
          <p:cNvSpPr/>
          <p:nvPr/>
        </p:nvSpPr>
        <p:spPr>
          <a:xfrm rot="5400000">
            <a:off x="7272360" y="1952640"/>
            <a:ext cx="108000" cy="108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36"/>
          <p:cNvSpPr/>
          <p:nvPr/>
        </p:nvSpPr>
        <p:spPr>
          <a:xfrm rot="5400000">
            <a:off x="7318440" y="2097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矩形 37"/>
          <p:cNvSpPr/>
          <p:nvPr/>
        </p:nvSpPr>
        <p:spPr>
          <a:xfrm rot="5400000">
            <a:off x="7408800" y="200664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矩形 38"/>
          <p:cNvSpPr/>
          <p:nvPr/>
        </p:nvSpPr>
        <p:spPr>
          <a:xfrm rot="5400000">
            <a:off x="7408800" y="2097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矩形 39"/>
          <p:cNvSpPr/>
          <p:nvPr/>
        </p:nvSpPr>
        <p:spPr>
          <a:xfrm>
            <a:off x="6012000" y="476280"/>
            <a:ext cx="504720" cy="28872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矩形 40"/>
          <p:cNvSpPr/>
          <p:nvPr/>
        </p:nvSpPr>
        <p:spPr>
          <a:xfrm>
            <a:off x="5867280" y="333360"/>
            <a:ext cx="505080" cy="2872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（中~右上左）圆角矩形 41"/>
          <p:cNvSpPr/>
          <p:nvPr/>
        </p:nvSpPr>
        <p:spPr>
          <a:xfrm>
            <a:off x="3635280" y="2852640"/>
            <a:ext cx="1800360" cy="1152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（中~左下右）圆角矩形 42"/>
          <p:cNvSpPr/>
          <p:nvPr/>
        </p:nvSpPr>
        <p:spPr>
          <a:xfrm>
            <a:off x="3635280" y="2852640"/>
            <a:ext cx="1800360" cy="1152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（中~左下左）圆角矩形 43"/>
          <p:cNvSpPr/>
          <p:nvPr/>
        </p:nvSpPr>
        <p:spPr>
          <a:xfrm>
            <a:off x="3635280" y="2852640"/>
            <a:ext cx="1800360" cy="1152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矩形 67"/>
          <p:cNvSpPr/>
          <p:nvPr/>
        </p:nvSpPr>
        <p:spPr>
          <a:xfrm>
            <a:off x="4246560" y="3357720"/>
            <a:ext cx="360360" cy="35856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68"/>
          <p:cNvSpPr/>
          <p:nvPr/>
        </p:nvSpPr>
        <p:spPr>
          <a:xfrm>
            <a:off x="4390920" y="3106800"/>
            <a:ext cx="216000" cy="216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69"/>
          <p:cNvSpPr/>
          <p:nvPr/>
        </p:nvSpPr>
        <p:spPr>
          <a:xfrm>
            <a:off x="4643280" y="3357720"/>
            <a:ext cx="216000" cy="2142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70"/>
          <p:cNvSpPr/>
          <p:nvPr/>
        </p:nvSpPr>
        <p:spPr>
          <a:xfrm>
            <a:off x="4643280" y="3214800"/>
            <a:ext cx="108000" cy="108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71"/>
          <p:cNvSpPr/>
          <p:nvPr/>
        </p:nvSpPr>
        <p:spPr>
          <a:xfrm>
            <a:off x="4788000" y="322092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72"/>
          <p:cNvSpPr/>
          <p:nvPr/>
        </p:nvSpPr>
        <p:spPr>
          <a:xfrm>
            <a:off x="4697280" y="3132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73"/>
          <p:cNvSpPr/>
          <p:nvPr/>
        </p:nvSpPr>
        <p:spPr>
          <a:xfrm>
            <a:off x="4788000" y="3132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77"/>
          <p:cNvSpPr/>
          <p:nvPr/>
        </p:nvSpPr>
        <p:spPr>
          <a:xfrm>
            <a:off x="4282920" y="3213000"/>
            <a:ext cx="505080" cy="2890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78"/>
          <p:cNvSpPr/>
          <p:nvPr/>
        </p:nvSpPr>
        <p:spPr>
          <a:xfrm>
            <a:off x="4140360" y="3357720"/>
            <a:ext cx="502920" cy="2872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79"/>
          <p:cNvSpPr/>
          <p:nvPr/>
        </p:nvSpPr>
        <p:spPr>
          <a:xfrm rot="5400000">
            <a:off x="4212000" y="3067920"/>
            <a:ext cx="358920" cy="36036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80"/>
          <p:cNvSpPr/>
          <p:nvPr/>
        </p:nvSpPr>
        <p:spPr>
          <a:xfrm rot="5400000">
            <a:off x="4609080" y="3212280"/>
            <a:ext cx="214560" cy="216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81"/>
          <p:cNvSpPr/>
          <p:nvPr/>
        </p:nvSpPr>
        <p:spPr>
          <a:xfrm rot="5400000">
            <a:off x="4357080" y="3463920"/>
            <a:ext cx="216000" cy="21564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82"/>
          <p:cNvSpPr/>
          <p:nvPr/>
        </p:nvSpPr>
        <p:spPr>
          <a:xfrm rot="5400000">
            <a:off x="4608360" y="3463920"/>
            <a:ext cx="108000" cy="108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83"/>
          <p:cNvSpPr/>
          <p:nvPr/>
        </p:nvSpPr>
        <p:spPr>
          <a:xfrm rot="5400000">
            <a:off x="4654440" y="360828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84"/>
          <p:cNvSpPr/>
          <p:nvPr/>
        </p:nvSpPr>
        <p:spPr>
          <a:xfrm rot="5400000">
            <a:off x="4745160" y="351792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85"/>
          <p:cNvSpPr/>
          <p:nvPr/>
        </p:nvSpPr>
        <p:spPr>
          <a:xfrm rot="5400000">
            <a:off x="4745160" y="360828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86"/>
          <p:cNvSpPr/>
          <p:nvPr/>
        </p:nvSpPr>
        <p:spPr>
          <a:xfrm>
            <a:off x="4356000" y="3355920"/>
            <a:ext cx="505080" cy="2890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87"/>
          <p:cNvSpPr/>
          <p:nvPr/>
        </p:nvSpPr>
        <p:spPr>
          <a:xfrm>
            <a:off x="4211640" y="3213000"/>
            <a:ext cx="504720" cy="2872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（中·遮盖层）圆角矩形 43"/>
          <p:cNvSpPr/>
          <p:nvPr/>
        </p:nvSpPr>
        <p:spPr>
          <a:xfrm>
            <a:off x="3635280" y="2852640"/>
            <a:ext cx="180036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6229440" y="4006800"/>
            <a:ext cx="2663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指导老师：</a:t>
            </a: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学生姓名：</a:t>
            </a: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Jas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专       业：工业工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组合 130"/>
          <p:cNvGrpSpPr/>
          <p:nvPr/>
        </p:nvGrpSpPr>
        <p:grpSpPr>
          <a:xfrm>
            <a:off x="-1260360" y="2781360"/>
            <a:ext cx="4895640" cy="1295280"/>
            <a:chOff x="-1260360" y="2781360"/>
            <a:chExt cx="4895640" cy="1295280"/>
          </a:xfrm>
        </p:grpSpPr>
        <p:sp>
          <p:nvSpPr>
            <p:cNvPr id="99" name="矩形 122"/>
            <p:cNvSpPr/>
            <p:nvPr/>
          </p:nvSpPr>
          <p:spPr>
            <a:xfrm>
              <a:off x="-1260360" y="2781360"/>
              <a:ext cx="487836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直接连接符 126"/>
            <p:cNvSpPr/>
            <p:nvPr/>
          </p:nvSpPr>
          <p:spPr>
            <a:xfrm>
              <a:off x="3635280" y="2852640"/>
              <a:ext cx="0" cy="1152720"/>
            </a:xfrm>
            <a:prstGeom prst="line">
              <a:avLst/>
            </a:prstGeom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组合 131"/>
          <p:cNvGrpSpPr/>
          <p:nvPr/>
        </p:nvGrpSpPr>
        <p:grpSpPr>
          <a:xfrm>
            <a:off x="5435640" y="2781360"/>
            <a:ext cx="4892760" cy="1295280"/>
            <a:chOff x="5435640" y="2781360"/>
            <a:chExt cx="4892760" cy="1295280"/>
          </a:xfrm>
        </p:grpSpPr>
        <p:sp>
          <p:nvSpPr>
            <p:cNvPr id="102" name="矩形 125"/>
            <p:cNvSpPr/>
            <p:nvPr/>
          </p:nvSpPr>
          <p:spPr>
            <a:xfrm>
              <a:off x="5449680" y="2781360"/>
              <a:ext cx="487872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直接连接符 127"/>
            <p:cNvSpPr/>
            <p:nvPr/>
          </p:nvSpPr>
          <p:spPr>
            <a:xfrm>
              <a:off x="5435640" y="2852640"/>
              <a:ext cx="0" cy="1152720"/>
            </a:xfrm>
            <a:prstGeom prst="line">
              <a:avLst/>
            </a:prstGeom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矩形 8"/>
          <p:cNvSpPr/>
          <p:nvPr/>
        </p:nvSpPr>
        <p:spPr>
          <a:xfrm>
            <a:off x="324000" y="3105000"/>
            <a:ext cx="92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图书馆利用情况及分析毕业论文答辩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-2.22222E-006 L 1.61233 -2.22222E-006 E">
                                      <p:cBhvr>
                                        <p:cTn id="6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22222E-006 L -1.61441 2.22222E-006 E">
                                      <p:cBhvr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0.00209 L -4.44444E-006 1.61481 E">
                                      <p:cBhvr>
                                        <p:cTn id="10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 C 0.05382 -0.06111 0.25555 -0.29074 0.32274 -0.36713 E">
                                      <p:cBhvr>
                                        <p:cTn id="59" dur="2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 C 0.02482 -0.04907 0.11823 -0.23264 0.1493 -0.29398 E">
                                      <p:cBhvr>
                                        <p:cTn id="62" dur="2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 C -0.03681 0.06111 -0.17448 0.29074 -0.22049 0.36736 E">
                                      <p:cBhvr>
                                        <p:cTn id="65" dur="2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 C -0.05243 0.03843 -0.24931 0.18241 -0.31493 0.23056 E">
                                      <p:cBhvr>
                                        <p:cTn id="68" dur="2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86" dur="1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2.22222E-006 -7.40741E-007 C -0.02952 0.03843 -0.13993 0.18218 -0.17674 0.23009 E">
                                      <p:cBhvr>
                                        <p:cTn id="88" dur="11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3.88889E-006 0 C -0.02951 0.03819 -0.1401 0.18194 -0.17708 0.22986 E">
                                      <p:cBhvr>
                                        <p:cTn id="90" dur="1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1.94444E-006 -2.59259E-006 C -0.02952 0.03843 -0.14045 0.18241 -0.17743 0.23033 E">
                                      <p:cBhvr>
                                        <p:cTn id="92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4.72222E-006 -3.7037E-007 C -0.02952 0.03843 -0.14011 0.18241 -0.17691 0.23032 E">
                                      <p:cBhvr>
                                        <p:cTn id="94" dur="11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2.5E-006 -1.11111E-006 C -0.02951 0.03843 -0.14028 0.18287 -0.17725 0.23102 E">
                                      <p:cBhvr>
                                        <p:cTn id="96" dur="15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3.33333E-006 1.85185E-006 C -0.02952 0.03842 -0.14028 0.18264 -0.17709 0.23079 E">
                                      <p:cBhvr>
                                        <p:cTn id="98" dur="12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2.5E-006 1.85185E-006 C -0.02951 0.03842 -0.14028 0.18264 -0.17725 0.23079 E">
                                      <p:cBhvr>
                                        <p:cTn id="100" dur="12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3.05556E-006 -3.33333E-006 C -0.0592 0.05949 -0.28108 0.28241 -0.35504 0.35672 E">
                                      <p:cBhvr>
                                        <p:cTn id="102" dur="15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1.66667E-006 3.33333E-006 C -0.0592 0.05949 -0.28125 0.2824 -0.35521 0.35671 E">
                                      <p:cBhvr>
                                        <p:cTn id="104" dur="12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1.94444E-006 -1.11111E-006 C 0.04861 -0.03704 0.23073 -0.17592 0.2915 -0.22222 E">
                                      <p:cBhvr>
                                        <p:cTn id="106" dur="13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1.38889E-006 7.40741E-007 C 0.04861 -0.03704 0.23073 -0.1757 0.29132 -0.22199 E">
                                      <p:cBhvr>
                                        <p:cTn id="108" dur="15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1.94444E-006 -3.33333E-006 C 0.04861 -0.03703 0.23073 -0.17546 0.29132 -0.22176 E">
                                      <p:cBhvr>
                                        <p:cTn id="110" dur="12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0209 -0.00162 C 0.04652 -0.03842 0.22864 -0.17685 0.28941 -0.22291 E">
                                      <p:cBhvr>
                                        <p:cTn id="112" dur="18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8.33333E-007 -2.59259E-006 C 0.04844 -0.0368 0.23055 -0.17453 0.29115 -0.2206 E">
                                      <p:cBhvr>
                                        <p:cTn id="114" dur="15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5E-006 1.85185E-006 C 0.04844 -0.03681 0.23056 -0.17454 0.29115 -0.2206 E">
                                      <p:cBhvr>
                                        <p:cTn id="116" dur="12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5E-006 -2.59259E-006 C 0.04844 -0.0368 0.23056 -0.17453 0.29115 -0.2206 E">
                                      <p:cBhvr>
                                        <p:cTn id="118" dur="13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3.05556E-006 3.33333E-006 C 0.03004 -0.07014 0.14306 -0.33287 0.18073 -0.42037 E">
                                      <p:cBhvr>
                                        <p:cTn id="120" dur="15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4.44444E-006 -1.85185E-006 C 0.03004 -0.07014 0.14289 -0.33356 0.18039 -0.42129 E">
                                      <p:cBhvr>
                                        <p:cTn id="122" dur="17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24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26" dur="1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28" dur="21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30" dur="19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32" dur="22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34" dur="1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36" dur="1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38" dur="1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40" dur="22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42" dur="2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44" dur="1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46" dur="23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48" dur="26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50" dur="22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52" dur="2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54" dur="2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56" dur="1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58" dur="22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1.11111E-006 0 C 0.04097 0 0.08212 0 0.09844 0 E">
                                      <p:cBhvr>
                                        <p:cTn id="232" dur="7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5.27778E-006 2.96296E-006 C -0.04098 0.00023 -0.08195 0.00046 -0.09827 0.00046 E">
                                      <p:cBhvr>
                                        <p:cTn id="234" dur="7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0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-0.09809 0 C -0.01406 -0.00046 0.30087 -0.00231 0.40573 -0.00278 E">
                                      <p:cBhvr>
                                        <p:cTn id="238" dur="6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path" presetID="0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0.09809 -0.00023 C 0.01337 -0.00046 -0.30382 -0.00185 -0.40989 -0.00231 E">
                                      <p:cBhvr>
                                        <p:cTn id="240" dur="6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2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4" dur="4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694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6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697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698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01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2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703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704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5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6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07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8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709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710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3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4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715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716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7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8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9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0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721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722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3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4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5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6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（小方框遮罩层）矩形 52"/>
          <p:cNvSpPr/>
          <p:nvPr/>
        </p:nvSpPr>
        <p:spPr>
          <a:xfrm>
            <a:off x="379872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8" name="（2调查设计·蓝）组合 40"/>
          <p:cNvGrpSpPr/>
          <p:nvPr/>
        </p:nvGrpSpPr>
        <p:grpSpPr>
          <a:xfrm>
            <a:off x="3706920" y="115920"/>
            <a:ext cx="1728720" cy="673200"/>
            <a:chOff x="3706920" y="115920"/>
            <a:chExt cx="1728720" cy="673200"/>
          </a:xfrm>
        </p:grpSpPr>
        <p:grpSp>
          <p:nvGrpSpPr>
            <p:cNvPr id="729" name="（1绪论）组合 45"/>
            <p:cNvGrpSpPr/>
            <p:nvPr/>
          </p:nvGrpSpPr>
          <p:grpSpPr>
            <a:xfrm>
              <a:off x="3706920" y="115920"/>
              <a:ext cx="1728720" cy="673200"/>
              <a:chOff x="3706920" y="115920"/>
              <a:chExt cx="1728720" cy="673200"/>
            </a:xfrm>
          </p:grpSpPr>
          <p:sp>
            <p:nvSpPr>
              <p:cNvPr id="730" name="圆角矩形 39"/>
              <p:cNvSpPr/>
              <p:nvPr/>
            </p:nvSpPr>
            <p:spPr>
              <a:xfrm>
                <a:off x="377820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矩形 40"/>
              <p:cNvSpPr/>
              <p:nvPr/>
            </p:nvSpPr>
            <p:spPr>
              <a:xfrm>
                <a:off x="379728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矩形 41"/>
              <p:cNvSpPr/>
              <p:nvPr/>
            </p:nvSpPr>
            <p:spPr>
              <a:xfrm>
                <a:off x="370692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3" name="（1绪论）TextBox 72"/>
            <p:cNvSpPr/>
            <p:nvPr/>
          </p:nvSpPr>
          <p:spPr>
            <a:xfrm>
              <a:off x="3707280" y="116280"/>
              <a:ext cx="17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4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（左·遮盖）弧形 71"/>
          <p:cNvSpPr/>
          <p:nvPr/>
        </p:nvSpPr>
        <p:spPr>
          <a:xfrm>
            <a:off x="3780000" y="11592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30"/>
                </a:moveTo>
                <a:cubicBezTo>
                  <a:pt x="-2102" y="75279"/>
                  <a:pt x="5517" y="50539"/>
                  <a:pt x="21564" y="31633"/>
                </a:cubicBezTo>
                <a:cubicBezTo>
                  <a:pt x="37799" y="12505"/>
                  <a:pt x="61202" y="1067"/>
                  <a:pt x="86144" y="71"/>
                </a:cubicBezTo>
                <a:lnTo>
                  <a:pt x="89694" y="90488"/>
                </a:lnTo>
                <a:lnTo>
                  <a:pt x="500" y="100030"/>
                </a:lnTo>
                <a:close/>
              </a:path>
              <a:path fill="none" w="179387" h="180975">
                <a:moveTo>
                  <a:pt x="500" y="100030"/>
                </a:moveTo>
                <a:cubicBezTo>
                  <a:pt x="-2102" y="75279"/>
                  <a:pt x="5517" y="50539"/>
                  <a:pt x="21564" y="31633"/>
                </a:cubicBezTo>
                <a:cubicBezTo>
                  <a:pt x="37799" y="12505"/>
                  <a:pt x="61202" y="1067"/>
                  <a:pt x="86144" y="71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（左·遮盖）直接连接符 74"/>
          <p:cNvSpPr/>
          <p:nvPr/>
        </p:nvSpPr>
        <p:spPr>
          <a:xfrm>
            <a:off x="37800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（右·遮盖）弧形 78"/>
          <p:cNvSpPr/>
          <p:nvPr/>
        </p:nvSpPr>
        <p:spPr>
          <a:xfrm rot="5400000">
            <a:off x="5182920" y="115920"/>
            <a:ext cx="181080" cy="18072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208" y="96612"/>
                </a:moveTo>
                <a:cubicBezTo>
                  <a:pt x="-1532" y="70959"/>
                  <a:pt x="7723" y="45777"/>
                  <a:pt x="25661" y="27356"/>
                </a:cubicBezTo>
                <a:cubicBezTo>
                  <a:pt x="43600" y="8935"/>
                  <a:pt x="68528" y="-984"/>
                  <a:pt x="94218" y="76"/>
                </a:cubicBezTo>
                <a:lnTo>
                  <a:pt x="90488" y="90488"/>
                </a:lnTo>
                <a:lnTo>
                  <a:pt x="208" y="96612"/>
                </a:lnTo>
                <a:close/>
              </a:path>
              <a:path fill="none" w="180975" h="180975">
                <a:moveTo>
                  <a:pt x="208" y="96612"/>
                </a:moveTo>
                <a:cubicBezTo>
                  <a:pt x="-1532" y="70959"/>
                  <a:pt x="7723" y="45777"/>
                  <a:pt x="25661" y="27356"/>
                </a:cubicBezTo>
                <a:cubicBezTo>
                  <a:pt x="43600" y="8935"/>
                  <a:pt x="68528" y="-984"/>
                  <a:pt x="94218" y="76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（右·遮盖）直接连接符 79"/>
          <p:cNvSpPr/>
          <p:nvPr/>
        </p:nvSpPr>
        <p:spPr>
          <a:xfrm>
            <a:off x="5364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（上·遮盖）直接连接符 84"/>
          <p:cNvSpPr/>
          <p:nvPr/>
        </p:nvSpPr>
        <p:spPr>
          <a:xfrm>
            <a:off x="3862440" y="115920"/>
            <a:ext cx="140796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2" name=""/>
          <p:cNvGraphicFramePr/>
          <p:nvPr/>
        </p:nvGraphicFramePr>
        <p:xfrm>
          <a:off x="1835280" y="1700280"/>
          <a:ext cx="6337080" cy="3816360"/>
        </p:xfrm>
        <a:graphic>
          <a:graphicData uri="http://schemas.openxmlformats.org/drawingml/2006/table">
            <a:tbl>
              <a:tblPr/>
              <a:tblGrid>
                <a:gridCol w="2447640"/>
                <a:gridCol w="2313000"/>
                <a:gridCol w="1576440"/>
              </a:tblGrid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选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最常使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应加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图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5.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.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.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.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报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3.4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8.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.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.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全文数据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9.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视听资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3.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考试平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其他（请说明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743" name="组合 96"/>
          <p:cNvGrpSpPr/>
          <p:nvPr/>
        </p:nvGrpSpPr>
        <p:grpSpPr>
          <a:xfrm>
            <a:off x="-101880" y="121680"/>
            <a:ext cx="2306520" cy="2305800"/>
            <a:chOff x="-101880" y="121680"/>
            <a:chExt cx="2306520" cy="2305800"/>
          </a:xfrm>
        </p:grpSpPr>
        <p:sp>
          <p:nvSpPr>
            <p:cNvPr id="744" name="矩形 105"/>
            <p:cNvSpPr/>
            <p:nvPr/>
          </p:nvSpPr>
          <p:spPr>
            <a:xfrm rot="18900000">
              <a:off x="331200" y="96876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学习心理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直角三角形 106"/>
            <p:cNvSpPr/>
            <p:nvPr/>
          </p:nvSpPr>
          <p:spPr>
            <a:xfrm rot="18900000">
              <a:off x="1465200" y="24840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直角三角形 107"/>
            <p:cNvSpPr/>
            <p:nvPr/>
          </p:nvSpPr>
          <p:spPr>
            <a:xfrm rot="13500000">
              <a:off x="24840" y="168768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7" name="组合 96"/>
          <p:cNvGrpSpPr/>
          <p:nvPr/>
        </p:nvGrpSpPr>
        <p:grpSpPr>
          <a:xfrm>
            <a:off x="-108360" y="117000"/>
            <a:ext cx="2306880" cy="2305800"/>
            <a:chOff x="-108360" y="117000"/>
            <a:chExt cx="2306880" cy="2305800"/>
          </a:xfrm>
        </p:grpSpPr>
        <p:sp>
          <p:nvSpPr>
            <p:cNvPr id="748" name="矩形 73"/>
            <p:cNvSpPr/>
            <p:nvPr/>
          </p:nvSpPr>
          <p:spPr>
            <a:xfrm rot="18900000">
              <a:off x="324720" y="96444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满意度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直角三角形 74"/>
            <p:cNvSpPr/>
            <p:nvPr/>
          </p:nvSpPr>
          <p:spPr>
            <a:xfrm rot="18900000">
              <a:off x="1459080" y="24372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直角三角形 75"/>
            <p:cNvSpPr/>
            <p:nvPr/>
          </p:nvSpPr>
          <p:spPr>
            <a:xfrm rot="13500000">
              <a:off x="18360" y="168300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1" name="TextBox 78"/>
          <p:cNvSpPr/>
          <p:nvPr/>
        </p:nvSpPr>
        <p:spPr>
          <a:xfrm>
            <a:off x="1619280" y="125100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学习动机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指直接推动学生进行学习的一种内部动力，是激励和指引学生进行学习的一种需要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2" name="组合 116"/>
          <p:cNvGrpSpPr/>
          <p:nvPr/>
        </p:nvGrpSpPr>
        <p:grpSpPr>
          <a:xfrm>
            <a:off x="1547640" y="2195640"/>
            <a:ext cx="5427000" cy="1880280"/>
            <a:chOff x="1547640" y="2195640"/>
            <a:chExt cx="5427000" cy="1880280"/>
          </a:xfrm>
        </p:grpSpPr>
        <p:sp>
          <p:nvSpPr>
            <p:cNvPr id="753" name="圆角矩形 79"/>
            <p:cNvSpPr/>
            <p:nvPr/>
          </p:nvSpPr>
          <p:spPr>
            <a:xfrm>
              <a:off x="1547640" y="2781360"/>
              <a:ext cx="1584360" cy="718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动机的主要内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矩形 80"/>
            <p:cNvSpPr/>
            <p:nvPr/>
          </p:nvSpPr>
          <p:spPr>
            <a:xfrm>
              <a:off x="4499640" y="2195640"/>
              <a:ext cx="22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知识价值的认识（知识价值观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矩形 81"/>
            <p:cNvSpPr/>
            <p:nvPr/>
          </p:nvSpPr>
          <p:spPr>
            <a:xfrm>
              <a:off x="4280760" y="2699640"/>
              <a:ext cx="220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学习的直接兴趣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兴趣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矩形 82"/>
            <p:cNvSpPr/>
            <p:nvPr/>
          </p:nvSpPr>
          <p:spPr>
            <a:xfrm>
              <a:off x="4416840" y="3707640"/>
              <a:ext cx="255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自身学习能力的认识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能力感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矩形 83"/>
            <p:cNvSpPr/>
            <p:nvPr/>
          </p:nvSpPr>
          <p:spPr>
            <a:xfrm>
              <a:off x="4276080" y="3203640"/>
              <a:ext cx="214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学习成绩的归因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成就归因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直接连接符 85"/>
            <p:cNvSpPr/>
            <p:nvPr/>
          </p:nvSpPr>
          <p:spPr>
            <a:xfrm>
              <a:off x="3132000" y="3140280"/>
              <a:ext cx="36036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直接连接符 87"/>
            <p:cNvSpPr/>
            <p:nvPr/>
          </p:nvSpPr>
          <p:spPr>
            <a:xfrm>
              <a:off x="3492360" y="2349360"/>
              <a:ext cx="0" cy="151128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直接连接符 89"/>
            <p:cNvSpPr/>
            <p:nvPr/>
          </p:nvSpPr>
          <p:spPr>
            <a:xfrm>
              <a:off x="3492360" y="3355920"/>
              <a:ext cx="35856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直接连接符 97"/>
            <p:cNvSpPr/>
            <p:nvPr/>
          </p:nvSpPr>
          <p:spPr>
            <a:xfrm>
              <a:off x="3492360" y="2852640"/>
              <a:ext cx="35856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直接连接符 110"/>
            <p:cNvSpPr/>
            <p:nvPr/>
          </p:nvSpPr>
          <p:spPr>
            <a:xfrm>
              <a:off x="3492360" y="2349360"/>
              <a:ext cx="35856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直接连接符 111"/>
            <p:cNvSpPr/>
            <p:nvPr/>
          </p:nvSpPr>
          <p:spPr>
            <a:xfrm>
              <a:off x="3492360" y="3861000"/>
              <a:ext cx="35856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4" name="圆角矩形 115"/>
          <p:cNvSpPr/>
          <p:nvPr/>
        </p:nvSpPr>
        <p:spPr>
          <a:xfrm>
            <a:off x="1547640" y="4437000"/>
            <a:ext cx="6193080" cy="1440000"/>
          </a:xfrm>
          <a:prstGeom prst="roundRect">
            <a:avLst>
              <a:gd name="adj" fmla="val 10199"/>
            </a:avLst>
          </a:prstGeom>
          <a:solidFill>
            <a:srgbClr val="ffffff"/>
          </a:solidFill>
          <a:ln w="255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小结：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在举办活动时，应深刻挖掘学生的学习动机，促进学生的阅读量，如可以根据“名人效应”与孔目湖讲堂合作，在讲堂中推荐同学多阅读，并可现场推荐书目，后期再加大宣传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TextBox 118"/>
          <p:cNvSpPr/>
          <p:nvPr/>
        </p:nvSpPr>
        <p:spPr>
          <a:xfrm>
            <a:off x="1547640" y="1341360"/>
            <a:ext cx="633744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阅读行为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重任务型阅读已经成为大学生中常见的一种阅读方式，即大学生在阅读的同时，还同时进行网络聊天，听音乐之类的活动。多任务型阅读会对阅读的效率及效果方面产生不良影响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影响电子资源推广原因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阅读设备如平板电脑的普及率不高，而电脑的便捷性相对于纸质图书也不高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长期养成的纸质阅读习惯要改成电子阅读需要一定的时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小结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今后阅读设备普及的情况下，人的惰性会使人更倾向使用平板电脑的娱乐功能，图书馆及学校需要在这方面加强引导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23" dur="indefinite" restart="never" nodeType="tmRoot">
          <p:childTnLst>
            <p:seq>
              <p:cTn id="1624" dur="indefinite" nodeType="mainSeq">
                <p:childTnLst>
                  <p:par>
                    <p:cTn id="1625" nodeType="clickEffect" fill="hold">
                      <p:stCondLst>
                        <p:cond delay="0"/>
                      </p:stCondLst>
                      <p:childTnLst>
                        <p:par>
                          <p:cTn id="1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2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7" dur="3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1" dur="3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5" dur="3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nodeType="clickEffect" fill="hold">
                      <p:stCondLst>
                        <p:cond delay="indefinite"/>
                      </p:stCondLst>
                      <p:childTnLst>
                        <p:par>
                          <p:cTn id="1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4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1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52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4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55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nodeType="clickEffect" fill="hold">
                      <p:stCondLst>
                        <p:cond delay="indefinite"/>
                      </p:stCondLst>
                      <p:childTnLst>
                        <p:par>
                          <p:cTn id="1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6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6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6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767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8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9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770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771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4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5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776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777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8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9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0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1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782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783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4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5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6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7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788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789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0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1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92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3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794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795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6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7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98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9" name="圆角矩形 147"/>
          <p:cNvSpPr/>
          <p:nvPr/>
        </p:nvSpPr>
        <p:spPr>
          <a:xfrm>
            <a:off x="2484360" y="1268280"/>
            <a:ext cx="14400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南昌大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圆角矩形 148"/>
          <p:cNvSpPr/>
          <p:nvPr/>
        </p:nvSpPr>
        <p:spPr>
          <a:xfrm>
            <a:off x="5148360" y="1268280"/>
            <a:ext cx="143964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华东交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弧形 149"/>
          <p:cNvSpPr/>
          <p:nvPr/>
        </p:nvSpPr>
        <p:spPr>
          <a:xfrm>
            <a:off x="3203640" y="836640"/>
            <a:ext cx="2663640" cy="2448000"/>
          </a:xfrm>
          <a:custGeom>
            <a:avLst/>
            <a:gdLst/>
            <a:ahLst/>
            <a:rect l="l" t="t" r="r" b="b"/>
            <a:pathLst>
              <a:path stroke="0" w="2663825" h="2447925">
                <a:moveTo>
                  <a:pt x="2655677" y="1088787"/>
                </a:moveTo>
                <a:cubicBezTo>
                  <a:pt x="2713678" y="1568446"/>
                  <a:pt x="2459544" y="2034646"/>
                  <a:pt x="2006773" y="2279179"/>
                </a:cubicBezTo>
                <a:cubicBezTo>
                  <a:pt x="1603729" y="2496855"/>
                  <a:pt x="1106003" y="2504412"/>
                  <a:pt x="695353" y="2299091"/>
                </a:cubicBezTo>
                <a:cubicBezTo>
                  <a:pt x="235888" y="2069362"/>
                  <a:pt x="-34715" y="1613760"/>
                  <a:pt x="3571" y="1134374"/>
                </a:cubicBezTo>
                <a:lnTo>
                  <a:pt x="1331913" y="1223963"/>
                </a:lnTo>
                <a:lnTo>
                  <a:pt x="2655677" y="1088787"/>
                </a:lnTo>
                <a:close/>
              </a:path>
              <a:path fill="none" w="2663825" h="2447925">
                <a:moveTo>
                  <a:pt x="2655677" y="1088787"/>
                </a:moveTo>
                <a:cubicBezTo>
                  <a:pt x="2713678" y="1568446"/>
                  <a:pt x="2459544" y="2034646"/>
                  <a:pt x="2006773" y="2279179"/>
                </a:cubicBezTo>
                <a:cubicBezTo>
                  <a:pt x="1603729" y="2496855"/>
                  <a:pt x="1106003" y="2504412"/>
                  <a:pt x="695353" y="2299091"/>
                </a:cubicBezTo>
                <a:cubicBezTo>
                  <a:pt x="235888" y="2069362"/>
                  <a:pt x="-34715" y="1613760"/>
                  <a:pt x="3571" y="1134374"/>
                </a:cubicBezTo>
              </a:path>
            </a:pathLst>
          </a:custGeom>
          <a:noFill/>
          <a:ln w="25560">
            <a:solidFill>
              <a:srgbClr val="a6a6a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椭圆 129"/>
          <p:cNvSpPr/>
          <p:nvPr/>
        </p:nvSpPr>
        <p:spPr>
          <a:xfrm>
            <a:off x="3924360" y="2710440"/>
            <a:ext cx="1258920" cy="11674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比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椭圆 137"/>
          <p:cNvSpPr/>
          <p:nvPr/>
        </p:nvSpPr>
        <p:spPr>
          <a:xfrm>
            <a:off x="5508720" y="4479120"/>
            <a:ext cx="1079280" cy="99540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直接连接符 136"/>
          <p:cNvSpPr/>
          <p:nvPr/>
        </p:nvSpPr>
        <p:spPr>
          <a:xfrm>
            <a:off x="4998960" y="3708360"/>
            <a:ext cx="668520" cy="916200"/>
          </a:xfrm>
          <a:prstGeom prst="line">
            <a:avLst/>
          </a:prstGeom>
          <a:ln w="25560">
            <a:solidFill>
              <a:srgbClr val="a6a6a6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椭圆 146"/>
          <p:cNvSpPr/>
          <p:nvPr/>
        </p:nvSpPr>
        <p:spPr>
          <a:xfrm>
            <a:off x="3995640" y="4696560"/>
            <a:ext cx="1081080" cy="99540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子馆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直接连接符 134"/>
          <p:cNvSpPr/>
          <p:nvPr/>
        </p:nvSpPr>
        <p:spPr>
          <a:xfrm flipH="1">
            <a:off x="4537080" y="3879720"/>
            <a:ext cx="17280" cy="816120"/>
          </a:xfrm>
          <a:prstGeom prst="line">
            <a:avLst/>
          </a:prstGeom>
          <a:ln w="25560">
            <a:solidFill>
              <a:srgbClr val="a6a6a6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椭圆 150"/>
          <p:cNvSpPr/>
          <p:nvPr/>
        </p:nvSpPr>
        <p:spPr>
          <a:xfrm>
            <a:off x="2556000" y="4479120"/>
            <a:ext cx="1081080" cy="99540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纸质馆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直接连接符 132"/>
          <p:cNvSpPr/>
          <p:nvPr/>
        </p:nvSpPr>
        <p:spPr>
          <a:xfrm flipH="1">
            <a:off x="3478320" y="3708360"/>
            <a:ext cx="630000" cy="916200"/>
          </a:xfrm>
          <a:prstGeom prst="line">
            <a:avLst/>
          </a:prstGeom>
          <a:ln w="25560">
            <a:solidFill>
              <a:srgbClr val="a6a6a6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（小方框遮罩层）矩形 52"/>
          <p:cNvSpPr/>
          <p:nvPr/>
        </p:nvSpPr>
        <p:spPr>
          <a:xfrm>
            <a:off x="545616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1" name="（4对比分析·蓝）组合 40"/>
          <p:cNvGrpSpPr/>
          <p:nvPr/>
        </p:nvGrpSpPr>
        <p:grpSpPr>
          <a:xfrm>
            <a:off x="5364000" y="115920"/>
            <a:ext cx="1729080" cy="673200"/>
            <a:chOff x="5364000" y="115920"/>
            <a:chExt cx="1729080" cy="673200"/>
          </a:xfrm>
        </p:grpSpPr>
        <p:grpSp>
          <p:nvGrpSpPr>
            <p:cNvPr id="812" name="（1绪论）组合 45"/>
            <p:cNvGrpSpPr/>
            <p:nvPr/>
          </p:nvGrpSpPr>
          <p:grpSpPr>
            <a:xfrm>
              <a:off x="5364000" y="115920"/>
              <a:ext cx="1729080" cy="673200"/>
              <a:chOff x="5364000" y="115920"/>
              <a:chExt cx="1729080" cy="673200"/>
            </a:xfrm>
          </p:grpSpPr>
          <p:sp>
            <p:nvSpPr>
              <p:cNvPr id="813" name="圆角矩形 40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4" name="矩形 41"/>
              <p:cNvSpPr/>
              <p:nvPr/>
            </p:nvSpPr>
            <p:spPr>
              <a:xfrm>
                <a:off x="5454360" y="331920"/>
                <a:ext cx="154836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5" name="矩形 42"/>
              <p:cNvSpPr/>
              <p:nvPr/>
            </p:nvSpPr>
            <p:spPr>
              <a:xfrm>
                <a:off x="5364000" y="573120"/>
                <a:ext cx="172908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16" name="（1绪论）TextBox 72"/>
            <p:cNvSpPr/>
            <p:nvPr/>
          </p:nvSpPr>
          <p:spPr>
            <a:xfrm>
              <a:off x="5364360" y="11628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7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9" name="（3统计与分析·蓝）组合 40"/>
          <p:cNvGrpSpPr/>
          <p:nvPr/>
        </p:nvGrpSpPr>
        <p:grpSpPr>
          <a:xfrm>
            <a:off x="3708360" y="115920"/>
            <a:ext cx="1728720" cy="673200"/>
            <a:chOff x="3708360" y="115920"/>
            <a:chExt cx="1728720" cy="673200"/>
          </a:xfrm>
        </p:grpSpPr>
        <p:grpSp>
          <p:nvGrpSpPr>
            <p:cNvPr id="820" name="（1绪论）组合 45"/>
            <p:cNvGrpSpPr/>
            <p:nvPr/>
          </p:nvGrpSpPr>
          <p:grpSpPr>
            <a:xfrm>
              <a:off x="3708360" y="115920"/>
              <a:ext cx="1728720" cy="673200"/>
              <a:chOff x="3708360" y="115920"/>
              <a:chExt cx="1728720" cy="673200"/>
            </a:xfrm>
          </p:grpSpPr>
          <p:sp>
            <p:nvSpPr>
              <p:cNvPr id="821" name="圆角矩形 48"/>
              <p:cNvSpPr/>
              <p:nvPr/>
            </p:nvSpPr>
            <p:spPr>
              <a:xfrm>
                <a:off x="377964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2" name="矩形 49"/>
              <p:cNvSpPr/>
              <p:nvPr/>
            </p:nvSpPr>
            <p:spPr>
              <a:xfrm>
                <a:off x="379872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3" name="矩形 50"/>
              <p:cNvSpPr/>
              <p:nvPr/>
            </p:nvSpPr>
            <p:spPr>
              <a:xfrm>
                <a:off x="370836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24" name="（1绪论）TextBox 72"/>
            <p:cNvSpPr/>
            <p:nvPr/>
          </p:nvSpPr>
          <p:spPr>
            <a:xfrm>
              <a:off x="3708360" y="116280"/>
              <a:ext cx="17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5" name="（左·遮盖）弧形 71"/>
          <p:cNvSpPr/>
          <p:nvPr/>
        </p:nvSpPr>
        <p:spPr>
          <a:xfrm>
            <a:off x="5435640" y="115920"/>
            <a:ext cx="181080" cy="18108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513" y="100113"/>
                </a:moveTo>
                <a:cubicBezTo>
                  <a:pt x="-2152" y="75199"/>
                  <a:pt x="5632" y="50295"/>
                  <a:pt x="22012" y="31333"/>
                </a:cubicBezTo>
                <a:cubicBezTo>
                  <a:pt x="38392" y="12372"/>
                  <a:pt x="61901" y="1051"/>
                  <a:pt x="86938" y="68"/>
                </a:cubicBezTo>
                <a:lnTo>
                  <a:pt x="90488" y="90488"/>
                </a:lnTo>
                <a:lnTo>
                  <a:pt x="513" y="100113"/>
                </a:lnTo>
                <a:close/>
              </a:path>
              <a:path fill="none" w="180975" h="180975">
                <a:moveTo>
                  <a:pt x="513" y="100113"/>
                </a:moveTo>
                <a:cubicBezTo>
                  <a:pt x="-2152" y="75199"/>
                  <a:pt x="5632" y="50295"/>
                  <a:pt x="22012" y="31333"/>
                </a:cubicBezTo>
                <a:cubicBezTo>
                  <a:pt x="38392" y="12372"/>
                  <a:pt x="61901" y="1051"/>
                  <a:pt x="86938" y="68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（左·遮盖）直接连接符 74"/>
          <p:cNvSpPr/>
          <p:nvPr/>
        </p:nvSpPr>
        <p:spPr>
          <a:xfrm flipH="1">
            <a:off x="5435640" y="216000"/>
            <a:ext cx="1440" cy="32868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（右·遮盖）弧形 78"/>
          <p:cNvSpPr/>
          <p:nvPr/>
        </p:nvSpPr>
        <p:spPr>
          <a:xfrm rot="5400000">
            <a:off x="6839280" y="116280"/>
            <a:ext cx="181080" cy="179640"/>
          </a:xfrm>
          <a:custGeom>
            <a:avLst/>
            <a:gdLst/>
            <a:ahLst/>
            <a:rect l="l" t="t" r="r" b="b"/>
            <a:pathLst>
              <a:path stroke="0" w="180975" h="179387">
                <a:moveTo>
                  <a:pt x="211" y="95818"/>
                </a:moveTo>
                <a:cubicBezTo>
                  <a:pt x="-1556" y="70235"/>
                  <a:pt x="7809" y="45126"/>
                  <a:pt x="25940" y="26834"/>
                </a:cubicBezTo>
                <a:cubicBezTo>
                  <a:pt x="43854" y="8760"/>
                  <a:pt x="68645" y="-961"/>
                  <a:pt x="94186" y="75"/>
                </a:cubicBezTo>
                <a:lnTo>
                  <a:pt x="90488" y="89694"/>
                </a:lnTo>
                <a:lnTo>
                  <a:pt x="211" y="95818"/>
                </a:lnTo>
                <a:close/>
              </a:path>
              <a:path fill="none" w="180975" h="179387">
                <a:moveTo>
                  <a:pt x="211" y="95818"/>
                </a:moveTo>
                <a:cubicBezTo>
                  <a:pt x="-1556" y="70235"/>
                  <a:pt x="7809" y="45126"/>
                  <a:pt x="25940" y="26834"/>
                </a:cubicBezTo>
                <a:cubicBezTo>
                  <a:pt x="43854" y="8760"/>
                  <a:pt x="68645" y="-961"/>
                  <a:pt x="94186" y="75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（右·遮盖）直接连接符 79"/>
          <p:cNvSpPr/>
          <p:nvPr/>
        </p:nvSpPr>
        <p:spPr>
          <a:xfrm>
            <a:off x="7020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（上·遮盖）直接连接符 84"/>
          <p:cNvSpPr/>
          <p:nvPr/>
        </p:nvSpPr>
        <p:spPr>
          <a:xfrm>
            <a:off x="5519880" y="115920"/>
            <a:ext cx="140652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（左·遮盖）弧形 71"/>
          <p:cNvSpPr/>
          <p:nvPr/>
        </p:nvSpPr>
        <p:spPr>
          <a:xfrm>
            <a:off x="3780000" y="115920"/>
            <a:ext cx="180720" cy="18108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513" y="100113"/>
                </a:moveTo>
                <a:cubicBezTo>
                  <a:pt x="-2152" y="75199"/>
                  <a:pt x="5632" y="50295"/>
                  <a:pt x="22012" y="31333"/>
                </a:cubicBezTo>
                <a:cubicBezTo>
                  <a:pt x="38392" y="12372"/>
                  <a:pt x="61901" y="1051"/>
                  <a:pt x="86938" y="68"/>
                </a:cubicBezTo>
                <a:lnTo>
                  <a:pt x="90488" y="90488"/>
                </a:lnTo>
                <a:lnTo>
                  <a:pt x="513" y="100113"/>
                </a:lnTo>
                <a:close/>
              </a:path>
              <a:path fill="none" w="180975" h="180975">
                <a:moveTo>
                  <a:pt x="513" y="100113"/>
                </a:moveTo>
                <a:cubicBezTo>
                  <a:pt x="-2152" y="75199"/>
                  <a:pt x="5632" y="50295"/>
                  <a:pt x="22012" y="31333"/>
                </a:cubicBezTo>
                <a:cubicBezTo>
                  <a:pt x="38392" y="12372"/>
                  <a:pt x="61901" y="1051"/>
                  <a:pt x="86938" y="68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（左·遮盖）直接连接符 74"/>
          <p:cNvSpPr/>
          <p:nvPr/>
        </p:nvSpPr>
        <p:spPr>
          <a:xfrm>
            <a:off x="377676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（右·遮盖）弧形 78"/>
          <p:cNvSpPr/>
          <p:nvPr/>
        </p:nvSpPr>
        <p:spPr>
          <a:xfrm rot="5400000">
            <a:off x="5183640" y="116640"/>
            <a:ext cx="181080" cy="179280"/>
          </a:xfrm>
          <a:custGeom>
            <a:avLst/>
            <a:gdLst/>
            <a:ahLst/>
            <a:rect l="l" t="t" r="r" b="b"/>
            <a:pathLst>
              <a:path stroke="0" w="180975" h="179388">
                <a:moveTo>
                  <a:pt x="211" y="95819"/>
                </a:moveTo>
                <a:cubicBezTo>
                  <a:pt x="-1556" y="70236"/>
                  <a:pt x="7809" y="45127"/>
                  <a:pt x="25940" y="26835"/>
                </a:cubicBezTo>
                <a:cubicBezTo>
                  <a:pt x="43854" y="8761"/>
                  <a:pt x="68645" y="-960"/>
                  <a:pt x="94186" y="76"/>
                </a:cubicBezTo>
                <a:lnTo>
                  <a:pt x="90488" y="89694"/>
                </a:lnTo>
                <a:lnTo>
                  <a:pt x="211" y="95819"/>
                </a:lnTo>
                <a:close/>
              </a:path>
              <a:path fill="none" w="180975" h="179388">
                <a:moveTo>
                  <a:pt x="211" y="95819"/>
                </a:moveTo>
                <a:cubicBezTo>
                  <a:pt x="-1556" y="70236"/>
                  <a:pt x="7809" y="45127"/>
                  <a:pt x="25940" y="26835"/>
                </a:cubicBezTo>
                <a:cubicBezTo>
                  <a:pt x="43854" y="8761"/>
                  <a:pt x="68645" y="-960"/>
                  <a:pt x="94186" y="76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（右·遮盖）直接连接符 79"/>
          <p:cNvSpPr/>
          <p:nvPr/>
        </p:nvSpPr>
        <p:spPr>
          <a:xfrm>
            <a:off x="5364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（上·遮盖）直接连接符 84"/>
          <p:cNvSpPr/>
          <p:nvPr/>
        </p:nvSpPr>
        <p:spPr>
          <a:xfrm>
            <a:off x="3863880" y="115920"/>
            <a:ext cx="140652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（小方框遮罩层）矩形 52"/>
          <p:cNvSpPr/>
          <p:nvPr/>
        </p:nvSpPr>
        <p:spPr>
          <a:xfrm>
            <a:off x="3801960" y="51120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9" dur="indefinite" restart="never" nodeType="tmRoot">
          <p:childTnLst>
            <p:seq>
              <p:cTn id="1670" dur="indefinite" nodeType="mainSeq">
                <p:childTnLst>
                  <p:par>
                    <p:cTn id="1671" nodeType="clickEffect" fill="hold">
                      <p:stCondLst>
                        <p:cond delay="0"/>
                      </p:stCondLst>
                      <p:childTnLst>
                        <p:par>
                          <p:cTn id="1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77" dur="1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1680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81" dur="5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16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85" dur="2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7" nodeType="afterEffect" fill="hold">
                            <p:stCondLst>
                              <p:cond delay="350"/>
                            </p:stCondLst>
                            <p:childTnLst>
                              <p:par>
                                <p:cTn id="1688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689" dur="5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692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693" dur="1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7" dur="2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2" dur="2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3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7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6" dur="1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0" dur="5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1" nodeType="afterEffect" fill="hold">
                            <p:stCondLst>
                              <p:cond delay="1050"/>
                            </p:stCondLst>
                            <p:childTnLst>
                              <p:par>
                                <p:cTn id="17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4" dur="2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7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8" dur="5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7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2" dur="2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2" dur="2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4" dur="2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7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8" dur="2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1" dur="2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7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5" dur="2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59" dur="4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0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7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3" dur="2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6" dur="2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9" dur="2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17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3" dur="2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6" dur="2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9" dur="2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nodeType="clickEffect" fill="hold">
                      <p:stCondLst>
                        <p:cond delay="indefinite"/>
                      </p:stCondLst>
                      <p:childTnLst>
                        <p:par>
                          <p:cTn id="1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83" dur="5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85" dur="500" fill="hold"/>
                                        <p:tgtEl>
                                          <p:spTgt spid="8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87" dur="500" fill="hold"/>
                                        <p:tgtEl>
                                          <p:spTgt spid="8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89" dur="500" fill="hold"/>
                                        <p:tgtEl>
                                          <p:spTgt spid="8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91" dur="500" fill="hold"/>
                                        <p:tgtEl>
                                          <p:spTgt spid="8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93" dur="500" fill="hold"/>
                                        <p:tgtEl>
                                          <p:spTgt spid="8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95" dur="500" fill="hold"/>
                                        <p:tgtEl>
                                          <p:spTgt spid="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97" dur="500" fill="hold"/>
                                        <p:tgtEl>
                                          <p:spTgt spid="8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99" dur="500" fill="hold"/>
                                        <p:tgtEl>
                                          <p:spTgt spid="8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801" dur="500" fill="hold"/>
                                        <p:tgtEl>
                                          <p:spTgt spid="8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7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838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9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0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841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842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3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4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5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6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847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848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9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0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1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2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853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854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5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6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7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8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859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860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1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2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3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4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865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866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7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8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9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0" name="TextBox 66"/>
          <p:cNvSpPr/>
          <p:nvPr/>
        </p:nvSpPr>
        <p:spPr>
          <a:xfrm>
            <a:off x="2050920" y="13413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馆藏 </a:t>
            </a: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定短、中、长期的馆藏发展计划；加强人文、科普、艺术类馆藏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TextBox 67"/>
          <p:cNvSpPr/>
          <p:nvPr/>
        </p:nvSpPr>
        <p:spPr>
          <a:xfrm>
            <a:off x="2050920" y="265752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环境 </a:t>
            </a: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灯光、空调等故障处理效率提高，电子阅览室设备更换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TextBox 68"/>
          <p:cNvSpPr/>
          <p:nvPr/>
        </p:nvSpPr>
        <p:spPr>
          <a:xfrm>
            <a:off x="2050920" y="397512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服务</a:t>
            </a: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立学科馆员，提升馆员整体素质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TextBox 69"/>
          <p:cNvSpPr/>
          <p:nvPr/>
        </p:nvSpPr>
        <p:spPr>
          <a:xfrm>
            <a:off x="2050920" y="4923000"/>
            <a:ext cx="60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推广活动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利用特殊事件，举办相关活动；善用社交网络；加强电子资源的宣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4" name="流程图: 摘录 70"/>
          <p:cNvGrpSpPr/>
          <p:nvPr/>
        </p:nvGrpSpPr>
        <p:grpSpPr>
          <a:xfrm>
            <a:off x="1328760" y="1700280"/>
            <a:ext cx="579240" cy="360360"/>
            <a:chOff x="1328760" y="1700280"/>
            <a:chExt cx="579240" cy="360360"/>
          </a:xfrm>
        </p:grpSpPr>
        <p:pic>
          <p:nvPicPr>
            <p:cNvPr id="875" name="流程图: 摘录 70" descr=""/>
            <p:cNvPicPr/>
            <p:nvPr/>
          </p:nvPicPr>
          <p:blipFill>
            <a:blip r:embed="rId3"/>
            <a:stretch/>
          </p:blipFill>
          <p:spPr>
            <a:xfrm>
              <a:off x="1328760" y="1700280"/>
              <a:ext cx="57924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 rot="10800000">
              <a:off x="1476360" y="1701360"/>
              <a:ext cx="28728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7" name="流程图: 摘录 74"/>
          <p:cNvGrpSpPr/>
          <p:nvPr/>
        </p:nvGrpSpPr>
        <p:grpSpPr>
          <a:xfrm>
            <a:off x="1328760" y="2925720"/>
            <a:ext cx="579240" cy="360360"/>
            <a:chOff x="1328760" y="2925720"/>
            <a:chExt cx="579240" cy="360360"/>
          </a:xfrm>
        </p:grpSpPr>
        <p:pic>
          <p:nvPicPr>
            <p:cNvPr id="878" name="流程图: 摘录 74" descr=""/>
            <p:cNvPicPr/>
            <p:nvPr/>
          </p:nvPicPr>
          <p:blipFill>
            <a:blip r:embed="rId4"/>
            <a:stretch/>
          </p:blipFill>
          <p:spPr>
            <a:xfrm>
              <a:off x="1328760" y="2925720"/>
              <a:ext cx="57924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9" name=""/>
            <p:cNvSpPr/>
            <p:nvPr/>
          </p:nvSpPr>
          <p:spPr>
            <a:xfrm rot="10800000">
              <a:off x="1476360" y="2925720"/>
              <a:ext cx="2872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0" name="流程图: 摘录 75"/>
          <p:cNvGrpSpPr/>
          <p:nvPr/>
        </p:nvGrpSpPr>
        <p:grpSpPr>
          <a:xfrm>
            <a:off x="1328760" y="4151160"/>
            <a:ext cx="579240" cy="360000"/>
            <a:chOff x="1328760" y="4151160"/>
            <a:chExt cx="579240" cy="360000"/>
          </a:xfrm>
        </p:grpSpPr>
        <p:pic>
          <p:nvPicPr>
            <p:cNvPr id="881" name="流程图: 摘录 75" descr=""/>
            <p:cNvPicPr/>
            <p:nvPr/>
          </p:nvPicPr>
          <p:blipFill>
            <a:blip r:embed="rId5"/>
            <a:stretch/>
          </p:blipFill>
          <p:spPr>
            <a:xfrm>
              <a:off x="1328760" y="4152240"/>
              <a:ext cx="579240" cy="3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476360" y="4151160"/>
              <a:ext cx="2872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3" name="流程图: 摘录 76"/>
          <p:cNvGrpSpPr/>
          <p:nvPr/>
        </p:nvGrpSpPr>
        <p:grpSpPr>
          <a:xfrm>
            <a:off x="1328760" y="5303880"/>
            <a:ext cx="579240" cy="358200"/>
            <a:chOff x="1328760" y="5303880"/>
            <a:chExt cx="579240" cy="358200"/>
          </a:xfrm>
        </p:grpSpPr>
        <p:pic>
          <p:nvPicPr>
            <p:cNvPr id="884" name="流程图: 摘录 76" descr=""/>
            <p:cNvPicPr/>
            <p:nvPr/>
          </p:nvPicPr>
          <p:blipFill>
            <a:blip r:embed="rId6"/>
            <a:stretch/>
          </p:blipFill>
          <p:spPr>
            <a:xfrm>
              <a:off x="1328760" y="5306760"/>
              <a:ext cx="579240" cy="35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 rot="10800000">
              <a:off x="1476360" y="5303880"/>
              <a:ext cx="2872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6" name="TextBox 73"/>
          <p:cNvSpPr/>
          <p:nvPr/>
        </p:nvSpPr>
        <p:spPr>
          <a:xfrm>
            <a:off x="-6086520" y="2781360"/>
            <a:ext cx="54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自身积极听取学生意见努力改善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TextBox 77"/>
          <p:cNvSpPr/>
          <p:nvPr/>
        </p:nvSpPr>
        <p:spPr>
          <a:xfrm>
            <a:off x="-6157800" y="397512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加强与校方及其他相关部门沟通、协作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TextBox 78"/>
          <p:cNvSpPr/>
          <p:nvPr/>
        </p:nvSpPr>
        <p:spPr>
          <a:xfrm>
            <a:off x="-6157800" y="5013360"/>
            <a:ext cx="56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希望同学们多关注图书馆、参与到图书馆的互动中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流程图: 摘录 80"/>
          <p:cNvSpPr/>
          <p:nvPr/>
        </p:nvSpPr>
        <p:spPr>
          <a:xfrm rot="10800000">
            <a:off x="-6876720" y="2852280"/>
            <a:ext cx="576360" cy="360360"/>
          </a:xfrm>
          <a:prstGeom prst="flowChartExtra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流程图: 摘录 81"/>
          <p:cNvSpPr/>
          <p:nvPr/>
        </p:nvSpPr>
        <p:spPr>
          <a:xfrm rot="10800000">
            <a:off x="-6876720" y="4076280"/>
            <a:ext cx="576360" cy="360360"/>
          </a:xfrm>
          <a:prstGeom prst="flowChartExtra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流程图: 摘录 82"/>
          <p:cNvSpPr/>
          <p:nvPr/>
        </p:nvSpPr>
        <p:spPr>
          <a:xfrm rot="10800000">
            <a:off x="-6876720" y="5195520"/>
            <a:ext cx="576360" cy="360360"/>
          </a:xfrm>
          <a:prstGeom prst="flowChartExtra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矩形 84"/>
          <p:cNvSpPr/>
          <p:nvPr/>
        </p:nvSpPr>
        <p:spPr>
          <a:xfrm>
            <a:off x="-6156360" y="1413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于本论文对交大图书馆的积极意义做了充分肯定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流程图: 摘录 85"/>
          <p:cNvSpPr/>
          <p:nvPr/>
        </p:nvSpPr>
        <p:spPr>
          <a:xfrm rot="10800000">
            <a:off x="-6876720" y="1628280"/>
            <a:ext cx="576360" cy="360360"/>
          </a:xfrm>
          <a:prstGeom prst="flowChartExtra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（小方框遮罩层）矩形 52"/>
          <p:cNvSpPr/>
          <p:nvPr/>
        </p:nvSpPr>
        <p:spPr>
          <a:xfrm>
            <a:off x="7112160" y="522360"/>
            <a:ext cx="154764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6" name="（4对比分析·蓝）组合 40"/>
          <p:cNvGrpSpPr/>
          <p:nvPr/>
        </p:nvGrpSpPr>
        <p:grpSpPr>
          <a:xfrm>
            <a:off x="7020000" y="115920"/>
            <a:ext cx="1728720" cy="673200"/>
            <a:chOff x="7020000" y="115920"/>
            <a:chExt cx="1728720" cy="673200"/>
          </a:xfrm>
        </p:grpSpPr>
        <p:grpSp>
          <p:nvGrpSpPr>
            <p:cNvPr id="897" name="（1绪论）组合 45"/>
            <p:cNvGrpSpPr/>
            <p:nvPr/>
          </p:nvGrpSpPr>
          <p:grpSpPr>
            <a:xfrm>
              <a:off x="7020000" y="115920"/>
              <a:ext cx="1728720" cy="673200"/>
              <a:chOff x="7020000" y="115920"/>
              <a:chExt cx="1728720" cy="673200"/>
            </a:xfrm>
          </p:grpSpPr>
          <p:sp>
            <p:nvSpPr>
              <p:cNvPr id="898" name="圆角矩形 40"/>
              <p:cNvSpPr/>
              <p:nvPr/>
            </p:nvSpPr>
            <p:spPr>
              <a:xfrm>
                <a:off x="7091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9" name="矩形 41"/>
              <p:cNvSpPr/>
              <p:nvPr/>
            </p:nvSpPr>
            <p:spPr>
              <a:xfrm>
                <a:off x="711036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0" name="矩形 42"/>
              <p:cNvSpPr/>
              <p:nvPr/>
            </p:nvSpPr>
            <p:spPr>
              <a:xfrm>
                <a:off x="702000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01" name="（1绪论）TextBox 72"/>
            <p:cNvSpPr/>
            <p:nvPr/>
          </p:nvSpPr>
          <p:spPr>
            <a:xfrm>
              <a:off x="7020360" y="116280"/>
              <a:ext cx="17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2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4" name="（3统计与分析·蓝）组合 40"/>
          <p:cNvGrpSpPr/>
          <p:nvPr/>
        </p:nvGrpSpPr>
        <p:grpSpPr>
          <a:xfrm>
            <a:off x="5364000" y="115920"/>
            <a:ext cx="1729080" cy="673200"/>
            <a:chOff x="5364000" y="115920"/>
            <a:chExt cx="1729080" cy="673200"/>
          </a:xfrm>
        </p:grpSpPr>
        <p:grpSp>
          <p:nvGrpSpPr>
            <p:cNvPr id="905" name="（1绪论）组合 45"/>
            <p:cNvGrpSpPr/>
            <p:nvPr/>
          </p:nvGrpSpPr>
          <p:grpSpPr>
            <a:xfrm>
              <a:off x="5364000" y="115920"/>
              <a:ext cx="1729080" cy="673200"/>
              <a:chOff x="5364000" y="115920"/>
              <a:chExt cx="1729080" cy="673200"/>
            </a:xfrm>
          </p:grpSpPr>
          <p:sp>
            <p:nvSpPr>
              <p:cNvPr id="906" name="圆角矩形 48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7" name="矩形 49"/>
              <p:cNvSpPr/>
              <p:nvPr/>
            </p:nvSpPr>
            <p:spPr>
              <a:xfrm>
                <a:off x="5454360" y="331920"/>
                <a:ext cx="154836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8" name="矩形 50"/>
              <p:cNvSpPr/>
              <p:nvPr/>
            </p:nvSpPr>
            <p:spPr>
              <a:xfrm>
                <a:off x="5364000" y="573120"/>
                <a:ext cx="172908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09" name="（1绪论）TextBox 72"/>
            <p:cNvSpPr/>
            <p:nvPr/>
          </p:nvSpPr>
          <p:spPr>
            <a:xfrm>
              <a:off x="5364000" y="11628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0" name="（左·遮盖）弧形 71"/>
          <p:cNvSpPr/>
          <p:nvPr/>
        </p:nvSpPr>
        <p:spPr>
          <a:xfrm>
            <a:off x="7091280" y="115920"/>
            <a:ext cx="181080" cy="18108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513" y="100113"/>
                </a:moveTo>
                <a:cubicBezTo>
                  <a:pt x="-2152" y="75199"/>
                  <a:pt x="5632" y="50295"/>
                  <a:pt x="22012" y="31333"/>
                </a:cubicBezTo>
                <a:cubicBezTo>
                  <a:pt x="38392" y="12372"/>
                  <a:pt x="61901" y="1051"/>
                  <a:pt x="86938" y="68"/>
                </a:cubicBezTo>
                <a:lnTo>
                  <a:pt x="90488" y="90488"/>
                </a:lnTo>
                <a:lnTo>
                  <a:pt x="513" y="100113"/>
                </a:lnTo>
                <a:close/>
              </a:path>
              <a:path fill="none" w="180975" h="180975">
                <a:moveTo>
                  <a:pt x="513" y="100113"/>
                </a:moveTo>
                <a:cubicBezTo>
                  <a:pt x="-2152" y="75199"/>
                  <a:pt x="5632" y="50295"/>
                  <a:pt x="22012" y="31333"/>
                </a:cubicBezTo>
                <a:cubicBezTo>
                  <a:pt x="38392" y="12372"/>
                  <a:pt x="61901" y="1051"/>
                  <a:pt x="86938" y="68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（左·遮盖）直接连接符 74"/>
          <p:cNvSpPr/>
          <p:nvPr/>
        </p:nvSpPr>
        <p:spPr>
          <a:xfrm flipH="1">
            <a:off x="7090920" y="216000"/>
            <a:ext cx="1800" cy="32868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（右·遮盖）弧形 78"/>
          <p:cNvSpPr/>
          <p:nvPr/>
        </p:nvSpPr>
        <p:spPr>
          <a:xfrm rot="5400000">
            <a:off x="8495280" y="116640"/>
            <a:ext cx="181080" cy="179280"/>
          </a:xfrm>
          <a:custGeom>
            <a:avLst/>
            <a:gdLst/>
            <a:ahLst/>
            <a:rect l="l" t="t" r="r" b="b"/>
            <a:pathLst>
              <a:path stroke="0" w="180975" h="179388">
                <a:moveTo>
                  <a:pt x="211" y="95819"/>
                </a:moveTo>
                <a:cubicBezTo>
                  <a:pt x="-1556" y="70236"/>
                  <a:pt x="7809" y="45127"/>
                  <a:pt x="25940" y="26835"/>
                </a:cubicBezTo>
                <a:cubicBezTo>
                  <a:pt x="43854" y="8761"/>
                  <a:pt x="68645" y="-960"/>
                  <a:pt x="94186" y="76"/>
                </a:cubicBezTo>
                <a:lnTo>
                  <a:pt x="90488" y="89694"/>
                </a:lnTo>
                <a:lnTo>
                  <a:pt x="211" y="95819"/>
                </a:lnTo>
                <a:close/>
              </a:path>
              <a:path fill="none" w="180975" h="179388">
                <a:moveTo>
                  <a:pt x="211" y="95819"/>
                </a:moveTo>
                <a:cubicBezTo>
                  <a:pt x="-1556" y="70236"/>
                  <a:pt x="7809" y="45127"/>
                  <a:pt x="25940" y="26835"/>
                </a:cubicBezTo>
                <a:cubicBezTo>
                  <a:pt x="43854" y="8761"/>
                  <a:pt x="68645" y="-960"/>
                  <a:pt x="94186" y="76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（右·遮盖）直接连接符 79"/>
          <p:cNvSpPr/>
          <p:nvPr/>
        </p:nvSpPr>
        <p:spPr>
          <a:xfrm>
            <a:off x="867564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（上·遮盖）直接连接符 84"/>
          <p:cNvSpPr/>
          <p:nvPr/>
        </p:nvSpPr>
        <p:spPr>
          <a:xfrm>
            <a:off x="7175520" y="115920"/>
            <a:ext cx="140652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（左·遮盖）弧形 71"/>
          <p:cNvSpPr/>
          <p:nvPr/>
        </p:nvSpPr>
        <p:spPr>
          <a:xfrm>
            <a:off x="5435640" y="115920"/>
            <a:ext cx="181080" cy="18108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513" y="100113"/>
                </a:moveTo>
                <a:cubicBezTo>
                  <a:pt x="-2152" y="75199"/>
                  <a:pt x="5632" y="50295"/>
                  <a:pt x="22012" y="31333"/>
                </a:cubicBezTo>
                <a:cubicBezTo>
                  <a:pt x="38392" y="12372"/>
                  <a:pt x="61901" y="1051"/>
                  <a:pt x="86938" y="68"/>
                </a:cubicBezTo>
                <a:lnTo>
                  <a:pt x="90488" y="90488"/>
                </a:lnTo>
                <a:lnTo>
                  <a:pt x="513" y="100113"/>
                </a:lnTo>
                <a:close/>
              </a:path>
              <a:path fill="none" w="180975" h="180975">
                <a:moveTo>
                  <a:pt x="513" y="100113"/>
                </a:moveTo>
                <a:cubicBezTo>
                  <a:pt x="-2152" y="75199"/>
                  <a:pt x="5632" y="50295"/>
                  <a:pt x="22012" y="31333"/>
                </a:cubicBezTo>
                <a:cubicBezTo>
                  <a:pt x="38392" y="12372"/>
                  <a:pt x="61901" y="1051"/>
                  <a:pt x="86938" y="68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（左·遮盖）直接连接符 74"/>
          <p:cNvSpPr/>
          <p:nvPr/>
        </p:nvSpPr>
        <p:spPr>
          <a:xfrm>
            <a:off x="54324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（右·遮盖）弧形 78"/>
          <p:cNvSpPr/>
          <p:nvPr/>
        </p:nvSpPr>
        <p:spPr>
          <a:xfrm rot="5400000">
            <a:off x="6839280" y="116280"/>
            <a:ext cx="181080" cy="179640"/>
          </a:xfrm>
          <a:custGeom>
            <a:avLst/>
            <a:gdLst/>
            <a:ahLst/>
            <a:rect l="l" t="t" r="r" b="b"/>
            <a:pathLst>
              <a:path stroke="0" w="180975" h="179387">
                <a:moveTo>
                  <a:pt x="211" y="95818"/>
                </a:moveTo>
                <a:cubicBezTo>
                  <a:pt x="-1556" y="70235"/>
                  <a:pt x="7809" y="45126"/>
                  <a:pt x="25940" y="26834"/>
                </a:cubicBezTo>
                <a:cubicBezTo>
                  <a:pt x="43854" y="8760"/>
                  <a:pt x="68645" y="-961"/>
                  <a:pt x="94186" y="75"/>
                </a:cubicBezTo>
                <a:lnTo>
                  <a:pt x="90488" y="89694"/>
                </a:lnTo>
                <a:lnTo>
                  <a:pt x="211" y="95818"/>
                </a:lnTo>
                <a:close/>
              </a:path>
              <a:path fill="none" w="180975" h="179387">
                <a:moveTo>
                  <a:pt x="211" y="95818"/>
                </a:moveTo>
                <a:cubicBezTo>
                  <a:pt x="-1556" y="70235"/>
                  <a:pt x="7809" y="45126"/>
                  <a:pt x="25940" y="26834"/>
                </a:cubicBezTo>
                <a:cubicBezTo>
                  <a:pt x="43854" y="8760"/>
                  <a:pt x="68645" y="-961"/>
                  <a:pt x="94186" y="75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（右·遮盖）直接连接符 79"/>
          <p:cNvSpPr/>
          <p:nvPr/>
        </p:nvSpPr>
        <p:spPr>
          <a:xfrm>
            <a:off x="7020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（上·遮盖）直接连接符 84"/>
          <p:cNvSpPr/>
          <p:nvPr/>
        </p:nvSpPr>
        <p:spPr>
          <a:xfrm>
            <a:off x="5519880" y="115920"/>
            <a:ext cx="140652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（小方框遮罩层）矩形 52"/>
          <p:cNvSpPr/>
          <p:nvPr/>
        </p:nvSpPr>
        <p:spPr>
          <a:xfrm>
            <a:off x="5457960" y="511200"/>
            <a:ext cx="154764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1" name="组合 92"/>
          <p:cNvGrpSpPr/>
          <p:nvPr/>
        </p:nvGrpSpPr>
        <p:grpSpPr>
          <a:xfrm>
            <a:off x="-101520" y="122760"/>
            <a:ext cx="2305440" cy="2304720"/>
            <a:chOff x="-101520" y="122760"/>
            <a:chExt cx="2305440" cy="2304720"/>
          </a:xfrm>
        </p:grpSpPr>
        <p:sp>
          <p:nvSpPr>
            <p:cNvPr id="922" name="矩形 88"/>
            <p:cNvSpPr/>
            <p:nvPr/>
          </p:nvSpPr>
          <p:spPr>
            <a:xfrm rot="18900000">
              <a:off x="331200" y="970200"/>
              <a:ext cx="1440000" cy="610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书馆反馈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直角三角形 89"/>
            <p:cNvSpPr/>
            <p:nvPr/>
          </p:nvSpPr>
          <p:spPr>
            <a:xfrm rot="18900000">
              <a:off x="1464840" y="249480"/>
              <a:ext cx="612720" cy="6109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4" name="直角三角形 90"/>
            <p:cNvSpPr/>
            <p:nvPr/>
          </p:nvSpPr>
          <p:spPr>
            <a:xfrm rot="13500000">
              <a:off x="25560" y="1688400"/>
              <a:ext cx="61092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5" name="组合 96"/>
          <p:cNvGrpSpPr/>
          <p:nvPr/>
        </p:nvGrpSpPr>
        <p:grpSpPr>
          <a:xfrm>
            <a:off x="-101880" y="121680"/>
            <a:ext cx="2306520" cy="2305800"/>
            <a:chOff x="-101880" y="121680"/>
            <a:chExt cx="2306520" cy="2305800"/>
          </a:xfrm>
        </p:grpSpPr>
        <p:sp>
          <p:nvSpPr>
            <p:cNvPr id="926" name="矩形 97"/>
            <p:cNvSpPr/>
            <p:nvPr/>
          </p:nvSpPr>
          <p:spPr>
            <a:xfrm rot="18900000">
              <a:off x="331200" y="96876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改善建议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直角三角形 98"/>
            <p:cNvSpPr/>
            <p:nvPr/>
          </p:nvSpPr>
          <p:spPr>
            <a:xfrm rot="18900000">
              <a:off x="1465200" y="24840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8" name="直角三角形 99"/>
            <p:cNvSpPr/>
            <p:nvPr/>
          </p:nvSpPr>
          <p:spPr>
            <a:xfrm rot="13500000">
              <a:off x="24840" y="168768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9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2" dur="indefinite" restart="never" nodeType="tmRoot">
          <p:childTnLst>
            <p:seq>
              <p:cTn id="1803" dur="indefinite" nodeType="mainSeq">
                <p:childTnLst>
                  <p:par>
                    <p:cTn id="1804" nodeType="clickEffect" fill="hold">
                      <p:stCondLst>
                        <p:cond delay="0"/>
                      </p:stCondLst>
                      <p:childTnLst>
                        <p:par>
                          <p:cTn id="1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10" dur="1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1813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14" dur="5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6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181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818" dur="2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nodeType="afterEffect" fill="hold">
                            <p:stCondLst>
                              <p:cond delay="350"/>
                            </p:stCondLst>
                            <p:childTnLst>
                              <p:par>
                                <p:cTn id="1821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822" dur="5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4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825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826" dur="1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0" dur="2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2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8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5" dur="2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8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9" dur="1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3" dur="5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nodeType="afterEffect" fill="hold">
                            <p:stCondLst>
                              <p:cond delay="1050"/>
                            </p:stCondLst>
                            <p:childTnLst>
                              <p:par>
                                <p:cTn id="18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7" dur="2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8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1" dur="5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2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8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5" dur="2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5" dur="2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7" dur="2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8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2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883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6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8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9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8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2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5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6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8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9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2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3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19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6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9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nodeType="clickEffect" fill="hold">
                      <p:stCondLst>
                        <p:cond delay="indefinite"/>
                      </p:stCondLst>
                      <p:childTnLst>
                        <p:par>
                          <p:cTn id="1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13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8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21" dur="500" fill="hold"/>
                                        <p:tgtEl>
                                          <p:spTgt spid="8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23" dur="500" fill="hold"/>
                                        <p:tgtEl>
                                          <p:spTgt spid="8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25" dur="500" fill="hold"/>
                                        <p:tgtEl>
                                          <p:spTgt spid="8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27" dur="500" fill="hold"/>
                                        <p:tgtEl>
                                          <p:spTgt spid="8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29" dur="5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31" dur="500" fill="hold"/>
                                        <p:tgtEl>
                                          <p:spTgt spid="8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33" dur="500" fill="hold"/>
                                        <p:tgtEl>
                                          <p:spTgt spid="8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35" dur="500" fill="hold"/>
                                        <p:tgtEl>
                                          <p:spTgt spid="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37" dur="500" fill="hold"/>
                                        <p:tgtEl>
                                          <p:spTgt spid="8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39" dur="500" fill="hold"/>
                                        <p:tgtEl>
                                          <p:spTgt spid="8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41" dur="500" fill="hold"/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43" dur="500" fill="hold"/>
                                        <p:tgtEl>
                                          <p:spTgt spid="8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45" dur="500" fill="hold"/>
                                        <p:tgtEl>
                                          <p:spTgt spid="8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47" dur="500" fill="hold"/>
                                        <p:tgtEl>
                                          <p:spTgt spid="8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49" dur="500" fill="hold"/>
                                        <p:tgtEl>
                                          <p:spTgt spid="8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51" dur="500" fill="hold"/>
                                        <p:tgtEl>
                                          <p:spTgt spid="8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Freeform 8"/>
          <p:cNvSpPr/>
          <p:nvPr/>
        </p:nvSpPr>
        <p:spPr>
          <a:xfrm>
            <a:off x="2987640" y="3139920"/>
            <a:ext cx="3168720" cy="360360"/>
          </a:xfrm>
          <a:custGeom>
            <a:avLst/>
            <a:gdLst>
              <a:gd name="textAreaLeft" fmla="*/ 0 w 3168720"/>
              <a:gd name="textAreaRight" fmla="*/ 3169080 w 31687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996" h="272">
                <a:moveTo>
                  <a:pt x="0" y="0"/>
                </a:moveTo>
                <a:lnTo>
                  <a:pt x="998" y="0"/>
                </a:lnTo>
                <a:lnTo>
                  <a:pt x="1134" y="91"/>
                </a:lnTo>
                <a:lnTo>
                  <a:pt x="1996" y="91"/>
                </a:lnTo>
                <a:lnTo>
                  <a:pt x="1996" y="272"/>
                </a:lnTo>
                <a:lnTo>
                  <a:pt x="0" y="272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Freeform 11"/>
          <p:cNvSpPr/>
          <p:nvPr/>
        </p:nvSpPr>
        <p:spPr>
          <a:xfrm>
            <a:off x="2987640" y="3116160"/>
            <a:ext cx="3168720" cy="360360"/>
          </a:xfrm>
          <a:custGeom>
            <a:avLst/>
            <a:gdLst>
              <a:gd name="textAreaLeft" fmla="*/ 0 w 3168720"/>
              <a:gd name="textAreaRight" fmla="*/ 3169080 w 31687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996" h="272">
                <a:moveTo>
                  <a:pt x="0" y="0"/>
                </a:moveTo>
                <a:lnTo>
                  <a:pt x="998" y="0"/>
                </a:lnTo>
                <a:lnTo>
                  <a:pt x="1134" y="91"/>
                </a:lnTo>
                <a:lnTo>
                  <a:pt x="1996" y="91"/>
                </a:lnTo>
                <a:lnTo>
                  <a:pt x="1996" y="272"/>
                </a:lnTo>
                <a:lnTo>
                  <a:pt x="0" y="272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Rectangle 23"/>
          <p:cNvSpPr/>
          <p:nvPr/>
        </p:nvSpPr>
        <p:spPr>
          <a:xfrm>
            <a:off x="4572000" y="0"/>
            <a:ext cx="4608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Rectangle 24"/>
          <p:cNvSpPr/>
          <p:nvPr/>
        </p:nvSpPr>
        <p:spPr>
          <a:xfrm>
            <a:off x="4535640" y="0"/>
            <a:ext cx="4572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Line 25"/>
          <p:cNvSpPr/>
          <p:nvPr/>
        </p:nvSpPr>
        <p:spPr>
          <a:xfrm>
            <a:off x="0" y="3139920"/>
            <a:ext cx="9144000" cy="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Line 26"/>
          <p:cNvSpPr/>
          <p:nvPr/>
        </p:nvSpPr>
        <p:spPr>
          <a:xfrm>
            <a:off x="0" y="3500280"/>
            <a:ext cx="9144000" cy="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6" name="Group 27" descr=""/>
          <p:cNvPicPr/>
          <p:nvPr/>
        </p:nvPicPr>
        <p:blipFill>
          <a:blip r:embed="rId1"/>
          <a:stretch/>
        </p:blipFill>
        <p:spPr>
          <a:xfrm>
            <a:off x="3200400" y="3255840"/>
            <a:ext cx="2865600" cy="200160"/>
          </a:xfrm>
          <a:prstGeom prst="rect">
            <a:avLst/>
          </a:prstGeom>
          <a:ln w="0">
            <a:noFill/>
          </a:ln>
        </p:spPr>
      </p:pic>
      <p:sp>
        <p:nvSpPr>
          <p:cNvPr id="937" name="AutoShape 30"/>
          <p:cNvSpPr/>
          <p:nvPr/>
        </p:nvSpPr>
        <p:spPr>
          <a:xfrm>
            <a:off x="2900520" y="3213000"/>
            <a:ext cx="552240" cy="459000"/>
          </a:xfrm>
          <a:custGeom>
            <a:avLst/>
            <a:gdLst>
              <a:gd name="textAreaLeft" fmla="*/ 190080 w 552240"/>
              <a:gd name="textAreaRight" fmla="*/ 362160 w 552240"/>
              <a:gd name="textAreaTop" fmla="*/ 158040 h 459000"/>
              <a:gd name="textAreaBottom" fmla="*/ 300960 h 459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125" y="11709"/>
                </a:lnTo>
                <a:lnTo>
                  <a:pt x="786" y="14846"/>
                </a:lnTo>
                <a:lnTo>
                  <a:pt x="6806" y="13394"/>
                </a:lnTo>
                <a:lnTo>
                  <a:pt x="3163" y="18437"/>
                </a:lnTo>
                <a:lnTo>
                  <a:pt x="8137" y="14748"/>
                </a:lnTo>
                <a:lnTo>
                  <a:pt x="6580" y="20741"/>
                </a:lnTo>
                <a:lnTo>
                  <a:pt x="9810" y="15458"/>
                </a:lnTo>
                <a:lnTo>
                  <a:pt x="10800" y="21600"/>
                </a:lnTo>
                <a:lnTo>
                  <a:pt x="11709" y="15475"/>
                </a:lnTo>
                <a:lnTo>
                  <a:pt x="14846" y="20814"/>
                </a:lnTo>
                <a:lnTo>
                  <a:pt x="13394" y="14794"/>
                </a:lnTo>
                <a:lnTo>
                  <a:pt x="18437" y="18437"/>
                </a:lnTo>
                <a:lnTo>
                  <a:pt x="14748" y="13463"/>
                </a:lnTo>
                <a:lnTo>
                  <a:pt x="20741" y="15020"/>
                </a:lnTo>
                <a:lnTo>
                  <a:pt x="15458" y="11790"/>
                </a:lnTo>
                <a:lnTo>
                  <a:pt x="21600" y="10800"/>
                </a:lnTo>
                <a:lnTo>
                  <a:pt x="15475" y="9891"/>
                </a:lnTo>
                <a:lnTo>
                  <a:pt x="20814" y="6754"/>
                </a:lnTo>
                <a:lnTo>
                  <a:pt x="14794" y="8206"/>
                </a:lnTo>
                <a:lnTo>
                  <a:pt x="18437" y="3163"/>
                </a:lnTo>
                <a:lnTo>
                  <a:pt x="13463" y="6852"/>
                </a:lnTo>
                <a:lnTo>
                  <a:pt x="15020" y="859"/>
                </a:lnTo>
                <a:lnTo>
                  <a:pt x="11790" y="6142"/>
                </a:lnTo>
                <a:lnTo>
                  <a:pt x="10800" y="0"/>
                </a:lnTo>
                <a:lnTo>
                  <a:pt x="9891" y="6125"/>
                </a:lnTo>
                <a:lnTo>
                  <a:pt x="6754" y="786"/>
                </a:lnTo>
                <a:lnTo>
                  <a:pt x="8206" y="6806"/>
                </a:lnTo>
                <a:lnTo>
                  <a:pt x="3163" y="3163"/>
                </a:lnTo>
                <a:lnTo>
                  <a:pt x="6852" y="8137"/>
                </a:lnTo>
                <a:lnTo>
                  <a:pt x="859" y="6580"/>
                </a:lnTo>
                <a:lnTo>
                  <a:pt x="6142" y="9810"/>
                </a:lnTo>
                <a:lnTo>
                  <a:pt x="0" y="10800"/>
                </a:lnTo>
                <a:close/>
              </a:path>
            </a:pathLst>
          </a:cu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AutoShape 31"/>
          <p:cNvSpPr/>
          <p:nvPr/>
        </p:nvSpPr>
        <p:spPr>
          <a:xfrm>
            <a:off x="2776680" y="3125880"/>
            <a:ext cx="792000" cy="636480"/>
          </a:xfrm>
          <a:custGeom>
            <a:avLst/>
            <a:gdLst>
              <a:gd name="textAreaLeft" fmla="*/ 365760 w 792000"/>
              <a:gd name="textAreaRight" fmla="*/ 426240 w 792000"/>
              <a:gd name="textAreaTop" fmla="*/ 294120 h 636480"/>
              <a:gd name="textAreaBottom" fmla="*/ 342360 h 636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77" y="9977"/>
                </a:lnTo>
                <a:lnTo>
                  <a:pt x="10800" y="0"/>
                </a:lnTo>
                <a:lnTo>
                  <a:pt x="11623" y="9977"/>
                </a:lnTo>
                <a:lnTo>
                  <a:pt x="21600" y="10800"/>
                </a:lnTo>
                <a:lnTo>
                  <a:pt x="11623" y="11623"/>
                </a:lnTo>
                <a:lnTo>
                  <a:pt x="10800" y="21600"/>
                </a:lnTo>
                <a:lnTo>
                  <a:pt x="9977" y="11623"/>
                </a:lnTo>
                <a:lnTo>
                  <a:pt x="0" y="10800"/>
                </a:lnTo>
                <a:close/>
              </a:path>
            </a:pathLst>
          </a:cu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AutoShape 32"/>
          <p:cNvSpPr/>
          <p:nvPr/>
        </p:nvSpPr>
        <p:spPr>
          <a:xfrm rot="18909000">
            <a:off x="2682720" y="3060360"/>
            <a:ext cx="981360" cy="787320"/>
          </a:xfrm>
          <a:custGeom>
            <a:avLst/>
            <a:gdLst>
              <a:gd name="textAreaLeft" fmla="*/ 453240 w 981360"/>
              <a:gd name="textAreaRight" fmla="*/ 528120 w 981360"/>
              <a:gd name="textAreaTop" fmla="*/ 363600 h 787320"/>
              <a:gd name="textAreaBottom" fmla="*/ 423720 h 78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77" y="9977"/>
                </a:lnTo>
                <a:lnTo>
                  <a:pt x="10800" y="0"/>
                </a:lnTo>
                <a:lnTo>
                  <a:pt x="11623" y="9977"/>
                </a:lnTo>
                <a:lnTo>
                  <a:pt x="21600" y="10800"/>
                </a:lnTo>
                <a:lnTo>
                  <a:pt x="11623" y="11623"/>
                </a:lnTo>
                <a:lnTo>
                  <a:pt x="10800" y="21600"/>
                </a:lnTo>
                <a:lnTo>
                  <a:pt x="9977" y="11623"/>
                </a:lnTo>
                <a:lnTo>
                  <a:pt x="0" y="10800"/>
                </a:lnTo>
                <a:close/>
              </a:path>
            </a:pathLst>
          </a:cu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Line 33"/>
          <p:cNvSpPr/>
          <p:nvPr/>
        </p:nvSpPr>
        <p:spPr>
          <a:xfrm flipV="1">
            <a:off x="2987640" y="0"/>
            <a:ext cx="0" cy="68580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Line 34"/>
          <p:cNvSpPr/>
          <p:nvPr/>
        </p:nvSpPr>
        <p:spPr>
          <a:xfrm flipV="1">
            <a:off x="6156360" y="0"/>
            <a:ext cx="0" cy="68580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AutoShape 35"/>
          <p:cNvSpPr/>
          <p:nvPr/>
        </p:nvSpPr>
        <p:spPr>
          <a:xfrm flipH="1">
            <a:off x="5689440" y="3168720"/>
            <a:ext cx="758880" cy="609480"/>
          </a:xfrm>
          <a:custGeom>
            <a:avLst/>
            <a:gdLst>
              <a:gd name="textAreaLeft" fmla="*/ 349920 w 758880"/>
              <a:gd name="textAreaRight" fmla="*/ 408960 w 758880"/>
              <a:gd name="textAreaTop" fmla="*/ 281160 h 609480"/>
              <a:gd name="textAreaBottom" fmla="*/ 3283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61" y="9961"/>
                </a:lnTo>
                <a:lnTo>
                  <a:pt x="10800" y="0"/>
                </a:lnTo>
                <a:lnTo>
                  <a:pt x="11639" y="9961"/>
                </a:lnTo>
                <a:lnTo>
                  <a:pt x="21600" y="10800"/>
                </a:lnTo>
                <a:lnTo>
                  <a:pt x="11639" y="11639"/>
                </a:lnTo>
                <a:lnTo>
                  <a:pt x="10800" y="21600"/>
                </a:lnTo>
                <a:lnTo>
                  <a:pt x="9961" y="11639"/>
                </a:lnTo>
                <a:lnTo>
                  <a:pt x="0" y="10800"/>
                </a:lnTo>
                <a:close/>
              </a:path>
            </a:pathLst>
          </a:cu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AutoShape 36"/>
          <p:cNvSpPr/>
          <p:nvPr/>
        </p:nvSpPr>
        <p:spPr>
          <a:xfrm flipV="1" rot="18909600">
            <a:off x="5757480" y="3211560"/>
            <a:ext cx="625320" cy="503280"/>
          </a:xfrm>
          <a:custGeom>
            <a:avLst/>
            <a:gdLst>
              <a:gd name="textAreaLeft" fmla="*/ 288360 w 625320"/>
              <a:gd name="textAreaRight" fmla="*/ 336960 w 625320"/>
              <a:gd name="textAreaTop" fmla="*/ 232200 h 503280"/>
              <a:gd name="textAreaBottom" fmla="*/ 2710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67" y="9967"/>
                </a:lnTo>
                <a:lnTo>
                  <a:pt x="10800" y="0"/>
                </a:lnTo>
                <a:lnTo>
                  <a:pt x="11633" y="9967"/>
                </a:lnTo>
                <a:lnTo>
                  <a:pt x="21600" y="10800"/>
                </a:lnTo>
                <a:lnTo>
                  <a:pt x="11633" y="11633"/>
                </a:lnTo>
                <a:lnTo>
                  <a:pt x="10800" y="21600"/>
                </a:lnTo>
                <a:lnTo>
                  <a:pt x="9967" y="11633"/>
                </a:lnTo>
                <a:lnTo>
                  <a:pt x="0" y="10800"/>
                </a:lnTo>
                <a:close/>
              </a:path>
            </a:pathLst>
          </a:cu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2" dur="indefinite" restart="never" nodeType="tmRoot">
          <p:childTnLst>
            <p:seq>
              <p:cTn id="1953" dur="indefinite" nodeType="mainSeq">
                <p:childTnLst>
                  <p:par>
                    <p:cTn id="1954" nodeType="clickEffect" fill="hold">
                      <p:stCondLst>
                        <p:cond delay="0"/>
                      </p:stCondLst>
                      <p:childTnLst>
                        <p:par>
                          <p:cTn id="1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afterEffect" fill="hold" presetClass="entr" presetID="16" presetSubtype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5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9" nodeType="withEffect" fill="hold" presetClass="entr" presetID="16" presetSubtype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61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2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963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4" dur="100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5" dur="100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8" dur="10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9" dur="10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3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4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9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7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6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7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988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9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1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992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95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99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0" nodeType="withEffect" fill="hold" presetClass="entr" presetID="16" presetSubtype="2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0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5" dur="6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6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0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1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3" dur="1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1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5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8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0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1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2" dur="2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4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5" dur="2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7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.3151 0 E">
                                      <p:cBhvr>
                                        <p:cTn id="2028" dur="3000" fill="hold"/>
                                        <p:tgtEl>
                                          <p:spTgt spid="9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9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.3151 0 E">
                                      <p:cBhvr>
                                        <p:cTn id="2030" dur="3000" fill="hold"/>
                                        <p:tgtEl>
                                          <p:spTgt spid="9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1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.3151 0 E">
                                      <p:cBhvr>
                                        <p:cTn id="2032" dur="3000" fill="hold"/>
                                        <p:tgtEl>
                                          <p:spTgt spid="9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21600000">
                                      <p:cBhvr>
                                        <p:cTn id="2034" dur="5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036" dur="5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21600000">
                                      <p:cBhvr>
                                        <p:cTn id="2038" dur="5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9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0" dur="2000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2000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2" dur="2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4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5" dur="20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20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7" dur="2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9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0" dur="200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200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2" dur="2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4" nodeType="withEffect" fill="hold" presetClass="entr" presetID="53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6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9" nodeType="withEffect" fill="hold" presetClass="entr" presetID="53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1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4" nodeType="withEffect" fill="hold" presetClass="emph" presetID="8">
                                  <p:stCondLst>
                                    <p:cond delay="3700"/>
                                  </p:stCondLst>
                                  <p:childTnLst>
                                    <p:animRot by="10800000">
                                      <p:cBhvr>
                                        <p:cTn id="2065" dur="2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66" nodeType="withEffect" fill="hold" presetClass="emph" presetID="8">
                                  <p:stCondLst>
                                    <p:cond delay="3700"/>
                                  </p:stCondLst>
                                  <p:childTnLst>
                                    <p:animRot by="-10800000">
                                      <p:cBhvr>
                                        <p:cTn id="2067" dur="2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68" nodeType="withEffect" fill="hold" presetClass="exit" presetID="53">
                                  <p:stCondLst>
                                    <p:cond delay="4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9" dur="300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300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1" dur="3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3" nodeType="withEffect" fill="hold" presetClass="exit" presetID="53">
                                  <p:stCondLst>
                                    <p:cond delay="4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4" dur="3000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5" dur="3000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6" dur="3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（左下左）圆角矩形 16"/>
          <p:cNvSpPr/>
          <p:nvPr/>
        </p:nvSpPr>
        <p:spPr>
          <a:xfrm>
            <a:off x="755640" y="4437000"/>
            <a:ext cx="180036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（左下右）圆角矩形 18"/>
          <p:cNvSpPr/>
          <p:nvPr/>
        </p:nvSpPr>
        <p:spPr>
          <a:xfrm>
            <a:off x="1619280" y="5373720"/>
            <a:ext cx="1800360" cy="1150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（右上左）圆角矩形 19"/>
          <p:cNvSpPr/>
          <p:nvPr/>
        </p:nvSpPr>
        <p:spPr>
          <a:xfrm>
            <a:off x="5003640" y="836640"/>
            <a:ext cx="1800360" cy="115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（右上右）圆角矩形 20"/>
          <p:cNvSpPr/>
          <p:nvPr/>
        </p:nvSpPr>
        <p:spPr>
          <a:xfrm>
            <a:off x="6588000" y="333360"/>
            <a:ext cx="1800360" cy="1150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21"/>
          <p:cNvSpPr/>
          <p:nvPr/>
        </p:nvSpPr>
        <p:spPr>
          <a:xfrm>
            <a:off x="1042920" y="5661000"/>
            <a:ext cx="504720" cy="2890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22"/>
          <p:cNvSpPr/>
          <p:nvPr/>
        </p:nvSpPr>
        <p:spPr>
          <a:xfrm>
            <a:off x="900000" y="5805360"/>
            <a:ext cx="503280" cy="28764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24"/>
          <p:cNvSpPr/>
          <p:nvPr/>
        </p:nvSpPr>
        <p:spPr>
          <a:xfrm>
            <a:off x="2627280" y="4941720"/>
            <a:ext cx="360360" cy="35892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25"/>
          <p:cNvSpPr/>
          <p:nvPr/>
        </p:nvSpPr>
        <p:spPr>
          <a:xfrm>
            <a:off x="2771640" y="4691160"/>
            <a:ext cx="216000" cy="21564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26"/>
          <p:cNvSpPr/>
          <p:nvPr/>
        </p:nvSpPr>
        <p:spPr>
          <a:xfrm>
            <a:off x="3024360" y="4941720"/>
            <a:ext cx="215640" cy="21456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27"/>
          <p:cNvSpPr/>
          <p:nvPr/>
        </p:nvSpPr>
        <p:spPr>
          <a:xfrm>
            <a:off x="3024360" y="4799160"/>
            <a:ext cx="107640" cy="10764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28"/>
          <p:cNvSpPr/>
          <p:nvPr/>
        </p:nvSpPr>
        <p:spPr>
          <a:xfrm>
            <a:off x="3168720" y="480528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29"/>
          <p:cNvSpPr/>
          <p:nvPr/>
        </p:nvSpPr>
        <p:spPr>
          <a:xfrm>
            <a:off x="3078000" y="471636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30"/>
          <p:cNvSpPr/>
          <p:nvPr/>
        </p:nvSpPr>
        <p:spPr>
          <a:xfrm>
            <a:off x="3168720" y="4653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32"/>
          <p:cNvSpPr/>
          <p:nvPr/>
        </p:nvSpPr>
        <p:spPr>
          <a:xfrm rot="5400000">
            <a:off x="6876000" y="1556640"/>
            <a:ext cx="358920" cy="36036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33"/>
          <p:cNvSpPr/>
          <p:nvPr/>
        </p:nvSpPr>
        <p:spPr>
          <a:xfrm rot="5400000">
            <a:off x="7273080" y="1701000"/>
            <a:ext cx="214560" cy="216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34"/>
          <p:cNvSpPr/>
          <p:nvPr/>
        </p:nvSpPr>
        <p:spPr>
          <a:xfrm rot="5400000">
            <a:off x="7021440" y="1952640"/>
            <a:ext cx="216000" cy="216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35"/>
          <p:cNvSpPr/>
          <p:nvPr/>
        </p:nvSpPr>
        <p:spPr>
          <a:xfrm rot="5400000">
            <a:off x="7272360" y="1952640"/>
            <a:ext cx="108000" cy="108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36"/>
          <p:cNvSpPr/>
          <p:nvPr/>
        </p:nvSpPr>
        <p:spPr>
          <a:xfrm rot="5400000">
            <a:off x="7318440" y="2097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37"/>
          <p:cNvSpPr/>
          <p:nvPr/>
        </p:nvSpPr>
        <p:spPr>
          <a:xfrm rot="5400000">
            <a:off x="7408800" y="200664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38"/>
          <p:cNvSpPr/>
          <p:nvPr/>
        </p:nvSpPr>
        <p:spPr>
          <a:xfrm rot="5400000">
            <a:off x="7408800" y="2097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39"/>
          <p:cNvSpPr/>
          <p:nvPr/>
        </p:nvSpPr>
        <p:spPr>
          <a:xfrm>
            <a:off x="6012000" y="476280"/>
            <a:ext cx="504720" cy="28872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40"/>
          <p:cNvSpPr/>
          <p:nvPr/>
        </p:nvSpPr>
        <p:spPr>
          <a:xfrm>
            <a:off x="5867280" y="333360"/>
            <a:ext cx="505080" cy="2872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（中·遮盖层）圆角矩形 43"/>
          <p:cNvSpPr/>
          <p:nvPr/>
        </p:nvSpPr>
        <p:spPr>
          <a:xfrm>
            <a:off x="3635280" y="2852640"/>
            <a:ext cx="180036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矩形 111" descr=""/>
          <p:cNvPicPr/>
          <p:nvPr/>
        </p:nvPicPr>
        <p:blipFill>
          <a:blip r:embed="rId1"/>
          <a:stretch/>
        </p:blipFill>
        <p:spPr>
          <a:xfrm>
            <a:off x="536400" y="3144960"/>
            <a:ext cx="7998120" cy="8841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2"/>
          <p:cNvSpPr/>
          <p:nvPr/>
        </p:nvSpPr>
        <p:spPr>
          <a:xfrm>
            <a:off x="6229440" y="4006800"/>
            <a:ext cx="2663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指导老师：</a:t>
            </a: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学生姓名：雅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专    业：工业工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组合 130"/>
          <p:cNvGrpSpPr/>
          <p:nvPr/>
        </p:nvGrpSpPr>
        <p:grpSpPr>
          <a:xfrm>
            <a:off x="-4932360" y="2781360"/>
            <a:ext cx="4896360" cy="1295280"/>
            <a:chOff x="-4932360" y="2781360"/>
            <a:chExt cx="4896360" cy="1295280"/>
          </a:xfrm>
        </p:grpSpPr>
        <p:sp>
          <p:nvSpPr>
            <p:cNvPr id="132" name="矩形 122"/>
            <p:cNvSpPr/>
            <p:nvPr/>
          </p:nvSpPr>
          <p:spPr>
            <a:xfrm>
              <a:off x="-4932360" y="2781360"/>
              <a:ext cx="487872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直接连接符 126"/>
            <p:cNvSpPr/>
            <p:nvPr/>
          </p:nvSpPr>
          <p:spPr>
            <a:xfrm>
              <a:off x="-36000" y="2852640"/>
              <a:ext cx="0" cy="1152720"/>
            </a:xfrm>
            <a:prstGeom prst="line">
              <a:avLst/>
            </a:prstGeom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组合 131"/>
          <p:cNvGrpSpPr/>
          <p:nvPr/>
        </p:nvGrpSpPr>
        <p:grpSpPr>
          <a:xfrm>
            <a:off x="9180360" y="2781360"/>
            <a:ext cx="4892760" cy="1295280"/>
            <a:chOff x="9180360" y="2781360"/>
            <a:chExt cx="4892760" cy="1295280"/>
          </a:xfrm>
        </p:grpSpPr>
        <p:sp>
          <p:nvSpPr>
            <p:cNvPr id="135" name="矩形 125"/>
            <p:cNvSpPr/>
            <p:nvPr/>
          </p:nvSpPr>
          <p:spPr>
            <a:xfrm>
              <a:off x="9194400" y="2781360"/>
              <a:ext cx="487872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直接连接符 127"/>
            <p:cNvSpPr/>
            <p:nvPr/>
          </p:nvSpPr>
          <p:spPr>
            <a:xfrm>
              <a:off x="9180360" y="2852640"/>
              <a:ext cx="0" cy="1152720"/>
            </a:xfrm>
            <a:prstGeom prst="line">
              <a:avLst/>
            </a:prstGeom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250" dur="3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0 C 0.08368 0 0.39792 0 0.5026 0 E">
                                      <p:cBhvr>
                                        <p:cTn id="254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0 C -0.0842 -0.00023 -0.40035 -0.00093 -0.50573 -0.00116 E">
                                      <p:cBhvr>
                                        <p:cTn id="256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26 0 C 0.48594 0 0.42378 0 0.40295 0 E">
                                      <p:cBhvr>
                                        <p:cTn id="265" dur="3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0573 -0.00116 C -0.48959 -0.00116 -0.42917 -0.00093 -0.40903 -0.00093 E">
                                      <p:cBhvr>
                                        <p:cTn id="267" dur="3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7674 0.17662 -0.1533 0.35347 -0.18403 0.42407 E">
                                      <p:cBhvr>
                                        <p:cTn id="275" dur="14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7674 0.17662 -0.1533 0.35347 -0.18403 0.42407 E">
                                      <p:cBhvr>
                                        <p:cTn id="277" dur="1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2483 0.09328 -0.24948 0.1868 -0.29931 0.22407 E">
                                      <p:cBhvr>
                                        <p:cTn id="279" dur="9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2483 0.09328 -0.24948 0.1868 -0.29931 0.22407 E">
                                      <p:cBhvr>
                                        <p:cTn id="281" dur="1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2483 0.09328 -0.24948 0.1868 -0.29931 0.22407 E">
                                      <p:cBhvr>
                                        <p:cTn id="283" dur="14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2483 0.09328 -0.24948 0.1868 -0.29931 0.22407 E">
                                      <p:cBhvr>
                                        <p:cTn id="285" dur="11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2483 0.09328 -0.24948 0.1868 -0.29931 0.22407 E">
                                      <p:cBhvr>
                                        <p:cTn id="287" dur="9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2483 0.09328 -0.24948 0.1868 -0.29931 0.22407 E">
                                      <p:cBhvr>
                                        <p:cTn id="289" dur="12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2483 0.09328 -0.24948 0.1868 -0.29931 0.22407 E">
                                      <p:cBhvr>
                                        <p:cTn id="291" dur="14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92 -0.09538 0.14584 -0.19075 0.175 -0.22894 E">
                                      <p:cBhvr>
                                        <p:cTn id="293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92 -0.09538 0.14584 -0.19075 0.175 -0.22894 E">
                                      <p:cBhvr>
                                        <p:cTn id="295" dur="8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92 -0.09538 0.14584 -0.19075 0.175 -0.22894 E">
                                      <p:cBhvr>
                                        <p:cTn id="297" dur="12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92 -0.09538 0.14584 -0.19075 0.175 -0.22894 E">
                                      <p:cBhvr>
                                        <p:cTn id="299" dur="6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92 -0.09538 0.14584 -0.19075 0.175 -0.22894 E">
                                      <p:cBhvr>
                                        <p:cTn id="301" dur="9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92 -0.09538 0.14584 -0.19075 0.175 -0.22894 E">
                                      <p:cBhvr>
                                        <p:cTn id="303" dur="14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92 -0.09538 0.14584 -0.19075 0.175 -0.22894 E">
                                      <p:cBhvr>
                                        <p:cTn id="305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5 -0.14907 0.3 -0.29815 0.36007 -0.35787 E">
                                      <p:cBhvr>
                                        <p:cTn id="307" dur="9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5 -0.14907 0.3 -0.29815 0.36007 -0.35787 E">
                                      <p:cBhvr>
                                        <p:cTn id="309" dur="13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1" dur="14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3" dur="12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5" dur="1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7" dur="14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9" dur="1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1" dur="1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3" dur="1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5" dur="16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" dur="1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9" dur="16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1" dur="17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3" dur="1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5" dur="17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7" dur="16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9" dur="1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1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3" dur="1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5" dur="17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3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0023 C 0.03629 -0.06088 0.17465 -0.29074 0.22066 -0.36736 E">
                                      <p:cBhvr>
                                        <p:cTn id="348" dur="2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0046 C 0.13055 -0.09653 0.26163 -0.19329 0.31406 -0.23195 E">
                                      <p:cBhvr>
                                        <p:cTn id="354" dur="2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046 C -0.02483 0.04861 -0.11823 0.23264 -0.14948 0.29398 E">
                                      <p:cBhvr>
                                        <p:cTn id="360" dur="2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36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3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6 2.59259E-006 C -0.13507 0.15347 -0.26909 0.30717 -0.32309 0.36852 E">
                                      <p:cBhvr>
                                        <p:cTn id="366" dur="2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36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37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39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组合 49"/>
          <p:cNvGrpSpPr/>
          <p:nvPr/>
        </p:nvGrpSpPr>
        <p:grpSpPr>
          <a:xfrm>
            <a:off x="7020000" y="115920"/>
            <a:ext cx="1728720" cy="676080"/>
            <a:chOff x="7020000" y="115920"/>
            <a:chExt cx="1728720" cy="676080"/>
          </a:xfrm>
        </p:grpSpPr>
        <p:sp>
          <p:nvSpPr>
            <p:cNvPr id="138" name="圆角矩形 50"/>
            <p:cNvSpPr/>
            <p:nvPr/>
          </p:nvSpPr>
          <p:spPr>
            <a:xfrm>
              <a:off x="7091280" y="115920"/>
              <a:ext cx="1586160" cy="57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矩形 51"/>
            <p:cNvSpPr/>
            <p:nvPr/>
          </p:nvSpPr>
          <p:spPr>
            <a:xfrm>
              <a:off x="7110360" y="331560"/>
              <a:ext cx="155268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矩形 52"/>
            <p:cNvSpPr/>
            <p:nvPr/>
          </p:nvSpPr>
          <p:spPr>
            <a:xfrm>
              <a:off x="7020000" y="576360"/>
              <a:ext cx="172872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" name="TextBox 79"/>
          <p:cNvSpPr/>
          <p:nvPr/>
        </p:nvSpPr>
        <p:spPr>
          <a:xfrm>
            <a:off x="6983280" y="1159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fbfbf"/>
                </a:solidFill>
                <a:latin typeface="微软雅黑"/>
                <a:ea typeface="微软雅黑"/>
              </a:rPr>
              <a:t>建议及反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" name="组合 28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sp>
          <p:nvSpPr>
            <p:cNvPr id="143" name="圆角矩形 29"/>
            <p:cNvSpPr/>
            <p:nvPr/>
          </p:nvSpPr>
          <p:spPr>
            <a:xfrm>
              <a:off x="2124000" y="115920"/>
              <a:ext cx="1584720" cy="57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矩形 30"/>
            <p:cNvSpPr/>
            <p:nvPr/>
          </p:nvSpPr>
          <p:spPr>
            <a:xfrm>
              <a:off x="2143080" y="331560"/>
              <a:ext cx="155448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矩形 31"/>
            <p:cNvSpPr/>
            <p:nvPr/>
          </p:nvSpPr>
          <p:spPr>
            <a:xfrm>
              <a:off x="2052720" y="576360"/>
              <a:ext cx="172728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" name="TextBox 71"/>
          <p:cNvSpPr/>
          <p:nvPr/>
        </p:nvSpPr>
        <p:spPr>
          <a:xfrm>
            <a:off x="2124000" y="1159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fbfbf"/>
                </a:solidFill>
                <a:latin typeface="微软雅黑"/>
                <a:ea typeface="微软雅黑"/>
              </a:rPr>
              <a:t>调查设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组合 3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sp>
          <p:nvSpPr>
            <p:cNvPr id="148" name="圆角矩形 33"/>
            <p:cNvSpPr/>
            <p:nvPr/>
          </p:nvSpPr>
          <p:spPr>
            <a:xfrm>
              <a:off x="3779640" y="115920"/>
              <a:ext cx="1584720" cy="57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矩形 34"/>
            <p:cNvSpPr/>
            <p:nvPr/>
          </p:nvSpPr>
          <p:spPr>
            <a:xfrm>
              <a:off x="3798720" y="331560"/>
              <a:ext cx="155124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矩形 35"/>
            <p:cNvSpPr/>
            <p:nvPr/>
          </p:nvSpPr>
          <p:spPr>
            <a:xfrm>
              <a:off x="3708360" y="576360"/>
              <a:ext cx="172728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" name="TextBox 77"/>
          <p:cNvSpPr/>
          <p:nvPr/>
        </p:nvSpPr>
        <p:spPr>
          <a:xfrm>
            <a:off x="3708360" y="1159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fbfbf"/>
                </a:solidFill>
                <a:latin typeface="微软雅黑"/>
                <a:ea typeface="微软雅黑"/>
              </a:rPr>
              <a:t>统计与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" name="组合 36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sp>
          <p:nvSpPr>
            <p:cNvPr id="153" name="圆角矩形 37"/>
            <p:cNvSpPr/>
            <p:nvPr/>
          </p:nvSpPr>
          <p:spPr>
            <a:xfrm>
              <a:off x="5435280" y="115920"/>
              <a:ext cx="1586160" cy="57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矩形 38"/>
            <p:cNvSpPr/>
            <p:nvPr/>
          </p:nvSpPr>
          <p:spPr>
            <a:xfrm>
              <a:off x="5454360" y="331560"/>
              <a:ext cx="155304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矩形 39"/>
            <p:cNvSpPr/>
            <p:nvPr/>
          </p:nvSpPr>
          <p:spPr>
            <a:xfrm>
              <a:off x="5364000" y="576360"/>
              <a:ext cx="172908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TextBox 78"/>
          <p:cNvSpPr/>
          <p:nvPr/>
        </p:nvSpPr>
        <p:spPr>
          <a:xfrm>
            <a:off x="5435640" y="1159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fbfbf"/>
                </a:solidFill>
                <a:latin typeface="微软雅黑"/>
                <a:ea typeface="微软雅黑"/>
              </a:rPr>
              <a:t>对比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组合 45"/>
          <p:cNvGrpSpPr/>
          <p:nvPr/>
        </p:nvGrpSpPr>
        <p:grpSpPr>
          <a:xfrm>
            <a:off x="395280" y="115920"/>
            <a:ext cx="1728720" cy="676080"/>
            <a:chOff x="395280" y="115920"/>
            <a:chExt cx="1728720" cy="676080"/>
          </a:xfrm>
        </p:grpSpPr>
        <p:sp>
          <p:nvSpPr>
            <p:cNvPr id="158" name="圆角矩形 46"/>
            <p:cNvSpPr/>
            <p:nvPr/>
          </p:nvSpPr>
          <p:spPr>
            <a:xfrm>
              <a:off x="466560" y="115920"/>
              <a:ext cx="1586160" cy="57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矩形 47"/>
            <p:cNvSpPr/>
            <p:nvPr/>
          </p:nvSpPr>
          <p:spPr>
            <a:xfrm>
              <a:off x="485640" y="331560"/>
              <a:ext cx="154800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矩形 48"/>
            <p:cNvSpPr/>
            <p:nvPr/>
          </p:nvSpPr>
          <p:spPr>
            <a:xfrm>
              <a:off x="395280" y="576360"/>
              <a:ext cx="172872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" name="TextBox 72"/>
          <p:cNvSpPr/>
          <p:nvPr/>
        </p:nvSpPr>
        <p:spPr>
          <a:xfrm>
            <a:off x="557280" y="1159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fbfbf"/>
                </a:solidFill>
                <a:latin typeface="微软雅黑"/>
                <a:ea typeface="微软雅黑"/>
              </a:rPr>
              <a:t>绪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圆角矩形 88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85"/>
          <p:cNvSpPr/>
          <p:nvPr/>
        </p:nvSpPr>
        <p:spPr>
          <a:xfrm>
            <a:off x="8748720" y="620640"/>
            <a:ext cx="144360" cy="66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86"/>
          <p:cNvSpPr/>
          <p:nvPr/>
        </p:nvSpPr>
        <p:spPr>
          <a:xfrm>
            <a:off x="-252360" y="6237360"/>
            <a:ext cx="9001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87"/>
          <p:cNvSpPr/>
          <p:nvPr/>
        </p:nvSpPr>
        <p:spPr>
          <a:xfrm>
            <a:off x="247680" y="-458640"/>
            <a:ext cx="216000" cy="66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84"/>
          <p:cNvSpPr/>
          <p:nvPr/>
        </p:nvSpPr>
        <p:spPr>
          <a:xfrm>
            <a:off x="449280" y="547560"/>
            <a:ext cx="921708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圆角矩形 49"/>
          <p:cNvSpPr/>
          <p:nvPr/>
        </p:nvSpPr>
        <p:spPr>
          <a:xfrm>
            <a:off x="4498920" y="1096920"/>
            <a:ext cx="352908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绪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圆角矩形 53"/>
          <p:cNvSpPr/>
          <p:nvPr/>
        </p:nvSpPr>
        <p:spPr>
          <a:xfrm>
            <a:off x="4498920" y="2041560"/>
            <a:ext cx="352908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调查设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圆角矩形 55"/>
          <p:cNvSpPr/>
          <p:nvPr/>
        </p:nvSpPr>
        <p:spPr>
          <a:xfrm>
            <a:off x="4498920" y="2963880"/>
            <a:ext cx="3529080" cy="735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数据统计与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圆角矩形 59"/>
          <p:cNvSpPr/>
          <p:nvPr/>
        </p:nvSpPr>
        <p:spPr>
          <a:xfrm>
            <a:off x="4498920" y="3900600"/>
            <a:ext cx="3529080" cy="733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昌大与交大图书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对比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圆角矩形 63"/>
          <p:cNvSpPr/>
          <p:nvPr/>
        </p:nvSpPr>
        <p:spPr>
          <a:xfrm>
            <a:off x="4498920" y="4803840"/>
            <a:ext cx="3567240" cy="766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改善建议及反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椭圆 71"/>
          <p:cNvSpPr/>
          <p:nvPr/>
        </p:nvSpPr>
        <p:spPr>
          <a:xfrm>
            <a:off x="4354560" y="1052640"/>
            <a:ext cx="360360" cy="3585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椭圆 72"/>
          <p:cNvSpPr/>
          <p:nvPr/>
        </p:nvSpPr>
        <p:spPr>
          <a:xfrm>
            <a:off x="4354560" y="1996920"/>
            <a:ext cx="360360" cy="3603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椭圆 73"/>
          <p:cNvSpPr/>
          <p:nvPr/>
        </p:nvSpPr>
        <p:spPr>
          <a:xfrm>
            <a:off x="4354560" y="2906640"/>
            <a:ext cx="360360" cy="3603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椭圆 74"/>
          <p:cNvSpPr/>
          <p:nvPr/>
        </p:nvSpPr>
        <p:spPr>
          <a:xfrm>
            <a:off x="4354560" y="3867120"/>
            <a:ext cx="360360" cy="3603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椭圆 75"/>
          <p:cNvSpPr/>
          <p:nvPr/>
        </p:nvSpPr>
        <p:spPr>
          <a:xfrm>
            <a:off x="4354560" y="4764240"/>
            <a:ext cx="360360" cy="3603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178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（中·遮盖层）圆角矩形 43"/>
          <p:cNvSpPr/>
          <p:nvPr/>
        </p:nvSpPr>
        <p:spPr>
          <a:xfrm>
            <a:off x="1547640" y="2852640"/>
            <a:ext cx="1800360" cy="1152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56"/>
          <p:cNvSpPr/>
          <p:nvPr/>
        </p:nvSpPr>
        <p:spPr>
          <a:xfrm>
            <a:off x="1547640" y="2924280"/>
            <a:ext cx="18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目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（中·遮盖层）圆角矩形 43"/>
          <p:cNvSpPr/>
          <p:nvPr/>
        </p:nvSpPr>
        <p:spPr>
          <a:xfrm>
            <a:off x="3635280" y="2852640"/>
            <a:ext cx="180036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0 C -0.09532 0 -0.19028 0 -0.2283 0 E">
                                      <p:cBhvr>
                                        <p:cTn id="413" dur="5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2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2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2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63" dur="3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66" dur="3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69" dur="3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2" dur="3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5" dur="3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8" dur="3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1" dur="3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484" nodeType="after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48148E-006 L -0.54723 -0.16366 E">
                                      <p:cBhvr>
                                        <p:cTn id="485" dur="5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48148E-006 L -0.36598 -0.30162 E">
                                      <p:cBhvr>
                                        <p:cTn id="487" dur="5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85185E-006 L -0.1849 -0.43704 E">
                                      <p:cBhvr>
                                        <p:cTn id="489" dur="5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0" nodeType="with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22222E-006 L 0.00416 -0.57361 E">
                                      <p:cBhvr>
                                        <p:cTn id="491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2" nodeType="with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11022E-016 L 0.17535 -0.70764 E">
                                      <p:cBhvr>
                                        <p:cTn id="493" dur="5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495" nodeType="afterEffect" fill="hold" presetClass="exit" presetID="53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6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53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1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53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6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53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1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53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6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54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2" dur="3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545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46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549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50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53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54" dur="3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3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3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185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7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188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189" name="圆角矩形 115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矩形 116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矩形 117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2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3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194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195" name="圆角矩形 120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矩形 121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矩形 122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8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200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201" name="圆角矩形 125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矩形 126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矩形 127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4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206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207" name="圆角矩形 49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矩形 50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矩形 51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0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6a6a6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212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213" name="圆角矩形 130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矩形 131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" name="矩形 132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6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（背景）矩形 57"/>
          <p:cNvSpPr/>
          <p:nvPr/>
        </p:nvSpPr>
        <p:spPr>
          <a:xfrm>
            <a:off x="1476360" y="1197000"/>
            <a:ext cx="612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学图书馆肩负支援教学研究的重大任务，同时作为大学生的第二课堂，对大学生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识面拓展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专业技能提升及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面素质的培养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起着至关重要的作用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华东交大作为一所以工为主的教学研究型大学。图书馆在推动华东交大“努力打造有竞争力的教学研究型大学”的进程中起着不可替代的作用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9" name="组合 72"/>
          <p:cNvGrpSpPr/>
          <p:nvPr/>
        </p:nvGrpSpPr>
        <p:grpSpPr>
          <a:xfrm>
            <a:off x="915840" y="981000"/>
            <a:ext cx="5311800" cy="2233800"/>
            <a:chOff x="915840" y="981000"/>
            <a:chExt cx="5311800" cy="2233800"/>
          </a:xfrm>
        </p:grpSpPr>
        <p:sp>
          <p:nvSpPr>
            <p:cNvPr id="220" name="弧形 64"/>
            <p:cNvSpPr/>
            <p:nvPr/>
          </p:nvSpPr>
          <p:spPr>
            <a:xfrm>
              <a:off x="915840" y="2136960"/>
              <a:ext cx="1185840" cy="1076400"/>
            </a:xfrm>
            <a:custGeom>
              <a:avLst/>
              <a:gdLst/>
              <a:ahLst/>
              <a:rect l="l" t="t" r="r" b="b"/>
              <a:pathLst>
                <a:path stroke="0" w="1185862" h="1076650">
                  <a:moveTo>
                    <a:pt x="577968" y="1076479"/>
                  </a:moveTo>
                  <a:cubicBezTo>
                    <a:pt x="256433" y="1069110"/>
                    <a:pt x="0" y="830342"/>
                    <a:pt x="0" y="538325"/>
                  </a:cubicBezTo>
                  <a:lnTo>
                    <a:pt x="592931" y="538325"/>
                  </a:lnTo>
                  <a:lnTo>
                    <a:pt x="577968" y="1076479"/>
                  </a:lnTo>
                  <a:close/>
                </a:path>
                <a:path fill="none" w="1185862" h="1076650">
                  <a:moveTo>
                    <a:pt x="577968" y="1076479"/>
                  </a:moveTo>
                  <a:cubicBezTo>
                    <a:pt x="256433" y="1069110"/>
                    <a:pt x="0" y="830342"/>
                    <a:pt x="0" y="538325"/>
                  </a:cubicBezTo>
                </a:path>
              </a:pathLst>
            </a:custGeom>
            <a:noFill/>
            <a:ln w="19080">
              <a:solidFill>
                <a:srgbClr val="7f7f7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直接连接符 65"/>
            <p:cNvSpPr/>
            <p:nvPr/>
          </p:nvSpPr>
          <p:spPr>
            <a:xfrm>
              <a:off x="915840" y="981000"/>
              <a:ext cx="0" cy="1694160"/>
            </a:xfrm>
            <a:prstGeom prst="line">
              <a:avLst/>
            </a:prstGeom>
            <a:ln w="1908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直接连接符 66"/>
            <p:cNvSpPr/>
            <p:nvPr/>
          </p:nvSpPr>
          <p:spPr>
            <a:xfrm>
              <a:off x="1491840" y="3214800"/>
              <a:ext cx="473580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3" name="（内容·虚线）组合 67"/>
          <p:cNvGrpSpPr/>
          <p:nvPr/>
        </p:nvGrpSpPr>
        <p:grpSpPr>
          <a:xfrm>
            <a:off x="2555640" y="3641760"/>
            <a:ext cx="5616360" cy="2259000"/>
            <a:chOff x="2555640" y="3641760"/>
            <a:chExt cx="5616360" cy="2259000"/>
          </a:xfrm>
        </p:grpSpPr>
        <p:sp>
          <p:nvSpPr>
            <p:cNvPr id="224" name="弧形 68"/>
            <p:cNvSpPr/>
            <p:nvPr/>
          </p:nvSpPr>
          <p:spPr>
            <a:xfrm flipH="1">
              <a:off x="6917760" y="4811760"/>
              <a:ext cx="1253880" cy="1089000"/>
            </a:xfrm>
            <a:custGeom>
              <a:avLst/>
              <a:gdLst/>
              <a:ahLst/>
              <a:rect l="l" t="t" r="r" b="b"/>
              <a:pathLst>
                <a:path stroke="0" w="1089623" h="1089341">
                  <a:moveTo>
                    <a:pt x="529673" y="1089131"/>
                  </a:moveTo>
                  <a:cubicBezTo>
                    <a:pt x="234791" y="1080936"/>
                    <a:pt x="0" y="839589"/>
                    <a:pt x="0" y="544670"/>
                  </a:cubicBezTo>
                  <a:lnTo>
                    <a:pt x="544812" y="544671"/>
                  </a:lnTo>
                  <a:lnTo>
                    <a:pt x="529673" y="1089131"/>
                  </a:lnTo>
                  <a:close/>
                </a:path>
                <a:path fill="none" w="1089623" h="1089341">
                  <a:moveTo>
                    <a:pt x="529673" y="1089131"/>
                  </a:moveTo>
                  <a:cubicBezTo>
                    <a:pt x="234791" y="1080936"/>
                    <a:pt x="0" y="839589"/>
                    <a:pt x="0" y="544670"/>
                  </a:cubicBezTo>
                </a:path>
              </a:pathLst>
            </a:custGeom>
            <a:noFill/>
            <a:ln w="19080">
              <a:solidFill>
                <a:srgbClr val="7f7f7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直接连接符 69"/>
            <p:cNvSpPr/>
            <p:nvPr/>
          </p:nvSpPr>
          <p:spPr>
            <a:xfrm>
              <a:off x="8172000" y="3641760"/>
              <a:ext cx="0" cy="1714680"/>
            </a:xfrm>
            <a:prstGeom prst="line">
              <a:avLst/>
            </a:prstGeom>
            <a:ln w="1908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直接连接符 70"/>
            <p:cNvSpPr/>
            <p:nvPr/>
          </p:nvSpPr>
          <p:spPr>
            <a:xfrm flipH="1">
              <a:off x="2555640" y="5900760"/>
              <a:ext cx="500688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7" name="（背景·标题）组合 86"/>
          <p:cNvGrpSpPr/>
          <p:nvPr/>
        </p:nvGrpSpPr>
        <p:grpSpPr>
          <a:xfrm>
            <a:off x="539640" y="837720"/>
            <a:ext cx="855720" cy="456120"/>
            <a:chOff x="539640" y="837720"/>
            <a:chExt cx="855720" cy="456120"/>
          </a:xfrm>
        </p:grpSpPr>
        <p:sp>
          <p:nvSpPr>
            <p:cNvPr id="228" name="Rectangle 8"/>
            <p:cNvSpPr/>
            <p:nvPr/>
          </p:nvSpPr>
          <p:spPr>
            <a:xfrm>
              <a:off x="602640" y="1139400"/>
              <a:ext cx="720720" cy="1544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3093568" h="271442">
                  <a:moveTo>
                    <a:pt x="0" y="0"/>
                  </a:moveTo>
                  <a:lnTo>
                    <a:pt x="3093568" y="0"/>
                  </a:lnTo>
                  <a:lnTo>
                    <a:pt x="3093568" y="271442"/>
                  </a:lnTo>
                  <a:cubicBezTo>
                    <a:pt x="1777407" y="81360"/>
                    <a:pt x="1788744" y="3494"/>
                    <a:pt x="0" y="27144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ddddd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矩形 71"/>
            <p:cNvSpPr/>
            <p:nvPr/>
          </p:nvSpPr>
          <p:spPr>
            <a:xfrm>
              <a:off x="539640" y="837720"/>
              <a:ext cx="855720" cy="368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背景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0" name="（内容）矩形 73"/>
          <p:cNvSpPr/>
          <p:nvPr/>
        </p:nvSpPr>
        <p:spPr>
          <a:xfrm>
            <a:off x="1258920" y="42465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华东交通大学学生图书馆利用方式，学生对图书改善建议，图书馆利用效果等方面的调查，结合大学生学习心理，对利用方式进行分析。利用横向对比，调查南昌大学，分析交大和南大的差异。并将改善措施提交校图书管理部门，得到反馈建议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（方法·方框）圆角矩形 96"/>
          <p:cNvSpPr/>
          <p:nvPr/>
        </p:nvSpPr>
        <p:spPr>
          <a:xfrm>
            <a:off x="2484360" y="3500280"/>
            <a:ext cx="352764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卷调查、访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2" name="（内容·标题）组合 97"/>
          <p:cNvGrpSpPr/>
          <p:nvPr/>
        </p:nvGrpSpPr>
        <p:grpSpPr>
          <a:xfrm>
            <a:off x="7748640" y="3358080"/>
            <a:ext cx="855720" cy="455040"/>
            <a:chOff x="7748640" y="3358080"/>
            <a:chExt cx="855720" cy="455040"/>
          </a:xfrm>
        </p:grpSpPr>
        <p:sp>
          <p:nvSpPr>
            <p:cNvPr id="233" name="Rectangle 8"/>
            <p:cNvSpPr/>
            <p:nvPr/>
          </p:nvSpPr>
          <p:spPr>
            <a:xfrm>
              <a:off x="7811640" y="3659400"/>
              <a:ext cx="720720" cy="15372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3093568" h="271442">
                  <a:moveTo>
                    <a:pt x="0" y="0"/>
                  </a:moveTo>
                  <a:lnTo>
                    <a:pt x="3093568" y="0"/>
                  </a:lnTo>
                  <a:lnTo>
                    <a:pt x="3093568" y="271442"/>
                  </a:lnTo>
                  <a:cubicBezTo>
                    <a:pt x="1777407" y="81360"/>
                    <a:pt x="1788744" y="3494"/>
                    <a:pt x="0" y="27144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ddddd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矩形 99"/>
            <p:cNvSpPr/>
            <p:nvPr/>
          </p:nvSpPr>
          <p:spPr>
            <a:xfrm>
              <a:off x="7748640" y="3358080"/>
              <a:ext cx="855720" cy="368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5" name="（方法）矩形 105"/>
          <p:cNvSpPr/>
          <p:nvPr/>
        </p:nvSpPr>
        <p:spPr>
          <a:xfrm>
            <a:off x="2708280" y="3562920"/>
            <a:ext cx="85572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方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（背景·遮盖白条）矩形 106"/>
          <p:cNvSpPr/>
          <p:nvPr/>
        </p:nvSpPr>
        <p:spPr>
          <a:xfrm>
            <a:off x="1258920" y="3141720"/>
            <a:ext cx="51134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（内容·遮盖白条） 108"/>
          <p:cNvSpPr/>
          <p:nvPr/>
        </p:nvSpPr>
        <p:spPr>
          <a:xfrm>
            <a:off x="2556000" y="5877000"/>
            <a:ext cx="53290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（小方框遮罩层）矩形 52"/>
          <p:cNvSpPr/>
          <p:nvPr/>
        </p:nvSpPr>
        <p:spPr>
          <a:xfrm>
            <a:off x="48564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2" name="（1绪论·蓝）组合 40"/>
          <p:cNvGrpSpPr/>
          <p:nvPr/>
        </p:nvGrpSpPr>
        <p:grpSpPr>
          <a:xfrm>
            <a:off x="395280" y="115920"/>
            <a:ext cx="1728720" cy="673200"/>
            <a:chOff x="395280" y="115920"/>
            <a:chExt cx="1728720" cy="673200"/>
          </a:xfrm>
        </p:grpSpPr>
        <p:grpSp>
          <p:nvGrpSpPr>
            <p:cNvPr id="243" name="（1绪论）组合 45"/>
            <p:cNvGrpSpPr/>
            <p:nvPr/>
          </p:nvGrpSpPr>
          <p:grpSpPr>
            <a:xfrm>
              <a:off x="395280" y="115920"/>
              <a:ext cx="1728720" cy="673200"/>
              <a:chOff x="395280" y="115920"/>
              <a:chExt cx="1728720" cy="673200"/>
            </a:xfrm>
          </p:grpSpPr>
          <p:sp>
            <p:nvSpPr>
              <p:cNvPr id="244" name="圆角矩形 135"/>
              <p:cNvSpPr/>
              <p:nvPr/>
            </p:nvSpPr>
            <p:spPr>
              <a:xfrm>
                <a:off x="46656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矩形 136"/>
              <p:cNvSpPr/>
              <p:nvPr/>
            </p:nvSpPr>
            <p:spPr>
              <a:xfrm>
                <a:off x="48564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矩形 137"/>
              <p:cNvSpPr/>
              <p:nvPr/>
            </p:nvSpPr>
            <p:spPr>
              <a:xfrm>
                <a:off x="39528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7" name="（1绪论）TextBox 72"/>
            <p:cNvSpPr/>
            <p:nvPr/>
          </p:nvSpPr>
          <p:spPr>
            <a:xfrm>
              <a:off x="556920" y="11628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8" name="（左·遮盖）弧形 71"/>
          <p:cNvSpPr/>
          <p:nvPr/>
        </p:nvSpPr>
        <p:spPr>
          <a:xfrm>
            <a:off x="468360" y="11592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30"/>
                </a:moveTo>
                <a:cubicBezTo>
                  <a:pt x="-2102" y="75279"/>
                  <a:pt x="5517" y="50539"/>
                  <a:pt x="21564" y="31633"/>
                </a:cubicBezTo>
                <a:cubicBezTo>
                  <a:pt x="37799" y="12505"/>
                  <a:pt x="61202" y="1067"/>
                  <a:pt x="86144" y="71"/>
                </a:cubicBezTo>
                <a:lnTo>
                  <a:pt x="89694" y="90488"/>
                </a:lnTo>
                <a:lnTo>
                  <a:pt x="500" y="100030"/>
                </a:lnTo>
                <a:close/>
              </a:path>
              <a:path fill="none" w="179387" h="180975">
                <a:moveTo>
                  <a:pt x="500" y="100030"/>
                </a:moveTo>
                <a:cubicBezTo>
                  <a:pt x="-2102" y="75279"/>
                  <a:pt x="5517" y="50539"/>
                  <a:pt x="21564" y="31633"/>
                </a:cubicBezTo>
                <a:cubicBezTo>
                  <a:pt x="37799" y="12505"/>
                  <a:pt x="61202" y="1067"/>
                  <a:pt x="86144" y="71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（左·遮盖）直接连接符 74"/>
          <p:cNvSpPr/>
          <p:nvPr/>
        </p:nvSpPr>
        <p:spPr>
          <a:xfrm>
            <a:off x="46836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（右·遮盖）弧形 78"/>
          <p:cNvSpPr/>
          <p:nvPr/>
        </p:nvSpPr>
        <p:spPr>
          <a:xfrm rot="5400000">
            <a:off x="1870560" y="116640"/>
            <a:ext cx="181080" cy="179280"/>
          </a:xfrm>
          <a:custGeom>
            <a:avLst/>
            <a:gdLst/>
            <a:ahLst/>
            <a:rect l="l" t="t" r="r" b="b"/>
            <a:pathLst>
              <a:path stroke="0" w="180975" h="179387">
                <a:moveTo>
                  <a:pt x="211" y="95818"/>
                </a:moveTo>
                <a:cubicBezTo>
                  <a:pt x="-1556" y="70235"/>
                  <a:pt x="7809" y="45126"/>
                  <a:pt x="25940" y="26834"/>
                </a:cubicBezTo>
                <a:cubicBezTo>
                  <a:pt x="43854" y="8760"/>
                  <a:pt x="68645" y="-961"/>
                  <a:pt x="94186" y="75"/>
                </a:cubicBezTo>
                <a:lnTo>
                  <a:pt x="90488" y="89694"/>
                </a:lnTo>
                <a:lnTo>
                  <a:pt x="211" y="95818"/>
                </a:lnTo>
                <a:close/>
              </a:path>
              <a:path fill="none" w="180975" h="179387">
                <a:moveTo>
                  <a:pt x="211" y="95818"/>
                </a:moveTo>
                <a:cubicBezTo>
                  <a:pt x="-1556" y="70235"/>
                  <a:pt x="7809" y="45126"/>
                  <a:pt x="25940" y="26834"/>
                </a:cubicBezTo>
                <a:cubicBezTo>
                  <a:pt x="43854" y="8760"/>
                  <a:pt x="68645" y="-961"/>
                  <a:pt x="94186" y="75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（右·遮盖）直接连接符 79"/>
          <p:cNvSpPr/>
          <p:nvPr/>
        </p:nvSpPr>
        <p:spPr>
          <a:xfrm flipH="1">
            <a:off x="2050560" y="209520"/>
            <a:ext cx="1800" cy="33012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（上·遮盖）直接连接符 84"/>
          <p:cNvSpPr/>
          <p:nvPr/>
        </p:nvSpPr>
        <p:spPr>
          <a:xfrm>
            <a:off x="550800" y="115920"/>
            <a:ext cx="140832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0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3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5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1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5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5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2" dur="2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650"/>
                            </p:stCondLst>
                            <p:childTnLst>
                              <p:par>
                                <p:cTn id="5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5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1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5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59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59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6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6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0" dur="2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2" dur="2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6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2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6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2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62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3" dur="2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2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6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2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2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6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2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2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2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6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2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65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55" dur="2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6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2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64" dur="5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66" dur="5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6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70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72" dur="5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74" dur="5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7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78" dur="5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8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82" dur="5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84" dur="5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L 1.25903 -0.00509 E">
                                      <p:cBhvr>
                                        <p:cTn id="686" dur="5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254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6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257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258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1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2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263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264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7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269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270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3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4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275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276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281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282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5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（调查对象）组合 165"/>
          <p:cNvGrpSpPr/>
          <p:nvPr/>
        </p:nvGrpSpPr>
        <p:grpSpPr>
          <a:xfrm>
            <a:off x="-7885080" y="907920"/>
            <a:ext cx="6769440" cy="4981680"/>
            <a:chOff x="-7885080" y="907920"/>
            <a:chExt cx="6769440" cy="4981680"/>
          </a:xfrm>
        </p:grpSpPr>
        <p:sp>
          <p:nvSpPr>
            <p:cNvPr id="287" name="（方法·方框）圆角矩形 96"/>
            <p:cNvSpPr/>
            <p:nvPr/>
          </p:nvSpPr>
          <p:spPr>
            <a:xfrm>
              <a:off x="-6445080" y="171252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土建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（方法·方框）圆角矩形 96"/>
            <p:cNvSpPr/>
            <p:nvPr/>
          </p:nvSpPr>
          <p:spPr>
            <a:xfrm>
              <a:off x="-6445080" y="244476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电气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（方法·方框）圆角矩形 96"/>
            <p:cNvSpPr/>
            <p:nvPr/>
          </p:nvSpPr>
          <p:spPr>
            <a:xfrm>
              <a:off x="-6445080" y="317664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机电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（方法·方框）圆角矩形 96"/>
            <p:cNvSpPr/>
            <p:nvPr/>
          </p:nvSpPr>
          <p:spPr>
            <a:xfrm>
              <a:off x="-6445080" y="390852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经管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（方法·方框）圆角矩形 96"/>
            <p:cNvSpPr/>
            <p:nvPr/>
          </p:nvSpPr>
          <p:spPr>
            <a:xfrm>
              <a:off x="-6445080" y="464184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体育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（方法·方框）圆角矩形 96"/>
            <p:cNvSpPr/>
            <p:nvPr/>
          </p:nvSpPr>
          <p:spPr>
            <a:xfrm>
              <a:off x="-6445080" y="5384880"/>
              <a:ext cx="158436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研究生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（方法·方框）圆角矩形 96"/>
            <p:cNvSpPr/>
            <p:nvPr/>
          </p:nvSpPr>
          <p:spPr>
            <a:xfrm>
              <a:off x="-4644720" y="173664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信息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（方法·方框）圆角矩形 96"/>
            <p:cNvSpPr/>
            <p:nvPr/>
          </p:nvSpPr>
          <p:spPr>
            <a:xfrm>
              <a:off x="-4644720" y="2468520"/>
              <a:ext cx="158436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人文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（方法·方框）圆角矩形 96"/>
            <p:cNvSpPr/>
            <p:nvPr/>
          </p:nvSpPr>
          <p:spPr>
            <a:xfrm>
              <a:off x="-4644720" y="320184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基础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（方法·方框）圆角矩形 96"/>
            <p:cNvSpPr/>
            <p:nvPr/>
          </p:nvSpPr>
          <p:spPr>
            <a:xfrm>
              <a:off x="-4644720" y="393372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外院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（方法·方框）圆角矩形 96"/>
            <p:cNvSpPr/>
            <p:nvPr/>
          </p:nvSpPr>
          <p:spPr>
            <a:xfrm>
              <a:off x="-4644720" y="466560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艺术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（方法·方框）圆角矩形 96"/>
            <p:cNvSpPr/>
            <p:nvPr/>
          </p:nvSpPr>
          <p:spPr>
            <a:xfrm>
              <a:off x="-7885080" y="2720880"/>
              <a:ext cx="576000" cy="1439640"/>
            </a:xfrm>
            <a:custGeom>
              <a:avLst/>
              <a:gdLst>
                <a:gd name="textAreaLeft" fmla="*/ 28080 w 576000"/>
                <a:gd name="textAreaRight" fmla="*/ 547920 w 576000"/>
                <a:gd name="textAreaTop" fmla="*/ 28080 h 1439640"/>
                <a:gd name="textAreaBottom" fmla="*/ 1411560 h 1439640"/>
              </a:gdLst>
              <a:ahLst/>
              <a:rect l="textAreaLeft" t="textAreaTop" r="textAreaRight" b="textAreaBottom"/>
              <a:pathLst>
                <a:path w="21600" h="53966">
                  <a:moveTo>
                    <a:pt x="3600" y="0"/>
                  </a:moveTo>
                  <a:arcTo wR="3600" hR="3600" stAng="16200000" swAng="-5400000"/>
                  <a:lnTo>
                    <a:pt x="0" y="50366"/>
                  </a:lnTo>
                  <a:arcTo wR="3600" hR="3600" stAng="10800000" swAng="-5400000"/>
                  <a:lnTo>
                    <a:pt x="18000" y="539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调查对象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（方法·方框）圆角矩形 96"/>
            <p:cNvSpPr/>
            <p:nvPr/>
          </p:nvSpPr>
          <p:spPr>
            <a:xfrm>
              <a:off x="-2844360" y="171252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国际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（方法·方框）圆角矩形 96"/>
            <p:cNvSpPr/>
            <p:nvPr/>
          </p:nvSpPr>
          <p:spPr>
            <a:xfrm>
              <a:off x="-2844360" y="244476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轨道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（方法·方框）圆角矩形 96"/>
            <p:cNvSpPr/>
            <p:nvPr/>
          </p:nvSpPr>
          <p:spPr>
            <a:xfrm>
              <a:off x="-2844360" y="317664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软件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（方法·方框）圆角矩形 96"/>
            <p:cNvSpPr/>
            <p:nvPr/>
          </p:nvSpPr>
          <p:spPr>
            <a:xfrm>
              <a:off x="-6588000" y="1591920"/>
              <a:ext cx="5472360" cy="3673800"/>
            </a:xfrm>
            <a:prstGeom prst="roundRect">
              <a:avLst>
                <a:gd name="adj" fmla="val 4880"/>
              </a:avLst>
            </a:prstGeom>
            <a:noFill/>
            <a:ln w="1908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直接连接符 135"/>
            <p:cNvSpPr/>
            <p:nvPr/>
          </p:nvSpPr>
          <p:spPr>
            <a:xfrm>
              <a:off x="-6948360" y="1207800"/>
              <a:ext cx="0" cy="4392720"/>
            </a:xfrm>
            <a:prstGeom prst="line">
              <a:avLst/>
            </a:prstGeom>
            <a:ln w="19080">
              <a:solidFill>
                <a:srgbClr val="a6a6a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直接连接符 147"/>
            <p:cNvSpPr/>
            <p:nvPr/>
          </p:nvSpPr>
          <p:spPr>
            <a:xfrm>
              <a:off x="-6948360" y="5637240"/>
              <a:ext cx="502920" cy="0"/>
            </a:xfrm>
            <a:prstGeom prst="line">
              <a:avLst/>
            </a:prstGeom>
            <a:ln w="19080">
              <a:solidFill>
                <a:srgbClr val="a6a6a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直接连接符 155"/>
            <p:cNvSpPr/>
            <p:nvPr/>
          </p:nvSpPr>
          <p:spPr>
            <a:xfrm flipV="1">
              <a:off x="-7308720" y="3429000"/>
              <a:ext cx="720720" cy="10800"/>
            </a:xfrm>
            <a:prstGeom prst="line">
              <a:avLst/>
            </a:prstGeom>
            <a:ln w="19080">
              <a:solidFill>
                <a:srgbClr val="a6a6a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圆角矩形 156"/>
            <p:cNvSpPr/>
            <p:nvPr/>
          </p:nvSpPr>
          <p:spPr>
            <a:xfrm>
              <a:off x="-2484000" y="4016520"/>
              <a:ext cx="1008000" cy="86508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本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圆角矩形 158"/>
            <p:cNvSpPr/>
            <p:nvPr/>
          </p:nvSpPr>
          <p:spPr>
            <a:xfrm>
              <a:off x="-4428720" y="5384880"/>
              <a:ext cx="1225440" cy="50472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研究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（方法·方框）圆角矩形 96"/>
            <p:cNvSpPr/>
            <p:nvPr/>
          </p:nvSpPr>
          <p:spPr>
            <a:xfrm>
              <a:off x="-6445080" y="90792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轨道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直接连接符 160"/>
            <p:cNvSpPr/>
            <p:nvPr/>
          </p:nvSpPr>
          <p:spPr>
            <a:xfrm>
              <a:off x="-6948360" y="1160280"/>
              <a:ext cx="502920" cy="0"/>
            </a:xfrm>
            <a:prstGeom prst="line">
              <a:avLst/>
            </a:prstGeom>
            <a:ln w="19080">
              <a:solidFill>
                <a:srgbClr val="a6a6a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圆角矩形 161"/>
            <p:cNvSpPr/>
            <p:nvPr/>
          </p:nvSpPr>
          <p:spPr>
            <a:xfrm>
              <a:off x="-4428720" y="920520"/>
              <a:ext cx="1225440" cy="50328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专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1" name="AutoShape 4"/>
          <p:cNvSpPr/>
          <p:nvPr/>
        </p:nvSpPr>
        <p:spPr>
          <a:xfrm rot="5400000">
            <a:off x="-2249280" y="1007640"/>
            <a:ext cx="4824360" cy="4770720"/>
          </a:xfrm>
          <a:custGeom>
            <a:avLst/>
            <a:gdLst>
              <a:gd name="textAreaLeft" fmla="*/ 89280 w 4824360"/>
              <a:gd name="textAreaRight" fmla="*/ 4735080 w 4824360"/>
              <a:gd name="textAreaTop" fmla="*/ 0 h 4770720"/>
              <a:gd name="textAreaBottom" fmla="*/ 3009960 h 4770720"/>
            </a:gdLst>
            <a:ahLst/>
            <a:rect l="textAreaLeft" t="textAreaTop" r="textAreaRight" b="textAreaBottom"/>
            <a:pathLst>
              <a:path w="21600" h="21600">
                <a:moveTo>
                  <a:pt x="323" y="10641"/>
                </a:moveTo>
                <a:cubicBezTo>
                  <a:pt x="410" y="4916"/>
                  <a:pt x="5075" y="321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-1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lnTo>
                  <a:pt x="323" y="10641"/>
                </a:lnTo>
                <a:close/>
              </a:path>
            </a:pathLst>
          </a:custGeom>
          <a:gradFill rotWithShape="0">
            <a:gsLst>
              <a:gs pos="0">
                <a:srgbClr val="f7f6f1"/>
              </a:gs>
              <a:gs pos="50000">
                <a:srgbClr val="eeece1"/>
              </a:gs>
              <a:gs pos="100000">
                <a:srgbClr val="f7f6f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AutoShape 5"/>
          <p:cNvSpPr/>
          <p:nvPr/>
        </p:nvSpPr>
        <p:spPr>
          <a:xfrm flipH="1" rot="5400000">
            <a:off x="-1843920" y="1441800"/>
            <a:ext cx="4032360" cy="3929040"/>
          </a:xfrm>
          <a:custGeom>
            <a:avLst/>
            <a:gdLst>
              <a:gd name="textAreaLeft" fmla="*/ -360 w 4032360"/>
              <a:gd name="textAreaRight" fmla="*/ 4032360 w 403236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3"/>
                  <a:pt x="10855" y="10769"/>
                  <a:pt x="1085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0744" y="10800"/>
                </a:lnTo>
                <a:close/>
              </a:path>
            </a:pathLst>
          </a:custGeom>
          <a:gradFill rotWithShape="0">
            <a:gsLst>
              <a:gs pos="0">
                <a:srgbClr val="eeece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1547640" y="1049400"/>
            <a:ext cx="1800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的与习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Group 8" descr=""/>
          <p:cNvPicPr/>
          <p:nvPr/>
        </p:nvPicPr>
        <p:blipFill>
          <a:blip r:embed="rId3"/>
          <a:stretch/>
        </p:blipFill>
        <p:spPr>
          <a:xfrm>
            <a:off x="1279440" y="1139760"/>
            <a:ext cx="341280" cy="335160"/>
          </a:xfrm>
          <a:prstGeom prst="rect">
            <a:avLst/>
          </a:prstGeom>
          <a:ln w="0">
            <a:noFill/>
          </a:ln>
        </p:spPr>
      </p:pic>
      <p:sp>
        <p:nvSpPr>
          <p:cNvPr id="315" name="AutoShape 16"/>
          <p:cNvSpPr/>
          <p:nvPr/>
        </p:nvSpPr>
        <p:spPr>
          <a:xfrm>
            <a:off x="2284560" y="1827360"/>
            <a:ext cx="180000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馆藏质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Group 17" descr=""/>
          <p:cNvPicPr/>
          <p:nvPr/>
        </p:nvPicPr>
        <p:blipFill>
          <a:blip r:embed="rId4"/>
          <a:stretch/>
        </p:blipFill>
        <p:spPr>
          <a:xfrm>
            <a:off x="1981080" y="1914480"/>
            <a:ext cx="335160" cy="335160"/>
          </a:xfrm>
          <a:prstGeom prst="rect">
            <a:avLst/>
          </a:prstGeom>
          <a:ln w="0">
            <a:noFill/>
          </a:ln>
        </p:spPr>
      </p:pic>
      <p:sp>
        <p:nvSpPr>
          <p:cNvPr id="317" name="AutoShape 25"/>
          <p:cNvSpPr/>
          <p:nvPr/>
        </p:nvSpPr>
        <p:spPr>
          <a:xfrm>
            <a:off x="2550960" y="2603520"/>
            <a:ext cx="1800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环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Oval 28"/>
          <p:cNvSpPr/>
          <p:nvPr/>
        </p:nvSpPr>
        <p:spPr>
          <a:xfrm>
            <a:off x="2268360" y="2685960"/>
            <a:ext cx="338400" cy="33840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34"/>
          <p:cNvSpPr/>
          <p:nvPr/>
        </p:nvSpPr>
        <p:spPr>
          <a:xfrm>
            <a:off x="2627280" y="3381480"/>
            <a:ext cx="1800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员与服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Group 35" descr=""/>
          <p:cNvPicPr/>
          <p:nvPr/>
        </p:nvPicPr>
        <p:blipFill>
          <a:blip r:embed="rId5"/>
          <a:stretch/>
        </p:blipFill>
        <p:spPr>
          <a:xfrm>
            <a:off x="2335320" y="3462480"/>
            <a:ext cx="334800" cy="334800"/>
          </a:xfrm>
          <a:prstGeom prst="rect">
            <a:avLst/>
          </a:prstGeom>
          <a:ln w="0">
            <a:noFill/>
          </a:ln>
        </p:spPr>
      </p:pic>
      <p:sp>
        <p:nvSpPr>
          <p:cNvPr id="321" name="AutoShape 43"/>
          <p:cNvSpPr/>
          <p:nvPr/>
        </p:nvSpPr>
        <p:spPr>
          <a:xfrm>
            <a:off x="1886040" y="4937040"/>
            <a:ext cx="180000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信息传递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Oval 46"/>
          <p:cNvSpPr/>
          <p:nvPr/>
        </p:nvSpPr>
        <p:spPr>
          <a:xfrm>
            <a:off x="1619280" y="5008680"/>
            <a:ext cx="338040" cy="33804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直接连接符 304"/>
          <p:cNvSpPr/>
          <p:nvPr/>
        </p:nvSpPr>
        <p:spPr>
          <a:xfrm>
            <a:off x="3348000" y="1303200"/>
            <a:ext cx="1440000" cy="0"/>
          </a:xfrm>
          <a:prstGeom prst="line">
            <a:avLst/>
          </a:prstGeom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直接连接符 305"/>
          <p:cNvSpPr/>
          <p:nvPr/>
        </p:nvSpPr>
        <p:spPr>
          <a:xfrm>
            <a:off x="4788000" y="3267000"/>
            <a:ext cx="37764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直接连接符 306"/>
          <p:cNvSpPr/>
          <p:nvPr/>
        </p:nvSpPr>
        <p:spPr>
          <a:xfrm>
            <a:off x="4788000" y="1292400"/>
            <a:ext cx="0" cy="198720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直接连接符 307"/>
          <p:cNvSpPr/>
          <p:nvPr/>
        </p:nvSpPr>
        <p:spPr>
          <a:xfrm>
            <a:off x="5162400" y="220500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直接连接符 308"/>
          <p:cNvSpPr/>
          <p:nvPr/>
        </p:nvSpPr>
        <p:spPr>
          <a:xfrm>
            <a:off x="5162400" y="429264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直接连接符 309"/>
          <p:cNvSpPr/>
          <p:nvPr/>
        </p:nvSpPr>
        <p:spPr>
          <a:xfrm>
            <a:off x="5148360" y="2205000"/>
            <a:ext cx="0" cy="208764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直接连接符 310"/>
          <p:cNvSpPr/>
          <p:nvPr/>
        </p:nvSpPr>
        <p:spPr>
          <a:xfrm>
            <a:off x="5162400" y="359712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直接连接符 311"/>
          <p:cNvSpPr/>
          <p:nvPr/>
        </p:nvSpPr>
        <p:spPr>
          <a:xfrm>
            <a:off x="5162400" y="290052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矩形 312"/>
          <p:cNvSpPr/>
          <p:nvPr/>
        </p:nvSpPr>
        <p:spPr>
          <a:xfrm>
            <a:off x="5998320" y="20509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图书馆的频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矩形 313"/>
          <p:cNvSpPr/>
          <p:nvPr/>
        </p:nvSpPr>
        <p:spPr>
          <a:xfrm>
            <a:off x="5998320" y="27082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图书馆的时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矩形 314"/>
          <p:cNvSpPr/>
          <p:nvPr/>
        </p:nvSpPr>
        <p:spPr>
          <a:xfrm>
            <a:off x="5790600" y="33894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同行人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315"/>
          <p:cNvSpPr/>
          <p:nvPr/>
        </p:nvSpPr>
        <p:spPr>
          <a:xfrm>
            <a:off x="5946120" y="40766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图书馆目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直接连接符 316"/>
          <p:cNvSpPr/>
          <p:nvPr/>
        </p:nvSpPr>
        <p:spPr>
          <a:xfrm>
            <a:off x="4084560" y="2081160"/>
            <a:ext cx="70344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直接连接符 317"/>
          <p:cNvSpPr/>
          <p:nvPr/>
        </p:nvSpPr>
        <p:spPr>
          <a:xfrm>
            <a:off x="4788000" y="2060640"/>
            <a:ext cx="0" cy="123660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直接连接符 318"/>
          <p:cNvSpPr/>
          <p:nvPr/>
        </p:nvSpPr>
        <p:spPr>
          <a:xfrm>
            <a:off x="4788000" y="3284640"/>
            <a:ext cx="37764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直接连接符 319"/>
          <p:cNvSpPr/>
          <p:nvPr/>
        </p:nvSpPr>
        <p:spPr>
          <a:xfrm>
            <a:off x="5162400" y="177336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直接连接符 320"/>
          <p:cNvSpPr/>
          <p:nvPr/>
        </p:nvSpPr>
        <p:spPr>
          <a:xfrm>
            <a:off x="5162400" y="479736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直接连接符 321"/>
          <p:cNvSpPr/>
          <p:nvPr/>
        </p:nvSpPr>
        <p:spPr>
          <a:xfrm>
            <a:off x="5148360" y="1773360"/>
            <a:ext cx="0" cy="302400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直接连接符 322"/>
          <p:cNvSpPr/>
          <p:nvPr/>
        </p:nvSpPr>
        <p:spPr>
          <a:xfrm>
            <a:off x="5162400" y="342900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直接连接符 323"/>
          <p:cNvSpPr/>
          <p:nvPr/>
        </p:nvSpPr>
        <p:spPr>
          <a:xfrm>
            <a:off x="5162400" y="263700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矩形 324"/>
          <p:cNvSpPr/>
          <p:nvPr/>
        </p:nvSpPr>
        <p:spPr>
          <a:xfrm>
            <a:off x="5648400" y="1425600"/>
            <a:ext cx="25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符合就读科系的馆藏资料类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矩形 325"/>
          <p:cNvSpPr/>
          <p:nvPr/>
        </p:nvSpPr>
        <p:spPr>
          <a:xfrm>
            <a:off x="5648400" y="4076640"/>
            <a:ext cx="259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于纸本图书、纸本期刊、视听资料、电子书、电子期刊馆藏，感到最满意的类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矩形 326"/>
          <p:cNvSpPr/>
          <p:nvPr/>
        </p:nvSpPr>
        <p:spPr>
          <a:xfrm>
            <a:off x="5648400" y="2452680"/>
            <a:ext cx="27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加强的馆藏类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矩形 327"/>
          <p:cNvSpPr/>
          <p:nvPr/>
        </p:nvSpPr>
        <p:spPr>
          <a:xfrm>
            <a:off x="5648400" y="3081240"/>
            <a:ext cx="27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常使用的馆藏资料类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直接连接符 328"/>
          <p:cNvSpPr/>
          <p:nvPr/>
        </p:nvSpPr>
        <p:spPr>
          <a:xfrm>
            <a:off x="4351320" y="2857680"/>
            <a:ext cx="43668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直接连接符 329"/>
          <p:cNvSpPr/>
          <p:nvPr/>
        </p:nvSpPr>
        <p:spPr>
          <a:xfrm>
            <a:off x="5148360" y="2349360"/>
            <a:ext cx="0" cy="172728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矩形 330"/>
          <p:cNvSpPr/>
          <p:nvPr/>
        </p:nvSpPr>
        <p:spPr>
          <a:xfrm>
            <a:off x="5648400" y="2165400"/>
            <a:ext cx="27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常使用图书馆的空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矩形 331"/>
          <p:cNvSpPr/>
          <p:nvPr/>
        </p:nvSpPr>
        <p:spPr>
          <a:xfrm>
            <a:off x="5648400" y="3429000"/>
            <a:ext cx="27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环境是否符合整齐清洁、气氛宁静舒适、灯光足够、阅读座位足够、标示清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直接连接符 332"/>
          <p:cNvSpPr/>
          <p:nvPr/>
        </p:nvSpPr>
        <p:spPr>
          <a:xfrm>
            <a:off x="5148360" y="2349360"/>
            <a:ext cx="43164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直接连接符 333"/>
          <p:cNvSpPr/>
          <p:nvPr/>
        </p:nvSpPr>
        <p:spPr>
          <a:xfrm>
            <a:off x="5148360" y="4076640"/>
            <a:ext cx="43164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直接连接符 334"/>
          <p:cNvSpPr/>
          <p:nvPr/>
        </p:nvSpPr>
        <p:spPr>
          <a:xfrm>
            <a:off x="4788000" y="2852640"/>
            <a:ext cx="0" cy="43200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直接连接符 335"/>
          <p:cNvSpPr/>
          <p:nvPr/>
        </p:nvSpPr>
        <p:spPr>
          <a:xfrm>
            <a:off x="4788000" y="328464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AutoShape 43"/>
          <p:cNvSpPr/>
          <p:nvPr/>
        </p:nvSpPr>
        <p:spPr>
          <a:xfrm>
            <a:off x="2397240" y="4159080"/>
            <a:ext cx="1800000" cy="50832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推广活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Oval 46"/>
          <p:cNvSpPr/>
          <p:nvPr/>
        </p:nvSpPr>
        <p:spPr>
          <a:xfrm>
            <a:off x="2124000" y="4233960"/>
            <a:ext cx="338040" cy="33948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直接连接符 338"/>
          <p:cNvSpPr/>
          <p:nvPr/>
        </p:nvSpPr>
        <p:spPr>
          <a:xfrm>
            <a:off x="4427640" y="363528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直接连接符 339"/>
          <p:cNvSpPr/>
          <p:nvPr/>
        </p:nvSpPr>
        <p:spPr>
          <a:xfrm>
            <a:off x="5148360" y="1484280"/>
            <a:ext cx="0" cy="367344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直接连接符 340"/>
          <p:cNvSpPr/>
          <p:nvPr/>
        </p:nvSpPr>
        <p:spPr>
          <a:xfrm>
            <a:off x="5148360" y="148428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直接连接符 341"/>
          <p:cNvSpPr/>
          <p:nvPr/>
        </p:nvSpPr>
        <p:spPr>
          <a:xfrm>
            <a:off x="5148360" y="242100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直接连接符 342"/>
          <p:cNvSpPr/>
          <p:nvPr/>
        </p:nvSpPr>
        <p:spPr>
          <a:xfrm>
            <a:off x="5148360" y="422100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直接连接符 343"/>
          <p:cNvSpPr/>
          <p:nvPr/>
        </p:nvSpPr>
        <p:spPr>
          <a:xfrm>
            <a:off x="5148360" y="328464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直接连接符 344"/>
          <p:cNvSpPr/>
          <p:nvPr/>
        </p:nvSpPr>
        <p:spPr>
          <a:xfrm>
            <a:off x="4788000" y="3284640"/>
            <a:ext cx="0" cy="36036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直接连接符 345"/>
          <p:cNvSpPr/>
          <p:nvPr/>
        </p:nvSpPr>
        <p:spPr>
          <a:xfrm>
            <a:off x="4788000" y="328464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直接连接符 346"/>
          <p:cNvSpPr/>
          <p:nvPr/>
        </p:nvSpPr>
        <p:spPr>
          <a:xfrm>
            <a:off x="5148360" y="515772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矩形 347"/>
          <p:cNvSpPr/>
          <p:nvPr/>
        </p:nvSpPr>
        <p:spPr>
          <a:xfrm>
            <a:off x="5508720" y="119700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于借还柜台服务的印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矩形 348"/>
          <p:cNvSpPr/>
          <p:nvPr/>
        </p:nvSpPr>
        <p:spPr>
          <a:xfrm>
            <a:off x="5508720" y="2060640"/>
            <a:ext cx="26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于参考咨询室或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QQ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线咨询服务的印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矩形 349"/>
          <p:cNvSpPr/>
          <p:nvPr/>
        </p:nvSpPr>
        <p:spPr>
          <a:xfrm>
            <a:off x="5508720" y="292428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于昌北高校图书馆联盟服务的印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矩形 350"/>
          <p:cNvSpPr/>
          <p:nvPr/>
        </p:nvSpPr>
        <p:spPr>
          <a:xfrm>
            <a:off x="5508720" y="386064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常使用图书馆网页的功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矩形 351"/>
          <p:cNvSpPr/>
          <p:nvPr/>
        </p:nvSpPr>
        <p:spPr>
          <a:xfrm>
            <a:off x="5508720" y="4797360"/>
            <a:ext cx="26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何解决图书馆或资料库使用上的问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直接连接符 352"/>
          <p:cNvSpPr/>
          <p:nvPr/>
        </p:nvSpPr>
        <p:spPr>
          <a:xfrm>
            <a:off x="4788000" y="3284640"/>
            <a:ext cx="0" cy="115236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直接连接符 353"/>
          <p:cNvSpPr/>
          <p:nvPr/>
        </p:nvSpPr>
        <p:spPr>
          <a:xfrm>
            <a:off x="5148360" y="1700280"/>
            <a:ext cx="0" cy="316872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直接连接符 354"/>
          <p:cNvSpPr/>
          <p:nvPr/>
        </p:nvSpPr>
        <p:spPr>
          <a:xfrm>
            <a:off x="4197240" y="4413240"/>
            <a:ext cx="59076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直接连接符 355"/>
          <p:cNvSpPr/>
          <p:nvPr/>
        </p:nvSpPr>
        <p:spPr>
          <a:xfrm>
            <a:off x="5148360" y="170028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直接连接符 356"/>
          <p:cNvSpPr/>
          <p:nvPr/>
        </p:nvSpPr>
        <p:spPr>
          <a:xfrm>
            <a:off x="5148360" y="378936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直接连接符 357"/>
          <p:cNvSpPr/>
          <p:nvPr/>
        </p:nvSpPr>
        <p:spPr>
          <a:xfrm>
            <a:off x="5148360" y="278136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直接连接符 358"/>
          <p:cNvSpPr/>
          <p:nvPr/>
        </p:nvSpPr>
        <p:spPr>
          <a:xfrm>
            <a:off x="5148360" y="486900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直接连接符 359"/>
          <p:cNvSpPr/>
          <p:nvPr/>
        </p:nvSpPr>
        <p:spPr>
          <a:xfrm>
            <a:off x="4788000" y="328464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矩形 224"/>
          <p:cNvSpPr/>
          <p:nvPr/>
        </p:nvSpPr>
        <p:spPr>
          <a:xfrm>
            <a:off x="5576760" y="13525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利用教育培训课程内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矩形 225"/>
          <p:cNvSpPr/>
          <p:nvPr/>
        </p:nvSpPr>
        <p:spPr>
          <a:xfrm>
            <a:off x="5508720" y="24210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利用教育培训课程上课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矩形 226"/>
          <p:cNvSpPr/>
          <p:nvPr/>
        </p:nvSpPr>
        <p:spPr>
          <a:xfrm>
            <a:off x="5508720" y="34290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利用教育培训课程印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矩形 227"/>
          <p:cNvSpPr/>
          <p:nvPr/>
        </p:nvSpPr>
        <p:spPr>
          <a:xfrm>
            <a:off x="5508720" y="4508640"/>
            <a:ext cx="259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喜欢图书馆举办的活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直接连接符 364"/>
          <p:cNvSpPr/>
          <p:nvPr/>
        </p:nvSpPr>
        <p:spPr>
          <a:xfrm>
            <a:off x="4788000" y="3284640"/>
            <a:ext cx="0" cy="192708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直接连接符 365"/>
          <p:cNvSpPr/>
          <p:nvPr/>
        </p:nvSpPr>
        <p:spPr>
          <a:xfrm>
            <a:off x="3686040" y="5191200"/>
            <a:ext cx="110196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直接连接符 366"/>
          <p:cNvSpPr/>
          <p:nvPr/>
        </p:nvSpPr>
        <p:spPr>
          <a:xfrm>
            <a:off x="4788000" y="328464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直接连接符 367"/>
          <p:cNvSpPr/>
          <p:nvPr/>
        </p:nvSpPr>
        <p:spPr>
          <a:xfrm>
            <a:off x="5148360" y="2565360"/>
            <a:ext cx="0" cy="144000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直接连接符 368"/>
          <p:cNvSpPr/>
          <p:nvPr/>
        </p:nvSpPr>
        <p:spPr>
          <a:xfrm>
            <a:off x="5148360" y="256536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直接连接符 369"/>
          <p:cNvSpPr/>
          <p:nvPr/>
        </p:nvSpPr>
        <p:spPr>
          <a:xfrm>
            <a:off x="5148360" y="400536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矩形 227"/>
          <p:cNvSpPr/>
          <p:nvPr/>
        </p:nvSpPr>
        <p:spPr>
          <a:xfrm>
            <a:off x="5508720" y="3645000"/>
            <a:ext cx="259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希望通过何种方式得到图书馆的信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矩形 227"/>
          <p:cNvSpPr/>
          <p:nvPr/>
        </p:nvSpPr>
        <p:spPr>
          <a:xfrm>
            <a:off x="5508720" y="2205000"/>
            <a:ext cx="259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希望通过何种方式得到图书馆的信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（小方框遮罩层）矩形 52"/>
          <p:cNvSpPr/>
          <p:nvPr/>
        </p:nvSpPr>
        <p:spPr>
          <a:xfrm>
            <a:off x="214308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3" name="（2调查设计·蓝）组合 40"/>
          <p:cNvGrpSpPr/>
          <p:nvPr/>
        </p:nvGrpSpPr>
        <p:grpSpPr>
          <a:xfrm>
            <a:off x="2050920" y="115920"/>
            <a:ext cx="1729080" cy="673200"/>
            <a:chOff x="2050920" y="115920"/>
            <a:chExt cx="1729080" cy="673200"/>
          </a:xfrm>
        </p:grpSpPr>
        <p:grpSp>
          <p:nvGrpSpPr>
            <p:cNvPr id="394" name="（1绪论）组合 45"/>
            <p:cNvGrpSpPr/>
            <p:nvPr/>
          </p:nvGrpSpPr>
          <p:grpSpPr>
            <a:xfrm>
              <a:off x="2050920" y="115920"/>
              <a:ext cx="1729080" cy="673200"/>
              <a:chOff x="2050920" y="115920"/>
              <a:chExt cx="1729080" cy="673200"/>
            </a:xfrm>
          </p:grpSpPr>
          <p:sp>
            <p:nvSpPr>
              <p:cNvPr id="395" name="圆角矩形 39"/>
              <p:cNvSpPr/>
              <p:nvPr/>
            </p:nvSpPr>
            <p:spPr>
              <a:xfrm>
                <a:off x="212220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矩形 40"/>
              <p:cNvSpPr/>
              <p:nvPr/>
            </p:nvSpPr>
            <p:spPr>
              <a:xfrm>
                <a:off x="2141280" y="331920"/>
                <a:ext cx="154836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矩形 41"/>
              <p:cNvSpPr/>
              <p:nvPr/>
            </p:nvSpPr>
            <p:spPr>
              <a:xfrm>
                <a:off x="2050920" y="573120"/>
                <a:ext cx="172908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8" name="（1绪论）TextBox 72"/>
            <p:cNvSpPr/>
            <p:nvPr/>
          </p:nvSpPr>
          <p:spPr>
            <a:xfrm>
              <a:off x="2122920" y="11628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9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1" name="（1绪论·蓝）组合 40"/>
          <p:cNvGrpSpPr/>
          <p:nvPr/>
        </p:nvGrpSpPr>
        <p:grpSpPr>
          <a:xfrm>
            <a:off x="395280" y="115920"/>
            <a:ext cx="1728720" cy="673200"/>
            <a:chOff x="395280" y="115920"/>
            <a:chExt cx="1728720" cy="673200"/>
          </a:xfrm>
        </p:grpSpPr>
        <p:grpSp>
          <p:nvGrpSpPr>
            <p:cNvPr id="402" name="（1绪论）组合 45"/>
            <p:cNvGrpSpPr/>
            <p:nvPr/>
          </p:nvGrpSpPr>
          <p:grpSpPr>
            <a:xfrm>
              <a:off x="395280" y="115920"/>
              <a:ext cx="1728720" cy="673200"/>
              <a:chOff x="395280" y="115920"/>
              <a:chExt cx="1728720" cy="673200"/>
            </a:xfrm>
          </p:grpSpPr>
          <p:sp>
            <p:nvSpPr>
              <p:cNvPr id="403" name="圆角矩形 92"/>
              <p:cNvSpPr/>
              <p:nvPr/>
            </p:nvSpPr>
            <p:spPr>
              <a:xfrm>
                <a:off x="46656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矩形 93"/>
              <p:cNvSpPr/>
              <p:nvPr/>
            </p:nvSpPr>
            <p:spPr>
              <a:xfrm>
                <a:off x="48564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矩形 94"/>
              <p:cNvSpPr/>
              <p:nvPr/>
            </p:nvSpPr>
            <p:spPr>
              <a:xfrm>
                <a:off x="39528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6" name="（1绪论）TextBox 72"/>
            <p:cNvSpPr/>
            <p:nvPr/>
          </p:nvSpPr>
          <p:spPr>
            <a:xfrm>
              <a:off x="556920" y="11628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（左·遮盖）弧形 71"/>
          <p:cNvSpPr/>
          <p:nvPr/>
        </p:nvSpPr>
        <p:spPr>
          <a:xfrm>
            <a:off x="2124000" y="115920"/>
            <a:ext cx="179640" cy="181080"/>
          </a:xfrm>
          <a:custGeom>
            <a:avLst/>
            <a:gdLst/>
            <a:ahLst/>
            <a:rect l="l" t="t" r="r" b="b"/>
            <a:pathLst>
              <a:path stroke="0" w="179388" h="180975">
                <a:moveTo>
                  <a:pt x="500" y="100030"/>
                </a:moveTo>
                <a:cubicBezTo>
                  <a:pt x="-2102" y="75279"/>
                  <a:pt x="5517" y="50539"/>
                  <a:pt x="21564" y="31633"/>
                </a:cubicBezTo>
                <a:cubicBezTo>
                  <a:pt x="37799" y="12505"/>
                  <a:pt x="61202" y="1067"/>
                  <a:pt x="86144" y="71"/>
                </a:cubicBezTo>
                <a:lnTo>
                  <a:pt x="89694" y="90488"/>
                </a:lnTo>
                <a:lnTo>
                  <a:pt x="500" y="100030"/>
                </a:lnTo>
                <a:close/>
              </a:path>
              <a:path fill="none" w="179388" h="180975">
                <a:moveTo>
                  <a:pt x="500" y="100030"/>
                </a:moveTo>
                <a:cubicBezTo>
                  <a:pt x="-2102" y="75279"/>
                  <a:pt x="5517" y="50539"/>
                  <a:pt x="21564" y="31633"/>
                </a:cubicBezTo>
                <a:cubicBezTo>
                  <a:pt x="37799" y="12505"/>
                  <a:pt x="61202" y="1067"/>
                  <a:pt x="86144" y="71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（左·遮盖）直接连接符 74"/>
          <p:cNvSpPr/>
          <p:nvPr/>
        </p:nvSpPr>
        <p:spPr>
          <a:xfrm>
            <a:off x="21240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（右·遮盖）弧形 78"/>
          <p:cNvSpPr/>
          <p:nvPr/>
        </p:nvSpPr>
        <p:spPr>
          <a:xfrm rot="5400000">
            <a:off x="3526920" y="115560"/>
            <a:ext cx="181080" cy="18108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208" y="96612"/>
                </a:moveTo>
                <a:cubicBezTo>
                  <a:pt x="-1532" y="70959"/>
                  <a:pt x="7723" y="45777"/>
                  <a:pt x="25661" y="27356"/>
                </a:cubicBezTo>
                <a:cubicBezTo>
                  <a:pt x="43600" y="8935"/>
                  <a:pt x="68528" y="-984"/>
                  <a:pt x="94218" y="76"/>
                </a:cubicBezTo>
                <a:lnTo>
                  <a:pt x="90488" y="90488"/>
                </a:lnTo>
                <a:lnTo>
                  <a:pt x="208" y="96612"/>
                </a:lnTo>
                <a:close/>
              </a:path>
              <a:path fill="none" w="180975" h="180975">
                <a:moveTo>
                  <a:pt x="208" y="96612"/>
                </a:moveTo>
                <a:cubicBezTo>
                  <a:pt x="-1532" y="70959"/>
                  <a:pt x="7723" y="45777"/>
                  <a:pt x="25661" y="27356"/>
                </a:cubicBezTo>
                <a:cubicBezTo>
                  <a:pt x="43600" y="8935"/>
                  <a:pt x="68528" y="-984"/>
                  <a:pt x="94218" y="76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（右·遮盖）直接连接符 79"/>
          <p:cNvSpPr/>
          <p:nvPr/>
        </p:nvSpPr>
        <p:spPr>
          <a:xfrm>
            <a:off x="370836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（上·遮盖）直接连接符 84"/>
          <p:cNvSpPr/>
          <p:nvPr/>
        </p:nvSpPr>
        <p:spPr>
          <a:xfrm>
            <a:off x="2206800" y="115920"/>
            <a:ext cx="140796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（左·遮盖）弧形 71"/>
          <p:cNvSpPr/>
          <p:nvPr/>
        </p:nvSpPr>
        <p:spPr>
          <a:xfrm>
            <a:off x="468360" y="11592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30"/>
                </a:moveTo>
                <a:cubicBezTo>
                  <a:pt x="-2102" y="75279"/>
                  <a:pt x="5517" y="50539"/>
                  <a:pt x="21564" y="31633"/>
                </a:cubicBezTo>
                <a:cubicBezTo>
                  <a:pt x="37799" y="12505"/>
                  <a:pt x="61202" y="1067"/>
                  <a:pt x="86144" y="71"/>
                </a:cubicBezTo>
                <a:lnTo>
                  <a:pt x="89694" y="90488"/>
                </a:lnTo>
                <a:lnTo>
                  <a:pt x="500" y="100030"/>
                </a:lnTo>
                <a:close/>
              </a:path>
              <a:path fill="none" w="179387" h="180975">
                <a:moveTo>
                  <a:pt x="500" y="100030"/>
                </a:moveTo>
                <a:cubicBezTo>
                  <a:pt x="-2102" y="75279"/>
                  <a:pt x="5517" y="50539"/>
                  <a:pt x="21564" y="31633"/>
                </a:cubicBezTo>
                <a:cubicBezTo>
                  <a:pt x="37799" y="12505"/>
                  <a:pt x="61202" y="1067"/>
                  <a:pt x="86144" y="71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（左·遮盖）直接连接符 74"/>
          <p:cNvSpPr/>
          <p:nvPr/>
        </p:nvSpPr>
        <p:spPr>
          <a:xfrm>
            <a:off x="46836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（右·遮盖）弧形 78"/>
          <p:cNvSpPr/>
          <p:nvPr/>
        </p:nvSpPr>
        <p:spPr>
          <a:xfrm rot="5400000">
            <a:off x="1870560" y="116640"/>
            <a:ext cx="181080" cy="179280"/>
          </a:xfrm>
          <a:custGeom>
            <a:avLst/>
            <a:gdLst/>
            <a:ahLst/>
            <a:rect l="l" t="t" r="r" b="b"/>
            <a:pathLst>
              <a:path stroke="0" w="180975" h="179387">
                <a:moveTo>
                  <a:pt x="211" y="95818"/>
                </a:moveTo>
                <a:cubicBezTo>
                  <a:pt x="-1556" y="70235"/>
                  <a:pt x="7809" y="45126"/>
                  <a:pt x="25940" y="26834"/>
                </a:cubicBezTo>
                <a:cubicBezTo>
                  <a:pt x="43854" y="8760"/>
                  <a:pt x="68645" y="-961"/>
                  <a:pt x="94186" y="75"/>
                </a:cubicBezTo>
                <a:lnTo>
                  <a:pt x="90488" y="89694"/>
                </a:lnTo>
                <a:lnTo>
                  <a:pt x="211" y="95818"/>
                </a:lnTo>
                <a:close/>
              </a:path>
              <a:path fill="none" w="180975" h="179387">
                <a:moveTo>
                  <a:pt x="211" y="95818"/>
                </a:moveTo>
                <a:cubicBezTo>
                  <a:pt x="-1556" y="70235"/>
                  <a:pt x="7809" y="45126"/>
                  <a:pt x="25940" y="26834"/>
                </a:cubicBezTo>
                <a:cubicBezTo>
                  <a:pt x="43854" y="8760"/>
                  <a:pt x="68645" y="-961"/>
                  <a:pt x="94186" y="75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（右·遮盖）直接连接符 79"/>
          <p:cNvSpPr/>
          <p:nvPr/>
        </p:nvSpPr>
        <p:spPr>
          <a:xfrm flipH="1">
            <a:off x="2050560" y="209520"/>
            <a:ext cx="1800" cy="33012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（上·遮盖）直接连接符 84"/>
          <p:cNvSpPr/>
          <p:nvPr/>
        </p:nvSpPr>
        <p:spPr>
          <a:xfrm>
            <a:off x="550800" y="115920"/>
            <a:ext cx="140832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（小方框遮罩层）矩形 52"/>
          <p:cNvSpPr/>
          <p:nvPr/>
        </p:nvSpPr>
        <p:spPr>
          <a:xfrm>
            <a:off x="488880" y="511200"/>
            <a:ext cx="154944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0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95" dur="1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698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99" dur="5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7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703" dur="2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350"/>
                            </p:stCondLst>
                            <p:childTnLst>
                              <p:par>
                                <p:cTn id="706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07" dur="5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710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11" dur="1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5" dur="2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2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7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1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1050"/>
                            </p:stCondLst>
                            <p:childTnLst>
                              <p:par>
                                <p:cTn id="7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2" dur="2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7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7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2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0" dur="2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2" dur="2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7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3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3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7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2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2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2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2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2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2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7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2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7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2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2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8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2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8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2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2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6" dur="1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8" dur="1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2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8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6" dur="2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2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2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2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2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2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2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8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2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2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2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2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6 L 0.82674 -3.7037E-006 E">
                                      <p:cBhvr>
                                        <p:cTn id="862" dur="5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95 0.00254 L 0.82674 1.84971E-006 E">
                                      <p:cBhvr>
                                        <p:cTn id="864" dur="5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66" dur="5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68" dur="5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70" dur="5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72" dur="5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74" dur="5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76" dur="5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78" dur="5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80" dur="5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82" dur="5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84" dur="5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6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7" dur="1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9" dur="1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2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8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6" dur="2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8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2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2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2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2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2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2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9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2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2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2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2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33" dur="5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35" dur="5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37" dur="5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39" dur="5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41" dur="5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43" dur="5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45" dur="5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47" dur="5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49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51" dur="5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53" dur="5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55" dur="5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7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8" dur="1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9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60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9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2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9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8" dur="2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9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2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9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2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9" dur="2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2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2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2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993" dur="5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995" dur="5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997" dur="5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999" dur="5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1001" dur="5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1003" dur="5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1005" dur="5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1007" dur="5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0" dur="1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1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2" dur="1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0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1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0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1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0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1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2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1" dur="2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2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2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0" dur="2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2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0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2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2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3" dur="2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6" dur="2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9" dur="2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63" dur="5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65" dur="5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67" dur="5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69" dur="5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71" dur="5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73" dur="5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75" dur="5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77" dur="5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79" dur="5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81" dur="5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83" dur="5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85" dur="5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87" dur="5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89" dur="5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1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2" dur="1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4" dur="1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2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2" dur="2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2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2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2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6" dur="2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9" dur="2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2" dur="2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2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2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2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2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39" dur="5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41" dur="5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43" dur="5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45" dur="5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47" dur="5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49" dur="5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51" dur="5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53" dur="5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55" dur="5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57" dur="5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59" dur="5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61" dur="5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3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64" dur="1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66" dur="1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0" dur="2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2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8" dur="2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2" dur="2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2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8" dur="2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2" dur="2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5" dur="2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199" dur="5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01" dur="5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03" dur="5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05" dur="5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07" dur="5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09" dur="5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11" dur="5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13" dur="5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15" dur="5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17" dur="5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19" dur="5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21" dur="5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23" dur="5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25" dur="5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27" dur="5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29" dur="5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31" dur="5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33" dur="5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35" dur="5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37" dur="5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39" dur="5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41" dur="5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43" dur="5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99219 -3.38575E-006 C 1.19045 0.00047 1.93368 0.00208 2.18143 0.00278 E">
                                      <p:cBhvr>
                                        <p:cTn id="1247" dur="5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420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2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423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424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27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8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429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430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3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4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435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436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9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0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441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442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5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6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447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448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1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2" name="（信息传递方式）空心弧 88"/>
          <p:cNvSpPr/>
          <p:nvPr/>
        </p:nvSpPr>
        <p:spPr>
          <a:xfrm rot="3517800">
            <a:off x="2497680" y="1302480"/>
            <a:ext cx="4125960" cy="4041720"/>
          </a:xfrm>
          <a:custGeom>
            <a:avLst/>
            <a:gdLst/>
            <a:ahLst/>
            <a:rect l="l" t="t" r="r" b="b"/>
            <a:pathLst>
              <a:path w="4125913" h="4041775">
                <a:moveTo>
                  <a:pt x="7383" y="1850070"/>
                </a:moveTo>
                <a:cubicBezTo>
                  <a:pt x="61921" y="1220261"/>
                  <a:pt x="414126" y="651724"/>
                  <a:pt x="959242" y="313556"/>
                </a:cubicBezTo>
                <a:lnTo>
                  <a:pt x="1125131" y="570171"/>
                </a:lnTo>
                <a:cubicBezTo>
                  <a:pt x="659568" y="856901"/>
                  <a:pt x="358551" y="1339992"/>
                  <a:pt x="311853" y="1875372"/>
                </a:cubicBezTo>
                <a:lnTo>
                  <a:pt x="7383" y="185007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3" name="图片 63" descr="Blue hills.jpg"/>
          <p:cNvPicPr/>
          <p:nvPr/>
        </p:nvPicPr>
        <p:blipFill>
          <a:blip r:embed="rId3"/>
          <a:stretch/>
        </p:blipFill>
        <p:spPr>
          <a:xfrm>
            <a:off x="1042920" y="1127160"/>
            <a:ext cx="2882880" cy="1940040"/>
          </a:xfrm>
          <a:prstGeom prst="rect">
            <a:avLst/>
          </a:prstGeom>
          <a:ln w="0">
            <a:noFill/>
          </a:ln>
        </p:spPr>
      </p:pic>
      <p:pic>
        <p:nvPicPr>
          <p:cNvPr id="454" name="图片 64" descr="QQ截图20120523231927.png"/>
          <p:cNvPicPr/>
          <p:nvPr/>
        </p:nvPicPr>
        <p:blipFill>
          <a:blip r:embed="rId4"/>
          <a:stretch/>
        </p:blipFill>
        <p:spPr>
          <a:xfrm>
            <a:off x="1042920" y="3571920"/>
            <a:ext cx="2882880" cy="1944720"/>
          </a:xfrm>
          <a:prstGeom prst="rect">
            <a:avLst/>
          </a:prstGeom>
          <a:ln w="0">
            <a:noFill/>
          </a:ln>
        </p:spPr>
      </p:pic>
      <p:sp>
        <p:nvSpPr>
          <p:cNvPr id="455" name="圆角矩形 129"/>
          <p:cNvSpPr/>
          <p:nvPr/>
        </p:nvSpPr>
        <p:spPr>
          <a:xfrm>
            <a:off x="4429080" y="1590840"/>
            <a:ext cx="1871640" cy="10080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效纸质问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9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圆角矩形 130"/>
          <p:cNvSpPr/>
          <p:nvPr/>
        </p:nvSpPr>
        <p:spPr>
          <a:xfrm>
            <a:off x="4429080" y="4038480"/>
            <a:ext cx="1871640" cy="100836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效网络问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5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（方法）矩形 105"/>
          <p:cNvSpPr/>
          <p:nvPr/>
        </p:nvSpPr>
        <p:spPr>
          <a:xfrm rot="19469400">
            <a:off x="6608880" y="2792160"/>
            <a:ext cx="1498320" cy="10494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64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直接连接符 133"/>
          <p:cNvSpPr/>
          <p:nvPr/>
        </p:nvSpPr>
        <p:spPr>
          <a:xfrm flipV="1">
            <a:off x="3924360" y="2095560"/>
            <a:ext cx="504720" cy="144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直接连接符 134"/>
          <p:cNvSpPr/>
          <p:nvPr/>
        </p:nvSpPr>
        <p:spPr>
          <a:xfrm flipV="1">
            <a:off x="3927600" y="4543560"/>
            <a:ext cx="501480" cy="144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圆角矩形 142"/>
          <p:cNvSpPr/>
          <p:nvPr/>
        </p:nvSpPr>
        <p:spPr>
          <a:xfrm>
            <a:off x="-7597800" y="4941720"/>
            <a:ext cx="7201080" cy="10796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（小方框遮罩层）矩形 52"/>
          <p:cNvSpPr/>
          <p:nvPr/>
        </p:nvSpPr>
        <p:spPr>
          <a:xfrm>
            <a:off x="379872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3" name="（2调查设计·蓝）组合 40"/>
          <p:cNvGrpSpPr/>
          <p:nvPr/>
        </p:nvGrpSpPr>
        <p:grpSpPr>
          <a:xfrm>
            <a:off x="3706920" y="115920"/>
            <a:ext cx="1728720" cy="673200"/>
            <a:chOff x="3706920" y="115920"/>
            <a:chExt cx="1728720" cy="673200"/>
          </a:xfrm>
        </p:grpSpPr>
        <p:grpSp>
          <p:nvGrpSpPr>
            <p:cNvPr id="464" name="（1绪论）组合 45"/>
            <p:cNvGrpSpPr/>
            <p:nvPr/>
          </p:nvGrpSpPr>
          <p:grpSpPr>
            <a:xfrm>
              <a:off x="3706920" y="115920"/>
              <a:ext cx="1728720" cy="673200"/>
              <a:chOff x="3706920" y="115920"/>
              <a:chExt cx="1728720" cy="673200"/>
            </a:xfrm>
          </p:grpSpPr>
          <p:sp>
            <p:nvSpPr>
              <p:cNvPr id="465" name="圆角矩形 39"/>
              <p:cNvSpPr/>
              <p:nvPr/>
            </p:nvSpPr>
            <p:spPr>
              <a:xfrm>
                <a:off x="377820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6" name="矩形 40"/>
              <p:cNvSpPr/>
              <p:nvPr/>
            </p:nvSpPr>
            <p:spPr>
              <a:xfrm>
                <a:off x="379728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7" name="矩形 41"/>
              <p:cNvSpPr/>
              <p:nvPr/>
            </p:nvSpPr>
            <p:spPr>
              <a:xfrm>
                <a:off x="370692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68" name="（1绪论）TextBox 72"/>
            <p:cNvSpPr/>
            <p:nvPr/>
          </p:nvSpPr>
          <p:spPr>
            <a:xfrm>
              <a:off x="3707280" y="116280"/>
              <a:ext cx="17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9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1" name="（1绪论·蓝）组合 40"/>
          <p:cNvGrpSpPr/>
          <p:nvPr/>
        </p:nvGrpSpPr>
        <p:grpSpPr>
          <a:xfrm>
            <a:off x="2050920" y="115920"/>
            <a:ext cx="1729080" cy="673200"/>
            <a:chOff x="2050920" y="115920"/>
            <a:chExt cx="1729080" cy="673200"/>
          </a:xfrm>
        </p:grpSpPr>
        <p:grpSp>
          <p:nvGrpSpPr>
            <p:cNvPr id="472" name="（1绪论）组合 45"/>
            <p:cNvGrpSpPr/>
            <p:nvPr/>
          </p:nvGrpSpPr>
          <p:grpSpPr>
            <a:xfrm>
              <a:off x="2050920" y="115920"/>
              <a:ext cx="1729080" cy="673200"/>
              <a:chOff x="2050920" y="115920"/>
              <a:chExt cx="1729080" cy="673200"/>
            </a:xfrm>
          </p:grpSpPr>
          <p:sp>
            <p:nvSpPr>
              <p:cNvPr id="473" name="圆角矩形 92"/>
              <p:cNvSpPr/>
              <p:nvPr/>
            </p:nvSpPr>
            <p:spPr>
              <a:xfrm>
                <a:off x="212220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4" name="矩形 93"/>
              <p:cNvSpPr/>
              <p:nvPr/>
            </p:nvSpPr>
            <p:spPr>
              <a:xfrm>
                <a:off x="2141280" y="331920"/>
                <a:ext cx="154836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5" name="矩形 94"/>
              <p:cNvSpPr/>
              <p:nvPr/>
            </p:nvSpPr>
            <p:spPr>
              <a:xfrm>
                <a:off x="2050920" y="573120"/>
                <a:ext cx="172908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76" name="（1绪论）TextBox 72"/>
            <p:cNvSpPr/>
            <p:nvPr/>
          </p:nvSpPr>
          <p:spPr>
            <a:xfrm>
              <a:off x="2122920" y="11628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7" name="（左·遮盖）弧形 71"/>
          <p:cNvSpPr/>
          <p:nvPr/>
        </p:nvSpPr>
        <p:spPr>
          <a:xfrm>
            <a:off x="3780000" y="11592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30"/>
                </a:moveTo>
                <a:cubicBezTo>
                  <a:pt x="-2102" y="75279"/>
                  <a:pt x="5517" y="50539"/>
                  <a:pt x="21564" y="31633"/>
                </a:cubicBezTo>
                <a:cubicBezTo>
                  <a:pt x="37799" y="12505"/>
                  <a:pt x="61202" y="1067"/>
                  <a:pt x="86144" y="71"/>
                </a:cubicBezTo>
                <a:lnTo>
                  <a:pt x="89694" y="90488"/>
                </a:lnTo>
                <a:lnTo>
                  <a:pt x="500" y="100030"/>
                </a:lnTo>
                <a:close/>
              </a:path>
              <a:path fill="none" w="179387" h="180975">
                <a:moveTo>
                  <a:pt x="500" y="100030"/>
                </a:moveTo>
                <a:cubicBezTo>
                  <a:pt x="-2102" y="75279"/>
                  <a:pt x="5517" y="50539"/>
                  <a:pt x="21564" y="31633"/>
                </a:cubicBezTo>
                <a:cubicBezTo>
                  <a:pt x="37799" y="12505"/>
                  <a:pt x="61202" y="1067"/>
                  <a:pt x="86144" y="71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（左·遮盖）直接连接符 74"/>
          <p:cNvSpPr/>
          <p:nvPr/>
        </p:nvSpPr>
        <p:spPr>
          <a:xfrm>
            <a:off x="37800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（右·遮盖）弧形 78"/>
          <p:cNvSpPr/>
          <p:nvPr/>
        </p:nvSpPr>
        <p:spPr>
          <a:xfrm rot="5400000">
            <a:off x="5182920" y="115920"/>
            <a:ext cx="181080" cy="18072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208" y="96612"/>
                </a:moveTo>
                <a:cubicBezTo>
                  <a:pt x="-1532" y="70959"/>
                  <a:pt x="7723" y="45777"/>
                  <a:pt x="25661" y="27356"/>
                </a:cubicBezTo>
                <a:cubicBezTo>
                  <a:pt x="43600" y="8935"/>
                  <a:pt x="68528" y="-984"/>
                  <a:pt x="94218" y="76"/>
                </a:cubicBezTo>
                <a:lnTo>
                  <a:pt x="90488" y="90488"/>
                </a:lnTo>
                <a:lnTo>
                  <a:pt x="208" y="96612"/>
                </a:lnTo>
                <a:close/>
              </a:path>
              <a:path fill="none" w="180975" h="180975">
                <a:moveTo>
                  <a:pt x="208" y="96612"/>
                </a:moveTo>
                <a:cubicBezTo>
                  <a:pt x="-1532" y="70959"/>
                  <a:pt x="7723" y="45777"/>
                  <a:pt x="25661" y="27356"/>
                </a:cubicBezTo>
                <a:cubicBezTo>
                  <a:pt x="43600" y="8935"/>
                  <a:pt x="68528" y="-984"/>
                  <a:pt x="94218" y="76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（右·遮盖）直接连接符 79"/>
          <p:cNvSpPr/>
          <p:nvPr/>
        </p:nvSpPr>
        <p:spPr>
          <a:xfrm>
            <a:off x="5364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（上·遮盖）直接连接符 84"/>
          <p:cNvSpPr/>
          <p:nvPr/>
        </p:nvSpPr>
        <p:spPr>
          <a:xfrm>
            <a:off x="3862440" y="115920"/>
            <a:ext cx="140796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（左·遮盖）弧形 71"/>
          <p:cNvSpPr/>
          <p:nvPr/>
        </p:nvSpPr>
        <p:spPr>
          <a:xfrm>
            <a:off x="2124000" y="115920"/>
            <a:ext cx="179640" cy="181080"/>
          </a:xfrm>
          <a:custGeom>
            <a:avLst/>
            <a:gdLst/>
            <a:ahLst/>
            <a:rect l="l" t="t" r="r" b="b"/>
            <a:pathLst>
              <a:path stroke="0" w="179388" h="180975">
                <a:moveTo>
                  <a:pt x="500" y="100030"/>
                </a:moveTo>
                <a:cubicBezTo>
                  <a:pt x="-2102" y="75279"/>
                  <a:pt x="5517" y="50539"/>
                  <a:pt x="21564" y="31633"/>
                </a:cubicBezTo>
                <a:cubicBezTo>
                  <a:pt x="37799" y="12505"/>
                  <a:pt x="61202" y="1067"/>
                  <a:pt x="86144" y="71"/>
                </a:cubicBezTo>
                <a:lnTo>
                  <a:pt x="89694" y="90488"/>
                </a:lnTo>
                <a:lnTo>
                  <a:pt x="500" y="100030"/>
                </a:lnTo>
                <a:close/>
              </a:path>
              <a:path fill="none" w="179388" h="180975">
                <a:moveTo>
                  <a:pt x="500" y="100030"/>
                </a:moveTo>
                <a:cubicBezTo>
                  <a:pt x="-2102" y="75279"/>
                  <a:pt x="5517" y="50539"/>
                  <a:pt x="21564" y="31633"/>
                </a:cubicBezTo>
                <a:cubicBezTo>
                  <a:pt x="37799" y="12505"/>
                  <a:pt x="61202" y="1067"/>
                  <a:pt x="86144" y="71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（左·遮盖）直接连接符 74"/>
          <p:cNvSpPr/>
          <p:nvPr/>
        </p:nvSpPr>
        <p:spPr>
          <a:xfrm>
            <a:off x="21240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（右·遮盖）弧形 78"/>
          <p:cNvSpPr/>
          <p:nvPr/>
        </p:nvSpPr>
        <p:spPr>
          <a:xfrm rot="5400000">
            <a:off x="3526200" y="116280"/>
            <a:ext cx="181080" cy="179640"/>
          </a:xfrm>
          <a:custGeom>
            <a:avLst/>
            <a:gdLst/>
            <a:ahLst/>
            <a:rect l="l" t="t" r="r" b="b"/>
            <a:pathLst>
              <a:path stroke="0" w="180975" h="179388">
                <a:moveTo>
                  <a:pt x="211" y="95819"/>
                </a:moveTo>
                <a:cubicBezTo>
                  <a:pt x="-1556" y="70236"/>
                  <a:pt x="7809" y="45127"/>
                  <a:pt x="25940" y="26835"/>
                </a:cubicBezTo>
                <a:cubicBezTo>
                  <a:pt x="43854" y="8761"/>
                  <a:pt x="68645" y="-960"/>
                  <a:pt x="94186" y="76"/>
                </a:cubicBezTo>
                <a:lnTo>
                  <a:pt x="90488" y="89694"/>
                </a:lnTo>
                <a:lnTo>
                  <a:pt x="211" y="95819"/>
                </a:lnTo>
                <a:close/>
              </a:path>
              <a:path fill="none" w="180975" h="179388">
                <a:moveTo>
                  <a:pt x="211" y="95819"/>
                </a:moveTo>
                <a:cubicBezTo>
                  <a:pt x="-1556" y="70236"/>
                  <a:pt x="7809" y="45127"/>
                  <a:pt x="25940" y="26835"/>
                </a:cubicBezTo>
                <a:cubicBezTo>
                  <a:pt x="43854" y="8761"/>
                  <a:pt x="68645" y="-960"/>
                  <a:pt x="94186" y="76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（右·遮盖）直接连接符 79"/>
          <p:cNvSpPr/>
          <p:nvPr/>
        </p:nvSpPr>
        <p:spPr>
          <a:xfrm flipH="1">
            <a:off x="3706920" y="209520"/>
            <a:ext cx="1440" cy="33012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（上·遮盖）直接连接符 84"/>
          <p:cNvSpPr/>
          <p:nvPr/>
        </p:nvSpPr>
        <p:spPr>
          <a:xfrm>
            <a:off x="2206800" y="115920"/>
            <a:ext cx="140796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（小方框遮罩层）矩形 52"/>
          <p:cNvSpPr/>
          <p:nvPr/>
        </p:nvSpPr>
        <p:spPr>
          <a:xfrm>
            <a:off x="2144880" y="511200"/>
            <a:ext cx="15490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（频率）TextBox 81"/>
          <p:cNvSpPr/>
          <p:nvPr/>
        </p:nvSpPr>
        <p:spPr>
          <a:xfrm>
            <a:off x="2666880" y="1341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4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图书馆的频率统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2019240" y="2060640"/>
          <a:ext cx="5145120" cy="2663640"/>
        </p:xfrm>
        <a:graphic>
          <a:graphicData uri="http://schemas.openxmlformats.org/drawingml/2006/table">
            <a:tbl>
              <a:tblPr/>
              <a:tblGrid>
                <a:gridCol w="2265480"/>
                <a:gridCol w="1171440"/>
                <a:gridCol w="1708200"/>
              </a:tblGrid>
              <a:tr h="4446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选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小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比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4428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每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.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每星期至少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8.4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444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每个月至少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4.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31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每个学期至少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8.5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444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不曾到过图书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.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1" name=""/>
          <p:cNvGraphicFramePr/>
          <p:nvPr/>
        </p:nvGraphicFramePr>
        <p:xfrm>
          <a:off x="1332000" y="1916280"/>
          <a:ext cx="6553080" cy="3671640"/>
        </p:xfrm>
        <a:graphic>
          <a:graphicData uri="http://schemas.openxmlformats.org/drawingml/2006/table">
            <a:tbl>
              <a:tblPr/>
              <a:tblGrid>
                <a:gridCol w="4537080"/>
                <a:gridCol w="936360"/>
                <a:gridCol w="1079640"/>
              </a:tblGrid>
              <a:tr h="403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选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小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比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338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借书或还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2.0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2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自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84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看休闲性期刊或报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7.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2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使用视听中心的资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5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82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复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.4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使用电子资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9.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39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询问官员使用图书馆或电子资源相关问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5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参加图书馆举办的活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.5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82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其他（请说明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.4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92" name="（目的）TextBox 81"/>
          <p:cNvSpPr/>
          <p:nvPr/>
        </p:nvSpPr>
        <p:spPr>
          <a:xfrm>
            <a:off x="2700360" y="134136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7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使用目的统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2268360" y="1989000"/>
          <a:ext cx="4594320" cy="2592360"/>
        </p:xfrm>
        <a:graphic>
          <a:graphicData uri="http://schemas.openxmlformats.org/drawingml/2006/table">
            <a:tbl>
              <a:tblPr/>
              <a:tblGrid>
                <a:gridCol w="2287800"/>
                <a:gridCol w="996840"/>
                <a:gridCol w="1309680"/>
              </a:tblGrid>
              <a:tr h="432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选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小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比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431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早读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5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4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上午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8.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432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中午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下午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43164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晚上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以后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9.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2340000" y="1989000"/>
          <a:ext cx="4464000" cy="2592360"/>
        </p:xfrm>
        <a:graphic>
          <a:graphicData uri="http://schemas.openxmlformats.org/drawingml/2006/table">
            <a:tbl>
              <a:tblPr/>
              <a:tblGrid>
                <a:gridCol w="1847880"/>
                <a:gridCol w="1184400"/>
                <a:gridCol w="1431720"/>
              </a:tblGrid>
              <a:tr h="540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选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小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比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512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独自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2.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44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ff6f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bf5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6.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bf5ff"/>
                    </a:solidFill>
                  </a:tcPr>
                </a:tc>
              </a:tr>
              <a:tr h="512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2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2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人以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eff6f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eff6f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eff6fb"/>
                    </a:solidFill>
                  </a:tcPr>
                </a:tc>
              </a:tr>
            </a:tbl>
          </a:graphicData>
        </a:graphic>
      </p:graphicFrame>
      <p:sp>
        <p:nvSpPr>
          <p:cNvPr id="495" name="TextBox 85"/>
          <p:cNvSpPr/>
          <p:nvPr/>
        </p:nvSpPr>
        <p:spPr>
          <a:xfrm>
            <a:off x="2786040" y="1341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5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图书馆的时间统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TextBox 86"/>
          <p:cNvSpPr/>
          <p:nvPr/>
        </p:nvSpPr>
        <p:spPr>
          <a:xfrm>
            <a:off x="2771640" y="137304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6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否与同学一起统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7" name="组合 96"/>
          <p:cNvGrpSpPr/>
          <p:nvPr/>
        </p:nvGrpSpPr>
        <p:grpSpPr>
          <a:xfrm>
            <a:off x="-108360" y="117000"/>
            <a:ext cx="2306880" cy="2305800"/>
            <a:chOff x="-108360" y="117000"/>
            <a:chExt cx="2306880" cy="2305800"/>
          </a:xfrm>
        </p:grpSpPr>
        <p:sp>
          <p:nvSpPr>
            <p:cNvPr id="498" name="矩形 89"/>
            <p:cNvSpPr/>
            <p:nvPr/>
          </p:nvSpPr>
          <p:spPr>
            <a:xfrm rot="18900000">
              <a:off x="324720" y="96444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的与习惯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直角三角形 97"/>
            <p:cNvSpPr/>
            <p:nvPr/>
          </p:nvSpPr>
          <p:spPr>
            <a:xfrm rot="18900000">
              <a:off x="1459080" y="24372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直角三角形 105"/>
            <p:cNvSpPr/>
            <p:nvPr/>
          </p:nvSpPr>
          <p:spPr>
            <a:xfrm rot="13500000">
              <a:off x="18360" y="168300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nodeType="clickEffect" fill="hold">
                      <p:stCondLst>
                        <p:cond delay="0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56" dur="1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1259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60" dur="5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126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4" dur="2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nodeType="afterEffect" fill="hold">
                            <p:stCondLst>
                              <p:cond delay="350"/>
                            </p:stCondLst>
                            <p:childTnLst>
                              <p:par>
                                <p:cTn id="1267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268" dur="5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271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272" dur="1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5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6" dur="2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2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5" dur="1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9" dur="5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nodeType="afterEffect" fill="hold">
                            <p:stCondLst>
                              <p:cond delay="1050"/>
                            </p:stCondLst>
                            <p:childTnLst>
                              <p:par>
                                <p:cTn id="12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3" dur="2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2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7" dur="5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1" dur="2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1" dur="2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3" dur="2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7" dur="2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1" dur="1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5" dur="2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9" dur="2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3" dur="1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2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134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8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8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8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4" dur="8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976 0.00116 0.77952 0.00232 0.93542 0.00278 E">
                                      <p:cBhvr>
                                        <p:cTn id="1358" dur="5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976 0.00116 0.77952 0.00232 0.93542 0.00278 E">
                                      <p:cBhvr>
                                        <p:cTn id="1360" dur="500" fill="hold"/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976 0.00116 0.77952 0.00232 0.93542 0.00278 E">
                                      <p:cBhvr>
                                        <p:cTn id="1362" dur="5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976 0.00116 0.77952 0.00232 0.93542 0.00278 E">
                                      <p:cBhvr>
                                        <p:cTn id="1364" dur="500" fill="hold"/>
                                        <p:tgtEl>
                                          <p:spTgt spid="4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976 0.00116 0.77952 0.00232 0.93542 0.00278 E">
                                      <p:cBhvr>
                                        <p:cTn id="1366" dur="5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976 0.00116 0.77952 0.00232 0.93542 0.00278 E">
                                      <p:cBhvr>
                                        <p:cTn id="1368" dur="50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976 0.00116 0.77952 0.00232 0.93542 0.00278 E">
                                      <p:cBhvr>
                                        <p:cTn id="1370" dur="500" fill="hold"/>
                                        <p:tgtEl>
                                          <p:spTgt spid="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8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8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6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nodeType="clickEffect" fill="hold">
                      <p:stCondLst>
                        <p:cond delay="indefinite"/>
                      </p:stCondLst>
                      <p:childTnLst>
                        <p:par>
                          <p:cTn id="1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0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2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0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nodeType="clickEffect" fill="hold">
                      <p:stCondLst>
                        <p:cond delay="indefinite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1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1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nodeType="clickEffect" fill="hold">
                      <p:stCondLst>
                        <p:cond delay="indefinite"/>
                      </p:stCondLst>
                      <p:childTnLst>
                        <p:par>
                          <p:cTn id="1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3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2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3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502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4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505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506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09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0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511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512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5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6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517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518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9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21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2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523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524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27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8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529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530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1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2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33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4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（小方框遮罩层）矩形 52"/>
          <p:cNvSpPr/>
          <p:nvPr/>
        </p:nvSpPr>
        <p:spPr>
          <a:xfrm>
            <a:off x="379872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6" name="（2调查设计·蓝）组合 40"/>
          <p:cNvGrpSpPr/>
          <p:nvPr/>
        </p:nvGrpSpPr>
        <p:grpSpPr>
          <a:xfrm>
            <a:off x="3706920" y="115920"/>
            <a:ext cx="1728720" cy="673200"/>
            <a:chOff x="3706920" y="115920"/>
            <a:chExt cx="1728720" cy="673200"/>
          </a:xfrm>
        </p:grpSpPr>
        <p:grpSp>
          <p:nvGrpSpPr>
            <p:cNvPr id="537" name="（1绪论）组合 45"/>
            <p:cNvGrpSpPr/>
            <p:nvPr/>
          </p:nvGrpSpPr>
          <p:grpSpPr>
            <a:xfrm>
              <a:off x="3706920" y="115920"/>
              <a:ext cx="1728720" cy="673200"/>
              <a:chOff x="3706920" y="115920"/>
              <a:chExt cx="1728720" cy="673200"/>
            </a:xfrm>
          </p:grpSpPr>
          <p:sp>
            <p:nvSpPr>
              <p:cNvPr id="538" name="圆角矩形 39"/>
              <p:cNvSpPr/>
              <p:nvPr/>
            </p:nvSpPr>
            <p:spPr>
              <a:xfrm>
                <a:off x="377820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9" name="矩形 40"/>
              <p:cNvSpPr/>
              <p:nvPr/>
            </p:nvSpPr>
            <p:spPr>
              <a:xfrm>
                <a:off x="379728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0" name="矩形 41"/>
              <p:cNvSpPr/>
              <p:nvPr/>
            </p:nvSpPr>
            <p:spPr>
              <a:xfrm>
                <a:off x="370692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41" name="（1绪论）TextBox 72"/>
            <p:cNvSpPr/>
            <p:nvPr/>
          </p:nvSpPr>
          <p:spPr>
            <a:xfrm>
              <a:off x="3707280" y="116280"/>
              <a:ext cx="17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2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（左·遮盖）弧形 71"/>
          <p:cNvSpPr/>
          <p:nvPr/>
        </p:nvSpPr>
        <p:spPr>
          <a:xfrm>
            <a:off x="3780000" y="11592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30"/>
                </a:moveTo>
                <a:cubicBezTo>
                  <a:pt x="-2102" y="75279"/>
                  <a:pt x="5517" y="50539"/>
                  <a:pt x="21564" y="31633"/>
                </a:cubicBezTo>
                <a:cubicBezTo>
                  <a:pt x="37799" y="12505"/>
                  <a:pt x="61202" y="1067"/>
                  <a:pt x="86144" y="71"/>
                </a:cubicBezTo>
                <a:lnTo>
                  <a:pt x="89694" y="90488"/>
                </a:lnTo>
                <a:lnTo>
                  <a:pt x="500" y="100030"/>
                </a:lnTo>
                <a:close/>
              </a:path>
              <a:path fill="none" w="179387" h="180975">
                <a:moveTo>
                  <a:pt x="500" y="100030"/>
                </a:moveTo>
                <a:cubicBezTo>
                  <a:pt x="-2102" y="75279"/>
                  <a:pt x="5517" y="50539"/>
                  <a:pt x="21564" y="31633"/>
                </a:cubicBezTo>
                <a:cubicBezTo>
                  <a:pt x="37799" y="12505"/>
                  <a:pt x="61202" y="1067"/>
                  <a:pt x="86144" y="71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（左·遮盖）直接连接符 74"/>
          <p:cNvSpPr/>
          <p:nvPr/>
        </p:nvSpPr>
        <p:spPr>
          <a:xfrm>
            <a:off x="37800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（右·遮盖）弧形 78"/>
          <p:cNvSpPr/>
          <p:nvPr/>
        </p:nvSpPr>
        <p:spPr>
          <a:xfrm rot="5400000">
            <a:off x="5182920" y="115920"/>
            <a:ext cx="181080" cy="18072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208" y="96612"/>
                </a:moveTo>
                <a:cubicBezTo>
                  <a:pt x="-1532" y="70959"/>
                  <a:pt x="7723" y="45777"/>
                  <a:pt x="25661" y="27356"/>
                </a:cubicBezTo>
                <a:cubicBezTo>
                  <a:pt x="43600" y="8935"/>
                  <a:pt x="68528" y="-984"/>
                  <a:pt x="94218" y="76"/>
                </a:cubicBezTo>
                <a:lnTo>
                  <a:pt x="90488" y="90488"/>
                </a:lnTo>
                <a:lnTo>
                  <a:pt x="208" y="96612"/>
                </a:lnTo>
                <a:close/>
              </a:path>
              <a:path fill="none" w="180975" h="180975">
                <a:moveTo>
                  <a:pt x="208" y="96612"/>
                </a:moveTo>
                <a:cubicBezTo>
                  <a:pt x="-1532" y="70959"/>
                  <a:pt x="7723" y="45777"/>
                  <a:pt x="25661" y="27356"/>
                </a:cubicBezTo>
                <a:cubicBezTo>
                  <a:pt x="43600" y="8935"/>
                  <a:pt x="68528" y="-984"/>
                  <a:pt x="94218" y="76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（右·遮盖）直接连接符 79"/>
          <p:cNvSpPr/>
          <p:nvPr/>
        </p:nvSpPr>
        <p:spPr>
          <a:xfrm>
            <a:off x="5364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（上·遮盖）直接连接符 84"/>
          <p:cNvSpPr/>
          <p:nvPr/>
        </p:nvSpPr>
        <p:spPr>
          <a:xfrm>
            <a:off x="3862440" y="115920"/>
            <a:ext cx="140796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0" name="组合 96"/>
          <p:cNvGrpSpPr/>
          <p:nvPr/>
        </p:nvGrpSpPr>
        <p:grpSpPr>
          <a:xfrm>
            <a:off x="-101880" y="121680"/>
            <a:ext cx="2306520" cy="2305800"/>
            <a:chOff x="-101880" y="121680"/>
            <a:chExt cx="2306520" cy="2305800"/>
          </a:xfrm>
        </p:grpSpPr>
        <p:sp>
          <p:nvSpPr>
            <p:cNvPr id="551" name="矩形 89"/>
            <p:cNvSpPr/>
            <p:nvPr/>
          </p:nvSpPr>
          <p:spPr>
            <a:xfrm rot="18900000">
              <a:off x="331200" y="96876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馆藏质量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直角三角形 97"/>
            <p:cNvSpPr/>
            <p:nvPr/>
          </p:nvSpPr>
          <p:spPr>
            <a:xfrm rot="18900000">
              <a:off x="1465200" y="24840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直角三角形 105"/>
            <p:cNvSpPr/>
            <p:nvPr/>
          </p:nvSpPr>
          <p:spPr>
            <a:xfrm rot="13500000">
              <a:off x="24840" y="168768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554" name=""/>
          <p:cNvGraphicFramePr/>
          <p:nvPr/>
        </p:nvGraphicFramePr>
        <p:xfrm>
          <a:off x="1476360" y="1700280"/>
          <a:ext cx="6337440" cy="3703680"/>
        </p:xfrm>
        <a:graphic>
          <a:graphicData uri="http://schemas.openxmlformats.org/drawingml/2006/table">
            <a:tbl>
              <a:tblPr/>
              <a:tblGrid>
                <a:gridCol w="2448000"/>
                <a:gridCol w="2313000"/>
                <a:gridCol w="1576440"/>
              </a:tblGrid>
              <a:tr h="387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选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最常使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应加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图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5.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.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.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.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报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3.4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8.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.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.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全文数据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9.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视听资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3.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考试平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其他（请说明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5" name=""/>
          <p:cNvGraphicFramePr/>
          <p:nvPr/>
        </p:nvGraphicFramePr>
        <p:xfrm>
          <a:off x="1258920" y="1700280"/>
          <a:ext cx="6912000" cy="3672000"/>
        </p:xfrm>
        <a:graphic>
          <a:graphicData uri="http://schemas.openxmlformats.org/drawingml/2006/table">
            <a:tbl>
              <a:tblPr/>
              <a:tblGrid>
                <a:gridCol w="1128600"/>
                <a:gridCol w="1128960"/>
                <a:gridCol w="1122120"/>
                <a:gridCol w="1065240"/>
                <a:gridCol w="1187640"/>
                <a:gridCol w="1279440"/>
              </a:tblGrid>
              <a:tr h="350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类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图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视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331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文学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5.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8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.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4.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9.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科普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4.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9.7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1.4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9.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2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33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经管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4.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0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.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.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艺术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7.5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9.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3.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4.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2.0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31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理工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6.6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8.5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.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史地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0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.5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.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.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.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33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军事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9.8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.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9.8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6.6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8.5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外文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1.4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.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23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未使用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.9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8.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9.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6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.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5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2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6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sp>
        <p:nvSpPr>
          <p:cNvPr id="556" name="（加强馆藏类别）TextBox 81"/>
          <p:cNvSpPr/>
          <p:nvPr/>
        </p:nvSpPr>
        <p:spPr>
          <a:xfrm>
            <a:off x="1835280" y="1157400"/>
            <a:ext cx="56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汇总表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2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各类型馆藏应加强的类别汇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TextBox 72"/>
          <p:cNvSpPr/>
          <p:nvPr/>
        </p:nvSpPr>
        <p:spPr>
          <a:xfrm>
            <a:off x="1835280" y="1157400"/>
            <a:ext cx="54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汇总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1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常使用及应加强馆藏类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圆角矩形 73"/>
          <p:cNvSpPr/>
          <p:nvPr/>
        </p:nvSpPr>
        <p:spPr>
          <a:xfrm>
            <a:off x="1258920" y="5516640"/>
            <a:ext cx="554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由 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1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1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12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13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14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汇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圆角矩形 74"/>
          <p:cNvSpPr/>
          <p:nvPr/>
        </p:nvSpPr>
        <p:spPr>
          <a:xfrm>
            <a:off x="1484280" y="5516640"/>
            <a:ext cx="258300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由 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8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9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汇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0" name="组合 96"/>
          <p:cNvGrpSpPr/>
          <p:nvPr/>
        </p:nvGrpSpPr>
        <p:grpSpPr>
          <a:xfrm>
            <a:off x="-108360" y="117000"/>
            <a:ext cx="2306880" cy="2305800"/>
            <a:chOff x="-108360" y="117000"/>
            <a:chExt cx="2306880" cy="2305800"/>
          </a:xfrm>
        </p:grpSpPr>
        <p:sp>
          <p:nvSpPr>
            <p:cNvPr id="561" name="矩形 76"/>
            <p:cNvSpPr/>
            <p:nvPr/>
          </p:nvSpPr>
          <p:spPr>
            <a:xfrm rot="18900000">
              <a:off x="324720" y="96444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的与习惯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直角三角形 77"/>
            <p:cNvSpPr/>
            <p:nvPr/>
          </p:nvSpPr>
          <p:spPr>
            <a:xfrm rot="18900000">
              <a:off x="1459080" y="24372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直角三角形 78"/>
            <p:cNvSpPr/>
            <p:nvPr/>
          </p:nvSpPr>
          <p:spPr>
            <a:xfrm rot="13500000">
              <a:off x="18360" y="168300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435" dur="indefinite" restart="never" nodeType="tmRoot">
          <p:childTnLst>
            <p:seq>
              <p:cTn id="1436" dur="indefinite" nodeType="mainSeq">
                <p:childTnLst>
                  <p:par>
                    <p:cTn id="1437" nodeType="clickEffect" fill="hold">
                      <p:stCondLst>
                        <p:cond delay="0"/>
                      </p:stCondLst>
                      <p:childTnLst>
                        <p:par>
                          <p:cTn id="1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4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nodeType="clickEffect" fill="hold">
                      <p:stCondLst>
                        <p:cond delay="indefinite"/>
                      </p:stCondLst>
                      <p:childTnLst>
                        <p:par>
                          <p:cTn id="1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5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6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4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6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nodeType="clickEffect" fill="hold">
                      <p:stCondLst>
                        <p:cond delay="indefinite"/>
                      </p:stCondLst>
                      <p:childTnLst>
                        <p:par>
                          <p:cTn id="1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8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2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8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5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8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565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7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568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569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0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1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2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3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574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575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8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9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580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581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84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5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586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587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90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1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592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593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4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96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7" name="（信息传递方式）空心弧 88"/>
          <p:cNvSpPr/>
          <p:nvPr/>
        </p:nvSpPr>
        <p:spPr>
          <a:xfrm rot="3517800">
            <a:off x="2497680" y="1302480"/>
            <a:ext cx="4125960" cy="4041720"/>
          </a:xfrm>
          <a:custGeom>
            <a:avLst/>
            <a:gdLst/>
            <a:ahLst/>
            <a:rect l="l" t="t" r="r" b="b"/>
            <a:pathLst>
              <a:path w="4125913" h="4041775">
                <a:moveTo>
                  <a:pt x="7383" y="1850070"/>
                </a:moveTo>
                <a:cubicBezTo>
                  <a:pt x="61921" y="1220261"/>
                  <a:pt x="414126" y="651724"/>
                  <a:pt x="959242" y="313556"/>
                </a:cubicBezTo>
                <a:lnTo>
                  <a:pt x="1125131" y="570171"/>
                </a:lnTo>
                <a:cubicBezTo>
                  <a:pt x="659568" y="856901"/>
                  <a:pt x="358551" y="1339992"/>
                  <a:pt x="311853" y="1875372"/>
                </a:cubicBezTo>
                <a:lnTo>
                  <a:pt x="7383" y="185007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（小方框遮罩层）矩形 52"/>
          <p:cNvSpPr/>
          <p:nvPr/>
        </p:nvSpPr>
        <p:spPr>
          <a:xfrm>
            <a:off x="379872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0" name="（2调查设计·蓝）组合 40"/>
          <p:cNvGrpSpPr/>
          <p:nvPr/>
        </p:nvGrpSpPr>
        <p:grpSpPr>
          <a:xfrm>
            <a:off x="3706920" y="115920"/>
            <a:ext cx="1728720" cy="673200"/>
            <a:chOff x="3706920" y="115920"/>
            <a:chExt cx="1728720" cy="673200"/>
          </a:xfrm>
        </p:grpSpPr>
        <p:grpSp>
          <p:nvGrpSpPr>
            <p:cNvPr id="601" name="（1绪论）组合 45"/>
            <p:cNvGrpSpPr/>
            <p:nvPr/>
          </p:nvGrpSpPr>
          <p:grpSpPr>
            <a:xfrm>
              <a:off x="3706920" y="115920"/>
              <a:ext cx="1728720" cy="673200"/>
              <a:chOff x="3706920" y="115920"/>
              <a:chExt cx="1728720" cy="673200"/>
            </a:xfrm>
          </p:grpSpPr>
          <p:sp>
            <p:nvSpPr>
              <p:cNvPr id="602" name="圆角矩形 39"/>
              <p:cNvSpPr/>
              <p:nvPr/>
            </p:nvSpPr>
            <p:spPr>
              <a:xfrm>
                <a:off x="377820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矩形 40"/>
              <p:cNvSpPr/>
              <p:nvPr/>
            </p:nvSpPr>
            <p:spPr>
              <a:xfrm>
                <a:off x="379728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矩形 41"/>
              <p:cNvSpPr/>
              <p:nvPr/>
            </p:nvSpPr>
            <p:spPr>
              <a:xfrm>
                <a:off x="370692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5" name="（1绪论）TextBox 72"/>
            <p:cNvSpPr/>
            <p:nvPr/>
          </p:nvSpPr>
          <p:spPr>
            <a:xfrm>
              <a:off x="3707280" y="116280"/>
              <a:ext cx="17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6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（左·遮盖）弧形 71"/>
          <p:cNvSpPr/>
          <p:nvPr/>
        </p:nvSpPr>
        <p:spPr>
          <a:xfrm>
            <a:off x="3780000" y="11592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30"/>
                </a:moveTo>
                <a:cubicBezTo>
                  <a:pt x="-2102" y="75279"/>
                  <a:pt x="5517" y="50539"/>
                  <a:pt x="21564" y="31633"/>
                </a:cubicBezTo>
                <a:cubicBezTo>
                  <a:pt x="37799" y="12505"/>
                  <a:pt x="61202" y="1067"/>
                  <a:pt x="86144" y="71"/>
                </a:cubicBezTo>
                <a:lnTo>
                  <a:pt x="89694" y="90488"/>
                </a:lnTo>
                <a:lnTo>
                  <a:pt x="500" y="100030"/>
                </a:lnTo>
                <a:close/>
              </a:path>
              <a:path fill="none" w="179387" h="180975">
                <a:moveTo>
                  <a:pt x="500" y="100030"/>
                </a:moveTo>
                <a:cubicBezTo>
                  <a:pt x="-2102" y="75279"/>
                  <a:pt x="5517" y="50539"/>
                  <a:pt x="21564" y="31633"/>
                </a:cubicBezTo>
                <a:cubicBezTo>
                  <a:pt x="37799" y="12505"/>
                  <a:pt x="61202" y="1067"/>
                  <a:pt x="86144" y="71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（左·遮盖）直接连接符 74"/>
          <p:cNvSpPr/>
          <p:nvPr/>
        </p:nvSpPr>
        <p:spPr>
          <a:xfrm>
            <a:off x="37800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（右·遮盖）弧形 78"/>
          <p:cNvSpPr/>
          <p:nvPr/>
        </p:nvSpPr>
        <p:spPr>
          <a:xfrm rot="5400000">
            <a:off x="5182920" y="115920"/>
            <a:ext cx="181080" cy="18072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208" y="96612"/>
                </a:moveTo>
                <a:cubicBezTo>
                  <a:pt x="-1532" y="70959"/>
                  <a:pt x="7723" y="45777"/>
                  <a:pt x="25661" y="27356"/>
                </a:cubicBezTo>
                <a:cubicBezTo>
                  <a:pt x="43600" y="8935"/>
                  <a:pt x="68528" y="-984"/>
                  <a:pt x="94218" y="76"/>
                </a:cubicBezTo>
                <a:lnTo>
                  <a:pt x="90488" y="90488"/>
                </a:lnTo>
                <a:lnTo>
                  <a:pt x="208" y="96612"/>
                </a:lnTo>
                <a:close/>
              </a:path>
              <a:path fill="none" w="180975" h="180975">
                <a:moveTo>
                  <a:pt x="208" y="96612"/>
                </a:moveTo>
                <a:cubicBezTo>
                  <a:pt x="-1532" y="70959"/>
                  <a:pt x="7723" y="45777"/>
                  <a:pt x="25661" y="27356"/>
                </a:cubicBezTo>
                <a:cubicBezTo>
                  <a:pt x="43600" y="8935"/>
                  <a:pt x="68528" y="-984"/>
                  <a:pt x="94218" y="76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（右·遮盖）直接连接符 79"/>
          <p:cNvSpPr/>
          <p:nvPr/>
        </p:nvSpPr>
        <p:spPr>
          <a:xfrm>
            <a:off x="5364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（上·遮盖）直接连接符 84"/>
          <p:cNvSpPr/>
          <p:nvPr/>
        </p:nvSpPr>
        <p:spPr>
          <a:xfrm>
            <a:off x="3862440" y="115920"/>
            <a:ext cx="140796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2556000" y="2498760"/>
          <a:ext cx="3624120" cy="2984400"/>
        </p:xfrm>
        <a:graphic>
          <a:graphicData uri="http://schemas.openxmlformats.org/drawingml/2006/table">
            <a:tbl>
              <a:tblPr/>
              <a:tblGrid>
                <a:gridCol w="1938240"/>
                <a:gridCol w="758880"/>
                <a:gridCol w="927000"/>
              </a:tblGrid>
              <a:tr h="287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选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比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27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借阅、还书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.9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2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文期刊、报纸阅览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.1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272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外文期刊阅览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电子阅览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2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2714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参考咨询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2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北区借阅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5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27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北区期刊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0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2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自习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.4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2415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曾使用图书馆阅读空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2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其他（请说明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5" name=""/>
          <p:cNvGraphicFramePr/>
          <p:nvPr/>
        </p:nvGraphicFramePr>
        <p:xfrm>
          <a:off x="3276720" y="3525840"/>
          <a:ext cx="3456000" cy="1924200"/>
        </p:xfrm>
        <a:graphic>
          <a:graphicData uri="http://schemas.openxmlformats.org/drawingml/2006/table">
            <a:tbl>
              <a:tblPr/>
              <a:tblGrid>
                <a:gridCol w="1349280"/>
                <a:gridCol w="842760"/>
                <a:gridCol w="1263960"/>
              </a:tblGrid>
              <a:tr h="287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选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比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27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整体清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.9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2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气氛宁静、舒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.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2714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灯光足够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阅览座位足够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2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272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标示清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3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其他（请说明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sp>
        <p:nvSpPr>
          <p:cNvPr id="616" name="圆角矩形 89"/>
          <p:cNvSpPr/>
          <p:nvPr/>
        </p:nvSpPr>
        <p:spPr>
          <a:xfrm>
            <a:off x="3851280" y="1413000"/>
            <a:ext cx="1440000" cy="6109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书馆环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2390760" y="2451240"/>
          <a:ext cx="3168720" cy="1611000"/>
        </p:xfrm>
        <a:graphic>
          <a:graphicData uri="http://schemas.openxmlformats.org/drawingml/2006/table">
            <a:tbl>
              <a:tblPr/>
              <a:tblGrid>
                <a:gridCol w="1871640"/>
                <a:gridCol w="576360"/>
                <a:gridCol w="720720"/>
              </a:tblGrid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选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比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馆员态度亲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2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馆员可以解答我的问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1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馆员需要加强专业知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9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馆员沟通不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6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对于图书馆的新措施表示清楚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曾使用借还书柜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其他（请说明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6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8" name=""/>
          <p:cNvGraphicFramePr/>
          <p:nvPr/>
        </p:nvGraphicFramePr>
        <p:xfrm>
          <a:off x="2678040" y="2811600"/>
          <a:ext cx="3471840" cy="1598400"/>
        </p:xfrm>
        <a:graphic>
          <a:graphicData uri="http://schemas.openxmlformats.org/drawingml/2006/table">
            <a:tbl>
              <a:tblPr/>
              <a:tblGrid>
                <a:gridCol w="2247840"/>
                <a:gridCol w="576360"/>
                <a:gridCol w="647640"/>
              </a:tblGrid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选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比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馆员态度亲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9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馆员可以解答我的问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5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馆员需要加强专业知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6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馆员沟通不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2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81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对于图书馆的新措施表示清楚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曾使用参考咨询室或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Q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在线咨询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.7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其他（请说明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9" name=""/>
          <p:cNvGraphicFramePr/>
          <p:nvPr/>
        </p:nvGraphicFramePr>
        <p:xfrm>
          <a:off x="3038400" y="3206880"/>
          <a:ext cx="3246480" cy="1779480"/>
        </p:xfrm>
        <a:graphic>
          <a:graphicData uri="http://schemas.openxmlformats.org/drawingml/2006/table">
            <a:tbl>
              <a:tblPr/>
              <a:tblGrid>
                <a:gridCol w="1878120"/>
                <a:gridCol w="647640"/>
                <a:gridCol w="720720"/>
              </a:tblGrid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选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比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馆员态度亲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6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帮助很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7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借阅速度太慢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9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借阅流程复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8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全文数据库检索查询不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图书检索目录查询不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0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曾使用昌北高校图书馆联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.9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其他（请说明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0" name=""/>
          <p:cNvGraphicFramePr/>
          <p:nvPr/>
        </p:nvGraphicFramePr>
        <p:xfrm>
          <a:off x="3325680" y="3578400"/>
          <a:ext cx="3035520" cy="1212840"/>
        </p:xfrm>
        <a:graphic>
          <a:graphicData uri="http://schemas.openxmlformats.org/drawingml/2006/table">
            <a:tbl>
              <a:tblPr/>
              <a:tblGrid>
                <a:gridCol w="1738440"/>
                <a:gridCol w="576360"/>
                <a:gridCol w="720720"/>
              </a:tblGrid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选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比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查询馆藏目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5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查询电子资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.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587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推荐图书、期刊或视听资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8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2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查询资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9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曾使用图书馆网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其他（请说明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3614760" y="3963960"/>
          <a:ext cx="3622680" cy="1598760"/>
        </p:xfrm>
        <a:graphic>
          <a:graphicData uri="http://schemas.openxmlformats.org/drawingml/2006/table">
            <a:tbl>
              <a:tblPr/>
              <a:tblGrid>
                <a:gridCol w="2325600"/>
                <a:gridCol w="649440"/>
                <a:gridCol w="647640"/>
              </a:tblGrid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选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比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到图书馆咨询馆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.4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打电话咨询图书馆馆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0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8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ail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或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Q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问读者咨询服务的馆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4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问同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.5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自己想办法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9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曾有图书馆或资料库使用上的问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其他（请说明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22" name="圆角矩形 78"/>
          <p:cNvSpPr/>
          <p:nvPr/>
        </p:nvSpPr>
        <p:spPr>
          <a:xfrm>
            <a:off x="3851280" y="1413000"/>
            <a:ext cx="1440000" cy="6127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书馆服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1908000" y="2282760"/>
          <a:ext cx="4178520" cy="1032120"/>
        </p:xfrm>
        <a:graphic>
          <a:graphicData uri="http://schemas.openxmlformats.org/drawingml/2006/table">
            <a:tbl>
              <a:tblPr/>
              <a:tblGrid>
                <a:gridCol w="2133720"/>
                <a:gridCol w="1359000"/>
                <a:gridCol w="685800"/>
              </a:tblGrid>
              <a:tr h="190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选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比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605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图书馆介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.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7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电子资源检索技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.4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单个数据库检索技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6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5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需要图书馆利用教育课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其他（请说明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4" name=""/>
          <p:cNvGraphicFramePr/>
          <p:nvPr/>
        </p:nvGraphicFramePr>
        <p:xfrm>
          <a:off x="2197080" y="2643120"/>
          <a:ext cx="4213080" cy="1263600"/>
        </p:xfrm>
        <a:graphic>
          <a:graphicData uri="http://schemas.openxmlformats.org/drawingml/2006/table">
            <a:tbl>
              <a:tblPr/>
              <a:tblGrid>
                <a:gridCol w="2168640"/>
                <a:gridCol w="1358640"/>
                <a:gridCol w="685800"/>
              </a:tblGrid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选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比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文字说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4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视频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.1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互动课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7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聊天室或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Q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3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8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需要图书馆利用教育课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2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其他（请说明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5" name=""/>
          <p:cNvGraphicFramePr/>
          <p:nvPr/>
        </p:nvGraphicFramePr>
        <p:xfrm>
          <a:off x="2590920" y="3005280"/>
          <a:ext cx="4322520" cy="1806480"/>
        </p:xfrm>
        <a:graphic>
          <a:graphicData uri="http://schemas.openxmlformats.org/drawingml/2006/table">
            <a:tbl>
              <a:tblPr/>
              <a:tblGrid>
                <a:gridCol w="2278080"/>
                <a:gridCol w="1358640"/>
                <a:gridCol w="685800"/>
              </a:tblGrid>
              <a:tr h="190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选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比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0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馆员态度热诚、专业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帮助很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2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有一点帮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7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内容不切合需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场地不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馆员表达能力不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时间安排不合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81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曾参加图书馆利用教育课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4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其他（请说明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6" name=""/>
          <p:cNvGraphicFramePr/>
          <p:nvPr/>
        </p:nvGraphicFramePr>
        <p:xfrm>
          <a:off x="2878200" y="3362400"/>
          <a:ext cx="4425840" cy="2298600"/>
        </p:xfrm>
        <a:graphic>
          <a:graphicData uri="http://schemas.openxmlformats.org/drawingml/2006/table">
            <a:tbl>
              <a:tblPr/>
              <a:tblGrid>
                <a:gridCol w="2381040"/>
                <a:gridCol w="1359000"/>
                <a:gridCol w="685800"/>
              </a:tblGrid>
              <a:tr h="190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选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比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60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图书馆利用教育培训课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6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书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.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有奖问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2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征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9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图书荐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7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书目推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4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搜索竞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演讲比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6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79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读者之星”评选活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6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馆员体验之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05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曾参加过图书馆举办的活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.5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其他（请说明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sp>
        <p:nvSpPr>
          <p:cNvPr id="627" name="圆角矩形 83"/>
          <p:cNvSpPr/>
          <p:nvPr/>
        </p:nvSpPr>
        <p:spPr>
          <a:xfrm>
            <a:off x="3848040" y="1419120"/>
            <a:ext cx="1440000" cy="6127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广活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2413080" y="2496960"/>
          <a:ext cx="4314600" cy="1936800"/>
        </p:xfrm>
        <a:graphic>
          <a:graphicData uri="http://schemas.openxmlformats.org/drawingml/2006/table">
            <a:tbl>
              <a:tblPr/>
              <a:tblGrid>
                <a:gridCol w="2270160"/>
                <a:gridCol w="1358640"/>
                <a:gridCol w="685800"/>
              </a:tblGrid>
              <a:tr h="190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选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比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海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.3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横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.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0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日新网、交大新闻主页等公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图书馆网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7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食堂电子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图书馆馆内公告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3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图书馆在线咨询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Q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班委宣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7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0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知道图书馆举办的活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5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其他（请说明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9" name=""/>
          <p:cNvGraphicFramePr/>
          <p:nvPr/>
        </p:nvGraphicFramePr>
        <p:xfrm>
          <a:off x="2700360" y="2930400"/>
          <a:ext cx="4121280" cy="2687760"/>
        </p:xfrm>
        <a:graphic>
          <a:graphicData uri="http://schemas.openxmlformats.org/drawingml/2006/table">
            <a:tbl>
              <a:tblPr/>
              <a:tblGrid>
                <a:gridCol w="2076480"/>
                <a:gridCol w="1359000"/>
                <a:gridCol w="685800"/>
              </a:tblGrid>
              <a:tr h="190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选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比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海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.3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横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8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日新网、交大主页公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6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图书馆网页的快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5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食堂电子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.5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图书馆馆内宣传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7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Q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班委宣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.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79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人人网公共主页或人人小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9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新浪微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7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Q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空间公共主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3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希望得到图书馆的信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8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知道图书馆举办的活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6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其他（请说明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sp>
        <p:nvSpPr>
          <p:cNvPr id="630" name="圆角矩形 86"/>
          <p:cNvSpPr/>
          <p:nvPr/>
        </p:nvSpPr>
        <p:spPr>
          <a:xfrm>
            <a:off x="3851280" y="1413000"/>
            <a:ext cx="1440000" cy="6127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传递方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1" name="组合 96"/>
          <p:cNvGrpSpPr/>
          <p:nvPr/>
        </p:nvGrpSpPr>
        <p:grpSpPr>
          <a:xfrm>
            <a:off x="-108360" y="117000"/>
            <a:ext cx="2306880" cy="2305800"/>
            <a:chOff x="-108360" y="117000"/>
            <a:chExt cx="2306880" cy="2305800"/>
          </a:xfrm>
        </p:grpSpPr>
        <p:sp>
          <p:nvSpPr>
            <p:cNvPr id="632" name="矩形 97"/>
            <p:cNvSpPr/>
            <p:nvPr/>
          </p:nvSpPr>
          <p:spPr>
            <a:xfrm rot="18900000">
              <a:off x="324720" y="96444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馆藏质量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直角三角形 105"/>
            <p:cNvSpPr/>
            <p:nvPr/>
          </p:nvSpPr>
          <p:spPr>
            <a:xfrm rot="18900000">
              <a:off x="1459080" y="24372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直角三角形 107"/>
            <p:cNvSpPr/>
            <p:nvPr/>
          </p:nvSpPr>
          <p:spPr>
            <a:xfrm rot="13500000">
              <a:off x="18360" y="168300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488" dur="indefinite" restart="never" nodeType="tmRoot">
          <p:childTnLst>
            <p:seq>
              <p:cTn id="1489" dur="indefinite" nodeType="mainSeq">
                <p:childTnLst>
                  <p:par>
                    <p:cTn id="1490" nodeType="clickEffect" fill="hold">
                      <p:stCondLst>
                        <p:cond delay="0"/>
                      </p:stCondLst>
                      <p:childTnLst>
                        <p:par>
                          <p:cTn id="1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9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nodeType="clickEffect" fill="hold">
                      <p:stCondLst>
                        <p:cond delay="indefinite"/>
                      </p:stCondLst>
                      <p:childTnLst>
                        <p:par>
                          <p:cTn id="1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0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0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1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3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1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8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4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nodeType="clickEffect" fill="hold">
                      <p:stCondLst>
                        <p:cond delay="indefinite"/>
                      </p:stCondLst>
                      <p:childTnLst>
                        <p:par>
                          <p:cTn id="1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3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0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4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3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4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6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4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9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5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2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5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0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nodeType="clickEffect" fill="hold">
                      <p:stCondLst>
                        <p:cond delay="indefinite"/>
                      </p:stCondLst>
                      <p:childTnLst>
                        <p:par>
                          <p:cTn id="1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74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6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7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9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2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5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4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nodeType="clickEffect" fill="hold">
                      <p:stCondLst>
                        <p:cond delay="indefinite"/>
                      </p:stCondLst>
                      <p:childTnLst>
                        <p:par>
                          <p:cTn id="1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0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04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6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0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636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8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639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640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3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4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645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646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9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0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651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652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4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5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6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657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658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9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61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2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663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664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67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8" name="（信息传递方式）空心弧 88"/>
          <p:cNvSpPr/>
          <p:nvPr/>
        </p:nvSpPr>
        <p:spPr>
          <a:xfrm rot="3517800">
            <a:off x="2497680" y="1302480"/>
            <a:ext cx="4125960" cy="4041720"/>
          </a:xfrm>
          <a:custGeom>
            <a:avLst/>
            <a:gdLst/>
            <a:ahLst/>
            <a:rect l="l" t="t" r="r" b="b"/>
            <a:pathLst>
              <a:path w="4125913" h="4041775">
                <a:moveTo>
                  <a:pt x="7383" y="1850070"/>
                </a:moveTo>
                <a:cubicBezTo>
                  <a:pt x="61921" y="1220261"/>
                  <a:pt x="414126" y="651724"/>
                  <a:pt x="959242" y="313556"/>
                </a:cubicBezTo>
                <a:lnTo>
                  <a:pt x="1125131" y="570171"/>
                </a:lnTo>
                <a:cubicBezTo>
                  <a:pt x="659568" y="856901"/>
                  <a:pt x="358551" y="1339992"/>
                  <a:pt x="311853" y="1875372"/>
                </a:cubicBezTo>
                <a:lnTo>
                  <a:pt x="7383" y="185007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（小方框遮罩层）矩形 52"/>
          <p:cNvSpPr/>
          <p:nvPr/>
        </p:nvSpPr>
        <p:spPr>
          <a:xfrm>
            <a:off x="379872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（2调查设计·蓝）组合 40"/>
          <p:cNvGrpSpPr/>
          <p:nvPr/>
        </p:nvGrpSpPr>
        <p:grpSpPr>
          <a:xfrm>
            <a:off x="3706920" y="115920"/>
            <a:ext cx="1728720" cy="673200"/>
            <a:chOff x="3706920" y="115920"/>
            <a:chExt cx="1728720" cy="673200"/>
          </a:xfrm>
        </p:grpSpPr>
        <p:grpSp>
          <p:nvGrpSpPr>
            <p:cNvPr id="672" name="（1绪论）组合 45"/>
            <p:cNvGrpSpPr/>
            <p:nvPr/>
          </p:nvGrpSpPr>
          <p:grpSpPr>
            <a:xfrm>
              <a:off x="3706920" y="115920"/>
              <a:ext cx="1728720" cy="673200"/>
              <a:chOff x="3706920" y="115920"/>
              <a:chExt cx="1728720" cy="673200"/>
            </a:xfrm>
          </p:grpSpPr>
          <p:sp>
            <p:nvSpPr>
              <p:cNvPr id="673" name="圆角矩形 39"/>
              <p:cNvSpPr/>
              <p:nvPr/>
            </p:nvSpPr>
            <p:spPr>
              <a:xfrm>
                <a:off x="377820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矩形 40"/>
              <p:cNvSpPr/>
              <p:nvPr/>
            </p:nvSpPr>
            <p:spPr>
              <a:xfrm>
                <a:off x="379728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矩形 41"/>
              <p:cNvSpPr/>
              <p:nvPr/>
            </p:nvSpPr>
            <p:spPr>
              <a:xfrm>
                <a:off x="370692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76" name="（1绪论）TextBox 72"/>
            <p:cNvSpPr/>
            <p:nvPr/>
          </p:nvSpPr>
          <p:spPr>
            <a:xfrm>
              <a:off x="3707280" y="116280"/>
              <a:ext cx="17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7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（左·遮盖）弧形 71"/>
          <p:cNvSpPr/>
          <p:nvPr/>
        </p:nvSpPr>
        <p:spPr>
          <a:xfrm>
            <a:off x="3780000" y="11592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30"/>
                </a:moveTo>
                <a:cubicBezTo>
                  <a:pt x="-2102" y="75279"/>
                  <a:pt x="5517" y="50539"/>
                  <a:pt x="21564" y="31633"/>
                </a:cubicBezTo>
                <a:cubicBezTo>
                  <a:pt x="37799" y="12505"/>
                  <a:pt x="61202" y="1067"/>
                  <a:pt x="86144" y="71"/>
                </a:cubicBezTo>
                <a:lnTo>
                  <a:pt x="89694" y="90488"/>
                </a:lnTo>
                <a:lnTo>
                  <a:pt x="500" y="100030"/>
                </a:lnTo>
                <a:close/>
              </a:path>
              <a:path fill="none" w="179387" h="180975">
                <a:moveTo>
                  <a:pt x="500" y="100030"/>
                </a:moveTo>
                <a:cubicBezTo>
                  <a:pt x="-2102" y="75279"/>
                  <a:pt x="5517" y="50539"/>
                  <a:pt x="21564" y="31633"/>
                </a:cubicBezTo>
                <a:cubicBezTo>
                  <a:pt x="37799" y="12505"/>
                  <a:pt x="61202" y="1067"/>
                  <a:pt x="86144" y="71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（左·遮盖）直接连接符 74"/>
          <p:cNvSpPr/>
          <p:nvPr/>
        </p:nvSpPr>
        <p:spPr>
          <a:xfrm>
            <a:off x="37800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（右·遮盖）弧形 78"/>
          <p:cNvSpPr/>
          <p:nvPr/>
        </p:nvSpPr>
        <p:spPr>
          <a:xfrm rot="5400000">
            <a:off x="5182920" y="115920"/>
            <a:ext cx="181080" cy="18072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208" y="96612"/>
                </a:moveTo>
                <a:cubicBezTo>
                  <a:pt x="-1532" y="70959"/>
                  <a:pt x="7723" y="45777"/>
                  <a:pt x="25661" y="27356"/>
                </a:cubicBezTo>
                <a:cubicBezTo>
                  <a:pt x="43600" y="8935"/>
                  <a:pt x="68528" y="-984"/>
                  <a:pt x="94218" y="76"/>
                </a:cubicBezTo>
                <a:lnTo>
                  <a:pt x="90488" y="90488"/>
                </a:lnTo>
                <a:lnTo>
                  <a:pt x="208" y="96612"/>
                </a:lnTo>
                <a:close/>
              </a:path>
              <a:path fill="none" w="180975" h="180975">
                <a:moveTo>
                  <a:pt x="208" y="96612"/>
                </a:moveTo>
                <a:cubicBezTo>
                  <a:pt x="-1532" y="70959"/>
                  <a:pt x="7723" y="45777"/>
                  <a:pt x="25661" y="27356"/>
                </a:cubicBezTo>
                <a:cubicBezTo>
                  <a:pt x="43600" y="8935"/>
                  <a:pt x="68528" y="-984"/>
                  <a:pt x="94218" y="76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（右·遮盖）直接连接符 79"/>
          <p:cNvSpPr/>
          <p:nvPr/>
        </p:nvSpPr>
        <p:spPr>
          <a:xfrm>
            <a:off x="5364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（上·遮盖）直接连接符 84"/>
          <p:cNvSpPr/>
          <p:nvPr/>
        </p:nvSpPr>
        <p:spPr>
          <a:xfrm>
            <a:off x="3862440" y="115920"/>
            <a:ext cx="140796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5" name=""/>
          <p:cNvGraphicFramePr/>
          <p:nvPr/>
        </p:nvGraphicFramePr>
        <p:xfrm>
          <a:off x="1835280" y="1700280"/>
          <a:ext cx="6337080" cy="3816360"/>
        </p:xfrm>
        <a:graphic>
          <a:graphicData uri="http://schemas.openxmlformats.org/drawingml/2006/table">
            <a:tbl>
              <a:tblPr/>
              <a:tblGrid>
                <a:gridCol w="2447640"/>
                <a:gridCol w="2313000"/>
                <a:gridCol w="1576440"/>
              </a:tblGrid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选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最常使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应加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图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5.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.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.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.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报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3.4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8.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.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.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全文数据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9.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视听资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3.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考试平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其他（请说明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86" name="组合 96"/>
          <p:cNvGrpSpPr/>
          <p:nvPr/>
        </p:nvGrpSpPr>
        <p:grpSpPr>
          <a:xfrm>
            <a:off x="-101880" y="121680"/>
            <a:ext cx="2306520" cy="2305800"/>
            <a:chOff x="-101880" y="121680"/>
            <a:chExt cx="2306520" cy="2305800"/>
          </a:xfrm>
        </p:grpSpPr>
        <p:sp>
          <p:nvSpPr>
            <p:cNvPr id="687" name="矩形 105"/>
            <p:cNvSpPr/>
            <p:nvPr/>
          </p:nvSpPr>
          <p:spPr>
            <a:xfrm rot="18900000">
              <a:off x="331200" y="96876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满意度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直角三角形 106"/>
            <p:cNvSpPr/>
            <p:nvPr/>
          </p:nvSpPr>
          <p:spPr>
            <a:xfrm rot="18900000">
              <a:off x="1465200" y="24840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直角三角形 107"/>
            <p:cNvSpPr/>
            <p:nvPr/>
          </p:nvSpPr>
          <p:spPr>
            <a:xfrm rot="13500000">
              <a:off x="24840" y="168768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690" name=""/>
          <p:cNvGraphicFramePr/>
          <p:nvPr/>
        </p:nvGraphicFramePr>
        <p:xfrm>
          <a:off x="900000" y="1989000"/>
          <a:ext cx="7488360" cy="3292560"/>
        </p:xfrm>
        <a:graphic>
          <a:graphicData uri="http://schemas.openxmlformats.org/drawingml/2006/table">
            <a:tbl>
              <a:tblPr/>
              <a:tblGrid>
                <a:gridCol w="1279800"/>
                <a:gridCol w="1177920"/>
                <a:gridCol w="1284120"/>
                <a:gridCol w="1284120"/>
                <a:gridCol w="1284480"/>
                <a:gridCol w="1177920"/>
              </a:tblGrid>
              <a:tr h="274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项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cbd9e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非常满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cbd9e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满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cbd9e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普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cbd9e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不满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cbd9e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非常不满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cbd9eb"/>
                    </a:solidFill>
                  </a:tcPr>
                </a:tc>
              </a:tr>
              <a:tr h="823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图书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馆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49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8.54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9.79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6.70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49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3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图书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环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.43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4.15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0.43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9.04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5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</a:tr>
              <a:tr h="823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图书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服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.43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9.72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3.62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9.04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.19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3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图书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活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5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8.19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2.48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.18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.19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</a:tr>
              <a:tr h="823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整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满意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48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4.86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1.13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.33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.19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91" name="TextBox 109"/>
          <p:cNvSpPr/>
          <p:nvPr/>
        </p:nvSpPr>
        <p:spPr>
          <a:xfrm>
            <a:off x="2916360" y="141300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28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满意度统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Text Box 4"/>
          <p:cNvSpPr/>
          <p:nvPr/>
        </p:nvSpPr>
        <p:spPr>
          <a:xfrm>
            <a:off x="888840" y="602280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09" dur="indefinite" restart="never" nodeType="tmRoot">
          <p:childTnLst>
            <p:seq>
              <p:cTn id="1610" dur="indefinite" nodeType="mainSeq">
                <p:childTnLst>
                  <p:par>
                    <p:cTn id="1611" nodeType="clickEffect" fill="hold">
                      <p:stCondLst>
                        <p:cond delay="0"/>
                      </p:stCondLst>
                      <p:childTnLst>
                        <p:par>
                          <p:cTn id="1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5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05:16:49Z</dcterms:created>
  <dc:creator>幻灯片 http://www.eeppt.com</dc:creator>
  <dc:description/>
  <cp:keywords>幻灯片 http:/www.eeppt.com</cp:keywords>
  <dc:language>en-US</dc:language>
  <cp:lastModifiedBy/>
  <dcterms:modified xsi:type="dcterms:W3CDTF">2015-07-24T08:05:22Z</dcterms:modified>
  <cp:revision>0</cp:revision>
  <dc:subject/>
  <dc:title/>
</cp:coreProperties>
</file>