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90F-2E7D-4DA1-98BD-0EE8A7CA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937-3FFC-471B-9FF1-B106AB20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C4B-C4BE-4F6E-B570-E27F1A74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2066-C548-4EE9-8423-1913BB25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E88-6B2D-4163-AC85-2E2CF33D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D52-B9AC-4434-A304-1FA7ED59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DA0-4CA8-4C4C-A446-5AFEF7EC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06C-7747-4E76-97BB-FDD77537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8D8-EAEE-49D1-A611-66D4BD3D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7E2-4989-482C-9C46-D1247463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A69-338D-46C5-A7FD-DCB2918C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583-7601-409F-A2B2-793472AE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8A7EC6-E96C-4D11-9B71-B1AEB828C54A}" type="slidenum"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"/>
          <p:cNvPicPr/>
          <p:nvPr/>
        </p:nvPicPr>
        <p:blipFill>
          <a:blip r:embed="rId1"/>
          <a:stretch/>
        </p:blipFill>
        <p:spPr>
          <a:xfrm>
            <a:off x="7801920" y="5517360"/>
            <a:ext cx="1341720" cy="1340280"/>
          </a:xfrm>
          <a:prstGeom prst="rect">
            <a:avLst/>
          </a:prstGeom>
          <a:ln w="0">
            <a:noFill/>
          </a:ln>
        </p:spPr>
      </p:pic>
      <p:pic>
        <p:nvPicPr>
          <p:cNvPr id="42" name="그림 8" descr=""/>
          <p:cNvPicPr/>
          <p:nvPr/>
        </p:nvPicPr>
        <p:blipFill>
          <a:blip r:embed="rId2"/>
          <a:srcRect l="0" t="6753" r="0" b="0"/>
          <a:stretch/>
        </p:blipFill>
        <p:spPr>
          <a:xfrm>
            <a:off x="0" y="462960"/>
            <a:ext cx="9143640" cy="6394680"/>
          </a:xfrm>
          <a:prstGeom prst="rect">
            <a:avLst/>
          </a:prstGeom>
          <a:ln w="0">
            <a:noFill/>
          </a:ln>
        </p:spPr>
      </p:pic>
      <p:sp>
        <p:nvSpPr>
          <p:cNvPr id="43" name="직사각형 9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2908440" y="2139120"/>
            <a:ext cx="4366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圆球创意现代科技</a:t>
            </a:r>
            <a:r>
              <a:rPr b="0" lang="en-US" sz="4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7080120" y="3993120"/>
            <a:ext cx="1595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Speaker </a:t>
            </a:r>
            <a:r>
              <a:rPr b="0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책쟁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그림 1" descr=""/>
          <p:cNvPicPr/>
          <p:nvPr/>
        </p:nvPicPr>
        <p:blipFill>
          <a:blip r:embed="rId1"/>
          <a:stretch/>
        </p:blipFill>
        <p:spPr>
          <a:xfrm>
            <a:off x="1772640" y="1329480"/>
            <a:ext cx="5598000" cy="4198320"/>
          </a:xfrm>
          <a:prstGeom prst="rect">
            <a:avLst/>
          </a:prstGeom>
          <a:ln w="0">
            <a:noFill/>
          </a:ln>
        </p:spPr>
      </p:pic>
      <p:sp>
        <p:nvSpPr>
          <p:cNvPr id="200" name="직사각형 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201" name="직사각형 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3" descr=""/>
          <p:cNvPicPr/>
          <p:nvPr/>
        </p:nvPicPr>
        <p:blipFill>
          <a:blip r:embed="rId1"/>
          <a:stretch/>
        </p:blipFill>
        <p:spPr>
          <a:xfrm>
            <a:off x="7801920" y="5517360"/>
            <a:ext cx="1341720" cy="1340280"/>
          </a:xfrm>
          <a:prstGeom prst="rect">
            <a:avLst/>
          </a:prstGeom>
          <a:ln w="0">
            <a:noFill/>
          </a:ln>
        </p:spPr>
      </p:pic>
      <p:pic>
        <p:nvPicPr>
          <p:cNvPr id="48" name="그림 8" descr=""/>
          <p:cNvPicPr/>
          <p:nvPr/>
        </p:nvPicPr>
        <p:blipFill>
          <a:blip r:embed="rId2"/>
          <a:srcRect l="0" t="6753" r="0" b="0"/>
          <a:stretch/>
        </p:blipFill>
        <p:spPr>
          <a:xfrm>
            <a:off x="0" y="462960"/>
            <a:ext cx="9143640" cy="6394680"/>
          </a:xfrm>
          <a:prstGeom prst="rect">
            <a:avLst/>
          </a:prstGeom>
          <a:ln w="0">
            <a:noFill/>
          </a:ln>
        </p:spPr>
      </p:pic>
      <p:sp>
        <p:nvSpPr>
          <p:cNvPr id="49" name="직사각형 9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758520" y="980640"/>
            <a:ext cx="189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nde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그룹 1"/>
          <p:cNvGrpSpPr/>
          <p:nvPr/>
        </p:nvGrpSpPr>
        <p:grpSpPr>
          <a:xfrm>
            <a:off x="5076000" y="1772640"/>
            <a:ext cx="1711800" cy="399960"/>
            <a:chOff x="5076000" y="1772640"/>
            <a:chExt cx="1711800" cy="399960"/>
          </a:xfrm>
        </p:grpSpPr>
        <p:sp>
          <p:nvSpPr>
            <p:cNvPr id="52" name="TextBox 11"/>
            <p:cNvSpPr/>
            <p:nvPr/>
          </p:nvSpPr>
          <p:spPr>
            <a:xfrm>
              <a:off x="5530680" y="1772640"/>
              <a:ext cx="1257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그림 6" descr=""/>
            <p:cNvPicPr/>
            <p:nvPr/>
          </p:nvPicPr>
          <p:blipFill>
            <a:blip r:embed="rId3"/>
            <a:srcRect l="9888" t="37859" r="58159" b="21769"/>
            <a:stretch/>
          </p:blipFill>
          <p:spPr>
            <a:xfrm>
              <a:off x="5076000" y="1772640"/>
              <a:ext cx="4219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그룹 12"/>
          <p:cNvGrpSpPr/>
          <p:nvPr/>
        </p:nvGrpSpPr>
        <p:grpSpPr>
          <a:xfrm>
            <a:off x="5081760" y="2493720"/>
            <a:ext cx="1711800" cy="399960"/>
            <a:chOff x="5081760" y="2493720"/>
            <a:chExt cx="1711800" cy="399960"/>
          </a:xfrm>
        </p:grpSpPr>
        <p:sp>
          <p:nvSpPr>
            <p:cNvPr id="55" name="TextBox 13"/>
            <p:cNvSpPr/>
            <p:nvPr/>
          </p:nvSpPr>
          <p:spPr>
            <a:xfrm>
              <a:off x="5536440" y="2493720"/>
              <a:ext cx="1257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그림 14" descr=""/>
            <p:cNvPicPr/>
            <p:nvPr/>
          </p:nvPicPr>
          <p:blipFill>
            <a:blip r:embed="rId4"/>
            <a:srcRect l="9888" t="37859" r="58159" b="21769"/>
            <a:stretch/>
          </p:blipFill>
          <p:spPr>
            <a:xfrm>
              <a:off x="5081760" y="2493720"/>
              <a:ext cx="4219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그룹 15"/>
          <p:cNvGrpSpPr/>
          <p:nvPr/>
        </p:nvGrpSpPr>
        <p:grpSpPr>
          <a:xfrm>
            <a:off x="5087160" y="3214440"/>
            <a:ext cx="1711800" cy="399960"/>
            <a:chOff x="5087160" y="3214440"/>
            <a:chExt cx="1711800" cy="399960"/>
          </a:xfrm>
        </p:grpSpPr>
        <p:sp>
          <p:nvSpPr>
            <p:cNvPr id="58" name="TextBox 16"/>
            <p:cNvSpPr/>
            <p:nvPr/>
          </p:nvSpPr>
          <p:spPr>
            <a:xfrm>
              <a:off x="5541840" y="3214440"/>
              <a:ext cx="1257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그림 17" descr=""/>
            <p:cNvPicPr/>
            <p:nvPr/>
          </p:nvPicPr>
          <p:blipFill>
            <a:blip r:embed="rId5"/>
            <a:srcRect l="9888" t="37859" r="58159" b="21769"/>
            <a:stretch/>
          </p:blipFill>
          <p:spPr>
            <a:xfrm>
              <a:off x="5087160" y="3214440"/>
              <a:ext cx="4219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그룹 18"/>
          <p:cNvGrpSpPr/>
          <p:nvPr/>
        </p:nvGrpSpPr>
        <p:grpSpPr>
          <a:xfrm>
            <a:off x="5092920" y="3935160"/>
            <a:ext cx="1711800" cy="399960"/>
            <a:chOff x="5092920" y="3935160"/>
            <a:chExt cx="1711800" cy="399960"/>
          </a:xfrm>
        </p:grpSpPr>
        <p:sp>
          <p:nvSpPr>
            <p:cNvPr id="61" name="TextBox 19"/>
            <p:cNvSpPr/>
            <p:nvPr/>
          </p:nvSpPr>
          <p:spPr>
            <a:xfrm>
              <a:off x="5547600" y="3935160"/>
              <a:ext cx="1257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그림 20" descr=""/>
            <p:cNvPicPr/>
            <p:nvPr/>
          </p:nvPicPr>
          <p:blipFill>
            <a:blip r:embed="rId6"/>
            <a:srcRect l="9888" t="37859" r="58159" b="21769"/>
            <a:stretch/>
          </p:blipFill>
          <p:spPr>
            <a:xfrm>
              <a:off x="5092920" y="3935160"/>
              <a:ext cx="421920" cy="39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그림 1" descr=""/>
          <p:cNvPicPr/>
          <p:nvPr/>
        </p:nvPicPr>
        <p:blipFill>
          <a:blip r:embed="rId1"/>
          <a:stretch/>
        </p:blipFill>
        <p:spPr>
          <a:xfrm>
            <a:off x="251640" y="548640"/>
            <a:ext cx="709560" cy="709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사각형 6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66" name="직사각형 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grpSp>
        <p:nvGrpSpPr>
          <p:cNvPr id="67" name="그룹 8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68" name="직선 연결선 9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69" name="한쪽 모서리가 둥근 사각형 10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70" name="한쪽 모서리가 둥근 사각형 11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71" name="한쪽 모서리가 둥근 사각형 12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72" name="한쪽 모서리가 둥근 사각형 13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73" name="한쪽 모서리가 둥근 사각형 14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74" name="TextBox 16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19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20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1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22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직사각형 4"/>
          <p:cNvSpPr/>
          <p:nvPr/>
        </p:nvSpPr>
        <p:spPr>
          <a:xfrm>
            <a:off x="2411640" y="121104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0" name="직사각형 23"/>
          <p:cNvSpPr/>
          <p:nvPr/>
        </p:nvSpPr>
        <p:spPr>
          <a:xfrm>
            <a:off x="3781800" y="12132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1" name="직사각형 24"/>
          <p:cNvSpPr/>
          <p:nvPr/>
        </p:nvSpPr>
        <p:spPr>
          <a:xfrm>
            <a:off x="5151960" y="12150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2" name="직사각형 25"/>
          <p:cNvSpPr/>
          <p:nvPr/>
        </p:nvSpPr>
        <p:spPr>
          <a:xfrm>
            <a:off x="6521760" y="12168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3" name="직사각형 26"/>
          <p:cNvSpPr/>
          <p:nvPr/>
        </p:nvSpPr>
        <p:spPr>
          <a:xfrm>
            <a:off x="7891920" y="12186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cxnSp>
        <p:nvCxnSpPr>
          <p:cNvPr id="84" name="직선 연결선 27"/>
          <p:cNvCxnSpPr/>
          <p:nvPr/>
        </p:nvCxnSpPr>
        <p:spPr>
          <a:xfrm flipH="1">
            <a:off x="456984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  <p:cxnSp>
        <p:nvCxnSpPr>
          <p:cNvPr id="85" name="직선 연결선 28"/>
          <p:cNvCxnSpPr/>
          <p:nvPr/>
        </p:nvCxnSpPr>
        <p:spPr>
          <a:xfrm flipH="1">
            <a:off x="2411640" y="3429000"/>
            <a:ext cx="4270320" cy="36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1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87" name="직사각형 1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pic>
        <p:nvPicPr>
          <p:cNvPr id="88" name="그림 18" descr=""/>
          <p:cNvPicPr/>
          <p:nvPr/>
        </p:nvPicPr>
        <p:blipFill>
          <a:blip r:embed="rId1"/>
          <a:stretch/>
        </p:blipFill>
        <p:spPr>
          <a:xfrm>
            <a:off x="251640" y="548640"/>
            <a:ext cx="719640" cy="719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그룹 5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91" name="직선 연결선 6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92" name="한쪽 모서리가 둥근 사각형 7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93" name="한쪽 모서리가 둥근 사각형 8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94" name="한쪽 모서리가 둥근 사각형 9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95" name="한쪽 모서리가 둥근 사각형 10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96" name="한쪽 모서리가 둥근 사각형 11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97" name="TextBox 12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3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4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6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9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직사각형 21"/>
          <p:cNvSpPr/>
          <p:nvPr/>
        </p:nvSpPr>
        <p:spPr>
          <a:xfrm>
            <a:off x="2411640" y="121104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cxnSp>
        <p:nvCxnSpPr>
          <p:cNvPr id="103" name="직선 연결선 26"/>
          <p:cNvCxnSpPr/>
          <p:nvPr/>
        </p:nvCxnSpPr>
        <p:spPr>
          <a:xfrm flipH="1">
            <a:off x="671508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  <p:cxnSp>
        <p:nvCxnSpPr>
          <p:cNvPr id="104" name="직선 연결선 27"/>
          <p:cNvCxnSpPr/>
          <p:nvPr/>
        </p:nvCxnSpPr>
        <p:spPr>
          <a:xfrm flipH="1">
            <a:off x="4557240" y="1988640"/>
            <a:ext cx="216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  <p:cxnSp>
        <p:nvCxnSpPr>
          <p:cNvPr id="105" name="직선 연결선 28"/>
          <p:cNvCxnSpPr/>
          <p:nvPr/>
        </p:nvCxnSpPr>
        <p:spPr>
          <a:xfrm flipH="1">
            <a:off x="239904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1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107" name="직사각형 1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pic>
        <p:nvPicPr>
          <p:cNvPr id="108" name="그림 18" descr=""/>
          <p:cNvPicPr/>
          <p:nvPr/>
        </p:nvPicPr>
        <p:blipFill>
          <a:blip r:embed="rId1"/>
          <a:stretch/>
        </p:blipFill>
        <p:spPr>
          <a:xfrm>
            <a:off x="251640" y="548640"/>
            <a:ext cx="719640" cy="719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그룹 5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111" name="직선 연결선 6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112" name="한쪽 모서리가 둥근 사각형 7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13" name="한쪽 모서리가 둥근 사각형 8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14" name="한쪽 모서리가 둥근 사각형 9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15" name="한쪽 모서리가 둥근 사각형 10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16" name="한쪽 모서리가 둥근 사각형 11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17" name="TextBox 12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3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4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6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9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직사각형 22"/>
          <p:cNvSpPr/>
          <p:nvPr/>
        </p:nvSpPr>
        <p:spPr>
          <a:xfrm>
            <a:off x="3781800" y="12132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cxnSp>
        <p:nvCxnSpPr>
          <p:cNvPr id="123" name="직선 연결선 26"/>
          <p:cNvCxnSpPr/>
          <p:nvPr/>
        </p:nvCxnSpPr>
        <p:spPr>
          <a:xfrm flipH="1">
            <a:off x="600012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  <p:cxnSp>
        <p:nvCxnSpPr>
          <p:cNvPr id="124" name="직선 연결선 27"/>
          <p:cNvCxnSpPr/>
          <p:nvPr/>
        </p:nvCxnSpPr>
        <p:spPr>
          <a:xfrm flipH="1">
            <a:off x="311904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그림 2" descr=""/>
          <p:cNvPicPr/>
          <p:nvPr/>
        </p:nvPicPr>
        <p:blipFill>
          <a:blip r:embed="rId1"/>
          <a:stretch/>
        </p:blipFill>
        <p:spPr>
          <a:xfrm>
            <a:off x="311760" y="605880"/>
            <a:ext cx="653760" cy="653760"/>
          </a:xfrm>
          <a:prstGeom prst="rect">
            <a:avLst/>
          </a:prstGeom>
          <a:ln w="0">
            <a:noFill/>
          </a:ln>
        </p:spPr>
      </p:pic>
      <p:sp>
        <p:nvSpPr>
          <p:cNvPr id="127" name="직사각형 7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128" name="직사각형 8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grpSp>
        <p:nvGrpSpPr>
          <p:cNvPr id="129" name="그룹 9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130" name="직선 연결선 10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131" name="한쪽 모서리가 둥근 사각형 11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32" name="한쪽 모서리가 둥근 사각형 12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33" name="한쪽 모서리가 둥근 사각형 13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34" name="한쪽 모서리가 둥근 사각형 14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35" name="한쪽 모서리가 둥근 사각형 16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36" name="TextBox 19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21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22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23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4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직사각형 27"/>
          <p:cNvSpPr/>
          <p:nvPr/>
        </p:nvSpPr>
        <p:spPr>
          <a:xfrm>
            <a:off x="5151960" y="12150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그림 1" descr=""/>
          <p:cNvPicPr/>
          <p:nvPr/>
        </p:nvPicPr>
        <p:blipFill>
          <a:blip r:embed="rId1"/>
          <a:stretch/>
        </p:blipFill>
        <p:spPr>
          <a:xfrm>
            <a:off x="267480" y="548640"/>
            <a:ext cx="709920" cy="709920"/>
          </a:xfrm>
          <a:prstGeom prst="rect">
            <a:avLst/>
          </a:prstGeom>
          <a:ln w="0">
            <a:noFill/>
          </a:ln>
        </p:spPr>
      </p:pic>
      <p:sp>
        <p:nvSpPr>
          <p:cNvPr id="144" name="직사각형 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145" name="직사각형 6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grpSp>
        <p:nvGrpSpPr>
          <p:cNvPr id="146" name="그룹 7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147" name="직선 연결선 8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148" name="한쪽 모서리가 둥근 사각형 9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49" name="한쪽 모서리가 둥근 사각형 10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50" name="한쪽 모서리가 둥근 사각형 11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51" name="한쪽 모서리가 둥근 사각형 12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52" name="한쪽 모서리가 둥근 사각형 13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53" name="TextBox 14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8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19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21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직사각형 25"/>
          <p:cNvSpPr/>
          <p:nvPr/>
        </p:nvSpPr>
        <p:spPr>
          <a:xfrm>
            <a:off x="6521760" y="12168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직사각형 1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160" name="직사각형 1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pic>
        <p:nvPicPr>
          <p:cNvPr id="161" name="그림 18" descr=""/>
          <p:cNvPicPr/>
          <p:nvPr/>
        </p:nvPicPr>
        <p:blipFill>
          <a:blip r:embed="rId1"/>
          <a:stretch/>
        </p:blipFill>
        <p:spPr>
          <a:xfrm>
            <a:off x="251640" y="548640"/>
            <a:ext cx="719640" cy="7196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그룹 22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164" name="직선 연결선 23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165" name="한쪽 모서리가 둥근 사각형 24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66" name="한쪽 모서리가 둥근 사각형 25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67" name="한쪽 모서리가 둥근 사각형 26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68" name="한쪽 모서리가 둥근 사각형 27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69" name="한쪽 모서리가 둥근 사각형 28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70" name="TextBox 29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30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1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2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3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직사각형 38"/>
          <p:cNvSpPr/>
          <p:nvPr/>
        </p:nvSpPr>
        <p:spPr>
          <a:xfrm>
            <a:off x="7891920" y="12186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178" name="직사각형 1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pic>
        <p:nvPicPr>
          <p:cNvPr id="179" name="그림 18" descr=""/>
          <p:cNvPicPr/>
          <p:nvPr/>
        </p:nvPicPr>
        <p:blipFill>
          <a:blip r:embed="rId1"/>
          <a:stretch/>
        </p:blipFill>
        <p:spPr>
          <a:xfrm>
            <a:off x="251640" y="548640"/>
            <a:ext cx="719640" cy="7196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그룹 4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182" name="직선 연결선 2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183" name="한쪽 모서리가 둥근 사각형 3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84" name="한쪽 모서리가 둥근 사각형 8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85" name="한쪽 모서리가 둥근 사각형 9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86" name="한쪽 모서리가 둥근 사각형 10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87" name="한쪽 모서리가 둥근 사각형 11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88" name="TextBox 12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3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4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6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9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직사각형 21"/>
          <p:cNvSpPr/>
          <p:nvPr/>
        </p:nvSpPr>
        <p:spPr>
          <a:xfrm>
            <a:off x="2411640" y="121104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4" name="직사각형 22"/>
          <p:cNvSpPr/>
          <p:nvPr/>
        </p:nvSpPr>
        <p:spPr>
          <a:xfrm>
            <a:off x="3781800" y="12132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5" name="직사각형 23"/>
          <p:cNvSpPr/>
          <p:nvPr/>
        </p:nvSpPr>
        <p:spPr>
          <a:xfrm>
            <a:off x="5151960" y="12150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6" name="직사각형 24"/>
          <p:cNvSpPr/>
          <p:nvPr/>
        </p:nvSpPr>
        <p:spPr>
          <a:xfrm>
            <a:off x="6521760" y="12168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7" name="직사각형 25"/>
          <p:cNvSpPr/>
          <p:nvPr/>
        </p:nvSpPr>
        <p:spPr>
          <a:xfrm>
            <a:off x="7891920" y="12186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cxnSp>
        <p:nvCxnSpPr>
          <p:cNvPr id="198" name="직선 연결선 6"/>
          <p:cNvCxnSpPr/>
          <p:nvPr/>
        </p:nvCxnSpPr>
        <p:spPr>
          <a:xfrm flipH="1">
            <a:off x="456984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테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  <Words>67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0:17:15Z</dcterms:created>
  <dc:creator>www.pptbz.com</dc:creator>
  <dc:description/>
  <cp:keywords>ppt宝藏</cp:keywords>
  <dc:language>en-US</dc:language>
  <cp:lastModifiedBy>a</cp:lastModifiedBy>
  <dcterms:modified xsi:type="dcterms:W3CDTF">2015-07-24T06:52:49Z</dcterms:modified>
  <cp:revision>11</cp:revision>
  <dc:subject/>
  <dc:title>PowerPoint 프레젠테이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