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54E1-1442-4602-8881-19D7EFC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D060-F1B3-4B36-B104-3E11834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A197-6CEA-49EB-A2E7-8B8CF0B9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C5059-79D6-4D8E-9773-58BE326E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463F-4CD9-483D-A4E3-7AE3832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9BEB9-3763-464C-85AE-61A09F1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C6A5D-3DFC-46BA-89CA-C4179B6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2AE0D-93C0-4B52-B7FE-E086A22F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80F4D-9C2A-43B8-BF84-664184FF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1AE2-B1C7-45AE-8A10-CD9602FE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636D-2EF9-471D-822D-972F69D9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18A8-0F06-4E06-BDAC-96945FA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A785-4A1B-4C82-ADE6-9149A40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16E80-98D4-4103-8B3C-524BFCBE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57950-39A6-4B2D-9C88-19170029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310F8-64FF-4780-B24A-52929BC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985F1-B832-4265-AD6D-ABF8FF5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2B5FF-3B7B-4DA4-A6FB-019A11E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18B4-74E7-4793-8C23-FEAA15F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1A34-AF37-4409-8A0A-D3BA9B76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52BB-0A89-459B-A401-B7710BF6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CB8B4-C157-4475-8F46-7A52A007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C5A54-1576-4E68-9840-D3F9797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2AD3D-AB83-4584-ABD1-CCDBB76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9DB94-C0B3-4434-8351-04E683FE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BA804-CC29-44A4-A205-70C324CD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0E89C-3C17-4F99-A788-03E2866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71A55-EC45-4C09-9E64-E905948F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37294-72A4-442D-9FD4-D44EA1D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11650-BC52-4E1E-AB2C-E7840A6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DB779-3702-42E3-B5FF-F76712A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D16A-F582-4662-BC47-8E04C869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5853E-7B8D-48F5-A126-AFF2B410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E4A03-8652-46A7-8E89-A895547E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62FAD-C38E-4FC3-B0CA-5F3CB9A9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2B838-E41A-419A-85FE-C21CC21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7A0E1-7476-46DB-8DD9-DCAA096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A4FF4-997E-4058-A769-C10D1518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91486-1247-4A59-A070-C14F229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EA0D2-B4B9-4534-8906-9FFC8B3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99745-8871-4C2A-9804-41C5F43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21EAC-4377-4C06-9447-B01F336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852AB-E2C6-4D63-848A-0C5C9AD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8807A-EADF-421F-AF1F-654FB7B0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4E881-EC66-49F2-A75D-F585C5D8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210-19BE-44CE-ACB2-BCB1B679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2EA-A7E7-4C29-AF2F-F17BBE4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1DC-33B1-4E72-8CE3-F1577BCD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79F-ED16-4C36-BA98-683A548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496-5091-4208-A3EB-595AA4F1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BC6-F7EA-456F-925A-5EABB00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C7A-3B6B-4DBD-9F7C-AA4CE8A1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DFC-C392-4850-ABCA-6E37917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28A-481B-4F7B-A3FC-C34927D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C15-856F-4410-B739-4EF736FB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74B-2A3C-4EB3-A37F-945DFA2E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B31-BCDB-4FFB-B6CD-9CE7F33A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057B-A871-4FC5-9DA8-552B0637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B9F9-258C-4F55-8271-0B6CFBBA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2A1E-CCC2-44EB-9C88-D569B4C6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374-B548-4218-98FE-C4F3ADCC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AA7-AC9A-4E8C-A37B-243B69BD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944D-8FA1-4A92-8FDF-E1D2906E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63C-C1DD-4AE8-94AB-B8E9765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92A7-6FEF-41A6-9DA8-FC439BE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3D61-4970-4087-8A31-0177B05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918-AE6F-44C2-AA80-F21D19CB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BEEA-EAA1-4D64-B731-E0670F81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4FE-FC91-4297-B893-21A0B6DF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51FA-4F5B-4EAD-A80E-D4C4F66A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4D2C-FD55-493C-8CFB-E9468B6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64FC-D7E2-4F66-BD7F-0ACCE71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8809-1799-418A-9809-2EB0586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2548-4444-481F-A427-821BE99E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518C-3DA5-4050-9BA7-719AFAC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B315-BD8E-404D-8F2E-8D8CDC5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5036-D76E-42B9-8C3B-9C5B87E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182B-5585-477D-858C-1174A32A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781E-DF16-4878-BB3C-C181A1A3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F001-0656-4B06-9523-B72BF421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7127-B7CA-4DFA-BBFD-EDCF1CA8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1A0A-A95D-4D59-AF04-956A0387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4048-D75C-4FF2-AFCA-DA3F2936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7933-B347-4C06-B217-0CE368AB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0E23-802C-4F19-80CB-EB2377E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70D8-DC6E-4F24-9601-6C29662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6E32F-495A-4102-BB71-B1B6763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8BD8-438E-475C-AABC-E8B8DD5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E2BF-F09D-4726-BA6A-7A81A17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C5D8-349F-4BEF-8B5F-1045A5BA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51CB-C4DF-485B-972E-E136E0E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FC99-F6B1-442F-A6F1-5590BD12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31FF-C739-40A9-827B-B93A4840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4872-B330-4CFB-BA8E-042ABBB5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E0BC-91B6-4DF2-97C5-1FBFB1A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E74F9-2E1D-49A8-910E-482EE07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4EAD-A715-4E9E-9900-FCA978D8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5773-790C-49EC-9116-FA27D7EE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85A4-A941-4435-825D-0406CB5A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618E-236C-4209-83B7-EA393C3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0054-C803-4821-9298-356FF94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5213-DE15-4F53-BE6E-521570B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CA71-0774-485A-8809-C83B9C2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CDCD-BA99-4545-9DA6-D846E218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8EF9-02CA-4665-AAD9-D9D79521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C8A5-2ECB-4252-B850-8C1AADEF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5F70-8B68-4E9C-B662-FF3D4F7E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D1D7-4AF1-4E70-AAA2-BA7A5358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18F91-BF50-4A7A-8237-2966FE3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32FD9-3481-4E2B-ABF8-D70C745A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0204-BFF5-4293-910E-37F5C01F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51AAE-F8CC-4F8A-AE7C-F3BEA0E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41DC-AA74-4673-9C45-1AF796D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BA16-FA8F-469C-9CA9-4F9D10A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462D-1E1D-463C-A653-CA95E51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14450-B5EE-4C3B-AF3F-3AD787AD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4458-00D0-4388-9F7C-BFE2373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9CC6-8859-4100-BCA0-8C8673A8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0EAC-5D14-4B0D-8505-FFC2292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8BB3C-2B9C-42C5-8E69-E7F12CA7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E4E1-5FBF-4A23-BBF1-36DD29F6D21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2E67-6FAB-49CE-AD61-7AA7BF9DA9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6AD-D8DE-4CF2-BD6E-CD126FF97BB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同侧圆角矩形 2"/>
          <p:cNvSpPr/>
          <p:nvPr/>
        </p:nvSpPr>
        <p:spPr>
          <a:xfrm rot="10800000">
            <a:off x="0" y="0"/>
            <a:ext cx="9144000" cy="404640"/>
          </a:xfrm>
          <a:custGeom>
            <a:avLst/>
            <a:gdLst/>
            <a:ahLst/>
            <a:rect l="l" t="t" r="r" b="b"/>
            <a:pathLst>
              <a:path w="9144000" h="404664">
                <a:moveTo>
                  <a:pt x="67445" y="0"/>
                </a:moveTo>
                <a:lnTo>
                  <a:pt x="9076555" y="0"/>
                </a:lnTo>
                <a:cubicBezTo>
                  <a:pt x="9113804" y="0"/>
                  <a:pt x="9144000" y="30196"/>
                  <a:pt x="9144000" y="67445"/>
                </a:cubicBezTo>
                <a:lnTo>
                  <a:pt x="9144000" y="404664"/>
                </a:lnTo>
                <a:lnTo>
                  <a:pt x="0" y="404664"/>
                </a:lnTo>
                <a:lnTo>
                  <a:pt x="0" y="67445"/>
                </a:lnTo>
                <a:cubicBezTo>
                  <a:pt x="0" y="30196"/>
                  <a:pt x="30196" y="0"/>
                  <a:pt x="67445" y="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直接连接符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直接连接符 4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1BCC-D716-4F4D-9AC9-AC7AB89B07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9315-4355-4F5F-87D4-685939A7E24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F582-08C5-4316-9097-227B15AE42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621E-2C4E-43CE-A88F-8C7334428A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7DA3-1D0B-43AC-A79E-D9A910A76F5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E98B-D911-4DD1-B283-11527190E13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6825-460D-4C39-992F-ACD6EECAD7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任意多边形 8"/>
          <p:cNvSpPr/>
          <p:nvPr/>
        </p:nvSpPr>
        <p:spPr>
          <a:xfrm>
            <a:off x="-7920" y="3933720"/>
            <a:ext cx="7041960" cy="1646280"/>
          </a:xfrm>
          <a:custGeom>
            <a:avLst/>
            <a:gdLst/>
            <a:ahLst/>
            <a:rect l="l" t="t" r="r" b="b"/>
            <a:pathLst>
              <a:path w="7043596" h="1647731">
                <a:moveTo>
                  <a:pt x="0" y="1638677"/>
                </a:moveTo>
                <a:cubicBezTo>
                  <a:pt x="636760" y="1240325"/>
                  <a:pt x="3971452" y="1611515"/>
                  <a:pt x="4318503" y="1448554"/>
                </a:cubicBezTo>
                <a:cubicBezTo>
                  <a:pt x="7116024" y="739366"/>
                  <a:pt x="5332491" y="147873"/>
                  <a:pt x="7043596" y="0"/>
                </a:cubicBezTo>
                <a:lnTo>
                  <a:pt x="6762938" y="1647731"/>
                </a:lnTo>
                <a:lnTo>
                  <a:pt x="0" y="16386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流程图: 延期 3"/>
          <p:cNvSpPr/>
          <p:nvPr/>
        </p:nvSpPr>
        <p:spPr>
          <a:xfrm rot="16200000">
            <a:off x="4209840" y="-1377720"/>
            <a:ext cx="684000" cy="5761080"/>
          </a:xfrm>
          <a:custGeom>
            <a:avLst/>
            <a:gdLst/>
            <a:ahLst/>
            <a:rect l="l" t="t" r="r" b="b"/>
            <a:pathLst>
              <a:path w="684076" h="5760640">
                <a:moveTo>
                  <a:pt x="0" y="5760640"/>
                </a:moveTo>
                <a:lnTo>
                  <a:pt x="0" y="0"/>
                </a:lnTo>
                <a:cubicBezTo>
                  <a:pt x="305378" y="334978"/>
                  <a:pt x="684076" y="1289563"/>
                  <a:pt x="684076" y="2880320"/>
                </a:cubicBezTo>
                <a:cubicBezTo>
                  <a:pt x="684076" y="4471077"/>
                  <a:pt x="305378" y="5289860"/>
                  <a:pt x="0" y="576064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5840" y="3500280"/>
            <a:ext cx="9159840" cy="3372120"/>
          </a:xfrm>
          <a:custGeom>
            <a:avLst/>
            <a:gdLst/>
            <a:ahLst/>
            <a:rect l="l" t="t" r="r" b="b"/>
            <a:pathLst>
              <a:path w="9162107" h="4227968">
                <a:moveTo>
                  <a:pt x="1593410" y="0"/>
                </a:moveTo>
                <a:lnTo>
                  <a:pt x="9162107" y="0"/>
                </a:lnTo>
                <a:lnTo>
                  <a:pt x="9162107" y="4227968"/>
                </a:lnTo>
                <a:lnTo>
                  <a:pt x="0" y="4227968"/>
                </a:lnTo>
                <a:lnTo>
                  <a:pt x="0" y="2616451"/>
                </a:lnTo>
                <a:cubicBezTo>
                  <a:pt x="1692998" y="2402186"/>
                  <a:pt x="4173647" y="2613433"/>
                  <a:pt x="5142368" y="2236205"/>
                </a:cubicBezTo>
                <a:cubicBezTo>
                  <a:pt x="6029607" y="1934424"/>
                  <a:pt x="6491335" y="1143755"/>
                  <a:pt x="7061703" y="579422"/>
                </a:cubicBezTo>
                <a:lnTo>
                  <a:pt x="1593410" y="579422"/>
                </a:lnTo>
                <a:lnTo>
                  <a:pt x="1593410" y="0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矩形 1"/>
          <p:cNvSpPr/>
          <p:nvPr/>
        </p:nvSpPr>
        <p:spPr>
          <a:xfrm>
            <a:off x="2495520" y="221616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橘色简洁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12"/>
          <p:cNvSpPr/>
          <p:nvPr/>
        </p:nvSpPr>
        <p:spPr>
          <a:xfrm>
            <a:off x="198360" y="6507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539640" y="2060640"/>
            <a:ext cx="7915320" cy="3822480"/>
            <a:chOff x="539640" y="2060640"/>
            <a:chExt cx="7915320" cy="3822480"/>
          </a:xfrm>
        </p:grpSpPr>
        <p:sp>
          <p:nvSpPr>
            <p:cNvPr id="485" name="Oval 21"/>
            <p:cNvSpPr/>
            <p:nvPr/>
          </p:nvSpPr>
          <p:spPr>
            <a:xfrm>
              <a:off x="2041560" y="3016080"/>
              <a:ext cx="2864880" cy="286704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Oval 22"/>
            <p:cNvSpPr/>
            <p:nvPr/>
          </p:nvSpPr>
          <p:spPr>
            <a:xfrm>
              <a:off x="4088160" y="3016080"/>
              <a:ext cx="2864880" cy="286704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Oval 23"/>
            <p:cNvSpPr/>
            <p:nvPr/>
          </p:nvSpPr>
          <p:spPr>
            <a:xfrm>
              <a:off x="2041560" y="3016080"/>
              <a:ext cx="2864880" cy="28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Oval 24"/>
            <p:cNvSpPr/>
            <p:nvPr/>
          </p:nvSpPr>
          <p:spPr>
            <a:xfrm>
              <a:off x="4088160" y="3016080"/>
              <a:ext cx="2864880" cy="28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AutoShape 25"/>
            <p:cNvSpPr/>
            <p:nvPr/>
          </p:nvSpPr>
          <p:spPr>
            <a:xfrm>
              <a:off x="6543720" y="41090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AutoShape 26"/>
            <p:cNvSpPr/>
            <p:nvPr/>
          </p:nvSpPr>
          <p:spPr>
            <a:xfrm>
              <a:off x="6543720" y="3016080"/>
              <a:ext cx="1911240" cy="68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AutoShape 27"/>
            <p:cNvSpPr/>
            <p:nvPr/>
          </p:nvSpPr>
          <p:spPr>
            <a:xfrm>
              <a:off x="6543720" y="50648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AutoShape 28"/>
            <p:cNvSpPr/>
            <p:nvPr/>
          </p:nvSpPr>
          <p:spPr>
            <a:xfrm>
              <a:off x="539640" y="41090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AutoShape 29"/>
            <p:cNvSpPr/>
            <p:nvPr/>
          </p:nvSpPr>
          <p:spPr>
            <a:xfrm>
              <a:off x="539640" y="3016080"/>
              <a:ext cx="1911240" cy="68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AutoShape 30"/>
            <p:cNvSpPr/>
            <p:nvPr/>
          </p:nvSpPr>
          <p:spPr>
            <a:xfrm>
              <a:off x="539640" y="50648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31"/>
            <p:cNvSpPr/>
            <p:nvPr/>
          </p:nvSpPr>
          <p:spPr>
            <a:xfrm>
              <a:off x="2723040" y="2060640"/>
              <a:ext cx="1501920" cy="68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32"/>
            <p:cNvSpPr/>
            <p:nvPr/>
          </p:nvSpPr>
          <p:spPr>
            <a:xfrm>
              <a:off x="4769280" y="2060640"/>
              <a:ext cx="1501920" cy="68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7" name="矩形 16" descr=""/>
          <p:cNvPicPr/>
          <p:nvPr/>
        </p:nvPicPr>
        <p:blipFill>
          <a:blip r:embed="rId1"/>
          <a:stretch/>
        </p:blipFill>
        <p:spPr>
          <a:xfrm>
            <a:off x="493560" y="365040"/>
            <a:ext cx="4681800" cy="1030320"/>
          </a:xfrm>
          <a:prstGeom prst="rect">
            <a:avLst/>
          </a:prstGeom>
          <a:ln w="0">
            <a:noFill/>
          </a:ln>
        </p:spPr>
      </p:pic>
      <p:pic>
        <p:nvPicPr>
          <p:cNvPr id="498" name="矩形 17" descr=""/>
          <p:cNvPicPr/>
          <p:nvPr/>
        </p:nvPicPr>
        <p:blipFill>
          <a:blip r:embed="rId2"/>
          <a:stretch/>
        </p:blipFill>
        <p:spPr>
          <a:xfrm>
            <a:off x="2676600" y="2120760"/>
            <a:ext cx="159696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矩形 18" descr=""/>
          <p:cNvPicPr/>
          <p:nvPr/>
        </p:nvPicPr>
        <p:blipFill>
          <a:blip r:embed="rId3"/>
          <a:stretch/>
        </p:blipFill>
        <p:spPr>
          <a:xfrm>
            <a:off x="4718160" y="2120760"/>
            <a:ext cx="1603440" cy="689040"/>
          </a:xfrm>
          <a:prstGeom prst="rect">
            <a:avLst/>
          </a:prstGeom>
          <a:ln w="0">
            <a:noFill/>
          </a:ln>
        </p:spPr>
      </p:pic>
      <p:pic>
        <p:nvPicPr>
          <p:cNvPr id="500" name="矩形 19" descr=""/>
          <p:cNvPicPr/>
          <p:nvPr/>
        </p:nvPicPr>
        <p:blipFill>
          <a:blip r:embed="rId4"/>
          <a:stretch/>
        </p:blipFill>
        <p:spPr>
          <a:xfrm>
            <a:off x="6699240" y="3078000"/>
            <a:ext cx="1596960" cy="689040"/>
          </a:xfrm>
          <a:prstGeom prst="rect">
            <a:avLst/>
          </a:prstGeom>
          <a:ln w="0">
            <a:noFill/>
          </a:ln>
        </p:spPr>
      </p:pic>
      <p:pic>
        <p:nvPicPr>
          <p:cNvPr id="501" name="矩形 20" descr=""/>
          <p:cNvPicPr/>
          <p:nvPr/>
        </p:nvPicPr>
        <p:blipFill>
          <a:blip r:embed="rId5"/>
          <a:stretch/>
        </p:blipFill>
        <p:spPr>
          <a:xfrm>
            <a:off x="6699240" y="4170240"/>
            <a:ext cx="1596960" cy="687600"/>
          </a:xfrm>
          <a:prstGeom prst="rect">
            <a:avLst/>
          </a:prstGeom>
          <a:ln w="0">
            <a:noFill/>
          </a:ln>
        </p:spPr>
      </p:pic>
      <p:pic>
        <p:nvPicPr>
          <p:cNvPr id="502" name="矩形 21" descr=""/>
          <p:cNvPicPr/>
          <p:nvPr/>
        </p:nvPicPr>
        <p:blipFill>
          <a:blip r:embed="rId6"/>
          <a:stretch/>
        </p:blipFill>
        <p:spPr>
          <a:xfrm>
            <a:off x="6699240" y="5126040"/>
            <a:ext cx="1596960" cy="689040"/>
          </a:xfrm>
          <a:prstGeom prst="rect">
            <a:avLst/>
          </a:prstGeom>
          <a:ln w="0">
            <a:noFill/>
          </a:ln>
        </p:spPr>
      </p:pic>
      <p:pic>
        <p:nvPicPr>
          <p:cNvPr id="503" name="矩形 22" descr=""/>
          <p:cNvPicPr/>
          <p:nvPr/>
        </p:nvPicPr>
        <p:blipFill>
          <a:blip r:embed="rId7"/>
          <a:stretch/>
        </p:blipFill>
        <p:spPr>
          <a:xfrm>
            <a:off x="695160" y="5126040"/>
            <a:ext cx="1597320" cy="689040"/>
          </a:xfrm>
          <a:prstGeom prst="rect">
            <a:avLst/>
          </a:prstGeom>
          <a:ln w="0">
            <a:noFill/>
          </a:ln>
        </p:spPr>
      </p:pic>
      <p:pic>
        <p:nvPicPr>
          <p:cNvPr id="504" name="矩形 23" descr=""/>
          <p:cNvPicPr/>
          <p:nvPr/>
        </p:nvPicPr>
        <p:blipFill>
          <a:blip r:embed="rId8"/>
          <a:stretch/>
        </p:blipFill>
        <p:spPr>
          <a:xfrm>
            <a:off x="695160" y="4170240"/>
            <a:ext cx="1597320" cy="687600"/>
          </a:xfrm>
          <a:prstGeom prst="rect">
            <a:avLst/>
          </a:prstGeom>
          <a:ln w="0">
            <a:noFill/>
          </a:ln>
        </p:spPr>
      </p:pic>
      <p:pic>
        <p:nvPicPr>
          <p:cNvPr id="505" name="矩形 37" descr=""/>
          <p:cNvPicPr/>
          <p:nvPr/>
        </p:nvPicPr>
        <p:blipFill>
          <a:blip r:embed="rId9"/>
          <a:stretch/>
        </p:blipFill>
        <p:spPr>
          <a:xfrm>
            <a:off x="695160" y="3078000"/>
            <a:ext cx="1597320" cy="689040"/>
          </a:xfrm>
          <a:prstGeom prst="rect">
            <a:avLst/>
          </a:prstGeom>
          <a:ln w="0">
            <a:noFill/>
          </a:ln>
        </p:spPr>
      </p:pic>
      <p:pic>
        <p:nvPicPr>
          <p:cNvPr id="506" name="矩形 38" descr=""/>
          <p:cNvPicPr/>
          <p:nvPr/>
        </p:nvPicPr>
        <p:blipFill>
          <a:blip r:embed="rId10"/>
          <a:stretch/>
        </p:blipFill>
        <p:spPr>
          <a:xfrm>
            <a:off x="2548080" y="4170240"/>
            <a:ext cx="1603080" cy="687600"/>
          </a:xfrm>
          <a:prstGeom prst="rect">
            <a:avLst/>
          </a:prstGeom>
          <a:ln w="0">
            <a:noFill/>
          </a:ln>
        </p:spPr>
      </p:pic>
      <p:pic>
        <p:nvPicPr>
          <p:cNvPr id="507" name="矩形 39" descr=""/>
          <p:cNvPicPr/>
          <p:nvPr/>
        </p:nvPicPr>
        <p:blipFill>
          <a:blip r:embed="rId11"/>
          <a:stretch/>
        </p:blipFill>
        <p:spPr>
          <a:xfrm>
            <a:off x="4943520" y="4170240"/>
            <a:ext cx="159696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任意多边形 3"/>
          <p:cNvSpPr/>
          <p:nvPr/>
        </p:nvSpPr>
        <p:spPr>
          <a:xfrm>
            <a:off x="-7920" y="3933720"/>
            <a:ext cx="7041960" cy="1646280"/>
          </a:xfrm>
          <a:custGeom>
            <a:avLst/>
            <a:gdLst/>
            <a:ahLst/>
            <a:rect l="l" t="t" r="r" b="b"/>
            <a:pathLst>
              <a:path w="7043596" h="1647731">
                <a:moveTo>
                  <a:pt x="0" y="1638677"/>
                </a:moveTo>
                <a:cubicBezTo>
                  <a:pt x="636760" y="1240325"/>
                  <a:pt x="3971452" y="1611515"/>
                  <a:pt x="4318503" y="1448554"/>
                </a:cubicBezTo>
                <a:cubicBezTo>
                  <a:pt x="7116024" y="739366"/>
                  <a:pt x="5332491" y="147873"/>
                  <a:pt x="7043596" y="0"/>
                </a:cubicBezTo>
                <a:lnTo>
                  <a:pt x="6762938" y="1647731"/>
                </a:lnTo>
                <a:lnTo>
                  <a:pt x="0" y="16386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流程图: 延期 3"/>
          <p:cNvSpPr/>
          <p:nvPr/>
        </p:nvSpPr>
        <p:spPr>
          <a:xfrm rot="16200000">
            <a:off x="4209840" y="-1377720"/>
            <a:ext cx="684000" cy="5761080"/>
          </a:xfrm>
          <a:custGeom>
            <a:avLst/>
            <a:gdLst/>
            <a:ahLst/>
            <a:rect l="l" t="t" r="r" b="b"/>
            <a:pathLst>
              <a:path w="684076" h="5760640">
                <a:moveTo>
                  <a:pt x="0" y="5760640"/>
                </a:moveTo>
                <a:lnTo>
                  <a:pt x="0" y="0"/>
                </a:lnTo>
                <a:cubicBezTo>
                  <a:pt x="305378" y="334978"/>
                  <a:pt x="684076" y="1289563"/>
                  <a:pt x="684076" y="2880320"/>
                </a:cubicBezTo>
                <a:cubicBezTo>
                  <a:pt x="684076" y="4471077"/>
                  <a:pt x="305378" y="5289860"/>
                  <a:pt x="0" y="576064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任意多边形 5"/>
          <p:cNvSpPr/>
          <p:nvPr/>
        </p:nvSpPr>
        <p:spPr>
          <a:xfrm>
            <a:off x="-15840" y="3500280"/>
            <a:ext cx="9159840" cy="3372120"/>
          </a:xfrm>
          <a:custGeom>
            <a:avLst/>
            <a:gdLst/>
            <a:ahLst/>
            <a:rect l="l" t="t" r="r" b="b"/>
            <a:pathLst>
              <a:path w="9162107" h="4227968">
                <a:moveTo>
                  <a:pt x="1593410" y="0"/>
                </a:moveTo>
                <a:lnTo>
                  <a:pt x="9162107" y="0"/>
                </a:lnTo>
                <a:lnTo>
                  <a:pt x="9162107" y="4227968"/>
                </a:lnTo>
                <a:lnTo>
                  <a:pt x="0" y="4227968"/>
                </a:lnTo>
                <a:lnTo>
                  <a:pt x="0" y="2616451"/>
                </a:lnTo>
                <a:cubicBezTo>
                  <a:pt x="1692998" y="2402186"/>
                  <a:pt x="4173647" y="2613433"/>
                  <a:pt x="5142368" y="2236205"/>
                </a:cubicBezTo>
                <a:cubicBezTo>
                  <a:pt x="6029607" y="1934424"/>
                  <a:pt x="6491335" y="1143755"/>
                  <a:pt x="7061703" y="579422"/>
                </a:cubicBezTo>
                <a:lnTo>
                  <a:pt x="1593410" y="579422"/>
                </a:lnTo>
                <a:lnTo>
                  <a:pt x="1593410" y="0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矩形 6" descr=""/>
          <p:cNvPicPr/>
          <p:nvPr/>
        </p:nvPicPr>
        <p:blipFill>
          <a:blip r:embed="rId1"/>
          <a:stretch/>
        </p:blipFill>
        <p:spPr>
          <a:xfrm>
            <a:off x="4084560" y="1457280"/>
            <a:ext cx="394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5:43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23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