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29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7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9.jpeg" ContentType="image/jpeg"/>
  <Override PartName="/ppt/media/image11.jpeg" ContentType="image/jpeg"/>
  <Override PartName="/ppt/media/image40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13.png" ContentType="image/png"/>
  <Override PartName="/ppt/media/image34.jpeg" ContentType="image/jpeg"/>
  <Override PartName="/ppt/media/image37.png" ContentType="image/png"/>
  <Override PartName="/ppt/media/image35.jpeg" ContentType="image/jpeg"/>
  <Override PartName="/ppt/media/image6.png" ContentType="image/png"/>
  <Override PartName="/ppt/media/image38.png" ContentType="image/pn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E91B93-CFA4-4F8A-9847-B7F8E1FC8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40ACE7-9D78-4F9F-AF61-D9EFC245AB4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15FC27D-996A-44AF-837B-510394A232F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848D64-B61E-4E6D-98BA-744412D4AE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F564E5-0CFE-407C-A72A-FCDB91C4EC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BAE389-DE30-43C5-9C95-14AF1858CD2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69DB2D-8B5F-4EF0-BE9C-7F3A50EC93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A46F643-25C5-4C88-9413-989932509B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407014-FFB3-4489-A2FD-93017F7594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DAF29D-E32C-4085-8907-279760591AF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DAE2AC-0B65-45BC-8CDF-E2746EE2E4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E04499-3FD1-4FBF-A3FD-5768A10B0F0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746EE9-41E3-4CDE-BDCA-ED59DCC6BD4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8FB715-9787-4C0A-A23D-61368D5E8FF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0CA95F-310A-481F-B088-E6FDE542385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sldNum" idx="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3BB04D-2069-4CD0-A166-5576B918B9B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 type="sldNum" idx="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A0F97F-97BF-4433-8F86-2411D9EB6F5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38AB5AF-4D0F-4BB0-9300-A35986AC181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C0D0D0-8791-4A57-8E6F-BF748EA5503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BFCAFF-E6E2-4E39-A9D2-F1E132C255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0C634FE-15E6-4FE1-939F-72E003D5FE7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9804D4-45C1-4E11-98CF-A7EA6DD5A47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24B75C-B766-4910-BC27-4036AD42FFB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D53685F-DFC6-4C31-9188-CAEDAF29061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03CDFD-22A1-4525-A811-F82104E9F10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EFAD46-B844-4B20-8B60-0621FCDC62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文字】：将标题框及正文框中的文字可直接改为您所需文字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】：点中图片》绘图工具》格式》填充》图片》选择您需要展示的图片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增加减少图片】：直接复制粘贴图片来增加图片数，复制后更改方法见【更改图片】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更改图片色彩】：点中图片》图片工具》格式》色彩（重新着色）》选择您喜欢的色彩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3E9BE5-6450-4EC8-9DAD-BA441D4F80C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60C-E030-4BE3-8E19-263F2DB1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BE2B-8BAE-4C45-985A-92FCBACC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8A0-F7A4-4973-9607-585D574D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8CA-CC49-4E38-8CE8-FC98BC30C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D0FD-BEDE-4D59-B607-DCCDDDA4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0EE4-9769-4BBD-B2D4-E40B1C9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F7C98-1B69-4C05-B557-B982474E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CEFB0-174D-4503-BE33-75E187D4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4304-2DF4-45A5-8310-71AA371F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EEA9-5EF5-4F45-B5BE-8D6FB377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48EA-F159-4BC2-84CA-95C9B772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B266-4D1D-43AA-8983-3561A24D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3013-904D-4B92-93D7-CEBFC41E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8E7B-6420-4E2E-8671-11EB8161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6E0D4-CBED-4427-B22E-83AB92FA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C6662-3042-49F4-A4E4-A445B9D09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AC63-BB4C-4411-B9AA-F45430DE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3113-33F9-447F-BF5B-9DEA513B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D4F63-90AA-4440-979E-EEC8E3FB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653B6-E746-456C-822F-3E04862D0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09747-CB83-49FE-B385-181DA7852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F0D498-EB49-4178-BC21-6F7ADA945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FD0-4B00-4A2E-BC5D-DECEB3764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64942-6774-4175-9EC2-3B5786F94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EF772-C9CE-4C7E-B60E-0E3FDC1B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B69B-C30A-4660-9A2C-9A6B6C10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7312-10B3-4CAC-91D8-E23A7199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6E35D-BE33-40CC-9D92-D5BE0D85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43AD-F133-4372-B6F6-C07A87CD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7A15B-9881-4109-9D06-C725EA199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EBE0-CB9A-47D3-96FD-1A6F08D0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EE3-ED42-4477-B8F4-E332D0DC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0ECF-15A2-40B3-A2F6-DE1E0A20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8C31-7901-43D2-8062-AC66E3C7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934E-B40F-4CE6-B7F0-28BC1500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3119-6883-4531-9C4A-EDF0DAFD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0CA986-6CD9-4131-A9AE-F81D3036F727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28B062-E0BE-4566-AF6A-57FD0986CFA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08DCD0-1CC7-4454-A94F-D860641E293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6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套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设计常用图表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0" name="Group 3"/>
          <p:cNvGrpSpPr/>
          <p:nvPr/>
        </p:nvGrpSpPr>
        <p:grpSpPr>
          <a:xfrm>
            <a:off x="1763640" y="2425320"/>
            <a:ext cx="6767280" cy="2952360"/>
            <a:chOff x="1763640" y="2425320"/>
            <a:chExt cx="6767280" cy="2952360"/>
          </a:xfrm>
        </p:grpSpPr>
        <p:sp>
          <p:nvSpPr>
            <p:cNvPr id="131" name="AutoShape 4"/>
            <p:cNvSpPr/>
            <p:nvPr/>
          </p:nvSpPr>
          <p:spPr>
            <a:xfrm>
              <a:off x="1763640" y="5253840"/>
              <a:ext cx="6767280" cy="123840"/>
            </a:xfrm>
            <a:custGeom>
              <a:avLst/>
              <a:gdLst>
                <a:gd name="textAreaLeft" fmla="*/ 921600 w 6767280"/>
                <a:gd name="textAreaRight" fmla="*/ 5845680 w 6767280"/>
                <a:gd name="textAreaTop" fmla="*/ 16560 h 123840"/>
                <a:gd name="textAreaBottom" fmla="*/ 107280 h 12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283" y="21600"/>
                  </a:lnTo>
                  <a:lnTo>
                    <a:pt x="19317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>
                    <a:alpha val="5019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2" name="AutoShape 5"/>
            <p:cNvSpPr/>
            <p:nvPr/>
          </p:nvSpPr>
          <p:spPr>
            <a:xfrm>
              <a:off x="1763640" y="2425320"/>
              <a:ext cx="6739920" cy="2828160"/>
            </a:xfrm>
            <a:prstGeom prst="roundRect">
              <a:avLst>
                <a:gd name="adj" fmla="val 132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635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360"/>
                </a:spcBef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grpSp>
        <p:nvGrpSpPr>
          <p:cNvPr id="133" name="组合 6"/>
          <p:cNvGrpSpPr/>
          <p:nvPr/>
        </p:nvGrpSpPr>
        <p:grpSpPr>
          <a:xfrm>
            <a:off x="324000" y="1845000"/>
            <a:ext cx="4175280" cy="4035960"/>
            <a:chOff x="324000" y="1845000"/>
            <a:chExt cx="4175280" cy="4035960"/>
          </a:xfrm>
        </p:grpSpPr>
        <p:sp>
          <p:nvSpPr>
            <p:cNvPr id="134" name="Oval 6"/>
            <p:cNvSpPr/>
            <p:nvPr/>
          </p:nvSpPr>
          <p:spPr>
            <a:xfrm>
              <a:off x="324000" y="5304960"/>
              <a:ext cx="3457080" cy="576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8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5" name="Freeform 7"/>
            <p:cNvSpPr/>
            <p:nvPr/>
          </p:nvSpPr>
          <p:spPr>
            <a:xfrm rot="900000">
              <a:off x="2133720" y="3702960"/>
              <a:ext cx="1006200" cy="1998360"/>
            </a:xfrm>
            <a:custGeom>
              <a:avLst/>
              <a:gdLst>
                <a:gd name="textAreaLeft" fmla="*/ 0 w 1006200"/>
                <a:gd name="textAreaRight" fmla="*/ 1006560 w 1006200"/>
                <a:gd name="textAreaTop" fmla="*/ 0 h 1998360"/>
                <a:gd name="textAreaBottom" fmla="*/ 1998720 h 1998360"/>
              </a:gdLst>
              <a:ahLst/>
              <a:rect l="textAreaLeft" t="textAreaTop" r="textAreaRight" b="textAreaBottom"/>
              <a:pathLst>
                <a:path w="252" h="499">
                  <a:moveTo>
                    <a:pt x="187" y="221"/>
                  </a:moveTo>
                  <a:cubicBezTo>
                    <a:pt x="206" y="174"/>
                    <a:pt x="240" y="179"/>
                    <a:pt x="252" y="182"/>
                  </a:cubicBezTo>
                  <a:cubicBezTo>
                    <a:pt x="252" y="57"/>
                    <a:pt x="252" y="57"/>
                    <a:pt x="252" y="57"/>
                  </a:cubicBezTo>
                  <a:cubicBezTo>
                    <a:pt x="170" y="91"/>
                    <a:pt x="170" y="91"/>
                    <a:pt x="170" y="91"/>
                  </a:cubicBezTo>
                  <a:cubicBezTo>
                    <a:pt x="173" y="81"/>
                    <a:pt x="180" y="56"/>
                    <a:pt x="179" y="42"/>
                  </a:cubicBezTo>
                  <a:cubicBezTo>
                    <a:pt x="179" y="23"/>
                    <a:pt x="179" y="0"/>
                    <a:pt x="145" y="2"/>
                  </a:cubicBezTo>
                  <a:cubicBezTo>
                    <a:pt x="114" y="4"/>
                    <a:pt x="108" y="40"/>
                    <a:pt x="109" y="56"/>
                  </a:cubicBezTo>
                  <a:cubicBezTo>
                    <a:pt x="110" y="74"/>
                    <a:pt x="123" y="98"/>
                    <a:pt x="129" y="108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499"/>
                    <a:pt x="0" y="499"/>
                    <a:pt x="0" y="499"/>
                  </a:cubicBezTo>
                  <a:cubicBezTo>
                    <a:pt x="252" y="350"/>
                    <a:pt x="252" y="350"/>
                    <a:pt x="252" y="350"/>
                  </a:cubicBezTo>
                  <a:cubicBezTo>
                    <a:pt x="252" y="239"/>
                    <a:pt x="252" y="239"/>
                    <a:pt x="252" y="239"/>
                  </a:cubicBezTo>
                  <a:cubicBezTo>
                    <a:pt x="227" y="290"/>
                    <a:pt x="167" y="272"/>
                    <a:pt x="187" y="221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6" name="Freeform 8"/>
            <p:cNvSpPr/>
            <p:nvPr/>
          </p:nvSpPr>
          <p:spPr>
            <a:xfrm rot="900000">
              <a:off x="1028520" y="2109240"/>
              <a:ext cx="763200" cy="2347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82" h="117">
                  <a:moveTo>
                    <a:pt x="382" y="117"/>
                  </a:moveTo>
                  <a:lnTo>
                    <a:pt x="0" y="0"/>
                  </a:lnTo>
                  <a:lnTo>
                    <a:pt x="378" y="117"/>
                  </a:lnTo>
                  <a:lnTo>
                    <a:pt x="38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 rot="900000">
              <a:off x="1695240" y="2554920"/>
              <a:ext cx="939600" cy="29484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470" h="148">
                  <a:moveTo>
                    <a:pt x="0" y="0"/>
                  </a:moveTo>
                  <a:lnTo>
                    <a:pt x="0" y="2"/>
                  </a:lnTo>
                  <a:lnTo>
                    <a:pt x="470" y="1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 rot="900000">
              <a:off x="2730600" y="2518560"/>
              <a:ext cx="1746000" cy="404280"/>
            </a:xfrm>
            <a:custGeom>
              <a:avLst/>
              <a:gdLst>
                <a:gd name="textAreaLeft" fmla="*/ 0 w 1746000"/>
                <a:gd name="textAreaRight" fmla="*/ 1746360 w 1746000"/>
                <a:gd name="textAreaTop" fmla="*/ 0 h 404280"/>
                <a:gd name="textAreaBottom" fmla="*/ 404640 h 404280"/>
              </a:gdLst>
              <a:ahLst/>
              <a:rect l="textAreaLeft" t="textAreaTop" r="textAreaRight" b="textAreaBottom"/>
              <a:pathLst>
                <a:path w="437" h="101">
                  <a:moveTo>
                    <a:pt x="188" y="33"/>
                  </a:moveTo>
                  <a:cubicBezTo>
                    <a:pt x="164" y="45"/>
                    <a:pt x="122" y="35"/>
                    <a:pt x="111" y="20"/>
                  </a:cubicBezTo>
                  <a:cubicBezTo>
                    <a:pt x="0" y="46"/>
                    <a:pt x="0" y="46"/>
                    <a:pt x="0" y="46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59" y="68"/>
                    <a:pt x="29" y="76"/>
                    <a:pt x="57" y="84"/>
                  </a:cubicBezTo>
                  <a:cubicBezTo>
                    <a:pt x="86" y="92"/>
                    <a:pt x="107" y="82"/>
                    <a:pt x="119" y="73"/>
                  </a:cubicBezTo>
                  <a:cubicBezTo>
                    <a:pt x="239" y="101"/>
                    <a:pt x="239" y="101"/>
                    <a:pt x="239" y="101"/>
                  </a:cubicBezTo>
                  <a:cubicBezTo>
                    <a:pt x="239" y="101"/>
                    <a:pt x="239" y="101"/>
                    <a:pt x="239" y="101"/>
                  </a:cubicBezTo>
                  <a:cubicBezTo>
                    <a:pt x="437" y="42"/>
                    <a:pt x="437" y="42"/>
                    <a:pt x="437" y="42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154" y="11"/>
                    <a:pt x="154" y="11"/>
                    <a:pt x="154" y="11"/>
                  </a:cubicBezTo>
                  <a:cubicBezTo>
                    <a:pt x="176" y="15"/>
                    <a:pt x="208" y="23"/>
                    <a:pt x="188" y="3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 rot="900000">
              <a:off x="1034640" y="2064960"/>
              <a:ext cx="1753920" cy="409320"/>
            </a:xfrm>
            <a:custGeom>
              <a:avLst/>
              <a:gdLst>
                <a:gd name="textAreaLeft" fmla="*/ 0 w 1753920"/>
                <a:gd name="textAreaRight" fmla="*/ 1754280 w 175392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39" h="102">
                  <a:moveTo>
                    <a:pt x="340" y="23"/>
                  </a:moveTo>
                  <a:cubicBezTo>
                    <a:pt x="354" y="20"/>
                    <a:pt x="373" y="14"/>
                    <a:pt x="365" y="9"/>
                  </a:cubicBezTo>
                  <a:cubicBezTo>
                    <a:pt x="349" y="0"/>
                    <a:pt x="319" y="11"/>
                    <a:pt x="308" y="15"/>
                  </a:cubicBezTo>
                  <a:cubicBezTo>
                    <a:pt x="255" y="3"/>
                    <a:pt x="255" y="3"/>
                    <a:pt x="255" y="3"/>
                  </a:cubicBezTo>
                  <a:cubicBezTo>
                    <a:pt x="0" y="44"/>
                    <a:pt x="0" y="44"/>
                    <a:pt x="0" y="44"/>
                  </a:cubicBezTo>
                  <a:cubicBezTo>
                    <a:pt x="191" y="102"/>
                    <a:pt x="191" y="102"/>
                    <a:pt x="191" y="102"/>
                  </a:cubicBezTo>
                  <a:cubicBezTo>
                    <a:pt x="308" y="75"/>
                    <a:pt x="308" y="75"/>
                    <a:pt x="308" y="75"/>
                  </a:cubicBezTo>
                  <a:cubicBezTo>
                    <a:pt x="284" y="72"/>
                    <a:pt x="241" y="63"/>
                    <a:pt x="273" y="50"/>
                  </a:cubicBezTo>
                  <a:cubicBezTo>
                    <a:pt x="309" y="37"/>
                    <a:pt x="333" y="57"/>
                    <a:pt x="343" y="67"/>
                  </a:cubicBezTo>
                  <a:cubicBezTo>
                    <a:pt x="439" y="46"/>
                    <a:pt x="439" y="46"/>
                    <a:pt x="439" y="46"/>
                  </a:cubicBezTo>
                  <a:lnTo>
                    <a:pt x="340" y="23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 rot="900000">
              <a:off x="2068560" y="2182320"/>
              <a:ext cx="1566360" cy="310680"/>
            </a:xfrm>
            <a:custGeom>
              <a:avLst/>
              <a:gdLst>
                <a:gd name="textAreaLeft" fmla="*/ 0 w 1566360"/>
                <a:gd name="textAreaRight" fmla="*/ 1566720 w 1566360"/>
                <a:gd name="textAreaTop" fmla="*/ 0 h 310680"/>
                <a:gd name="textAreaBottom" fmla="*/ 311040 h 310680"/>
              </a:gdLst>
              <a:ahLst/>
              <a:rect l="textAreaLeft" t="textAreaTop" r="textAreaRight" b="textAreaBottom"/>
              <a:pathLst>
                <a:path w="392" h="78">
                  <a:moveTo>
                    <a:pt x="110" y="41"/>
                  </a:moveTo>
                  <a:cubicBezTo>
                    <a:pt x="118" y="46"/>
                    <a:pt x="99" y="52"/>
                    <a:pt x="85" y="55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295" y="52"/>
                    <a:pt x="295" y="52"/>
                    <a:pt x="295" y="52"/>
                  </a:cubicBezTo>
                  <a:cubicBezTo>
                    <a:pt x="306" y="67"/>
                    <a:pt x="348" y="77"/>
                    <a:pt x="372" y="65"/>
                  </a:cubicBezTo>
                  <a:cubicBezTo>
                    <a:pt x="392" y="55"/>
                    <a:pt x="360" y="47"/>
                    <a:pt x="338" y="43"/>
                  </a:cubicBezTo>
                  <a:cubicBezTo>
                    <a:pt x="386" y="32"/>
                    <a:pt x="386" y="32"/>
                    <a:pt x="386" y="32"/>
                  </a:cubicBezTo>
                  <a:cubicBezTo>
                    <a:pt x="212" y="0"/>
                    <a:pt x="212" y="0"/>
                    <a:pt x="212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53" y="47"/>
                    <a:pt x="53" y="47"/>
                    <a:pt x="53" y="47"/>
                  </a:cubicBezTo>
                  <a:cubicBezTo>
                    <a:pt x="64" y="43"/>
                    <a:pt x="94" y="32"/>
                    <a:pt x="110" y="41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 rot="900000">
              <a:off x="1711080" y="2428200"/>
              <a:ext cx="1945800" cy="556920"/>
            </a:xfrm>
            <a:custGeom>
              <a:avLst/>
              <a:gdLst>
                <a:gd name="textAreaLeft" fmla="*/ 0 w 1945800"/>
                <a:gd name="textAreaRight" fmla="*/ 1946160 w 1945800"/>
                <a:gd name="textAreaTop" fmla="*/ 0 h 556920"/>
                <a:gd name="textAreaBottom" fmla="*/ 557280 h 556920"/>
              </a:gdLst>
              <a:ahLst/>
              <a:rect l="textAreaLeft" t="textAreaTop" r="textAreaRight" b="textAreaBottom"/>
              <a:pathLst>
                <a:path w="487" h="139">
                  <a:moveTo>
                    <a:pt x="235" y="139"/>
                  </a:moveTo>
                  <a:cubicBezTo>
                    <a:pt x="487" y="64"/>
                    <a:pt x="487" y="64"/>
                    <a:pt x="487" y="64"/>
                  </a:cubicBezTo>
                  <a:cubicBezTo>
                    <a:pt x="367" y="36"/>
                    <a:pt x="367" y="36"/>
                    <a:pt x="367" y="36"/>
                  </a:cubicBezTo>
                  <a:cubicBezTo>
                    <a:pt x="355" y="45"/>
                    <a:pt x="334" y="55"/>
                    <a:pt x="305" y="47"/>
                  </a:cubicBezTo>
                  <a:cubicBezTo>
                    <a:pt x="277" y="39"/>
                    <a:pt x="307" y="31"/>
                    <a:pt x="328" y="27"/>
                  </a:cubicBezTo>
                  <a:cubicBezTo>
                    <a:pt x="248" y="9"/>
                    <a:pt x="248" y="9"/>
                    <a:pt x="248" y="9"/>
                  </a:cubicBezTo>
                  <a:cubicBezTo>
                    <a:pt x="152" y="30"/>
                    <a:pt x="152" y="30"/>
                    <a:pt x="152" y="30"/>
                  </a:cubicBezTo>
                  <a:cubicBezTo>
                    <a:pt x="142" y="20"/>
                    <a:pt x="118" y="0"/>
                    <a:pt x="82" y="13"/>
                  </a:cubicBezTo>
                  <a:cubicBezTo>
                    <a:pt x="50" y="26"/>
                    <a:pt x="93" y="35"/>
                    <a:pt x="117" y="38"/>
                  </a:cubicBezTo>
                  <a:cubicBezTo>
                    <a:pt x="0" y="65"/>
                    <a:pt x="0" y="65"/>
                    <a:pt x="0" y="65"/>
                  </a:cubicBezTo>
                  <a:lnTo>
                    <a:pt x="235" y="139"/>
                  </a:lnTo>
                  <a:close/>
                </a:path>
              </a:pathLst>
            </a:custGeom>
            <a:gradFill rotWithShape="0">
              <a:gsLst>
                <a:gs pos="0">
                  <a:srgbClr val="7dadff"/>
                </a:gs>
                <a:gs pos="100000">
                  <a:srgbClr val="2676f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2" name="Freeform 14"/>
            <p:cNvSpPr/>
            <p:nvPr/>
          </p:nvSpPr>
          <p:spPr>
            <a:xfrm rot="900000">
              <a:off x="1028520" y="2107440"/>
              <a:ext cx="755280" cy="234720"/>
            </a:xfrm>
            <a:custGeom>
              <a:avLst/>
              <a:gdLst>
                <a:gd name="textAreaLeft" fmla="*/ 0 w 755280"/>
                <a:gd name="textAreaRight" fmla="*/ 755640 w 755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78" h="117">
                  <a:moveTo>
                    <a:pt x="378" y="117"/>
                  </a:moveTo>
                  <a:lnTo>
                    <a:pt x="0" y="0"/>
                  </a:lnTo>
                  <a:lnTo>
                    <a:pt x="378" y="117"/>
                  </a:lnTo>
                  <a:lnTo>
                    <a:pt x="37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3" name="Freeform 15"/>
            <p:cNvSpPr/>
            <p:nvPr/>
          </p:nvSpPr>
          <p:spPr>
            <a:xfrm rot="900000">
              <a:off x="871200" y="2125080"/>
              <a:ext cx="1047240" cy="1417320"/>
            </a:xfrm>
            <a:custGeom>
              <a:avLst/>
              <a:gdLst>
                <a:gd name="textAreaLeft" fmla="*/ 0 w 1047240"/>
                <a:gd name="textAreaRight" fmla="*/ 1047600 w 1047240"/>
                <a:gd name="textAreaTop" fmla="*/ 0 h 1417320"/>
                <a:gd name="textAreaBottom" fmla="*/ 1417680 h 1417320"/>
              </a:gdLst>
              <a:ahLst/>
              <a:rect l="textAreaLeft" t="textAreaTop" r="textAreaRight" b="textAreaBottom"/>
              <a:pathLst>
                <a:path w="262" h="354">
                  <a:moveTo>
                    <a:pt x="82" y="218"/>
                  </a:moveTo>
                  <a:cubicBezTo>
                    <a:pt x="120" y="210"/>
                    <a:pt x="118" y="288"/>
                    <a:pt x="102" y="314"/>
                  </a:cubicBezTo>
                  <a:cubicBezTo>
                    <a:pt x="191" y="354"/>
                    <a:pt x="191" y="354"/>
                    <a:pt x="191" y="354"/>
                  </a:cubicBezTo>
                  <a:cubicBezTo>
                    <a:pt x="191" y="233"/>
                    <a:pt x="191" y="233"/>
                    <a:pt x="191" y="233"/>
                  </a:cubicBezTo>
                  <a:cubicBezTo>
                    <a:pt x="218" y="251"/>
                    <a:pt x="262" y="270"/>
                    <a:pt x="262" y="223"/>
                  </a:cubicBezTo>
                  <a:cubicBezTo>
                    <a:pt x="262" y="166"/>
                    <a:pt x="214" y="172"/>
                    <a:pt x="191" y="178"/>
                  </a:cubicBezTo>
                  <a:cubicBezTo>
                    <a:pt x="191" y="59"/>
                    <a:pt x="191" y="59"/>
                    <a:pt x="191" y="59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68"/>
                    <a:pt x="0" y="268"/>
                    <a:pt x="0" y="268"/>
                  </a:cubicBezTo>
                  <a:cubicBezTo>
                    <a:pt x="66" y="298"/>
                    <a:pt x="66" y="298"/>
                    <a:pt x="66" y="298"/>
                  </a:cubicBezTo>
                  <a:cubicBezTo>
                    <a:pt x="60" y="277"/>
                    <a:pt x="47" y="226"/>
                    <a:pt x="82" y="218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5f5f5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 rot="900000">
              <a:off x="1491840" y="2531520"/>
              <a:ext cx="939600" cy="1848960"/>
            </a:xfrm>
            <a:custGeom>
              <a:avLst/>
              <a:gdLst>
                <a:gd name="textAreaLeft" fmla="*/ 0 w 939600"/>
                <a:gd name="textAreaRight" fmla="*/ 939960 w 939600"/>
                <a:gd name="textAreaTop" fmla="*/ 0 h 1848960"/>
                <a:gd name="textAreaBottom" fmla="*/ 1849320 h 1848960"/>
              </a:gdLst>
              <a:ahLst/>
              <a:rect l="textAreaLeft" t="textAreaTop" r="textAreaRight" b="textAreaBottom"/>
              <a:pathLst>
                <a:path w="235" h="462">
                  <a:moveTo>
                    <a:pt x="0" y="0"/>
                  </a:moveTo>
                  <a:cubicBezTo>
                    <a:pt x="0" y="119"/>
                    <a:pt x="0" y="119"/>
                    <a:pt x="0" y="119"/>
                  </a:cubicBezTo>
                  <a:cubicBezTo>
                    <a:pt x="23" y="113"/>
                    <a:pt x="71" y="107"/>
                    <a:pt x="71" y="164"/>
                  </a:cubicBezTo>
                  <a:cubicBezTo>
                    <a:pt x="71" y="211"/>
                    <a:pt x="27" y="192"/>
                    <a:pt x="0" y="174"/>
                  </a:cubicBezTo>
                  <a:cubicBezTo>
                    <a:pt x="0" y="295"/>
                    <a:pt x="0" y="295"/>
                    <a:pt x="0" y="295"/>
                  </a:cubicBezTo>
                  <a:cubicBezTo>
                    <a:pt x="98" y="339"/>
                    <a:pt x="98" y="339"/>
                    <a:pt x="98" y="339"/>
                  </a:cubicBezTo>
                  <a:cubicBezTo>
                    <a:pt x="87" y="365"/>
                    <a:pt x="65" y="430"/>
                    <a:pt x="117" y="447"/>
                  </a:cubicBezTo>
                  <a:cubicBezTo>
                    <a:pt x="161" y="462"/>
                    <a:pt x="151" y="400"/>
                    <a:pt x="140" y="358"/>
                  </a:cubicBezTo>
                  <a:cubicBezTo>
                    <a:pt x="235" y="401"/>
                    <a:pt x="235" y="401"/>
                    <a:pt x="235" y="401"/>
                  </a:cubicBezTo>
                  <a:cubicBezTo>
                    <a:pt x="235" y="73"/>
                    <a:pt x="235" y="73"/>
                    <a:pt x="235" y="73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692"/>
                </a:gs>
                <a:gs pos="100000">
                  <a:srgbClr val="0051dc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5" name="Freeform 17"/>
            <p:cNvSpPr/>
            <p:nvPr/>
          </p:nvSpPr>
          <p:spPr>
            <a:xfrm rot="900000">
              <a:off x="2427120" y="2823480"/>
              <a:ext cx="1350720" cy="1612440"/>
            </a:xfrm>
            <a:custGeom>
              <a:avLst/>
              <a:gdLst>
                <a:gd name="textAreaLeft" fmla="*/ 0 w 1350720"/>
                <a:gd name="textAreaRight" fmla="*/ 1351080 w 1350720"/>
                <a:gd name="textAreaTop" fmla="*/ 0 h 1612440"/>
                <a:gd name="textAreaBottom" fmla="*/ 1612800 h 1612440"/>
              </a:gdLst>
              <a:ahLst/>
              <a:rect l="textAreaLeft" t="textAreaTop" r="textAreaRight" b="textAreaBottom"/>
              <a:pathLst>
                <a:path w="338" h="403">
                  <a:moveTo>
                    <a:pt x="0" y="75"/>
                  </a:moveTo>
                  <a:cubicBezTo>
                    <a:pt x="0" y="403"/>
                    <a:pt x="0" y="403"/>
                    <a:pt x="0" y="403"/>
                  </a:cubicBezTo>
                  <a:cubicBezTo>
                    <a:pt x="129" y="349"/>
                    <a:pt x="129" y="349"/>
                    <a:pt x="129" y="349"/>
                  </a:cubicBezTo>
                  <a:cubicBezTo>
                    <a:pt x="123" y="339"/>
                    <a:pt x="110" y="315"/>
                    <a:pt x="109" y="297"/>
                  </a:cubicBezTo>
                  <a:cubicBezTo>
                    <a:pt x="108" y="281"/>
                    <a:pt x="114" y="245"/>
                    <a:pt x="145" y="243"/>
                  </a:cubicBezTo>
                  <a:cubicBezTo>
                    <a:pt x="179" y="241"/>
                    <a:pt x="179" y="264"/>
                    <a:pt x="179" y="283"/>
                  </a:cubicBezTo>
                  <a:cubicBezTo>
                    <a:pt x="180" y="297"/>
                    <a:pt x="173" y="322"/>
                    <a:pt x="170" y="332"/>
                  </a:cubicBezTo>
                  <a:cubicBezTo>
                    <a:pt x="252" y="298"/>
                    <a:pt x="252" y="298"/>
                    <a:pt x="252" y="298"/>
                  </a:cubicBezTo>
                  <a:cubicBezTo>
                    <a:pt x="252" y="170"/>
                    <a:pt x="252" y="170"/>
                    <a:pt x="252" y="170"/>
                  </a:cubicBezTo>
                  <a:cubicBezTo>
                    <a:pt x="281" y="173"/>
                    <a:pt x="338" y="175"/>
                    <a:pt x="331" y="121"/>
                  </a:cubicBezTo>
                  <a:cubicBezTo>
                    <a:pt x="325" y="74"/>
                    <a:pt x="275" y="109"/>
                    <a:pt x="252" y="127"/>
                  </a:cubicBezTo>
                  <a:cubicBezTo>
                    <a:pt x="252" y="0"/>
                    <a:pt x="252" y="0"/>
                    <a:pt x="252" y="0"/>
                  </a:cubicBezTo>
                  <a:cubicBezTo>
                    <a:pt x="252" y="0"/>
                    <a:pt x="252" y="0"/>
                    <a:pt x="252" y="0"/>
                  </a:cubicBezTo>
                  <a:lnTo>
                    <a:pt x="0" y="75"/>
                  </a:lnTo>
                  <a:close/>
                </a:path>
              </a:pathLst>
            </a:custGeom>
            <a:gradFill rotWithShape="0">
              <a:gsLst>
                <a:gs pos="0">
                  <a:srgbClr val="7dadff"/>
                </a:gs>
                <a:gs pos="100000">
                  <a:srgbClr val="0051dc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 rot="900000">
              <a:off x="2865240" y="3801240"/>
              <a:ext cx="1134720" cy="1504440"/>
            </a:xfrm>
            <a:custGeom>
              <a:avLst/>
              <a:gdLst>
                <a:gd name="textAreaLeft" fmla="*/ 0 w 1134720"/>
                <a:gd name="textAreaRight" fmla="*/ 1135080 w 1134720"/>
                <a:gd name="textAreaTop" fmla="*/ 0 h 1504440"/>
                <a:gd name="textAreaBottom" fmla="*/ 1504800 h 1504440"/>
              </a:gdLst>
              <a:ahLst/>
              <a:rect l="textAreaLeft" t="textAreaTop" r="textAreaRight" b="textAreaBottom"/>
              <a:pathLst>
                <a:path w="284" h="376">
                  <a:moveTo>
                    <a:pt x="199" y="126"/>
                  </a:moveTo>
                  <a:cubicBezTo>
                    <a:pt x="157" y="127"/>
                    <a:pt x="170" y="73"/>
                    <a:pt x="180" y="44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208"/>
                    <a:pt x="85" y="208"/>
                    <a:pt x="85" y="208"/>
                  </a:cubicBezTo>
                  <a:cubicBezTo>
                    <a:pt x="86" y="208"/>
                    <a:pt x="87" y="209"/>
                    <a:pt x="87" y="209"/>
                  </a:cubicBezTo>
                  <a:cubicBezTo>
                    <a:pt x="87" y="209"/>
                    <a:pt x="86" y="208"/>
                    <a:pt x="85" y="208"/>
                  </a:cubicBezTo>
                  <a:cubicBezTo>
                    <a:pt x="73" y="205"/>
                    <a:pt x="39" y="200"/>
                    <a:pt x="20" y="247"/>
                  </a:cubicBezTo>
                  <a:cubicBezTo>
                    <a:pt x="0" y="298"/>
                    <a:pt x="60" y="316"/>
                    <a:pt x="85" y="265"/>
                  </a:cubicBezTo>
                  <a:cubicBezTo>
                    <a:pt x="87" y="261"/>
                    <a:pt x="87" y="260"/>
                    <a:pt x="87" y="260"/>
                  </a:cubicBezTo>
                  <a:cubicBezTo>
                    <a:pt x="87" y="260"/>
                    <a:pt x="87" y="261"/>
                    <a:pt x="85" y="265"/>
                  </a:cubicBezTo>
                  <a:cubicBezTo>
                    <a:pt x="85" y="376"/>
                    <a:pt x="85" y="376"/>
                    <a:pt x="85" y="376"/>
                  </a:cubicBezTo>
                  <a:cubicBezTo>
                    <a:pt x="284" y="258"/>
                    <a:pt x="284" y="258"/>
                    <a:pt x="284" y="258"/>
                  </a:cubicBezTo>
                  <a:cubicBezTo>
                    <a:pt x="284" y="0"/>
                    <a:pt x="284" y="0"/>
                    <a:pt x="284" y="0"/>
                  </a:cubicBezTo>
                  <a:cubicBezTo>
                    <a:pt x="214" y="30"/>
                    <a:pt x="214" y="30"/>
                    <a:pt x="214" y="30"/>
                  </a:cubicBezTo>
                  <a:cubicBezTo>
                    <a:pt x="224" y="60"/>
                    <a:pt x="245" y="124"/>
                    <a:pt x="199" y="126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7" name="Freeform 19"/>
            <p:cNvSpPr/>
            <p:nvPr/>
          </p:nvSpPr>
          <p:spPr>
            <a:xfrm rot="900000">
              <a:off x="3470040" y="2782080"/>
              <a:ext cx="794880" cy="1607760"/>
            </a:xfrm>
            <a:custGeom>
              <a:avLst/>
              <a:gdLst>
                <a:gd name="textAreaLeft" fmla="*/ 0 w 794880"/>
                <a:gd name="textAreaRight" fmla="*/ 795240 w 794880"/>
                <a:gd name="textAreaTop" fmla="*/ 0 h 1607760"/>
                <a:gd name="textAreaBottom" fmla="*/ 1608120 h 1607760"/>
              </a:gdLst>
              <a:ahLst/>
              <a:rect l="textAreaLeft" t="textAreaTop" r="textAreaRight" b="textAreaBottom"/>
              <a:pathLst>
                <a:path w="199" h="401">
                  <a:moveTo>
                    <a:pt x="198" y="0"/>
                  </a:moveTo>
                  <a:cubicBezTo>
                    <a:pt x="199" y="0"/>
                    <a:pt x="199" y="0"/>
                    <a:pt x="199" y="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186"/>
                    <a:pt x="0" y="186"/>
                    <a:pt x="0" y="186"/>
                  </a:cubicBezTo>
                  <a:cubicBezTo>
                    <a:pt x="23" y="168"/>
                    <a:pt x="73" y="133"/>
                    <a:pt x="79" y="180"/>
                  </a:cubicBezTo>
                  <a:cubicBezTo>
                    <a:pt x="86" y="234"/>
                    <a:pt x="29" y="232"/>
                    <a:pt x="0" y="229"/>
                  </a:cubicBezTo>
                  <a:cubicBezTo>
                    <a:pt x="0" y="357"/>
                    <a:pt x="0" y="357"/>
                    <a:pt x="0" y="357"/>
                  </a:cubicBezTo>
                  <a:cubicBezTo>
                    <a:pt x="95" y="318"/>
                    <a:pt x="95" y="318"/>
                    <a:pt x="95" y="318"/>
                  </a:cubicBezTo>
                  <a:cubicBezTo>
                    <a:pt x="85" y="347"/>
                    <a:pt x="72" y="401"/>
                    <a:pt x="114" y="400"/>
                  </a:cubicBezTo>
                  <a:cubicBezTo>
                    <a:pt x="160" y="398"/>
                    <a:pt x="139" y="334"/>
                    <a:pt x="129" y="304"/>
                  </a:cubicBezTo>
                  <a:cubicBezTo>
                    <a:pt x="199" y="274"/>
                    <a:pt x="199" y="274"/>
                    <a:pt x="199" y="274"/>
                  </a:cubicBezTo>
                  <a:cubicBezTo>
                    <a:pt x="199" y="0"/>
                    <a:pt x="199" y="0"/>
                    <a:pt x="199" y="0"/>
                  </a:cubicBezTo>
                  <a:lnTo>
                    <a:pt x="19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b2b2b2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 rot="900000">
              <a:off x="612720" y="2894760"/>
              <a:ext cx="763200" cy="176976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769760"/>
                <a:gd name="textAreaBottom" fmla="*/ 1770120 h 1769760"/>
              </a:gdLst>
              <a:ahLst/>
              <a:rect l="textAreaLeft" t="textAreaTop" r="textAreaRight" b="textAreaBottom"/>
              <a:pathLst>
                <a:path w="191" h="442">
                  <a:moveTo>
                    <a:pt x="122" y="253"/>
                  </a:moveTo>
                  <a:cubicBezTo>
                    <a:pt x="137" y="210"/>
                    <a:pt x="175" y="248"/>
                    <a:pt x="191" y="268"/>
                  </a:cubicBezTo>
                  <a:cubicBezTo>
                    <a:pt x="191" y="144"/>
                    <a:pt x="191" y="144"/>
                    <a:pt x="191" y="144"/>
                  </a:cubicBezTo>
                  <a:cubicBezTo>
                    <a:pt x="102" y="104"/>
                    <a:pt x="102" y="104"/>
                    <a:pt x="102" y="104"/>
                  </a:cubicBezTo>
                  <a:cubicBezTo>
                    <a:pt x="118" y="78"/>
                    <a:pt x="120" y="0"/>
                    <a:pt x="82" y="8"/>
                  </a:cubicBezTo>
                  <a:cubicBezTo>
                    <a:pt x="47" y="16"/>
                    <a:pt x="60" y="67"/>
                    <a:pt x="66" y="88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325"/>
                    <a:pt x="0" y="325"/>
                    <a:pt x="0" y="325"/>
                  </a:cubicBezTo>
                  <a:cubicBezTo>
                    <a:pt x="191" y="442"/>
                    <a:pt x="191" y="442"/>
                    <a:pt x="191" y="442"/>
                  </a:cubicBezTo>
                  <a:cubicBezTo>
                    <a:pt x="191" y="316"/>
                    <a:pt x="191" y="316"/>
                    <a:pt x="191" y="316"/>
                  </a:cubicBezTo>
                  <a:cubicBezTo>
                    <a:pt x="167" y="322"/>
                    <a:pt x="105" y="299"/>
                    <a:pt x="122" y="253"/>
                  </a:cubicBez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5f5f5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 rot="900000">
              <a:off x="858600" y="3626640"/>
              <a:ext cx="1283760" cy="1774440"/>
            </a:xfrm>
            <a:custGeom>
              <a:avLst/>
              <a:gdLst>
                <a:gd name="textAreaLeft" fmla="*/ 0 w 1283760"/>
                <a:gd name="textAreaRight" fmla="*/ 1284120 w 1283760"/>
                <a:gd name="textAreaTop" fmla="*/ 0 h 1774440"/>
                <a:gd name="textAreaBottom" fmla="*/ 1774800 h 1774440"/>
              </a:gdLst>
              <a:ahLst/>
              <a:rect l="textAreaLeft" t="textAreaTop" r="textAreaRight" b="textAreaBottom"/>
              <a:pathLst>
                <a:path w="321" h="443">
                  <a:moveTo>
                    <a:pt x="226" y="63"/>
                  </a:moveTo>
                  <a:cubicBezTo>
                    <a:pt x="237" y="105"/>
                    <a:pt x="247" y="167"/>
                    <a:pt x="203" y="152"/>
                  </a:cubicBezTo>
                  <a:cubicBezTo>
                    <a:pt x="151" y="135"/>
                    <a:pt x="173" y="70"/>
                    <a:pt x="184" y="44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124"/>
                    <a:pt x="86" y="124"/>
                    <a:pt x="86" y="124"/>
                  </a:cubicBezTo>
                  <a:cubicBezTo>
                    <a:pt x="70" y="104"/>
                    <a:pt x="32" y="66"/>
                    <a:pt x="17" y="109"/>
                  </a:cubicBezTo>
                  <a:cubicBezTo>
                    <a:pt x="0" y="155"/>
                    <a:pt x="62" y="178"/>
                    <a:pt x="86" y="172"/>
                  </a:cubicBezTo>
                  <a:cubicBezTo>
                    <a:pt x="86" y="298"/>
                    <a:pt x="86" y="298"/>
                    <a:pt x="86" y="298"/>
                  </a:cubicBezTo>
                  <a:cubicBezTo>
                    <a:pt x="321" y="443"/>
                    <a:pt x="321" y="443"/>
                    <a:pt x="321" y="443"/>
                  </a:cubicBezTo>
                  <a:cubicBezTo>
                    <a:pt x="321" y="106"/>
                    <a:pt x="321" y="106"/>
                    <a:pt x="321" y="106"/>
                  </a:cubicBezTo>
                  <a:lnTo>
                    <a:pt x="226" y="63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5f5f5f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</p:grpSp>
      <p:sp>
        <p:nvSpPr>
          <p:cNvPr id="150" name="Line 23"/>
          <p:cNvSpPr/>
          <p:nvPr/>
        </p:nvSpPr>
        <p:spPr>
          <a:xfrm flipV="1">
            <a:off x="2963520" y="3123360"/>
            <a:ext cx="1584360" cy="432000"/>
          </a:xfrm>
          <a:prstGeom prst="line">
            <a:avLst/>
          </a:prstGeom>
          <a:ln w="15875">
            <a:solidFill>
              <a:srgbClr val="888888"/>
            </a:solidFill>
            <a:prstDash val="dash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51" name="Line 27"/>
          <p:cNvSpPr/>
          <p:nvPr/>
        </p:nvSpPr>
        <p:spPr>
          <a:xfrm flipV="1">
            <a:off x="3709800" y="4433400"/>
            <a:ext cx="851040" cy="274320"/>
          </a:xfrm>
          <a:prstGeom prst="line">
            <a:avLst/>
          </a:prstGeom>
          <a:ln w="15875">
            <a:solidFill>
              <a:srgbClr val="888888"/>
            </a:solidFill>
            <a:prstDash val="dash"/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grpSp>
        <p:nvGrpSpPr>
          <p:cNvPr id="152" name="组合 1"/>
          <p:cNvGrpSpPr/>
          <p:nvPr/>
        </p:nvGrpSpPr>
        <p:grpSpPr>
          <a:xfrm>
            <a:off x="4547880" y="2692080"/>
            <a:ext cx="3816360" cy="2331000"/>
            <a:chOff x="4547880" y="2692080"/>
            <a:chExt cx="3816360" cy="2331000"/>
          </a:xfrm>
        </p:grpSpPr>
        <p:sp>
          <p:nvSpPr>
            <p:cNvPr id="153" name="Line 22"/>
            <p:cNvSpPr/>
            <p:nvPr/>
          </p:nvSpPr>
          <p:spPr>
            <a:xfrm>
              <a:off x="4547880" y="3121920"/>
              <a:ext cx="3816360" cy="1440"/>
            </a:xfrm>
            <a:prstGeom prst="line">
              <a:avLst/>
            </a:prstGeom>
            <a:ln w="15875">
              <a:solidFill>
                <a:srgbClr val="888888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4" name="Rectangle 24"/>
            <p:cNvSpPr/>
            <p:nvPr/>
          </p:nvSpPr>
          <p:spPr>
            <a:xfrm>
              <a:off x="4548240" y="2692080"/>
              <a:ext cx="3744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25"/>
            <p:cNvSpPr/>
            <p:nvPr/>
          </p:nvSpPr>
          <p:spPr>
            <a:xfrm>
              <a:off x="4621320" y="3195000"/>
              <a:ext cx="367164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888888"/>
                  </a:solidFill>
                  <a:latin typeface="微软雅黑"/>
                  <a:ea typeface="微软雅黑"/>
                </a:rPr>
                <a:t>此处输入文本  此处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888888"/>
                  </a:solidFill>
                  <a:latin typeface="微软雅黑"/>
                  <a:ea typeface="微软雅黑"/>
                </a:rPr>
                <a:t>此处输入文本  此处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6"/>
            <p:cNvSpPr/>
            <p:nvPr/>
          </p:nvSpPr>
          <p:spPr>
            <a:xfrm>
              <a:off x="4547880" y="4420440"/>
              <a:ext cx="3816360" cy="1800"/>
            </a:xfrm>
            <a:prstGeom prst="line">
              <a:avLst/>
            </a:prstGeom>
            <a:ln w="15875">
              <a:solidFill>
                <a:srgbClr val="888888"/>
              </a:solidFill>
              <a:prstDash val="dash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57" name="Rectangle 28"/>
            <p:cNvSpPr/>
            <p:nvPr/>
          </p:nvSpPr>
          <p:spPr>
            <a:xfrm>
              <a:off x="4548240" y="3988800"/>
              <a:ext cx="3744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800" spc="-1" strike="noStrike">
                  <a:solidFill>
                    <a:srgbClr val="646464"/>
                  </a:solidFill>
                  <a:latin typeface="微软雅黑"/>
                  <a:ea typeface="微软雅黑"/>
                </a:rPr>
                <a:t>此处输入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29"/>
            <p:cNvSpPr/>
            <p:nvPr/>
          </p:nvSpPr>
          <p:spPr>
            <a:xfrm>
              <a:off x="4621320" y="4492080"/>
              <a:ext cx="3671640" cy="53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888888"/>
                  </a:solidFill>
                  <a:latin typeface="微软雅黑"/>
                  <a:ea typeface="微软雅黑"/>
                </a:rPr>
                <a:t>此处输入文本  此处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</a:tabLst>
              </a:pPr>
              <a:r>
                <a:rPr b="0" lang="zh-CN" sz="1200" spc="-1" strike="noStrike">
                  <a:solidFill>
                    <a:srgbClr val="888888"/>
                  </a:solidFill>
                  <a:latin typeface="微软雅黑"/>
                  <a:ea typeface="微软雅黑"/>
                </a:rPr>
                <a:t>此处输入文本  此处输入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组合 33"/>
          <p:cNvGrpSpPr/>
          <p:nvPr/>
        </p:nvGrpSpPr>
        <p:grpSpPr>
          <a:xfrm>
            <a:off x="3404160" y="1127520"/>
            <a:ext cx="5748480" cy="764280"/>
            <a:chOff x="3404160" y="1127520"/>
            <a:chExt cx="5748480" cy="764280"/>
          </a:xfrm>
        </p:grpSpPr>
        <p:grpSp>
          <p:nvGrpSpPr>
            <p:cNvPr id="397" name="组合 9"/>
            <p:cNvGrpSpPr/>
            <p:nvPr/>
          </p:nvGrpSpPr>
          <p:grpSpPr>
            <a:xfrm>
              <a:off x="3404160" y="1127520"/>
              <a:ext cx="5748480" cy="431640"/>
              <a:chOff x="3404160" y="1127520"/>
              <a:chExt cx="5748480" cy="431640"/>
            </a:xfrm>
          </p:grpSpPr>
          <p:sp>
            <p:nvSpPr>
              <p:cNvPr id="398" name="矩形 1"/>
              <p:cNvSpPr/>
              <p:nvPr/>
            </p:nvSpPr>
            <p:spPr>
              <a:xfrm>
                <a:off x="8188560" y="1127520"/>
                <a:ext cx="964080" cy="4316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399" name="矩形 2"/>
              <p:cNvSpPr/>
              <p:nvPr/>
            </p:nvSpPr>
            <p:spPr>
              <a:xfrm>
                <a:off x="3560760" y="1127520"/>
                <a:ext cx="4587120" cy="43164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45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您的标题写在这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椭圆 4"/>
              <p:cNvSpPr/>
              <p:nvPr/>
            </p:nvSpPr>
            <p:spPr>
              <a:xfrm>
                <a:off x="3404160" y="1127520"/>
                <a:ext cx="492120" cy="431640"/>
              </a:xfrm>
              <a:prstGeom prst="ellipse">
                <a:avLst/>
              </a:prstGeom>
              <a:solidFill>
                <a:schemeClr val="bg1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1" name="椭圆 3"/>
              <p:cNvSpPr/>
              <p:nvPr/>
            </p:nvSpPr>
            <p:spPr>
              <a:xfrm>
                <a:off x="3411360" y="1137240"/>
                <a:ext cx="412920" cy="412920"/>
              </a:xfrm>
              <a:prstGeom prst="ellipse">
                <a:avLst/>
              </a:prstGeom>
              <a:noFill/>
              <a:ln w="57150"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accent2"/>
                    </a:solidFill>
                    <a:latin typeface="Impact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TextBox 7"/>
            <p:cNvSpPr/>
            <p:nvPr/>
          </p:nvSpPr>
          <p:spPr>
            <a:xfrm>
              <a:off x="3770640" y="1564920"/>
              <a:ext cx="5040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说明文字或者小标题写在这里，您的说明文字或者小标题写在这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34"/>
          <p:cNvGrpSpPr/>
          <p:nvPr/>
        </p:nvGrpSpPr>
        <p:grpSpPr>
          <a:xfrm>
            <a:off x="3404160" y="2374920"/>
            <a:ext cx="5748480" cy="763920"/>
            <a:chOff x="3404160" y="2374920"/>
            <a:chExt cx="5748480" cy="763920"/>
          </a:xfrm>
        </p:grpSpPr>
        <p:grpSp>
          <p:nvGrpSpPr>
            <p:cNvPr id="404" name="组合 35"/>
            <p:cNvGrpSpPr/>
            <p:nvPr/>
          </p:nvGrpSpPr>
          <p:grpSpPr>
            <a:xfrm>
              <a:off x="3404160" y="2374920"/>
              <a:ext cx="5748480" cy="431640"/>
              <a:chOff x="3404160" y="2374920"/>
              <a:chExt cx="5748480" cy="431640"/>
            </a:xfrm>
          </p:grpSpPr>
          <p:sp>
            <p:nvSpPr>
              <p:cNvPr id="405" name="矩形 37"/>
              <p:cNvSpPr/>
              <p:nvPr/>
            </p:nvSpPr>
            <p:spPr>
              <a:xfrm>
                <a:off x="8188560" y="2374920"/>
                <a:ext cx="964080" cy="4316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6" name="矩形 38"/>
              <p:cNvSpPr/>
              <p:nvPr/>
            </p:nvSpPr>
            <p:spPr>
              <a:xfrm>
                <a:off x="3560760" y="2374920"/>
                <a:ext cx="4587120" cy="43164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45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您的标题写在这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椭圆 39"/>
              <p:cNvSpPr/>
              <p:nvPr/>
            </p:nvSpPr>
            <p:spPr>
              <a:xfrm>
                <a:off x="3404160" y="2374920"/>
                <a:ext cx="492120" cy="431640"/>
              </a:xfrm>
              <a:prstGeom prst="ellipse">
                <a:avLst/>
              </a:prstGeom>
              <a:solidFill>
                <a:schemeClr val="bg1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08" name="椭圆 40"/>
              <p:cNvSpPr/>
              <p:nvPr/>
            </p:nvSpPr>
            <p:spPr>
              <a:xfrm>
                <a:off x="3411360" y="2384280"/>
                <a:ext cx="412920" cy="412920"/>
              </a:xfrm>
              <a:prstGeom prst="ellipse">
                <a:avLst/>
              </a:prstGeom>
              <a:noFill/>
              <a:ln w="57150"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accent2"/>
                    </a:solidFill>
                    <a:latin typeface="Impact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9" name="TextBox 36"/>
            <p:cNvSpPr/>
            <p:nvPr/>
          </p:nvSpPr>
          <p:spPr>
            <a:xfrm>
              <a:off x="3770640" y="2811960"/>
              <a:ext cx="5040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说明文字或者小标题写在这里，您的说明文字或者小标题写在这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41"/>
          <p:cNvGrpSpPr/>
          <p:nvPr/>
        </p:nvGrpSpPr>
        <p:grpSpPr>
          <a:xfrm>
            <a:off x="3404160" y="3621960"/>
            <a:ext cx="5748480" cy="763920"/>
            <a:chOff x="3404160" y="3621960"/>
            <a:chExt cx="5748480" cy="763920"/>
          </a:xfrm>
        </p:grpSpPr>
        <p:grpSp>
          <p:nvGrpSpPr>
            <p:cNvPr id="411" name="组合 42"/>
            <p:cNvGrpSpPr/>
            <p:nvPr/>
          </p:nvGrpSpPr>
          <p:grpSpPr>
            <a:xfrm>
              <a:off x="3404160" y="3621960"/>
              <a:ext cx="5748480" cy="431640"/>
              <a:chOff x="3404160" y="3621960"/>
              <a:chExt cx="5748480" cy="431640"/>
            </a:xfrm>
          </p:grpSpPr>
          <p:sp>
            <p:nvSpPr>
              <p:cNvPr id="412" name="矩形 44"/>
              <p:cNvSpPr/>
              <p:nvPr/>
            </p:nvSpPr>
            <p:spPr>
              <a:xfrm>
                <a:off x="8188560" y="3621960"/>
                <a:ext cx="964080" cy="4316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3" name="矩形 45"/>
              <p:cNvSpPr/>
              <p:nvPr/>
            </p:nvSpPr>
            <p:spPr>
              <a:xfrm>
                <a:off x="3560760" y="3621960"/>
                <a:ext cx="4587120" cy="43164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45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您的标题写在这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椭圆 46"/>
              <p:cNvSpPr/>
              <p:nvPr/>
            </p:nvSpPr>
            <p:spPr>
              <a:xfrm>
                <a:off x="3404160" y="3621960"/>
                <a:ext cx="492120" cy="431640"/>
              </a:xfrm>
              <a:prstGeom prst="ellipse">
                <a:avLst/>
              </a:prstGeom>
              <a:solidFill>
                <a:schemeClr val="bg1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15" name="椭圆 47"/>
              <p:cNvSpPr/>
              <p:nvPr/>
            </p:nvSpPr>
            <p:spPr>
              <a:xfrm>
                <a:off x="3411360" y="3631320"/>
                <a:ext cx="412920" cy="412920"/>
              </a:xfrm>
              <a:prstGeom prst="ellipse">
                <a:avLst/>
              </a:prstGeom>
              <a:noFill/>
              <a:ln w="57150"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accent2"/>
                    </a:solidFill>
                    <a:latin typeface="Impact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TextBox 43"/>
            <p:cNvSpPr/>
            <p:nvPr/>
          </p:nvSpPr>
          <p:spPr>
            <a:xfrm>
              <a:off x="3770640" y="4059000"/>
              <a:ext cx="5040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说明文字或者小标题写在这里，您的说明文字或者小标题写在这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" name="组合 48"/>
          <p:cNvGrpSpPr/>
          <p:nvPr/>
        </p:nvGrpSpPr>
        <p:grpSpPr>
          <a:xfrm>
            <a:off x="3404160" y="4869000"/>
            <a:ext cx="5748480" cy="764280"/>
            <a:chOff x="3404160" y="4869000"/>
            <a:chExt cx="5748480" cy="764280"/>
          </a:xfrm>
        </p:grpSpPr>
        <p:grpSp>
          <p:nvGrpSpPr>
            <p:cNvPr id="418" name="组合 49"/>
            <p:cNvGrpSpPr/>
            <p:nvPr/>
          </p:nvGrpSpPr>
          <p:grpSpPr>
            <a:xfrm>
              <a:off x="3404160" y="4869000"/>
              <a:ext cx="5748480" cy="432000"/>
              <a:chOff x="3404160" y="4869000"/>
              <a:chExt cx="5748480" cy="432000"/>
            </a:xfrm>
          </p:grpSpPr>
          <p:sp>
            <p:nvSpPr>
              <p:cNvPr id="419" name="矩形 51"/>
              <p:cNvSpPr/>
              <p:nvPr/>
            </p:nvSpPr>
            <p:spPr>
              <a:xfrm>
                <a:off x="8188560" y="4869000"/>
                <a:ext cx="964080" cy="431640"/>
              </a:xfrm>
              <a:prstGeom prst="rect">
                <a:avLst/>
              </a:prstGeom>
              <a:solidFill>
                <a:schemeClr val="accent2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0" name="矩形 52"/>
              <p:cNvSpPr/>
              <p:nvPr/>
            </p:nvSpPr>
            <p:spPr>
              <a:xfrm>
                <a:off x="3560760" y="4869000"/>
                <a:ext cx="4587120" cy="431640"/>
              </a:xfrm>
              <a:prstGeom prst="rect">
                <a:avLst/>
              </a:prstGeom>
              <a:solidFill>
                <a:schemeClr val="tx1">
                  <a:lumMod val="75000"/>
                  <a:lumOff val="2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45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i="1" lang="zh-CN" sz="1800" spc="-1" strike="noStrike">
                    <a:solidFill>
                      <a:schemeClr val="lt1"/>
                    </a:solidFill>
                    <a:latin typeface="微软雅黑"/>
                    <a:ea typeface="微软雅黑"/>
                  </a:rPr>
                  <a:t>您的标题写在这里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椭圆 53"/>
              <p:cNvSpPr/>
              <p:nvPr/>
            </p:nvSpPr>
            <p:spPr>
              <a:xfrm>
                <a:off x="3404160" y="4869360"/>
                <a:ext cx="492120" cy="431640"/>
              </a:xfrm>
              <a:prstGeom prst="ellipse">
                <a:avLst/>
              </a:prstGeom>
              <a:solidFill>
                <a:schemeClr val="bg1"/>
              </a:solidFill>
              <a:ln w="28575">
                <a:solidFill>
                  <a:srgbClr val="ffffff"/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22" name="椭圆 54"/>
              <p:cNvSpPr/>
              <p:nvPr/>
            </p:nvSpPr>
            <p:spPr>
              <a:xfrm>
                <a:off x="3411360" y="4878720"/>
                <a:ext cx="412920" cy="412920"/>
              </a:xfrm>
              <a:prstGeom prst="ellipse">
                <a:avLst/>
              </a:prstGeom>
              <a:noFill/>
              <a:ln w="57150">
                <a:solidFill>
                  <a:srgbClr val="000000">
                    <a:lumMod val="75000"/>
                    <a:lumOff val="25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chemeClr val="accent2"/>
                    </a:solidFill>
                    <a:latin typeface="Impact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TextBox 50"/>
            <p:cNvSpPr/>
            <p:nvPr/>
          </p:nvSpPr>
          <p:spPr>
            <a:xfrm>
              <a:off x="3770640" y="5306400"/>
              <a:ext cx="504036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说明文字或者小标题写在这里，您的说明文字或者小标题写在这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矩形 2"/>
          <p:cNvSpPr/>
          <p:nvPr/>
        </p:nvSpPr>
        <p:spPr>
          <a:xfrm>
            <a:off x="-8640" y="0"/>
            <a:ext cx="4632120" cy="4528800"/>
          </a:xfrm>
          <a:custGeom>
            <a:avLst/>
            <a:gdLst>
              <a:gd name="textAreaLeft" fmla="*/ 0 w 4632120"/>
              <a:gd name="textAreaRight" fmla="*/ 4632480 w 4632120"/>
              <a:gd name="textAreaTop" fmla="*/ 0 h 4528800"/>
              <a:gd name="textAreaBottom" fmla="*/ 4529160 h 4528800"/>
            </a:gdLst>
            <a:ahLst/>
            <a:rect l="textAreaLeft" t="textAreaTop" r="textAreaRight" b="textAreaBottom"/>
            <a:pathLst>
              <a:path w="4046133" h="2808312">
                <a:moveTo>
                  <a:pt x="0" y="0"/>
                </a:moveTo>
                <a:lnTo>
                  <a:pt x="4046133" y="0"/>
                </a:lnTo>
                <a:lnTo>
                  <a:pt x="3050881" y="2794457"/>
                </a:lnTo>
                <a:lnTo>
                  <a:pt x="0" y="2808312"/>
                </a:lnTo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6" name="矩形 2"/>
          <p:cNvSpPr/>
          <p:nvPr/>
        </p:nvSpPr>
        <p:spPr>
          <a:xfrm>
            <a:off x="-8640" y="1606320"/>
            <a:ext cx="3774600" cy="2804040"/>
          </a:xfrm>
          <a:custGeom>
            <a:avLst/>
            <a:gdLst>
              <a:gd name="textAreaLeft" fmla="*/ 0 w 3774600"/>
              <a:gd name="textAreaRight" fmla="*/ 3774960 w 3774600"/>
              <a:gd name="textAreaTop" fmla="*/ 0 h 2804040"/>
              <a:gd name="textAreaBottom" fmla="*/ 2804400 h 2804040"/>
            </a:gdLst>
            <a:ahLst/>
            <a:rect l="textAreaLeft" t="textAreaTop" r="textAreaRight" b="textAreaBottom"/>
            <a:pathLst>
              <a:path w="3779912" h="2808312">
                <a:moveTo>
                  <a:pt x="0" y="0"/>
                </a:moveTo>
                <a:lnTo>
                  <a:pt x="3779912" y="0"/>
                </a:lnTo>
                <a:lnTo>
                  <a:pt x="3087184" y="2794457"/>
                </a:lnTo>
                <a:lnTo>
                  <a:pt x="0" y="2808312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7" name="矩形 6"/>
          <p:cNvSpPr/>
          <p:nvPr/>
        </p:nvSpPr>
        <p:spPr>
          <a:xfrm>
            <a:off x="3574800" y="3144600"/>
            <a:ext cx="5582880" cy="2808000"/>
          </a:xfrm>
          <a:custGeom>
            <a:avLst/>
            <a:gdLst>
              <a:gd name="textAreaLeft" fmla="*/ 0 w 5582880"/>
              <a:gd name="textAreaRight" fmla="*/ 5583240 w 5582880"/>
              <a:gd name="textAreaTop" fmla="*/ 0 h 2808000"/>
              <a:gd name="textAreaBottom" fmla="*/ 2808360 h 2808000"/>
            </a:gdLst>
            <a:ahLst/>
            <a:rect l="textAreaLeft" t="textAreaTop" r="textAreaRight" b="textAreaBottom"/>
            <a:pathLst>
              <a:path w="5583204" h="2808312">
                <a:moveTo>
                  <a:pt x="651164" y="0"/>
                </a:moveTo>
                <a:lnTo>
                  <a:pt x="5583204" y="0"/>
                </a:lnTo>
                <a:lnTo>
                  <a:pt x="5583204" y="2808312"/>
                </a:lnTo>
                <a:lnTo>
                  <a:pt x="0" y="2766749"/>
                </a:lnTo>
                <a:lnTo>
                  <a:pt x="651164" y="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28" name="矩形 5"/>
          <p:cNvSpPr/>
          <p:nvPr/>
        </p:nvSpPr>
        <p:spPr>
          <a:xfrm>
            <a:off x="2915640" y="532800"/>
            <a:ext cx="6228000" cy="955080"/>
          </a:xfrm>
          <a:custGeom>
            <a:avLst/>
            <a:gdLst>
              <a:gd name="textAreaLeft" fmla="*/ 0 w 6228000"/>
              <a:gd name="textAreaRight" fmla="*/ 6228360 w 6228000"/>
              <a:gd name="textAreaTop" fmla="*/ 0 h 955080"/>
              <a:gd name="textAreaBottom" fmla="*/ 955440 h 955080"/>
            </a:gdLst>
            <a:ahLst/>
            <a:rect l="textAreaLeft" t="textAreaTop" r="textAreaRight" b="textAreaBottom"/>
            <a:pathLst>
              <a:path w="6228184" h="955501">
                <a:moveTo>
                  <a:pt x="6228184" y="955501"/>
                </a:moveTo>
                <a:lnTo>
                  <a:pt x="0" y="955501"/>
                </a:lnTo>
                <a:lnTo>
                  <a:pt x="0" y="19397"/>
                </a:lnTo>
                <a:lnTo>
                  <a:pt x="6222642" y="0"/>
                </a:lnTo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 w="3175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您的标题写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Box 9"/>
          <p:cNvSpPr/>
          <p:nvPr/>
        </p:nvSpPr>
        <p:spPr>
          <a:xfrm>
            <a:off x="4428000" y="1803960"/>
            <a:ext cx="3717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0"/>
          <p:cNvSpPr/>
          <p:nvPr/>
        </p:nvSpPr>
        <p:spPr>
          <a:xfrm>
            <a:off x="251640" y="5088600"/>
            <a:ext cx="2808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Line 33"/>
          <p:cNvSpPr/>
          <p:nvPr/>
        </p:nvSpPr>
        <p:spPr>
          <a:xfrm>
            <a:off x="2269080" y="3495240"/>
            <a:ext cx="731160" cy="18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640" bIns="-2664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33"/>
          <p:cNvSpPr/>
          <p:nvPr/>
        </p:nvSpPr>
        <p:spPr>
          <a:xfrm flipV="1">
            <a:off x="7611480" y="2826000"/>
            <a:ext cx="160560" cy="13536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33"/>
          <p:cNvSpPr/>
          <p:nvPr/>
        </p:nvSpPr>
        <p:spPr>
          <a:xfrm flipH="1" flipV="1">
            <a:off x="1007280" y="4019040"/>
            <a:ext cx="523080" cy="25992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33"/>
          <p:cNvSpPr/>
          <p:nvPr/>
        </p:nvSpPr>
        <p:spPr>
          <a:xfrm>
            <a:off x="2190960" y="4139640"/>
            <a:ext cx="732600" cy="1872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454560" y="4156560"/>
            <a:ext cx="968760" cy="1044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3"/>
          <p:cNvSpPr/>
          <p:nvPr/>
        </p:nvSpPr>
        <p:spPr>
          <a:xfrm>
            <a:off x="4748400" y="4156560"/>
            <a:ext cx="968400" cy="1044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33"/>
          <p:cNvSpPr/>
          <p:nvPr/>
        </p:nvSpPr>
        <p:spPr>
          <a:xfrm>
            <a:off x="3424680" y="3363120"/>
            <a:ext cx="968400" cy="1044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33"/>
          <p:cNvSpPr/>
          <p:nvPr/>
        </p:nvSpPr>
        <p:spPr>
          <a:xfrm>
            <a:off x="4694400" y="3363120"/>
            <a:ext cx="966960" cy="10440"/>
          </a:xfrm>
          <a:prstGeom prst="line">
            <a:avLst/>
          </a:prstGeom>
          <a:ln w="19050">
            <a:solidFill>
              <a:srgbClr val="353637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t" anchorCtr="1">
            <a:noAutofit/>
          </a:bodyPr>
          <a:p>
            <a:endParaRPr b="0" lang="da-DK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47"/>
          <p:cNvSpPr/>
          <p:nvPr/>
        </p:nvSpPr>
        <p:spPr>
          <a:xfrm>
            <a:off x="1007640" y="2510640"/>
            <a:ext cx="7380720" cy="2501640"/>
          </a:xfrm>
          <a:custGeom>
            <a:avLst/>
            <a:gdLst>
              <a:gd name="textAreaLeft" fmla="*/ 0 w 7380720"/>
              <a:gd name="textAreaRight" fmla="*/ 7381080 w 7380720"/>
              <a:gd name="textAreaTop" fmla="*/ 0 h 2501640"/>
              <a:gd name="textAreaBottom" fmla="*/ 2502000 h 2501640"/>
            </a:gdLst>
            <a:ahLst/>
            <a:rect l="textAreaLeft" t="textAreaTop" r="textAreaRight" b="textAreaBottom"/>
            <a:pathLst>
              <a:path w="3426" h="1232">
                <a:moveTo>
                  <a:pt x="3426" y="540"/>
                </a:moveTo>
                <a:lnTo>
                  <a:pt x="3426" y="540"/>
                </a:lnTo>
                <a:lnTo>
                  <a:pt x="3400" y="506"/>
                </a:lnTo>
                <a:lnTo>
                  <a:pt x="3372" y="470"/>
                </a:lnTo>
                <a:lnTo>
                  <a:pt x="3342" y="436"/>
                </a:lnTo>
                <a:lnTo>
                  <a:pt x="3308" y="404"/>
                </a:lnTo>
                <a:lnTo>
                  <a:pt x="3270" y="372"/>
                </a:lnTo>
                <a:lnTo>
                  <a:pt x="3230" y="340"/>
                </a:lnTo>
                <a:lnTo>
                  <a:pt x="3188" y="312"/>
                </a:lnTo>
                <a:lnTo>
                  <a:pt x="3142" y="284"/>
                </a:lnTo>
                <a:lnTo>
                  <a:pt x="3094" y="258"/>
                </a:lnTo>
                <a:lnTo>
                  <a:pt x="3046" y="236"/>
                </a:lnTo>
                <a:lnTo>
                  <a:pt x="2994" y="216"/>
                </a:lnTo>
                <a:lnTo>
                  <a:pt x="2940" y="198"/>
                </a:lnTo>
                <a:lnTo>
                  <a:pt x="2884" y="182"/>
                </a:lnTo>
                <a:lnTo>
                  <a:pt x="2828" y="170"/>
                </a:lnTo>
                <a:lnTo>
                  <a:pt x="2770" y="162"/>
                </a:lnTo>
                <a:lnTo>
                  <a:pt x="2710" y="158"/>
                </a:lnTo>
                <a:lnTo>
                  <a:pt x="2646" y="156"/>
                </a:lnTo>
                <a:lnTo>
                  <a:pt x="2612" y="158"/>
                </a:lnTo>
                <a:lnTo>
                  <a:pt x="2580" y="162"/>
                </a:lnTo>
                <a:lnTo>
                  <a:pt x="2550" y="168"/>
                </a:lnTo>
                <a:lnTo>
                  <a:pt x="2536" y="172"/>
                </a:lnTo>
                <a:lnTo>
                  <a:pt x="2522" y="178"/>
                </a:lnTo>
                <a:lnTo>
                  <a:pt x="2510" y="186"/>
                </a:lnTo>
                <a:lnTo>
                  <a:pt x="2498" y="194"/>
                </a:lnTo>
                <a:lnTo>
                  <a:pt x="2488" y="202"/>
                </a:lnTo>
                <a:lnTo>
                  <a:pt x="2480" y="214"/>
                </a:lnTo>
                <a:lnTo>
                  <a:pt x="2516" y="298"/>
                </a:lnTo>
                <a:lnTo>
                  <a:pt x="2534" y="342"/>
                </a:lnTo>
                <a:lnTo>
                  <a:pt x="2548" y="386"/>
                </a:lnTo>
                <a:lnTo>
                  <a:pt x="2562" y="432"/>
                </a:lnTo>
                <a:lnTo>
                  <a:pt x="2576" y="480"/>
                </a:lnTo>
                <a:lnTo>
                  <a:pt x="2586" y="528"/>
                </a:lnTo>
                <a:lnTo>
                  <a:pt x="2592" y="580"/>
                </a:lnTo>
                <a:lnTo>
                  <a:pt x="2546" y="588"/>
                </a:lnTo>
                <a:lnTo>
                  <a:pt x="2496" y="598"/>
                </a:lnTo>
                <a:lnTo>
                  <a:pt x="2412" y="606"/>
                </a:lnTo>
                <a:lnTo>
                  <a:pt x="2358" y="608"/>
                </a:lnTo>
                <a:lnTo>
                  <a:pt x="2268" y="608"/>
                </a:lnTo>
                <a:lnTo>
                  <a:pt x="2270" y="578"/>
                </a:lnTo>
                <a:lnTo>
                  <a:pt x="2268" y="546"/>
                </a:lnTo>
                <a:lnTo>
                  <a:pt x="2266" y="512"/>
                </a:lnTo>
                <a:lnTo>
                  <a:pt x="2264" y="480"/>
                </a:lnTo>
                <a:lnTo>
                  <a:pt x="2258" y="446"/>
                </a:lnTo>
                <a:lnTo>
                  <a:pt x="2252" y="414"/>
                </a:lnTo>
                <a:lnTo>
                  <a:pt x="2244" y="380"/>
                </a:lnTo>
                <a:lnTo>
                  <a:pt x="2236" y="346"/>
                </a:lnTo>
                <a:lnTo>
                  <a:pt x="2224" y="312"/>
                </a:lnTo>
                <a:lnTo>
                  <a:pt x="2212" y="278"/>
                </a:lnTo>
                <a:lnTo>
                  <a:pt x="2196" y="244"/>
                </a:lnTo>
                <a:lnTo>
                  <a:pt x="2180" y="210"/>
                </a:lnTo>
                <a:lnTo>
                  <a:pt x="2160" y="176"/>
                </a:lnTo>
                <a:lnTo>
                  <a:pt x="2140" y="144"/>
                </a:lnTo>
                <a:lnTo>
                  <a:pt x="2116" y="110"/>
                </a:lnTo>
                <a:lnTo>
                  <a:pt x="2092" y="76"/>
                </a:lnTo>
                <a:lnTo>
                  <a:pt x="2106" y="114"/>
                </a:lnTo>
                <a:lnTo>
                  <a:pt x="2122" y="160"/>
                </a:lnTo>
                <a:lnTo>
                  <a:pt x="2140" y="222"/>
                </a:lnTo>
                <a:lnTo>
                  <a:pt x="2150" y="258"/>
                </a:lnTo>
                <a:lnTo>
                  <a:pt x="2158" y="298"/>
                </a:lnTo>
                <a:lnTo>
                  <a:pt x="2166" y="342"/>
                </a:lnTo>
                <a:lnTo>
                  <a:pt x="2174" y="390"/>
                </a:lnTo>
                <a:lnTo>
                  <a:pt x="2180" y="440"/>
                </a:lnTo>
                <a:lnTo>
                  <a:pt x="2186" y="494"/>
                </a:lnTo>
                <a:lnTo>
                  <a:pt x="2188" y="550"/>
                </a:lnTo>
                <a:lnTo>
                  <a:pt x="2190" y="608"/>
                </a:lnTo>
                <a:lnTo>
                  <a:pt x="1954" y="606"/>
                </a:lnTo>
                <a:lnTo>
                  <a:pt x="1680" y="600"/>
                </a:lnTo>
                <a:lnTo>
                  <a:pt x="1680" y="564"/>
                </a:lnTo>
                <a:lnTo>
                  <a:pt x="1680" y="528"/>
                </a:lnTo>
                <a:lnTo>
                  <a:pt x="1676" y="490"/>
                </a:lnTo>
                <a:lnTo>
                  <a:pt x="1672" y="454"/>
                </a:lnTo>
                <a:lnTo>
                  <a:pt x="1668" y="416"/>
                </a:lnTo>
                <a:lnTo>
                  <a:pt x="1660" y="380"/>
                </a:lnTo>
                <a:lnTo>
                  <a:pt x="1650" y="342"/>
                </a:lnTo>
                <a:lnTo>
                  <a:pt x="1640" y="304"/>
                </a:lnTo>
                <a:lnTo>
                  <a:pt x="1628" y="266"/>
                </a:lnTo>
                <a:lnTo>
                  <a:pt x="1612" y="228"/>
                </a:lnTo>
                <a:lnTo>
                  <a:pt x="1596" y="190"/>
                </a:lnTo>
                <a:lnTo>
                  <a:pt x="1576" y="152"/>
                </a:lnTo>
                <a:lnTo>
                  <a:pt x="1556" y="114"/>
                </a:lnTo>
                <a:lnTo>
                  <a:pt x="1532" y="76"/>
                </a:lnTo>
                <a:lnTo>
                  <a:pt x="1506" y="38"/>
                </a:lnTo>
                <a:lnTo>
                  <a:pt x="1478" y="0"/>
                </a:lnTo>
                <a:lnTo>
                  <a:pt x="1482" y="10"/>
                </a:lnTo>
                <a:lnTo>
                  <a:pt x="1494" y="42"/>
                </a:lnTo>
                <a:lnTo>
                  <a:pt x="1512" y="94"/>
                </a:lnTo>
                <a:lnTo>
                  <a:pt x="1532" y="162"/>
                </a:lnTo>
                <a:lnTo>
                  <a:pt x="1544" y="204"/>
                </a:lnTo>
                <a:lnTo>
                  <a:pt x="1554" y="250"/>
                </a:lnTo>
                <a:lnTo>
                  <a:pt x="1562" y="298"/>
                </a:lnTo>
                <a:lnTo>
                  <a:pt x="1572" y="352"/>
                </a:lnTo>
                <a:lnTo>
                  <a:pt x="1578" y="408"/>
                </a:lnTo>
                <a:lnTo>
                  <a:pt x="1584" y="468"/>
                </a:lnTo>
                <a:lnTo>
                  <a:pt x="1588" y="530"/>
                </a:lnTo>
                <a:lnTo>
                  <a:pt x="1588" y="596"/>
                </a:lnTo>
                <a:lnTo>
                  <a:pt x="964" y="580"/>
                </a:lnTo>
                <a:lnTo>
                  <a:pt x="962" y="518"/>
                </a:lnTo>
                <a:lnTo>
                  <a:pt x="958" y="488"/>
                </a:lnTo>
                <a:lnTo>
                  <a:pt x="954" y="456"/>
                </a:lnTo>
                <a:lnTo>
                  <a:pt x="950" y="426"/>
                </a:lnTo>
                <a:lnTo>
                  <a:pt x="942" y="394"/>
                </a:lnTo>
                <a:lnTo>
                  <a:pt x="934" y="362"/>
                </a:lnTo>
                <a:lnTo>
                  <a:pt x="924" y="330"/>
                </a:lnTo>
                <a:lnTo>
                  <a:pt x="914" y="298"/>
                </a:lnTo>
                <a:lnTo>
                  <a:pt x="900" y="266"/>
                </a:lnTo>
                <a:lnTo>
                  <a:pt x="886" y="234"/>
                </a:lnTo>
                <a:lnTo>
                  <a:pt x="870" y="202"/>
                </a:lnTo>
                <a:lnTo>
                  <a:pt x="852" y="172"/>
                </a:lnTo>
                <a:lnTo>
                  <a:pt x="832" y="140"/>
                </a:lnTo>
                <a:lnTo>
                  <a:pt x="810" y="108"/>
                </a:lnTo>
                <a:lnTo>
                  <a:pt x="786" y="76"/>
                </a:lnTo>
                <a:lnTo>
                  <a:pt x="800" y="112"/>
                </a:lnTo>
                <a:lnTo>
                  <a:pt x="816" y="154"/>
                </a:lnTo>
                <a:lnTo>
                  <a:pt x="832" y="212"/>
                </a:lnTo>
                <a:lnTo>
                  <a:pt x="850" y="284"/>
                </a:lnTo>
                <a:lnTo>
                  <a:pt x="858" y="326"/>
                </a:lnTo>
                <a:lnTo>
                  <a:pt x="866" y="370"/>
                </a:lnTo>
                <a:lnTo>
                  <a:pt x="872" y="418"/>
                </a:lnTo>
                <a:lnTo>
                  <a:pt x="878" y="468"/>
                </a:lnTo>
                <a:lnTo>
                  <a:pt x="882" y="522"/>
                </a:lnTo>
                <a:lnTo>
                  <a:pt x="884" y="576"/>
                </a:lnTo>
                <a:lnTo>
                  <a:pt x="762" y="572"/>
                </a:lnTo>
                <a:lnTo>
                  <a:pt x="728" y="568"/>
                </a:lnTo>
                <a:lnTo>
                  <a:pt x="696" y="562"/>
                </a:lnTo>
                <a:lnTo>
                  <a:pt x="666" y="554"/>
                </a:lnTo>
                <a:lnTo>
                  <a:pt x="640" y="542"/>
                </a:lnTo>
                <a:lnTo>
                  <a:pt x="612" y="530"/>
                </a:lnTo>
                <a:lnTo>
                  <a:pt x="588" y="516"/>
                </a:lnTo>
                <a:lnTo>
                  <a:pt x="566" y="500"/>
                </a:lnTo>
                <a:lnTo>
                  <a:pt x="544" y="484"/>
                </a:lnTo>
                <a:lnTo>
                  <a:pt x="524" y="466"/>
                </a:lnTo>
                <a:lnTo>
                  <a:pt x="504" y="446"/>
                </a:lnTo>
                <a:lnTo>
                  <a:pt x="466" y="406"/>
                </a:lnTo>
                <a:lnTo>
                  <a:pt x="432" y="364"/>
                </a:lnTo>
                <a:lnTo>
                  <a:pt x="398" y="320"/>
                </a:lnTo>
                <a:lnTo>
                  <a:pt x="362" y="278"/>
                </a:lnTo>
                <a:lnTo>
                  <a:pt x="326" y="236"/>
                </a:lnTo>
                <a:lnTo>
                  <a:pt x="306" y="216"/>
                </a:lnTo>
                <a:lnTo>
                  <a:pt x="286" y="198"/>
                </a:lnTo>
                <a:lnTo>
                  <a:pt x="266" y="180"/>
                </a:lnTo>
                <a:lnTo>
                  <a:pt x="242" y="164"/>
                </a:lnTo>
                <a:lnTo>
                  <a:pt x="220" y="148"/>
                </a:lnTo>
                <a:lnTo>
                  <a:pt x="194" y="134"/>
                </a:lnTo>
                <a:lnTo>
                  <a:pt x="166" y="122"/>
                </a:lnTo>
                <a:lnTo>
                  <a:pt x="138" y="114"/>
                </a:lnTo>
                <a:lnTo>
                  <a:pt x="106" y="106"/>
                </a:lnTo>
                <a:lnTo>
                  <a:pt x="74" y="100"/>
                </a:lnTo>
                <a:lnTo>
                  <a:pt x="38" y="96"/>
                </a:lnTo>
                <a:lnTo>
                  <a:pt x="0" y="96"/>
                </a:lnTo>
                <a:lnTo>
                  <a:pt x="52" y="146"/>
                </a:lnTo>
                <a:lnTo>
                  <a:pt x="78" y="172"/>
                </a:lnTo>
                <a:lnTo>
                  <a:pt x="102" y="200"/>
                </a:lnTo>
                <a:lnTo>
                  <a:pt x="126" y="230"/>
                </a:lnTo>
                <a:lnTo>
                  <a:pt x="150" y="262"/>
                </a:lnTo>
                <a:lnTo>
                  <a:pt x="172" y="294"/>
                </a:lnTo>
                <a:lnTo>
                  <a:pt x="192" y="328"/>
                </a:lnTo>
                <a:lnTo>
                  <a:pt x="210" y="362"/>
                </a:lnTo>
                <a:lnTo>
                  <a:pt x="226" y="400"/>
                </a:lnTo>
                <a:lnTo>
                  <a:pt x="240" y="438"/>
                </a:lnTo>
                <a:lnTo>
                  <a:pt x="250" y="478"/>
                </a:lnTo>
                <a:lnTo>
                  <a:pt x="258" y="520"/>
                </a:lnTo>
                <a:lnTo>
                  <a:pt x="264" y="562"/>
                </a:lnTo>
                <a:lnTo>
                  <a:pt x="264" y="608"/>
                </a:lnTo>
                <a:lnTo>
                  <a:pt x="262" y="654"/>
                </a:lnTo>
                <a:lnTo>
                  <a:pt x="258" y="694"/>
                </a:lnTo>
                <a:lnTo>
                  <a:pt x="252" y="732"/>
                </a:lnTo>
                <a:lnTo>
                  <a:pt x="244" y="770"/>
                </a:lnTo>
                <a:lnTo>
                  <a:pt x="236" y="806"/>
                </a:lnTo>
                <a:lnTo>
                  <a:pt x="216" y="880"/>
                </a:lnTo>
                <a:lnTo>
                  <a:pt x="192" y="952"/>
                </a:lnTo>
                <a:lnTo>
                  <a:pt x="166" y="1020"/>
                </a:lnTo>
                <a:lnTo>
                  <a:pt x="138" y="1086"/>
                </a:lnTo>
                <a:lnTo>
                  <a:pt x="86" y="1212"/>
                </a:lnTo>
                <a:lnTo>
                  <a:pt x="90" y="1208"/>
                </a:lnTo>
                <a:lnTo>
                  <a:pt x="92" y="1208"/>
                </a:lnTo>
                <a:lnTo>
                  <a:pt x="90" y="1212"/>
                </a:lnTo>
                <a:lnTo>
                  <a:pt x="82" y="1222"/>
                </a:lnTo>
                <a:lnTo>
                  <a:pt x="84" y="1222"/>
                </a:lnTo>
                <a:lnTo>
                  <a:pt x="94" y="1218"/>
                </a:lnTo>
                <a:lnTo>
                  <a:pt x="100" y="1218"/>
                </a:lnTo>
                <a:lnTo>
                  <a:pt x="102" y="1216"/>
                </a:lnTo>
                <a:lnTo>
                  <a:pt x="104" y="1214"/>
                </a:lnTo>
                <a:lnTo>
                  <a:pt x="108" y="1202"/>
                </a:lnTo>
                <a:lnTo>
                  <a:pt x="142" y="1184"/>
                </a:lnTo>
                <a:lnTo>
                  <a:pt x="176" y="1164"/>
                </a:lnTo>
                <a:lnTo>
                  <a:pt x="208" y="1144"/>
                </a:lnTo>
                <a:lnTo>
                  <a:pt x="238" y="1120"/>
                </a:lnTo>
                <a:lnTo>
                  <a:pt x="268" y="1098"/>
                </a:lnTo>
                <a:lnTo>
                  <a:pt x="296" y="1072"/>
                </a:lnTo>
                <a:lnTo>
                  <a:pt x="352" y="1018"/>
                </a:lnTo>
                <a:lnTo>
                  <a:pt x="374" y="994"/>
                </a:lnTo>
                <a:lnTo>
                  <a:pt x="394" y="970"/>
                </a:lnTo>
                <a:lnTo>
                  <a:pt x="434" y="918"/>
                </a:lnTo>
                <a:lnTo>
                  <a:pt x="470" y="866"/>
                </a:lnTo>
                <a:lnTo>
                  <a:pt x="506" y="814"/>
                </a:lnTo>
                <a:lnTo>
                  <a:pt x="526" y="790"/>
                </a:lnTo>
                <a:lnTo>
                  <a:pt x="546" y="766"/>
                </a:lnTo>
                <a:lnTo>
                  <a:pt x="568" y="746"/>
                </a:lnTo>
                <a:lnTo>
                  <a:pt x="590" y="726"/>
                </a:lnTo>
                <a:lnTo>
                  <a:pt x="614" y="710"/>
                </a:lnTo>
                <a:lnTo>
                  <a:pt x="642" y="694"/>
                </a:lnTo>
                <a:lnTo>
                  <a:pt x="670" y="684"/>
                </a:lnTo>
                <a:lnTo>
                  <a:pt x="702" y="676"/>
                </a:lnTo>
                <a:lnTo>
                  <a:pt x="882" y="678"/>
                </a:lnTo>
                <a:lnTo>
                  <a:pt x="878" y="732"/>
                </a:lnTo>
                <a:lnTo>
                  <a:pt x="872" y="788"/>
                </a:lnTo>
                <a:lnTo>
                  <a:pt x="866" y="846"/>
                </a:lnTo>
                <a:lnTo>
                  <a:pt x="854" y="906"/>
                </a:lnTo>
                <a:lnTo>
                  <a:pt x="842" y="966"/>
                </a:lnTo>
                <a:lnTo>
                  <a:pt x="826" y="1028"/>
                </a:lnTo>
                <a:lnTo>
                  <a:pt x="808" y="1092"/>
                </a:lnTo>
                <a:lnTo>
                  <a:pt x="786" y="1156"/>
                </a:lnTo>
                <a:lnTo>
                  <a:pt x="808" y="1120"/>
                </a:lnTo>
                <a:lnTo>
                  <a:pt x="832" y="1076"/>
                </a:lnTo>
                <a:lnTo>
                  <a:pt x="860" y="1020"/>
                </a:lnTo>
                <a:lnTo>
                  <a:pt x="876" y="986"/>
                </a:lnTo>
                <a:lnTo>
                  <a:pt x="890" y="950"/>
                </a:lnTo>
                <a:lnTo>
                  <a:pt x="904" y="910"/>
                </a:lnTo>
                <a:lnTo>
                  <a:pt x="918" y="868"/>
                </a:lnTo>
                <a:lnTo>
                  <a:pt x="932" y="824"/>
                </a:lnTo>
                <a:lnTo>
                  <a:pt x="942" y="778"/>
                </a:lnTo>
                <a:lnTo>
                  <a:pt x="952" y="730"/>
                </a:lnTo>
                <a:lnTo>
                  <a:pt x="958" y="680"/>
                </a:lnTo>
                <a:lnTo>
                  <a:pt x="1258" y="686"/>
                </a:lnTo>
                <a:lnTo>
                  <a:pt x="1582" y="696"/>
                </a:lnTo>
                <a:lnTo>
                  <a:pt x="1586" y="696"/>
                </a:lnTo>
                <a:lnTo>
                  <a:pt x="1582" y="758"/>
                </a:lnTo>
                <a:lnTo>
                  <a:pt x="1576" y="820"/>
                </a:lnTo>
                <a:lnTo>
                  <a:pt x="1566" y="884"/>
                </a:lnTo>
                <a:lnTo>
                  <a:pt x="1556" y="952"/>
                </a:lnTo>
                <a:lnTo>
                  <a:pt x="1540" y="1020"/>
                </a:lnTo>
                <a:lnTo>
                  <a:pt x="1522" y="1088"/>
                </a:lnTo>
                <a:lnTo>
                  <a:pt x="1502" y="1160"/>
                </a:lnTo>
                <a:lnTo>
                  <a:pt x="1478" y="1232"/>
                </a:lnTo>
                <a:lnTo>
                  <a:pt x="1484" y="1222"/>
                </a:lnTo>
                <a:lnTo>
                  <a:pt x="1502" y="1192"/>
                </a:lnTo>
                <a:lnTo>
                  <a:pt x="1530" y="1144"/>
                </a:lnTo>
                <a:lnTo>
                  <a:pt x="1562" y="1080"/>
                </a:lnTo>
                <a:lnTo>
                  <a:pt x="1578" y="1042"/>
                </a:lnTo>
                <a:lnTo>
                  <a:pt x="1594" y="1002"/>
                </a:lnTo>
                <a:lnTo>
                  <a:pt x="1612" y="958"/>
                </a:lnTo>
                <a:lnTo>
                  <a:pt x="1626" y="910"/>
                </a:lnTo>
                <a:lnTo>
                  <a:pt x="1642" y="860"/>
                </a:lnTo>
                <a:lnTo>
                  <a:pt x="1654" y="808"/>
                </a:lnTo>
                <a:lnTo>
                  <a:pt x="1664" y="754"/>
                </a:lnTo>
                <a:lnTo>
                  <a:pt x="1672" y="698"/>
                </a:lnTo>
                <a:lnTo>
                  <a:pt x="1794" y="700"/>
                </a:lnTo>
                <a:lnTo>
                  <a:pt x="1922" y="702"/>
                </a:lnTo>
                <a:lnTo>
                  <a:pt x="2186" y="700"/>
                </a:lnTo>
                <a:lnTo>
                  <a:pt x="2182" y="752"/>
                </a:lnTo>
                <a:lnTo>
                  <a:pt x="2176" y="806"/>
                </a:lnTo>
                <a:lnTo>
                  <a:pt x="2168" y="862"/>
                </a:lnTo>
                <a:lnTo>
                  <a:pt x="2158" y="918"/>
                </a:lnTo>
                <a:lnTo>
                  <a:pt x="2146" y="976"/>
                </a:lnTo>
                <a:lnTo>
                  <a:pt x="2130" y="1034"/>
                </a:lnTo>
                <a:lnTo>
                  <a:pt x="2112" y="1094"/>
                </a:lnTo>
                <a:lnTo>
                  <a:pt x="2092" y="1156"/>
                </a:lnTo>
                <a:lnTo>
                  <a:pt x="2112" y="1122"/>
                </a:lnTo>
                <a:lnTo>
                  <a:pt x="2136" y="1080"/>
                </a:lnTo>
                <a:lnTo>
                  <a:pt x="2164" y="1026"/>
                </a:lnTo>
                <a:lnTo>
                  <a:pt x="2192" y="958"/>
                </a:lnTo>
                <a:lnTo>
                  <a:pt x="2206" y="922"/>
                </a:lnTo>
                <a:lnTo>
                  <a:pt x="2220" y="882"/>
                </a:lnTo>
                <a:lnTo>
                  <a:pt x="2232" y="838"/>
                </a:lnTo>
                <a:lnTo>
                  <a:pt x="2244" y="794"/>
                </a:lnTo>
                <a:lnTo>
                  <a:pt x="2254" y="748"/>
                </a:lnTo>
                <a:lnTo>
                  <a:pt x="2262" y="700"/>
                </a:lnTo>
                <a:lnTo>
                  <a:pt x="2600" y="694"/>
                </a:lnTo>
                <a:lnTo>
                  <a:pt x="2604" y="736"/>
                </a:lnTo>
                <a:lnTo>
                  <a:pt x="2606" y="782"/>
                </a:lnTo>
                <a:lnTo>
                  <a:pt x="2604" y="830"/>
                </a:lnTo>
                <a:lnTo>
                  <a:pt x="2602" y="878"/>
                </a:lnTo>
                <a:lnTo>
                  <a:pt x="2596" y="926"/>
                </a:lnTo>
                <a:lnTo>
                  <a:pt x="2590" y="976"/>
                </a:lnTo>
                <a:lnTo>
                  <a:pt x="2582" y="1022"/>
                </a:lnTo>
                <a:lnTo>
                  <a:pt x="2572" y="1068"/>
                </a:lnTo>
                <a:lnTo>
                  <a:pt x="2634" y="1070"/>
                </a:lnTo>
                <a:lnTo>
                  <a:pt x="2694" y="1066"/>
                </a:lnTo>
                <a:lnTo>
                  <a:pt x="2752" y="1060"/>
                </a:lnTo>
                <a:lnTo>
                  <a:pt x="2808" y="1050"/>
                </a:lnTo>
                <a:lnTo>
                  <a:pt x="2862" y="1038"/>
                </a:lnTo>
                <a:lnTo>
                  <a:pt x="2914" y="1022"/>
                </a:lnTo>
                <a:lnTo>
                  <a:pt x="2962" y="1004"/>
                </a:lnTo>
                <a:lnTo>
                  <a:pt x="3010" y="982"/>
                </a:lnTo>
                <a:lnTo>
                  <a:pt x="3054" y="958"/>
                </a:lnTo>
                <a:lnTo>
                  <a:pt x="3096" y="932"/>
                </a:lnTo>
                <a:lnTo>
                  <a:pt x="3136" y="904"/>
                </a:lnTo>
                <a:lnTo>
                  <a:pt x="3174" y="874"/>
                </a:lnTo>
                <a:lnTo>
                  <a:pt x="3208" y="842"/>
                </a:lnTo>
                <a:lnTo>
                  <a:pt x="3242" y="808"/>
                </a:lnTo>
                <a:lnTo>
                  <a:pt x="3272" y="772"/>
                </a:lnTo>
                <a:lnTo>
                  <a:pt x="3300" y="736"/>
                </a:lnTo>
                <a:lnTo>
                  <a:pt x="3218" y="716"/>
                </a:lnTo>
                <a:lnTo>
                  <a:pt x="3178" y="704"/>
                </a:lnTo>
                <a:lnTo>
                  <a:pt x="3140" y="692"/>
                </a:lnTo>
                <a:lnTo>
                  <a:pt x="3102" y="678"/>
                </a:lnTo>
                <a:lnTo>
                  <a:pt x="3068" y="662"/>
                </a:lnTo>
                <a:lnTo>
                  <a:pt x="3036" y="644"/>
                </a:lnTo>
                <a:lnTo>
                  <a:pt x="3006" y="624"/>
                </a:lnTo>
                <a:lnTo>
                  <a:pt x="3114" y="608"/>
                </a:lnTo>
                <a:lnTo>
                  <a:pt x="3222" y="590"/>
                </a:lnTo>
                <a:lnTo>
                  <a:pt x="3276" y="580"/>
                </a:lnTo>
                <a:lnTo>
                  <a:pt x="3326" y="570"/>
                </a:lnTo>
                <a:lnTo>
                  <a:pt x="3378" y="556"/>
                </a:lnTo>
                <a:lnTo>
                  <a:pt x="3426" y="540"/>
                </a:lnTo>
                <a:close/>
                <a:moveTo>
                  <a:pt x="2788" y="444"/>
                </a:moveTo>
                <a:lnTo>
                  <a:pt x="2788" y="444"/>
                </a:lnTo>
                <a:lnTo>
                  <a:pt x="2774" y="442"/>
                </a:lnTo>
                <a:lnTo>
                  <a:pt x="2762" y="438"/>
                </a:lnTo>
                <a:lnTo>
                  <a:pt x="2752" y="432"/>
                </a:lnTo>
                <a:lnTo>
                  <a:pt x="2742" y="424"/>
                </a:lnTo>
                <a:lnTo>
                  <a:pt x="2734" y="414"/>
                </a:lnTo>
                <a:lnTo>
                  <a:pt x="2728" y="404"/>
                </a:lnTo>
                <a:lnTo>
                  <a:pt x="2724" y="392"/>
                </a:lnTo>
                <a:lnTo>
                  <a:pt x="2722" y="378"/>
                </a:lnTo>
                <a:lnTo>
                  <a:pt x="2724" y="364"/>
                </a:lnTo>
                <a:lnTo>
                  <a:pt x="2728" y="352"/>
                </a:lnTo>
                <a:lnTo>
                  <a:pt x="2734" y="342"/>
                </a:lnTo>
                <a:lnTo>
                  <a:pt x="2742" y="332"/>
                </a:lnTo>
                <a:lnTo>
                  <a:pt x="2752" y="324"/>
                </a:lnTo>
                <a:lnTo>
                  <a:pt x="2762" y="318"/>
                </a:lnTo>
                <a:lnTo>
                  <a:pt x="2774" y="314"/>
                </a:lnTo>
                <a:lnTo>
                  <a:pt x="2788" y="312"/>
                </a:lnTo>
                <a:lnTo>
                  <a:pt x="2802" y="314"/>
                </a:lnTo>
                <a:lnTo>
                  <a:pt x="2814" y="318"/>
                </a:lnTo>
                <a:lnTo>
                  <a:pt x="2824" y="324"/>
                </a:lnTo>
                <a:lnTo>
                  <a:pt x="2834" y="332"/>
                </a:lnTo>
                <a:lnTo>
                  <a:pt x="2842" y="342"/>
                </a:lnTo>
                <a:lnTo>
                  <a:pt x="2848" y="352"/>
                </a:lnTo>
                <a:lnTo>
                  <a:pt x="2852" y="364"/>
                </a:lnTo>
                <a:lnTo>
                  <a:pt x="2854" y="378"/>
                </a:lnTo>
                <a:lnTo>
                  <a:pt x="2852" y="392"/>
                </a:lnTo>
                <a:lnTo>
                  <a:pt x="2848" y="404"/>
                </a:lnTo>
                <a:lnTo>
                  <a:pt x="2842" y="414"/>
                </a:lnTo>
                <a:lnTo>
                  <a:pt x="2834" y="424"/>
                </a:lnTo>
                <a:lnTo>
                  <a:pt x="2824" y="432"/>
                </a:lnTo>
                <a:lnTo>
                  <a:pt x="2814" y="438"/>
                </a:lnTo>
                <a:lnTo>
                  <a:pt x="2802" y="442"/>
                </a:lnTo>
                <a:lnTo>
                  <a:pt x="2788" y="444"/>
                </a:lnTo>
                <a:close/>
              </a:path>
            </a:pathLst>
          </a:custGeom>
          <a:gradFill rotWithShape="0">
            <a:gsLst>
              <a:gs pos="0">
                <a:srgbClr val="d9d9d9"/>
              </a:gs>
              <a:gs pos="100000">
                <a:srgbClr val="404040"/>
              </a:gs>
            </a:gsLst>
            <a:lin ang="5400000"/>
          </a:gradFill>
          <a:ln w="9525">
            <a:solidFill>
              <a:srgbClr val="000000">
                <a:lumMod val="50000"/>
                <a:lumOff val="50000"/>
              </a:srgbClr>
            </a:solidFill>
            <a:miter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Oval 67"/>
          <p:cNvSpPr/>
          <p:nvPr/>
        </p:nvSpPr>
        <p:spPr>
          <a:xfrm>
            <a:off x="1987200" y="2238480"/>
            <a:ext cx="1176120" cy="560160"/>
          </a:xfrm>
          <a:prstGeom prst="ellipse">
            <a:avLst/>
          </a:prstGeom>
          <a:gradFill rotWithShape="0">
            <a:gsLst>
              <a:gs pos="48000">
                <a:srgbClr val="70ac2e">
                  <a:alpha val="0"/>
                </a:srgbClr>
              </a:gs>
              <a:gs pos="100000">
                <a:srgbClr val="ffffff">
                  <a:alpha val="59215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ＭＳ Ｐゴシック"/>
            </a:endParaRPr>
          </a:p>
        </p:txBody>
      </p:sp>
      <p:sp>
        <p:nvSpPr>
          <p:cNvPr id="443" name="TextBox 50"/>
          <p:cNvSpPr/>
          <p:nvPr/>
        </p:nvSpPr>
        <p:spPr>
          <a:xfrm>
            <a:off x="2051640" y="2928600"/>
            <a:ext cx="862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1"/>
          <p:cNvSpPr/>
          <p:nvPr/>
        </p:nvSpPr>
        <p:spPr>
          <a:xfrm>
            <a:off x="3387600" y="4179960"/>
            <a:ext cx="10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52"/>
          <p:cNvSpPr/>
          <p:nvPr/>
        </p:nvSpPr>
        <p:spPr>
          <a:xfrm>
            <a:off x="4646520" y="4179960"/>
            <a:ext cx="10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53"/>
          <p:cNvSpPr/>
          <p:nvPr/>
        </p:nvSpPr>
        <p:spPr>
          <a:xfrm>
            <a:off x="2047320" y="4149000"/>
            <a:ext cx="862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54"/>
          <p:cNvSpPr/>
          <p:nvPr/>
        </p:nvSpPr>
        <p:spPr>
          <a:xfrm>
            <a:off x="3424680" y="2814840"/>
            <a:ext cx="10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5"/>
          <p:cNvSpPr/>
          <p:nvPr/>
        </p:nvSpPr>
        <p:spPr>
          <a:xfrm>
            <a:off x="4683600" y="2814840"/>
            <a:ext cx="1005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6"/>
          <p:cNvSpPr/>
          <p:nvPr/>
        </p:nvSpPr>
        <p:spPr>
          <a:xfrm>
            <a:off x="323640" y="3576600"/>
            <a:ext cx="980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57"/>
          <p:cNvSpPr/>
          <p:nvPr/>
        </p:nvSpPr>
        <p:spPr>
          <a:xfrm>
            <a:off x="7611480" y="2298960"/>
            <a:ext cx="9806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Oval 2" descr=""/>
          <p:cNvPicPr/>
          <p:nvPr/>
        </p:nvPicPr>
        <p:blipFill>
          <a:blip r:embed="rId1"/>
          <a:stretch/>
        </p:blipFill>
        <p:spPr>
          <a:xfrm>
            <a:off x="1631520" y="2033640"/>
            <a:ext cx="1955160" cy="92772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sp>
        <p:nvSpPr>
          <p:cNvPr id="452" name="TextBox 49"/>
          <p:cNvSpPr/>
          <p:nvPr/>
        </p:nvSpPr>
        <p:spPr>
          <a:xfrm>
            <a:off x="2118600" y="2293200"/>
            <a:ext cx="959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10"/>
          <p:cNvSpPr/>
          <p:nvPr/>
        </p:nvSpPr>
        <p:spPr>
          <a:xfrm>
            <a:off x="3099600" y="788760"/>
            <a:ext cx="650160" cy="6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Oval 2" descr=""/>
          <p:cNvPicPr/>
          <p:nvPr/>
        </p:nvPicPr>
        <p:blipFill>
          <a:blip r:embed="rId2"/>
          <a:stretch/>
        </p:blipFill>
        <p:spPr>
          <a:xfrm>
            <a:off x="3120120" y="1976040"/>
            <a:ext cx="1955160" cy="92772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sp>
        <p:nvSpPr>
          <p:cNvPr id="455" name="TextBox 42"/>
          <p:cNvSpPr/>
          <p:nvPr/>
        </p:nvSpPr>
        <p:spPr>
          <a:xfrm>
            <a:off x="3607200" y="2235600"/>
            <a:ext cx="959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Oval 2" descr=""/>
          <p:cNvPicPr/>
          <p:nvPr/>
        </p:nvPicPr>
        <p:blipFill>
          <a:blip r:embed="rId3"/>
          <a:stretch/>
        </p:blipFill>
        <p:spPr>
          <a:xfrm>
            <a:off x="4608720" y="2047320"/>
            <a:ext cx="1955160" cy="927720"/>
          </a:xfrm>
          <a:prstGeom prst="rect">
            <a:avLst/>
          </a:prstGeom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</p:pic>
      <p:sp>
        <p:nvSpPr>
          <p:cNvPr id="457" name="TextBox 58"/>
          <p:cNvSpPr/>
          <p:nvPr/>
        </p:nvSpPr>
        <p:spPr>
          <a:xfrm>
            <a:off x="5096160" y="2306880"/>
            <a:ext cx="959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Oval 2" descr=""/>
          <p:cNvPicPr/>
          <p:nvPr/>
        </p:nvPicPr>
        <p:blipFill>
          <a:blip r:embed="rId4"/>
          <a:stretch/>
        </p:blipFill>
        <p:spPr>
          <a:xfrm>
            <a:off x="1703880" y="4583520"/>
            <a:ext cx="1955160" cy="92772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</p:pic>
      <p:sp>
        <p:nvSpPr>
          <p:cNvPr id="459" name="TextBox 60"/>
          <p:cNvSpPr/>
          <p:nvPr/>
        </p:nvSpPr>
        <p:spPr>
          <a:xfrm>
            <a:off x="2201760" y="4843080"/>
            <a:ext cx="959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Oval 2" descr=""/>
          <p:cNvPicPr/>
          <p:nvPr/>
        </p:nvPicPr>
        <p:blipFill>
          <a:blip r:embed="rId5"/>
          <a:stretch/>
        </p:blipFill>
        <p:spPr>
          <a:xfrm>
            <a:off x="3200760" y="4625640"/>
            <a:ext cx="1955160" cy="92772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</p:pic>
      <p:sp>
        <p:nvSpPr>
          <p:cNvPr id="461" name="TextBox 64"/>
          <p:cNvSpPr/>
          <p:nvPr/>
        </p:nvSpPr>
        <p:spPr>
          <a:xfrm>
            <a:off x="3699000" y="4873320"/>
            <a:ext cx="959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Oval 2" descr=""/>
          <p:cNvPicPr/>
          <p:nvPr/>
        </p:nvPicPr>
        <p:blipFill>
          <a:blip r:embed="rId6"/>
          <a:stretch/>
        </p:blipFill>
        <p:spPr>
          <a:xfrm>
            <a:off x="4698000" y="4625640"/>
            <a:ext cx="1955160" cy="927720"/>
          </a:xfrm>
          <a:prstGeom prst="rect">
            <a:avLst/>
          </a:prstGeom>
          <a:ln w="0">
            <a:noFill/>
          </a:ln>
          <a:effectLst>
            <a:outerShdw algn="ctr" dir="2700000" dist="35638" rotWithShape="0">
              <a:srgbClr val="808080"/>
            </a:outerShdw>
          </a:effectLst>
        </p:spPr>
      </p:pic>
      <p:sp>
        <p:nvSpPr>
          <p:cNvPr id="463" name="TextBox 66"/>
          <p:cNvSpPr/>
          <p:nvPr/>
        </p:nvSpPr>
        <p:spPr>
          <a:xfrm>
            <a:off x="5195880" y="4873320"/>
            <a:ext cx="9594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椭圆 1"/>
          <p:cNvSpPr/>
          <p:nvPr/>
        </p:nvSpPr>
        <p:spPr>
          <a:xfrm>
            <a:off x="0" y="-99360"/>
            <a:ext cx="9152280" cy="6768360"/>
          </a:xfrm>
          <a:custGeom>
            <a:avLst/>
            <a:gdLst>
              <a:gd name="textAreaLeft" fmla="*/ 0 w 9152280"/>
              <a:gd name="textAreaRight" fmla="*/ 9152640 w 9152280"/>
              <a:gd name="textAreaTop" fmla="*/ 0 h 6768360"/>
              <a:gd name="textAreaBottom" fmla="*/ 6768720 h 6768360"/>
            </a:gdLst>
            <a:ahLst/>
            <a:rect l="textAreaLeft" t="textAreaTop" r="textAreaRight" b="textAreaBottom"/>
            <a:pathLst>
              <a:path w="9152802" h="6768752">
                <a:moveTo>
                  <a:pt x="9144000" y="0"/>
                </a:moveTo>
                <a:lnTo>
                  <a:pt x="9152802" y="0"/>
                </a:lnTo>
                <a:lnTo>
                  <a:pt x="9152802" y="4063267"/>
                </a:lnTo>
                <a:cubicBezTo>
                  <a:pt x="8247426" y="5678091"/>
                  <a:pt x="6519080" y="6768752"/>
                  <a:pt x="4535996" y="6768752"/>
                </a:cubicBezTo>
                <a:cubicBezTo>
                  <a:pt x="2610856" y="6768752"/>
                  <a:pt x="925785" y="5740896"/>
                  <a:pt x="0" y="4203809"/>
                </a:cubicBezTo>
                <a:lnTo>
                  <a:pt x="0" y="3583692"/>
                </a:lnTo>
                <a:cubicBezTo>
                  <a:pt x="924895" y="5060875"/>
                  <a:pt x="2608345" y="6048672"/>
                  <a:pt x="4531634" y="6048672"/>
                </a:cubicBezTo>
                <a:cubicBezTo>
                  <a:pt x="6512811" y="6048672"/>
                  <a:pt x="8239495" y="5000517"/>
                  <a:pt x="9144000" y="3448627"/>
                </a:cubicBezTo>
                <a:close/>
              </a:path>
            </a:pathLst>
          </a:custGeom>
          <a:solidFill>
            <a:srgbClr val="bd1c0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5" name="矩形 12"/>
          <p:cNvSpPr/>
          <p:nvPr/>
        </p:nvSpPr>
        <p:spPr>
          <a:xfrm>
            <a:off x="5074560" y="953280"/>
            <a:ext cx="1439640" cy="20160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6" name="TextBox 13"/>
          <p:cNvSpPr/>
          <p:nvPr/>
        </p:nvSpPr>
        <p:spPr>
          <a:xfrm>
            <a:off x="611640" y="953280"/>
            <a:ext cx="417456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14"/>
          <p:cNvSpPr/>
          <p:nvPr/>
        </p:nvSpPr>
        <p:spPr>
          <a:xfrm>
            <a:off x="2050200" y="3401640"/>
            <a:ext cx="4464000" cy="139500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8" name="TextBox 15"/>
          <p:cNvSpPr/>
          <p:nvPr/>
        </p:nvSpPr>
        <p:spPr>
          <a:xfrm>
            <a:off x="7452360" y="908640"/>
            <a:ext cx="67680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chemeClr val="accent6">
                    <a:lumMod val="75000"/>
                  </a:schemeClr>
                </a:solidFill>
                <a:latin typeface="Calibri"/>
              </a:rPr>
              <a:t>您的标题写在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6"/>
          <p:cNvSpPr/>
          <p:nvPr/>
        </p:nvSpPr>
        <p:spPr>
          <a:xfrm rot="5400000">
            <a:off x="5343480" y="3023280"/>
            <a:ext cx="39031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chemeClr val="accent6">
                    <a:lumMod val="60000"/>
                    <a:lumOff val="40000"/>
                  </a:schemeClr>
                </a:solidFill>
                <a:latin typeface="Calisto MT"/>
              </a:rPr>
              <a:t>Enter  Your  Title  Here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矩形 1"/>
          <p:cNvSpPr/>
          <p:nvPr/>
        </p:nvSpPr>
        <p:spPr>
          <a:xfrm>
            <a:off x="5921640" y="260640"/>
            <a:ext cx="2880000" cy="38160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2" name="矩形 2"/>
          <p:cNvSpPr/>
          <p:nvPr/>
        </p:nvSpPr>
        <p:spPr>
          <a:xfrm>
            <a:off x="5616000" y="1600920"/>
            <a:ext cx="107640" cy="2808000"/>
          </a:xfrm>
          <a:prstGeom prst="rect">
            <a:avLst/>
          </a:prstGeom>
          <a:solidFill>
            <a:srgbClr val="bd1c0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3" name="矩形 3"/>
          <p:cNvSpPr/>
          <p:nvPr/>
        </p:nvSpPr>
        <p:spPr>
          <a:xfrm rot="5400000">
            <a:off x="6786360" y="3166920"/>
            <a:ext cx="107640" cy="2376000"/>
          </a:xfrm>
          <a:prstGeom prst="rect">
            <a:avLst/>
          </a:prstGeom>
          <a:solidFill>
            <a:srgbClr val="bd1c0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4" name="矩形 4"/>
          <p:cNvSpPr/>
          <p:nvPr/>
        </p:nvSpPr>
        <p:spPr>
          <a:xfrm>
            <a:off x="0" y="4163760"/>
            <a:ext cx="5001120" cy="257580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5" name="矩形 5"/>
          <p:cNvSpPr/>
          <p:nvPr/>
        </p:nvSpPr>
        <p:spPr>
          <a:xfrm>
            <a:off x="5112000" y="4005000"/>
            <a:ext cx="107640" cy="1656000"/>
          </a:xfrm>
          <a:prstGeom prst="rect">
            <a:avLst/>
          </a:prstGeom>
          <a:solidFill>
            <a:srgbClr val="bd1c0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6" name="矩形 6"/>
          <p:cNvSpPr/>
          <p:nvPr/>
        </p:nvSpPr>
        <p:spPr>
          <a:xfrm rot="5400000">
            <a:off x="4338000" y="3158640"/>
            <a:ext cx="107640" cy="1656000"/>
          </a:xfrm>
          <a:prstGeom prst="rect">
            <a:avLst/>
          </a:prstGeom>
          <a:solidFill>
            <a:srgbClr val="bd1c0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7" name="TextBox 7"/>
          <p:cNvSpPr/>
          <p:nvPr/>
        </p:nvSpPr>
        <p:spPr>
          <a:xfrm>
            <a:off x="1546920" y="54864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Calibri"/>
              </a:rPr>
              <a:t>您的标题写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8"/>
          <p:cNvSpPr/>
          <p:nvPr/>
        </p:nvSpPr>
        <p:spPr>
          <a:xfrm>
            <a:off x="251640" y="1484640"/>
            <a:ext cx="50367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组合 5"/>
          <p:cNvGrpSpPr/>
          <p:nvPr/>
        </p:nvGrpSpPr>
        <p:grpSpPr>
          <a:xfrm>
            <a:off x="2277360" y="-27360"/>
            <a:ext cx="6866280" cy="6120360"/>
            <a:chOff x="2277360" y="-27360"/>
            <a:chExt cx="6866280" cy="6120360"/>
          </a:xfrm>
        </p:grpSpPr>
        <p:sp>
          <p:nvSpPr>
            <p:cNvPr id="481" name="椭圆 1"/>
            <p:cNvSpPr/>
            <p:nvPr/>
          </p:nvSpPr>
          <p:spPr>
            <a:xfrm>
              <a:off x="3636000" y="-27360"/>
              <a:ext cx="5507640" cy="4824000"/>
            </a:xfrm>
            <a:custGeom>
              <a:avLst/>
              <a:gdLst>
                <a:gd name="textAreaLeft" fmla="*/ 0 w 5507640"/>
                <a:gd name="textAreaRight" fmla="*/ 5508000 w 5507640"/>
                <a:gd name="textAreaTop" fmla="*/ 0 h 4824000"/>
                <a:gd name="textAreaBottom" fmla="*/ 4824360 h 4824000"/>
              </a:gdLst>
              <a:ahLst/>
              <a:rect l="textAreaLeft" t="textAreaTop" r="textAreaRight" b="textAreaBottom"/>
              <a:pathLst>
                <a:path w="5508104" h="4824536">
                  <a:moveTo>
                    <a:pt x="325121" y="0"/>
                  </a:moveTo>
                  <a:lnTo>
                    <a:pt x="5508104" y="0"/>
                  </a:lnTo>
                  <a:lnTo>
                    <a:pt x="5508104" y="4073432"/>
                  </a:lnTo>
                  <a:cubicBezTo>
                    <a:pt x="4928224" y="4543676"/>
                    <a:pt x="4189099" y="4824536"/>
                    <a:pt x="3384376" y="4824536"/>
                  </a:cubicBezTo>
                  <a:cubicBezTo>
                    <a:pt x="1515237" y="4824536"/>
                    <a:pt x="0" y="3309299"/>
                    <a:pt x="0" y="1440160"/>
                  </a:cubicBezTo>
                  <a:cubicBezTo>
                    <a:pt x="0" y="924488"/>
                    <a:pt x="115331" y="435753"/>
                    <a:pt x="325121" y="0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2" name="椭圆 4"/>
            <p:cNvSpPr/>
            <p:nvPr/>
          </p:nvSpPr>
          <p:spPr>
            <a:xfrm>
              <a:off x="2277360" y="980640"/>
              <a:ext cx="1223640" cy="12236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3" name="椭圆 6"/>
            <p:cNvSpPr/>
            <p:nvPr/>
          </p:nvSpPr>
          <p:spPr>
            <a:xfrm>
              <a:off x="2853720" y="2781000"/>
              <a:ext cx="1151640" cy="11516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4" name="椭圆 7"/>
            <p:cNvSpPr/>
            <p:nvPr/>
          </p:nvSpPr>
          <p:spPr>
            <a:xfrm>
              <a:off x="4077720" y="4149000"/>
              <a:ext cx="1223640" cy="1223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85" name="椭圆 8"/>
            <p:cNvSpPr/>
            <p:nvPr/>
          </p:nvSpPr>
          <p:spPr>
            <a:xfrm>
              <a:off x="5859720" y="4932720"/>
              <a:ext cx="1160280" cy="116028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486" name="TextBox 9"/>
          <p:cNvSpPr/>
          <p:nvPr/>
        </p:nvSpPr>
        <p:spPr>
          <a:xfrm>
            <a:off x="618480" y="3645000"/>
            <a:ext cx="1461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Calibri"/>
              </a:rPr>
              <a:t>您的标题请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1"/>
                </a:solidFill>
                <a:latin typeface="Calibri"/>
              </a:rPr>
              <a:t>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0"/>
          <p:cNvSpPr/>
          <p:nvPr/>
        </p:nvSpPr>
        <p:spPr>
          <a:xfrm>
            <a:off x="124920" y="4543560"/>
            <a:ext cx="2278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chemeClr val="accent6"/>
                </a:solidFill>
                <a:latin typeface="Calisto MT"/>
              </a:rPr>
              <a:t>Enter  Your  Title  Here P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1"/>
          <p:cNvSpPr/>
          <p:nvPr/>
        </p:nvSpPr>
        <p:spPr>
          <a:xfrm>
            <a:off x="179640" y="5013000"/>
            <a:ext cx="3802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25"/>
          <p:cNvSpPr/>
          <p:nvPr/>
        </p:nvSpPr>
        <p:spPr>
          <a:xfrm>
            <a:off x="1920240" y="0"/>
            <a:ext cx="203040" cy="685764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1" name="矩形 21"/>
          <p:cNvSpPr/>
          <p:nvPr/>
        </p:nvSpPr>
        <p:spPr>
          <a:xfrm>
            <a:off x="6948360" y="0"/>
            <a:ext cx="203040" cy="6857640"/>
          </a:xfrm>
          <a:prstGeom prst="rect">
            <a:avLst/>
          </a:pr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2" name="圆角矩形 1"/>
          <p:cNvSpPr/>
          <p:nvPr/>
        </p:nvSpPr>
        <p:spPr>
          <a:xfrm>
            <a:off x="1475640" y="1053360"/>
            <a:ext cx="6145560" cy="1079280"/>
          </a:xfrm>
          <a:prstGeom prst="roundRect">
            <a:avLst>
              <a:gd name="adj" fmla="val 3181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3" name="圆角矩形 2"/>
          <p:cNvSpPr/>
          <p:nvPr/>
        </p:nvSpPr>
        <p:spPr>
          <a:xfrm>
            <a:off x="1572840" y="1182240"/>
            <a:ext cx="5882400" cy="906840"/>
          </a:xfrm>
          <a:prstGeom prst="roundRect">
            <a:avLst>
              <a:gd name="adj" fmla="val 3181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4" name="椭圆 3"/>
          <p:cNvSpPr/>
          <p:nvPr/>
        </p:nvSpPr>
        <p:spPr>
          <a:xfrm>
            <a:off x="5509800" y="1831680"/>
            <a:ext cx="1553040" cy="501480"/>
          </a:xfrm>
          <a:custGeom>
            <a:avLst/>
            <a:gdLst>
              <a:gd name="textAreaLeft" fmla="*/ 0 w 1553040"/>
              <a:gd name="textAreaRight" fmla="*/ 1553400 w 155304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2351938" h="759728">
                <a:moveTo>
                  <a:pt x="888713" y="0"/>
                </a:moveTo>
                <a:cubicBezTo>
                  <a:pt x="989142" y="0"/>
                  <a:pt x="1080300" y="39692"/>
                  <a:pt x="1146929" y="104688"/>
                </a:cubicBezTo>
                <a:cubicBezTo>
                  <a:pt x="1213558" y="39692"/>
                  <a:pt x="1304716" y="0"/>
                  <a:pt x="1405145" y="0"/>
                </a:cubicBezTo>
                <a:cubicBezTo>
                  <a:pt x="1521252" y="0"/>
                  <a:pt x="1624968" y="53053"/>
                  <a:pt x="1692052" y="137326"/>
                </a:cubicBezTo>
                <a:cubicBezTo>
                  <a:pt x="1759136" y="53053"/>
                  <a:pt x="1862852" y="0"/>
                  <a:pt x="1978959" y="0"/>
                </a:cubicBezTo>
                <a:cubicBezTo>
                  <a:pt x="2184950" y="0"/>
                  <a:pt x="2351938" y="166988"/>
                  <a:pt x="2351938" y="372979"/>
                </a:cubicBezTo>
                <a:cubicBezTo>
                  <a:pt x="2351938" y="578970"/>
                  <a:pt x="2184950" y="745958"/>
                  <a:pt x="1978959" y="745958"/>
                </a:cubicBezTo>
                <a:cubicBezTo>
                  <a:pt x="1862852" y="745958"/>
                  <a:pt x="1759136" y="692905"/>
                  <a:pt x="1692052" y="608632"/>
                </a:cubicBezTo>
                <a:cubicBezTo>
                  <a:pt x="1624968" y="692905"/>
                  <a:pt x="1521252" y="745958"/>
                  <a:pt x="1405145" y="745958"/>
                </a:cubicBezTo>
                <a:cubicBezTo>
                  <a:pt x="1304716" y="745958"/>
                  <a:pt x="1213558" y="706266"/>
                  <a:pt x="1146929" y="641270"/>
                </a:cubicBezTo>
                <a:cubicBezTo>
                  <a:pt x="1080300" y="706266"/>
                  <a:pt x="989142" y="745958"/>
                  <a:pt x="888713" y="745958"/>
                </a:cubicBezTo>
                <a:cubicBezTo>
                  <a:pt x="792121" y="745958"/>
                  <a:pt x="704104" y="709240"/>
                  <a:pt x="638721" y="648055"/>
                </a:cubicBezTo>
                <a:cubicBezTo>
                  <a:pt x="571263" y="717061"/>
                  <a:pt x="477103" y="759728"/>
                  <a:pt x="372979" y="759728"/>
                </a:cubicBezTo>
                <a:cubicBezTo>
                  <a:pt x="166988" y="759728"/>
                  <a:pt x="0" y="592740"/>
                  <a:pt x="0" y="386749"/>
                </a:cubicBezTo>
                <a:cubicBezTo>
                  <a:pt x="0" y="180758"/>
                  <a:pt x="166988" y="13770"/>
                  <a:pt x="372979" y="13770"/>
                </a:cubicBezTo>
                <a:cubicBezTo>
                  <a:pt x="469571" y="13770"/>
                  <a:pt x="557588" y="50488"/>
                  <a:pt x="622972" y="111673"/>
                </a:cubicBezTo>
                <a:cubicBezTo>
                  <a:pt x="690430" y="42667"/>
                  <a:pt x="784589" y="0"/>
                  <a:pt x="888713" y="0"/>
                </a:cubicBezTo>
                <a:close/>
              </a:path>
            </a:pathLst>
          </a:cu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8"/>
          <p:cNvSpPr/>
          <p:nvPr/>
        </p:nvSpPr>
        <p:spPr>
          <a:xfrm>
            <a:off x="1835640" y="1344240"/>
            <a:ext cx="511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圆角矩形 11"/>
          <p:cNvSpPr/>
          <p:nvPr/>
        </p:nvSpPr>
        <p:spPr>
          <a:xfrm>
            <a:off x="1475640" y="2637000"/>
            <a:ext cx="6145560" cy="1079280"/>
          </a:xfrm>
          <a:prstGeom prst="roundRect">
            <a:avLst>
              <a:gd name="adj" fmla="val 3181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7" name="圆角矩形 12"/>
          <p:cNvSpPr/>
          <p:nvPr/>
        </p:nvSpPr>
        <p:spPr>
          <a:xfrm>
            <a:off x="1572840" y="2765880"/>
            <a:ext cx="5882400" cy="906840"/>
          </a:xfrm>
          <a:prstGeom prst="roundRect">
            <a:avLst>
              <a:gd name="adj" fmla="val 3181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8" name="TextBox 14"/>
          <p:cNvSpPr/>
          <p:nvPr/>
        </p:nvSpPr>
        <p:spPr>
          <a:xfrm>
            <a:off x="1835640" y="2927880"/>
            <a:ext cx="511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圆角矩形 16"/>
          <p:cNvSpPr/>
          <p:nvPr/>
        </p:nvSpPr>
        <p:spPr>
          <a:xfrm>
            <a:off x="1475640" y="4220640"/>
            <a:ext cx="6145560" cy="1079280"/>
          </a:xfrm>
          <a:prstGeom prst="roundRect">
            <a:avLst>
              <a:gd name="adj" fmla="val 31810"/>
            </a:avLst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0" name="圆角矩形 17"/>
          <p:cNvSpPr/>
          <p:nvPr/>
        </p:nvSpPr>
        <p:spPr>
          <a:xfrm>
            <a:off x="1572840" y="4349520"/>
            <a:ext cx="5882400" cy="906840"/>
          </a:xfrm>
          <a:prstGeom prst="roundRect">
            <a:avLst>
              <a:gd name="adj" fmla="val 31810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1" name="TextBox 19"/>
          <p:cNvSpPr/>
          <p:nvPr/>
        </p:nvSpPr>
        <p:spPr>
          <a:xfrm>
            <a:off x="1835640" y="4511880"/>
            <a:ext cx="5112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椭圆 3"/>
          <p:cNvSpPr/>
          <p:nvPr/>
        </p:nvSpPr>
        <p:spPr>
          <a:xfrm>
            <a:off x="5509800" y="3407760"/>
            <a:ext cx="1553040" cy="501480"/>
          </a:xfrm>
          <a:custGeom>
            <a:avLst/>
            <a:gdLst>
              <a:gd name="textAreaLeft" fmla="*/ 0 w 1553040"/>
              <a:gd name="textAreaRight" fmla="*/ 1553400 w 155304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2351938" h="759728">
                <a:moveTo>
                  <a:pt x="888713" y="0"/>
                </a:moveTo>
                <a:cubicBezTo>
                  <a:pt x="989142" y="0"/>
                  <a:pt x="1080300" y="39692"/>
                  <a:pt x="1146929" y="104688"/>
                </a:cubicBezTo>
                <a:cubicBezTo>
                  <a:pt x="1213558" y="39692"/>
                  <a:pt x="1304716" y="0"/>
                  <a:pt x="1405145" y="0"/>
                </a:cubicBezTo>
                <a:cubicBezTo>
                  <a:pt x="1521252" y="0"/>
                  <a:pt x="1624968" y="53053"/>
                  <a:pt x="1692052" y="137326"/>
                </a:cubicBezTo>
                <a:cubicBezTo>
                  <a:pt x="1759136" y="53053"/>
                  <a:pt x="1862852" y="0"/>
                  <a:pt x="1978959" y="0"/>
                </a:cubicBezTo>
                <a:cubicBezTo>
                  <a:pt x="2184950" y="0"/>
                  <a:pt x="2351938" y="166988"/>
                  <a:pt x="2351938" y="372979"/>
                </a:cubicBezTo>
                <a:cubicBezTo>
                  <a:pt x="2351938" y="578970"/>
                  <a:pt x="2184950" y="745958"/>
                  <a:pt x="1978959" y="745958"/>
                </a:cubicBezTo>
                <a:cubicBezTo>
                  <a:pt x="1862852" y="745958"/>
                  <a:pt x="1759136" y="692905"/>
                  <a:pt x="1692052" y="608632"/>
                </a:cubicBezTo>
                <a:cubicBezTo>
                  <a:pt x="1624968" y="692905"/>
                  <a:pt x="1521252" y="745958"/>
                  <a:pt x="1405145" y="745958"/>
                </a:cubicBezTo>
                <a:cubicBezTo>
                  <a:pt x="1304716" y="745958"/>
                  <a:pt x="1213558" y="706266"/>
                  <a:pt x="1146929" y="641270"/>
                </a:cubicBezTo>
                <a:cubicBezTo>
                  <a:pt x="1080300" y="706266"/>
                  <a:pt x="989142" y="745958"/>
                  <a:pt x="888713" y="745958"/>
                </a:cubicBezTo>
                <a:cubicBezTo>
                  <a:pt x="792121" y="745958"/>
                  <a:pt x="704104" y="709240"/>
                  <a:pt x="638721" y="648055"/>
                </a:cubicBezTo>
                <a:cubicBezTo>
                  <a:pt x="571263" y="717061"/>
                  <a:pt x="477103" y="759728"/>
                  <a:pt x="372979" y="759728"/>
                </a:cubicBezTo>
                <a:cubicBezTo>
                  <a:pt x="166988" y="759728"/>
                  <a:pt x="0" y="592740"/>
                  <a:pt x="0" y="386749"/>
                </a:cubicBezTo>
                <a:cubicBezTo>
                  <a:pt x="0" y="180758"/>
                  <a:pt x="166988" y="13770"/>
                  <a:pt x="372979" y="13770"/>
                </a:cubicBezTo>
                <a:cubicBezTo>
                  <a:pt x="469571" y="13770"/>
                  <a:pt x="557588" y="50488"/>
                  <a:pt x="622972" y="111673"/>
                </a:cubicBezTo>
                <a:cubicBezTo>
                  <a:pt x="690430" y="42667"/>
                  <a:pt x="784589" y="0"/>
                  <a:pt x="888713" y="0"/>
                </a:cubicBezTo>
                <a:close/>
              </a:path>
            </a:pathLst>
          </a:cu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椭圆 3"/>
          <p:cNvSpPr/>
          <p:nvPr/>
        </p:nvSpPr>
        <p:spPr>
          <a:xfrm>
            <a:off x="5509800" y="5012280"/>
            <a:ext cx="1553040" cy="501480"/>
          </a:xfrm>
          <a:custGeom>
            <a:avLst/>
            <a:gdLst>
              <a:gd name="textAreaLeft" fmla="*/ 0 w 1553040"/>
              <a:gd name="textAreaRight" fmla="*/ 1553400 w 1553040"/>
              <a:gd name="textAreaTop" fmla="*/ 0 h 501480"/>
              <a:gd name="textAreaBottom" fmla="*/ 501840 h 501480"/>
            </a:gdLst>
            <a:ahLst/>
            <a:rect l="textAreaLeft" t="textAreaTop" r="textAreaRight" b="textAreaBottom"/>
            <a:pathLst>
              <a:path w="2351938" h="759728">
                <a:moveTo>
                  <a:pt x="888713" y="0"/>
                </a:moveTo>
                <a:cubicBezTo>
                  <a:pt x="989142" y="0"/>
                  <a:pt x="1080300" y="39692"/>
                  <a:pt x="1146929" y="104688"/>
                </a:cubicBezTo>
                <a:cubicBezTo>
                  <a:pt x="1213558" y="39692"/>
                  <a:pt x="1304716" y="0"/>
                  <a:pt x="1405145" y="0"/>
                </a:cubicBezTo>
                <a:cubicBezTo>
                  <a:pt x="1521252" y="0"/>
                  <a:pt x="1624968" y="53053"/>
                  <a:pt x="1692052" y="137326"/>
                </a:cubicBezTo>
                <a:cubicBezTo>
                  <a:pt x="1759136" y="53053"/>
                  <a:pt x="1862852" y="0"/>
                  <a:pt x="1978959" y="0"/>
                </a:cubicBezTo>
                <a:cubicBezTo>
                  <a:pt x="2184950" y="0"/>
                  <a:pt x="2351938" y="166988"/>
                  <a:pt x="2351938" y="372979"/>
                </a:cubicBezTo>
                <a:cubicBezTo>
                  <a:pt x="2351938" y="578970"/>
                  <a:pt x="2184950" y="745958"/>
                  <a:pt x="1978959" y="745958"/>
                </a:cubicBezTo>
                <a:cubicBezTo>
                  <a:pt x="1862852" y="745958"/>
                  <a:pt x="1759136" y="692905"/>
                  <a:pt x="1692052" y="608632"/>
                </a:cubicBezTo>
                <a:cubicBezTo>
                  <a:pt x="1624968" y="692905"/>
                  <a:pt x="1521252" y="745958"/>
                  <a:pt x="1405145" y="745958"/>
                </a:cubicBezTo>
                <a:cubicBezTo>
                  <a:pt x="1304716" y="745958"/>
                  <a:pt x="1213558" y="706266"/>
                  <a:pt x="1146929" y="641270"/>
                </a:cubicBezTo>
                <a:cubicBezTo>
                  <a:pt x="1080300" y="706266"/>
                  <a:pt x="989142" y="745958"/>
                  <a:pt x="888713" y="745958"/>
                </a:cubicBezTo>
                <a:cubicBezTo>
                  <a:pt x="792121" y="745958"/>
                  <a:pt x="704104" y="709240"/>
                  <a:pt x="638721" y="648055"/>
                </a:cubicBezTo>
                <a:cubicBezTo>
                  <a:pt x="571263" y="717061"/>
                  <a:pt x="477103" y="759728"/>
                  <a:pt x="372979" y="759728"/>
                </a:cubicBezTo>
                <a:cubicBezTo>
                  <a:pt x="166988" y="759728"/>
                  <a:pt x="0" y="592740"/>
                  <a:pt x="0" y="386749"/>
                </a:cubicBezTo>
                <a:cubicBezTo>
                  <a:pt x="0" y="180758"/>
                  <a:pt x="166988" y="13770"/>
                  <a:pt x="372979" y="13770"/>
                </a:cubicBezTo>
                <a:cubicBezTo>
                  <a:pt x="469571" y="13770"/>
                  <a:pt x="557588" y="50488"/>
                  <a:pt x="622972" y="111673"/>
                </a:cubicBezTo>
                <a:cubicBezTo>
                  <a:pt x="690430" y="42667"/>
                  <a:pt x="784589" y="0"/>
                  <a:pt x="888713" y="0"/>
                </a:cubicBezTo>
                <a:close/>
              </a:path>
            </a:pathLst>
          </a:custGeom>
          <a:solidFill>
            <a:schemeClr val="accent3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矩形 1"/>
          <p:cNvSpPr/>
          <p:nvPr/>
        </p:nvSpPr>
        <p:spPr>
          <a:xfrm>
            <a:off x="611640" y="462960"/>
            <a:ext cx="5040360" cy="154260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微软雅黑"/>
                <a:ea typeface="微软雅黑"/>
              </a:rPr>
              <a:t>您的小标题在这里输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矩形 2"/>
          <p:cNvSpPr/>
          <p:nvPr/>
        </p:nvSpPr>
        <p:spPr>
          <a:xfrm>
            <a:off x="8100360" y="0"/>
            <a:ext cx="1043280" cy="6857640"/>
          </a:xfrm>
          <a:prstGeom prst="rect">
            <a:avLst/>
          </a:prstGeom>
          <a:solidFill>
            <a:schemeClr val="tx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7" name="矩形 5"/>
          <p:cNvSpPr/>
          <p:nvPr/>
        </p:nvSpPr>
        <p:spPr>
          <a:xfrm>
            <a:off x="5746680" y="453240"/>
            <a:ext cx="1704960" cy="120132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8" name="矩形 6"/>
          <p:cNvSpPr/>
          <p:nvPr/>
        </p:nvSpPr>
        <p:spPr>
          <a:xfrm>
            <a:off x="5746680" y="1738800"/>
            <a:ext cx="1696680" cy="266760"/>
          </a:xfrm>
          <a:prstGeom prst="rect">
            <a:avLst/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9" name="矩形 7"/>
          <p:cNvSpPr/>
          <p:nvPr/>
        </p:nvSpPr>
        <p:spPr>
          <a:xfrm>
            <a:off x="611640" y="2081880"/>
            <a:ext cx="1800000" cy="336312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0" name="矩形 8"/>
          <p:cNvSpPr/>
          <p:nvPr/>
        </p:nvSpPr>
        <p:spPr>
          <a:xfrm>
            <a:off x="2483640" y="2081880"/>
            <a:ext cx="4968360" cy="336312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1" name="矩形 9"/>
          <p:cNvSpPr/>
          <p:nvPr/>
        </p:nvSpPr>
        <p:spPr>
          <a:xfrm>
            <a:off x="611640" y="5511240"/>
            <a:ext cx="6840360" cy="869760"/>
          </a:xfrm>
          <a:prstGeom prst="rect">
            <a:avLst/>
          </a:prstGeom>
          <a:solidFill>
            <a:schemeClr val="accent1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chemeClr val="lt1"/>
                </a:solidFill>
                <a:latin typeface="Calibri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2"/>
          <p:cNvSpPr/>
          <p:nvPr/>
        </p:nvSpPr>
        <p:spPr>
          <a:xfrm>
            <a:off x="8482320" y="1654920"/>
            <a:ext cx="55368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您的大标题请在这里输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3"/>
          <p:cNvSpPr/>
          <p:nvPr/>
        </p:nvSpPr>
        <p:spPr>
          <a:xfrm>
            <a:off x="8028360" y="2439000"/>
            <a:ext cx="492120" cy="19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nter  your  title  her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P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椭圆 21"/>
          <p:cNvSpPr/>
          <p:nvPr/>
        </p:nvSpPr>
        <p:spPr>
          <a:xfrm>
            <a:off x="4159080" y="0"/>
            <a:ext cx="2113920" cy="4038120"/>
          </a:xfrm>
          <a:custGeom>
            <a:avLst/>
            <a:gdLst>
              <a:gd name="textAreaLeft" fmla="*/ 0 w 2113920"/>
              <a:gd name="textAreaRight" fmla="*/ 2114280 w 2113920"/>
              <a:gd name="textAreaTop" fmla="*/ 0 h 4038120"/>
              <a:gd name="textAreaBottom" fmla="*/ 4038480 h 4038120"/>
            </a:gdLst>
            <a:ahLst/>
            <a:rect l="textAreaLeft" t="textAreaTop" r="textAreaRight" b="textAreaBottom"/>
            <a:pathLst>
              <a:path w="2114444" h="4038451">
                <a:moveTo>
                  <a:pt x="486785" y="0"/>
                </a:moveTo>
                <a:lnTo>
                  <a:pt x="717315" y="0"/>
                </a:lnTo>
                <a:cubicBezTo>
                  <a:pt x="389774" y="429743"/>
                  <a:pt x="196992" y="966668"/>
                  <a:pt x="196992" y="1548618"/>
                </a:cubicBezTo>
                <a:cubicBezTo>
                  <a:pt x="196992" y="2743904"/>
                  <a:pt x="1010266" y="3749241"/>
                  <a:pt x="2114444" y="4038451"/>
                </a:cubicBezTo>
                <a:cubicBezTo>
                  <a:pt x="911652" y="3821877"/>
                  <a:pt x="0" y="2769287"/>
                  <a:pt x="0" y="1503769"/>
                </a:cubicBezTo>
                <a:cubicBezTo>
                  <a:pt x="0" y="941939"/>
                  <a:pt x="179682" y="422075"/>
                  <a:pt x="486785" y="0"/>
                </a:cubicBezTo>
                <a:close/>
              </a:path>
            </a:pathLst>
          </a:cu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5" name="椭圆 4"/>
          <p:cNvSpPr/>
          <p:nvPr/>
        </p:nvSpPr>
        <p:spPr>
          <a:xfrm>
            <a:off x="0" y="4725000"/>
            <a:ext cx="1951920" cy="2160000"/>
          </a:xfrm>
          <a:custGeom>
            <a:avLst/>
            <a:gdLst>
              <a:gd name="textAreaLeft" fmla="*/ 0 w 1951920"/>
              <a:gd name="textAreaRight" fmla="*/ 1952280 w 1951920"/>
              <a:gd name="textAreaTop" fmla="*/ 0 h 2160000"/>
              <a:gd name="textAreaBottom" fmla="*/ 2160360 h 2160000"/>
            </a:gdLst>
            <a:ahLst/>
            <a:rect l="textAreaLeft" t="textAreaTop" r="textAreaRight" b="textAreaBottom"/>
            <a:pathLst>
              <a:path w="1952328" h="2160240">
                <a:moveTo>
                  <a:pt x="669876" y="0"/>
                </a:moveTo>
                <a:cubicBezTo>
                  <a:pt x="1378155" y="0"/>
                  <a:pt x="1952328" y="574173"/>
                  <a:pt x="1952328" y="1282452"/>
                </a:cubicBezTo>
                <a:cubicBezTo>
                  <a:pt x="1952328" y="1622477"/>
                  <a:pt x="1819999" y="1931594"/>
                  <a:pt x="1603102" y="2160240"/>
                </a:cubicBezTo>
                <a:lnTo>
                  <a:pt x="0" y="2160240"/>
                </a:lnTo>
                <a:lnTo>
                  <a:pt x="0" y="190375"/>
                </a:lnTo>
                <a:cubicBezTo>
                  <a:pt x="194353" y="69174"/>
                  <a:pt x="424036" y="0"/>
                  <a:pt x="669876" y="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6" name="椭圆 5"/>
          <p:cNvSpPr/>
          <p:nvPr/>
        </p:nvSpPr>
        <p:spPr>
          <a:xfrm>
            <a:off x="862200" y="3236400"/>
            <a:ext cx="1656000" cy="1656000"/>
          </a:xfrm>
          <a:prstGeom prst="ellipse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7" name="椭圆 6"/>
          <p:cNvSpPr/>
          <p:nvPr/>
        </p:nvSpPr>
        <p:spPr>
          <a:xfrm>
            <a:off x="2339640" y="2637000"/>
            <a:ext cx="1007640" cy="1007640"/>
          </a:xfrm>
          <a:prstGeom prst="ellipse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8" name="椭圆 7"/>
          <p:cNvSpPr/>
          <p:nvPr/>
        </p:nvSpPr>
        <p:spPr>
          <a:xfrm>
            <a:off x="4924800" y="0"/>
            <a:ext cx="4227480" cy="3826800"/>
          </a:xfrm>
          <a:custGeom>
            <a:avLst/>
            <a:gdLst>
              <a:gd name="textAreaLeft" fmla="*/ 0 w 4227480"/>
              <a:gd name="textAreaRight" fmla="*/ 4227840 w 4227480"/>
              <a:gd name="textAreaTop" fmla="*/ 0 h 3826800"/>
              <a:gd name="textAreaBottom" fmla="*/ 3827160 h 3826800"/>
            </a:gdLst>
            <a:ahLst/>
            <a:rect l="textAreaLeft" t="textAreaTop" r="textAreaRight" b="textAreaBottom"/>
            <a:pathLst>
              <a:path w="4228014" h="3827303">
                <a:moveTo>
                  <a:pt x="461566" y="0"/>
                </a:moveTo>
                <a:lnTo>
                  <a:pt x="4228014" y="0"/>
                </a:lnTo>
                <a:lnTo>
                  <a:pt x="4228014" y="2999719"/>
                </a:lnTo>
                <a:cubicBezTo>
                  <a:pt x="3787541" y="3507480"/>
                  <a:pt x="3137254" y="3827303"/>
                  <a:pt x="2412268" y="3827303"/>
                </a:cubicBezTo>
                <a:cubicBezTo>
                  <a:pt x="1080009" y="3827303"/>
                  <a:pt x="0" y="2747294"/>
                  <a:pt x="0" y="1415035"/>
                </a:cubicBezTo>
                <a:cubicBezTo>
                  <a:pt x="0" y="885739"/>
                  <a:pt x="170470" y="396258"/>
                  <a:pt x="461566" y="0"/>
                </a:cubicBezTo>
                <a:close/>
              </a:path>
            </a:pathLst>
          </a:custGeom>
          <a:blipFill rotWithShape="0">
            <a:blip r:embed="rId4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9" name="TextBox 15"/>
          <p:cNvSpPr/>
          <p:nvPr/>
        </p:nvSpPr>
        <p:spPr>
          <a:xfrm>
            <a:off x="4902120" y="2787120"/>
            <a:ext cx="2619360" cy="69912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1"/>
                </a:solidFill>
                <a:latin typeface="Calibri"/>
              </a:rPr>
              <a:t>您的标题写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16"/>
          <p:cNvSpPr/>
          <p:nvPr/>
        </p:nvSpPr>
        <p:spPr>
          <a:xfrm>
            <a:off x="3780000" y="4152600"/>
            <a:ext cx="46594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矩形 1"/>
          <p:cNvSpPr/>
          <p:nvPr/>
        </p:nvSpPr>
        <p:spPr>
          <a:xfrm>
            <a:off x="0" y="12240"/>
            <a:ext cx="4355640" cy="6857640"/>
          </a:xfrm>
          <a:custGeom>
            <a:avLst/>
            <a:gdLst>
              <a:gd name="textAreaLeft" fmla="*/ 0 w 4355640"/>
              <a:gd name="textAreaRight" fmla="*/ 4356000 w 43556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4716016" h="6858000">
                <a:moveTo>
                  <a:pt x="0" y="0"/>
                </a:moveTo>
                <a:lnTo>
                  <a:pt x="2781134" y="0"/>
                </a:lnTo>
                <a:lnTo>
                  <a:pt x="4716016" y="6858000"/>
                </a:lnTo>
                <a:lnTo>
                  <a:pt x="0" y="6858000"/>
                </a:lnTo>
              </a:path>
            </a:pathLst>
          </a:cu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3" name="矩形 4"/>
          <p:cNvSpPr/>
          <p:nvPr/>
        </p:nvSpPr>
        <p:spPr>
          <a:xfrm>
            <a:off x="5148000" y="3357000"/>
            <a:ext cx="1511640" cy="244800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  <a:effectLst>
            <a:reflection algn="bl" blurRad="6350" dir="5400000" dist="50800" endPos="38500" rotWithShape="0" stA="23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4" name="矩形 5"/>
          <p:cNvSpPr/>
          <p:nvPr/>
        </p:nvSpPr>
        <p:spPr>
          <a:xfrm>
            <a:off x="6876360" y="3357000"/>
            <a:ext cx="1511640" cy="244800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  <a:effectLst>
            <a:reflection algn="bl" blurRad="6350" dir="5400000" dist="50800" endPos="38500" rotWithShape="0" stA="18000" sy="-10000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25" name="TextBox 6"/>
          <p:cNvSpPr/>
          <p:nvPr/>
        </p:nvSpPr>
        <p:spPr>
          <a:xfrm>
            <a:off x="4313520" y="476640"/>
            <a:ext cx="103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800" spc="-1" strike="noStrike">
                <a:solidFill>
                  <a:schemeClr val="accent3">
                    <a:lumMod val="75000"/>
                  </a:schemeClr>
                </a:solidFill>
                <a:latin typeface="Calibri"/>
              </a:rPr>
              <a:t>您的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8"/>
          <p:cNvSpPr/>
          <p:nvPr/>
        </p:nvSpPr>
        <p:spPr>
          <a:xfrm>
            <a:off x="4031280" y="1416240"/>
            <a:ext cx="4645080" cy="8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7" name="直接连接符 10"/>
          <p:cNvCxnSpPr/>
          <p:nvPr/>
        </p:nvCxnSpPr>
        <p:spPr>
          <a:xfrm>
            <a:off x="4139640" y="1052640"/>
            <a:ext cx="439308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prstDash val="sysDash"/>
            <a:round/>
          </a:ln>
        </p:spPr>
      </p:cxn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 Box 9"/>
          <p:cNvSpPr/>
          <p:nvPr/>
        </p:nvSpPr>
        <p:spPr>
          <a:xfrm>
            <a:off x="2139120" y="6127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1"/>
          <p:cNvSpPr/>
          <p:nvPr/>
        </p:nvSpPr>
        <p:spPr>
          <a:xfrm>
            <a:off x="323640" y="1712520"/>
            <a:ext cx="8496720" cy="4248000"/>
          </a:xfrm>
          <a:prstGeom prst="rect">
            <a:avLst/>
          </a:prstGeom>
          <a:solidFill>
            <a:schemeClr val="bg2">
              <a:lumMod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61" name="直接连接符 3"/>
          <p:cNvCxnSpPr/>
          <p:nvPr/>
        </p:nvCxnSpPr>
        <p:spPr>
          <a:xfrm>
            <a:off x="323280" y="1628640"/>
            <a:ext cx="8497440" cy="360"/>
          </a:xfrm>
          <a:prstGeom prst="straightConnector1">
            <a:avLst/>
          </a:prstGeom>
          <a:ln w="19050">
            <a:solidFill>
              <a:srgbClr val="eeece1">
                <a:lumMod val="50000"/>
              </a:srgbClr>
            </a:solidFill>
            <a:round/>
          </a:ln>
        </p:spPr>
      </p:cxnSp>
      <p:sp>
        <p:nvSpPr>
          <p:cNvPr id="162" name="矩形 4"/>
          <p:cNvSpPr/>
          <p:nvPr/>
        </p:nvSpPr>
        <p:spPr>
          <a:xfrm>
            <a:off x="611640" y="1917000"/>
            <a:ext cx="2520000" cy="3888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矩形 5"/>
          <p:cNvSpPr/>
          <p:nvPr/>
        </p:nvSpPr>
        <p:spPr>
          <a:xfrm>
            <a:off x="3312000" y="1917000"/>
            <a:ext cx="2520000" cy="3888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4" name="矩形 6"/>
          <p:cNvSpPr/>
          <p:nvPr/>
        </p:nvSpPr>
        <p:spPr>
          <a:xfrm>
            <a:off x="6012000" y="1917000"/>
            <a:ext cx="2520000" cy="38880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5" name="矩形 7"/>
          <p:cNvSpPr/>
          <p:nvPr/>
        </p:nvSpPr>
        <p:spPr>
          <a:xfrm>
            <a:off x="791640" y="2028240"/>
            <a:ext cx="2160000" cy="22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6" name="矩形 8"/>
          <p:cNvSpPr/>
          <p:nvPr/>
        </p:nvSpPr>
        <p:spPr>
          <a:xfrm>
            <a:off x="3492000" y="2028240"/>
            <a:ext cx="2160000" cy="2232000"/>
          </a:xfrm>
          <a:prstGeom prst="rect">
            <a:avLst/>
          </a:prstGeom>
          <a:blipFill rotWithShape="0">
            <a:blip r:embed="rId2"/>
            <a:srcRect/>
            <a:stretch/>
          </a:blip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6192360" y="2028240"/>
            <a:ext cx="2160000" cy="2232000"/>
          </a:xfrm>
          <a:prstGeom prst="rect">
            <a:avLst/>
          </a:prstGeom>
          <a:blipFill rotWithShape="0">
            <a:blip r:embed="rId3"/>
            <a:srcRect/>
            <a:stretch/>
          </a:blip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683640" y="492084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919440" y="45291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48a54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2"/>
          <p:cNvSpPr/>
          <p:nvPr/>
        </p:nvSpPr>
        <p:spPr>
          <a:xfrm>
            <a:off x="3382920" y="492084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3"/>
          <p:cNvSpPr/>
          <p:nvPr/>
        </p:nvSpPr>
        <p:spPr>
          <a:xfrm>
            <a:off x="3618720" y="45291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48a54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4"/>
          <p:cNvSpPr/>
          <p:nvPr/>
        </p:nvSpPr>
        <p:spPr>
          <a:xfrm>
            <a:off x="6084000" y="4920840"/>
            <a:ext cx="2340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5"/>
          <p:cNvSpPr/>
          <p:nvPr/>
        </p:nvSpPr>
        <p:spPr>
          <a:xfrm>
            <a:off x="6319800" y="4529160"/>
            <a:ext cx="866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948a54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991080" y="836640"/>
            <a:ext cx="2131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948a54"/>
                </a:solidFill>
                <a:latin typeface="微软雅黑"/>
                <a:ea typeface="微软雅黑"/>
              </a:rPr>
              <a:t>您的标题写在这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组合 17"/>
          <p:cNvGrpSpPr/>
          <p:nvPr/>
        </p:nvGrpSpPr>
        <p:grpSpPr>
          <a:xfrm>
            <a:off x="471600" y="548640"/>
            <a:ext cx="8672400" cy="1266120"/>
            <a:chOff x="471600" y="548640"/>
            <a:chExt cx="8672400" cy="1266120"/>
          </a:xfrm>
        </p:grpSpPr>
        <p:grpSp>
          <p:nvGrpSpPr>
            <p:cNvPr id="531" name="组合 16"/>
            <p:cNvGrpSpPr/>
            <p:nvPr/>
          </p:nvGrpSpPr>
          <p:grpSpPr>
            <a:xfrm>
              <a:off x="471600" y="548640"/>
              <a:ext cx="3956040" cy="820800"/>
              <a:chOff x="471600" y="548640"/>
              <a:chExt cx="3956040" cy="820800"/>
            </a:xfrm>
          </p:grpSpPr>
          <p:sp>
            <p:nvSpPr>
              <p:cNvPr id="532" name="TextBox 5"/>
              <p:cNvSpPr/>
              <p:nvPr/>
            </p:nvSpPr>
            <p:spPr>
              <a:xfrm>
                <a:off x="471600" y="548640"/>
                <a:ext cx="51948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4800" spc="-1" strike="noStrike">
                    <a:solidFill>
                      <a:schemeClr val="accent2"/>
                    </a:solidFill>
                    <a:latin typeface="Arial"/>
                  </a:rPr>
                  <a:t>1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3" name="组合 11"/>
              <p:cNvGrpSpPr/>
              <p:nvPr/>
            </p:nvGrpSpPr>
            <p:grpSpPr>
              <a:xfrm>
                <a:off x="966240" y="764640"/>
                <a:ext cx="3461400" cy="421200"/>
                <a:chOff x="966240" y="764640"/>
                <a:chExt cx="3461400" cy="421200"/>
              </a:xfrm>
            </p:grpSpPr>
            <p:sp>
              <p:nvSpPr>
                <p:cNvPr id="534" name="矩形 6"/>
                <p:cNvSpPr/>
                <p:nvPr/>
              </p:nvSpPr>
              <p:spPr>
                <a:xfrm>
                  <a:off x="966240" y="764640"/>
                  <a:ext cx="3461400" cy="420840"/>
                </a:xfrm>
                <a:prstGeom prst="rect">
                  <a:avLst/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您的标题写在这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35" name="直接连接符 8"/>
                <p:cNvCxnSpPr/>
                <p:nvPr/>
              </p:nvCxnSpPr>
              <p:spPr>
                <a:xfrm flipH="1">
                  <a:off x="3923640" y="975240"/>
                  <a:ext cx="504360" cy="21096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  <a:round/>
                </a:ln>
              </p:spPr>
            </p:cxnSp>
          </p:grpSp>
        </p:grpSp>
        <p:sp>
          <p:nvSpPr>
            <p:cNvPr id="536" name="TextBox 13"/>
            <p:cNvSpPr/>
            <p:nvPr/>
          </p:nvSpPr>
          <p:spPr>
            <a:xfrm>
              <a:off x="866160" y="1487880"/>
              <a:ext cx="5865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37" name="直接连接符 15"/>
            <p:cNvCxnSpPr/>
            <p:nvPr/>
          </p:nvCxnSpPr>
          <p:spPr>
            <a:xfrm>
              <a:off x="659160" y="1340640"/>
              <a:ext cx="8485200" cy="360"/>
            </a:xfrm>
            <a:prstGeom prst="straightConnector1">
              <a:avLst/>
            </a:prstGeom>
            <a:ln w="19050">
              <a:solidFill>
                <a:srgbClr val="ffffff">
                  <a:lumMod val="75000"/>
                </a:srgbClr>
              </a:solidFill>
              <a:round/>
            </a:ln>
          </p:spPr>
        </p:cxnSp>
      </p:grpSp>
      <p:grpSp>
        <p:nvGrpSpPr>
          <p:cNvPr id="538" name="组合 19"/>
          <p:cNvGrpSpPr/>
          <p:nvPr/>
        </p:nvGrpSpPr>
        <p:grpSpPr>
          <a:xfrm>
            <a:off x="471600" y="2409120"/>
            <a:ext cx="8672400" cy="1266120"/>
            <a:chOff x="471600" y="2409120"/>
            <a:chExt cx="8672400" cy="1266120"/>
          </a:xfrm>
        </p:grpSpPr>
        <p:grpSp>
          <p:nvGrpSpPr>
            <p:cNvPr id="539" name="组合 20"/>
            <p:cNvGrpSpPr/>
            <p:nvPr/>
          </p:nvGrpSpPr>
          <p:grpSpPr>
            <a:xfrm>
              <a:off x="471600" y="2409120"/>
              <a:ext cx="3956040" cy="820800"/>
              <a:chOff x="471600" y="2409120"/>
              <a:chExt cx="3956040" cy="820800"/>
            </a:xfrm>
          </p:grpSpPr>
          <p:sp>
            <p:nvSpPr>
              <p:cNvPr id="540" name="TextBox 23"/>
              <p:cNvSpPr/>
              <p:nvPr/>
            </p:nvSpPr>
            <p:spPr>
              <a:xfrm>
                <a:off x="471600" y="2409120"/>
                <a:ext cx="51948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4800" spc="-1" strike="noStrike">
                    <a:solidFill>
                      <a:schemeClr val="accent2"/>
                    </a:solidFill>
                    <a:latin typeface="Arial"/>
                  </a:rPr>
                  <a:t>2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组合 24"/>
              <p:cNvGrpSpPr/>
              <p:nvPr/>
            </p:nvGrpSpPr>
            <p:grpSpPr>
              <a:xfrm>
                <a:off x="966240" y="2625120"/>
                <a:ext cx="3461400" cy="421200"/>
                <a:chOff x="966240" y="2625120"/>
                <a:chExt cx="3461400" cy="421200"/>
              </a:xfrm>
            </p:grpSpPr>
            <p:sp>
              <p:nvSpPr>
                <p:cNvPr id="542" name="矩形 26"/>
                <p:cNvSpPr/>
                <p:nvPr/>
              </p:nvSpPr>
              <p:spPr>
                <a:xfrm>
                  <a:off x="966240" y="2625120"/>
                  <a:ext cx="3461400" cy="420840"/>
                </a:xfrm>
                <a:prstGeom prst="rect">
                  <a:avLst/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您的标题写在这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43" name="直接连接符 27"/>
                <p:cNvCxnSpPr/>
                <p:nvPr/>
              </p:nvCxnSpPr>
              <p:spPr>
                <a:xfrm flipH="1">
                  <a:off x="3923640" y="2835360"/>
                  <a:ext cx="504360" cy="21132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  <a:round/>
                </a:ln>
              </p:spPr>
            </p:cxnSp>
          </p:grpSp>
        </p:grpSp>
        <p:sp>
          <p:nvSpPr>
            <p:cNvPr id="544" name="TextBox 21"/>
            <p:cNvSpPr/>
            <p:nvPr/>
          </p:nvSpPr>
          <p:spPr>
            <a:xfrm>
              <a:off x="866160" y="3348360"/>
              <a:ext cx="5865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5" name="直接连接符 22"/>
            <p:cNvCxnSpPr/>
            <p:nvPr/>
          </p:nvCxnSpPr>
          <p:spPr>
            <a:xfrm>
              <a:off x="659160" y="3201120"/>
              <a:ext cx="8485200" cy="360"/>
            </a:xfrm>
            <a:prstGeom prst="straightConnector1">
              <a:avLst/>
            </a:prstGeom>
            <a:ln w="19050">
              <a:solidFill>
                <a:srgbClr val="ffffff">
                  <a:lumMod val="75000"/>
                </a:srgbClr>
              </a:solidFill>
              <a:round/>
            </a:ln>
          </p:spPr>
        </p:cxnSp>
      </p:grpSp>
      <p:grpSp>
        <p:nvGrpSpPr>
          <p:cNvPr id="546" name="组合 28"/>
          <p:cNvGrpSpPr/>
          <p:nvPr/>
        </p:nvGrpSpPr>
        <p:grpSpPr>
          <a:xfrm>
            <a:off x="471600" y="4269240"/>
            <a:ext cx="8672400" cy="1266480"/>
            <a:chOff x="471600" y="4269240"/>
            <a:chExt cx="8672400" cy="1266480"/>
          </a:xfrm>
        </p:grpSpPr>
        <p:grpSp>
          <p:nvGrpSpPr>
            <p:cNvPr id="547" name="组合 29"/>
            <p:cNvGrpSpPr/>
            <p:nvPr/>
          </p:nvGrpSpPr>
          <p:grpSpPr>
            <a:xfrm>
              <a:off x="471600" y="4269240"/>
              <a:ext cx="3956040" cy="820800"/>
              <a:chOff x="471600" y="4269240"/>
              <a:chExt cx="3956040" cy="820800"/>
            </a:xfrm>
          </p:grpSpPr>
          <p:sp>
            <p:nvSpPr>
              <p:cNvPr id="548" name="TextBox 32"/>
              <p:cNvSpPr/>
              <p:nvPr/>
            </p:nvSpPr>
            <p:spPr>
              <a:xfrm>
                <a:off x="471600" y="4269240"/>
                <a:ext cx="519480" cy="82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4800" spc="-1" strike="noStrike">
                    <a:solidFill>
                      <a:schemeClr val="accent2"/>
                    </a:solidFill>
                    <a:latin typeface="Arial"/>
                  </a:rPr>
                  <a:t>3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9" name="组合 33"/>
              <p:cNvGrpSpPr/>
              <p:nvPr/>
            </p:nvGrpSpPr>
            <p:grpSpPr>
              <a:xfrm>
                <a:off x="966240" y="4485600"/>
                <a:ext cx="3461400" cy="420840"/>
                <a:chOff x="966240" y="4485600"/>
                <a:chExt cx="3461400" cy="420840"/>
              </a:xfrm>
            </p:grpSpPr>
            <p:sp>
              <p:nvSpPr>
                <p:cNvPr id="550" name="矩形 35"/>
                <p:cNvSpPr/>
                <p:nvPr/>
              </p:nvSpPr>
              <p:spPr>
                <a:xfrm>
                  <a:off x="966240" y="4485600"/>
                  <a:ext cx="3461400" cy="420840"/>
                </a:xfrm>
                <a:prstGeom prst="rect">
                  <a:avLst/>
                </a:prstGeom>
                <a:solidFill>
                  <a:schemeClr val="accent2"/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numCol="1" spcCol="0" horzOverflow="overflow" vertOverflow="overflow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您的标题写在这里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551" name="直接连接符 36"/>
                <p:cNvCxnSpPr/>
                <p:nvPr/>
              </p:nvCxnSpPr>
              <p:spPr>
                <a:xfrm flipH="1">
                  <a:off x="3923640" y="4695840"/>
                  <a:ext cx="504360" cy="210960"/>
                </a:xfrm>
                <a:prstGeom prst="straightConnector1">
                  <a:avLst/>
                </a:prstGeom>
                <a:ln w="38100">
                  <a:solidFill>
                    <a:srgbClr val="ffffff"/>
                  </a:solidFill>
                  <a:round/>
                </a:ln>
              </p:spPr>
            </p:cxnSp>
          </p:grpSp>
        </p:grpSp>
        <p:sp>
          <p:nvSpPr>
            <p:cNvPr id="552" name="TextBox 30"/>
            <p:cNvSpPr/>
            <p:nvPr/>
          </p:nvSpPr>
          <p:spPr>
            <a:xfrm>
              <a:off x="866160" y="5208840"/>
              <a:ext cx="5865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30000"/>
                </a:lnSpc>
              </a:pPr>
              <a:r>
                <a:rPr b="0" lang="zh-CN" sz="12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您的内容打在这里，或者通过复制您的文本后，在此框中选择粘贴，并选择只保留文字。您的内容打在这里，或者通过复制您的文本后，在此框中选择粘贴，并选择只保留文字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3" name="直接连接符 31"/>
            <p:cNvCxnSpPr/>
            <p:nvPr/>
          </p:nvCxnSpPr>
          <p:spPr>
            <a:xfrm>
              <a:off x="659160" y="5061240"/>
              <a:ext cx="8485200" cy="360"/>
            </a:xfrm>
            <a:prstGeom prst="straightConnector1">
              <a:avLst/>
            </a:prstGeom>
            <a:ln w="19050">
              <a:solidFill>
                <a:srgbClr val="ffffff">
                  <a:lumMod val="75000"/>
                </a:srgbClr>
              </a:solidFill>
              <a:round/>
            </a:ln>
          </p:spPr>
        </p:cxnSp>
      </p:grp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矩形 2"/>
          <p:cNvSpPr/>
          <p:nvPr/>
        </p:nvSpPr>
        <p:spPr>
          <a:xfrm>
            <a:off x="4140000" y="0"/>
            <a:ext cx="863640" cy="6857640"/>
          </a:xfrm>
          <a:prstGeom prst="rect">
            <a:avLst/>
          </a:pr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6" name="TextBox 4"/>
          <p:cNvSpPr/>
          <p:nvPr/>
        </p:nvSpPr>
        <p:spPr>
          <a:xfrm>
            <a:off x="4212000" y="1124640"/>
            <a:ext cx="703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MS PMincho"/>
                <a:ea typeface="MS PMincho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7" name="直接连接符 9"/>
          <p:cNvCxnSpPr/>
          <p:nvPr/>
        </p:nvCxnSpPr>
        <p:spPr>
          <a:xfrm>
            <a:off x="3315600" y="1493640"/>
            <a:ext cx="864360" cy="360"/>
          </a:xfrm>
          <a:prstGeom prst="straightConnector1">
            <a:avLst/>
          </a:prstGeom>
          <a:ln w="28575">
            <a:solidFill>
              <a:srgbClr val="c0504d">
                <a:lumMod val="60000"/>
                <a:lumOff val="40000"/>
              </a:srgbClr>
            </a:solidFill>
            <a:round/>
          </a:ln>
        </p:spPr>
      </p:cxnSp>
      <p:sp>
        <p:nvSpPr>
          <p:cNvPr id="558" name="椭圆 6"/>
          <p:cNvSpPr/>
          <p:nvPr/>
        </p:nvSpPr>
        <p:spPr>
          <a:xfrm>
            <a:off x="4176000" y="1436760"/>
            <a:ext cx="107640" cy="10764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190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59" name="矩形 10"/>
          <p:cNvSpPr/>
          <p:nvPr/>
        </p:nvSpPr>
        <p:spPr>
          <a:xfrm>
            <a:off x="1488240" y="1308240"/>
            <a:ext cx="2029320" cy="3621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您的小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11"/>
          <p:cNvSpPr/>
          <p:nvPr/>
        </p:nvSpPr>
        <p:spPr>
          <a:xfrm>
            <a:off x="611640" y="1771200"/>
            <a:ext cx="2952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3"/>
          <p:cNvSpPr/>
          <p:nvPr/>
        </p:nvSpPr>
        <p:spPr>
          <a:xfrm>
            <a:off x="4212000" y="2781000"/>
            <a:ext cx="703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MS PMincho"/>
                <a:ea typeface="MS PMincho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直接连接符 15"/>
          <p:cNvCxnSpPr/>
          <p:nvPr/>
        </p:nvCxnSpPr>
        <p:spPr>
          <a:xfrm flipH="1">
            <a:off x="4964040" y="3108240"/>
            <a:ext cx="864360" cy="360"/>
          </a:xfrm>
          <a:prstGeom prst="straightConnector1">
            <a:avLst/>
          </a:prstGeom>
          <a:ln w="28575">
            <a:solidFill>
              <a:srgbClr val="c0504d">
                <a:lumMod val="60000"/>
                <a:lumOff val="40000"/>
              </a:srgbClr>
            </a:solidFill>
            <a:round/>
          </a:ln>
        </p:spPr>
      </p:cxnSp>
      <p:sp>
        <p:nvSpPr>
          <p:cNvPr id="563" name="椭圆 16"/>
          <p:cNvSpPr/>
          <p:nvPr/>
        </p:nvSpPr>
        <p:spPr>
          <a:xfrm flipH="1">
            <a:off x="4859280" y="3051360"/>
            <a:ext cx="107640" cy="10764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190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4" name="矩形 17"/>
          <p:cNvSpPr/>
          <p:nvPr/>
        </p:nvSpPr>
        <p:spPr>
          <a:xfrm flipH="1">
            <a:off x="5625360" y="2922840"/>
            <a:ext cx="2029320" cy="3621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您的小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18"/>
          <p:cNvSpPr/>
          <p:nvPr/>
        </p:nvSpPr>
        <p:spPr>
          <a:xfrm>
            <a:off x="5537160" y="3380760"/>
            <a:ext cx="2952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9"/>
          <p:cNvSpPr/>
          <p:nvPr/>
        </p:nvSpPr>
        <p:spPr>
          <a:xfrm>
            <a:off x="4219920" y="4365000"/>
            <a:ext cx="703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MS PMincho"/>
                <a:ea typeface="MS PMincho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7" name="直接连接符 21"/>
          <p:cNvCxnSpPr/>
          <p:nvPr/>
        </p:nvCxnSpPr>
        <p:spPr>
          <a:xfrm>
            <a:off x="3323160" y="4734000"/>
            <a:ext cx="864360" cy="360"/>
          </a:xfrm>
          <a:prstGeom prst="straightConnector1">
            <a:avLst/>
          </a:prstGeom>
          <a:ln w="28575">
            <a:solidFill>
              <a:srgbClr val="c0504d">
                <a:lumMod val="60000"/>
                <a:lumOff val="40000"/>
              </a:srgbClr>
            </a:solidFill>
            <a:round/>
          </a:ln>
        </p:spPr>
      </p:cxnSp>
      <p:sp>
        <p:nvSpPr>
          <p:cNvPr id="568" name="椭圆 22"/>
          <p:cNvSpPr/>
          <p:nvPr/>
        </p:nvSpPr>
        <p:spPr>
          <a:xfrm>
            <a:off x="4183560" y="4677120"/>
            <a:ext cx="107640" cy="107640"/>
          </a:xfrm>
          <a:prstGeom prst="ellipse">
            <a:avLst/>
          </a:prstGeom>
          <a:solidFill>
            <a:schemeClr val="accent2">
              <a:lumMod val="60000"/>
              <a:lumOff val="40000"/>
            </a:schemeClr>
          </a:solidFill>
          <a:ln w="19050">
            <a:solidFill>
              <a:srgbClr val="ffffff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31680" bIns="316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矩形 23"/>
          <p:cNvSpPr/>
          <p:nvPr/>
        </p:nvSpPr>
        <p:spPr>
          <a:xfrm>
            <a:off x="1495800" y="4548600"/>
            <a:ext cx="2029320" cy="362160"/>
          </a:xfrm>
          <a:prstGeom prst="rect">
            <a:avLst/>
          </a:prstGeom>
          <a:solidFill>
            <a:schemeClr val="accent2">
              <a:lumMod val="60000"/>
              <a:lumOff val="4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微软雅黑"/>
                <a:ea typeface="微软雅黑"/>
              </a:rPr>
              <a:t>您的小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24"/>
          <p:cNvSpPr/>
          <p:nvPr/>
        </p:nvSpPr>
        <p:spPr>
          <a:xfrm>
            <a:off x="619200" y="5011560"/>
            <a:ext cx="29520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矩形 1"/>
          <p:cNvSpPr/>
          <p:nvPr/>
        </p:nvSpPr>
        <p:spPr>
          <a:xfrm>
            <a:off x="2303640" y="260280"/>
            <a:ext cx="1467360" cy="206784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3" name="矩形 3"/>
          <p:cNvSpPr/>
          <p:nvPr/>
        </p:nvSpPr>
        <p:spPr>
          <a:xfrm>
            <a:off x="5372640" y="260280"/>
            <a:ext cx="1467360" cy="206784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4" name="矩形 4"/>
          <p:cNvSpPr/>
          <p:nvPr/>
        </p:nvSpPr>
        <p:spPr>
          <a:xfrm>
            <a:off x="2303640" y="2395080"/>
            <a:ext cx="1467360" cy="206784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5" name="矩形 5"/>
          <p:cNvSpPr/>
          <p:nvPr/>
        </p:nvSpPr>
        <p:spPr>
          <a:xfrm>
            <a:off x="3838320" y="2395080"/>
            <a:ext cx="1467360" cy="2067840"/>
          </a:xfrm>
          <a:prstGeom prst="rect">
            <a:avLst/>
          </a:prstGeom>
          <a:blipFill rotWithShape="0">
            <a:blip r:embed="rId4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6" name="矩形 8"/>
          <p:cNvSpPr/>
          <p:nvPr/>
        </p:nvSpPr>
        <p:spPr>
          <a:xfrm>
            <a:off x="3838320" y="4529880"/>
            <a:ext cx="1467360" cy="2067840"/>
          </a:xfrm>
          <a:prstGeom prst="rect">
            <a:avLst/>
          </a:prstGeom>
          <a:blipFill rotWithShape="0">
            <a:blip r:embed="rId5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7" name="矩形 9"/>
          <p:cNvSpPr/>
          <p:nvPr/>
        </p:nvSpPr>
        <p:spPr>
          <a:xfrm>
            <a:off x="5372640" y="4529880"/>
            <a:ext cx="1467360" cy="2067840"/>
          </a:xfrm>
          <a:prstGeom prst="rect">
            <a:avLst/>
          </a:prstGeom>
          <a:blipFill rotWithShape="0">
            <a:blip r:embed="rId6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8" name="矩形 2"/>
          <p:cNvSpPr/>
          <p:nvPr/>
        </p:nvSpPr>
        <p:spPr>
          <a:xfrm>
            <a:off x="3838320" y="260280"/>
            <a:ext cx="1467360" cy="20678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Calibri"/>
              </a:rPr>
              <a:t>专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eb4e3"/>
                </a:solidFill>
                <a:latin typeface="Calibri"/>
              </a:rPr>
              <a:t>Special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5372640" y="2395080"/>
            <a:ext cx="1467360" cy="20678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Calibri"/>
              </a:rPr>
              <a:t>务 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eb4e3"/>
                </a:solidFill>
                <a:latin typeface="Calibri"/>
              </a:rPr>
              <a:t>Prag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7"/>
          <p:cNvSpPr/>
          <p:nvPr/>
        </p:nvSpPr>
        <p:spPr>
          <a:xfrm>
            <a:off x="2303640" y="4529880"/>
            <a:ext cx="1467360" cy="20678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Calibri"/>
              </a:rPr>
              <a:t>贴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8eb4e3"/>
                </a:solidFill>
                <a:latin typeface="Calibri"/>
              </a:rPr>
              <a:t>In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矩形 1"/>
          <p:cNvSpPr/>
          <p:nvPr/>
        </p:nvSpPr>
        <p:spPr>
          <a:xfrm>
            <a:off x="0" y="1700640"/>
            <a:ext cx="5003640" cy="33120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3" name="矩形 2"/>
          <p:cNvSpPr/>
          <p:nvPr/>
        </p:nvSpPr>
        <p:spPr>
          <a:xfrm>
            <a:off x="1419840" y="1700640"/>
            <a:ext cx="2164320" cy="3312000"/>
          </a:xfrm>
          <a:prstGeom prst="rect">
            <a:avLst/>
          </a:prstGeom>
          <a:solidFill>
            <a:srgbClr val="ffffff">
              <a:alpha val="76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4" name="TextBox 3"/>
          <p:cNvSpPr/>
          <p:nvPr/>
        </p:nvSpPr>
        <p:spPr>
          <a:xfrm>
            <a:off x="1908360" y="237168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大标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4"/>
          <p:cNvSpPr/>
          <p:nvPr/>
        </p:nvSpPr>
        <p:spPr>
          <a:xfrm>
            <a:off x="1877760" y="2977200"/>
            <a:ext cx="124776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>
                <a:solidFill>
                  <a:schemeClr val="accent1"/>
                </a:solidFill>
                <a:latin typeface="Calibri"/>
              </a:rPr>
              <a:t>小副标题副标题副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5"/>
          <p:cNvSpPr/>
          <p:nvPr/>
        </p:nvSpPr>
        <p:spPr>
          <a:xfrm>
            <a:off x="1494000" y="3528360"/>
            <a:ext cx="2016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58ed5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6"/>
          <p:cNvSpPr/>
          <p:nvPr/>
        </p:nvSpPr>
        <p:spPr>
          <a:xfrm>
            <a:off x="6429960" y="740160"/>
            <a:ext cx="14004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chemeClr val="accent1"/>
                </a:solidFill>
                <a:latin typeface="Calibri"/>
              </a:rPr>
              <a:t>您的标题写在这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8"/>
          <p:cNvSpPr/>
          <p:nvPr/>
        </p:nvSpPr>
        <p:spPr>
          <a:xfrm>
            <a:off x="7092360" y="1271880"/>
            <a:ext cx="1560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了容打在这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9"/>
          <p:cNvSpPr/>
          <p:nvPr/>
        </p:nvSpPr>
        <p:spPr>
          <a:xfrm>
            <a:off x="5524920" y="1271880"/>
            <a:ext cx="1560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了容打在这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0"/>
          <p:cNvSpPr/>
          <p:nvPr/>
        </p:nvSpPr>
        <p:spPr>
          <a:xfrm>
            <a:off x="5591160" y="4869000"/>
            <a:ext cx="3000960" cy="122364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Text Box 9"/>
          <p:cNvSpPr/>
          <p:nvPr/>
        </p:nvSpPr>
        <p:spPr>
          <a:xfrm>
            <a:off x="899640" y="640872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矩形 14"/>
          <p:cNvSpPr/>
          <p:nvPr/>
        </p:nvSpPr>
        <p:spPr>
          <a:xfrm>
            <a:off x="3780000" y="3293280"/>
            <a:ext cx="1237320" cy="2334240"/>
          </a:xfrm>
          <a:custGeom>
            <a:avLst/>
            <a:gdLst>
              <a:gd name="textAreaLeft" fmla="*/ 0 w 1237320"/>
              <a:gd name="textAreaRight" fmla="*/ 1237680 w 1237320"/>
              <a:gd name="textAreaTop" fmla="*/ 0 h 2334240"/>
              <a:gd name="textAreaBottom" fmla="*/ 2334600 h 2334240"/>
            </a:gdLst>
            <a:ahLst/>
            <a:rect l="textAreaLeft" t="textAreaTop" r="textAreaRight" b="textAreaBottom"/>
            <a:pathLst>
              <a:path w="1237784" h="2334439">
                <a:moveTo>
                  <a:pt x="1224136" y="0"/>
                </a:moveTo>
                <a:lnTo>
                  <a:pt x="1237784" y="1485835"/>
                </a:lnTo>
                <a:lnTo>
                  <a:pt x="0" y="2334439"/>
                </a:lnTo>
                <a:lnTo>
                  <a:pt x="0" y="797918"/>
                </a:lnTo>
                <a:lnTo>
                  <a:pt x="1224136" y="0"/>
                </a:lnTo>
                <a:close/>
              </a:path>
            </a:pathLst>
          </a:custGeom>
          <a:gradFill rotWithShape="0">
            <a:gsLst>
              <a:gs pos="0">
                <a:srgbClr val="d6a100"/>
              </a:gs>
              <a:gs pos="100000">
                <a:srgbClr val="ffbf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594" name="矩形 14"/>
          <p:cNvSpPr/>
          <p:nvPr/>
        </p:nvSpPr>
        <p:spPr>
          <a:xfrm>
            <a:off x="2818080" y="2411280"/>
            <a:ext cx="1237320" cy="2320560"/>
          </a:xfrm>
          <a:custGeom>
            <a:avLst/>
            <a:gdLst>
              <a:gd name="textAreaLeft" fmla="*/ 0 w 1237320"/>
              <a:gd name="textAreaRight" fmla="*/ 1237680 w 1237320"/>
              <a:gd name="textAreaTop" fmla="*/ 0 h 2320560"/>
              <a:gd name="textAreaBottom" fmla="*/ 2320920 h 2320560"/>
            </a:gdLst>
            <a:ahLst/>
            <a:rect l="textAreaLeft" t="textAreaTop" r="textAreaRight" b="textAreaBottom"/>
            <a:pathLst>
              <a:path w="1237784" h="2320791">
                <a:moveTo>
                  <a:pt x="1237784" y="0"/>
                </a:moveTo>
                <a:lnTo>
                  <a:pt x="1237784" y="1472187"/>
                </a:lnTo>
                <a:lnTo>
                  <a:pt x="0" y="2320791"/>
                </a:lnTo>
                <a:lnTo>
                  <a:pt x="13648" y="825214"/>
                </a:lnTo>
                <a:lnTo>
                  <a:pt x="1237784" y="0"/>
                </a:lnTo>
                <a:close/>
              </a:path>
            </a:pathLst>
          </a:custGeom>
          <a:gradFill rotWithShape="0">
            <a:gsLst>
              <a:gs pos="0">
                <a:srgbClr val="d6a100"/>
              </a:gs>
              <a:gs pos="100000">
                <a:srgbClr val="ffbf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595" name="组合 29"/>
          <p:cNvGrpSpPr/>
          <p:nvPr/>
        </p:nvGrpSpPr>
        <p:grpSpPr>
          <a:xfrm>
            <a:off x="969840" y="419760"/>
            <a:ext cx="6195960" cy="4256280"/>
            <a:chOff x="969840" y="419760"/>
            <a:chExt cx="6195960" cy="4256280"/>
          </a:xfrm>
        </p:grpSpPr>
        <p:pic>
          <p:nvPicPr>
            <p:cNvPr id="596" name="Picture 3" descr=""/>
            <p:cNvPicPr/>
            <p:nvPr/>
          </p:nvPicPr>
          <p:blipFill>
            <a:blip r:embed="rId1"/>
            <a:srcRect l="2768" t="0" r="7206" b="57672"/>
            <a:stretch/>
          </p:blipFill>
          <p:spPr>
            <a:xfrm rot="8764200">
              <a:off x="398880" y="2451240"/>
              <a:ext cx="73375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矩形 31"/>
            <p:cNvSpPr/>
            <p:nvPr/>
          </p:nvSpPr>
          <p:spPr>
            <a:xfrm rot="8764200">
              <a:off x="957240" y="2473560"/>
              <a:ext cx="6000120" cy="388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598" name="组合 32"/>
          <p:cNvGrpSpPr/>
          <p:nvPr/>
        </p:nvGrpSpPr>
        <p:grpSpPr>
          <a:xfrm>
            <a:off x="2447640" y="2231280"/>
            <a:ext cx="6496200" cy="4458240"/>
            <a:chOff x="2447640" y="2231280"/>
            <a:chExt cx="6496200" cy="4458240"/>
          </a:xfrm>
        </p:grpSpPr>
        <p:pic>
          <p:nvPicPr>
            <p:cNvPr id="599" name="Picture 3" descr=""/>
            <p:cNvPicPr/>
            <p:nvPr/>
          </p:nvPicPr>
          <p:blipFill>
            <a:blip r:embed="rId2"/>
            <a:srcRect l="2768" t="0" r="7206" b="57672"/>
            <a:stretch/>
          </p:blipFill>
          <p:spPr>
            <a:xfrm rot="8764200">
              <a:off x="1846080" y="4363560"/>
              <a:ext cx="7699320" cy="19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矩形 34"/>
            <p:cNvSpPr/>
            <p:nvPr/>
          </p:nvSpPr>
          <p:spPr>
            <a:xfrm rot="8764200">
              <a:off x="2435400" y="4387680"/>
              <a:ext cx="6295680" cy="3888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601" name="矩形 14"/>
          <p:cNvSpPr/>
          <p:nvPr/>
        </p:nvSpPr>
        <p:spPr>
          <a:xfrm>
            <a:off x="1835280" y="1595880"/>
            <a:ext cx="1237320" cy="2334240"/>
          </a:xfrm>
          <a:custGeom>
            <a:avLst/>
            <a:gdLst>
              <a:gd name="textAreaLeft" fmla="*/ 0 w 1237320"/>
              <a:gd name="textAreaRight" fmla="*/ 1237680 w 1237320"/>
              <a:gd name="textAreaTop" fmla="*/ 0 h 2334240"/>
              <a:gd name="textAreaBottom" fmla="*/ 2334600 h 2334240"/>
            </a:gdLst>
            <a:ahLst/>
            <a:rect l="textAreaLeft" t="textAreaTop" r="textAreaRight" b="textAreaBottom"/>
            <a:pathLst>
              <a:path w="1237784" h="2334439">
                <a:moveTo>
                  <a:pt x="1224136" y="0"/>
                </a:moveTo>
                <a:lnTo>
                  <a:pt x="1237784" y="1485835"/>
                </a:lnTo>
                <a:lnTo>
                  <a:pt x="0" y="2334439"/>
                </a:lnTo>
                <a:lnTo>
                  <a:pt x="0" y="797918"/>
                </a:lnTo>
                <a:lnTo>
                  <a:pt x="1224136" y="0"/>
                </a:lnTo>
                <a:close/>
              </a:path>
            </a:pathLst>
          </a:custGeom>
          <a:gradFill rotWithShape="0">
            <a:gsLst>
              <a:gs pos="0">
                <a:srgbClr val="d6a100"/>
              </a:gs>
              <a:gs pos="100000">
                <a:srgbClr val="ffbf00"/>
              </a:gs>
            </a:gsLst>
            <a:lin ang="5400000"/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grpSp>
        <p:nvGrpSpPr>
          <p:cNvPr id="602" name="组合 36"/>
          <p:cNvGrpSpPr/>
          <p:nvPr/>
        </p:nvGrpSpPr>
        <p:grpSpPr>
          <a:xfrm>
            <a:off x="603720" y="131040"/>
            <a:ext cx="4801320" cy="3383280"/>
            <a:chOff x="603720" y="131040"/>
            <a:chExt cx="4801320" cy="3383280"/>
          </a:xfrm>
        </p:grpSpPr>
        <p:pic>
          <p:nvPicPr>
            <p:cNvPr id="603" name="Picture 3" descr=""/>
            <p:cNvPicPr/>
            <p:nvPr/>
          </p:nvPicPr>
          <p:blipFill>
            <a:blip r:embed="rId3"/>
            <a:srcRect l="2768" t="0" r="7206" b="57672"/>
            <a:stretch/>
          </p:blipFill>
          <p:spPr>
            <a:xfrm rot="8764200">
              <a:off x="224280" y="1653840"/>
              <a:ext cx="5559840" cy="33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矩形 38"/>
            <p:cNvSpPr/>
            <p:nvPr/>
          </p:nvSpPr>
          <p:spPr>
            <a:xfrm rot="8764200">
              <a:off x="592560" y="1677600"/>
              <a:ext cx="4546080" cy="428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05" name="组合 39"/>
          <p:cNvGrpSpPr/>
          <p:nvPr/>
        </p:nvGrpSpPr>
        <p:grpSpPr>
          <a:xfrm>
            <a:off x="1458000" y="1435320"/>
            <a:ext cx="6413400" cy="4420080"/>
            <a:chOff x="1458000" y="1435320"/>
            <a:chExt cx="6413400" cy="4420080"/>
          </a:xfrm>
        </p:grpSpPr>
        <p:pic>
          <p:nvPicPr>
            <p:cNvPr id="606" name="Picture 3" descr=""/>
            <p:cNvPicPr/>
            <p:nvPr/>
          </p:nvPicPr>
          <p:blipFill>
            <a:blip r:embed="rId4"/>
            <a:srcRect l="2768" t="0" r="7206" b="57672"/>
            <a:stretch/>
          </p:blipFill>
          <p:spPr>
            <a:xfrm rot="8764200">
              <a:off x="877680" y="3529080"/>
              <a:ext cx="7573320" cy="23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矩形 41"/>
            <p:cNvSpPr/>
            <p:nvPr/>
          </p:nvSpPr>
          <p:spPr>
            <a:xfrm rot="8764200">
              <a:off x="1444320" y="3549960"/>
              <a:ext cx="6192720" cy="46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  <p:grpSp>
        <p:nvGrpSpPr>
          <p:cNvPr id="608" name="组合 48"/>
          <p:cNvGrpSpPr/>
          <p:nvPr/>
        </p:nvGrpSpPr>
        <p:grpSpPr>
          <a:xfrm>
            <a:off x="5695920" y="4375800"/>
            <a:ext cx="3772800" cy="2533680"/>
            <a:chOff x="5695920" y="4375800"/>
            <a:chExt cx="3772800" cy="2533680"/>
          </a:xfrm>
        </p:grpSpPr>
        <p:pic>
          <p:nvPicPr>
            <p:cNvPr id="609" name="Picture 3" descr=""/>
            <p:cNvPicPr/>
            <p:nvPr/>
          </p:nvPicPr>
          <p:blipFill>
            <a:blip r:embed="rId5"/>
            <a:srcRect l="2768" t="0" r="7206" b="57672"/>
            <a:stretch/>
          </p:blipFill>
          <p:spPr>
            <a:xfrm rot="8796600">
              <a:off x="5729400" y="5454720"/>
              <a:ext cx="3956040" cy="3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矩形 50"/>
            <p:cNvSpPr/>
            <p:nvPr/>
          </p:nvSpPr>
          <p:spPr>
            <a:xfrm flipV="1" rot="8796600">
              <a:off x="5353560" y="5538600"/>
              <a:ext cx="4237200" cy="2772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椭圆 1"/>
          <p:cNvSpPr/>
          <p:nvPr/>
        </p:nvSpPr>
        <p:spPr>
          <a:xfrm>
            <a:off x="1535400" y="254880"/>
            <a:ext cx="6192360" cy="2909160"/>
          </a:xfrm>
          <a:custGeom>
            <a:avLst/>
            <a:gdLst>
              <a:gd name="textAreaLeft" fmla="*/ 0 w 6192360"/>
              <a:gd name="textAreaRight" fmla="*/ 6192720 w 6192360"/>
              <a:gd name="textAreaTop" fmla="*/ 0 h 2909160"/>
              <a:gd name="textAreaBottom" fmla="*/ 2909520 h 2909160"/>
            </a:gdLst>
            <a:ahLst/>
            <a:rect l="textAreaLeft" t="textAreaTop" r="textAreaRight" b="textAreaBottom"/>
            <a:pathLst>
              <a:path w="4750960" h="2232248">
                <a:moveTo>
                  <a:pt x="2375480" y="0"/>
                </a:moveTo>
                <a:cubicBezTo>
                  <a:pt x="3640899" y="0"/>
                  <a:pt x="4675958" y="986285"/>
                  <a:pt x="4750960" y="2232248"/>
                </a:cubicBezTo>
                <a:lnTo>
                  <a:pt x="0" y="2232248"/>
                </a:lnTo>
                <a:cubicBezTo>
                  <a:pt x="75002" y="986285"/>
                  <a:pt x="1110062" y="0"/>
                  <a:pt x="2375480" y="0"/>
                </a:cubicBez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ec6a00"/>
              </a:gs>
            </a:gsLst>
            <a:path path="circle">
              <a:fillToRect l="50000" t="50000" r="50000" b="50000"/>
            </a:path>
          </a:gra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2" name="圆角矩形 2"/>
          <p:cNvSpPr/>
          <p:nvPr/>
        </p:nvSpPr>
        <p:spPr>
          <a:xfrm rot="5400000">
            <a:off x="1538640" y="2831040"/>
            <a:ext cx="1126080" cy="965880"/>
          </a:xfrm>
          <a:custGeom>
            <a:avLst/>
            <a:gdLst>
              <a:gd name="textAreaLeft" fmla="*/ 0 w 1126080"/>
              <a:gd name="textAreaRight" fmla="*/ 1126440 w 1126080"/>
              <a:gd name="textAreaTop" fmla="*/ 0 h 965880"/>
              <a:gd name="textAreaBottom" fmla="*/ 966240 h 965880"/>
            </a:gdLst>
            <a:ahLst/>
            <a:rect l="textAreaLeft" t="textAreaTop" r="textAreaRight" b="textAreaBottom"/>
            <a:pathLst>
              <a:path w="1126276" h="966181">
                <a:moveTo>
                  <a:pt x="0" y="483091"/>
                </a:moveTo>
                <a:cubicBezTo>
                  <a:pt x="0" y="216287"/>
                  <a:pt x="216287" y="0"/>
                  <a:pt x="483091" y="0"/>
                </a:cubicBezTo>
                <a:lnTo>
                  <a:pt x="1126276" y="0"/>
                </a:lnTo>
                <a:lnTo>
                  <a:pt x="1126276" y="966181"/>
                </a:lnTo>
                <a:lnTo>
                  <a:pt x="483091" y="966181"/>
                </a:lnTo>
                <a:cubicBezTo>
                  <a:pt x="216287" y="966181"/>
                  <a:pt x="0" y="749894"/>
                  <a:pt x="0" y="483091"/>
                </a:cubicBezTo>
                <a:close/>
                <a:moveTo>
                  <a:pt x="0" y="483091"/>
                </a:moveTo>
                <a:lnTo>
                  <a:pt x="0" y="483090"/>
                </a:lnTo>
                <a:close/>
              </a:path>
            </a:pathLst>
          </a:cu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3" name="圆角矩形 6"/>
          <p:cNvSpPr/>
          <p:nvPr/>
        </p:nvSpPr>
        <p:spPr>
          <a:xfrm rot="5400000">
            <a:off x="2504520" y="2831040"/>
            <a:ext cx="1126080" cy="965880"/>
          </a:xfrm>
          <a:custGeom>
            <a:avLst/>
            <a:gdLst>
              <a:gd name="textAreaLeft" fmla="*/ 0 w 1126080"/>
              <a:gd name="textAreaRight" fmla="*/ 1126440 w 1126080"/>
              <a:gd name="textAreaTop" fmla="*/ 0 h 965880"/>
              <a:gd name="textAreaBottom" fmla="*/ 966240 h 965880"/>
            </a:gdLst>
            <a:ahLst/>
            <a:rect l="textAreaLeft" t="textAreaTop" r="textAreaRight" b="textAreaBottom"/>
            <a:pathLst>
              <a:path w="1126278" h="966181">
                <a:moveTo>
                  <a:pt x="0" y="483091"/>
                </a:moveTo>
                <a:cubicBezTo>
                  <a:pt x="0" y="216287"/>
                  <a:pt x="216287" y="0"/>
                  <a:pt x="483091" y="0"/>
                </a:cubicBezTo>
                <a:lnTo>
                  <a:pt x="1126278" y="0"/>
                </a:lnTo>
                <a:lnTo>
                  <a:pt x="1126278" y="966181"/>
                </a:lnTo>
                <a:lnTo>
                  <a:pt x="483091" y="966181"/>
                </a:lnTo>
                <a:cubicBezTo>
                  <a:pt x="216287" y="966181"/>
                  <a:pt x="0" y="749894"/>
                  <a:pt x="0" y="483091"/>
                </a:cubicBezTo>
                <a:close/>
                <a:moveTo>
                  <a:pt x="0" y="483091"/>
                </a:moveTo>
                <a:lnTo>
                  <a:pt x="0" y="483090"/>
                </a:lnTo>
                <a:close/>
              </a:path>
            </a:pathLst>
          </a:cu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4" name="圆角矩形 7"/>
          <p:cNvSpPr/>
          <p:nvPr/>
        </p:nvSpPr>
        <p:spPr>
          <a:xfrm rot="5400000">
            <a:off x="3470760" y="2831040"/>
            <a:ext cx="1126080" cy="965880"/>
          </a:xfrm>
          <a:custGeom>
            <a:avLst/>
            <a:gdLst>
              <a:gd name="textAreaLeft" fmla="*/ 0 w 1126080"/>
              <a:gd name="textAreaRight" fmla="*/ 1126440 w 1126080"/>
              <a:gd name="textAreaTop" fmla="*/ 0 h 965880"/>
              <a:gd name="textAreaBottom" fmla="*/ 966240 h 965880"/>
            </a:gdLst>
            <a:ahLst/>
            <a:rect l="textAreaLeft" t="textAreaTop" r="textAreaRight" b="textAreaBottom"/>
            <a:pathLst>
              <a:path w="1126279" h="966181">
                <a:moveTo>
                  <a:pt x="0" y="483091"/>
                </a:moveTo>
                <a:cubicBezTo>
                  <a:pt x="0" y="216287"/>
                  <a:pt x="216287" y="0"/>
                  <a:pt x="483091" y="0"/>
                </a:cubicBezTo>
                <a:lnTo>
                  <a:pt x="1126279" y="0"/>
                </a:lnTo>
                <a:lnTo>
                  <a:pt x="1126279" y="966181"/>
                </a:lnTo>
                <a:lnTo>
                  <a:pt x="483091" y="966181"/>
                </a:lnTo>
                <a:cubicBezTo>
                  <a:pt x="216287" y="966181"/>
                  <a:pt x="0" y="749894"/>
                  <a:pt x="0" y="483091"/>
                </a:cubicBezTo>
                <a:close/>
                <a:moveTo>
                  <a:pt x="0" y="483091"/>
                </a:moveTo>
                <a:lnTo>
                  <a:pt x="0" y="483090"/>
                </a:lnTo>
                <a:close/>
              </a:path>
            </a:pathLst>
          </a:cu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5" name="圆角矩形 8"/>
          <p:cNvSpPr/>
          <p:nvPr/>
        </p:nvSpPr>
        <p:spPr>
          <a:xfrm rot="5400000">
            <a:off x="4583520" y="2831040"/>
            <a:ext cx="1126080" cy="965880"/>
          </a:xfrm>
          <a:custGeom>
            <a:avLst/>
            <a:gdLst>
              <a:gd name="textAreaLeft" fmla="*/ 0 w 1126080"/>
              <a:gd name="textAreaRight" fmla="*/ 1126440 w 1126080"/>
              <a:gd name="textAreaTop" fmla="*/ 0 h 965880"/>
              <a:gd name="textAreaBottom" fmla="*/ 966240 h 965880"/>
            </a:gdLst>
            <a:ahLst/>
            <a:rect l="textAreaLeft" t="textAreaTop" r="textAreaRight" b="textAreaBottom"/>
            <a:pathLst>
              <a:path w="1126280" h="966181">
                <a:moveTo>
                  <a:pt x="0" y="483091"/>
                </a:moveTo>
                <a:cubicBezTo>
                  <a:pt x="0" y="216287"/>
                  <a:pt x="216287" y="0"/>
                  <a:pt x="483091" y="0"/>
                </a:cubicBezTo>
                <a:lnTo>
                  <a:pt x="1126280" y="0"/>
                </a:lnTo>
                <a:lnTo>
                  <a:pt x="1126280" y="966181"/>
                </a:lnTo>
                <a:lnTo>
                  <a:pt x="483091" y="966181"/>
                </a:lnTo>
                <a:cubicBezTo>
                  <a:pt x="216287" y="966181"/>
                  <a:pt x="0" y="749894"/>
                  <a:pt x="0" y="483091"/>
                </a:cubicBezTo>
                <a:close/>
                <a:moveTo>
                  <a:pt x="0" y="483091"/>
                </a:moveTo>
                <a:lnTo>
                  <a:pt x="0" y="483090"/>
                </a:lnTo>
                <a:close/>
              </a:path>
            </a:pathLst>
          </a:cu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6" name="圆角矩形 9"/>
          <p:cNvSpPr/>
          <p:nvPr/>
        </p:nvSpPr>
        <p:spPr>
          <a:xfrm rot="5400000">
            <a:off x="5549760" y="2831040"/>
            <a:ext cx="1126080" cy="965880"/>
          </a:xfrm>
          <a:custGeom>
            <a:avLst/>
            <a:gdLst>
              <a:gd name="textAreaLeft" fmla="*/ 0 w 1126080"/>
              <a:gd name="textAreaRight" fmla="*/ 1126440 w 1126080"/>
              <a:gd name="textAreaTop" fmla="*/ 0 h 965880"/>
              <a:gd name="textAreaBottom" fmla="*/ 966240 h 965880"/>
            </a:gdLst>
            <a:ahLst/>
            <a:rect l="textAreaLeft" t="textAreaTop" r="textAreaRight" b="textAreaBottom"/>
            <a:pathLst>
              <a:path w="1126282" h="966181">
                <a:moveTo>
                  <a:pt x="0" y="483091"/>
                </a:moveTo>
                <a:cubicBezTo>
                  <a:pt x="0" y="216287"/>
                  <a:pt x="216287" y="0"/>
                  <a:pt x="483091" y="0"/>
                </a:cubicBezTo>
                <a:lnTo>
                  <a:pt x="1126282" y="0"/>
                </a:lnTo>
                <a:lnTo>
                  <a:pt x="1126282" y="966181"/>
                </a:lnTo>
                <a:lnTo>
                  <a:pt x="483091" y="966181"/>
                </a:lnTo>
                <a:cubicBezTo>
                  <a:pt x="216287" y="966181"/>
                  <a:pt x="0" y="749894"/>
                  <a:pt x="0" y="483091"/>
                </a:cubicBezTo>
                <a:close/>
                <a:moveTo>
                  <a:pt x="0" y="483091"/>
                </a:moveTo>
                <a:lnTo>
                  <a:pt x="0" y="483090"/>
                </a:lnTo>
                <a:close/>
              </a:path>
            </a:pathLst>
          </a:cu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7" name="圆角矩形 10"/>
          <p:cNvSpPr/>
          <p:nvPr/>
        </p:nvSpPr>
        <p:spPr>
          <a:xfrm rot="5400000">
            <a:off x="6516000" y="2831040"/>
            <a:ext cx="1126080" cy="965880"/>
          </a:xfrm>
          <a:custGeom>
            <a:avLst/>
            <a:gdLst>
              <a:gd name="textAreaLeft" fmla="*/ 0 w 1126080"/>
              <a:gd name="textAreaRight" fmla="*/ 1126440 w 1126080"/>
              <a:gd name="textAreaTop" fmla="*/ 0 h 965880"/>
              <a:gd name="textAreaBottom" fmla="*/ 966240 h 965880"/>
            </a:gdLst>
            <a:ahLst/>
            <a:rect l="textAreaLeft" t="textAreaTop" r="textAreaRight" b="textAreaBottom"/>
            <a:pathLst>
              <a:path w="1126283" h="966181">
                <a:moveTo>
                  <a:pt x="0" y="483091"/>
                </a:moveTo>
                <a:cubicBezTo>
                  <a:pt x="0" y="216287"/>
                  <a:pt x="216287" y="0"/>
                  <a:pt x="483091" y="0"/>
                </a:cubicBezTo>
                <a:lnTo>
                  <a:pt x="1126283" y="0"/>
                </a:lnTo>
                <a:lnTo>
                  <a:pt x="1126283" y="966181"/>
                </a:lnTo>
                <a:lnTo>
                  <a:pt x="483091" y="966181"/>
                </a:lnTo>
                <a:cubicBezTo>
                  <a:pt x="216287" y="966181"/>
                  <a:pt x="0" y="749894"/>
                  <a:pt x="0" y="483091"/>
                </a:cubicBezTo>
                <a:close/>
                <a:moveTo>
                  <a:pt x="0" y="483091"/>
                </a:moveTo>
                <a:lnTo>
                  <a:pt x="0" y="483090"/>
                </a:lnTo>
                <a:close/>
              </a:path>
            </a:pathLst>
          </a:custGeom>
          <a:solidFill>
            <a:srgbClr val="ffffff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8" name="矩形 37"/>
          <p:cNvSpPr/>
          <p:nvPr/>
        </p:nvSpPr>
        <p:spPr>
          <a:xfrm>
            <a:off x="4516920" y="3192840"/>
            <a:ext cx="146160" cy="2466360"/>
          </a:xfrm>
          <a:prstGeom prst="rect">
            <a:avLst/>
          </a:prstGeom>
          <a:solidFill>
            <a:srgbClr val="f6862a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19" name="圆角矩形 14"/>
          <p:cNvSpPr/>
          <p:nvPr/>
        </p:nvSpPr>
        <p:spPr>
          <a:xfrm>
            <a:off x="3259080" y="4912920"/>
            <a:ext cx="1438200" cy="1684080"/>
          </a:xfrm>
          <a:custGeom>
            <a:avLst/>
            <a:gdLst>
              <a:gd name="textAreaLeft" fmla="*/ 0 w 1438200"/>
              <a:gd name="textAreaRight" fmla="*/ 1438560 w 1438200"/>
              <a:gd name="textAreaTop" fmla="*/ 0 h 1684080"/>
              <a:gd name="textAreaBottom" fmla="*/ 1684440 h 1684080"/>
            </a:gdLst>
            <a:ahLst/>
            <a:rect l="textAreaLeft" t="textAreaTop" r="textAreaRight" b="textAreaBottom"/>
            <a:pathLst>
              <a:path w="1248189" h="1677576">
                <a:moveTo>
                  <a:pt x="1051306" y="0"/>
                </a:moveTo>
                <a:lnTo>
                  <a:pt x="1248189" y="0"/>
                </a:lnTo>
                <a:lnTo>
                  <a:pt x="1248189" y="1029504"/>
                </a:lnTo>
                <a:cubicBezTo>
                  <a:pt x="1248189" y="1387424"/>
                  <a:pt x="958037" y="1677576"/>
                  <a:pt x="600117" y="1677576"/>
                </a:cubicBezTo>
                <a:cubicBezTo>
                  <a:pt x="328138" y="1677576"/>
                  <a:pt x="95290" y="1510034"/>
                  <a:pt x="0" y="1272183"/>
                </a:cubicBezTo>
                <a:lnTo>
                  <a:pt x="257989" y="1272183"/>
                </a:lnTo>
                <a:cubicBezTo>
                  <a:pt x="339728" y="1368146"/>
                  <a:pt x="461708" y="1427944"/>
                  <a:pt x="597655" y="1427944"/>
                </a:cubicBezTo>
                <a:lnTo>
                  <a:pt x="597654" y="1427945"/>
                </a:lnTo>
                <a:cubicBezTo>
                  <a:pt x="848199" y="1427945"/>
                  <a:pt x="1051305" y="1224839"/>
                  <a:pt x="1051305" y="974294"/>
                </a:cubicBezTo>
                <a:close/>
              </a:path>
            </a:pathLst>
          </a:custGeom>
          <a:solidFill>
            <a:srgbClr val="984807"/>
          </a:solidFill>
          <a:ln w="2540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20" name="椭圆 20"/>
          <p:cNvSpPr/>
          <p:nvPr/>
        </p:nvSpPr>
        <p:spPr>
          <a:xfrm>
            <a:off x="1803960" y="2928240"/>
            <a:ext cx="565920" cy="563760"/>
          </a:xfrm>
          <a:custGeom>
            <a:avLst/>
            <a:gdLst>
              <a:gd name="textAreaLeft" fmla="*/ 0 w 565920"/>
              <a:gd name="textAreaRight" fmla="*/ 566280 w 5659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721662" h="718977">
                <a:moveTo>
                  <a:pt x="656822" y="405153"/>
                </a:moveTo>
                <a:lnTo>
                  <a:pt x="717053" y="405153"/>
                </a:lnTo>
                <a:cubicBezTo>
                  <a:pt x="697425" y="572524"/>
                  <a:pt x="561903" y="704007"/>
                  <a:pt x="392694" y="717303"/>
                </a:cubicBezTo>
                <a:lnTo>
                  <a:pt x="392694" y="657123"/>
                </a:lnTo>
                <a:cubicBezTo>
                  <a:pt x="528616" y="643984"/>
                  <a:pt x="637362" y="539185"/>
                  <a:pt x="656822" y="405153"/>
                </a:cubicBezTo>
                <a:close/>
                <a:moveTo>
                  <a:pt x="4609" y="405153"/>
                </a:moveTo>
                <a:lnTo>
                  <a:pt x="64840" y="405153"/>
                </a:lnTo>
                <a:cubicBezTo>
                  <a:pt x="85158" y="545087"/>
                  <a:pt x="202798" y="653158"/>
                  <a:pt x="346975" y="658768"/>
                </a:cubicBezTo>
                <a:lnTo>
                  <a:pt x="346975" y="718977"/>
                </a:lnTo>
                <a:cubicBezTo>
                  <a:pt x="169515" y="713284"/>
                  <a:pt x="24933" y="578458"/>
                  <a:pt x="4609" y="405153"/>
                </a:cubicBezTo>
                <a:close/>
                <a:moveTo>
                  <a:pt x="392694" y="1815"/>
                </a:moveTo>
                <a:cubicBezTo>
                  <a:pt x="577134" y="16210"/>
                  <a:pt x="721662" y="170944"/>
                  <a:pt x="721662" y="359434"/>
                </a:cubicBezTo>
                <a:lnTo>
                  <a:pt x="661431" y="359434"/>
                </a:lnTo>
                <a:cubicBezTo>
                  <a:pt x="661431" y="204235"/>
                  <a:pt x="543816" y="76506"/>
                  <a:pt x="392694" y="62046"/>
                </a:cubicBezTo>
                <a:close/>
                <a:moveTo>
                  <a:pt x="346975" y="0"/>
                </a:moveTo>
                <a:lnTo>
                  <a:pt x="346975" y="60231"/>
                </a:lnTo>
                <a:cubicBezTo>
                  <a:pt x="187364" y="66415"/>
                  <a:pt x="60231" y="198078"/>
                  <a:pt x="60231" y="359434"/>
                </a:cubicBezTo>
                <a:lnTo>
                  <a:pt x="0" y="359434"/>
                </a:lnTo>
                <a:cubicBezTo>
                  <a:pt x="0" y="164807"/>
                  <a:pt x="154092" y="6170"/>
                  <a:pt x="346975" y="0"/>
                </a:cubicBezTo>
                <a:close/>
              </a:path>
            </a:pathLst>
          </a:custGeom>
          <a:solidFill>
            <a:srgbClr val="984807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21" name="TextBox 40"/>
          <p:cNvSpPr/>
          <p:nvPr/>
        </p:nvSpPr>
        <p:spPr>
          <a:xfrm>
            <a:off x="6818760" y="2774880"/>
            <a:ext cx="7592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Bell MT"/>
                <a:ea typeface="微软雅黑"/>
              </a:rPr>
              <a:t>0</a:t>
            </a:r>
            <a:r>
              <a:rPr b="1" lang="en-US" sz="3200" spc="-1" strike="noStrike">
                <a:solidFill>
                  <a:srgbClr val="404040"/>
                </a:solidFill>
                <a:latin typeface="Bell MT"/>
                <a:ea typeface="微软雅黑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1"/>
          <p:cNvSpPr/>
          <p:nvPr/>
        </p:nvSpPr>
        <p:spPr>
          <a:xfrm>
            <a:off x="1815480" y="2774880"/>
            <a:ext cx="7592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Bell MT"/>
                <a:ea typeface="微软雅黑"/>
              </a:rPr>
              <a:t>0</a:t>
            </a:r>
            <a:r>
              <a:rPr b="1" lang="en-US" sz="3200" spc="-1" strike="noStrike">
                <a:solidFill>
                  <a:srgbClr val="404040"/>
                </a:solidFill>
                <a:latin typeface="Bell MT"/>
                <a:ea typeface="微软雅黑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2"/>
          <p:cNvSpPr/>
          <p:nvPr/>
        </p:nvSpPr>
        <p:spPr>
          <a:xfrm>
            <a:off x="2783520" y="2774880"/>
            <a:ext cx="7592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Bell MT"/>
                <a:ea typeface="微软雅黑"/>
              </a:rPr>
              <a:t>0</a:t>
            </a:r>
            <a:r>
              <a:rPr b="1" lang="en-US" sz="3200" spc="-1" strike="noStrike">
                <a:solidFill>
                  <a:srgbClr val="404040"/>
                </a:solidFill>
                <a:latin typeface="Bell MT"/>
                <a:ea typeface="微软雅黑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43"/>
          <p:cNvSpPr/>
          <p:nvPr/>
        </p:nvSpPr>
        <p:spPr>
          <a:xfrm>
            <a:off x="3764520" y="2774880"/>
            <a:ext cx="7592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Bell MT"/>
                <a:ea typeface="微软雅黑"/>
              </a:rPr>
              <a:t>0</a:t>
            </a:r>
            <a:r>
              <a:rPr b="1" lang="en-US" sz="3200" spc="-1" strike="noStrike">
                <a:solidFill>
                  <a:srgbClr val="404040"/>
                </a:solidFill>
                <a:latin typeface="Bell MT"/>
                <a:ea typeface="微软雅黑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44"/>
          <p:cNvSpPr/>
          <p:nvPr/>
        </p:nvSpPr>
        <p:spPr>
          <a:xfrm>
            <a:off x="4866120" y="2774880"/>
            <a:ext cx="7592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Bell MT"/>
                <a:ea typeface="微软雅黑"/>
              </a:rPr>
              <a:t>0</a:t>
            </a:r>
            <a:r>
              <a:rPr b="1" lang="en-US" sz="3200" spc="-1" strike="noStrike">
                <a:solidFill>
                  <a:srgbClr val="404040"/>
                </a:solidFill>
                <a:latin typeface="Bell MT"/>
                <a:ea typeface="微软雅黑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45"/>
          <p:cNvSpPr/>
          <p:nvPr/>
        </p:nvSpPr>
        <p:spPr>
          <a:xfrm>
            <a:off x="5857200" y="2774880"/>
            <a:ext cx="75924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Bell MT"/>
                <a:ea typeface="微软雅黑"/>
              </a:rPr>
              <a:t>0</a:t>
            </a:r>
            <a:r>
              <a:rPr b="1" lang="en-US" sz="3200" spc="-1" strike="noStrike">
                <a:solidFill>
                  <a:srgbClr val="404040"/>
                </a:solidFill>
                <a:latin typeface="Bell MT"/>
                <a:ea typeface="微软雅黑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46"/>
          <p:cNvSpPr/>
          <p:nvPr/>
        </p:nvSpPr>
        <p:spPr>
          <a:xfrm>
            <a:off x="2771640" y="1012320"/>
            <a:ext cx="380196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ell MT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47"/>
          <p:cNvSpPr/>
          <p:nvPr/>
        </p:nvSpPr>
        <p:spPr>
          <a:xfrm>
            <a:off x="3276000" y="1789200"/>
            <a:ext cx="272448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/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要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48"/>
          <p:cNvSpPr/>
          <p:nvPr/>
        </p:nvSpPr>
        <p:spPr>
          <a:xfrm>
            <a:off x="1849680" y="3595680"/>
            <a:ext cx="46116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4c45"/>
                </a:solidFill>
                <a:latin typeface="微软雅黑"/>
                <a:ea typeface="微软雅黑"/>
              </a:rPr>
              <a:t>您的内容写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49"/>
          <p:cNvSpPr/>
          <p:nvPr/>
        </p:nvSpPr>
        <p:spPr>
          <a:xfrm>
            <a:off x="2822040" y="3595680"/>
            <a:ext cx="46116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4c45"/>
                </a:solidFill>
                <a:latin typeface="微软雅黑"/>
                <a:ea typeface="微软雅黑"/>
              </a:rPr>
              <a:t>您的内容写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Box 50"/>
          <p:cNvSpPr/>
          <p:nvPr/>
        </p:nvSpPr>
        <p:spPr>
          <a:xfrm>
            <a:off x="3794760" y="3595680"/>
            <a:ext cx="46116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4c45"/>
                </a:solidFill>
                <a:latin typeface="微软雅黑"/>
                <a:ea typeface="微软雅黑"/>
              </a:rPr>
              <a:t>您的内容写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Box 51"/>
          <p:cNvSpPr/>
          <p:nvPr/>
        </p:nvSpPr>
        <p:spPr>
          <a:xfrm>
            <a:off x="4916520" y="3595680"/>
            <a:ext cx="46116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4c45"/>
                </a:solidFill>
                <a:latin typeface="微软雅黑"/>
                <a:ea typeface="微软雅黑"/>
              </a:rPr>
              <a:t>您的内容写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52"/>
          <p:cNvSpPr/>
          <p:nvPr/>
        </p:nvSpPr>
        <p:spPr>
          <a:xfrm>
            <a:off x="5889240" y="3595680"/>
            <a:ext cx="46116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4c45"/>
                </a:solidFill>
                <a:latin typeface="微软雅黑"/>
                <a:ea typeface="微软雅黑"/>
              </a:rPr>
              <a:t>您的内容写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53"/>
          <p:cNvSpPr/>
          <p:nvPr/>
        </p:nvSpPr>
        <p:spPr>
          <a:xfrm>
            <a:off x="6861600" y="3595680"/>
            <a:ext cx="461160" cy="19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594c45"/>
                </a:solidFill>
                <a:latin typeface="微软雅黑"/>
                <a:ea typeface="微软雅黑"/>
              </a:rPr>
              <a:t>您的内容写在这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20"/>
          <p:cNvSpPr/>
          <p:nvPr/>
        </p:nvSpPr>
        <p:spPr>
          <a:xfrm>
            <a:off x="2784600" y="2910960"/>
            <a:ext cx="565920" cy="563760"/>
          </a:xfrm>
          <a:custGeom>
            <a:avLst/>
            <a:gdLst>
              <a:gd name="textAreaLeft" fmla="*/ 0 w 565920"/>
              <a:gd name="textAreaRight" fmla="*/ 566280 w 5659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721662" h="718977">
                <a:moveTo>
                  <a:pt x="656822" y="405153"/>
                </a:moveTo>
                <a:lnTo>
                  <a:pt x="717053" y="405153"/>
                </a:lnTo>
                <a:cubicBezTo>
                  <a:pt x="697425" y="572524"/>
                  <a:pt x="561903" y="704007"/>
                  <a:pt x="392694" y="717303"/>
                </a:cubicBezTo>
                <a:lnTo>
                  <a:pt x="392694" y="657123"/>
                </a:lnTo>
                <a:cubicBezTo>
                  <a:pt x="528616" y="643984"/>
                  <a:pt x="637362" y="539185"/>
                  <a:pt x="656822" y="405153"/>
                </a:cubicBezTo>
                <a:close/>
                <a:moveTo>
                  <a:pt x="4609" y="405153"/>
                </a:moveTo>
                <a:lnTo>
                  <a:pt x="64840" y="405153"/>
                </a:lnTo>
                <a:cubicBezTo>
                  <a:pt x="85158" y="545087"/>
                  <a:pt x="202798" y="653158"/>
                  <a:pt x="346975" y="658768"/>
                </a:cubicBezTo>
                <a:lnTo>
                  <a:pt x="346975" y="718977"/>
                </a:lnTo>
                <a:cubicBezTo>
                  <a:pt x="169515" y="713284"/>
                  <a:pt x="24933" y="578458"/>
                  <a:pt x="4609" y="405153"/>
                </a:cubicBezTo>
                <a:close/>
                <a:moveTo>
                  <a:pt x="392694" y="1815"/>
                </a:moveTo>
                <a:cubicBezTo>
                  <a:pt x="577134" y="16210"/>
                  <a:pt x="721662" y="170944"/>
                  <a:pt x="721662" y="359434"/>
                </a:cubicBezTo>
                <a:lnTo>
                  <a:pt x="661431" y="359434"/>
                </a:lnTo>
                <a:cubicBezTo>
                  <a:pt x="661431" y="204235"/>
                  <a:pt x="543816" y="76506"/>
                  <a:pt x="392694" y="62046"/>
                </a:cubicBezTo>
                <a:close/>
                <a:moveTo>
                  <a:pt x="346975" y="0"/>
                </a:moveTo>
                <a:lnTo>
                  <a:pt x="346975" y="60231"/>
                </a:lnTo>
                <a:cubicBezTo>
                  <a:pt x="187364" y="66415"/>
                  <a:pt x="60231" y="198078"/>
                  <a:pt x="60231" y="359434"/>
                </a:cubicBezTo>
                <a:lnTo>
                  <a:pt x="0" y="359434"/>
                </a:lnTo>
                <a:cubicBezTo>
                  <a:pt x="0" y="164807"/>
                  <a:pt x="154092" y="6170"/>
                  <a:pt x="346975" y="0"/>
                </a:cubicBezTo>
                <a:close/>
              </a:path>
            </a:pathLst>
          </a:custGeom>
          <a:solidFill>
            <a:srgbClr val="984807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36" name="椭圆 20"/>
          <p:cNvSpPr/>
          <p:nvPr/>
        </p:nvSpPr>
        <p:spPr>
          <a:xfrm>
            <a:off x="3765240" y="2893680"/>
            <a:ext cx="565920" cy="563760"/>
          </a:xfrm>
          <a:custGeom>
            <a:avLst/>
            <a:gdLst>
              <a:gd name="textAreaLeft" fmla="*/ 0 w 565920"/>
              <a:gd name="textAreaRight" fmla="*/ 566280 w 5659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721662" h="718977">
                <a:moveTo>
                  <a:pt x="656822" y="405153"/>
                </a:moveTo>
                <a:lnTo>
                  <a:pt x="717053" y="405153"/>
                </a:lnTo>
                <a:cubicBezTo>
                  <a:pt x="697425" y="572524"/>
                  <a:pt x="561903" y="704007"/>
                  <a:pt x="392694" y="717303"/>
                </a:cubicBezTo>
                <a:lnTo>
                  <a:pt x="392694" y="657123"/>
                </a:lnTo>
                <a:cubicBezTo>
                  <a:pt x="528616" y="643984"/>
                  <a:pt x="637362" y="539185"/>
                  <a:pt x="656822" y="405153"/>
                </a:cubicBezTo>
                <a:close/>
                <a:moveTo>
                  <a:pt x="4609" y="405153"/>
                </a:moveTo>
                <a:lnTo>
                  <a:pt x="64840" y="405153"/>
                </a:lnTo>
                <a:cubicBezTo>
                  <a:pt x="85158" y="545087"/>
                  <a:pt x="202798" y="653158"/>
                  <a:pt x="346975" y="658768"/>
                </a:cubicBezTo>
                <a:lnTo>
                  <a:pt x="346975" y="718977"/>
                </a:lnTo>
                <a:cubicBezTo>
                  <a:pt x="169515" y="713284"/>
                  <a:pt x="24933" y="578458"/>
                  <a:pt x="4609" y="405153"/>
                </a:cubicBezTo>
                <a:close/>
                <a:moveTo>
                  <a:pt x="392694" y="1815"/>
                </a:moveTo>
                <a:cubicBezTo>
                  <a:pt x="577134" y="16210"/>
                  <a:pt x="721662" y="170944"/>
                  <a:pt x="721662" y="359434"/>
                </a:cubicBezTo>
                <a:lnTo>
                  <a:pt x="661431" y="359434"/>
                </a:lnTo>
                <a:cubicBezTo>
                  <a:pt x="661431" y="204235"/>
                  <a:pt x="543816" y="76506"/>
                  <a:pt x="392694" y="62046"/>
                </a:cubicBezTo>
                <a:close/>
                <a:moveTo>
                  <a:pt x="346975" y="0"/>
                </a:moveTo>
                <a:lnTo>
                  <a:pt x="346975" y="60231"/>
                </a:lnTo>
                <a:cubicBezTo>
                  <a:pt x="187364" y="66415"/>
                  <a:pt x="60231" y="198078"/>
                  <a:pt x="60231" y="359434"/>
                </a:cubicBezTo>
                <a:lnTo>
                  <a:pt x="0" y="359434"/>
                </a:lnTo>
                <a:cubicBezTo>
                  <a:pt x="0" y="164807"/>
                  <a:pt x="154092" y="6170"/>
                  <a:pt x="346975" y="0"/>
                </a:cubicBezTo>
                <a:close/>
              </a:path>
            </a:pathLst>
          </a:custGeom>
          <a:solidFill>
            <a:srgbClr val="984807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37" name="椭圆 20"/>
          <p:cNvSpPr/>
          <p:nvPr/>
        </p:nvSpPr>
        <p:spPr>
          <a:xfrm>
            <a:off x="4863600" y="2928240"/>
            <a:ext cx="565920" cy="563760"/>
          </a:xfrm>
          <a:custGeom>
            <a:avLst/>
            <a:gdLst>
              <a:gd name="textAreaLeft" fmla="*/ 0 w 565920"/>
              <a:gd name="textAreaRight" fmla="*/ 566280 w 5659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721662" h="718977">
                <a:moveTo>
                  <a:pt x="656822" y="405153"/>
                </a:moveTo>
                <a:lnTo>
                  <a:pt x="717053" y="405153"/>
                </a:lnTo>
                <a:cubicBezTo>
                  <a:pt x="697425" y="572524"/>
                  <a:pt x="561903" y="704007"/>
                  <a:pt x="392694" y="717303"/>
                </a:cubicBezTo>
                <a:lnTo>
                  <a:pt x="392694" y="657123"/>
                </a:lnTo>
                <a:cubicBezTo>
                  <a:pt x="528616" y="643984"/>
                  <a:pt x="637362" y="539185"/>
                  <a:pt x="656822" y="405153"/>
                </a:cubicBezTo>
                <a:close/>
                <a:moveTo>
                  <a:pt x="4609" y="405153"/>
                </a:moveTo>
                <a:lnTo>
                  <a:pt x="64840" y="405153"/>
                </a:lnTo>
                <a:cubicBezTo>
                  <a:pt x="85158" y="545087"/>
                  <a:pt x="202798" y="653158"/>
                  <a:pt x="346975" y="658768"/>
                </a:cubicBezTo>
                <a:lnTo>
                  <a:pt x="346975" y="718977"/>
                </a:lnTo>
                <a:cubicBezTo>
                  <a:pt x="169515" y="713284"/>
                  <a:pt x="24933" y="578458"/>
                  <a:pt x="4609" y="405153"/>
                </a:cubicBezTo>
                <a:close/>
                <a:moveTo>
                  <a:pt x="392694" y="1815"/>
                </a:moveTo>
                <a:cubicBezTo>
                  <a:pt x="577134" y="16210"/>
                  <a:pt x="721662" y="170944"/>
                  <a:pt x="721662" y="359434"/>
                </a:cubicBezTo>
                <a:lnTo>
                  <a:pt x="661431" y="359434"/>
                </a:lnTo>
                <a:cubicBezTo>
                  <a:pt x="661431" y="204235"/>
                  <a:pt x="543816" y="76506"/>
                  <a:pt x="392694" y="62046"/>
                </a:cubicBezTo>
                <a:close/>
                <a:moveTo>
                  <a:pt x="346975" y="0"/>
                </a:moveTo>
                <a:lnTo>
                  <a:pt x="346975" y="60231"/>
                </a:lnTo>
                <a:cubicBezTo>
                  <a:pt x="187364" y="66415"/>
                  <a:pt x="60231" y="198078"/>
                  <a:pt x="60231" y="359434"/>
                </a:cubicBezTo>
                <a:lnTo>
                  <a:pt x="0" y="359434"/>
                </a:lnTo>
                <a:cubicBezTo>
                  <a:pt x="0" y="164807"/>
                  <a:pt x="154092" y="6170"/>
                  <a:pt x="346975" y="0"/>
                </a:cubicBezTo>
                <a:close/>
              </a:path>
            </a:pathLst>
          </a:custGeom>
          <a:solidFill>
            <a:srgbClr val="984807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38" name="椭圆 20"/>
          <p:cNvSpPr/>
          <p:nvPr/>
        </p:nvSpPr>
        <p:spPr>
          <a:xfrm>
            <a:off x="5844240" y="2910960"/>
            <a:ext cx="565920" cy="563760"/>
          </a:xfrm>
          <a:custGeom>
            <a:avLst/>
            <a:gdLst>
              <a:gd name="textAreaLeft" fmla="*/ 0 w 565920"/>
              <a:gd name="textAreaRight" fmla="*/ 566280 w 5659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721662" h="718977">
                <a:moveTo>
                  <a:pt x="656822" y="405153"/>
                </a:moveTo>
                <a:lnTo>
                  <a:pt x="717053" y="405153"/>
                </a:lnTo>
                <a:cubicBezTo>
                  <a:pt x="697425" y="572524"/>
                  <a:pt x="561903" y="704007"/>
                  <a:pt x="392694" y="717303"/>
                </a:cubicBezTo>
                <a:lnTo>
                  <a:pt x="392694" y="657123"/>
                </a:lnTo>
                <a:cubicBezTo>
                  <a:pt x="528616" y="643984"/>
                  <a:pt x="637362" y="539185"/>
                  <a:pt x="656822" y="405153"/>
                </a:cubicBezTo>
                <a:close/>
                <a:moveTo>
                  <a:pt x="4609" y="405153"/>
                </a:moveTo>
                <a:lnTo>
                  <a:pt x="64840" y="405153"/>
                </a:lnTo>
                <a:cubicBezTo>
                  <a:pt x="85158" y="545087"/>
                  <a:pt x="202798" y="653158"/>
                  <a:pt x="346975" y="658768"/>
                </a:cubicBezTo>
                <a:lnTo>
                  <a:pt x="346975" y="718977"/>
                </a:lnTo>
                <a:cubicBezTo>
                  <a:pt x="169515" y="713284"/>
                  <a:pt x="24933" y="578458"/>
                  <a:pt x="4609" y="405153"/>
                </a:cubicBezTo>
                <a:close/>
                <a:moveTo>
                  <a:pt x="392694" y="1815"/>
                </a:moveTo>
                <a:cubicBezTo>
                  <a:pt x="577134" y="16210"/>
                  <a:pt x="721662" y="170944"/>
                  <a:pt x="721662" y="359434"/>
                </a:cubicBezTo>
                <a:lnTo>
                  <a:pt x="661431" y="359434"/>
                </a:lnTo>
                <a:cubicBezTo>
                  <a:pt x="661431" y="204235"/>
                  <a:pt x="543816" y="76506"/>
                  <a:pt x="392694" y="62046"/>
                </a:cubicBezTo>
                <a:close/>
                <a:moveTo>
                  <a:pt x="346975" y="0"/>
                </a:moveTo>
                <a:lnTo>
                  <a:pt x="346975" y="60231"/>
                </a:lnTo>
                <a:cubicBezTo>
                  <a:pt x="187364" y="66415"/>
                  <a:pt x="60231" y="198078"/>
                  <a:pt x="60231" y="359434"/>
                </a:cubicBezTo>
                <a:lnTo>
                  <a:pt x="0" y="359434"/>
                </a:lnTo>
                <a:cubicBezTo>
                  <a:pt x="0" y="164807"/>
                  <a:pt x="154092" y="6170"/>
                  <a:pt x="346975" y="0"/>
                </a:cubicBezTo>
                <a:close/>
              </a:path>
            </a:pathLst>
          </a:custGeom>
          <a:solidFill>
            <a:srgbClr val="984807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639" name="椭圆 20"/>
          <p:cNvSpPr/>
          <p:nvPr/>
        </p:nvSpPr>
        <p:spPr>
          <a:xfrm>
            <a:off x="6824880" y="2893680"/>
            <a:ext cx="565920" cy="563760"/>
          </a:xfrm>
          <a:custGeom>
            <a:avLst/>
            <a:gdLst>
              <a:gd name="textAreaLeft" fmla="*/ 0 w 565920"/>
              <a:gd name="textAreaRight" fmla="*/ 566280 w 565920"/>
              <a:gd name="textAreaTop" fmla="*/ 0 h 563760"/>
              <a:gd name="textAreaBottom" fmla="*/ 564120 h 563760"/>
            </a:gdLst>
            <a:ahLst/>
            <a:rect l="textAreaLeft" t="textAreaTop" r="textAreaRight" b="textAreaBottom"/>
            <a:pathLst>
              <a:path w="721662" h="718977">
                <a:moveTo>
                  <a:pt x="656822" y="405153"/>
                </a:moveTo>
                <a:lnTo>
                  <a:pt x="717053" y="405153"/>
                </a:lnTo>
                <a:cubicBezTo>
                  <a:pt x="697425" y="572524"/>
                  <a:pt x="561903" y="704007"/>
                  <a:pt x="392694" y="717303"/>
                </a:cubicBezTo>
                <a:lnTo>
                  <a:pt x="392694" y="657123"/>
                </a:lnTo>
                <a:cubicBezTo>
                  <a:pt x="528616" y="643984"/>
                  <a:pt x="637362" y="539185"/>
                  <a:pt x="656822" y="405153"/>
                </a:cubicBezTo>
                <a:close/>
                <a:moveTo>
                  <a:pt x="4609" y="405153"/>
                </a:moveTo>
                <a:lnTo>
                  <a:pt x="64840" y="405153"/>
                </a:lnTo>
                <a:cubicBezTo>
                  <a:pt x="85158" y="545087"/>
                  <a:pt x="202798" y="653158"/>
                  <a:pt x="346975" y="658768"/>
                </a:cubicBezTo>
                <a:lnTo>
                  <a:pt x="346975" y="718977"/>
                </a:lnTo>
                <a:cubicBezTo>
                  <a:pt x="169515" y="713284"/>
                  <a:pt x="24933" y="578458"/>
                  <a:pt x="4609" y="405153"/>
                </a:cubicBezTo>
                <a:close/>
                <a:moveTo>
                  <a:pt x="392694" y="1815"/>
                </a:moveTo>
                <a:cubicBezTo>
                  <a:pt x="577134" y="16210"/>
                  <a:pt x="721662" y="170944"/>
                  <a:pt x="721662" y="359434"/>
                </a:cubicBezTo>
                <a:lnTo>
                  <a:pt x="661431" y="359434"/>
                </a:lnTo>
                <a:cubicBezTo>
                  <a:pt x="661431" y="204235"/>
                  <a:pt x="543816" y="76506"/>
                  <a:pt x="392694" y="62046"/>
                </a:cubicBezTo>
                <a:close/>
                <a:moveTo>
                  <a:pt x="346975" y="0"/>
                </a:moveTo>
                <a:lnTo>
                  <a:pt x="346975" y="60231"/>
                </a:lnTo>
                <a:cubicBezTo>
                  <a:pt x="187364" y="66415"/>
                  <a:pt x="60231" y="198078"/>
                  <a:pt x="60231" y="359434"/>
                </a:cubicBezTo>
                <a:lnTo>
                  <a:pt x="0" y="359434"/>
                </a:lnTo>
                <a:cubicBezTo>
                  <a:pt x="0" y="164807"/>
                  <a:pt x="154092" y="6170"/>
                  <a:pt x="346975" y="0"/>
                </a:cubicBezTo>
                <a:close/>
              </a:path>
            </a:pathLst>
          </a:custGeom>
          <a:solidFill>
            <a:srgbClr val="984807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椭圆 1"/>
          <p:cNvSpPr/>
          <p:nvPr/>
        </p:nvSpPr>
        <p:spPr>
          <a:xfrm rot="19476000">
            <a:off x="5887440" y="-1244160"/>
            <a:ext cx="4600440" cy="7740360"/>
          </a:xfrm>
          <a:custGeom>
            <a:avLst/>
            <a:gdLst>
              <a:gd name="textAreaLeft" fmla="*/ 0 w 4600440"/>
              <a:gd name="textAreaRight" fmla="*/ 4600800 w 4600440"/>
              <a:gd name="textAreaTop" fmla="*/ 0 h 7740360"/>
              <a:gd name="textAreaBottom" fmla="*/ 7740720 h 7740360"/>
            </a:gdLst>
            <a:ahLst/>
            <a:rect l="textAreaLeft" t="textAreaTop" r="textAreaRight" b="textAreaBottom"/>
            <a:pathLst>
              <a:path w="4600890" h="7740824">
                <a:moveTo>
                  <a:pt x="1387697" y="0"/>
                </a:moveTo>
                <a:lnTo>
                  <a:pt x="4600890" y="2284718"/>
                </a:lnTo>
                <a:lnTo>
                  <a:pt x="721366" y="7740824"/>
                </a:lnTo>
                <a:cubicBezTo>
                  <a:pt x="275417" y="6867612"/>
                  <a:pt x="0" y="5664562"/>
                  <a:pt x="0" y="4336311"/>
                </a:cubicBezTo>
                <a:cubicBezTo>
                  <a:pt x="0" y="2433092"/>
                  <a:pt x="565468" y="786927"/>
                  <a:pt x="1387697" y="0"/>
                </a:cubicBezTo>
                <a:close/>
              </a:path>
            </a:pathLst>
          </a:custGeom>
          <a:solidFill>
            <a:srgbClr val="31859c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1" name="椭圆 1"/>
          <p:cNvSpPr/>
          <p:nvPr/>
        </p:nvSpPr>
        <p:spPr>
          <a:xfrm flipH="1" rot="2124000">
            <a:off x="-1356840" y="-1244160"/>
            <a:ext cx="4600440" cy="7740000"/>
          </a:xfrm>
          <a:custGeom>
            <a:avLst/>
            <a:gdLst>
              <a:gd name="textAreaLeft" fmla="*/ -360 w 4600440"/>
              <a:gd name="textAreaRight" fmla="*/ 4600440 w 4600440"/>
              <a:gd name="textAreaTop" fmla="*/ 0 h 7740000"/>
              <a:gd name="textAreaBottom" fmla="*/ 7740360 h 7740000"/>
            </a:gdLst>
            <a:ahLst/>
            <a:rect l="textAreaLeft" t="textAreaTop" r="textAreaRight" b="textAreaBottom"/>
            <a:pathLst>
              <a:path w="4600890" h="7740824">
                <a:moveTo>
                  <a:pt x="1387697" y="0"/>
                </a:moveTo>
                <a:lnTo>
                  <a:pt x="4600890" y="2284718"/>
                </a:lnTo>
                <a:lnTo>
                  <a:pt x="721366" y="7740824"/>
                </a:lnTo>
                <a:cubicBezTo>
                  <a:pt x="275417" y="6867612"/>
                  <a:pt x="0" y="5664562"/>
                  <a:pt x="0" y="4336311"/>
                </a:cubicBezTo>
                <a:cubicBezTo>
                  <a:pt x="0" y="2433092"/>
                  <a:pt x="565468" y="786927"/>
                  <a:pt x="1387697" y="0"/>
                </a:cubicBezTo>
                <a:close/>
              </a:path>
            </a:pathLst>
          </a:custGeom>
          <a:solidFill>
            <a:srgbClr val="31859c"/>
          </a:solidFill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642" name="组合 42"/>
          <p:cNvGrpSpPr/>
          <p:nvPr/>
        </p:nvGrpSpPr>
        <p:grpSpPr>
          <a:xfrm>
            <a:off x="1548000" y="4522320"/>
            <a:ext cx="543960" cy="490320"/>
            <a:chOff x="1548000" y="4522320"/>
            <a:chExt cx="543960" cy="490320"/>
          </a:xfrm>
        </p:grpSpPr>
        <p:sp>
          <p:nvSpPr>
            <p:cNvPr id="643" name="燕尾形 43"/>
            <p:cNvSpPr/>
            <p:nvPr/>
          </p:nvSpPr>
          <p:spPr>
            <a:xfrm rot="2149800">
              <a:off x="1597680" y="4572000"/>
              <a:ext cx="251640" cy="2516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燕尾形 44"/>
            <p:cNvSpPr/>
            <p:nvPr/>
          </p:nvSpPr>
          <p:spPr>
            <a:xfrm rot="2149800">
              <a:off x="1790280" y="4710960"/>
              <a:ext cx="251640" cy="2516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5" name="组合 45"/>
          <p:cNvGrpSpPr/>
          <p:nvPr/>
        </p:nvGrpSpPr>
        <p:grpSpPr>
          <a:xfrm>
            <a:off x="2171880" y="3887640"/>
            <a:ext cx="449280" cy="405000"/>
            <a:chOff x="2171880" y="3887640"/>
            <a:chExt cx="449280" cy="405000"/>
          </a:xfrm>
        </p:grpSpPr>
        <p:sp>
          <p:nvSpPr>
            <p:cNvPr id="646" name="燕尾形 46"/>
            <p:cNvSpPr/>
            <p:nvPr/>
          </p:nvSpPr>
          <p:spPr>
            <a:xfrm rot="2149800">
              <a:off x="2212920" y="3928680"/>
              <a:ext cx="207720" cy="207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燕尾形 47"/>
            <p:cNvSpPr/>
            <p:nvPr/>
          </p:nvSpPr>
          <p:spPr>
            <a:xfrm rot="2149800">
              <a:off x="2372040" y="4043520"/>
              <a:ext cx="207720" cy="207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组合 48"/>
          <p:cNvGrpSpPr/>
          <p:nvPr/>
        </p:nvGrpSpPr>
        <p:grpSpPr>
          <a:xfrm>
            <a:off x="2634840" y="3219120"/>
            <a:ext cx="368280" cy="331920"/>
            <a:chOff x="2634840" y="3219120"/>
            <a:chExt cx="368280" cy="331920"/>
          </a:xfrm>
        </p:grpSpPr>
        <p:sp>
          <p:nvSpPr>
            <p:cNvPr id="649" name="燕尾形 49"/>
            <p:cNvSpPr/>
            <p:nvPr/>
          </p:nvSpPr>
          <p:spPr>
            <a:xfrm rot="2149800">
              <a:off x="2668320" y="3252600"/>
              <a:ext cx="170280" cy="17028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燕尾形 50"/>
            <p:cNvSpPr/>
            <p:nvPr/>
          </p:nvSpPr>
          <p:spPr>
            <a:xfrm rot="2149800">
              <a:off x="2799000" y="3346920"/>
              <a:ext cx="170280" cy="17028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1" name="组合 51"/>
          <p:cNvGrpSpPr/>
          <p:nvPr/>
        </p:nvGrpSpPr>
        <p:grpSpPr>
          <a:xfrm>
            <a:off x="3003480" y="2637000"/>
            <a:ext cx="294120" cy="264600"/>
            <a:chOff x="3003480" y="2637000"/>
            <a:chExt cx="294120" cy="264600"/>
          </a:xfrm>
        </p:grpSpPr>
        <p:sp>
          <p:nvSpPr>
            <p:cNvPr id="652" name="燕尾形 52"/>
            <p:cNvSpPr/>
            <p:nvPr/>
          </p:nvSpPr>
          <p:spPr>
            <a:xfrm rot="2149800">
              <a:off x="3030120" y="2663640"/>
              <a:ext cx="135720" cy="135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燕尾形 53"/>
            <p:cNvSpPr/>
            <p:nvPr/>
          </p:nvSpPr>
          <p:spPr>
            <a:xfrm rot="2149800">
              <a:off x="3134520" y="2738880"/>
              <a:ext cx="135720" cy="135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组合 54"/>
          <p:cNvGrpSpPr/>
          <p:nvPr/>
        </p:nvGrpSpPr>
        <p:grpSpPr>
          <a:xfrm>
            <a:off x="3316680" y="2138040"/>
            <a:ext cx="209520" cy="189000"/>
            <a:chOff x="3316680" y="2138040"/>
            <a:chExt cx="209520" cy="189000"/>
          </a:xfrm>
        </p:grpSpPr>
        <p:sp>
          <p:nvSpPr>
            <p:cNvPr id="655" name="燕尾形 55"/>
            <p:cNvSpPr/>
            <p:nvPr/>
          </p:nvSpPr>
          <p:spPr>
            <a:xfrm rot="2149800">
              <a:off x="3335400" y="2157120"/>
              <a:ext cx="96840" cy="968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燕尾形 56"/>
            <p:cNvSpPr/>
            <p:nvPr/>
          </p:nvSpPr>
          <p:spPr>
            <a:xfrm rot="2149800">
              <a:off x="3409920" y="2210760"/>
              <a:ext cx="96840" cy="968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7" name="组合 57"/>
          <p:cNvGrpSpPr/>
          <p:nvPr/>
        </p:nvGrpSpPr>
        <p:grpSpPr>
          <a:xfrm>
            <a:off x="7052040" y="4594680"/>
            <a:ext cx="543960" cy="490680"/>
            <a:chOff x="7052040" y="4594680"/>
            <a:chExt cx="543960" cy="490680"/>
          </a:xfrm>
        </p:grpSpPr>
        <p:sp>
          <p:nvSpPr>
            <p:cNvPr id="658" name="燕尾形 58"/>
            <p:cNvSpPr/>
            <p:nvPr/>
          </p:nvSpPr>
          <p:spPr>
            <a:xfrm flipV="1" rot="8649600">
              <a:off x="7294320" y="4644360"/>
              <a:ext cx="251640" cy="2516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燕尾形 59"/>
            <p:cNvSpPr/>
            <p:nvPr/>
          </p:nvSpPr>
          <p:spPr>
            <a:xfrm flipV="1" rot="8649600">
              <a:off x="7101720" y="4783680"/>
              <a:ext cx="251640" cy="2516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0" name="组合 60"/>
          <p:cNvGrpSpPr/>
          <p:nvPr/>
        </p:nvGrpSpPr>
        <p:grpSpPr>
          <a:xfrm>
            <a:off x="6594840" y="3989520"/>
            <a:ext cx="449280" cy="405360"/>
            <a:chOff x="6594840" y="3989520"/>
            <a:chExt cx="449280" cy="405360"/>
          </a:xfrm>
        </p:grpSpPr>
        <p:sp>
          <p:nvSpPr>
            <p:cNvPr id="661" name="燕尾形 61"/>
            <p:cNvSpPr/>
            <p:nvPr/>
          </p:nvSpPr>
          <p:spPr>
            <a:xfrm flipV="1" rot="8649600">
              <a:off x="6795000" y="4030560"/>
              <a:ext cx="207720" cy="207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燕尾形 62"/>
            <p:cNvSpPr/>
            <p:nvPr/>
          </p:nvSpPr>
          <p:spPr>
            <a:xfrm flipV="1" rot="8649600">
              <a:off x="6635880" y="4145760"/>
              <a:ext cx="207720" cy="207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3" name="组合 63"/>
          <p:cNvGrpSpPr/>
          <p:nvPr/>
        </p:nvGrpSpPr>
        <p:grpSpPr>
          <a:xfrm>
            <a:off x="6194160" y="3427920"/>
            <a:ext cx="367920" cy="331560"/>
            <a:chOff x="6194160" y="3427920"/>
            <a:chExt cx="367920" cy="331560"/>
          </a:xfrm>
        </p:grpSpPr>
        <p:sp>
          <p:nvSpPr>
            <p:cNvPr id="664" name="燕尾形 64"/>
            <p:cNvSpPr/>
            <p:nvPr/>
          </p:nvSpPr>
          <p:spPr>
            <a:xfrm flipV="1" rot="8649600">
              <a:off x="6357960" y="3461040"/>
              <a:ext cx="170280" cy="1699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燕尾形 65"/>
            <p:cNvSpPr/>
            <p:nvPr/>
          </p:nvSpPr>
          <p:spPr>
            <a:xfrm flipV="1" rot="8649600">
              <a:off x="6227640" y="3555360"/>
              <a:ext cx="170280" cy="1699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6" name="组合 66"/>
          <p:cNvGrpSpPr/>
          <p:nvPr/>
        </p:nvGrpSpPr>
        <p:grpSpPr>
          <a:xfrm>
            <a:off x="5810400" y="2732760"/>
            <a:ext cx="293400" cy="264960"/>
            <a:chOff x="5810400" y="2732760"/>
            <a:chExt cx="293400" cy="264960"/>
          </a:xfrm>
        </p:grpSpPr>
        <p:sp>
          <p:nvSpPr>
            <p:cNvPr id="667" name="燕尾形 67"/>
            <p:cNvSpPr/>
            <p:nvPr/>
          </p:nvSpPr>
          <p:spPr>
            <a:xfrm flipV="1" rot="8649600">
              <a:off x="5941440" y="2759400"/>
              <a:ext cx="135720" cy="135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燕尾形 68"/>
            <p:cNvSpPr/>
            <p:nvPr/>
          </p:nvSpPr>
          <p:spPr>
            <a:xfrm flipV="1" rot="8649600">
              <a:off x="5837400" y="2834640"/>
              <a:ext cx="135720" cy="13572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9" name="组合 69"/>
          <p:cNvGrpSpPr/>
          <p:nvPr/>
        </p:nvGrpSpPr>
        <p:grpSpPr>
          <a:xfrm>
            <a:off x="5600160" y="2133360"/>
            <a:ext cx="209520" cy="189000"/>
            <a:chOff x="5600160" y="2133360"/>
            <a:chExt cx="209520" cy="189000"/>
          </a:xfrm>
        </p:grpSpPr>
        <p:sp>
          <p:nvSpPr>
            <p:cNvPr id="670" name="燕尾形 70"/>
            <p:cNvSpPr/>
            <p:nvPr/>
          </p:nvSpPr>
          <p:spPr>
            <a:xfrm flipV="1" rot="8649600">
              <a:off x="5693400" y="2151720"/>
              <a:ext cx="96840" cy="968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燕尾形 71"/>
            <p:cNvSpPr/>
            <p:nvPr/>
          </p:nvSpPr>
          <p:spPr>
            <a:xfrm flipV="1" rot="8649600">
              <a:off x="5618880" y="2205720"/>
              <a:ext cx="96840" cy="96840"/>
            </a:xfrm>
            <a:prstGeom prst="chevron">
              <a:avLst>
                <a:gd name="adj" fmla="val 50000"/>
              </a:avLst>
            </a:prstGeom>
            <a:solidFill>
              <a:srgbClr val="ffffff"/>
            </a:solidFill>
            <a:ln w="2540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horzOverflow="overflow" vertOverflow="overflow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2" name="TextBox 72"/>
          <p:cNvSpPr/>
          <p:nvPr/>
        </p:nvSpPr>
        <p:spPr>
          <a:xfrm>
            <a:off x="3636000" y="2133000"/>
            <a:ext cx="1899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1600" spc="-1" strike="noStrike">
                <a:solidFill>
                  <a:srgbClr val="595959"/>
                </a:solidFill>
                <a:latin typeface="Calibri"/>
                <a:ea typeface="微软雅黑"/>
              </a:rPr>
              <a:t>您的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73"/>
          <p:cNvSpPr/>
          <p:nvPr/>
        </p:nvSpPr>
        <p:spPr>
          <a:xfrm>
            <a:off x="3596040" y="2765520"/>
            <a:ext cx="18993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您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74"/>
          <p:cNvSpPr/>
          <p:nvPr/>
        </p:nvSpPr>
        <p:spPr>
          <a:xfrm>
            <a:off x="3258720" y="3357000"/>
            <a:ext cx="251712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2000" spc="-1" strike="noStrike">
                <a:solidFill>
                  <a:srgbClr val="595959"/>
                </a:solidFill>
                <a:latin typeface="Calibri"/>
                <a:ea typeface="微软雅黑"/>
              </a:rPr>
              <a:t>您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75"/>
          <p:cNvSpPr/>
          <p:nvPr/>
        </p:nvSpPr>
        <p:spPr>
          <a:xfrm>
            <a:off x="3003480" y="3974040"/>
            <a:ext cx="300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2400" spc="-1" strike="noStrike">
                <a:solidFill>
                  <a:srgbClr val="595959"/>
                </a:solidFill>
                <a:latin typeface="Calibri"/>
                <a:ea typeface="微软雅黑"/>
              </a:rPr>
              <a:t>您的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76"/>
          <p:cNvSpPr/>
          <p:nvPr/>
        </p:nvSpPr>
        <p:spPr>
          <a:xfrm>
            <a:off x="3257280" y="4604040"/>
            <a:ext cx="251712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3200" spc="-1" strike="noStrike">
                <a:solidFill>
                  <a:srgbClr val="595959"/>
                </a:solidFill>
                <a:latin typeface="Calibri"/>
                <a:ea typeface="微软雅黑"/>
              </a:rPr>
              <a:t>您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77"/>
          <p:cNvSpPr/>
          <p:nvPr/>
        </p:nvSpPr>
        <p:spPr>
          <a:xfrm>
            <a:off x="2139480" y="5837400"/>
            <a:ext cx="5262840" cy="13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en-US" sz="6600" spc="-1" strike="noStrike">
                <a:solidFill>
                  <a:srgbClr val="e0e0e0"/>
                </a:solidFill>
                <a:latin typeface="Bell MT"/>
                <a:ea typeface="微软雅黑"/>
              </a:rPr>
              <a:t>CONTENT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78"/>
          <p:cNvSpPr/>
          <p:nvPr/>
        </p:nvSpPr>
        <p:spPr>
          <a:xfrm rot="21579600">
            <a:off x="3149280" y="5922360"/>
            <a:ext cx="3181680" cy="7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1" lang="zh-CN" sz="3200" spc="-1" strike="noStrike">
                <a:solidFill>
                  <a:srgbClr val="215968"/>
                </a:solidFill>
                <a:latin typeface="Calibri"/>
                <a:ea typeface="微软雅黑"/>
              </a:rPr>
              <a:t>目录</a:t>
            </a:r>
            <a:r>
              <a:rPr b="1" lang="en-US" sz="3200" spc="-1" strike="noStrike">
                <a:solidFill>
                  <a:srgbClr val="215968"/>
                </a:solidFill>
                <a:latin typeface="Calibri"/>
                <a:ea typeface="微软雅黑"/>
              </a:rPr>
              <a:t>/</a:t>
            </a:r>
            <a:r>
              <a:rPr b="1" lang="zh-CN" sz="3200" spc="-1" strike="noStrike">
                <a:solidFill>
                  <a:srgbClr val="215968"/>
                </a:solidFill>
                <a:latin typeface="Calibri"/>
                <a:ea typeface="微软雅黑"/>
              </a:rPr>
              <a:t>主要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Group 8"/>
          <p:cNvGrpSpPr/>
          <p:nvPr/>
        </p:nvGrpSpPr>
        <p:grpSpPr>
          <a:xfrm>
            <a:off x="3710160" y="1698840"/>
            <a:ext cx="2425320" cy="3163680"/>
            <a:chOff x="3710160" y="1698840"/>
            <a:chExt cx="2425320" cy="3163680"/>
          </a:xfrm>
        </p:grpSpPr>
        <p:sp>
          <p:nvSpPr>
            <p:cNvPr id="177" name="Freeform 44"/>
            <p:cNvSpPr/>
            <p:nvPr/>
          </p:nvSpPr>
          <p:spPr>
            <a:xfrm>
              <a:off x="3751560" y="1732320"/>
              <a:ext cx="2342880" cy="460080"/>
            </a:xfrm>
            <a:custGeom>
              <a:avLst/>
              <a:gdLst>
                <a:gd name="textAreaLeft" fmla="*/ 0 w 2342880"/>
                <a:gd name="textAreaRight" fmla="*/ 2343240 w 23428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1492" h="296">
                  <a:moveTo>
                    <a:pt x="1492" y="77"/>
                  </a:moveTo>
                  <a:lnTo>
                    <a:pt x="1276" y="0"/>
                  </a:lnTo>
                  <a:lnTo>
                    <a:pt x="0" y="180"/>
                  </a:lnTo>
                  <a:lnTo>
                    <a:pt x="129" y="296"/>
                  </a:lnTo>
                  <a:lnTo>
                    <a:pt x="1492" y="77"/>
                  </a:lnTo>
                  <a:close/>
                </a:path>
              </a:pathLst>
            </a:custGeom>
            <a:gradFill rotWithShape="0">
              <a:gsLst>
                <a:gs pos="7000">
                  <a:srgbClr val="f2f2f2"/>
                </a:gs>
                <a:gs pos="100000">
                  <a:srgbClr val="d9d9d9"/>
                </a:gs>
              </a:gsLst>
              <a:lin ang="1083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710160" y="1975320"/>
              <a:ext cx="498240" cy="28872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887200"/>
                <a:gd name="textAreaBottom" fmla="*/ 2887560 h 2887200"/>
              </a:gdLst>
              <a:ahLst/>
              <a:rect l="textAreaLeft" t="textAreaTop" r="textAreaRight" b="textAreaBottom"/>
              <a:pathLst>
                <a:path w="317" h="1856">
                  <a:moveTo>
                    <a:pt x="0" y="0"/>
                  </a:moveTo>
                  <a:lnTo>
                    <a:pt x="0" y="1722"/>
                  </a:lnTo>
                  <a:lnTo>
                    <a:pt x="3" y="1730"/>
                  </a:lnTo>
                  <a:lnTo>
                    <a:pt x="10" y="1748"/>
                  </a:lnTo>
                  <a:lnTo>
                    <a:pt x="26" y="1771"/>
                  </a:lnTo>
                  <a:lnTo>
                    <a:pt x="39" y="1786"/>
                  </a:lnTo>
                  <a:lnTo>
                    <a:pt x="54" y="1799"/>
                  </a:lnTo>
                  <a:lnTo>
                    <a:pt x="72" y="1812"/>
                  </a:lnTo>
                  <a:lnTo>
                    <a:pt x="93" y="1825"/>
                  </a:lnTo>
                  <a:lnTo>
                    <a:pt x="119" y="1835"/>
                  </a:lnTo>
                  <a:lnTo>
                    <a:pt x="149" y="1846"/>
                  </a:lnTo>
                  <a:lnTo>
                    <a:pt x="183" y="1851"/>
                  </a:lnTo>
                  <a:lnTo>
                    <a:pt x="224" y="1856"/>
                  </a:lnTo>
                  <a:lnTo>
                    <a:pt x="268" y="1853"/>
                  </a:lnTo>
                  <a:lnTo>
                    <a:pt x="317" y="1851"/>
                  </a:lnTo>
                  <a:lnTo>
                    <a:pt x="317" y="82"/>
                  </a:lnTo>
                  <a:lnTo>
                    <a:pt x="289" y="88"/>
                  </a:lnTo>
                  <a:lnTo>
                    <a:pt x="255" y="93"/>
                  </a:lnTo>
                  <a:lnTo>
                    <a:pt x="214" y="93"/>
                  </a:lnTo>
                  <a:lnTo>
                    <a:pt x="188" y="90"/>
                  </a:lnTo>
                  <a:lnTo>
                    <a:pt x="165" y="88"/>
                  </a:lnTo>
                  <a:lnTo>
                    <a:pt x="137" y="80"/>
                  </a:lnTo>
                  <a:lnTo>
                    <a:pt x="111" y="72"/>
                  </a:lnTo>
                  <a:lnTo>
                    <a:pt x="82" y="59"/>
                  </a:lnTo>
                  <a:lnTo>
                    <a:pt x="57" y="44"/>
                  </a:lnTo>
                  <a:lnTo>
                    <a:pt x="28" y="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404040"/>
                </a:gs>
              </a:gsLst>
              <a:lin ang="0"/>
            </a:gradFill>
            <a:ln w="9525"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4208760" y="1846440"/>
              <a:ext cx="1926720" cy="3007800"/>
            </a:xfrm>
            <a:custGeom>
              <a:avLst/>
              <a:gdLst>
                <a:gd name="textAreaLeft" fmla="*/ 0 w 1926720"/>
                <a:gd name="textAreaRight" fmla="*/ 1927080 w 1926720"/>
                <a:gd name="textAreaTop" fmla="*/ 0 h 3007800"/>
                <a:gd name="textAreaBottom" fmla="*/ 3008160 h 3007800"/>
              </a:gdLst>
              <a:ahLst/>
              <a:rect l="textAreaLeft" t="textAreaTop" r="textAreaRight" b="textAreaBottom"/>
              <a:pathLst>
                <a:path w="1227" h="1934">
                  <a:moveTo>
                    <a:pt x="0" y="165"/>
                  </a:moveTo>
                  <a:lnTo>
                    <a:pt x="1227" y="0"/>
                  </a:lnTo>
                  <a:lnTo>
                    <a:pt x="1227" y="1686"/>
                  </a:lnTo>
                  <a:lnTo>
                    <a:pt x="0" y="1934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d9d9d9"/>
                </a:gs>
              </a:gsLst>
              <a:lin ang="19200000"/>
            </a:gradFill>
            <a:ln w="9525">
              <a:solidFill>
                <a:srgbClr val="000000">
                  <a:lumMod val="85000"/>
                  <a:lumOff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3710160" y="1698840"/>
              <a:ext cx="2045880" cy="312480"/>
            </a:xfrm>
            <a:custGeom>
              <a:avLst/>
              <a:gdLst>
                <a:gd name="textAreaLeft" fmla="*/ 0 w 2045880"/>
                <a:gd name="textAreaRight" fmla="*/ 2046240 w 2045880"/>
                <a:gd name="textAreaTop" fmla="*/ 0 h 312480"/>
                <a:gd name="textAreaBottom" fmla="*/ 312840 h 312480"/>
              </a:gdLst>
              <a:ahLst/>
              <a:rect l="textAreaLeft" t="textAreaTop" r="textAreaRight" b="textAreaBottom"/>
              <a:pathLst>
                <a:path w="1302" h="201">
                  <a:moveTo>
                    <a:pt x="0" y="178"/>
                  </a:moveTo>
                  <a:lnTo>
                    <a:pt x="1302" y="0"/>
                  </a:lnTo>
                  <a:lnTo>
                    <a:pt x="1302" y="21"/>
                  </a:lnTo>
                  <a:lnTo>
                    <a:pt x="26" y="201"/>
                  </a:lnTo>
                  <a:lnTo>
                    <a:pt x="0" y="178"/>
                  </a:lnTo>
                  <a:close/>
                </a:path>
              </a:pathLst>
            </a:custGeom>
            <a:gradFill rotWithShape="0">
              <a:gsLst>
                <a:gs pos="0">
                  <a:srgbClr val="404040"/>
                </a:gs>
                <a:gs pos="100000">
                  <a:srgbClr val="bfbfbf"/>
                </a:gs>
              </a:gsLst>
              <a:lin ang="0"/>
            </a:gradFill>
            <a:ln w="9525"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pic>
          <p:nvPicPr>
            <p:cNvPr id="181" name="Picture 13" descr=""/>
            <p:cNvPicPr/>
            <p:nvPr/>
          </p:nvPicPr>
          <p:blipFill>
            <a:blip r:embed="rId1"/>
            <a:stretch/>
          </p:blipFill>
          <p:spPr>
            <a:xfrm>
              <a:off x="5738400" y="1711440"/>
              <a:ext cx="35640" cy="3528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82" name="Group 8"/>
          <p:cNvGrpSpPr/>
          <p:nvPr/>
        </p:nvGrpSpPr>
        <p:grpSpPr>
          <a:xfrm>
            <a:off x="4059360" y="1840320"/>
            <a:ext cx="2509560" cy="3271320"/>
            <a:chOff x="4059360" y="1840320"/>
            <a:chExt cx="2509560" cy="3271320"/>
          </a:xfrm>
        </p:grpSpPr>
        <p:sp>
          <p:nvSpPr>
            <p:cNvPr id="183" name="Freeform 9"/>
            <p:cNvSpPr/>
            <p:nvPr/>
          </p:nvSpPr>
          <p:spPr>
            <a:xfrm>
              <a:off x="4102200" y="1873440"/>
              <a:ext cx="2423880" cy="475920"/>
            </a:xfrm>
            <a:custGeom>
              <a:avLst/>
              <a:gdLst>
                <a:gd name="textAreaLeft" fmla="*/ 0 w 2423880"/>
                <a:gd name="textAreaRight" fmla="*/ 2424240 w 2423880"/>
                <a:gd name="textAreaTop" fmla="*/ 0 h 475920"/>
                <a:gd name="textAreaBottom" fmla="*/ 476280 h 475920"/>
              </a:gdLst>
              <a:ahLst/>
              <a:rect l="textAreaLeft" t="textAreaTop" r="textAreaRight" b="textAreaBottom"/>
              <a:pathLst>
                <a:path w="1492" h="296">
                  <a:moveTo>
                    <a:pt x="1492" y="77"/>
                  </a:moveTo>
                  <a:lnTo>
                    <a:pt x="1276" y="0"/>
                  </a:lnTo>
                  <a:lnTo>
                    <a:pt x="0" y="180"/>
                  </a:lnTo>
                  <a:lnTo>
                    <a:pt x="129" y="296"/>
                  </a:lnTo>
                  <a:lnTo>
                    <a:pt x="1492" y="77"/>
                  </a:lnTo>
                  <a:close/>
                </a:path>
              </a:pathLst>
            </a:custGeom>
            <a:gradFill rotWithShape="0">
              <a:gsLst>
                <a:gs pos="7000">
                  <a:srgbClr val="f2f2f2"/>
                </a:gs>
                <a:gs pos="100000">
                  <a:srgbClr val="d9d9d9"/>
                </a:gs>
              </a:gsLst>
              <a:lin ang="1083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84" name="Freeform 10"/>
            <p:cNvSpPr/>
            <p:nvPr/>
          </p:nvSpPr>
          <p:spPr>
            <a:xfrm>
              <a:off x="4059360" y="2126520"/>
              <a:ext cx="514800" cy="2985120"/>
            </a:xfrm>
            <a:custGeom>
              <a:avLst/>
              <a:gdLst>
                <a:gd name="textAreaLeft" fmla="*/ 0 w 514800"/>
                <a:gd name="textAreaRight" fmla="*/ 515160 w 514800"/>
                <a:gd name="textAreaTop" fmla="*/ 0 h 2985120"/>
                <a:gd name="textAreaBottom" fmla="*/ 2985480 h 2985120"/>
              </a:gdLst>
              <a:ahLst/>
              <a:rect l="textAreaLeft" t="textAreaTop" r="textAreaRight" b="textAreaBottom"/>
              <a:pathLst>
                <a:path w="317" h="1856">
                  <a:moveTo>
                    <a:pt x="0" y="0"/>
                  </a:moveTo>
                  <a:lnTo>
                    <a:pt x="0" y="1722"/>
                  </a:lnTo>
                  <a:lnTo>
                    <a:pt x="3" y="1730"/>
                  </a:lnTo>
                  <a:lnTo>
                    <a:pt x="10" y="1748"/>
                  </a:lnTo>
                  <a:lnTo>
                    <a:pt x="26" y="1771"/>
                  </a:lnTo>
                  <a:lnTo>
                    <a:pt x="39" y="1786"/>
                  </a:lnTo>
                  <a:lnTo>
                    <a:pt x="54" y="1799"/>
                  </a:lnTo>
                  <a:lnTo>
                    <a:pt x="72" y="1812"/>
                  </a:lnTo>
                  <a:lnTo>
                    <a:pt x="93" y="1825"/>
                  </a:lnTo>
                  <a:lnTo>
                    <a:pt x="119" y="1835"/>
                  </a:lnTo>
                  <a:lnTo>
                    <a:pt x="149" y="1846"/>
                  </a:lnTo>
                  <a:lnTo>
                    <a:pt x="183" y="1851"/>
                  </a:lnTo>
                  <a:lnTo>
                    <a:pt x="224" y="1856"/>
                  </a:lnTo>
                  <a:lnTo>
                    <a:pt x="268" y="1853"/>
                  </a:lnTo>
                  <a:lnTo>
                    <a:pt x="317" y="1851"/>
                  </a:lnTo>
                  <a:lnTo>
                    <a:pt x="317" y="82"/>
                  </a:lnTo>
                  <a:lnTo>
                    <a:pt x="289" y="88"/>
                  </a:lnTo>
                  <a:lnTo>
                    <a:pt x="255" y="93"/>
                  </a:lnTo>
                  <a:lnTo>
                    <a:pt x="214" y="93"/>
                  </a:lnTo>
                  <a:lnTo>
                    <a:pt x="188" y="90"/>
                  </a:lnTo>
                  <a:lnTo>
                    <a:pt x="165" y="88"/>
                  </a:lnTo>
                  <a:lnTo>
                    <a:pt x="137" y="80"/>
                  </a:lnTo>
                  <a:lnTo>
                    <a:pt x="111" y="72"/>
                  </a:lnTo>
                  <a:lnTo>
                    <a:pt x="82" y="59"/>
                  </a:lnTo>
                  <a:lnTo>
                    <a:pt x="57" y="44"/>
                  </a:lnTo>
                  <a:lnTo>
                    <a:pt x="28" y="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7d729"/>
                </a:gs>
                <a:gs pos="100000">
                  <a:srgbClr val="2a6f0c"/>
                </a:gs>
              </a:gsLst>
              <a:lin ang="0"/>
            </a:gradFill>
            <a:ln w="9525">
              <a:solidFill>
                <a:srgbClr val="2a6f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185" name="Freeform 11"/>
            <p:cNvSpPr/>
            <p:nvPr/>
          </p:nvSpPr>
          <p:spPr>
            <a:xfrm>
              <a:off x="4574880" y="1992960"/>
              <a:ext cx="1994040" cy="3110760"/>
            </a:xfrm>
            <a:custGeom>
              <a:avLst/>
              <a:gdLst>
                <a:gd name="textAreaLeft" fmla="*/ 0 w 1994040"/>
                <a:gd name="textAreaRight" fmla="*/ 1994400 w 1994040"/>
                <a:gd name="textAreaTop" fmla="*/ 0 h 3110760"/>
                <a:gd name="textAreaBottom" fmla="*/ 3111120 h 3110760"/>
              </a:gdLst>
              <a:ahLst/>
              <a:rect l="textAreaLeft" t="textAreaTop" r="textAreaRight" b="textAreaBottom"/>
              <a:pathLst>
                <a:path w="1227" h="1934">
                  <a:moveTo>
                    <a:pt x="0" y="165"/>
                  </a:moveTo>
                  <a:lnTo>
                    <a:pt x="1227" y="0"/>
                  </a:lnTo>
                  <a:lnTo>
                    <a:pt x="1227" y="1686"/>
                  </a:lnTo>
                  <a:lnTo>
                    <a:pt x="0" y="1934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2a6f0c"/>
                </a:gs>
                <a:gs pos="100000">
                  <a:srgbClr val="77d729"/>
                </a:gs>
              </a:gsLst>
              <a:lin ang="19200000"/>
            </a:gradFill>
            <a:ln w="9525">
              <a:solidFill>
                <a:srgbClr val="2a6f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186" name="Freeform 12"/>
            <p:cNvSpPr/>
            <p:nvPr/>
          </p:nvSpPr>
          <p:spPr>
            <a:xfrm>
              <a:off x="4059360" y="1840320"/>
              <a:ext cx="2116080" cy="322920"/>
            </a:xfrm>
            <a:custGeom>
              <a:avLst/>
              <a:gdLst>
                <a:gd name="textAreaLeft" fmla="*/ 0 w 2116080"/>
                <a:gd name="textAreaRight" fmla="*/ 2116440 w 2116080"/>
                <a:gd name="textAreaTop" fmla="*/ 0 h 322920"/>
                <a:gd name="textAreaBottom" fmla="*/ 323280 h 322920"/>
              </a:gdLst>
              <a:ahLst/>
              <a:rect l="textAreaLeft" t="textAreaTop" r="textAreaRight" b="textAreaBottom"/>
              <a:pathLst>
                <a:path w="1302" h="201">
                  <a:moveTo>
                    <a:pt x="0" y="178"/>
                  </a:moveTo>
                  <a:lnTo>
                    <a:pt x="1302" y="0"/>
                  </a:lnTo>
                  <a:lnTo>
                    <a:pt x="1302" y="21"/>
                  </a:lnTo>
                  <a:lnTo>
                    <a:pt x="26" y="201"/>
                  </a:lnTo>
                  <a:lnTo>
                    <a:pt x="0" y="178"/>
                  </a:lnTo>
                  <a:close/>
                </a:path>
              </a:pathLst>
            </a:custGeom>
            <a:gradFill rotWithShape="0">
              <a:gsLst>
                <a:gs pos="0">
                  <a:srgbClr val="77d729"/>
                </a:gs>
                <a:gs pos="100000">
                  <a:srgbClr val="2a6f0c"/>
                </a:gs>
              </a:gsLst>
              <a:lin ang="0"/>
            </a:gradFill>
            <a:ln w="9525">
              <a:solidFill>
                <a:srgbClr val="2a6f0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pic>
          <p:nvPicPr>
            <p:cNvPr id="187" name="Picture 13" descr=""/>
            <p:cNvPicPr/>
            <p:nvPr/>
          </p:nvPicPr>
          <p:blipFill>
            <a:blip r:embed="rId2"/>
            <a:stretch/>
          </p:blipFill>
          <p:spPr>
            <a:xfrm>
              <a:off x="6158160" y="1853280"/>
              <a:ext cx="37080" cy="3672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88" name="Group 14"/>
          <p:cNvGrpSpPr/>
          <p:nvPr/>
        </p:nvGrpSpPr>
        <p:grpSpPr>
          <a:xfrm>
            <a:off x="4461120" y="1965600"/>
            <a:ext cx="2577600" cy="3360240"/>
            <a:chOff x="4461120" y="1965600"/>
            <a:chExt cx="2577600" cy="3360240"/>
          </a:xfrm>
        </p:grpSpPr>
        <p:sp>
          <p:nvSpPr>
            <p:cNvPr id="189" name="Freeform 9"/>
            <p:cNvSpPr/>
            <p:nvPr/>
          </p:nvSpPr>
          <p:spPr>
            <a:xfrm>
              <a:off x="4503960" y="2000520"/>
              <a:ext cx="2491920" cy="488520"/>
            </a:xfrm>
            <a:custGeom>
              <a:avLst/>
              <a:gdLst>
                <a:gd name="textAreaLeft" fmla="*/ 0 w 2491920"/>
                <a:gd name="textAreaRight" fmla="*/ 2492280 w 249192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2" h="296">
                  <a:moveTo>
                    <a:pt x="1492" y="77"/>
                  </a:moveTo>
                  <a:lnTo>
                    <a:pt x="1276" y="0"/>
                  </a:lnTo>
                  <a:lnTo>
                    <a:pt x="0" y="180"/>
                  </a:lnTo>
                  <a:lnTo>
                    <a:pt x="129" y="296"/>
                  </a:lnTo>
                  <a:lnTo>
                    <a:pt x="1492" y="77"/>
                  </a:lnTo>
                  <a:close/>
                </a:path>
              </a:pathLst>
            </a:custGeom>
            <a:gradFill rotWithShape="0">
              <a:gsLst>
                <a:gs pos="7000">
                  <a:srgbClr val="f2f2f2"/>
                </a:gs>
                <a:gs pos="100000">
                  <a:srgbClr val="d9d9d9"/>
                </a:gs>
              </a:gsLst>
              <a:lin ang="1083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90" name="Freeform 10"/>
            <p:cNvSpPr/>
            <p:nvPr/>
          </p:nvSpPr>
          <p:spPr>
            <a:xfrm>
              <a:off x="4461120" y="2259720"/>
              <a:ext cx="528840" cy="3066120"/>
            </a:xfrm>
            <a:custGeom>
              <a:avLst/>
              <a:gdLst>
                <a:gd name="textAreaLeft" fmla="*/ 0 w 528840"/>
                <a:gd name="textAreaRight" fmla="*/ 529200 w 528840"/>
                <a:gd name="textAreaTop" fmla="*/ 0 h 3066120"/>
                <a:gd name="textAreaBottom" fmla="*/ 3066480 h 3066120"/>
              </a:gdLst>
              <a:ahLst/>
              <a:rect l="textAreaLeft" t="textAreaTop" r="textAreaRight" b="textAreaBottom"/>
              <a:pathLst>
                <a:path w="317" h="1856">
                  <a:moveTo>
                    <a:pt x="0" y="0"/>
                  </a:moveTo>
                  <a:lnTo>
                    <a:pt x="0" y="1722"/>
                  </a:lnTo>
                  <a:lnTo>
                    <a:pt x="3" y="1730"/>
                  </a:lnTo>
                  <a:lnTo>
                    <a:pt x="10" y="1748"/>
                  </a:lnTo>
                  <a:lnTo>
                    <a:pt x="26" y="1771"/>
                  </a:lnTo>
                  <a:lnTo>
                    <a:pt x="39" y="1786"/>
                  </a:lnTo>
                  <a:lnTo>
                    <a:pt x="54" y="1799"/>
                  </a:lnTo>
                  <a:lnTo>
                    <a:pt x="72" y="1812"/>
                  </a:lnTo>
                  <a:lnTo>
                    <a:pt x="93" y="1825"/>
                  </a:lnTo>
                  <a:lnTo>
                    <a:pt x="119" y="1835"/>
                  </a:lnTo>
                  <a:lnTo>
                    <a:pt x="149" y="1846"/>
                  </a:lnTo>
                  <a:lnTo>
                    <a:pt x="183" y="1851"/>
                  </a:lnTo>
                  <a:lnTo>
                    <a:pt x="224" y="1856"/>
                  </a:lnTo>
                  <a:lnTo>
                    <a:pt x="268" y="1853"/>
                  </a:lnTo>
                  <a:lnTo>
                    <a:pt x="317" y="1851"/>
                  </a:lnTo>
                  <a:lnTo>
                    <a:pt x="317" y="82"/>
                  </a:lnTo>
                  <a:lnTo>
                    <a:pt x="289" y="88"/>
                  </a:lnTo>
                  <a:lnTo>
                    <a:pt x="255" y="93"/>
                  </a:lnTo>
                  <a:lnTo>
                    <a:pt x="214" y="93"/>
                  </a:lnTo>
                  <a:lnTo>
                    <a:pt x="188" y="90"/>
                  </a:lnTo>
                  <a:lnTo>
                    <a:pt x="165" y="88"/>
                  </a:lnTo>
                  <a:lnTo>
                    <a:pt x="137" y="80"/>
                  </a:lnTo>
                  <a:lnTo>
                    <a:pt x="111" y="72"/>
                  </a:lnTo>
                  <a:lnTo>
                    <a:pt x="82" y="59"/>
                  </a:lnTo>
                  <a:lnTo>
                    <a:pt x="57" y="44"/>
                  </a:lnTo>
                  <a:lnTo>
                    <a:pt x="28" y="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fc000"/>
                </a:gs>
              </a:gsLst>
              <a:lin ang="21540000"/>
            </a:gradFill>
            <a:ln w="9525">
              <a:solidFill>
                <a:srgbClr val="d09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191" name="Freeform 11"/>
            <p:cNvSpPr/>
            <p:nvPr/>
          </p:nvSpPr>
          <p:spPr>
            <a:xfrm>
              <a:off x="4990320" y="2122560"/>
              <a:ext cx="2048400" cy="3195000"/>
            </a:xfrm>
            <a:custGeom>
              <a:avLst/>
              <a:gdLst>
                <a:gd name="textAreaLeft" fmla="*/ 0 w 2048400"/>
                <a:gd name="textAreaRight" fmla="*/ 2048760 w 2048400"/>
                <a:gd name="textAreaTop" fmla="*/ 0 h 3195000"/>
                <a:gd name="textAreaBottom" fmla="*/ 3195360 h 3195000"/>
              </a:gdLst>
              <a:ahLst/>
              <a:rect l="textAreaLeft" t="textAreaTop" r="textAreaRight" b="textAreaBottom"/>
              <a:pathLst>
                <a:path w="1227" h="1934">
                  <a:moveTo>
                    <a:pt x="0" y="165"/>
                  </a:moveTo>
                  <a:lnTo>
                    <a:pt x="1227" y="0"/>
                  </a:lnTo>
                  <a:lnTo>
                    <a:pt x="1227" y="1686"/>
                  </a:lnTo>
                  <a:lnTo>
                    <a:pt x="0" y="1934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d09e00"/>
                </a:gs>
                <a:gs pos="100000">
                  <a:srgbClr val="ffff00"/>
                </a:gs>
              </a:gsLst>
              <a:lin ang="19200000"/>
            </a:gradFill>
            <a:ln w="9525">
              <a:solidFill>
                <a:srgbClr val="d09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192" name="Freeform 12"/>
            <p:cNvSpPr/>
            <p:nvPr/>
          </p:nvSpPr>
          <p:spPr>
            <a:xfrm>
              <a:off x="4461120" y="1965600"/>
              <a:ext cx="2173680" cy="331920"/>
            </a:xfrm>
            <a:custGeom>
              <a:avLst/>
              <a:gdLst>
                <a:gd name="textAreaLeft" fmla="*/ 0 w 2173680"/>
                <a:gd name="textAreaRight" fmla="*/ 2174040 w 21736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02" h="201">
                  <a:moveTo>
                    <a:pt x="0" y="178"/>
                  </a:moveTo>
                  <a:lnTo>
                    <a:pt x="1302" y="0"/>
                  </a:lnTo>
                  <a:lnTo>
                    <a:pt x="1302" y="21"/>
                  </a:lnTo>
                  <a:lnTo>
                    <a:pt x="26" y="201"/>
                  </a:lnTo>
                  <a:lnTo>
                    <a:pt x="0" y="178"/>
                  </a:lnTo>
                  <a:close/>
                </a:path>
              </a:pathLst>
            </a:custGeom>
            <a:gradFill rotWithShape="0">
              <a:gsLst>
                <a:gs pos="0">
                  <a:srgbClr val="d09e00"/>
                </a:gs>
                <a:gs pos="100000">
                  <a:srgbClr val="ffff00"/>
                </a:gs>
              </a:gsLst>
              <a:lin ang="19200000"/>
            </a:gradFill>
            <a:ln w="9525">
              <a:solidFill>
                <a:srgbClr val="d09e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pic>
          <p:nvPicPr>
            <p:cNvPr id="193" name="Picture 13" descr=""/>
            <p:cNvPicPr/>
            <p:nvPr/>
          </p:nvPicPr>
          <p:blipFill>
            <a:blip r:embed="rId3"/>
            <a:stretch/>
          </p:blipFill>
          <p:spPr>
            <a:xfrm>
              <a:off x="6616800" y="1978920"/>
              <a:ext cx="38160" cy="378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94" name="Group 14"/>
          <p:cNvGrpSpPr/>
          <p:nvPr/>
        </p:nvGrpSpPr>
        <p:grpSpPr>
          <a:xfrm>
            <a:off x="4946760" y="2080080"/>
            <a:ext cx="2693880" cy="3547440"/>
            <a:chOff x="4946760" y="2080080"/>
            <a:chExt cx="2693880" cy="3547440"/>
          </a:xfrm>
        </p:grpSpPr>
        <p:sp>
          <p:nvSpPr>
            <p:cNvPr id="195" name="Freeform 9"/>
            <p:cNvSpPr/>
            <p:nvPr/>
          </p:nvSpPr>
          <p:spPr>
            <a:xfrm>
              <a:off x="4992840" y="2116440"/>
              <a:ext cx="2601720" cy="515520"/>
            </a:xfrm>
            <a:custGeom>
              <a:avLst/>
              <a:gdLst>
                <a:gd name="textAreaLeft" fmla="*/ 0 w 2601720"/>
                <a:gd name="textAreaRight" fmla="*/ 2602080 w 260172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1492" h="296">
                  <a:moveTo>
                    <a:pt x="1492" y="77"/>
                  </a:moveTo>
                  <a:lnTo>
                    <a:pt x="1276" y="0"/>
                  </a:lnTo>
                  <a:lnTo>
                    <a:pt x="0" y="180"/>
                  </a:lnTo>
                  <a:lnTo>
                    <a:pt x="129" y="296"/>
                  </a:lnTo>
                  <a:lnTo>
                    <a:pt x="1492" y="77"/>
                  </a:lnTo>
                  <a:close/>
                </a:path>
              </a:pathLst>
            </a:custGeom>
            <a:gradFill rotWithShape="0">
              <a:gsLst>
                <a:gs pos="7000">
                  <a:srgbClr val="f2f2f2"/>
                </a:gs>
                <a:gs pos="100000">
                  <a:srgbClr val="d9d9d9"/>
                </a:gs>
              </a:gsLst>
              <a:lin ang="1083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946760" y="2390400"/>
              <a:ext cx="552600" cy="3237120"/>
            </a:xfrm>
            <a:custGeom>
              <a:avLst/>
              <a:gdLst>
                <a:gd name="textAreaLeft" fmla="*/ 0 w 552600"/>
                <a:gd name="textAreaRight" fmla="*/ 552960 w 552600"/>
                <a:gd name="textAreaTop" fmla="*/ 0 h 3237120"/>
                <a:gd name="textAreaBottom" fmla="*/ 3237480 h 3237120"/>
              </a:gdLst>
              <a:ahLst/>
              <a:rect l="textAreaLeft" t="textAreaTop" r="textAreaRight" b="textAreaBottom"/>
              <a:pathLst>
                <a:path w="317" h="1856">
                  <a:moveTo>
                    <a:pt x="0" y="0"/>
                  </a:moveTo>
                  <a:lnTo>
                    <a:pt x="0" y="1722"/>
                  </a:lnTo>
                  <a:lnTo>
                    <a:pt x="3" y="1730"/>
                  </a:lnTo>
                  <a:lnTo>
                    <a:pt x="10" y="1748"/>
                  </a:lnTo>
                  <a:lnTo>
                    <a:pt x="26" y="1771"/>
                  </a:lnTo>
                  <a:lnTo>
                    <a:pt x="39" y="1786"/>
                  </a:lnTo>
                  <a:lnTo>
                    <a:pt x="54" y="1799"/>
                  </a:lnTo>
                  <a:lnTo>
                    <a:pt x="72" y="1812"/>
                  </a:lnTo>
                  <a:lnTo>
                    <a:pt x="93" y="1825"/>
                  </a:lnTo>
                  <a:lnTo>
                    <a:pt x="119" y="1835"/>
                  </a:lnTo>
                  <a:lnTo>
                    <a:pt x="149" y="1846"/>
                  </a:lnTo>
                  <a:lnTo>
                    <a:pt x="183" y="1851"/>
                  </a:lnTo>
                  <a:lnTo>
                    <a:pt x="224" y="1856"/>
                  </a:lnTo>
                  <a:lnTo>
                    <a:pt x="268" y="1853"/>
                  </a:lnTo>
                  <a:lnTo>
                    <a:pt x="317" y="1851"/>
                  </a:lnTo>
                  <a:lnTo>
                    <a:pt x="317" y="82"/>
                  </a:lnTo>
                  <a:lnTo>
                    <a:pt x="289" y="88"/>
                  </a:lnTo>
                  <a:lnTo>
                    <a:pt x="255" y="93"/>
                  </a:lnTo>
                  <a:lnTo>
                    <a:pt x="214" y="93"/>
                  </a:lnTo>
                  <a:lnTo>
                    <a:pt x="188" y="90"/>
                  </a:lnTo>
                  <a:lnTo>
                    <a:pt x="165" y="88"/>
                  </a:lnTo>
                  <a:lnTo>
                    <a:pt x="137" y="80"/>
                  </a:lnTo>
                  <a:lnTo>
                    <a:pt x="111" y="72"/>
                  </a:lnTo>
                  <a:lnTo>
                    <a:pt x="82" y="59"/>
                  </a:lnTo>
                  <a:lnTo>
                    <a:pt x="57" y="44"/>
                  </a:lnTo>
                  <a:lnTo>
                    <a:pt x="28" y="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f0e8"/>
                </a:gs>
                <a:gs pos="100000">
                  <a:srgbClr val="006d68"/>
                </a:gs>
              </a:gsLst>
              <a:lin ang="21540000"/>
            </a:gradFill>
            <a:ln w="9525">
              <a:solidFill>
                <a:srgbClr val="006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5500080" y="2245680"/>
              <a:ext cx="2140560" cy="3373200"/>
            </a:xfrm>
            <a:custGeom>
              <a:avLst/>
              <a:gdLst>
                <a:gd name="textAreaLeft" fmla="*/ 0 w 2140560"/>
                <a:gd name="textAreaRight" fmla="*/ 2140920 w 2140560"/>
                <a:gd name="textAreaTop" fmla="*/ 0 h 3373200"/>
                <a:gd name="textAreaBottom" fmla="*/ 3373560 h 3373200"/>
              </a:gdLst>
              <a:ahLst/>
              <a:rect l="textAreaLeft" t="textAreaTop" r="textAreaRight" b="textAreaBottom"/>
              <a:pathLst>
                <a:path w="1227" h="1934">
                  <a:moveTo>
                    <a:pt x="0" y="165"/>
                  </a:moveTo>
                  <a:lnTo>
                    <a:pt x="1227" y="0"/>
                  </a:lnTo>
                  <a:lnTo>
                    <a:pt x="1227" y="1686"/>
                  </a:lnTo>
                  <a:lnTo>
                    <a:pt x="0" y="1934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006d68"/>
                </a:gs>
                <a:gs pos="100000">
                  <a:srgbClr val="00f0e8"/>
                </a:gs>
              </a:gsLst>
              <a:lin ang="19200000"/>
            </a:gradFill>
            <a:ln w="9525">
              <a:solidFill>
                <a:srgbClr val="006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946760" y="2080080"/>
              <a:ext cx="2271240" cy="350280"/>
            </a:xfrm>
            <a:custGeom>
              <a:avLst/>
              <a:gdLst>
                <a:gd name="textAreaLeft" fmla="*/ 0 w 2271240"/>
                <a:gd name="textAreaRight" fmla="*/ 2271600 w 22712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302" h="201">
                  <a:moveTo>
                    <a:pt x="0" y="178"/>
                  </a:moveTo>
                  <a:lnTo>
                    <a:pt x="1302" y="0"/>
                  </a:lnTo>
                  <a:lnTo>
                    <a:pt x="1302" y="21"/>
                  </a:lnTo>
                  <a:lnTo>
                    <a:pt x="26" y="201"/>
                  </a:lnTo>
                  <a:lnTo>
                    <a:pt x="0" y="178"/>
                  </a:lnTo>
                  <a:close/>
                </a:path>
              </a:pathLst>
            </a:custGeom>
            <a:gradFill rotWithShape="0">
              <a:gsLst>
                <a:gs pos="0">
                  <a:srgbClr val="006d68"/>
                </a:gs>
                <a:gs pos="100000">
                  <a:srgbClr val="00f0e8"/>
                </a:gs>
              </a:gsLst>
              <a:lin ang="19200000"/>
            </a:gradFill>
            <a:ln w="9525">
              <a:solidFill>
                <a:srgbClr val="006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pic>
          <p:nvPicPr>
            <p:cNvPr id="199" name="Picture 13" descr=""/>
            <p:cNvPicPr/>
            <p:nvPr/>
          </p:nvPicPr>
          <p:blipFill>
            <a:blip r:embed="rId4"/>
            <a:stretch/>
          </p:blipFill>
          <p:spPr>
            <a:xfrm>
              <a:off x="7199280" y="2093760"/>
              <a:ext cx="39600" cy="3960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00" name="Group 14"/>
          <p:cNvGrpSpPr/>
          <p:nvPr/>
        </p:nvGrpSpPr>
        <p:grpSpPr>
          <a:xfrm>
            <a:off x="5426280" y="2232360"/>
            <a:ext cx="2803320" cy="3692160"/>
            <a:chOff x="5426280" y="2232360"/>
            <a:chExt cx="2803320" cy="3692160"/>
          </a:xfrm>
        </p:grpSpPr>
        <p:sp>
          <p:nvSpPr>
            <p:cNvPr id="201" name="Freeform 9"/>
            <p:cNvSpPr/>
            <p:nvPr/>
          </p:nvSpPr>
          <p:spPr>
            <a:xfrm>
              <a:off x="5473800" y="2270520"/>
              <a:ext cx="2707920" cy="537840"/>
            </a:xfrm>
            <a:custGeom>
              <a:avLst/>
              <a:gdLst>
                <a:gd name="textAreaLeft" fmla="*/ 0 w 2707920"/>
                <a:gd name="textAreaRight" fmla="*/ 2708280 w 2707920"/>
                <a:gd name="textAreaTop" fmla="*/ 0 h 537840"/>
                <a:gd name="textAreaBottom" fmla="*/ 538200 h 537840"/>
              </a:gdLst>
              <a:ahLst/>
              <a:rect l="textAreaLeft" t="textAreaTop" r="textAreaRight" b="textAreaBottom"/>
              <a:pathLst>
                <a:path w="1492" h="296">
                  <a:moveTo>
                    <a:pt x="1492" y="77"/>
                  </a:moveTo>
                  <a:lnTo>
                    <a:pt x="1276" y="0"/>
                  </a:lnTo>
                  <a:lnTo>
                    <a:pt x="0" y="180"/>
                  </a:lnTo>
                  <a:lnTo>
                    <a:pt x="129" y="296"/>
                  </a:lnTo>
                  <a:lnTo>
                    <a:pt x="1492" y="77"/>
                  </a:lnTo>
                  <a:close/>
                </a:path>
              </a:pathLst>
            </a:custGeom>
            <a:gradFill rotWithShape="0">
              <a:gsLst>
                <a:gs pos="7000">
                  <a:srgbClr val="f2f2f2"/>
                </a:gs>
                <a:gs pos="100000">
                  <a:srgbClr val="d9d9d9"/>
                </a:gs>
              </a:gsLst>
              <a:lin ang="1083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endParaRPr>
            </a:p>
          </p:txBody>
        </p:sp>
        <p:sp>
          <p:nvSpPr>
            <p:cNvPr id="202" name="Freeform 10"/>
            <p:cNvSpPr/>
            <p:nvPr/>
          </p:nvSpPr>
          <p:spPr>
            <a:xfrm>
              <a:off x="5426280" y="2555640"/>
              <a:ext cx="575280" cy="3368880"/>
            </a:xfrm>
            <a:custGeom>
              <a:avLst/>
              <a:gdLst>
                <a:gd name="textAreaLeft" fmla="*/ 0 w 575280"/>
                <a:gd name="textAreaRight" fmla="*/ 575640 w 575280"/>
                <a:gd name="textAreaTop" fmla="*/ 0 h 3368880"/>
                <a:gd name="textAreaBottom" fmla="*/ 3369240 h 3368880"/>
              </a:gdLst>
              <a:ahLst/>
              <a:rect l="textAreaLeft" t="textAreaTop" r="textAreaRight" b="textAreaBottom"/>
              <a:pathLst>
                <a:path w="317" h="1856">
                  <a:moveTo>
                    <a:pt x="0" y="0"/>
                  </a:moveTo>
                  <a:lnTo>
                    <a:pt x="0" y="1722"/>
                  </a:lnTo>
                  <a:lnTo>
                    <a:pt x="3" y="1730"/>
                  </a:lnTo>
                  <a:lnTo>
                    <a:pt x="10" y="1748"/>
                  </a:lnTo>
                  <a:lnTo>
                    <a:pt x="26" y="1771"/>
                  </a:lnTo>
                  <a:lnTo>
                    <a:pt x="39" y="1786"/>
                  </a:lnTo>
                  <a:lnTo>
                    <a:pt x="54" y="1799"/>
                  </a:lnTo>
                  <a:lnTo>
                    <a:pt x="72" y="1812"/>
                  </a:lnTo>
                  <a:lnTo>
                    <a:pt x="93" y="1825"/>
                  </a:lnTo>
                  <a:lnTo>
                    <a:pt x="119" y="1835"/>
                  </a:lnTo>
                  <a:lnTo>
                    <a:pt x="149" y="1846"/>
                  </a:lnTo>
                  <a:lnTo>
                    <a:pt x="183" y="1851"/>
                  </a:lnTo>
                  <a:lnTo>
                    <a:pt x="224" y="1856"/>
                  </a:lnTo>
                  <a:lnTo>
                    <a:pt x="268" y="1853"/>
                  </a:lnTo>
                  <a:lnTo>
                    <a:pt x="317" y="1851"/>
                  </a:lnTo>
                  <a:lnTo>
                    <a:pt x="317" y="82"/>
                  </a:lnTo>
                  <a:lnTo>
                    <a:pt x="289" y="88"/>
                  </a:lnTo>
                  <a:lnTo>
                    <a:pt x="255" y="93"/>
                  </a:lnTo>
                  <a:lnTo>
                    <a:pt x="214" y="93"/>
                  </a:lnTo>
                  <a:lnTo>
                    <a:pt x="188" y="90"/>
                  </a:lnTo>
                  <a:lnTo>
                    <a:pt x="165" y="88"/>
                  </a:lnTo>
                  <a:lnTo>
                    <a:pt x="137" y="80"/>
                  </a:lnTo>
                  <a:lnTo>
                    <a:pt x="111" y="72"/>
                  </a:lnTo>
                  <a:lnTo>
                    <a:pt x="82" y="59"/>
                  </a:lnTo>
                  <a:lnTo>
                    <a:pt x="57" y="44"/>
                  </a:lnTo>
                  <a:lnTo>
                    <a:pt x="28" y="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6132"/>
                </a:gs>
                <a:gs pos="100000">
                  <a:srgbClr val="800000"/>
                </a:gs>
              </a:gsLst>
              <a:lin ang="21540000"/>
            </a:gradFill>
            <a:ln w="9525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3" name="Freeform 11"/>
            <p:cNvSpPr/>
            <p:nvPr/>
          </p:nvSpPr>
          <p:spPr>
            <a:xfrm>
              <a:off x="6001920" y="2404800"/>
              <a:ext cx="2227680" cy="3510720"/>
            </a:xfrm>
            <a:custGeom>
              <a:avLst/>
              <a:gdLst>
                <a:gd name="textAreaLeft" fmla="*/ 0 w 2227680"/>
                <a:gd name="textAreaRight" fmla="*/ 2228040 w 2227680"/>
                <a:gd name="textAreaTop" fmla="*/ 0 h 3510720"/>
                <a:gd name="textAreaBottom" fmla="*/ 3511080 h 3510720"/>
              </a:gdLst>
              <a:ahLst/>
              <a:rect l="textAreaLeft" t="textAreaTop" r="textAreaRight" b="textAreaBottom"/>
              <a:pathLst>
                <a:path w="1227" h="1934">
                  <a:moveTo>
                    <a:pt x="0" y="165"/>
                  </a:moveTo>
                  <a:lnTo>
                    <a:pt x="1227" y="0"/>
                  </a:lnTo>
                  <a:lnTo>
                    <a:pt x="1227" y="1686"/>
                  </a:lnTo>
                  <a:lnTo>
                    <a:pt x="0" y="1934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6132"/>
                </a:gs>
              </a:gsLst>
              <a:lin ang="19200000"/>
            </a:gradFill>
            <a:ln w="9525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5426280" y="2232360"/>
              <a:ext cx="2363760" cy="364680"/>
            </a:xfrm>
            <a:custGeom>
              <a:avLst/>
              <a:gdLst>
                <a:gd name="textAreaLeft" fmla="*/ 0 w 2363760"/>
                <a:gd name="textAreaRight" fmla="*/ 2364120 w 2363760"/>
                <a:gd name="textAreaTop" fmla="*/ 0 h 364680"/>
                <a:gd name="textAreaBottom" fmla="*/ 365040 h 364680"/>
              </a:gdLst>
              <a:ahLst/>
              <a:rect l="textAreaLeft" t="textAreaTop" r="textAreaRight" b="textAreaBottom"/>
              <a:pathLst>
                <a:path w="1302" h="201">
                  <a:moveTo>
                    <a:pt x="0" y="178"/>
                  </a:moveTo>
                  <a:lnTo>
                    <a:pt x="1302" y="0"/>
                  </a:lnTo>
                  <a:lnTo>
                    <a:pt x="1302" y="21"/>
                  </a:lnTo>
                  <a:lnTo>
                    <a:pt x="26" y="201"/>
                  </a:lnTo>
                  <a:lnTo>
                    <a:pt x="0" y="178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6132"/>
                </a:gs>
              </a:gsLst>
              <a:lin ang="19200000"/>
            </a:gradFill>
            <a:ln w="9525">
              <a:solidFill>
                <a:srgbClr val="006d6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S PGothic"/>
              </a:endParaRPr>
            </a:p>
          </p:txBody>
        </p:sp>
        <p:pic>
          <p:nvPicPr>
            <p:cNvPr id="205" name="Picture 13" descr=""/>
            <p:cNvPicPr/>
            <p:nvPr/>
          </p:nvPicPr>
          <p:blipFill>
            <a:blip r:embed="rId5"/>
            <a:stretch/>
          </p:blipFill>
          <p:spPr>
            <a:xfrm>
              <a:off x="7770240" y="2246760"/>
              <a:ext cx="41400" cy="414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206" name="Line 33"/>
          <p:cNvSpPr/>
          <p:nvPr/>
        </p:nvSpPr>
        <p:spPr>
          <a:xfrm flipH="1">
            <a:off x="2028960" y="2186280"/>
            <a:ext cx="1796760" cy="360"/>
          </a:xfrm>
          <a:prstGeom prst="line">
            <a:avLst/>
          </a:prstGeom>
          <a:ln w="19050">
            <a:solidFill>
              <a:srgbClr val="ffffff">
                <a:lumMod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7" name="Line 33"/>
          <p:cNvSpPr/>
          <p:nvPr/>
        </p:nvSpPr>
        <p:spPr>
          <a:xfrm flipH="1">
            <a:off x="2435040" y="3079800"/>
            <a:ext cx="1762200" cy="360"/>
          </a:xfrm>
          <a:prstGeom prst="line">
            <a:avLst/>
          </a:prstGeom>
          <a:ln w="19050">
            <a:solidFill>
              <a:srgbClr val="ffffff">
                <a:lumMod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8" name="Line 33"/>
          <p:cNvSpPr/>
          <p:nvPr/>
        </p:nvSpPr>
        <p:spPr>
          <a:xfrm flipH="1">
            <a:off x="2901960" y="3972240"/>
            <a:ext cx="1787400" cy="360"/>
          </a:xfrm>
          <a:prstGeom prst="line">
            <a:avLst/>
          </a:prstGeom>
          <a:ln w="19050">
            <a:solidFill>
              <a:srgbClr val="ffffff">
                <a:lumMod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09" name="Line 33"/>
          <p:cNvSpPr/>
          <p:nvPr/>
        </p:nvSpPr>
        <p:spPr>
          <a:xfrm flipH="1">
            <a:off x="3413160" y="4865760"/>
            <a:ext cx="1743120" cy="360"/>
          </a:xfrm>
          <a:prstGeom prst="line">
            <a:avLst/>
          </a:prstGeom>
          <a:ln w="19050">
            <a:solidFill>
              <a:srgbClr val="ffffff">
                <a:lumMod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0" name="Line 33"/>
          <p:cNvSpPr/>
          <p:nvPr/>
        </p:nvSpPr>
        <p:spPr>
          <a:xfrm flipH="1">
            <a:off x="3749760" y="5757840"/>
            <a:ext cx="1893960" cy="360"/>
          </a:xfrm>
          <a:prstGeom prst="line">
            <a:avLst/>
          </a:prstGeom>
          <a:ln w="19050">
            <a:solidFill>
              <a:srgbClr val="ffffff">
                <a:lumMod val="50000"/>
              </a:srgbClr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 anchorCtr="1">
            <a:noAutofit/>
          </a:bodyPr>
          <a:p>
            <a:endParaRPr b="0" lang="da-DK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6039000" y="2661480"/>
            <a:ext cx="2104560" cy="1683360"/>
          </a:xfrm>
          <a:prstGeom prst="rect">
            <a:avLst/>
          </a:prstGeom>
          <a:noFill/>
          <a:ln w="9525">
            <a:noFill/>
          </a:ln>
          <a:scene3d>
            <a:camera prst="orthographicFront">
              <a:rot lat="20520000" lon="1560000" rev="21594000"/>
            </a:camera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47"/>
          <p:cNvSpPr/>
          <p:nvPr/>
        </p:nvSpPr>
        <p:spPr>
          <a:xfrm>
            <a:off x="807480" y="1851120"/>
            <a:ext cx="128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8"/>
          <p:cNvSpPr/>
          <p:nvPr/>
        </p:nvSpPr>
        <p:spPr>
          <a:xfrm>
            <a:off x="804240" y="2181240"/>
            <a:ext cx="1780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9"/>
          <p:cNvSpPr/>
          <p:nvPr/>
        </p:nvSpPr>
        <p:spPr>
          <a:xfrm>
            <a:off x="1264680" y="2808720"/>
            <a:ext cx="128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50"/>
          <p:cNvSpPr/>
          <p:nvPr/>
        </p:nvSpPr>
        <p:spPr>
          <a:xfrm>
            <a:off x="1261440" y="3139200"/>
            <a:ext cx="1780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51"/>
          <p:cNvSpPr/>
          <p:nvPr/>
        </p:nvSpPr>
        <p:spPr>
          <a:xfrm>
            <a:off x="1695240" y="3720240"/>
            <a:ext cx="128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52"/>
          <p:cNvSpPr/>
          <p:nvPr/>
        </p:nvSpPr>
        <p:spPr>
          <a:xfrm>
            <a:off x="1691640" y="4050720"/>
            <a:ext cx="1780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53"/>
          <p:cNvSpPr/>
          <p:nvPr/>
        </p:nvSpPr>
        <p:spPr>
          <a:xfrm>
            <a:off x="2199240" y="4626000"/>
            <a:ext cx="128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54"/>
          <p:cNvSpPr/>
          <p:nvPr/>
        </p:nvSpPr>
        <p:spPr>
          <a:xfrm>
            <a:off x="2195640" y="4956480"/>
            <a:ext cx="1780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5"/>
          <p:cNvSpPr/>
          <p:nvPr/>
        </p:nvSpPr>
        <p:spPr>
          <a:xfrm>
            <a:off x="2559240" y="5478480"/>
            <a:ext cx="128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6"/>
          <p:cNvSpPr/>
          <p:nvPr/>
        </p:nvSpPr>
        <p:spPr>
          <a:xfrm>
            <a:off x="2555640" y="5808960"/>
            <a:ext cx="178092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738360" y="601056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1"/>
          <p:cNvSpPr/>
          <p:nvPr/>
        </p:nvSpPr>
        <p:spPr>
          <a:xfrm>
            <a:off x="0" y="2277000"/>
            <a:ext cx="6588000" cy="216000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4" name="矩形 2"/>
          <p:cNvSpPr/>
          <p:nvPr/>
        </p:nvSpPr>
        <p:spPr>
          <a:xfrm>
            <a:off x="6660360" y="2277000"/>
            <a:ext cx="2483280" cy="2160000"/>
          </a:xfrm>
          <a:prstGeom prst="rect">
            <a:avLst/>
          </a:prstGeom>
          <a:solidFill>
            <a:schemeClr val="accent2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8357040" y="2421000"/>
            <a:ext cx="553680" cy="13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7236360" y="2636280"/>
            <a:ext cx="9046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内容打在这里，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者通过复制您的文本后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框中选择粘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组合 41"/>
          <p:cNvGrpSpPr/>
          <p:nvPr/>
        </p:nvGrpSpPr>
        <p:grpSpPr>
          <a:xfrm>
            <a:off x="1476360" y="1413360"/>
            <a:ext cx="5994360" cy="1909080"/>
            <a:chOff x="1476360" y="1413360"/>
            <a:chExt cx="5994360" cy="1909080"/>
          </a:xfrm>
        </p:grpSpPr>
        <p:cxnSp>
          <p:nvCxnSpPr>
            <p:cNvPr id="230" name="直接连接符​​ 6"/>
            <p:cNvCxnSpPr/>
            <p:nvPr/>
          </p:nvCxnSpPr>
          <p:spPr>
            <a:xfrm flipV="1">
              <a:off x="2781000" y="1904040"/>
              <a:ext cx="3043800" cy="3600"/>
            </a:xfrm>
            <a:prstGeom prst="straightConnector1">
              <a:avLst/>
            </a:prstGeom>
            <a:ln w="57150">
              <a:solidFill>
                <a:srgbClr val="f79646"/>
              </a:solidFill>
              <a:round/>
            </a:ln>
          </p:spPr>
        </p:cxnSp>
        <p:grpSp>
          <p:nvGrpSpPr>
            <p:cNvPr id="231" name="组合 7"/>
            <p:cNvGrpSpPr/>
            <p:nvPr/>
          </p:nvGrpSpPr>
          <p:grpSpPr>
            <a:xfrm>
              <a:off x="5824800" y="1413360"/>
              <a:ext cx="1645920" cy="1909080"/>
              <a:chOff x="5824800" y="1413360"/>
              <a:chExt cx="1645920" cy="1909080"/>
            </a:xfrm>
          </p:grpSpPr>
          <p:sp>
            <p:nvSpPr>
              <p:cNvPr id="232" name="六边形 12"/>
              <p:cNvSpPr/>
              <p:nvPr/>
            </p:nvSpPr>
            <p:spPr>
              <a:xfrm rot="16200000">
                <a:off x="5693040" y="1544760"/>
                <a:ext cx="1909080" cy="1645920"/>
              </a:xfrm>
              <a:prstGeom prst="hexagon">
                <a:avLst>
                  <a:gd name="adj" fmla="val 28044"/>
                  <a:gd name="vf" fmla="val 115470"/>
                </a:avLst>
              </a:prstGeom>
              <a:gradFill rotWithShape="0">
                <a:gsLst>
                  <a:gs pos="0">
                    <a:srgbClr val="fcd5b5"/>
                  </a:gs>
                  <a:gs pos="100000">
                    <a:srgbClr val="fac090"/>
                  </a:gs>
                </a:gsLst>
                <a:lin ang="13500000"/>
              </a:gradFill>
              <a:ln w="0"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" name="椭圆​​ 40"/>
              <p:cNvSpPr/>
              <p:nvPr/>
            </p:nvSpPr>
            <p:spPr>
              <a:xfrm rot="16200000">
                <a:off x="5906520" y="1626480"/>
                <a:ext cx="1482120" cy="1482480"/>
              </a:xfrm>
              <a:prstGeom prst="ellipse">
                <a:avLst/>
              </a:prstGeom>
              <a:solidFill>
                <a:srgbClr val="f79646"/>
              </a:solidFill>
              <a:ln w="38100">
                <a:solidFill>
                  <a:srgbClr val="ffffff"/>
                </a:solidFill>
                <a:round/>
              </a:ln>
              <a:effectLst>
                <a:innerShdw blurRad="114300">
                  <a:srgbClr val="000000"/>
                </a:inn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 vert="vert" rot="5400000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34" name="TextBox 8"/>
            <p:cNvSpPr/>
            <p:nvPr/>
          </p:nvSpPr>
          <p:spPr>
            <a:xfrm>
              <a:off x="6257160" y="2483640"/>
              <a:ext cx="729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矩形​​ 9"/>
            <p:cNvSpPr/>
            <p:nvPr/>
          </p:nvSpPr>
          <p:spPr>
            <a:xfrm>
              <a:off x="1476360" y="1625760"/>
              <a:ext cx="2231640" cy="269640"/>
            </a:xfrm>
            <a:prstGeom prst="rect">
              <a:avLst/>
            </a:prstGeom>
            <a:solidFill>
              <a:schemeClr val="accent6"/>
            </a:solidFill>
            <a:ln w="57150">
              <a:solidFill>
                <a:srgbClr val="f79646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" name="Group 30"/>
            <p:cNvGrpSpPr/>
            <p:nvPr/>
          </p:nvGrpSpPr>
          <p:grpSpPr>
            <a:xfrm>
              <a:off x="6398280" y="1895760"/>
              <a:ext cx="498240" cy="457200"/>
              <a:chOff x="6398280" y="1895760"/>
              <a:chExt cx="498240" cy="457200"/>
            </a:xfrm>
          </p:grpSpPr>
          <p:sp>
            <p:nvSpPr>
              <p:cNvPr id="237" name="AutoShape 31"/>
              <p:cNvSpPr/>
              <p:nvPr/>
            </p:nvSpPr>
            <p:spPr>
              <a:xfrm>
                <a:off x="6398280" y="1989360"/>
                <a:ext cx="498240" cy="36360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61000"/>
                </a:schemeClr>
              </a:solidFill>
              <a:ln w="25400">
                <a:solidFill>
                  <a:srgbClr val="ffffff">
                    <a:alpha val="87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AutoShape 32"/>
              <p:cNvSpPr/>
              <p:nvPr/>
            </p:nvSpPr>
            <p:spPr>
              <a:xfrm>
                <a:off x="6549480" y="1895760"/>
                <a:ext cx="183960" cy="16488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5400" y="10800"/>
                    </a:lnTo>
                    <a:close/>
                  </a:path>
                </a:pathLst>
              </a:custGeom>
              <a:solidFill>
                <a:schemeClr val="bg1">
                  <a:alpha val="50000"/>
                </a:schemeClr>
              </a:solidFill>
              <a:ln w="254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39" name="组合 42"/>
          <p:cNvGrpSpPr/>
          <p:nvPr/>
        </p:nvGrpSpPr>
        <p:grpSpPr>
          <a:xfrm>
            <a:off x="2298600" y="2864160"/>
            <a:ext cx="5986440" cy="1909080"/>
            <a:chOff x="2298600" y="2864160"/>
            <a:chExt cx="5986440" cy="1909080"/>
          </a:xfrm>
        </p:grpSpPr>
        <p:cxnSp>
          <p:nvCxnSpPr>
            <p:cNvPr id="240" name="直接连接符​​ 10"/>
            <p:cNvCxnSpPr/>
            <p:nvPr/>
          </p:nvCxnSpPr>
          <p:spPr>
            <a:xfrm>
              <a:off x="2411640" y="3322440"/>
              <a:ext cx="4227480" cy="20880"/>
            </a:xfrm>
            <a:prstGeom prst="straightConnector1">
              <a:avLst/>
            </a:prstGeom>
            <a:ln w="57150">
              <a:solidFill>
                <a:srgbClr val="8064a2"/>
              </a:solidFill>
              <a:round/>
            </a:ln>
          </p:spPr>
        </p:cxnSp>
        <p:grpSp>
          <p:nvGrpSpPr>
            <p:cNvPr id="241" name="组合 11"/>
            <p:cNvGrpSpPr/>
            <p:nvPr/>
          </p:nvGrpSpPr>
          <p:grpSpPr>
            <a:xfrm>
              <a:off x="6638760" y="2864160"/>
              <a:ext cx="1646280" cy="1909080"/>
              <a:chOff x="6638760" y="2864160"/>
              <a:chExt cx="1646280" cy="1909080"/>
            </a:xfrm>
          </p:grpSpPr>
          <p:sp>
            <p:nvSpPr>
              <p:cNvPr id="242" name="六边形 27"/>
              <p:cNvSpPr/>
              <p:nvPr/>
            </p:nvSpPr>
            <p:spPr>
              <a:xfrm rot="16200000">
                <a:off x="6507360" y="2995560"/>
                <a:ext cx="1909080" cy="1646280"/>
              </a:xfrm>
              <a:prstGeom prst="hexagon">
                <a:avLst>
                  <a:gd name="adj" fmla="val 28044"/>
                  <a:gd name="vf" fmla="val 115470"/>
                </a:avLst>
              </a:prstGeom>
              <a:gradFill rotWithShape="0">
                <a:gsLst>
                  <a:gs pos="0">
                    <a:srgbClr val="ccc1da"/>
                  </a:gs>
                  <a:gs pos="50000">
                    <a:srgbClr val="ccc1da"/>
                  </a:gs>
                  <a:gs pos="100000">
                    <a:srgbClr val="ccc1da"/>
                  </a:gs>
                </a:gsLst>
                <a:lin ang="18900000"/>
              </a:gra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" name="椭圆​​ 38"/>
              <p:cNvSpPr/>
              <p:nvPr/>
            </p:nvSpPr>
            <p:spPr>
              <a:xfrm rot="16200000">
                <a:off x="6719760" y="3078360"/>
                <a:ext cx="1483560" cy="1481040"/>
              </a:xfrm>
              <a:prstGeom prst="ellipse">
                <a:avLst/>
              </a:prstGeom>
              <a:solidFill>
                <a:schemeClr val="accent4"/>
              </a:solidFill>
              <a:ln w="38100">
                <a:solidFill>
                  <a:srgbClr val="ffffff"/>
                </a:solidFill>
                <a:round/>
              </a:ln>
              <a:effectLst>
                <a:innerShdw blurRad="114300">
                  <a:srgbClr val="000000"/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44" name="TextBox 12"/>
            <p:cNvSpPr/>
            <p:nvPr/>
          </p:nvSpPr>
          <p:spPr>
            <a:xfrm>
              <a:off x="7107480" y="3878280"/>
              <a:ext cx="729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矩形​​ 13"/>
            <p:cNvSpPr/>
            <p:nvPr/>
          </p:nvSpPr>
          <p:spPr>
            <a:xfrm>
              <a:off x="2298600" y="3076560"/>
              <a:ext cx="2231640" cy="269640"/>
            </a:xfrm>
            <a:prstGeom prst="rect">
              <a:avLst/>
            </a:prstGeom>
            <a:solidFill>
              <a:schemeClr val="accent4"/>
            </a:solidFill>
            <a:ln w="57150">
              <a:solidFill>
                <a:srgbClr val="8064a2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5"/>
            <p:cNvSpPr/>
            <p:nvPr/>
          </p:nvSpPr>
          <p:spPr>
            <a:xfrm>
              <a:off x="7220880" y="3292200"/>
              <a:ext cx="509400" cy="493560"/>
            </a:xfrm>
            <a:prstGeom prst="ellipse">
              <a:avLst/>
            </a:prstGeom>
            <a:solidFill>
              <a:schemeClr val="bg1">
                <a:alpha val="48000"/>
              </a:schemeClr>
            </a:solidFill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Line 16"/>
            <p:cNvSpPr/>
            <p:nvPr/>
          </p:nvSpPr>
          <p:spPr>
            <a:xfrm>
              <a:off x="7477200" y="3291840"/>
              <a:ext cx="360" cy="490680"/>
            </a:xfrm>
            <a:prstGeom prst="line">
              <a:avLst/>
            </a:prstGeom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Line 17"/>
            <p:cNvSpPr/>
            <p:nvPr/>
          </p:nvSpPr>
          <p:spPr>
            <a:xfrm>
              <a:off x="7220520" y="3537360"/>
              <a:ext cx="509760" cy="360"/>
            </a:xfrm>
            <a:prstGeom prst="line">
              <a:avLst/>
            </a:prstGeom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8"/>
            <p:cNvSpPr/>
            <p:nvPr/>
          </p:nvSpPr>
          <p:spPr>
            <a:xfrm>
              <a:off x="7511760" y="3295440"/>
              <a:ext cx="105480" cy="487080"/>
            </a:xfrm>
            <a:custGeom>
              <a:avLst/>
              <a:gdLst>
                <a:gd name="textAreaLeft" fmla="*/ 0 w 105480"/>
                <a:gd name="textAreaRight" fmla="*/ 105840 w 10548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19"/>
            <p:cNvSpPr/>
            <p:nvPr/>
          </p:nvSpPr>
          <p:spPr>
            <a:xfrm>
              <a:off x="7338960" y="3299040"/>
              <a:ext cx="114120" cy="49032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490320"/>
                <a:gd name="textAreaBottom" fmla="*/ 490680 h 49032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20"/>
            <p:cNvSpPr/>
            <p:nvPr/>
          </p:nvSpPr>
          <p:spPr>
            <a:xfrm rot="5400000">
              <a:off x="7436880" y="3490560"/>
              <a:ext cx="64080" cy="37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440"/>
                <a:gd name="textAreaBottom" fmla="*/ 379800 h 37944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21"/>
            <p:cNvSpPr/>
            <p:nvPr/>
          </p:nvSpPr>
          <p:spPr>
            <a:xfrm flipV="1" rot="16200000">
              <a:off x="7441560" y="3206880"/>
              <a:ext cx="64080" cy="37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360 h 379440"/>
                <a:gd name="textAreaBottom" fmla="*/ 380160 h 37944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40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3" name="组合 43"/>
          <p:cNvGrpSpPr/>
          <p:nvPr/>
        </p:nvGrpSpPr>
        <p:grpSpPr>
          <a:xfrm>
            <a:off x="1488960" y="4312080"/>
            <a:ext cx="5986440" cy="1909080"/>
            <a:chOff x="1488960" y="4312080"/>
            <a:chExt cx="5986440" cy="1909080"/>
          </a:xfrm>
        </p:grpSpPr>
        <p:cxnSp>
          <p:nvCxnSpPr>
            <p:cNvPr id="254" name="直接连接符​​ 14"/>
            <p:cNvCxnSpPr/>
            <p:nvPr/>
          </p:nvCxnSpPr>
          <p:spPr>
            <a:xfrm flipV="1">
              <a:off x="2784240" y="4802760"/>
              <a:ext cx="3045240" cy="3600"/>
            </a:xfrm>
            <a:prstGeom prst="straightConnector1">
              <a:avLst/>
            </a:prstGeom>
            <a:ln w="57150">
              <a:solidFill>
                <a:srgbClr val="9bbb59"/>
              </a:solidFill>
              <a:round/>
            </a:ln>
          </p:spPr>
        </p:cxnSp>
        <p:grpSp>
          <p:nvGrpSpPr>
            <p:cNvPr id="255" name="组合 15"/>
            <p:cNvGrpSpPr/>
            <p:nvPr/>
          </p:nvGrpSpPr>
          <p:grpSpPr>
            <a:xfrm>
              <a:off x="5829120" y="4312080"/>
              <a:ext cx="1646280" cy="1909080"/>
              <a:chOff x="5829120" y="4312080"/>
              <a:chExt cx="1646280" cy="1909080"/>
            </a:xfrm>
          </p:grpSpPr>
          <p:sp>
            <p:nvSpPr>
              <p:cNvPr id="256" name="六边形 42"/>
              <p:cNvSpPr/>
              <p:nvPr/>
            </p:nvSpPr>
            <p:spPr>
              <a:xfrm rot="16200000">
                <a:off x="5697720" y="4443480"/>
                <a:ext cx="1909080" cy="1646280"/>
              </a:xfrm>
              <a:prstGeom prst="hexagon">
                <a:avLst>
                  <a:gd name="adj" fmla="val 28044"/>
                  <a:gd name="vf" fmla="val 115470"/>
                </a:avLst>
              </a:prstGeom>
              <a:gradFill rotWithShape="0">
                <a:gsLst>
                  <a:gs pos="0">
                    <a:srgbClr val="ebf1de"/>
                  </a:gs>
                  <a:gs pos="100000">
                    <a:srgbClr val="c3d69b"/>
                  </a:gs>
                </a:gsLst>
                <a:lin ang="10800000"/>
              </a:gradFill>
              <a:ln>
                <a:noFill/>
              </a:ln>
              <a:effectLst>
                <a:outerShdw algn="tl" blurRad="50760" dir="2700000" dist="37674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" name="椭圆​​ 36"/>
              <p:cNvSpPr/>
              <p:nvPr/>
            </p:nvSpPr>
            <p:spPr>
              <a:xfrm rot="16200000">
                <a:off x="5910120" y="4525920"/>
                <a:ext cx="1483560" cy="1481040"/>
              </a:xfrm>
              <a:prstGeom prst="ellipse">
                <a:avLst/>
              </a:prstGeom>
              <a:solidFill>
                <a:schemeClr val="accent3"/>
              </a:solidFill>
              <a:ln w="38100">
                <a:solidFill>
                  <a:srgbClr val="ffffff"/>
                </a:solidFill>
                <a:round/>
              </a:ln>
              <a:effectLst>
                <a:innerShdw blurRad="114300">
                  <a:srgbClr val="000000"/>
                </a:inn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258" name="TextBox 16"/>
            <p:cNvSpPr/>
            <p:nvPr/>
          </p:nvSpPr>
          <p:spPr>
            <a:xfrm>
              <a:off x="6262200" y="5313960"/>
              <a:ext cx="72972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您的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矩形​​ 17"/>
            <p:cNvSpPr/>
            <p:nvPr/>
          </p:nvSpPr>
          <p:spPr>
            <a:xfrm>
              <a:off x="1488960" y="4524480"/>
              <a:ext cx="2231640" cy="269640"/>
            </a:xfrm>
            <a:prstGeom prst="rect">
              <a:avLst/>
            </a:prstGeom>
            <a:solidFill>
              <a:schemeClr val="accent3"/>
            </a:solidFill>
            <a:ln w="57150">
              <a:solidFill>
                <a:srgbClr val="9bbb59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16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您的小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261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chemeClr val="bg1">
                  <a:alpha val="50000"/>
                </a:schemeClr>
              </a:solidFill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chemeClr val="bg1">
                  <a:alpha val="50000"/>
                </a:schemeClr>
              </a:solidFill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Line 25"/>
              <p:cNvSpPr/>
              <p:nvPr/>
            </p:nvSpPr>
            <p:spPr>
              <a:xfrm flipH="1">
                <a:off x="6750720" y="5103000"/>
                <a:ext cx="6804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Line 26"/>
              <p:cNvSpPr/>
              <p:nvPr/>
            </p:nvSpPr>
            <p:spPr>
              <a:xfrm flipH="1">
                <a:off x="6618240" y="4871880"/>
                <a:ext cx="10980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Line 27"/>
              <p:cNvSpPr/>
              <p:nvPr/>
            </p:nvSpPr>
            <p:spPr>
              <a:xfrm flipH="1">
                <a:off x="6660360" y="4910040"/>
                <a:ext cx="6768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Line 28"/>
              <p:cNvSpPr/>
              <p:nvPr/>
            </p:nvSpPr>
            <p:spPr>
              <a:xfrm flipH="1">
                <a:off x="6679800" y="4981680"/>
                <a:ext cx="48240" cy="360"/>
              </a:xfrm>
              <a:prstGeom prst="line">
                <a:avLst/>
              </a:prstGeom>
              <a:ln w="254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7" name="TextBox 44"/>
          <p:cNvSpPr/>
          <p:nvPr/>
        </p:nvSpPr>
        <p:spPr>
          <a:xfrm>
            <a:off x="1423440" y="2017440"/>
            <a:ext cx="329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5"/>
          <p:cNvSpPr/>
          <p:nvPr/>
        </p:nvSpPr>
        <p:spPr>
          <a:xfrm>
            <a:off x="2267640" y="3452760"/>
            <a:ext cx="329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6"/>
          <p:cNvSpPr/>
          <p:nvPr/>
        </p:nvSpPr>
        <p:spPr>
          <a:xfrm>
            <a:off x="1461240" y="4890600"/>
            <a:ext cx="3292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Oval 163"/>
          <p:cNvSpPr/>
          <p:nvPr/>
        </p:nvSpPr>
        <p:spPr>
          <a:xfrm>
            <a:off x="650160" y="4931280"/>
            <a:ext cx="6194880" cy="1082160"/>
          </a:xfrm>
          <a:prstGeom prst="ellipse">
            <a:avLst/>
          </a:prstGeom>
          <a:solidFill>
            <a:srgbClr val="ffcc00">
              <a:alpha val="80000"/>
            </a:srgbClr>
          </a:solidFill>
          <a:ln w="0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Oval 164"/>
          <p:cNvSpPr/>
          <p:nvPr/>
        </p:nvSpPr>
        <p:spPr>
          <a:xfrm>
            <a:off x="754200" y="5042880"/>
            <a:ext cx="4225320" cy="823680"/>
          </a:xfrm>
          <a:prstGeom prst="ellipse">
            <a:avLst/>
          </a:prstGeom>
          <a:solidFill>
            <a:srgbClr val="ff99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Oval 165"/>
          <p:cNvSpPr/>
          <p:nvPr/>
        </p:nvSpPr>
        <p:spPr>
          <a:xfrm>
            <a:off x="1083240" y="5085720"/>
            <a:ext cx="2210040" cy="6325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 Black"/>
              <a:ea typeface="HY헤드라인M"/>
            </a:endParaRPr>
          </a:p>
        </p:txBody>
      </p:sp>
      <p:sp>
        <p:nvSpPr>
          <p:cNvPr id="274" name="Rectangle 166"/>
          <p:cNvSpPr/>
          <p:nvPr/>
        </p:nvSpPr>
        <p:spPr>
          <a:xfrm>
            <a:off x="3504240" y="523260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68" descr="볼"/>
          <p:cNvPicPr/>
          <p:nvPr/>
        </p:nvPicPr>
        <p:blipFill>
          <a:blip r:embed="rId1"/>
          <a:stretch/>
        </p:blipFill>
        <p:spPr>
          <a:xfrm>
            <a:off x="974880" y="4980600"/>
            <a:ext cx="2483280" cy="775080"/>
          </a:xfrm>
          <a:prstGeom prst="rect">
            <a:avLst/>
          </a:prstGeom>
          <a:ln w="0">
            <a:noFill/>
          </a:ln>
        </p:spPr>
      </p:pic>
      <p:sp>
        <p:nvSpPr>
          <p:cNvPr id="276" name="Oval 175"/>
          <p:cNvSpPr/>
          <p:nvPr/>
        </p:nvSpPr>
        <p:spPr>
          <a:xfrm rot="16200000">
            <a:off x="3826800" y="2826720"/>
            <a:ext cx="2019240" cy="565200"/>
          </a:xfrm>
          <a:prstGeom prst="ellipse">
            <a:avLst/>
          </a:prstGeom>
          <a:gradFill rotWithShape="0">
            <a:gsLst>
              <a:gs pos="0">
                <a:srgbClr val="84c468"/>
              </a:gs>
              <a:gs pos="50000">
                <a:srgbClr val="3d5a30"/>
              </a:gs>
              <a:gs pos="100000">
                <a:srgbClr val="84c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176"/>
          <p:cNvSpPr/>
          <p:nvPr/>
        </p:nvSpPr>
        <p:spPr>
          <a:xfrm rot="16200000">
            <a:off x="4283640" y="2674440"/>
            <a:ext cx="1803240" cy="886680"/>
          </a:xfrm>
          <a:prstGeom prst="rect">
            <a:avLst/>
          </a:prstGeom>
          <a:gradFill rotWithShape="0">
            <a:gsLst>
              <a:gs pos="0">
                <a:srgbClr val="84c468"/>
              </a:gs>
              <a:gs pos="50000">
                <a:srgbClr val="3d5a30"/>
              </a:gs>
              <a:gs pos="100000">
                <a:srgbClr val="84c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AutoShape 177"/>
          <p:cNvSpPr/>
          <p:nvPr/>
        </p:nvSpPr>
        <p:spPr>
          <a:xfrm rot="16200000">
            <a:off x="4923360" y="2545560"/>
            <a:ext cx="2308680" cy="1135080"/>
          </a:xfrm>
          <a:prstGeom prst="roundRect">
            <a:avLst>
              <a:gd name="adj" fmla="val 32051"/>
            </a:avLst>
          </a:prstGeom>
          <a:gradFill rotWithShape="0">
            <a:gsLst>
              <a:gs pos="0">
                <a:srgbClr val="84c468"/>
              </a:gs>
              <a:gs pos="50000">
                <a:srgbClr val="3d5a30"/>
              </a:gs>
              <a:gs pos="100000">
                <a:srgbClr val="84c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178"/>
          <p:cNvSpPr/>
          <p:nvPr/>
        </p:nvSpPr>
        <p:spPr>
          <a:xfrm rot="16200000">
            <a:off x="5749560" y="2088000"/>
            <a:ext cx="2314440" cy="2055960"/>
          </a:xfrm>
          <a:prstGeom prst="rect">
            <a:avLst/>
          </a:prstGeom>
          <a:gradFill rotWithShape="0">
            <a:gsLst>
              <a:gs pos="0">
                <a:srgbClr val="84c468"/>
              </a:gs>
              <a:gs pos="50000">
                <a:srgbClr val="3d5a30"/>
              </a:gs>
              <a:gs pos="100000">
                <a:srgbClr val="84c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Oval 179"/>
          <p:cNvSpPr/>
          <p:nvPr/>
        </p:nvSpPr>
        <p:spPr>
          <a:xfrm rot="16200000">
            <a:off x="6803640" y="2767320"/>
            <a:ext cx="2308680" cy="691560"/>
          </a:xfrm>
          <a:prstGeom prst="ellipse">
            <a:avLst/>
          </a:prstGeom>
          <a:gradFill rotWithShape="0">
            <a:gsLst>
              <a:gs pos="0">
                <a:srgbClr val="84c468"/>
              </a:gs>
              <a:gs pos="50000">
                <a:srgbClr val="3d5a30"/>
              </a:gs>
              <a:gs pos="100000">
                <a:srgbClr val="84c46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Arc 180"/>
          <p:cNvSpPr/>
          <p:nvPr/>
        </p:nvSpPr>
        <p:spPr>
          <a:xfrm rot="16200000">
            <a:off x="7038360" y="2953800"/>
            <a:ext cx="2017800" cy="268560"/>
          </a:xfrm>
          <a:custGeom>
            <a:avLst/>
            <a:gdLst>
              <a:gd name="textAreaLeft" fmla="*/ 0 w 2017800"/>
              <a:gd name="textAreaRight" fmla="*/ 2018160 w 201780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fill="none" w="41445" h="21600">
                <a:moveTo>
                  <a:pt x="41444" y="3430"/>
                </a:moveTo>
                <a:cubicBezTo>
                  <a:pt x="39760" y="13901"/>
                  <a:pt x="30723" y="21599"/>
                  <a:pt x="20119" y="21600"/>
                </a:cubicBezTo>
                <a:cubicBezTo>
                  <a:pt x="11222" y="21600"/>
                  <a:pt x="3236" y="16145"/>
                  <a:pt x="-1" y="7859"/>
                </a:cubicBezTo>
              </a:path>
              <a:path stroke="0" w="41445" h="21600">
                <a:moveTo>
                  <a:pt x="41444" y="3430"/>
                </a:moveTo>
                <a:cubicBezTo>
                  <a:pt x="39760" y="13901"/>
                  <a:pt x="30723" y="21599"/>
                  <a:pt x="20119" y="21600"/>
                </a:cubicBezTo>
                <a:cubicBezTo>
                  <a:pt x="11222" y="21600"/>
                  <a:pt x="3236" y="16145"/>
                  <a:pt x="-1" y="7859"/>
                </a:cubicBezTo>
                <a:lnTo>
                  <a:pt x="20119" y="0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Oval 181"/>
          <p:cNvSpPr/>
          <p:nvPr/>
        </p:nvSpPr>
        <p:spPr>
          <a:xfrm>
            <a:off x="7632720" y="2033280"/>
            <a:ext cx="507960" cy="212796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Freeform 182"/>
          <p:cNvSpPr/>
          <p:nvPr/>
        </p:nvSpPr>
        <p:spPr>
          <a:xfrm>
            <a:off x="5814360" y="2036520"/>
            <a:ext cx="2053080" cy="2114640"/>
          </a:xfrm>
          <a:custGeom>
            <a:avLst/>
            <a:gdLst>
              <a:gd name="textAreaLeft" fmla="*/ 0 w 2053080"/>
              <a:gd name="textAreaRight" fmla="*/ 2053440 w 2053080"/>
              <a:gd name="textAreaTop" fmla="*/ 0 h 2114640"/>
              <a:gd name="textAreaBottom" fmla="*/ 2115000 h 2114640"/>
            </a:gdLst>
            <a:ahLst/>
            <a:rect l="textAreaLeft" t="textAreaTop" r="textAreaRight" b="textAreaBottom"/>
            <a:pathLst>
              <a:path w="1398" h="1482">
                <a:moveTo>
                  <a:pt x="804" y="0"/>
                </a:moveTo>
                <a:lnTo>
                  <a:pt x="1398" y="0"/>
                </a:lnTo>
                <a:lnTo>
                  <a:pt x="1398" y="1482"/>
                </a:lnTo>
                <a:lnTo>
                  <a:pt x="0" y="1482"/>
                </a:lnTo>
                <a:lnTo>
                  <a:pt x="804" y="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76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Oval 183"/>
          <p:cNvSpPr/>
          <p:nvPr/>
        </p:nvSpPr>
        <p:spPr>
          <a:xfrm rot="1929600">
            <a:off x="6040440" y="1869840"/>
            <a:ext cx="714960" cy="2452680"/>
          </a:xfrm>
          <a:prstGeom prst="ellipse">
            <a:avLst/>
          </a:prstGeom>
          <a:solidFill>
            <a:srgbClr val="ff9933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WordArt 184"/>
          <p:cNvSpPr txBox="1"/>
          <p:nvPr/>
        </p:nvSpPr>
        <p:spPr>
          <a:xfrm>
            <a:off x="6563520" y="3345840"/>
            <a:ext cx="1526040" cy="46836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Plain">
              <a:avLst>
                <a:gd name="adj" fmla="val 4722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ln w="0">
                  <a:noFill/>
                </a:ln>
                <a:solidFill>
                  <a:srgbClr val="000000"/>
                </a:solidFill>
                <a:latin typeface="微软雅黑"/>
                <a:ea typeface="微软雅黑"/>
              </a:rPr>
              <a:t>您的标题</a:t>
            </a:r>
            <a:endParaRPr b="0" lang="en-US" sz="32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85"/>
          <p:cNvSpPr/>
          <p:nvPr/>
        </p:nvSpPr>
        <p:spPr>
          <a:xfrm>
            <a:off x="6058080" y="4048560"/>
            <a:ext cx="1916640" cy="360"/>
          </a:xfrm>
          <a:prstGeom prst="line">
            <a:avLst/>
          </a:prstGeom>
          <a:ln w="19050">
            <a:solidFill>
              <a:srgbClr val="ffffff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Oval 186"/>
          <p:cNvSpPr/>
          <p:nvPr/>
        </p:nvSpPr>
        <p:spPr>
          <a:xfrm rot="5400000">
            <a:off x="6923520" y="855000"/>
            <a:ext cx="62640" cy="2371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Oval 187"/>
          <p:cNvSpPr/>
          <p:nvPr/>
        </p:nvSpPr>
        <p:spPr>
          <a:xfrm rot="5400000">
            <a:off x="5324040" y="1910160"/>
            <a:ext cx="92160" cy="79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Oval 188"/>
          <p:cNvSpPr/>
          <p:nvPr/>
        </p:nvSpPr>
        <p:spPr>
          <a:xfrm rot="5400000">
            <a:off x="7140960" y="940320"/>
            <a:ext cx="62640" cy="2371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AutoShape 189"/>
          <p:cNvSpPr/>
          <p:nvPr/>
        </p:nvSpPr>
        <p:spPr>
          <a:xfrm flipH="1" rot="122400">
            <a:off x="2719080" y="3006720"/>
            <a:ext cx="5312160" cy="3355920"/>
          </a:xfrm>
          <a:custGeom>
            <a:avLst/>
            <a:gdLst>
              <a:gd name="textAreaLeft" fmla="*/ 777600 w 5312160"/>
              <a:gd name="textAreaRight" fmla="*/ 4534560 w 5312160"/>
              <a:gd name="textAreaTop" fmla="*/ 491400 h 3355920"/>
              <a:gd name="textAreaBottom" fmla="*/ 2864520 h 3355920"/>
            </a:gdLst>
            <a:ahLst/>
            <a:rect l="textAreaLeft" t="textAreaTop" r="textAreaRight" b="textAreaBottom"/>
            <a:pathLst>
              <a:path w="21600" h="21600">
                <a:moveTo>
                  <a:pt x="16587" y="7257"/>
                </a:moveTo>
                <a:cubicBezTo>
                  <a:pt x="15354" y="5242"/>
                  <a:pt x="13162" y="4014"/>
                  <a:pt x="10800" y="4014"/>
                </a:cubicBezTo>
                <a:cubicBezTo>
                  <a:pt x="10086" y="4013"/>
                  <a:pt x="9377" y="4126"/>
                  <a:pt x="8699" y="4347"/>
                </a:cubicBezTo>
                <a:lnTo>
                  <a:pt x="7457" y="530"/>
                </a:lnTo>
                <a:cubicBezTo>
                  <a:pt x="8536" y="178"/>
                  <a:pt x="9664" y="-1"/>
                  <a:pt x="10800" y="0"/>
                </a:cubicBezTo>
                <a:cubicBezTo>
                  <a:pt x="14559" y="0"/>
                  <a:pt x="18048" y="1955"/>
                  <a:pt x="20011" y="5161"/>
                </a:cubicBezTo>
                <a:lnTo>
                  <a:pt x="22314" y="3751"/>
                </a:lnTo>
                <a:lnTo>
                  <a:pt x="20756" y="10224"/>
                </a:lnTo>
                <a:lnTo>
                  <a:pt x="14284" y="8666"/>
                </a:lnTo>
                <a:lnTo>
                  <a:pt x="16587" y="7257"/>
                </a:lnTo>
                <a:close/>
              </a:path>
            </a:pathLst>
          </a:custGeom>
          <a:solidFill>
            <a:srgbClr val="ff66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rc 190"/>
          <p:cNvSpPr/>
          <p:nvPr/>
        </p:nvSpPr>
        <p:spPr>
          <a:xfrm rot="16200000">
            <a:off x="4039920" y="2973600"/>
            <a:ext cx="1603440" cy="255240"/>
          </a:xfrm>
          <a:custGeom>
            <a:avLst/>
            <a:gdLst>
              <a:gd name="textAreaLeft" fmla="*/ 0 w 1603440"/>
              <a:gd name="textAreaRight" fmla="*/ 1603800 w 160344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fill="none" w="43200" h="43173">
                <a:moveTo>
                  <a:pt x="22679" y="0"/>
                </a:moveTo>
                <a:cubicBezTo>
                  <a:pt x="34175" y="575"/>
                  <a:pt x="43200" y="10063"/>
                  <a:pt x="43200" y="21573"/>
                </a:cubicBezTo>
                <a:cubicBezTo>
                  <a:pt x="43200" y="33502"/>
                  <a:pt x="33529" y="43173"/>
                  <a:pt x="21600" y="43173"/>
                </a:cubicBezTo>
                <a:cubicBezTo>
                  <a:pt x="9670" y="43173"/>
                  <a:pt x="0" y="33502"/>
                  <a:pt x="0" y="21573"/>
                </a:cubicBezTo>
                <a:cubicBezTo>
                  <a:pt x="-1" y="16462"/>
                  <a:pt x="1812" y="11516"/>
                  <a:pt x="5114" y="7615"/>
                </a:cubicBezTo>
              </a:path>
              <a:path stroke="0" w="43200" h="43173">
                <a:moveTo>
                  <a:pt x="22679" y="0"/>
                </a:moveTo>
                <a:cubicBezTo>
                  <a:pt x="34175" y="575"/>
                  <a:pt x="43200" y="10063"/>
                  <a:pt x="43200" y="21573"/>
                </a:cubicBezTo>
                <a:cubicBezTo>
                  <a:pt x="43200" y="33502"/>
                  <a:pt x="33529" y="43173"/>
                  <a:pt x="21600" y="43173"/>
                </a:cubicBezTo>
                <a:cubicBezTo>
                  <a:pt x="9670" y="43173"/>
                  <a:pt x="0" y="33502"/>
                  <a:pt x="0" y="21573"/>
                </a:cubicBezTo>
                <a:cubicBezTo>
                  <a:pt x="-1" y="16462"/>
                  <a:pt x="1812" y="11516"/>
                  <a:pt x="5114" y="7615"/>
                </a:cubicBezTo>
                <a:lnTo>
                  <a:pt x="21600" y="21573"/>
                </a:lnTo>
                <a:close/>
              </a:path>
            </a:pathLst>
          </a:custGeom>
          <a:noFill/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Arc 191"/>
          <p:cNvSpPr/>
          <p:nvPr/>
        </p:nvSpPr>
        <p:spPr>
          <a:xfrm rot="16200000">
            <a:off x="4114800" y="2973600"/>
            <a:ext cx="1688760" cy="267120"/>
          </a:xfrm>
          <a:custGeom>
            <a:avLst/>
            <a:gdLst>
              <a:gd name="textAreaLeft" fmla="*/ 0 w 1688760"/>
              <a:gd name="textAreaRight" fmla="*/ 1689120 w 1688760"/>
              <a:gd name="textAreaTop" fmla="*/ 0 h 267120"/>
              <a:gd name="textAreaBottom" fmla="*/ 267480 h 267120"/>
            </a:gdLst>
            <a:ahLst/>
            <a:rect l="textAreaLeft" t="textAreaTop" r="textAreaRight" b="textAreaBottom"/>
            <a:pathLst>
              <a:path fill="none" w="37342" h="21600">
                <a:moveTo>
                  <a:pt x="37341" y="10139"/>
                </a:moveTo>
                <a:cubicBezTo>
                  <a:pt x="33592" y="17192"/>
                  <a:pt x="26257" y="21599"/>
                  <a:pt x="18270" y="21600"/>
                </a:cubicBezTo>
                <a:cubicBezTo>
                  <a:pt x="10853" y="21600"/>
                  <a:pt x="3955" y="17795"/>
                  <a:pt x="-1" y="11522"/>
                </a:cubicBezTo>
              </a:path>
              <a:path stroke="0" w="37342" h="21600">
                <a:moveTo>
                  <a:pt x="37341" y="10139"/>
                </a:moveTo>
                <a:cubicBezTo>
                  <a:pt x="33592" y="17192"/>
                  <a:pt x="26257" y="21599"/>
                  <a:pt x="18270" y="21600"/>
                </a:cubicBezTo>
                <a:cubicBezTo>
                  <a:pt x="10853" y="21600"/>
                  <a:pt x="3955" y="17795"/>
                  <a:pt x="-1" y="11522"/>
                </a:cubicBezTo>
                <a:lnTo>
                  <a:pt x="18270" y="0"/>
                </a:lnTo>
                <a:close/>
              </a:path>
            </a:pathLst>
          </a:custGeom>
          <a:noFill/>
          <a:ln w="3810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WordArt 192"/>
          <p:cNvSpPr txBox="1"/>
          <p:nvPr/>
        </p:nvSpPr>
        <p:spPr>
          <a:xfrm rot="19933200">
            <a:off x="3128400" y="3519720"/>
            <a:ext cx="1587240" cy="4273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CanUp">
              <a:avLst>
                <a:gd name="adj" fmla="val 66667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3600" spc="-1" strike="noStrike">
                <a:ln w="0">
                  <a:noFill/>
                </a:ln>
                <a:solidFill>
                  <a:srgbClr val="ffffff">
                    <a:alpha val="48000"/>
                  </a:srgbClr>
                </a:solidFill>
                <a:latin typeface="Arial"/>
              </a:rPr>
              <a:t>文本文本文本文本文本</a:t>
            </a:r>
            <a:endParaRPr b="0" lang="en-US" sz="3600" spc="-1" strike="noStrike">
              <a:ln w="0">
                <a:noFill/>
              </a:ln>
              <a:solidFill>
                <a:srgbClr val="ffffff">
                  <a:alpha val="48000"/>
                </a:srgbClr>
              </a:solidFill>
              <a:latin typeface="Arial"/>
            </a:endParaRPr>
          </a:p>
        </p:txBody>
      </p:sp>
      <p:sp>
        <p:nvSpPr>
          <p:cNvPr id="294" name="Oval 193"/>
          <p:cNvSpPr/>
          <p:nvPr/>
        </p:nvSpPr>
        <p:spPr>
          <a:xfrm rot="5400000">
            <a:off x="6971400" y="2498040"/>
            <a:ext cx="124560" cy="2808000"/>
          </a:xfrm>
          <a:prstGeom prst="ellipse">
            <a:avLst/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94"/>
          <p:cNvSpPr/>
          <p:nvPr/>
        </p:nvSpPr>
        <p:spPr>
          <a:xfrm rot="5400000">
            <a:off x="5215320" y="3487680"/>
            <a:ext cx="92160" cy="797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95"/>
          <p:cNvSpPr/>
          <p:nvPr/>
        </p:nvSpPr>
        <p:spPr>
          <a:xfrm rot="4866600">
            <a:off x="5680080" y="1987200"/>
            <a:ext cx="388800" cy="3315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Arc 196"/>
          <p:cNvSpPr/>
          <p:nvPr/>
        </p:nvSpPr>
        <p:spPr>
          <a:xfrm rot="16200000">
            <a:off x="4661640" y="2967120"/>
            <a:ext cx="1702080" cy="293400"/>
          </a:xfrm>
          <a:custGeom>
            <a:avLst/>
            <a:gdLst>
              <a:gd name="textAreaLeft" fmla="*/ 0 w 1702080"/>
              <a:gd name="textAreaRight" fmla="*/ 1702440 w 1702080"/>
              <a:gd name="textAreaTop" fmla="*/ 0 h 293400"/>
              <a:gd name="textAreaBottom" fmla="*/ 293760 h 293400"/>
            </a:gdLst>
            <a:ahLst/>
            <a:rect l="textAreaLeft" t="textAreaTop" r="textAreaRight" b="textAreaBottom"/>
            <a:pathLst>
              <a:path fill="none" w="43200" h="43117">
                <a:moveTo>
                  <a:pt x="23494" y="0"/>
                </a:moveTo>
                <a:cubicBezTo>
                  <a:pt x="34646" y="982"/>
                  <a:pt x="43200" y="10322"/>
                  <a:pt x="43200" y="21517"/>
                </a:cubicBezTo>
                <a:cubicBezTo>
                  <a:pt x="43200" y="33446"/>
                  <a:pt x="33529" y="43117"/>
                  <a:pt x="21600" y="43117"/>
                </a:cubicBezTo>
                <a:cubicBezTo>
                  <a:pt x="9670" y="43117"/>
                  <a:pt x="0" y="33446"/>
                  <a:pt x="0" y="21517"/>
                </a:cubicBezTo>
                <a:cubicBezTo>
                  <a:pt x="-1" y="15795"/>
                  <a:pt x="2269" y="10308"/>
                  <a:pt x="6311" y="6259"/>
                </a:cubicBezTo>
              </a:path>
              <a:path stroke="0" w="43200" h="43117">
                <a:moveTo>
                  <a:pt x="23494" y="0"/>
                </a:moveTo>
                <a:cubicBezTo>
                  <a:pt x="34646" y="982"/>
                  <a:pt x="43200" y="10322"/>
                  <a:pt x="43200" y="21517"/>
                </a:cubicBezTo>
                <a:cubicBezTo>
                  <a:pt x="43200" y="33446"/>
                  <a:pt x="33529" y="43117"/>
                  <a:pt x="21600" y="43117"/>
                </a:cubicBezTo>
                <a:cubicBezTo>
                  <a:pt x="9670" y="43117"/>
                  <a:pt x="0" y="33446"/>
                  <a:pt x="0" y="21517"/>
                </a:cubicBezTo>
                <a:cubicBezTo>
                  <a:pt x="-1" y="15795"/>
                  <a:pt x="2269" y="10308"/>
                  <a:pt x="6311" y="6259"/>
                </a:cubicBezTo>
                <a:lnTo>
                  <a:pt x="21600" y="21517"/>
                </a:lnTo>
                <a:close/>
              </a:path>
            </a:pathLst>
          </a:custGeom>
          <a:noFill/>
          <a:ln w="1270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Oval 197"/>
          <p:cNvSpPr/>
          <p:nvPr/>
        </p:nvSpPr>
        <p:spPr>
          <a:xfrm rot="5400000">
            <a:off x="6796440" y="1446480"/>
            <a:ext cx="368280" cy="2185200"/>
          </a:xfrm>
          <a:prstGeom prst="ellipse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767676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166"/>
          <p:cNvSpPr/>
          <p:nvPr/>
        </p:nvSpPr>
        <p:spPr>
          <a:xfrm>
            <a:off x="1889280" y="51519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66"/>
          <p:cNvSpPr/>
          <p:nvPr/>
        </p:nvSpPr>
        <p:spPr>
          <a:xfrm>
            <a:off x="5882760" y="52840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26"/>
          <p:cNvSpPr/>
          <p:nvPr/>
        </p:nvSpPr>
        <p:spPr>
          <a:xfrm>
            <a:off x="827640" y="1958400"/>
            <a:ext cx="236808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或者通过复制您的文本后，在此框中选择粘贴，并选择只保留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27"/>
          <p:cNvSpPr/>
          <p:nvPr/>
        </p:nvSpPr>
        <p:spPr>
          <a:xfrm>
            <a:off x="898560" y="1620000"/>
            <a:ext cx="12801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您的小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组合 14"/>
          <p:cNvGrpSpPr/>
          <p:nvPr/>
        </p:nvGrpSpPr>
        <p:grpSpPr>
          <a:xfrm>
            <a:off x="4974840" y="1411200"/>
            <a:ext cx="3744000" cy="3744000"/>
            <a:chOff x="4974840" y="1411200"/>
            <a:chExt cx="3744000" cy="3744000"/>
          </a:xfrm>
        </p:grpSpPr>
        <p:grpSp>
          <p:nvGrpSpPr>
            <p:cNvPr id="304" name="组合 10"/>
            <p:cNvGrpSpPr/>
            <p:nvPr/>
          </p:nvGrpSpPr>
          <p:grpSpPr>
            <a:xfrm>
              <a:off x="4974840" y="1411200"/>
              <a:ext cx="3744000" cy="3744000"/>
              <a:chOff x="4974840" y="1411200"/>
              <a:chExt cx="3744000" cy="3744000"/>
            </a:xfrm>
          </p:grpSpPr>
          <p:sp>
            <p:nvSpPr>
              <p:cNvPr id="305" name="椭圆 8"/>
              <p:cNvSpPr/>
              <p:nvPr/>
            </p:nvSpPr>
            <p:spPr>
              <a:xfrm>
                <a:off x="4974840" y="1411200"/>
                <a:ext cx="3744000" cy="3744000"/>
              </a:xfrm>
              <a:prstGeom prst="ellipse">
                <a:avLst/>
              </a:prstGeom>
              <a:noFill/>
              <a:ln w="12700">
                <a:solidFill>
                  <a:srgbClr val="4f81bd">
                    <a:lumMod val="60000"/>
                    <a:lumOff val="40000"/>
                  </a:srgbClr>
                </a:solidFill>
                <a:round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grpSp>
            <p:nvGrpSpPr>
              <p:cNvPr id="306" name="组合 7"/>
              <p:cNvGrpSpPr/>
              <p:nvPr/>
            </p:nvGrpSpPr>
            <p:grpSpPr>
              <a:xfrm>
                <a:off x="5127480" y="1563840"/>
                <a:ext cx="3439080" cy="3438720"/>
                <a:chOff x="5127480" y="1563840"/>
                <a:chExt cx="3439080" cy="3438720"/>
              </a:xfrm>
            </p:grpSpPr>
            <p:sp>
              <p:nvSpPr>
                <p:cNvPr id="307" name="任意多边形 3"/>
                <p:cNvSpPr/>
                <p:nvPr/>
              </p:nvSpPr>
              <p:spPr>
                <a:xfrm>
                  <a:off x="5153040" y="1563840"/>
                  <a:ext cx="3413520" cy="3413520"/>
                </a:xfrm>
                <a:custGeom>
                  <a:avLst/>
                  <a:gdLst>
                    <a:gd name="textAreaLeft" fmla="*/ 0 w 3413520"/>
                    <a:gd name="textAreaRight" fmla="*/ 3413880 w 3413520"/>
                    <a:gd name="textAreaTop" fmla="*/ 0 h 3413520"/>
                    <a:gd name="textAreaBottom" fmla="*/ 3413880 h 3413520"/>
                  </a:gdLst>
                  <a:ahLst/>
                  <a:rect l="textAreaLeft" t="textAreaTop" r="textAreaRight" b="textAreaBottom"/>
                  <a:pathLst>
                    <a:path w="3413760" h="3413760">
                      <a:moveTo>
                        <a:pt x="1706880" y="0"/>
                      </a:moveTo>
                      <a:cubicBezTo>
                        <a:pt x="2649564" y="0"/>
                        <a:pt x="3413760" y="764196"/>
                        <a:pt x="3413760" y="1706880"/>
                      </a:cubicBezTo>
                      <a:lnTo>
                        <a:pt x="1706880" y="1706880"/>
                      </a:lnTo>
                      <a:lnTo>
                        <a:pt x="1706880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lt1">
                    <a:hueOff val="0"/>
                    <a:satOff val="0"/>
                    <a:lumOff val="0"/>
                    <a:alphaOff val="0"/>
                  </a:schemeClr>
                </a:lnRef>
                <a:fillRef idx="1">
                  <a:schemeClr val="accent1">
                    <a:hueOff val="0"/>
                    <a:satOff val="0"/>
                    <a:lumOff val="0"/>
                    <a:alphaOff val="0"/>
                  </a:schemeClr>
                </a:fillRef>
                <a:effectRef idx="0">
                  <a:schemeClr val="accent1">
                    <a:hueOff val="0"/>
                    <a:satOff val="0"/>
                    <a:lumOff val="0"/>
                    <a:alphaOff val="0"/>
                  </a:schemeClr>
                </a:effectRef>
                <a:fontRef idx="minor"/>
              </p:style>
              <p:txBody>
                <a:bodyPr numCol="1" spcCol="1440" lIns="1796760" rIns="459000" tIns="682200" bIns="181692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400"/>
                    </a:spcAft>
                  </a:pPr>
                  <a:endParaRPr b="0" lang="en-US" sz="4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" name="任意多边形 4"/>
                <p:cNvSpPr/>
                <p:nvPr/>
              </p:nvSpPr>
              <p:spPr>
                <a:xfrm>
                  <a:off x="5150880" y="1589040"/>
                  <a:ext cx="3413520" cy="3413520"/>
                </a:xfrm>
                <a:custGeom>
                  <a:avLst/>
                  <a:gdLst>
                    <a:gd name="textAreaLeft" fmla="*/ 0 w 3413520"/>
                    <a:gd name="textAreaRight" fmla="*/ 3413880 w 3413520"/>
                    <a:gd name="textAreaTop" fmla="*/ 0 h 3413520"/>
                    <a:gd name="textAreaBottom" fmla="*/ 3413880 h 3413520"/>
                  </a:gdLst>
                  <a:ahLst/>
                  <a:rect l="textAreaLeft" t="textAreaTop" r="textAreaRight" b="textAreaBottom"/>
                  <a:pathLst>
                    <a:path w="3413760" h="3413760">
                      <a:moveTo>
                        <a:pt x="3413760" y="1706880"/>
                      </a:moveTo>
                      <a:cubicBezTo>
                        <a:pt x="3413760" y="2649564"/>
                        <a:pt x="2649564" y="3413760"/>
                        <a:pt x="1706880" y="3413760"/>
                      </a:cubicBezTo>
                      <a:lnTo>
                        <a:pt x="1706880" y="1706880"/>
                      </a:lnTo>
                      <a:lnTo>
                        <a:pt x="3413760" y="170688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lt1">
                    <a:hueOff val="0"/>
                    <a:satOff val="0"/>
                    <a:lumOff val="0"/>
                    <a:alphaOff val="0"/>
                  </a:schemeClr>
                </a:lnRef>
                <a:fillRef idx="1">
                  <a:schemeClr val="accent1">
                    <a:hueOff val="0"/>
                    <a:satOff val="0"/>
                    <a:lumOff val="0"/>
                    <a:alphaOff val="0"/>
                  </a:schemeClr>
                </a:fillRef>
                <a:effectRef idx="0">
                  <a:schemeClr val="accent1">
                    <a:hueOff val="0"/>
                    <a:satOff val="0"/>
                    <a:lumOff val="0"/>
                    <a:alphaOff val="0"/>
                  </a:schemeClr>
                </a:effectRef>
                <a:fontRef idx="minor"/>
              </p:style>
              <p:txBody>
                <a:bodyPr numCol="1" spcCol="1440" lIns="1848960" rIns="467280" tIns="1848960" bIns="7113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2239"/>
                    </a:spcAft>
                  </a:pPr>
                  <a:endParaRPr b="0" lang="en-US" sz="64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" name="任意多边形 5"/>
                <p:cNvSpPr/>
                <p:nvPr/>
              </p:nvSpPr>
              <p:spPr>
                <a:xfrm>
                  <a:off x="5127480" y="1589040"/>
                  <a:ext cx="3413520" cy="3413520"/>
                </a:xfrm>
                <a:custGeom>
                  <a:avLst/>
                  <a:gdLst>
                    <a:gd name="textAreaLeft" fmla="*/ 0 w 3413520"/>
                    <a:gd name="textAreaRight" fmla="*/ 3413880 w 3413520"/>
                    <a:gd name="textAreaTop" fmla="*/ 0 h 3413520"/>
                    <a:gd name="textAreaBottom" fmla="*/ 3413880 h 3413520"/>
                  </a:gdLst>
                  <a:ahLst/>
                  <a:rect l="textAreaLeft" t="textAreaTop" r="textAreaRight" b="textAreaBottom"/>
                  <a:pathLst>
                    <a:path w="3413760" h="3413760">
                      <a:moveTo>
                        <a:pt x="1706880" y="3413760"/>
                      </a:moveTo>
                      <a:cubicBezTo>
                        <a:pt x="764196" y="3413760"/>
                        <a:pt x="0" y="2649564"/>
                        <a:pt x="0" y="1706880"/>
                      </a:cubicBezTo>
                      <a:lnTo>
                        <a:pt x="1706880" y="1706880"/>
                      </a:lnTo>
                      <a:lnTo>
                        <a:pt x="1706880" y="3413760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lt1">
                    <a:hueOff val="0"/>
                    <a:satOff val="0"/>
                    <a:lumOff val="0"/>
                    <a:alphaOff val="0"/>
                  </a:schemeClr>
                </a:lnRef>
                <a:fillRef idx="1">
                  <a:schemeClr val="accent1">
                    <a:hueOff val="0"/>
                    <a:satOff val="0"/>
                    <a:lumOff val="0"/>
                    <a:alphaOff val="0"/>
                  </a:schemeClr>
                </a:fillRef>
                <a:effectRef idx="0">
                  <a:schemeClr val="accent1">
                    <a:hueOff val="0"/>
                    <a:satOff val="0"/>
                    <a:lumOff val="0"/>
                    <a:alphaOff val="0"/>
                  </a:schemeClr>
                </a:effectRef>
                <a:fontRef idx="minor"/>
              </p:style>
              <p:txBody>
                <a:bodyPr numCol="1" spcCol="1440" lIns="437040" rIns="1818720" tIns="1818720" bIns="68076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400"/>
                    </a:spcAft>
                  </a:pPr>
                  <a:endParaRPr b="0" lang="en-US" sz="4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" name="任意多边形 6"/>
                <p:cNvSpPr/>
                <p:nvPr/>
              </p:nvSpPr>
              <p:spPr>
                <a:xfrm>
                  <a:off x="5127480" y="1565640"/>
                  <a:ext cx="3413520" cy="3413520"/>
                </a:xfrm>
                <a:custGeom>
                  <a:avLst/>
                  <a:gdLst>
                    <a:gd name="textAreaLeft" fmla="*/ 0 w 3413520"/>
                    <a:gd name="textAreaRight" fmla="*/ 3413880 w 3413520"/>
                    <a:gd name="textAreaTop" fmla="*/ 0 h 3413520"/>
                    <a:gd name="textAreaBottom" fmla="*/ 3413880 h 3413520"/>
                  </a:gdLst>
                  <a:ahLst/>
                  <a:rect l="textAreaLeft" t="textAreaTop" r="textAreaRight" b="textAreaBottom"/>
                  <a:pathLst>
                    <a:path w="3413760" h="3413760">
                      <a:moveTo>
                        <a:pt x="0" y="1706880"/>
                      </a:moveTo>
                      <a:cubicBezTo>
                        <a:pt x="0" y="764196"/>
                        <a:pt x="764196" y="0"/>
                        <a:pt x="1706880" y="0"/>
                      </a:cubicBezTo>
                      <a:lnTo>
                        <a:pt x="1706880" y="1706880"/>
                      </a:lnTo>
                      <a:lnTo>
                        <a:pt x="0" y="1706880"/>
                      </a:lnTo>
                      <a:close/>
                    </a:path>
                  </a:pathLst>
                </a:custGeom>
                <a:blipFill rotWithShape="0">
                  <a:blip r:embed="rId4"/>
                  <a:srcRect/>
                  <a:stretch/>
                </a:blipFill>
                <a:ln>
                  <a:solidFill>
                    <a:srgbClr val="ffffff"/>
                  </a:solidFill>
                  <a:round/>
                </a:ln>
              </p:spPr>
              <p:style>
                <a:lnRef idx="2">
                  <a:schemeClr val="lt1">
                    <a:hueOff val="0"/>
                    <a:satOff val="0"/>
                    <a:lumOff val="0"/>
                    <a:alphaOff val="0"/>
                  </a:schemeClr>
                </a:lnRef>
                <a:fillRef idx="1">
                  <a:schemeClr val="accent1">
                    <a:hueOff val="0"/>
                    <a:satOff val="0"/>
                    <a:lumOff val="0"/>
                    <a:alphaOff val="0"/>
                  </a:schemeClr>
                </a:fillRef>
                <a:effectRef idx="0">
                  <a:schemeClr val="accent1">
                    <a:hueOff val="0"/>
                    <a:satOff val="0"/>
                    <a:lumOff val="0"/>
                    <a:alphaOff val="0"/>
                  </a:schemeClr>
                </a:effectRef>
                <a:fontRef idx="minor"/>
              </p:style>
              <p:txBody>
                <a:bodyPr numCol="1" spcCol="1440" lIns="437040" rIns="1818720" tIns="680760" bIns="1818720" anchor="ctr">
                  <a:noAutofit/>
                </a:bodyPr>
                <a:p>
                  <a:pPr algn="ctr">
                    <a:lnSpc>
                      <a:spcPct val="90000"/>
                    </a:lnSpc>
                    <a:spcAft>
                      <a:spcPts val="1400"/>
                    </a:spcAft>
                  </a:pPr>
                  <a:endParaRPr b="0" lang="en-US" sz="40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311" name="椭圆 9"/>
            <p:cNvSpPr/>
            <p:nvPr/>
          </p:nvSpPr>
          <p:spPr>
            <a:xfrm>
              <a:off x="6090840" y="2527200"/>
              <a:ext cx="1511640" cy="1511640"/>
            </a:xfrm>
            <a:prstGeom prst="ellipse">
              <a:avLst/>
            </a:prstGeom>
            <a:solidFill>
              <a:schemeClr val="bg1"/>
            </a:solidFill>
            <a:ln w="12700">
              <a:solidFill>
                <a:srgbClr val="1f497d">
                  <a:lumMod val="40000"/>
                  <a:lumOff val="6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zh-CN" sz="2800" spc="-1" strike="noStrike">
                  <a:solidFill>
                    <a:schemeClr val="accent1"/>
                  </a:solidFill>
                  <a:latin typeface="Calibri"/>
                </a:rPr>
                <a:t>文本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1100" spc="-1" strike="noStrike">
                  <a:solidFill>
                    <a:schemeClr val="accent1"/>
                  </a:solidFill>
                  <a:latin typeface="Calibri"/>
                </a:rPr>
                <a:t>文本文本文本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13"/>
          <p:cNvSpPr/>
          <p:nvPr/>
        </p:nvSpPr>
        <p:spPr>
          <a:xfrm>
            <a:off x="611640" y="1807920"/>
            <a:ext cx="4195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7"/>
          <p:cNvSpPr/>
          <p:nvPr/>
        </p:nvSpPr>
        <p:spPr>
          <a:xfrm>
            <a:off x="891000" y="126864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8"/>
          <p:cNvSpPr/>
          <p:nvPr/>
        </p:nvSpPr>
        <p:spPr>
          <a:xfrm>
            <a:off x="1848600" y="1375920"/>
            <a:ext cx="188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eb4e3"/>
                </a:solidFill>
                <a:latin typeface="Calisto MT"/>
              </a:rPr>
              <a:t>Your  Title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组合 65"/>
          <p:cNvGrpSpPr/>
          <p:nvPr/>
        </p:nvGrpSpPr>
        <p:grpSpPr>
          <a:xfrm>
            <a:off x="611280" y="1735920"/>
            <a:ext cx="5256720" cy="3277080"/>
            <a:chOff x="611280" y="1735920"/>
            <a:chExt cx="5256720" cy="3277080"/>
          </a:xfrm>
        </p:grpSpPr>
        <p:cxnSp>
          <p:nvCxnSpPr>
            <p:cNvPr id="316" name="直接连接符 16"/>
            <p:cNvCxnSpPr/>
            <p:nvPr/>
          </p:nvCxnSpPr>
          <p:spPr>
            <a:xfrm>
              <a:off x="611280" y="1735920"/>
              <a:ext cx="4969080" cy="360"/>
            </a:xfrm>
            <a:prstGeom prst="straightConnector1">
              <a:avLst/>
            </a:prstGeom>
            <a:ln w="12700">
              <a:solidFill>
                <a:srgbClr val="4f81b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317" name="直接连接符 19"/>
            <p:cNvCxnSpPr/>
            <p:nvPr/>
          </p:nvCxnSpPr>
          <p:spPr>
            <a:xfrm>
              <a:off x="611280" y="2554920"/>
              <a:ext cx="4393080" cy="360"/>
            </a:xfrm>
            <a:prstGeom prst="straightConnector1">
              <a:avLst/>
            </a:prstGeom>
            <a:ln w="12700">
              <a:solidFill>
                <a:srgbClr val="4f81b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318" name="直接连接符 20"/>
            <p:cNvCxnSpPr/>
            <p:nvPr/>
          </p:nvCxnSpPr>
          <p:spPr>
            <a:xfrm>
              <a:off x="611280" y="3374280"/>
              <a:ext cx="4249080" cy="360"/>
            </a:xfrm>
            <a:prstGeom prst="straightConnector1">
              <a:avLst/>
            </a:prstGeom>
            <a:ln w="12700">
              <a:solidFill>
                <a:srgbClr val="4f81b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319" name="直接连接符 21"/>
            <p:cNvCxnSpPr/>
            <p:nvPr/>
          </p:nvCxnSpPr>
          <p:spPr>
            <a:xfrm>
              <a:off x="611280" y="4193640"/>
              <a:ext cx="4465080" cy="360"/>
            </a:xfrm>
            <a:prstGeom prst="straightConnector1">
              <a:avLst/>
            </a:prstGeom>
            <a:ln w="12700">
              <a:solidFill>
                <a:srgbClr val="4f81bd">
                  <a:lumMod val="60000"/>
                  <a:lumOff val="40000"/>
                </a:srgbClr>
              </a:solidFill>
              <a:round/>
            </a:ln>
          </p:spPr>
        </p:cxnSp>
        <p:cxnSp>
          <p:nvCxnSpPr>
            <p:cNvPr id="320" name="直接连接符 22"/>
            <p:cNvCxnSpPr/>
            <p:nvPr/>
          </p:nvCxnSpPr>
          <p:spPr>
            <a:xfrm>
              <a:off x="611280" y="5013000"/>
              <a:ext cx="5257080" cy="360"/>
            </a:xfrm>
            <a:prstGeom prst="straightConnector1">
              <a:avLst/>
            </a:prstGeom>
            <a:ln w="12700">
              <a:solidFill>
                <a:srgbClr val="4f81bd">
                  <a:lumMod val="60000"/>
                  <a:lumOff val="40000"/>
                </a:srgbClr>
              </a:solidFill>
              <a:round/>
            </a:ln>
          </p:spPr>
        </p:cxnSp>
      </p:grpSp>
      <p:sp>
        <p:nvSpPr>
          <p:cNvPr id="321" name="TextBox 28"/>
          <p:cNvSpPr/>
          <p:nvPr/>
        </p:nvSpPr>
        <p:spPr>
          <a:xfrm>
            <a:off x="611640" y="2636280"/>
            <a:ext cx="4195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29"/>
          <p:cNvSpPr/>
          <p:nvPr/>
        </p:nvSpPr>
        <p:spPr>
          <a:xfrm>
            <a:off x="611640" y="3464640"/>
            <a:ext cx="4195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30"/>
          <p:cNvSpPr/>
          <p:nvPr/>
        </p:nvSpPr>
        <p:spPr>
          <a:xfrm>
            <a:off x="611640" y="4293000"/>
            <a:ext cx="41954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2"/>
          <p:cNvSpPr/>
          <p:nvPr/>
        </p:nvSpPr>
        <p:spPr>
          <a:xfrm>
            <a:off x="2988000" y="424440"/>
            <a:ext cx="6155640" cy="1223640"/>
          </a:xfrm>
          <a:prstGeom prst="rect">
            <a:avLst/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7" name="任意多边形 4"/>
          <p:cNvSpPr/>
          <p:nvPr/>
        </p:nvSpPr>
        <p:spPr>
          <a:xfrm>
            <a:off x="0" y="1772640"/>
            <a:ext cx="9130680" cy="2233440"/>
          </a:xfrm>
          <a:custGeom>
            <a:avLst/>
            <a:gdLst>
              <a:gd name="textAreaLeft" fmla="*/ 0 w 9130680"/>
              <a:gd name="textAreaRight" fmla="*/ 9131040 w 913068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9130937" h="2233748">
                <a:moveTo>
                  <a:pt x="0" y="2233748"/>
                </a:moveTo>
                <a:lnTo>
                  <a:pt x="3030583" y="0"/>
                </a:lnTo>
                <a:lnTo>
                  <a:pt x="9130937" y="0"/>
                </a:lnTo>
              </a:path>
            </a:pathLst>
          </a:custGeom>
          <a:noFill/>
          <a:ln>
            <a:solidFill>
              <a:srgbClr val="4f81b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28" name="TextBox 7"/>
          <p:cNvSpPr/>
          <p:nvPr/>
        </p:nvSpPr>
        <p:spPr>
          <a:xfrm>
            <a:off x="4614120" y="682560"/>
            <a:ext cx="26193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写在这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8"/>
          <p:cNvSpPr/>
          <p:nvPr/>
        </p:nvSpPr>
        <p:spPr>
          <a:xfrm>
            <a:off x="3914280" y="2709000"/>
            <a:ext cx="4878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10"/>
          <p:cNvSpPr/>
          <p:nvPr/>
        </p:nvSpPr>
        <p:spPr>
          <a:xfrm>
            <a:off x="4185720" y="2061000"/>
            <a:ext cx="943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您的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1"/>
          <p:cNvSpPr/>
          <p:nvPr/>
        </p:nvSpPr>
        <p:spPr>
          <a:xfrm>
            <a:off x="3884400" y="4416840"/>
            <a:ext cx="4878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微软雅黑"/>
                <a:ea typeface="微软雅黑"/>
              </a:rPr>
              <a:t>您的内容打在这里，或者通过复制您的文本后，在此框中选择粘贴，并选择只保留文字。您的内容打在这里，或者通过复制您的文本后，在此框中选择粘贴，并选择只保留文字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3"/>
          <p:cNvSpPr/>
          <p:nvPr/>
        </p:nvSpPr>
        <p:spPr>
          <a:xfrm>
            <a:off x="4155480" y="3759480"/>
            <a:ext cx="94320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chemeClr val="accent1"/>
                </a:solidFill>
                <a:latin typeface="微软雅黑"/>
                <a:ea typeface="微软雅黑"/>
              </a:rPr>
              <a:t>您的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6"/>
          <p:cNvSpPr/>
          <p:nvPr/>
        </p:nvSpPr>
        <p:spPr>
          <a:xfrm>
            <a:off x="-14040" y="417600"/>
            <a:ext cx="3001680" cy="3326760"/>
          </a:xfrm>
          <a:custGeom>
            <a:avLst/>
            <a:gdLst>
              <a:gd name="textAreaLeft" fmla="*/ 0 w 3001680"/>
              <a:gd name="textAreaRight" fmla="*/ 3002040 w 3001680"/>
              <a:gd name="textAreaTop" fmla="*/ 0 h 3326760"/>
              <a:gd name="textAreaBottom" fmla="*/ 3327120 h 3326760"/>
            </a:gdLst>
            <a:ahLst/>
            <a:rect l="textAreaLeft" t="textAreaTop" r="textAreaRight" b="textAreaBottom"/>
            <a:pathLst>
              <a:path w="3001862" h="3327256">
                <a:moveTo>
                  <a:pt x="1256" y="2024743"/>
                </a:moveTo>
                <a:lnTo>
                  <a:pt x="3001862" y="0"/>
                </a:lnTo>
                <a:lnTo>
                  <a:pt x="3001862" y="1224136"/>
                </a:lnTo>
                <a:lnTo>
                  <a:pt x="1256" y="3327256"/>
                </a:lnTo>
                <a:cubicBezTo>
                  <a:pt x="5610" y="2688434"/>
                  <a:pt x="-3098" y="2663565"/>
                  <a:pt x="1256" y="2024743"/>
                </a:cubicBezTo>
                <a:close/>
              </a:path>
            </a:pathLst>
          </a:cu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4" name="任意多边形 15"/>
          <p:cNvSpPr/>
          <p:nvPr/>
        </p:nvSpPr>
        <p:spPr>
          <a:xfrm>
            <a:off x="2880" y="2537640"/>
            <a:ext cx="9091440" cy="2207160"/>
          </a:xfrm>
          <a:custGeom>
            <a:avLst/>
            <a:gdLst>
              <a:gd name="textAreaLeft" fmla="*/ 0 w 9091440"/>
              <a:gd name="textAreaRight" fmla="*/ 9091800 w 9091440"/>
              <a:gd name="textAreaTop" fmla="*/ 0 h 2207160"/>
              <a:gd name="textAreaBottom" fmla="*/ 2207520 h 2207160"/>
            </a:gdLst>
            <a:ahLst/>
            <a:rect l="textAreaLeft" t="textAreaTop" r="textAreaRight" b="textAreaBottom"/>
            <a:pathLst>
              <a:path w="9091748" h="2207622">
                <a:moveTo>
                  <a:pt x="0" y="2207622"/>
                </a:moveTo>
                <a:lnTo>
                  <a:pt x="2991394" y="0"/>
                </a:lnTo>
                <a:lnTo>
                  <a:pt x="9091748" y="0"/>
                </a:lnTo>
              </a:path>
            </a:pathLst>
          </a:custGeom>
          <a:noFill/>
          <a:ln>
            <a:solidFill>
              <a:srgbClr val="4f81bd">
                <a:lumMod val="60000"/>
                <a:lumOff val="40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5" name="任意多边形 16"/>
          <p:cNvSpPr/>
          <p:nvPr/>
        </p:nvSpPr>
        <p:spPr>
          <a:xfrm>
            <a:off x="-23760" y="4235760"/>
            <a:ext cx="8973720" cy="2115720"/>
          </a:xfrm>
          <a:custGeom>
            <a:avLst/>
            <a:gdLst>
              <a:gd name="textAreaLeft" fmla="*/ 0 w 8973720"/>
              <a:gd name="textAreaRight" fmla="*/ 8974080 w 8973720"/>
              <a:gd name="textAreaTop" fmla="*/ 0 h 2115720"/>
              <a:gd name="textAreaBottom" fmla="*/ 2116080 h 2115720"/>
            </a:gdLst>
            <a:ahLst/>
            <a:rect l="textAreaLeft" t="textAreaTop" r="textAreaRight" b="textAreaBottom"/>
            <a:pathLst>
              <a:path w="8974183" h="2116183">
                <a:moveTo>
                  <a:pt x="0" y="2116183"/>
                </a:moveTo>
                <a:lnTo>
                  <a:pt x="2873829" y="0"/>
                </a:lnTo>
                <a:lnTo>
                  <a:pt x="8974183" y="0"/>
                </a:lnTo>
              </a:path>
            </a:pathLst>
          </a:custGeom>
          <a:noFill/>
          <a:ln>
            <a:solidFill>
              <a:srgbClr val="4f81bd">
                <a:lumMod val="60000"/>
                <a:lumOff val="40000"/>
              </a:srgbClr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36" name="燕尾形 14"/>
          <p:cNvSpPr/>
          <p:nvPr/>
        </p:nvSpPr>
        <p:spPr>
          <a:xfrm>
            <a:off x="3708000" y="2205000"/>
            <a:ext cx="147600" cy="158040"/>
          </a:xfrm>
          <a:prstGeom prst="chevron">
            <a:avLst>
              <a:gd name="adj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燕尾形 18"/>
          <p:cNvSpPr/>
          <p:nvPr/>
        </p:nvSpPr>
        <p:spPr>
          <a:xfrm>
            <a:off x="3708000" y="3898080"/>
            <a:ext cx="147600" cy="158040"/>
          </a:xfrm>
          <a:prstGeom prst="chevron">
            <a:avLst>
              <a:gd name="adj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燕尾形 17"/>
          <p:cNvSpPr/>
          <p:nvPr/>
        </p:nvSpPr>
        <p:spPr>
          <a:xfrm>
            <a:off x="3571200" y="2205000"/>
            <a:ext cx="147600" cy="158040"/>
          </a:xfrm>
          <a:prstGeom prst="chevron">
            <a:avLst>
              <a:gd name="adj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燕尾形 19"/>
          <p:cNvSpPr/>
          <p:nvPr/>
        </p:nvSpPr>
        <p:spPr>
          <a:xfrm>
            <a:off x="3571200" y="3899160"/>
            <a:ext cx="147600" cy="158040"/>
          </a:xfrm>
          <a:prstGeom prst="chevron">
            <a:avLst>
              <a:gd name="adj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</a:rPr>
              <a:t>单击此处添加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156"/>
          <p:cNvSpPr/>
          <p:nvPr/>
        </p:nvSpPr>
        <p:spPr>
          <a:xfrm flipH="1">
            <a:off x="1319400" y="5374800"/>
            <a:ext cx="1590480" cy="363960"/>
          </a:xfrm>
          <a:prstGeom prst="rect">
            <a:avLst/>
          </a:prstGeom>
          <a:solidFill>
            <a:srgbClr val="3b3b3b"/>
          </a:solidFill>
          <a:ln w="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57"/>
          <p:cNvSpPr/>
          <p:nvPr/>
        </p:nvSpPr>
        <p:spPr>
          <a:xfrm flipH="1">
            <a:off x="5721840" y="5374800"/>
            <a:ext cx="1590480" cy="363960"/>
          </a:xfrm>
          <a:prstGeom prst="rect">
            <a:avLst/>
          </a:prstGeom>
          <a:solidFill>
            <a:srgbClr val="3b3b3b"/>
          </a:solidFill>
          <a:ln w="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Freeform 6"/>
          <p:cNvSpPr/>
          <p:nvPr/>
        </p:nvSpPr>
        <p:spPr>
          <a:xfrm>
            <a:off x="4740120" y="2457360"/>
            <a:ext cx="169920" cy="55440"/>
          </a:xfrm>
          <a:custGeom>
            <a:avLst/>
            <a:gdLst>
              <a:gd name="textAreaLeft" fmla="*/ 0 w 169920"/>
              <a:gd name="textAreaRight" fmla="*/ 170280 w 16992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07" h="35">
                <a:moveTo>
                  <a:pt x="107" y="35"/>
                </a:moveTo>
                <a:lnTo>
                  <a:pt x="73" y="0"/>
                </a:lnTo>
                <a:lnTo>
                  <a:pt x="0" y="0"/>
                </a:lnTo>
                <a:lnTo>
                  <a:pt x="29" y="35"/>
                </a:lnTo>
                <a:lnTo>
                  <a:pt x="107" y="35"/>
                </a:lnTo>
                <a:close/>
              </a:path>
            </a:pathLst>
          </a:custGeom>
          <a:solidFill>
            <a:srgbClr val="1a1a1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Freeform 7"/>
          <p:cNvSpPr/>
          <p:nvPr/>
        </p:nvSpPr>
        <p:spPr>
          <a:xfrm>
            <a:off x="3779280" y="2457360"/>
            <a:ext cx="168120" cy="52200"/>
          </a:xfrm>
          <a:custGeom>
            <a:avLst/>
            <a:gdLst>
              <a:gd name="textAreaLeft" fmla="*/ 0 w 168120"/>
              <a:gd name="textAreaRight" fmla="*/ 168480 w 16812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06" h="33">
                <a:moveTo>
                  <a:pt x="80" y="33"/>
                </a:moveTo>
                <a:lnTo>
                  <a:pt x="106" y="0"/>
                </a:lnTo>
                <a:lnTo>
                  <a:pt x="35" y="0"/>
                </a:lnTo>
                <a:lnTo>
                  <a:pt x="0" y="33"/>
                </a:lnTo>
                <a:lnTo>
                  <a:pt x="80" y="33"/>
                </a:lnTo>
                <a:close/>
              </a:path>
            </a:pathLst>
          </a:custGeom>
          <a:solidFill>
            <a:srgbClr val="1a1a1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Freeform 9"/>
          <p:cNvSpPr/>
          <p:nvPr/>
        </p:nvSpPr>
        <p:spPr>
          <a:xfrm>
            <a:off x="2362320" y="1964520"/>
            <a:ext cx="1585440" cy="2790720"/>
          </a:xfrm>
          <a:custGeom>
            <a:avLst/>
            <a:gdLst>
              <a:gd name="textAreaLeft" fmla="*/ 0 w 1585440"/>
              <a:gd name="textAreaRight" fmla="*/ 1585800 w 1585440"/>
              <a:gd name="textAreaTop" fmla="*/ 0 h 2790720"/>
              <a:gd name="textAreaBottom" fmla="*/ 2791080 h 2790720"/>
            </a:gdLst>
            <a:ahLst/>
            <a:rect l="textAreaLeft" t="textAreaTop" r="textAreaRight" b="textAreaBottom"/>
            <a:pathLst>
              <a:path w="422" h="743">
                <a:moveTo>
                  <a:pt x="342" y="0"/>
                </a:moveTo>
                <a:cubicBezTo>
                  <a:pt x="370" y="44"/>
                  <a:pt x="397" y="87"/>
                  <a:pt x="422" y="131"/>
                </a:cubicBezTo>
                <a:cubicBezTo>
                  <a:pt x="412" y="131"/>
                  <a:pt x="402" y="131"/>
                  <a:pt x="392" y="131"/>
                </a:cubicBezTo>
                <a:cubicBezTo>
                  <a:pt x="391" y="233"/>
                  <a:pt x="391" y="336"/>
                  <a:pt x="371" y="437"/>
                </a:cubicBezTo>
                <a:cubicBezTo>
                  <a:pt x="350" y="540"/>
                  <a:pt x="299" y="641"/>
                  <a:pt x="218" y="743"/>
                </a:cubicBezTo>
                <a:cubicBezTo>
                  <a:pt x="145" y="743"/>
                  <a:pt x="73" y="743"/>
                  <a:pt x="0" y="743"/>
                </a:cubicBezTo>
                <a:cubicBezTo>
                  <a:pt x="137" y="641"/>
                  <a:pt x="223" y="543"/>
                  <a:pt x="260" y="437"/>
                </a:cubicBezTo>
                <a:cubicBezTo>
                  <a:pt x="295" y="338"/>
                  <a:pt x="297" y="233"/>
                  <a:pt x="299" y="131"/>
                </a:cubicBezTo>
                <a:cubicBezTo>
                  <a:pt x="289" y="131"/>
                  <a:pt x="279" y="131"/>
                  <a:pt x="269" y="131"/>
                </a:cubicBezTo>
                <a:cubicBezTo>
                  <a:pt x="294" y="87"/>
                  <a:pt x="318" y="44"/>
                  <a:pt x="342" y="0"/>
                </a:cubicBezTo>
                <a:close/>
              </a:path>
            </a:pathLst>
          </a:custGeom>
          <a:gradFill rotWithShape="0">
            <a:gsLst>
              <a:gs pos="0">
                <a:srgbClr val="5a5a5a"/>
              </a:gs>
              <a:gs pos="100000">
                <a:srgbClr val="f2f2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Freeform 10"/>
          <p:cNvSpPr/>
          <p:nvPr/>
        </p:nvSpPr>
        <p:spPr>
          <a:xfrm>
            <a:off x="3967200" y="1964520"/>
            <a:ext cx="818640" cy="2795760"/>
          </a:xfrm>
          <a:custGeom>
            <a:avLst/>
            <a:gdLst>
              <a:gd name="textAreaLeft" fmla="*/ 0 w 818640"/>
              <a:gd name="textAreaRight" fmla="*/ 819000 w 818640"/>
              <a:gd name="textAreaTop" fmla="*/ 0 h 2795760"/>
              <a:gd name="textAreaBottom" fmla="*/ 2796120 h 2795760"/>
            </a:gdLst>
            <a:ahLst/>
            <a:rect l="textAreaLeft" t="textAreaTop" r="textAreaRight" b="textAreaBottom"/>
            <a:pathLst>
              <a:path w="218" h="744">
                <a:moveTo>
                  <a:pt x="103" y="0"/>
                </a:moveTo>
                <a:cubicBezTo>
                  <a:pt x="128" y="44"/>
                  <a:pt x="153" y="87"/>
                  <a:pt x="178" y="131"/>
                </a:cubicBezTo>
                <a:cubicBezTo>
                  <a:pt x="168" y="131"/>
                  <a:pt x="157" y="131"/>
                  <a:pt x="147" y="131"/>
                </a:cubicBezTo>
                <a:cubicBezTo>
                  <a:pt x="150" y="366"/>
                  <a:pt x="157" y="513"/>
                  <a:pt x="218" y="744"/>
                </a:cubicBezTo>
                <a:cubicBezTo>
                  <a:pt x="145" y="744"/>
                  <a:pt x="73" y="744"/>
                  <a:pt x="0" y="744"/>
                </a:cubicBezTo>
                <a:cubicBezTo>
                  <a:pt x="28" y="642"/>
                  <a:pt x="45" y="540"/>
                  <a:pt x="50" y="437"/>
                </a:cubicBezTo>
                <a:cubicBezTo>
                  <a:pt x="55" y="335"/>
                  <a:pt x="55" y="233"/>
                  <a:pt x="55" y="131"/>
                </a:cubicBezTo>
                <a:cubicBezTo>
                  <a:pt x="44" y="131"/>
                  <a:pt x="34" y="131"/>
                  <a:pt x="24" y="131"/>
                </a:cubicBezTo>
                <a:cubicBezTo>
                  <a:pt x="50" y="87"/>
                  <a:pt x="76" y="44"/>
                  <a:pt x="103" y="0"/>
                </a:cubicBez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8f7f3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Freeform 11"/>
          <p:cNvSpPr/>
          <p:nvPr/>
        </p:nvSpPr>
        <p:spPr>
          <a:xfrm>
            <a:off x="4740120" y="1964520"/>
            <a:ext cx="1648800" cy="2801880"/>
          </a:xfrm>
          <a:custGeom>
            <a:avLst/>
            <a:gdLst>
              <a:gd name="textAreaLeft" fmla="*/ 0 w 1648800"/>
              <a:gd name="textAreaRight" fmla="*/ 1649160 w 1648800"/>
              <a:gd name="textAreaTop" fmla="*/ 0 h 2801880"/>
              <a:gd name="textAreaBottom" fmla="*/ 2802240 h 2801880"/>
            </a:gdLst>
            <a:ahLst/>
            <a:rect l="textAreaLeft" t="textAreaTop" r="textAreaRight" b="textAreaBottom"/>
            <a:pathLst>
              <a:path w="439" h="746">
                <a:moveTo>
                  <a:pt x="84" y="0"/>
                </a:moveTo>
                <a:cubicBezTo>
                  <a:pt x="107" y="44"/>
                  <a:pt x="130" y="87"/>
                  <a:pt x="154" y="131"/>
                </a:cubicBezTo>
                <a:cubicBezTo>
                  <a:pt x="144" y="131"/>
                  <a:pt x="134" y="131"/>
                  <a:pt x="124" y="131"/>
                </a:cubicBezTo>
                <a:cubicBezTo>
                  <a:pt x="127" y="233"/>
                  <a:pt x="132" y="339"/>
                  <a:pt x="171" y="438"/>
                </a:cubicBezTo>
                <a:cubicBezTo>
                  <a:pt x="213" y="544"/>
                  <a:pt x="304" y="643"/>
                  <a:pt x="439" y="746"/>
                </a:cubicBezTo>
                <a:cubicBezTo>
                  <a:pt x="366" y="745"/>
                  <a:pt x="294" y="745"/>
                  <a:pt x="221" y="745"/>
                </a:cubicBezTo>
                <a:cubicBezTo>
                  <a:pt x="141" y="643"/>
                  <a:pt x="86" y="542"/>
                  <a:pt x="61" y="438"/>
                </a:cubicBezTo>
                <a:cubicBezTo>
                  <a:pt x="36" y="337"/>
                  <a:pt x="33" y="233"/>
                  <a:pt x="31" y="131"/>
                </a:cubicBezTo>
                <a:cubicBezTo>
                  <a:pt x="20" y="131"/>
                  <a:pt x="10" y="131"/>
                  <a:pt x="0" y="131"/>
                </a:cubicBezTo>
                <a:cubicBezTo>
                  <a:pt x="27" y="87"/>
                  <a:pt x="55" y="44"/>
                  <a:pt x="84" y="0"/>
                </a:cubicBezTo>
                <a:close/>
              </a:path>
            </a:pathLst>
          </a:custGeom>
          <a:gradFill rotWithShape="0">
            <a:gsLst>
              <a:gs pos="0">
                <a:srgbClr val="5a5a5a"/>
              </a:gs>
              <a:gs pos="100000">
                <a:srgbClr val="f2f2f2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Freeform 12"/>
          <p:cNvSpPr/>
          <p:nvPr/>
        </p:nvSpPr>
        <p:spPr>
          <a:xfrm>
            <a:off x="5056560" y="1964520"/>
            <a:ext cx="367200" cy="548280"/>
          </a:xfrm>
          <a:custGeom>
            <a:avLst/>
            <a:gdLst>
              <a:gd name="textAreaLeft" fmla="*/ 0 w 367200"/>
              <a:gd name="textAreaRight" fmla="*/ 367560 w 367200"/>
              <a:gd name="textAreaTop" fmla="*/ 0 h 548280"/>
              <a:gd name="textAreaBottom" fmla="*/ 548640 h 548280"/>
            </a:gdLst>
            <a:ahLst/>
            <a:rect l="textAreaLeft" t="textAreaTop" r="textAreaRight" b="textAreaBottom"/>
            <a:pathLst>
              <a:path w="98" h="146">
                <a:moveTo>
                  <a:pt x="26" y="14"/>
                </a:moveTo>
                <a:cubicBezTo>
                  <a:pt x="0" y="0"/>
                  <a:pt x="0" y="0"/>
                  <a:pt x="0" y="0"/>
                </a:cubicBezTo>
                <a:cubicBezTo>
                  <a:pt x="7" y="13"/>
                  <a:pt x="68" y="129"/>
                  <a:pt x="70" y="131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73" y="102"/>
                  <a:pt x="49" y="58"/>
                  <a:pt x="26" y="14"/>
                </a:cubicBezTo>
                <a:close/>
              </a:path>
            </a:pathLst>
          </a:custGeom>
          <a:gradFill rotWithShape="0">
            <a:gsLst>
              <a:gs pos="0">
                <a:srgbClr val="2d2d2d"/>
              </a:gs>
              <a:gs pos="100000">
                <a:srgbClr val="40404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Freeform 13"/>
          <p:cNvSpPr/>
          <p:nvPr/>
        </p:nvSpPr>
        <p:spPr>
          <a:xfrm>
            <a:off x="5205960" y="2457360"/>
            <a:ext cx="217440" cy="55440"/>
          </a:xfrm>
          <a:custGeom>
            <a:avLst/>
            <a:gdLst>
              <a:gd name="textAreaLeft" fmla="*/ 0 w 217440"/>
              <a:gd name="textAreaRight" fmla="*/ 217800 w 21744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137" h="35">
                <a:moveTo>
                  <a:pt x="137" y="35"/>
                </a:moveTo>
                <a:lnTo>
                  <a:pt x="71" y="0"/>
                </a:lnTo>
                <a:lnTo>
                  <a:pt x="0" y="0"/>
                </a:lnTo>
                <a:lnTo>
                  <a:pt x="59" y="35"/>
                </a:lnTo>
                <a:lnTo>
                  <a:pt x="137" y="35"/>
                </a:lnTo>
                <a:close/>
              </a:path>
            </a:pathLst>
          </a:custGeom>
          <a:solidFill>
            <a:srgbClr val="1a1a1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Freeform 14"/>
          <p:cNvSpPr/>
          <p:nvPr/>
        </p:nvSpPr>
        <p:spPr>
          <a:xfrm>
            <a:off x="5570280" y="4763520"/>
            <a:ext cx="1044720" cy="31140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657" h="196">
                <a:moveTo>
                  <a:pt x="657" y="196"/>
                </a:moveTo>
                <a:lnTo>
                  <a:pt x="515" y="2"/>
                </a:lnTo>
                <a:lnTo>
                  <a:pt x="0" y="0"/>
                </a:lnTo>
                <a:lnTo>
                  <a:pt x="85" y="194"/>
                </a:lnTo>
                <a:lnTo>
                  <a:pt x="657" y="196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6b6b6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Freeform 15"/>
          <p:cNvSpPr/>
          <p:nvPr/>
        </p:nvSpPr>
        <p:spPr>
          <a:xfrm>
            <a:off x="5205960" y="2457360"/>
            <a:ext cx="435240" cy="1621800"/>
          </a:xfrm>
          <a:custGeom>
            <a:avLst/>
            <a:gdLst>
              <a:gd name="textAreaLeft" fmla="*/ 0 w 435240"/>
              <a:gd name="textAreaRight" fmla="*/ 435600 w 435240"/>
              <a:gd name="textAreaTop" fmla="*/ 0 h 1621800"/>
              <a:gd name="textAreaBottom" fmla="*/ 1622160 h 1621800"/>
            </a:gdLst>
            <a:ahLst/>
            <a:rect l="textAreaLeft" t="textAreaTop" r="textAreaRight" b="textAreaBottom"/>
            <a:pathLst>
              <a:path w="116" h="432">
                <a:moveTo>
                  <a:pt x="25" y="15"/>
                </a:moveTo>
                <a:cubicBezTo>
                  <a:pt x="0" y="0"/>
                  <a:pt x="0" y="0"/>
                  <a:pt x="0" y="0"/>
                </a:cubicBezTo>
                <a:cubicBezTo>
                  <a:pt x="4" y="126"/>
                  <a:pt x="11" y="254"/>
                  <a:pt x="76" y="366"/>
                </a:cubicBezTo>
                <a:cubicBezTo>
                  <a:pt x="116" y="432"/>
                  <a:pt x="116" y="432"/>
                  <a:pt x="116" y="432"/>
                </a:cubicBezTo>
                <a:cubicBezTo>
                  <a:pt x="81" y="372"/>
                  <a:pt x="61" y="319"/>
                  <a:pt x="47" y="251"/>
                </a:cubicBezTo>
                <a:cubicBezTo>
                  <a:pt x="31" y="173"/>
                  <a:pt x="27" y="94"/>
                  <a:pt x="25" y="15"/>
                </a:cubicBezTo>
                <a:close/>
              </a:path>
            </a:pathLst>
          </a:custGeom>
          <a:gradFill rotWithShape="0">
            <a:gsLst>
              <a:gs pos="0">
                <a:srgbClr val="2d2d2d"/>
              </a:gs>
              <a:gs pos="100000">
                <a:srgbClr val="404040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Freeform 16"/>
          <p:cNvSpPr/>
          <p:nvPr/>
        </p:nvSpPr>
        <p:spPr>
          <a:xfrm>
            <a:off x="5048640" y="3864960"/>
            <a:ext cx="656640" cy="1206720"/>
          </a:xfrm>
          <a:custGeom>
            <a:avLst/>
            <a:gdLst>
              <a:gd name="textAreaLeft" fmla="*/ 0 w 656640"/>
              <a:gd name="textAreaRight" fmla="*/ 657000 w 656640"/>
              <a:gd name="textAreaTop" fmla="*/ 0 h 1206720"/>
              <a:gd name="textAreaBottom" fmla="*/ 1207080 h 1206720"/>
            </a:gdLst>
            <a:ahLst/>
            <a:rect l="textAreaLeft" t="textAreaTop" r="textAreaRight" b="textAreaBottom"/>
            <a:pathLst>
              <a:path w="175" h="321">
                <a:moveTo>
                  <a:pt x="175" y="321"/>
                </a:moveTo>
                <a:cubicBezTo>
                  <a:pt x="139" y="239"/>
                  <a:pt x="139" y="239"/>
                  <a:pt x="139" y="239"/>
                </a:cubicBezTo>
                <a:cubicBezTo>
                  <a:pt x="110" y="201"/>
                  <a:pt x="110" y="201"/>
                  <a:pt x="110" y="201"/>
                </a:cubicBezTo>
                <a:cubicBezTo>
                  <a:pt x="64" y="137"/>
                  <a:pt x="28" y="74"/>
                  <a:pt x="0" y="0"/>
                </a:cubicBezTo>
                <a:cubicBezTo>
                  <a:pt x="27" y="75"/>
                  <a:pt x="41" y="114"/>
                  <a:pt x="81" y="183"/>
                </a:cubicBezTo>
                <a:cubicBezTo>
                  <a:pt x="109" y="233"/>
                  <a:pt x="140" y="276"/>
                  <a:pt x="175" y="321"/>
                </a:cubicBezTo>
                <a:close/>
              </a:path>
            </a:pathLst>
          </a:custGeom>
          <a:solidFill>
            <a:srgbClr val="4d4d4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Freeform 17"/>
          <p:cNvSpPr/>
          <p:nvPr/>
        </p:nvSpPr>
        <p:spPr>
          <a:xfrm>
            <a:off x="4519080" y="2457360"/>
            <a:ext cx="145800" cy="55440"/>
          </a:xfrm>
          <a:custGeom>
            <a:avLst/>
            <a:gdLst>
              <a:gd name="textAreaLeft" fmla="*/ 0 w 145800"/>
              <a:gd name="textAreaRight" fmla="*/ 146160 w 1458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92" h="35">
                <a:moveTo>
                  <a:pt x="92" y="35"/>
                </a:moveTo>
                <a:lnTo>
                  <a:pt x="73" y="0"/>
                </a:lnTo>
                <a:lnTo>
                  <a:pt x="0" y="0"/>
                </a:lnTo>
                <a:lnTo>
                  <a:pt x="12" y="35"/>
                </a:lnTo>
                <a:lnTo>
                  <a:pt x="92" y="35"/>
                </a:lnTo>
                <a:close/>
              </a:path>
            </a:pathLst>
          </a:custGeom>
          <a:solidFill>
            <a:srgbClr val="1a1a1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Freeform 18"/>
          <p:cNvSpPr/>
          <p:nvPr/>
        </p:nvSpPr>
        <p:spPr>
          <a:xfrm>
            <a:off x="3925800" y="4760640"/>
            <a:ext cx="907920" cy="311400"/>
          </a:xfrm>
          <a:custGeom>
            <a:avLst/>
            <a:gdLst>
              <a:gd name="textAreaLeft" fmla="*/ 0 w 907920"/>
              <a:gd name="textAreaRight" fmla="*/ 908280 w 907920"/>
              <a:gd name="textAreaTop" fmla="*/ 0 h 311400"/>
              <a:gd name="textAreaBottom" fmla="*/ 311760 h 311400"/>
            </a:gdLst>
            <a:ahLst/>
            <a:rect l="textAreaLeft" t="textAreaTop" r="textAreaRight" b="textAreaBottom"/>
            <a:pathLst>
              <a:path w="571" h="196">
                <a:moveTo>
                  <a:pt x="571" y="196"/>
                </a:moveTo>
                <a:lnTo>
                  <a:pt x="541" y="0"/>
                </a:lnTo>
                <a:lnTo>
                  <a:pt x="26" y="0"/>
                </a:lnTo>
                <a:lnTo>
                  <a:pt x="0" y="193"/>
                </a:lnTo>
                <a:lnTo>
                  <a:pt x="571" y="196"/>
                </a:lnTo>
                <a:close/>
              </a:path>
            </a:pathLst>
          </a:custGeom>
          <a:gradFill rotWithShape="0">
            <a:gsLst>
              <a:gs pos="0">
                <a:srgbClr val="92928f"/>
              </a:gs>
              <a:gs pos="100000">
                <a:srgbClr val="d1d0cc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Freeform 19"/>
          <p:cNvSpPr/>
          <p:nvPr/>
        </p:nvSpPr>
        <p:spPr>
          <a:xfrm>
            <a:off x="4519080" y="2457360"/>
            <a:ext cx="96480" cy="1531080"/>
          </a:xfrm>
          <a:custGeom>
            <a:avLst/>
            <a:gdLst>
              <a:gd name="textAreaLeft" fmla="*/ 0 w 96480"/>
              <a:gd name="textAreaRight" fmla="*/ 96840 w 96480"/>
              <a:gd name="textAreaTop" fmla="*/ 0 h 1531080"/>
              <a:gd name="textAreaBottom" fmla="*/ 1531440 h 1531080"/>
            </a:gdLst>
            <a:ahLst/>
            <a:rect l="textAreaLeft" t="textAreaTop" r="textAreaRight" b="textAreaBottom"/>
            <a:pathLst>
              <a:path w="26" h="408">
                <a:moveTo>
                  <a:pt x="5" y="15"/>
                </a:moveTo>
                <a:cubicBezTo>
                  <a:pt x="0" y="0"/>
                  <a:pt x="0" y="0"/>
                  <a:pt x="0" y="0"/>
                </a:cubicBezTo>
                <a:cubicBezTo>
                  <a:pt x="2" y="118"/>
                  <a:pt x="4" y="238"/>
                  <a:pt x="19" y="355"/>
                </a:cubicBezTo>
                <a:cubicBezTo>
                  <a:pt x="26" y="408"/>
                  <a:pt x="26" y="408"/>
                  <a:pt x="26" y="408"/>
                </a:cubicBezTo>
                <a:cubicBezTo>
                  <a:pt x="9" y="275"/>
                  <a:pt x="7" y="148"/>
                  <a:pt x="5" y="15"/>
                </a:cubicBezTo>
                <a:close/>
              </a:path>
            </a:pathLst>
          </a:custGeom>
          <a:solidFill>
            <a:srgbClr val="33333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Freeform 20"/>
          <p:cNvSpPr/>
          <p:nvPr/>
        </p:nvSpPr>
        <p:spPr>
          <a:xfrm>
            <a:off x="4102200" y="2457360"/>
            <a:ext cx="71280" cy="1693440"/>
          </a:xfrm>
          <a:custGeom>
            <a:avLst/>
            <a:gdLst>
              <a:gd name="textAreaLeft" fmla="*/ 0 w 71280"/>
              <a:gd name="textAreaRight" fmla="*/ 71640 w 71280"/>
              <a:gd name="textAreaTop" fmla="*/ 0 h 1693440"/>
              <a:gd name="textAreaBottom" fmla="*/ 1693800 h 1693440"/>
            </a:gdLst>
            <a:ahLst/>
            <a:rect l="textAreaLeft" t="textAreaTop" r="textAreaRight" b="textAreaBottom"/>
            <a:pathLst>
              <a:path w="19" h="451">
                <a:moveTo>
                  <a:pt x="0" y="451"/>
                </a:moveTo>
                <a:cubicBezTo>
                  <a:pt x="9" y="373"/>
                  <a:pt x="13" y="335"/>
                  <a:pt x="16" y="259"/>
                </a:cubicBezTo>
                <a:cubicBezTo>
                  <a:pt x="19" y="172"/>
                  <a:pt x="19" y="86"/>
                  <a:pt x="19" y="0"/>
                </a:cubicBezTo>
                <a:cubicBezTo>
                  <a:pt x="13" y="16"/>
                  <a:pt x="13" y="11"/>
                  <a:pt x="13" y="25"/>
                </a:cubicBezTo>
                <a:cubicBezTo>
                  <a:pt x="13" y="161"/>
                  <a:pt x="15" y="317"/>
                  <a:pt x="0" y="451"/>
                </a:cubicBezTo>
                <a:close/>
              </a:path>
            </a:pathLst>
          </a:custGeom>
          <a:solidFill>
            <a:srgbClr val="33333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Freeform 21"/>
          <p:cNvSpPr/>
          <p:nvPr/>
        </p:nvSpPr>
        <p:spPr>
          <a:xfrm>
            <a:off x="4025880" y="2457360"/>
            <a:ext cx="147600" cy="55440"/>
          </a:xfrm>
          <a:custGeom>
            <a:avLst/>
            <a:gdLst>
              <a:gd name="textAreaLeft" fmla="*/ 0 w 147600"/>
              <a:gd name="textAreaRight" fmla="*/ 147960 w 147600"/>
              <a:gd name="textAreaTop" fmla="*/ 0 h 55440"/>
              <a:gd name="textAreaBottom" fmla="*/ 55800 h 55440"/>
            </a:gdLst>
            <a:ahLst/>
            <a:rect l="textAreaLeft" t="textAreaTop" r="textAreaRight" b="textAreaBottom"/>
            <a:pathLst>
              <a:path w="93" h="35">
                <a:moveTo>
                  <a:pt x="78" y="35"/>
                </a:moveTo>
                <a:lnTo>
                  <a:pt x="93" y="0"/>
                </a:lnTo>
                <a:lnTo>
                  <a:pt x="19" y="0"/>
                </a:lnTo>
                <a:lnTo>
                  <a:pt x="0" y="33"/>
                </a:lnTo>
                <a:lnTo>
                  <a:pt x="78" y="35"/>
                </a:lnTo>
                <a:close/>
              </a:path>
            </a:pathLst>
          </a:custGeom>
          <a:solidFill>
            <a:srgbClr val="1a1a1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7720" bIns="2772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Freeform 22"/>
          <p:cNvSpPr/>
          <p:nvPr/>
        </p:nvSpPr>
        <p:spPr>
          <a:xfrm>
            <a:off x="3054240" y="3895200"/>
            <a:ext cx="623160" cy="1168560"/>
          </a:xfrm>
          <a:custGeom>
            <a:avLst/>
            <a:gdLst>
              <a:gd name="textAreaLeft" fmla="*/ 0 w 623160"/>
              <a:gd name="textAreaRight" fmla="*/ 623520 w 62316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166" h="311">
                <a:moveTo>
                  <a:pt x="146" y="57"/>
                </a:moveTo>
                <a:cubicBezTo>
                  <a:pt x="166" y="0"/>
                  <a:pt x="166" y="0"/>
                  <a:pt x="166" y="0"/>
                </a:cubicBezTo>
                <a:cubicBezTo>
                  <a:pt x="136" y="82"/>
                  <a:pt x="95" y="151"/>
                  <a:pt x="41" y="220"/>
                </a:cubicBezTo>
                <a:cubicBezTo>
                  <a:pt x="34" y="229"/>
                  <a:pt x="34" y="229"/>
                  <a:pt x="34" y="229"/>
                </a:cubicBezTo>
                <a:cubicBezTo>
                  <a:pt x="0" y="311"/>
                  <a:pt x="0" y="311"/>
                  <a:pt x="0" y="311"/>
                </a:cubicBezTo>
                <a:cubicBezTo>
                  <a:pt x="63" y="231"/>
                  <a:pt x="111" y="154"/>
                  <a:pt x="146" y="57"/>
                </a:cubicBezTo>
                <a:close/>
              </a:path>
            </a:pathLst>
          </a:custGeom>
          <a:solidFill>
            <a:srgbClr val="4d4d4d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reeform 23"/>
          <p:cNvSpPr/>
          <p:nvPr/>
        </p:nvSpPr>
        <p:spPr>
          <a:xfrm>
            <a:off x="3264120" y="1964520"/>
            <a:ext cx="383040" cy="545040"/>
          </a:xfrm>
          <a:custGeom>
            <a:avLst/>
            <a:gdLst>
              <a:gd name="textAreaLeft" fmla="*/ 0 w 383040"/>
              <a:gd name="textAreaRight" fmla="*/ 383400 w 383040"/>
              <a:gd name="textAreaTop" fmla="*/ 0 h 545040"/>
              <a:gd name="textAreaBottom" fmla="*/ 545400 h 545040"/>
            </a:gdLst>
            <a:ahLst/>
            <a:rect l="textAreaLeft" t="textAreaTop" r="textAreaRight" b="textAreaBottom"/>
            <a:pathLst>
              <a:path w="241" h="343">
                <a:moveTo>
                  <a:pt x="0" y="343"/>
                </a:moveTo>
                <a:lnTo>
                  <a:pt x="68" y="310"/>
                </a:lnTo>
                <a:lnTo>
                  <a:pt x="241" y="0"/>
                </a:lnTo>
                <a:lnTo>
                  <a:pt x="172" y="36"/>
                </a:lnTo>
                <a:lnTo>
                  <a:pt x="0" y="343"/>
                </a:lnTo>
                <a:close/>
              </a:path>
            </a:pathLst>
          </a:custGeom>
          <a:gradFill rotWithShape="0">
            <a:gsLst>
              <a:gs pos="0">
                <a:srgbClr val="2d2d2d"/>
              </a:gs>
              <a:gs pos="100000">
                <a:srgbClr val="404040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Freeform 24"/>
          <p:cNvSpPr/>
          <p:nvPr/>
        </p:nvSpPr>
        <p:spPr>
          <a:xfrm>
            <a:off x="2144520" y="4755600"/>
            <a:ext cx="1036440" cy="308160"/>
          </a:xfrm>
          <a:custGeom>
            <a:avLst/>
            <a:gdLst>
              <a:gd name="textAreaLeft" fmla="*/ 0 w 1036440"/>
              <a:gd name="textAreaRight" fmla="*/ 1036800 w 1036440"/>
              <a:gd name="textAreaTop" fmla="*/ 0 h 308160"/>
              <a:gd name="textAreaBottom" fmla="*/ 308520 h 308160"/>
            </a:gdLst>
            <a:ahLst/>
            <a:rect l="textAreaLeft" t="textAreaTop" r="textAreaRight" b="textAreaBottom"/>
            <a:pathLst>
              <a:path w="652" h="194">
                <a:moveTo>
                  <a:pt x="572" y="194"/>
                </a:moveTo>
                <a:lnTo>
                  <a:pt x="652" y="0"/>
                </a:lnTo>
                <a:lnTo>
                  <a:pt x="137" y="0"/>
                </a:lnTo>
                <a:lnTo>
                  <a:pt x="0" y="194"/>
                </a:lnTo>
                <a:lnTo>
                  <a:pt x="572" y="194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b6b6b6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Freeform 25"/>
          <p:cNvSpPr/>
          <p:nvPr/>
        </p:nvSpPr>
        <p:spPr>
          <a:xfrm>
            <a:off x="3076560" y="2457360"/>
            <a:ext cx="408240" cy="1655280"/>
          </a:xfrm>
          <a:custGeom>
            <a:avLst/>
            <a:gdLst>
              <a:gd name="textAreaLeft" fmla="*/ 0 w 408240"/>
              <a:gd name="textAreaRight" fmla="*/ 408600 w 408240"/>
              <a:gd name="textAreaTop" fmla="*/ 0 h 1655280"/>
              <a:gd name="textAreaBottom" fmla="*/ 1655640 h 1655280"/>
            </a:gdLst>
            <a:ahLst/>
            <a:rect l="textAreaLeft" t="textAreaTop" r="textAreaRight" b="textAreaBottom"/>
            <a:pathLst>
              <a:path w="109" h="441">
                <a:moveTo>
                  <a:pt x="0" y="441"/>
                </a:moveTo>
                <a:cubicBezTo>
                  <a:pt x="39" y="374"/>
                  <a:pt x="39" y="374"/>
                  <a:pt x="39" y="374"/>
                </a:cubicBezTo>
                <a:cubicBezTo>
                  <a:pt x="103" y="261"/>
                  <a:pt x="107" y="126"/>
                  <a:pt x="109" y="0"/>
                </a:cubicBezTo>
                <a:cubicBezTo>
                  <a:pt x="84" y="14"/>
                  <a:pt x="84" y="14"/>
                  <a:pt x="84" y="14"/>
                </a:cubicBezTo>
                <a:cubicBezTo>
                  <a:pt x="81" y="155"/>
                  <a:pt x="77" y="305"/>
                  <a:pt x="6" y="430"/>
                </a:cubicBezTo>
                <a:lnTo>
                  <a:pt x="0" y="441"/>
                </a:lnTo>
                <a:close/>
              </a:path>
            </a:pathLst>
          </a:custGeom>
          <a:gradFill rotWithShape="0">
            <a:gsLst>
              <a:gs pos="0">
                <a:srgbClr val="2d2d2d"/>
              </a:gs>
              <a:gs pos="100000">
                <a:srgbClr val="404040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Freeform 26"/>
          <p:cNvSpPr/>
          <p:nvPr/>
        </p:nvSpPr>
        <p:spPr>
          <a:xfrm>
            <a:off x="3264120" y="2457360"/>
            <a:ext cx="220680" cy="52200"/>
          </a:xfrm>
          <a:custGeom>
            <a:avLst/>
            <a:gdLst>
              <a:gd name="textAreaLeft" fmla="*/ 0 w 220680"/>
              <a:gd name="textAreaRight" fmla="*/ 221040 w 220680"/>
              <a:gd name="textAreaTop" fmla="*/ 0 h 52200"/>
              <a:gd name="textAreaBottom" fmla="*/ 52560 h 52200"/>
            </a:gdLst>
            <a:ahLst/>
            <a:rect l="textAreaLeft" t="textAreaTop" r="textAreaRight" b="textAreaBottom"/>
            <a:pathLst>
              <a:path w="139" h="33">
                <a:moveTo>
                  <a:pt x="80" y="33"/>
                </a:moveTo>
                <a:lnTo>
                  <a:pt x="139" y="0"/>
                </a:lnTo>
                <a:lnTo>
                  <a:pt x="68" y="0"/>
                </a:lnTo>
                <a:lnTo>
                  <a:pt x="0" y="33"/>
                </a:lnTo>
                <a:lnTo>
                  <a:pt x="80" y="33"/>
                </a:lnTo>
                <a:close/>
              </a:path>
            </a:pathLst>
          </a:custGeom>
          <a:solidFill>
            <a:srgbClr val="1a1a1a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tIns="26280" bIns="262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 149"/>
          <p:cNvGrpSpPr/>
          <p:nvPr/>
        </p:nvGrpSpPr>
        <p:grpSpPr>
          <a:xfrm>
            <a:off x="2591280" y="4763880"/>
            <a:ext cx="187200" cy="313560"/>
            <a:chOff x="2591280" y="4763880"/>
            <a:chExt cx="187200" cy="313560"/>
          </a:xfrm>
        </p:grpSpPr>
        <p:sp>
          <p:nvSpPr>
            <p:cNvPr id="364" name="Freeform 22"/>
            <p:cNvSpPr/>
            <p:nvPr/>
          </p:nvSpPr>
          <p:spPr>
            <a:xfrm flipH="1" rot="20921400">
              <a:off x="2618640" y="4773960"/>
              <a:ext cx="132120" cy="29340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17" h="481">
                  <a:moveTo>
                    <a:pt x="217" y="427"/>
                  </a:moveTo>
                  <a:cubicBezTo>
                    <a:pt x="151" y="196"/>
                    <a:pt x="151" y="196"/>
                    <a:pt x="151" y="196"/>
                  </a:cubicBezTo>
                  <a:cubicBezTo>
                    <a:pt x="185" y="171"/>
                    <a:pt x="209" y="130"/>
                    <a:pt x="209" y="90"/>
                  </a:cubicBezTo>
                  <a:cubicBezTo>
                    <a:pt x="209" y="34"/>
                    <a:pt x="164" y="0"/>
                    <a:pt x="108" y="14"/>
                  </a:cubicBezTo>
                  <a:cubicBezTo>
                    <a:pt x="52" y="28"/>
                    <a:pt x="7" y="84"/>
                    <a:pt x="7" y="140"/>
                  </a:cubicBezTo>
                  <a:cubicBezTo>
                    <a:pt x="7" y="180"/>
                    <a:pt x="31" y="209"/>
                    <a:pt x="66" y="217"/>
                  </a:cubicBezTo>
                  <a:cubicBezTo>
                    <a:pt x="0" y="481"/>
                    <a:pt x="0" y="481"/>
                    <a:pt x="0" y="481"/>
                  </a:cubicBezTo>
                  <a:lnTo>
                    <a:pt x="217" y="427"/>
                  </a:lnTo>
                  <a:close/>
                </a:path>
              </a:pathLst>
            </a:custGeom>
            <a:solidFill>
              <a:schemeClr val="tx1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23"/>
            <p:cNvSpPr/>
            <p:nvPr/>
          </p:nvSpPr>
          <p:spPr>
            <a:xfrm flipH="1" rot="20921400">
              <a:off x="2605680" y="4788000"/>
              <a:ext cx="63720" cy="1126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5" h="185">
                  <a:moveTo>
                    <a:pt x="46" y="185"/>
                  </a:moveTo>
                  <a:cubicBezTo>
                    <a:pt x="81" y="160"/>
                    <a:pt x="105" y="119"/>
                    <a:pt x="105" y="79"/>
                  </a:cubicBezTo>
                  <a:cubicBezTo>
                    <a:pt x="105" y="33"/>
                    <a:pt x="75" y="2"/>
                    <a:pt x="33" y="0"/>
                  </a:cubicBezTo>
                  <a:cubicBezTo>
                    <a:pt x="49" y="14"/>
                    <a:pt x="59" y="35"/>
                    <a:pt x="59" y="60"/>
                  </a:cubicBezTo>
                  <a:cubicBezTo>
                    <a:pt x="59" y="101"/>
                    <a:pt x="35" y="142"/>
                    <a:pt x="0" y="166"/>
                  </a:cubicBezTo>
                  <a:cubicBezTo>
                    <a:pt x="1" y="167"/>
                    <a:pt x="1" y="167"/>
                    <a:pt x="1" y="167"/>
                  </a:cubicBezTo>
                  <a:cubicBezTo>
                    <a:pt x="47" y="185"/>
                    <a:pt x="47" y="185"/>
                    <a:pt x="47" y="185"/>
                  </a:cubicBezTo>
                  <a:lnTo>
                    <a:pt x="46" y="185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20916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24"/>
            <p:cNvSpPr/>
            <p:nvPr/>
          </p:nvSpPr>
          <p:spPr>
            <a:xfrm flipH="1" rot="20921400">
              <a:off x="2625480" y="4888080"/>
              <a:ext cx="67320" cy="151200"/>
            </a:xfrm>
            <a:custGeom>
              <a:avLst/>
              <a:gdLst>
                <a:gd name="textAreaLeft" fmla="*/ -360 w 67320"/>
                <a:gd name="textAreaRight" fmla="*/ 67320 w 673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62" h="586">
                  <a:moveTo>
                    <a:pt x="108" y="43"/>
                  </a:moveTo>
                  <a:lnTo>
                    <a:pt x="0" y="0"/>
                  </a:lnTo>
                  <a:lnTo>
                    <a:pt x="153" y="546"/>
                  </a:lnTo>
                  <a:lnTo>
                    <a:pt x="153" y="546"/>
                  </a:lnTo>
                  <a:lnTo>
                    <a:pt x="262" y="586"/>
                  </a:lnTo>
                  <a:lnTo>
                    <a:pt x="108" y="43"/>
                  </a:lnTo>
                  <a:close/>
                </a:path>
              </a:pathLst>
            </a:custGeom>
            <a:gradFill rotWithShape="0">
              <a:gsLst>
                <a:gs pos="0">
                  <a:srgbClr val="626262"/>
                </a:gs>
                <a:gs pos="100000">
                  <a:srgbClr val="8b8b8b"/>
                </a:gs>
              </a:gsLst>
              <a:lin ang="15516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25"/>
            <p:cNvSpPr/>
            <p:nvPr/>
          </p:nvSpPr>
          <p:spPr>
            <a:xfrm flipH="1" rot="20921400">
              <a:off x="2642400" y="5020920"/>
              <a:ext cx="132120" cy="4356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13" h="170">
                  <a:moveTo>
                    <a:pt x="404" y="0"/>
                  </a:moveTo>
                  <a:lnTo>
                    <a:pt x="19" y="94"/>
                  </a:lnTo>
                  <a:lnTo>
                    <a:pt x="0" y="170"/>
                  </a:lnTo>
                  <a:lnTo>
                    <a:pt x="513" y="42"/>
                  </a:lnTo>
                  <a:lnTo>
                    <a:pt x="513" y="40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8" name="Group 148"/>
          <p:cNvGrpSpPr/>
          <p:nvPr/>
        </p:nvGrpSpPr>
        <p:grpSpPr>
          <a:xfrm>
            <a:off x="5978880" y="4764960"/>
            <a:ext cx="187200" cy="313920"/>
            <a:chOff x="5978880" y="4764960"/>
            <a:chExt cx="187200" cy="313920"/>
          </a:xfrm>
        </p:grpSpPr>
        <p:sp>
          <p:nvSpPr>
            <p:cNvPr id="369" name="Freeform 22"/>
            <p:cNvSpPr/>
            <p:nvPr/>
          </p:nvSpPr>
          <p:spPr>
            <a:xfrm rot="678600">
              <a:off x="6006240" y="4775040"/>
              <a:ext cx="132120" cy="29340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217" h="481">
                  <a:moveTo>
                    <a:pt x="217" y="427"/>
                  </a:moveTo>
                  <a:cubicBezTo>
                    <a:pt x="151" y="196"/>
                    <a:pt x="151" y="196"/>
                    <a:pt x="151" y="196"/>
                  </a:cubicBezTo>
                  <a:cubicBezTo>
                    <a:pt x="185" y="171"/>
                    <a:pt x="209" y="130"/>
                    <a:pt x="209" y="90"/>
                  </a:cubicBezTo>
                  <a:cubicBezTo>
                    <a:pt x="209" y="34"/>
                    <a:pt x="164" y="0"/>
                    <a:pt x="108" y="14"/>
                  </a:cubicBezTo>
                  <a:cubicBezTo>
                    <a:pt x="52" y="28"/>
                    <a:pt x="7" y="84"/>
                    <a:pt x="7" y="140"/>
                  </a:cubicBezTo>
                  <a:cubicBezTo>
                    <a:pt x="7" y="180"/>
                    <a:pt x="31" y="209"/>
                    <a:pt x="66" y="217"/>
                  </a:cubicBezTo>
                  <a:cubicBezTo>
                    <a:pt x="0" y="481"/>
                    <a:pt x="0" y="481"/>
                    <a:pt x="0" y="481"/>
                  </a:cubicBezTo>
                  <a:lnTo>
                    <a:pt x="217" y="427"/>
                  </a:lnTo>
                  <a:close/>
                </a:path>
              </a:pathLst>
            </a:custGeom>
            <a:solidFill>
              <a:schemeClr val="tx1">
                <a:lumMod val="5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3"/>
            <p:cNvSpPr/>
            <p:nvPr/>
          </p:nvSpPr>
          <p:spPr>
            <a:xfrm rot="678600">
              <a:off x="6086520" y="4789440"/>
              <a:ext cx="63720" cy="112680"/>
            </a:xfrm>
            <a:custGeom>
              <a:avLst/>
              <a:gdLst>
                <a:gd name="textAreaLeft" fmla="*/ 0 w 63720"/>
                <a:gd name="textAreaRight" fmla="*/ 64080 w 63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105" h="185">
                  <a:moveTo>
                    <a:pt x="46" y="185"/>
                  </a:moveTo>
                  <a:cubicBezTo>
                    <a:pt x="81" y="160"/>
                    <a:pt x="105" y="119"/>
                    <a:pt x="105" y="79"/>
                  </a:cubicBezTo>
                  <a:cubicBezTo>
                    <a:pt x="105" y="33"/>
                    <a:pt x="75" y="2"/>
                    <a:pt x="33" y="0"/>
                  </a:cubicBezTo>
                  <a:cubicBezTo>
                    <a:pt x="49" y="14"/>
                    <a:pt x="59" y="35"/>
                    <a:pt x="59" y="60"/>
                  </a:cubicBezTo>
                  <a:cubicBezTo>
                    <a:pt x="59" y="101"/>
                    <a:pt x="35" y="142"/>
                    <a:pt x="0" y="166"/>
                  </a:cubicBezTo>
                  <a:cubicBezTo>
                    <a:pt x="1" y="167"/>
                    <a:pt x="1" y="167"/>
                    <a:pt x="1" y="167"/>
                  </a:cubicBezTo>
                  <a:cubicBezTo>
                    <a:pt x="47" y="185"/>
                    <a:pt x="47" y="185"/>
                    <a:pt x="47" y="185"/>
                  </a:cubicBezTo>
                  <a:lnTo>
                    <a:pt x="46" y="185"/>
                  </a:lnTo>
                  <a:close/>
                </a:path>
              </a:pathLst>
            </a:custGeom>
            <a:gradFill rotWithShape="0">
              <a:gsLst>
                <a:gs pos="0">
                  <a:srgbClr val="4b4b4b"/>
                </a:gs>
                <a:gs pos="100000">
                  <a:srgbClr val="6b6b6b"/>
                </a:gs>
              </a:gsLst>
              <a:lin ang="1147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4"/>
            <p:cNvSpPr/>
            <p:nvPr/>
          </p:nvSpPr>
          <p:spPr>
            <a:xfrm rot="678600">
              <a:off x="6063480" y="4889160"/>
              <a:ext cx="67320" cy="151200"/>
            </a:xfrm>
            <a:custGeom>
              <a:avLst/>
              <a:gdLst>
                <a:gd name="textAreaLeft" fmla="*/ 0 w 67320"/>
                <a:gd name="textAreaRight" fmla="*/ 67680 w 6732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262" h="586">
                  <a:moveTo>
                    <a:pt x="108" y="43"/>
                  </a:moveTo>
                  <a:lnTo>
                    <a:pt x="0" y="0"/>
                  </a:lnTo>
                  <a:lnTo>
                    <a:pt x="153" y="546"/>
                  </a:lnTo>
                  <a:lnTo>
                    <a:pt x="153" y="546"/>
                  </a:lnTo>
                  <a:lnTo>
                    <a:pt x="262" y="586"/>
                  </a:lnTo>
                  <a:lnTo>
                    <a:pt x="108" y="43"/>
                  </a:lnTo>
                  <a:close/>
                </a:path>
              </a:pathLst>
            </a:custGeom>
            <a:gradFill rotWithShape="0">
              <a:gsLst>
                <a:gs pos="0">
                  <a:srgbClr val="626262"/>
                </a:gs>
                <a:gs pos="100000">
                  <a:srgbClr val="8b8b8b"/>
                </a:gs>
              </a:gsLst>
              <a:lin ang="16878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5"/>
            <p:cNvSpPr/>
            <p:nvPr/>
          </p:nvSpPr>
          <p:spPr>
            <a:xfrm rot="678600">
              <a:off x="5982120" y="5022360"/>
              <a:ext cx="132120" cy="4356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13" h="170">
                  <a:moveTo>
                    <a:pt x="404" y="0"/>
                  </a:moveTo>
                  <a:lnTo>
                    <a:pt x="19" y="94"/>
                  </a:lnTo>
                  <a:lnTo>
                    <a:pt x="0" y="170"/>
                  </a:lnTo>
                  <a:lnTo>
                    <a:pt x="513" y="42"/>
                  </a:lnTo>
                  <a:lnTo>
                    <a:pt x="513" y="40"/>
                  </a:lnTo>
                  <a:lnTo>
                    <a:pt x="404" y="0"/>
                  </a:lnTo>
                  <a:close/>
                </a:path>
              </a:pathLst>
            </a:custGeom>
            <a:solidFill>
              <a:schemeClr val="bg1">
                <a:lumMod val="75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21960" bIns="219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Freeform 46"/>
          <p:cNvSpPr/>
          <p:nvPr/>
        </p:nvSpPr>
        <p:spPr>
          <a:xfrm>
            <a:off x="4314960" y="4768920"/>
            <a:ext cx="164160" cy="288360"/>
          </a:xfrm>
          <a:custGeom>
            <a:avLst/>
            <a:gdLst>
              <a:gd name="textAreaLeft" fmla="*/ 0 w 164160"/>
              <a:gd name="textAreaRight" fmla="*/ 164520 w 164160"/>
              <a:gd name="textAreaTop" fmla="*/ 0 h 288360"/>
              <a:gd name="textAreaBottom" fmla="*/ 288720 h 288360"/>
            </a:gdLst>
            <a:ahLst/>
            <a:rect l="textAreaLeft" t="textAreaTop" r="textAreaRight" b="textAreaBottom"/>
            <a:pathLst>
              <a:path w="251" h="494">
                <a:moveTo>
                  <a:pt x="251" y="494"/>
                </a:moveTo>
                <a:cubicBezTo>
                  <a:pt x="171" y="191"/>
                  <a:pt x="171" y="191"/>
                  <a:pt x="171" y="191"/>
                </a:cubicBezTo>
                <a:cubicBezTo>
                  <a:pt x="204" y="174"/>
                  <a:pt x="227" y="140"/>
                  <a:pt x="227" y="101"/>
                </a:cubicBezTo>
                <a:cubicBezTo>
                  <a:pt x="227" y="45"/>
                  <a:pt x="181" y="0"/>
                  <a:pt x="126" y="0"/>
                </a:cubicBezTo>
                <a:cubicBezTo>
                  <a:pt x="70" y="0"/>
                  <a:pt x="25" y="45"/>
                  <a:pt x="25" y="101"/>
                </a:cubicBezTo>
                <a:cubicBezTo>
                  <a:pt x="25" y="140"/>
                  <a:pt x="47" y="174"/>
                  <a:pt x="80" y="191"/>
                </a:cubicBezTo>
                <a:cubicBezTo>
                  <a:pt x="0" y="494"/>
                  <a:pt x="0" y="494"/>
                  <a:pt x="0" y="494"/>
                </a:cubicBezTo>
                <a:lnTo>
                  <a:pt x="251" y="494"/>
                </a:lnTo>
                <a:close/>
              </a:path>
            </a:pathLst>
          </a:custGeom>
          <a:gradFill rotWithShape="0">
            <a:gsLst>
              <a:gs pos="0">
                <a:srgbClr val="222222"/>
              </a:gs>
              <a:gs pos="100000">
                <a:srgbClr val="313131"/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154"/>
          <p:cNvSpPr/>
          <p:nvPr/>
        </p:nvSpPr>
        <p:spPr>
          <a:xfrm>
            <a:off x="3201120" y="5375520"/>
            <a:ext cx="2266200" cy="363960"/>
          </a:xfrm>
          <a:prstGeom prst="rect">
            <a:avLst/>
          </a:prstGeom>
          <a:solidFill>
            <a:srgbClr val="a08902"/>
          </a:solidFill>
          <a:ln w="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Group 158"/>
          <p:cNvGrpSpPr/>
          <p:nvPr/>
        </p:nvGrpSpPr>
        <p:grpSpPr>
          <a:xfrm>
            <a:off x="6222960" y="4986360"/>
            <a:ext cx="1402200" cy="813240"/>
            <a:chOff x="6222960" y="4986360"/>
            <a:chExt cx="1402200" cy="813240"/>
          </a:xfrm>
        </p:grpSpPr>
        <p:sp>
          <p:nvSpPr>
            <p:cNvPr id="376" name="Freeform 11"/>
            <p:cNvSpPr/>
            <p:nvPr/>
          </p:nvSpPr>
          <p:spPr>
            <a:xfrm>
              <a:off x="6369480" y="5267880"/>
              <a:ext cx="33840" cy="601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1" h="125">
                  <a:moveTo>
                    <a:pt x="4" y="125"/>
                  </a:moveTo>
                  <a:lnTo>
                    <a:pt x="71" y="95"/>
                  </a:lnTo>
                  <a:lnTo>
                    <a:pt x="71" y="0"/>
                  </a:lnTo>
                  <a:lnTo>
                    <a:pt x="0" y="0"/>
                  </a:lnTo>
                  <a:lnTo>
                    <a:pt x="4" y="125"/>
                  </a:lnTo>
                  <a:close/>
                </a:path>
              </a:pathLst>
            </a:custGeom>
            <a:solidFill>
              <a:srgbClr val="4e3e0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2"/>
            <p:cNvSpPr/>
            <p:nvPr/>
          </p:nvSpPr>
          <p:spPr>
            <a:xfrm>
              <a:off x="6428880" y="5167440"/>
              <a:ext cx="42480" cy="18216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89" h="378">
                  <a:moveTo>
                    <a:pt x="0" y="15"/>
                  </a:moveTo>
                  <a:lnTo>
                    <a:pt x="80" y="0"/>
                  </a:lnTo>
                  <a:lnTo>
                    <a:pt x="89" y="359"/>
                  </a:lnTo>
                  <a:lnTo>
                    <a:pt x="0" y="3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e3e0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3"/>
            <p:cNvSpPr/>
            <p:nvPr/>
          </p:nvSpPr>
          <p:spPr>
            <a:xfrm>
              <a:off x="6222960" y="5003280"/>
              <a:ext cx="984960" cy="407880"/>
            </a:xfrm>
            <a:custGeom>
              <a:avLst/>
              <a:gdLst>
                <a:gd name="textAreaLeft" fmla="*/ 0 w 984960"/>
                <a:gd name="textAreaRight" fmla="*/ 985320 w 9849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864" h="358">
                  <a:moveTo>
                    <a:pt x="66" y="0"/>
                  </a:moveTo>
                  <a:cubicBezTo>
                    <a:pt x="860" y="204"/>
                    <a:pt x="860" y="204"/>
                    <a:pt x="860" y="204"/>
                  </a:cubicBezTo>
                  <a:cubicBezTo>
                    <a:pt x="864" y="358"/>
                    <a:pt x="864" y="358"/>
                    <a:pt x="864" y="358"/>
                  </a:cubicBezTo>
                  <a:cubicBezTo>
                    <a:pt x="36" y="106"/>
                    <a:pt x="36" y="106"/>
                    <a:pt x="36" y="106"/>
                  </a:cubicBezTo>
                  <a:cubicBezTo>
                    <a:pt x="36" y="106"/>
                    <a:pt x="0" y="34"/>
                    <a:pt x="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4100"/>
                </a:gs>
                <a:gs pos="100000">
                  <a:srgbClr val="a08902"/>
                </a:gs>
              </a:gsLst>
              <a:lin ang="642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14"/>
            <p:cNvSpPr/>
            <p:nvPr/>
          </p:nvSpPr>
          <p:spPr>
            <a:xfrm>
              <a:off x="6312240" y="5131440"/>
              <a:ext cx="115920" cy="2181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241" h="453">
                  <a:moveTo>
                    <a:pt x="241" y="90"/>
                  </a:moveTo>
                  <a:lnTo>
                    <a:pt x="0" y="0"/>
                  </a:lnTo>
                  <a:lnTo>
                    <a:pt x="0" y="198"/>
                  </a:lnTo>
                  <a:lnTo>
                    <a:pt x="66" y="217"/>
                  </a:lnTo>
                  <a:lnTo>
                    <a:pt x="66" y="385"/>
                  </a:lnTo>
                  <a:lnTo>
                    <a:pt x="122" y="408"/>
                  </a:lnTo>
                  <a:lnTo>
                    <a:pt x="122" y="316"/>
                  </a:lnTo>
                  <a:lnTo>
                    <a:pt x="189" y="335"/>
                  </a:lnTo>
                  <a:lnTo>
                    <a:pt x="189" y="434"/>
                  </a:lnTo>
                  <a:lnTo>
                    <a:pt x="241" y="453"/>
                  </a:lnTo>
                  <a:lnTo>
                    <a:pt x="241" y="90"/>
                  </a:lnTo>
                  <a:close/>
                </a:path>
              </a:pathLst>
            </a:custGeom>
            <a:solidFill>
              <a:srgbClr val="a0890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15"/>
            <p:cNvSpPr/>
            <p:nvPr/>
          </p:nvSpPr>
          <p:spPr>
            <a:xfrm>
              <a:off x="7326720" y="5004720"/>
              <a:ext cx="298440" cy="79488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262" h="698">
                  <a:moveTo>
                    <a:pt x="104" y="15"/>
                  </a:moveTo>
                  <a:cubicBezTo>
                    <a:pt x="74" y="7"/>
                    <a:pt x="74" y="7"/>
                    <a:pt x="74" y="7"/>
                  </a:cubicBezTo>
                  <a:cubicBezTo>
                    <a:pt x="47" y="0"/>
                    <a:pt x="22" y="1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120" y="38"/>
                    <a:pt x="190" y="134"/>
                    <a:pt x="188" y="229"/>
                  </a:cubicBezTo>
                  <a:cubicBezTo>
                    <a:pt x="181" y="545"/>
                    <a:pt x="181" y="545"/>
                    <a:pt x="181" y="545"/>
                  </a:cubicBezTo>
                  <a:cubicBezTo>
                    <a:pt x="179" y="612"/>
                    <a:pt x="143" y="661"/>
                    <a:pt x="90" y="676"/>
                  </a:cubicBezTo>
                  <a:cubicBezTo>
                    <a:pt x="178" y="698"/>
                    <a:pt x="251" y="640"/>
                    <a:pt x="253" y="545"/>
                  </a:cubicBezTo>
                  <a:cubicBezTo>
                    <a:pt x="260" y="229"/>
                    <a:pt x="260" y="229"/>
                    <a:pt x="260" y="229"/>
                  </a:cubicBezTo>
                  <a:cubicBezTo>
                    <a:pt x="262" y="134"/>
                    <a:pt x="192" y="38"/>
                    <a:pt x="104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902"/>
                </a:gs>
                <a:gs pos="100000">
                  <a:srgbClr val="fee75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16"/>
            <p:cNvSpPr/>
            <p:nvPr/>
          </p:nvSpPr>
          <p:spPr>
            <a:xfrm>
              <a:off x="7187760" y="4986360"/>
              <a:ext cx="364320" cy="795240"/>
            </a:xfrm>
            <a:custGeom>
              <a:avLst/>
              <a:gdLst>
                <a:gd name="textAreaLeft" fmla="*/ 0 w 364320"/>
                <a:gd name="textAreaRight" fmla="*/ 364680 w 36432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320" h="698">
                  <a:moveTo>
                    <a:pt x="180" y="31"/>
                  </a:moveTo>
                  <a:cubicBezTo>
                    <a:pt x="153" y="23"/>
                    <a:pt x="153" y="23"/>
                    <a:pt x="153" y="23"/>
                  </a:cubicBezTo>
                  <a:cubicBezTo>
                    <a:pt x="153" y="23"/>
                    <a:pt x="153" y="23"/>
                    <a:pt x="152" y="23"/>
                  </a:cubicBezTo>
                  <a:cubicBezTo>
                    <a:pt x="74" y="0"/>
                    <a:pt x="10" y="58"/>
                    <a:pt x="8" y="153"/>
                  </a:cubicBezTo>
                  <a:cubicBezTo>
                    <a:pt x="2" y="470"/>
                    <a:pt x="2" y="470"/>
                    <a:pt x="2" y="470"/>
                  </a:cubicBezTo>
                  <a:cubicBezTo>
                    <a:pt x="0" y="565"/>
                    <a:pt x="62" y="661"/>
                    <a:pt x="140" y="684"/>
                  </a:cubicBezTo>
                  <a:cubicBezTo>
                    <a:pt x="167" y="691"/>
                    <a:pt x="167" y="691"/>
                    <a:pt x="167" y="691"/>
                  </a:cubicBezTo>
                  <a:cubicBezTo>
                    <a:pt x="190" y="698"/>
                    <a:pt x="212" y="698"/>
                    <a:pt x="232" y="692"/>
                  </a:cubicBezTo>
                  <a:cubicBezTo>
                    <a:pt x="278" y="677"/>
                    <a:pt x="311" y="628"/>
                    <a:pt x="312" y="561"/>
                  </a:cubicBezTo>
                  <a:cubicBezTo>
                    <a:pt x="318" y="245"/>
                    <a:pt x="318" y="245"/>
                    <a:pt x="318" y="245"/>
                  </a:cubicBezTo>
                  <a:cubicBezTo>
                    <a:pt x="320" y="150"/>
                    <a:pt x="258" y="54"/>
                    <a:pt x="180" y="31"/>
                  </a:cubicBezTo>
                  <a:close/>
                  <a:moveTo>
                    <a:pt x="246" y="487"/>
                  </a:moveTo>
                  <a:cubicBezTo>
                    <a:pt x="246" y="533"/>
                    <a:pt x="225" y="566"/>
                    <a:pt x="197" y="576"/>
                  </a:cubicBezTo>
                  <a:cubicBezTo>
                    <a:pt x="184" y="581"/>
                    <a:pt x="171" y="581"/>
                    <a:pt x="156" y="576"/>
                  </a:cubicBezTo>
                  <a:cubicBezTo>
                    <a:pt x="140" y="571"/>
                    <a:pt x="140" y="571"/>
                    <a:pt x="140" y="571"/>
                  </a:cubicBezTo>
                  <a:cubicBezTo>
                    <a:pt x="91" y="555"/>
                    <a:pt x="53" y="489"/>
                    <a:pt x="54" y="424"/>
                  </a:cubicBezTo>
                  <a:cubicBezTo>
                    <a:pt x="58" y="207"/>
                    <a:pt x="58" y="207"/>
                    <a:pt x="58" y="207"/>
                  </a:cubicBezTo>
                  <a:cubicBezTo>
                    <a:pt x="59" y="142"/>
                    <a:pt x="99" y="102"/>
                    <a:pt x="147" y="117"/>
                  </a:cubicBezTo>
                  <a:cubicBezTo>
                    <a:pt x="147" y="118"/>
                    <a:pt x="148" y="118"/>
                    <a:pt x="148" y="118"/>
                  </a:cubicBezTo>
                  <a:cubicBezTo>
                    <a:pt x="164" y="123"/>
                    <a:pt x="164" y="123"/>
                    <a:pt x="164" y="123"/>
                  </a:cubicBezTo>
                  <a:cubicBezTo>
                    <a:pt x="213" y="139"/>
                    <a:pt x="251" y="204"/>
                    <a:pt x="250" y="270"/>
                  </a:cubicBezTo>
                  <a:lnTo>
                    <a:pt x="246" y="487"/>
                  </a:lnTo>
                  <a:close/>
                </a:path>
              </a:pathLst>
            </a:custGeom>
            <a:gradFill rotWithShape="0">
              <a:gsLst>
                <a:gs pos="0">
                  <a:srgbClr val="a08902"/>
                </a:gs>
                <a:gs pos="100000">
                  <a:srgbClr val="fee75e"/>
                </a:gs>
              </a:gsLst>
              <a:lin ang="189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17"/>
            <p:cNvSpPr/>
            <p:nvPr/>
          </p:nvSpPr>
          <p:spPr>
            <a:xfrm>
              <a:off x="7248240" y="5102640"/>
              <a:ext cx="172800" cy="54540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45400"/>
                <a:gd name="textAreaBottom" fmla="*/ 545760 h 545400"/>
              </a:gdLst>
              <a:ahLst/>
              <a:rect l="textAreaLeft" t="textAreaTop" r="textAreaRight" b="textAreaBottom"/>
              <a:pathLst>
                <a:path w="152" h="479">
                  <a:moveTo>
                    <a:pt x="61" y="322"/>
                  </a:moveTo>
                  <a:cubicBezTo>
                    <a:pt x="65" y="105"/>
                    <a:pt x="65" y="105"/>
                    <a:pt x="65" y="105"/>
                  </a:cubicBezTo>
                  <a:cubicBezTo>
                    <a:pt x="66" y="64"/>
                    <a:pt x="82" y="33"/>
                    <a:pt x="106" y="19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6"/>
                    <a:pt x="94" y="16"/>
                    <a:pt x="94" y="15"/>
                  </a:cubicBezTo>
                  <a:cubicBezTo>
                    <a:pt x="46" y="0"/>
                    <a:pt x="6" y="40"/>
                    <a:pt x="5" y="105"/>
                  </a:cubicBezTo>
                  <a:cubicBezTo>
                    <a:pt x="1" y="322"/>
                    <a:pt x="1" y="322"/>
                    <a:pt x="1" y="322"/>
                  </a:cubicBezTo>
                  <a:cubicBezTo>
                    <a:pt x="0" y="387"/>
                    <a:pt x="38" y="453"/>
                    <a:pt x="87" y="469"/>
                  </a:cubicBezTo>
                  <a:cubicBezTo>
                    <a:pt x="103" y="474"/>
                    <a:pt x="103" y="474"/>
                    <a:pt x="103" y="474"/>
                  </a:cubicBezTo>
                  <a:cubicBezTo>
                    <a:pt x="118" y="479"/>
                    <a:pt x="131" y="479"/>
                    <a:pt x="144" y="474"/>
                  </a:cubicBezTo>
                  <a:cubicBezTo>
                    <a:pt x="146" y="473"/>
                    <a:pt x="149" y="472"/>
                    <a:pt x="152" y="471"/>
                  </a:cubicBezTo>
                  <a:cubicBezTo>
                    <a:pt x="147" y="469"/>
                    <a:pt x="147" y="469"/>
                    <a:pt x="147" y="469"/>
                  </a:cubicBezTo>
                  <a:cubicBezTo>
                    <a:pt x="98" y="453"/>
                    <a:pt x="60" y="387"/>
                    <a:pt x="61" y="322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902"/>
                </a:gs>
                <a:gs pos="100000">
                  <a:srgbClr val="fee75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3" name="Group 166"/>
          <p:cNvGrpSpPr/>
          <p:nvPr/>
        </p:nvGrpSpPr>
        <p:grpSpPr>
          <a:xfrm>
            <a:off x="992160" y="4986360"/>
            <a:ext cx="1402560" cy="813240"/>
            <a:chOff x="992160" y="4986360"/>
            <a:chExt cx="1402560" cy="813240"/>
          </a:xfrm>
        </p:grpSpPr>
        <p:sp>
          <p:nvSpPr>
            <p:cNvPr id="384" name="Freeform 11"/>
            <p:cNvSpPr/>
            <p:nvPr/>
          </p:nvSpPr>
          <p:spPr>
            <a:xfrm flipH="1">
              <a:off x="2214720" y="5267880"/>
              <a:ext cx="33840" cy="60120"/>
            </a:xfrm>
            <a:custGeom>
              <a:avLst/>
              <a:gdLst>
                <a:gd name="textAreaLeft" fmla="*/ 360 w 33840"/>
                <a:gd name="textAreaRight" fmla="*/ 34560 w 338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71" h="125">
                  <a:moveTo>
                    <a:pt x="4" y="125"/>
                  </a:moveTo>
                  <a:lnTo>
                    <a:pt x="71" y="95"/>
                  </a:lnTo>
                  <a:lnTo>
                    <a:pt x="71" y="0"/>
                  </a:lnTo>
                  <a:lnTo>
                    <a:pt x="0" y="0"/>
                  </a:lnTo>
                  <a:lnTo>
                    <a:pt x="4" y="125"/>
                  </a:lnTo>
                  <a:close/>
                </a:path>
              </a:pathLst>
            </a:custGeom>
            <a:solidFill>
              <a:srgbClr val="4e3e0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30240" bIns="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12"/>
            <p:cNvSpPr/>
            <p:nvPr/>
          </p:nvSpPr>
          <p:spPr>
            <a:xfrm flipH="1">
              <a:off x="2146680" y="5167440"/>
              <a:ext cx="42480" cy="182160"/>
            </a:xfrm>
            <a:custGeom>
              <a:avLst/>
              <a:gdLst>
                <a:gd name="textAreaLeft" fmla="*/ 360 w 42480"/>
                <a:gd name="textAreaRight" fmla="*/ 43200 w 42480"/>
                <a:gd name="textAreaTop" fmla="*/ 0 h 182160"/>
                <a:gd name="textAreaBottom" fmla="*/ 182520 h 182160"/>
              </a:gdLst>
              <a:ahLst/>
              <a:rect l="textAreaLeft" t="textAreaTop" r="textAreaRight" b="textAreaBottom"/>
              <a:pathLst>
                <a:path w="89" h="378">
                  <a:moveTo>
                    <a:pt x="0" y="15"/>
                  </a:moveTo>
                  <a:lnTo>
                    <a:pt x="80" y="0"/>
                  </a:lnTo>
                  <a:lnTo>
                    <a:pt x="89" y="359"/>
                  </a:lnTo>
                  <a:lnTo>
                    <a:pt x="0" y="378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4e3e0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13"/>
            <p:cNvSpPr/>
            <p:nvPr/>
          </p:nvSpPr>
          <p:spPr>
            <a:xfrm flipH="1">
              <a:off x="1409760" y="5003280"/>
              <a:ext cx="984960" cy="407880"/>
            </a:xfrm>
            <a:custGeom>
              <a:avLst/>
              <a:gdLst>
                <a:gd name="textAreaLeft" fmla="*/ 360 w 984960"/>
                <a:gd name="textAreaRight" fmla="*/ 985680 w 984960"/>
                <a:gd name="textAreaTop" fmla="*/ 0 h 407880"/>
                <a:gd name="textAreaBottom" fmla="*/ 408240 h 407880"/>
              </a:gdLst>
              <a:ahLst/>
              <a:rect l="textAreaLeft" t="textAreaTop" r="textAreaRight" b="textAreaBottom"/>
              <a:pathLst>
                <a:path w="864" h="358">
                  <a:moveTo>
                    <a:pt x="66" y="0"/>
                  </a:moveTo>
                  <a:cubicBezTo>
                    <a:pt x="860" y="204"/>
                    <a:pt x="860" y="204"/>
                    <a:pt x="860" y="204"/>
                  </a:cubicBezTo>
                  <a:cubicBezTo>
                    <a:pt x="864" y="358"/>
                    <a:pt x="864" y="358"/>
                    <a:pt x="864" y="358"/>
                  </a:cubicBezTo>
                  <a:cubicBezTo>
                    <a:pt x="36" y="106"/>
                    <a:pt x="36" y="106"/>
                    <a:pt x="36" y="106"/>
                  </a:cubicBezTo>
                  <a:cubicBezTo>
                    <a:pt x="36" y="106"/>
                    <a:pt x="0" y="34"/>
                    <a:pt x="66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534100"/>
                </a:gs>
                <a:gs pos="100000">
                  <a:srgbClr val="a08902"/>
                </a:gs>
              </a:gsLst>
              <a:lin ang="438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Freeform 14"/>
            <p:cNvSpPr/>
            <p:nvPr/>
          </p:nvSpPr>
          <p:spPr>
            <a:xfrm flipH="1">
              <a:off x="2189520" y="5131440"/>
              <a:ext cx="115920" cy="218160"/>
            </a:xfrm>
            <a:custGeom>
              <a:avLst/>
              <a:gdLst>
                <a:gd name="textAreaLeft" fmla="*/ 360 w 115920"/>
                <a:gd name="textAreaRight" fmla="*/ 116640 w 11592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241" h="453">
                  <a:moveTo>
                    <a:pt x="241" y="90"/>
                  </a:moveTo>
                  <a:lnTo>
                    <a:pt x="0" y="0"/>
                  </a:lnTo>
                  <a:lnTo>
                    <a:pt x="0" y="198"/>
                  </a:lnTo>
                  <a:lnTo>
                    <a:pt x="66" y="217"/>
                  </a:lnTo>
                  <a:lnTo>
                    <a:pt x="66" y="385"/>
                  </a:lnTo>
                  <a:lnTo>
                    <a:pt x="122" y="408"/>
                  </a:lnTo>
                  <a:lnTo>
                    <a:pt x="122" y="316"/>
                  </a:lnTo>
                  <a:lnTo>
                    <a:pt x="189" y="335"/>
                  </a:lnTo>
                  <a:lnTo>
                    <a:pt x="189" y="434"/>
                  </a:lnTo>
                  <a:lnTo>
                    <a:pt x="241" y="453"/>
                  </a:lnTo>
                  <a:lnTo>
                    <a:pt x="241" y="90"/>
                  </a:lnTo>
                  <a:close/>
                </a:path>
              </a:pathLst>
            </a:custGeom>
            <a:solidFill>
              <a:srgbClr val="a08902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Freeform 15"/>
            <p:cNvSpPr/>
            <p:nvPr/>
          </p:nvSpPr>
          <p:spPr>
            <a:xfrm flipH="1">
              <a:off x="991800" y="5004720"/>
              <a:ext cx="298440" cy="794880"/>
            </a:xfrm>
            <a:custGeom>
              <a:avLst/>
              <a:gdLst>
                <a:gd name="textAreaLeft" fmla="*/ -360 w 298440"/>
                <a:gd name="textAreaRight" fmla="*/ 298440 w 298440"/>
                <a:gd name="textAreaTop" fmla="*/ 0 h 794880"/>
                <a:gd name="textAreaBottom" fmla="*/ 795240 h 794880"/>
              </a:gdLst>
              <a:ahLst/>
              <a:rect l="textAreaLeft" t="textAreaTop" r="textAreaRight" b="textAreaBottom"/>
              <a:pathLst>
                <a:path w="262" h="698">
                  <a:moveTo>
                    <a:pt x="104" y="15"/>
                  </a:moveTo>
                  <a:cubicBezTo>
                    <a:pt x="74" y="7"/>
                    <a:pt x="74" y="7"/>
                    <a:pt x="74" y="7"/>
                  </a:cubicBezTo>
                  <a:cubicBezTo>
                    <a:pt x="47" y="0"/>
                    <a:pt x="22" y="1"/>
                    <a:pt x="0" y="7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31" y="15"/>
                    <a:pt x="31" y="15"/>
                    <a:pt x="31" y="15"/>
                  </a:cubicBezTo>
                  <a:cubicBezTo>
                    <a:pt x="120" y="38"/>
                    <a:pt x="190" y="134"/>
                    <a:pt x="188" y="229"/>
                  </a:cubicBezTo>
                  <a:cubicBezTo>
                    <a:pt x="181" y="545"/>
                    <a:pt x="181" y="545"/>
                    <a:pt x="181" y="545"/>
                  </a:cubicBezTo>
                  <a:cubicBezTo>
                    <a:pt x="179" y="612"/>
                    <a:pt x="143" y="661"/>
                    <a:pt x="90" y="676"/>
                  </a:cubicBezTo>
                  <a:cubicBezTo>
                    <a:pt x="178" y="698"/>
                    <a:pt x="251" y="640"/>
                    <a:pt x="253" y="545"/>
                  </a:cubicBezTo>
                  <a:cubicBezTo>
                    <a:pt x="260" y="229"/>
                    <a:pt x="260" y="229"/>
                    <a:pt x="260" y="229"/>
                  </a:cubicBezTo>
                  <a:cubicBezTo>
                    <a:pt x="262" y="134"/>
                    <a:pt x="192" y="38"/>
                    <a:pt x="104" y="15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902"/>
                </a:gs>
                <a:gs pos="100000">
                  <a:srgbClr val="fee75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Freeform 16"/>
            <p:cNvSpPr/>
            <p:nvPr/>
          </p:nvSpPr>
          <p:spPr>
            <a:xfrm flipH="1">
              <a:off x="1065600" y="4986360"/>
              <a:ext cx="364320" cy="795240"/>
            </a:xfrm>
            <a:custGeom>
              <a:avLst/>
              <a:gdLst>
                <a:gd name="textAreaLeft" fmla="*/ 360 w 364320"/>
                <a:gd name="textAreaRight" fmla="*/ 365040 w 364320"/>
                <a:gd name="textAreaTop" fmla="*/ 0 h 795240"/>
                <a:gd name="textAreaBottom" fmla="*/ 795600 h 795240"/>
              </a:gdLst>
              <a:ahLst/>
              <a:rect l="textAreaLeft" t="textAreaTop" r="textAreaRight" b="textAreaBottom"/>
              <a:pathLst>
                <a:path w="320" h="698">
                  <a:moveTo>
                    <a:pt x="180" y="31"/>
                  </a:moveTo>
                  <a:cubicBezTo>
                    <a:pt x="153" y="23"/>
                    <a:pt x="153" y="23"/>
                    <a:pt x="153" y="23"/>
                  </a:cubicBezTo>
                  <a:cubicBezTo>
                    <a:pt x="153" y="23"/>
                    <a:pt x="153" y="23"/>
                    <a:pt x="152" y="23"/>
                  </a:cubicBezTo>
                  <a:cubicBezTo>
                    <a:pt x="74" y="0"/>
                    <a:pt x="10" y="58"/>
                    <a:pt x="8" y="153"/>
                  </a:cubicBezTo>
                  <a:cubicBezTo>
                    <a:pt x="2" y="470"/>
                    <a:pt x="2" y="470"/>
                    <a:pt x="2" y="470"/>
                  </a:cubicBezTo>
                  <a:cubicBezTo>
                    <a:pt x="0" y="565"/>
                    <a:pt x="62" y="661"/>
                    <a:pt x="140" y="684"/>
                  </a:cubicBezTo>
                  <a:cubicBezTo>
                    <a:pt x="167" y="691"/>
                    <a:pt x="167" y="691"/>
                    <a:pt x="167" y="691"/>
                  </a:cubicBezTo>
                  <a:cubicBezTo>
                    <a:pt x="190" y="698"/>
                    <a:pt x="212" y="698"/>
                    <a:pt x="232" y="692"/>
                  </a:cubicBezTo>
                  <a:cubicBezTo>
                    <a:pt x="278" y="677"/>
                    <a:pt x="311" y="628"/>
                    <a:pt x="312" y="561"/>
                  </a:cubicBezTo>
                  <a:cubicBezTo>
                    <a:pt x="318" y="245"/>
                    <a:pt x="318" y="245"/>
                    <a:pt x="318" y="245"/>
                  </a:cubicBezTo>
                  <a:cubicBezTo>
                    <a:pt x="320" y="150"/>
                    <a:pt x="258" y="54"/>
                    <a:pt x="180" y="31"/>
                  </a:cubicBezTo>
                  <a:close/>
                  <a:moveTo>
                    <a:pt x="246" y="487"/>
                  </a:moveTo>
                  <a:cubicBezTo>
                    <a:pt x="246" y="533"/>
                    <a:pt x="225" y="566"/>
                    <a:pt x="197" y="576"/>
                  </a:cubicBezTo>
                  <a:cubicBezTo>
                    <a:pt x="184" y="581"/>
                    <a:pt x="171" y="581"/>
                    <a:pt x="156" y="576"/>
                  </a:cubicBezTo>
                  <a:cubicBezTo>
                    <a:pt x="140" y="571"/>
                    <a:pt x="140" y="571"/>
                    <a:pt x="140" y="571"/>
                  </a:cubicBezTo>
                  <a:cubicBezTo>
                    <a:pt x="91" y="555"/>
                    <a:pt x="53" y="489"/>
                    <a:pt x="54" y="424"/>
                  </a:cubicBezTo>
                  <a:cubicBezTo>
                    <a:pt x="58" y="207"/>
                    <a:pt x="58" y="207"/>
                    <a:pt x="58" y="207"/>
                  </a:cubicBezTo>
                  <a:cubicBezTo>
                    <a:pt x="59" y="142"/>
                    <a:pt x="99" y="102"/>
                    <a:pt x="147" y="117"/>
                  </a:cubicBezTo>
                  <a:cubicBezTo>
                    <a:pt x="147" y="118"/>
                    <a:pt x="148" y="118"/>
                    <a:pt x="148" y="118"/>
                  </a:cubicBezTo>
                  <a:cubicBezTo>
                    <a:pt x="164" y="123"/>
                    <a:pt x="164" y="123"/>
                    <a:pt x="164" y="123"/>
                  </a:cubicBezTo>
                  <a:cubicBezTo>
                    <a:pt x="213" y="139"/>
                    <a:pt x="251" y="204"/>
                    <a:pt x="250" y="270"/>
                  </a:cubicBezTo>
                  <a:lnTo>
                    <a:pt x="246" y="487"/>
                  </a:lnTo>
                  <a:close/>
                </a:path>
              </a:pathLst>
            </a:custGeom>
            <a:gradFill rotWithShape="0">
              <a:gsLst>
                <a:gs pos="0">
                  <a:srgbClr val="a08902"/>
                </a:gs>
                <a:gs pos="100000">
                  <a:srgbClr val="fee75e"/>
                </a:gs>
              </a:gsLst>
              <a:lin ang="135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Freeform 17"/>
            <p:cNvSpPr/>
            <p:nvPr/>
          </p:nvSpPr>
          <p:spPr>
            <a:xfrm flipH="1">
              <a:off x="1196640" y="5102640"/>
              <a:ext cx="172800" cy="545400"/>
            </a:xfrm>
            <a:custGeom>
              <a:avLst/>
              <a:gdLst>
                <a:gd name="textAreaLeft" fmla="*/ 360 w 172800"/>
                <a:gd name="textAreaRight" fmla="*/ 173520 w 172800"/>
                <a:gd name="textAreaTop" fmla="*/ 0 h 545400"/>
                <a:gd name="textAreaBottom" fmla="*/ 545760 h 545400"/>
              </a:gdLst>
              <a:ahLst/>
              <a:rect l="textAreaLeft" t="textAreaTop" r="textAreaRight" b="textAreaBottom"/>
              <a:pathLst>
                <a:path w="152" h="479">
                  <a:moveTo>
                    <a:pt x="61" y="322"/>
                  </a:moveTo>
                  <a:cubicBezTo>
                    <a:pt x="65" y="105"/>
                    <a:pt x="65" y="105"/>
                    <a:pt x="65" y="105"/>
                  </a:cubicBezTo>
                  <a:cubicBezTo>
                    <a:pt x="66" y="64"/>
                    <a:pt x="82" y="33"/>
                    <a:pt x="106" y="19"/>
                  </a:cubicBezTo>
                  <a:cubicBezTo>
                    <a:pt x="95" y="16"/>
                    <a:pt x="95" y="16"/>
                    <a:pt x="95" y="16"/>
                  </a:cubicBezTo>
                  <a:cubicBezTo>
                    <a:pt x="95" y="16"/>
                    <a:pt x="94" y="16"/>
                    <a:pt x="94" y="15"/>
                  </a:cubicBezTo>
                  <a:cubicBezTo>
                    <a:pt x="46" y="0"/>
                    <a:pt x="6" y="40"/>
                    <a:pt x="5" y="105"/>
                  </a:cubicBezTo>
                  <a:cubicBezTo>
                    <a:pt x="1" y="322"/>
                    <a:pt x="1" y="322"/>
                    <a:pt x="1" y="322"/>
                  </a:cubicBezTo>
                  <a:cubicBezTo>
                    <a:pt x="0" y="387"/>
                    <a:pt x="38" y="453"/>
                    <a:pt x="87" y="469"/>
                  </a:cubicBezTo>
                  <a:cubicBezTo>
                    <a:pt x="103" y="474"/>
                    <a:pt x="103" y="474"/>
                    <a:pt x="103" y="474"/>
                  </a:cubicBezTo>
                  <a:cubicBezTo>
                    <a:pt x="118" y="479"/>
                    <a:pt x="131" y="479"/>
                    <a:pt x="144" y="474"/>
                  </a:cubicBezTo>
                  <a:cubicBezTo>
                    <a:pt x="146" y="473"/>
                    <a:pt x="149" y="472"/>
                    <a:pt x="152" y="471"/>
                  </a:cubicBezTo>
                  <a:cubicBezTo>
                    <a:pt x="147" y="469"/>
                    <a:pt x="147" y="469"/>
                    <a:pt x="147" y="469"/>
                  </a:cubicBezTo>
                  <a:cubicBezTo>
                    <a:pt x="98" y="453"/>
                    <a:pt x="60" y="387"/>
                    <a:pt x="61" y="322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902"/>
                </a:gs>
                <a:gs pos="100000">
                  <a:srgbClr val="fee75e"/>
                </a:gs>
              </a:gsLst>
              <a:lin ang="5400000"/>
            </a:gra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Rectangle 175"/>
          <p:cNvSpPr/>
          <p:nvPr/>
        </p:nvSpPr>
        <p:spPr>
          <a:xfrm>
            <a:off x="2910600" y="1552680"/>
            <a:ext cx="2810880" cy="363960"/>
          </a:xfrm>
          <a:prstGeom prst="rect">
            <a:avLst/>
          </a:prstGeom>
          <a:gradFill rotWithShape="0">
            <a:gsLst>
              <a:gs pos="0">
                <a:srgbClr val="5e5100"/>
              </a:gs>
              <a:gs pos="100000">
                <a:srgbClr val="ac8f00"/>
              </a:gs>
            </a:gsLst>
            <a:lin ang="16200000"/>
          </a:gradFill>
          <a:ln w="0">
            <a:solidFill>
              <a:srgbClr val="ffffff"/>
            </a:solidFill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9"/>
          <p:cNvSpPr/>
          <p:nvPr/>
        </p:nvSpPr>
        <p:spPr>
          <a:xfrm>
            <a:off x="1231920" y="5847840"/>
            <a:ext cx="1802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60"/>
          <p:cNvSpPr/>
          <p:nvPr/>
        </p:nvSpPr>
        <p:spPr>
          <a:xfrm>
            <a:off x="3198600" y="5847840"/>
            <a:ext cx="23655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62"/>
          <p:cNvSpPr/>
          <p:nvPr/>
        </p:nvSpPr>
        <p:spPr>
          <a:xfrm>
            <a:off x="5705280" y="5847840"/>
            <a:ext cx="180216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，或者通过复制您的文本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9"/>
          <p:cNvSpPr/>
          <p:nvPr/>
        </p:nvSpPr>
        <p:spPr>
          <a:xfrm>
            <a:off x="693720" y="6419880"/>
            <a:ext cx="44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2664</Words>
  <Paragraphs>28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0T09:51:59Z</dcterms:created>
  <dc:creator>for_yang@qq.com</dc:creator>
  <dc:description/>
  <dc:language>en-US</dc:language>
  <cp:lastModifiedBy>yu wang</cp:lastModifiedBy>
  <dcterms:modified xsi:type="dcterms:W3CDTF">2015-08-14T12:48:59Z</dcterms:modified>
  <cp:revision>6</cp:revision>
  <dc:subject/>
  <dc:title>单击此处添加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6</vt:r8>
  </property>
  <property fmtid="{D5CDD505-2E9C-101B-9397-08002B2CF9AE}" pid="3" name="PresentationFormat">
    <vt:lpwstr>全屏显示(4:3)</vt:lpwstr>
  </property>
  <property fmtid="{D5CDD505-2E9C-101B-9397-08002B2CF9AE}" pid="4" name="Slides">
    <vt:r8>27</vt:r8>
  </property>
</Properties>
</file>