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55062944718117"/>
          <c:y val="0.0997942386831276"/>
          <c:w val="0.706075533661741"/>
          <c:h val="0.800154320987654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3c5ea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儿童</c:v>
                </c:pt>
                <c:pt idx="1">
                  <c:v>少年</c:v>
                </c:pt>
                <c:pt idx="2">
                  <c:v>成年</c:v>
                </c:pt>
                <c:pt idx="3">
                  <c:v>老年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</c:v>
                </c:pt>
                <c:pt idx="1">
                  <c:v>3</c:v>
                </c:pt>
                <c:pt idx="2">
                  <c:v>6</c:v>
                </c:pt>
                <c:pt idx="3">
                  <c:v>2</c:v>
                </c:pt>
              </c:numCache>
            </c:numRef>
          </c:val>
        </c:ser>
        <c:gapWidth val="43"/>
        <c:overlap val="0"/>
        <c:axId val="33248308"/>
        <c:axId val="23573656"/>
      </c:barChart>
      <c:catAx>
        <c:axId val="3324830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5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23573656"/>
        <c:crosses val="autoZero"/>
        <c:auto val="1"/>
        <c:lblAlgn val="ctr"/>
        <c:lblOffset val="100"/>
        <c:noMultiLvlLbl val="0"/>
      </c:catAx>
      <c:valAx>
        <c:axId val="23573656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10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33248308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3c5ea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e9bb8"/>
              </a:solidFill>
              <a:ln w="0">
                <a:noFill/>
              </a:ln>
            </c:spPr>
          </c:dPt>
          <c:dPt>
            <c:idx val="1"/>
            <c:spPr>
              <a:solidFill>
                <a:srgbClr val="5cb8db"/>
              </a:solidFill>
              <a:ln w="0">
                <a:noFill/>
              </a:ln>
            </c:spPr>
          </c:dPt>
          <c:dPt>
            <c:idx val="2"/>
            <c:spPr>
              <a:solidFill>
                <a:srgbClr val="88ceed"/>
              </a:solidFill>
              <a:ln w="0">
                <a:noFill/>
              </a:ln>
            </c:spPr>
          </c:dPt>
          <c:dPt>
            <c:idx val="3"/>
            <c:spPr>
              <a:solidFill>
                <a:srgbClr val="badff3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05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showLegendKey val="0"/>
            <c:showVal val="0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广州</c:v>
                </c:pt>
                <c:pt idx="1">
                  <c:v>上海</c:v>
                </c:pt>
                <c:pt idx="2">
                  <c:v>北京</c:v>
                </c:pt>
                <c:pt idx="3">
                  <c:v>成都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</c:v>
                </c:pt>
                <c:pt idx="1">
                  <c:v>3</c:v>
                </c:pt>
                <c:pt idx="2">
                  <c:v>6</c:v>
                </c:pt>
                <c:pt idx="3">
                  <c:v>2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3c5ea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2008</c:v>
                </c:pt>
                <c:pt idx="1">
                  <c:v>2009</c:v>
                </c:pt>
                <c:pt idx="2">
                  <c:v>2010</c:v>
                </c:pt>
                <c:pt idx="3">
                  <c:v>201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</c:v>
                </c:pt>
                <c:pt idx="1">
                  <c:v>3</c:v>
                </c:pt>
                <c:pt idx="2">
                  <c:v>6</c:v>
                </c:pt>
                <c:pt idx="3">
                  <c:v>2</c:v>
                </c:pt>
              </c:numCache>
            </c:numRef>
          </c:val>
        </c:ser>
        <c:gapWidth val="150"/>
        <c:overlap val="-25"/>
        <c:axId val="37006298"/>
        <c:axId val="9128045"/>
      </c:barChart>
      <c:catAx>
        <c:axId val="37006298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10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9128045"/>
        <c:crosses val="autoZero"/>
        <c:auto val="1"/>
        <c:lblAlgn val="ctr"/>
        <c:lblOffset val="100"/>
        <c:noMultiLvlLbl val="0"/>
      </c:catAx>
      <c:valAx>
        <c:axId val="9128045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37006298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3c5e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Jan</c:v>
                </c:pt>
                <c:pt idx="1">
                  <c:v>Feb</c:v>
                </c:pt>
                <c:pt idx="2">
                  <c:v>Mar</c:v>
                </c:pt>
                <c:pt idx="3">
                  <c:v>Apr</c:v>
                </c:pt>
                <c:pt idx="4">
                  <c:v>May</c:v>
                </c:pt>
                <c:pt idx="5">
                  <c:v>Jun</c:v>
                </c:pt>
                <c:pt idx="6">
                  <c:v>Jul</c:v>
                </c:pt>
                <c:pt idx="7">
                  <c:v>Aug</c:v>
                </c:pt>
                <c:pt idx="8">
                  <c:v>Sep</c:v>
                </c:pt>
                <c:pt idx="9">
                  <c:v>Oct</c:v>
                </c:pt>
                <c:pt idx="10">
                  <c:v>Nov</c:v>
                </c:pt>
                <c:pt idx="11">
                  <c:v>Dec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2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  <c:pt idx="4">
                  <c:v>5</c:v>
                </c:pt>
                <c:pt idx="5">
                  <c:v>5.6</c:v>
                </c:pt>
                <c:pt idx="6">
                  <c:v>3</c:v>
                </c:pt>
                <c:pt idx="7">
                  <c:v>2.2</c:v>
                </c:pt>
                <c:pt idx="8">
                  <c:v>2.1</c:v>
                </c:pt>
                <c:pt idx="9">
                  <c:v>4.6</c:v>
                </c:pt>
                <c:pt idx="10">
                  <c:v>2.9</c:v>
                </c:pt>
                <c:pt idx="11">
                  <c:v>2.6</c:v>
                </c:pt>
              </c:numCache>
            </c:numRef>
          </c:val>
        </c:ser>
        <c:gapWidth val="300"/>
        <c:overlap val="0"/>
        <c:axId val="62332700"/>
        <c:axId val="57826240"/>
      </c:barChart>
      <c:catAx>
        <c:axId val="623327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57826240"/>
        <c:crosses val="autoZero"/>
        <c:auto val="1"/>
        <c:lblAlgn val="ctr"/>
        <c:lblOffset val="100"/>
        <c:noMultiLvlLbl val="0"/>
      </c:catAx>
      <c:valAx>
        <c:axId val="57826240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62332700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3c5ea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e9bb8"/>
              </a:solidFill>
              <a:ln w="0">
                <a:noFill/>
              </a:ln>
            </c:spPr>
          </c:dPt>
          <c:dPt>
            <c:idx val="1"/>
            <c:spPr>
              <a:solidFill>
                <a:srgbClr val="5cb8db"/>
              </a:solidFill>
              <a:ln w="0">
                <a:noFill/>
              </a:ln>
            </c:spPr>
          </c:dPt>
          <c:dPt>
            <c:idx val="2"/>
            <c:spPr>
              <a:solidFill>
                <a:srgbClr val="88ceed"/>
              </a:solidFill>
              <a:ln w="0">
                <a:noFill/>
              </a:ln>
            </c:spPr>
          </c:dPt>
          <c:dPt>
            <c:idx val="3"/>
            <c:spPr>
              <a:solidFill>
                <a:srgbClr val="badff3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05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0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广州</c:v>
                </c:pt>
                <c:pt idx="1">
                  <c:v>高中</c:v>
                </c:pt>
                <c:pt idx="2">
                  <c:v>本科</c:v>
                </c:pt>
                <c:pt idx="3">
                  <c:v>研究生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</c:v>
                </c:pt>
                <c:pt idx="1">
                  <c:v>3</c:v>
                </c:pt>
                <c:pt idx="2">
                  <c:v>6</c:v>
                </c:pt>
                <c:pt idx="3">
                  <c:v>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26339179430204"/>
          <c:y val="0.0998813291139241"/>
          <c:w val="0.834933735417824"/>
          <c:h val="0.800237341772152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3c5ea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S4</c:v>
                </c:pt>
                <c:pt idx="1">
                  <c:v>S3</c:v>
                </c:pt>
                <c:pt idx="2">
                  <c:v>S2</c:v>
                </c:pt>
                <c:pt idx="3">
                  <c:v>S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60</c:v>
                </c:pt>
                <c:pt idx="1">
                  <c:v>48</c:v>
                </c:pt>
                <c:pt idx="2">
                  <c:v>16</c:v>
                </c:pt>
                <c:pt idx="3">
                  <c:v>5</c:v>
                </c:pt>
              </c:numCache>
            </c:numRef>
          </c:val>
        </c:ser>
        <c:gapWidth val="43"/>
        <c:overlap val="0"/>
        <c:axId val="54944922"/>
        <c:axId val="89881907"/>
      </c:barChart>
      <c:catAx>
        <c:axId val="5494492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5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89881907"/>
        <c:crosses val="autoZero"/>
        <c:auto val="1"/>
        <c:lblAlgn val="ctr"/>
        <c:lblOffset val="100"/>
        <c:noMultiLvlLbl val="0"/>
      </c:catAx>
      <c:valAx>
        <c:axId val="89881907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10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54944922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A70-4BD4-463F-90BC-678BF37B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2D3-704D-4E0A-B4EE-A4BBF55F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15A-2189-414C-B295-9D064FA4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10F-DB13-4146-963A-E51CAD37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BDA4-D5D4-42BB-9AEC-FE558812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41FE-39FF-4A16-9171-A50C563A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4888-7528-4201-ABA9-CB9E8E0D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FE79-C6E7-46D5-B1A0-1C787FC2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3807-2FFA-4BED-9B35-42305212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924F-3E92-41E2-8E45-0B2EC1D2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5956-FE81-4329-B9D2-F1492BD1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50B-6334-49D9-8CE5-435304A4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F80F-AFAD-42F9-B376-70AA576C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C836-891E-450E-83FA-F22401DF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E65D-3161-4F61-827D-DF94CD2E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F9B0-E9FC-4620-B528-7C9C10CC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68DA-0699-498D-A30B-72F77E61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333-73B6-40A4-845D-485D8785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415-9D9B-44E8-B59A-12DD8156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0DB-A1BD-4340-9C99-3FF5655C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EB7-026F-4964-9A30-B87C76A6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4AA-1FAC-489C-8BDE-15D28971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EE5-3CB8-4E37-BE8D-5F107467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D85-2B1E-49A2-9BE0-B22A17E6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C73DEB-6906-4E21-AC9D-DB16694A111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1B47A4-B1F2-44B5-A04A-9E788289099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chart" Target="../charts/chart4.xml"/><Relationship Id="rId5" Type="http://schemas.openxmlformats.org/officeDocument/2006/relationships/chart" Target="../charts/chart5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conpng.com/icon/17418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iconpng.com/icon/17419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899640" y="2709000"/>
            <a:ext cx="7344360" cy="148428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704600"/>
            <a:ext cx="78483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风单色设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"/>
          <p:cNvSpPr/>
          <p:nvPr/>
        </p:nvSpPr>
        <p:spPr>
          <a:xfrm rot="20878800">
            <a:off x="1109160" y="3008160"/>
            <a:ext cx="76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Segoe UI"/>
                <a:ea typeface="Segoe UI"/>
              </a:rPr>
              <a:t>N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直接连接符 7"/>
          <p:cNvCxnSpPr/>
          <p:nvPr/>
        </p:nvCxnSpPr>
        <p:spPr>
          <a:xfrm>
            <a:off x="5436000" y="3113280"/>
            <a:ext cx="360" cy="72072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86" name="TextBox 9"/>
          <p:cNvSpPr/>
          <p:nvPr/>
        </p:nvSpPr>
        <p:spPr>
          <a:xfrm>
            <a:off x="5415120" y="3006720"/>
            <a:ext cx="928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Segoe UI"/>
                <a:ea typeface="Segoe UI"/>
              </a:rPr>
              <a:t>B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Segoe UI"/>
                <a:ea typeface="Segoe UI"/>
              </a:rPr>
              <a:t>P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Segoe UI"/>
                <a:ea typeface="Segoe UI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同侧圆角矩形 10"/>
          <p:cNvSpPr/>
          <p:nvPr/>
        </p:nvSpPr>
        <p:spPr>
          <a:xfrm>
            <a:off x="6588360" y="3285000"/>
            <a:ext cx="1007640" cy="503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1008112" h="504056">
                <a:moveTo>
                  <a:pt x="297916" y="0"/>
                </a:moveTo>
                <a:lnTo>
                  <a:pt x="413473" y="0"/>
                </a:lnTo>
                <a:cubicBezTo>
                  <a:pt x="395124" y="19992"/>
                  <a:pt x="380823" y="47352"/>
                  <a:pt x="371503" y="78619"/>
                </a:cubicBezTo>
                <a:cubicBezTo>
                  <a:pt x="346705" y="161807"/>
                  <a:pt x="366554" y="241155"/>
                  <a:pt x="415835" y="255845"/>
                </a:cubicBezTo>
                <a:cubicBezTo>
                  <a:pt x="398348" y="211914"/>
                  <a:pt x="398453" y="151182"/>
                  <a:pt x="416119" y="91918"/>
                </a:cubicBezTo>
                <a:cubicBezTo>
                  <a:pt x="426458" y="57231"/>
                  <a:pt x="442107" y="25417"/>
                  <a:pt x="461688" y="0"/>
                </a:cubicBezTo>
                <a:lnTo>
                  <a:pt x="551488" y="0"/>
                </a:lnTo>
                <a:cubicBezTo>
                  <a:pt x="533139" y="19992"/>
                  <a:pt x="518838" y="47352"/>
                  <a:pt x="509518" y="78619"/>
                </a:cubicBezTo>
                <a:cubicBezTo>
                  <a:pt x="484720" y="161807"/>
                  <a:pt x="504569" y="241155"/>
                  <a:pt x="553850" y="255845"/>
                </a:cubicBezTo>
                <a:cubicBezTo>
                  <a:pt x="536363" y="211914"/>
                  <a:pt x="536468" y="151182"/>
                  <a:pt x="554134" y="91918"/>
                </a:cubicBezTo>
                <a:cubicBezTo>
                  <a:pt x="564473" y="57231"/>
                  <a:pt x="580122" y="25417"/>
                  <a:pt x="599703" y="0"/>
                </a:cubicBezTo>
                <a:lnTo>
                  <a:pt x="671045" y="0"/>
                </a:lnTo>
                <a:cubicBezTo>
                  <a:pt x="656870" y="18370"/>
                  <a:pt x="645856" y="41413"/>
                  <a:pt x="638202" y="67092"/>
                </a:cubicBezTo>
                <a:cubicBezTo>
                  <a:pt x="613404" y="150280"/>
                  <a:pt x="633253" y="229628"/>
                  <a:pt x="682534" y="244318"/>
                </a:cubicBezTo>
                <a:cubicBezTo>
                  <a:pt x="665047" y="200387"/>
                  <a:pt x="665152" y="139655"/>
                  <a:pt x="682818" y="80391"/>
                </a:cubicBezTo>
                <a:cubicBezTo>
                  <a:pt x="691616" y="50875"/>
                  <a:pt x="704259" y="23438"/>
                  <a:pt x="719555" y="0"/>
                </a:cubicBezTo>
                <a:lnTo>
                  <a:pt x="756084" y="0"/>
                </a:lnTo>
                <a:cubicBezTo>
                  <a:pt x="780542" y="0"/>
                  <a:pt x="804185" y="3484"/>
                  <a:pt x="826214" y="11123"/>
                </a:cubicBezTo>
                <a:lnTo>
                  <a:pt x="801973" y="67092"/>
                </a:lnTo>
                <a:cubicBezTo>
                  <a:pt x="777175" y="150280"/>
                  <a:pt x="797024" y="229628"/>
                  <a:pt x="846305" y="244318"/>
                </a:cubicBezTo>
                <a:cubicBezTo>
                  <a:pt x="828818" y="200387"/>
                  <a:pt x="828923" y="139655"/>
                  <a:pt x="846589" y="80391"/>
                </a:cubicBezTo>
                <a:cubicBezTo>
                  <a:pt x="852169" y="61669"/>
                  <a:pt x="859297" y="43784"/>
                  <a:pt x="870282" y="28543"/>
                </a:cubicBezTo>
                <a:cubicBezTo>
                  <a:pt x="952313" y="69297"/>
                  <a:pt x="1008112" y="154146"/>
                  <a:pt x="1008112" y="252028"/>
                </a:cubicBezTo>
                <a:lnTo>
                  <a:pt x="1008112" y="504056"/>
                </a:lnTo>
                <a:lnTo>
                  <a:pt x="0" y="504056"/>
                </a:lnTo>
                <a:lnTo>
                  <a:pt x="0" y="252028"/>
                </a:lnTo>
                <a:cubicBezTo>
                  <a:pt x="0" y="113682"/>
                  <a:pt x="111472" y="1371"/>
                  <a:pt x="249499" y="255"/>
                </a:cubicBezTo>
                <a:cubicBezTo>
                  <a:pt x="231237" y="20213"/>
                  <a:pt x="217014" y="47478"/>
                  <a:pt x="207731" y="78619"/>
                </a:cubicBezTo>
                <a:cubicBezTo>
                  <a:pt x="182934" y="161807"/>
                  <a:pt x="202782" y="241155"/>
                  <a:pt x="252063" y="255845"/>
                </a:cubicBezTo>
                <a:cubicBezTo>
                  <a:pt x="234576" y="211914"/>
                  <a:pt x="234681" y="151182"/>
                  <a:pt x="252347" y="91918"/>
                </a:cubicBezTo>
                <a:cubicBezTo>
                  <a:pt x="262687" y="57231"/>
                  <a:pt x="278336" y="25417"/>
                  <a:pt x="297916" y="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7403400" y="3064680"/>
            <a:ext cx="385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640" y="382680"/>
            <a:ext cx="4608000" cy="92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直接连接符 8"/>
          <p:cNvCxnSpPr/>
          <p:nvPr/>
        </p:nvCxnSpPr>
        <p:spPr>
          <a:xfrm>
            <a:off x="791640" y="1017000"/>
            <a:ext cx="3456720" cy="360"/>
          </a:xfrm>
          <a:prstGeom prst="straightConnector1">
            <a:avLst/>
          </a:prstGeom>
          <a:ln w="28575">
            <a:solidFill>
              <a:srgbClr val="5dc1e7"/>
            </a:solidFill>
            <a:round/>
          </a:ln>
        </p:spPr>
      </p:cxnSp>
      <p:grpSp>
        <p:nvGrpSpPr>
          <p:cNvPr id="92" name="组合 12"/>
          <p:cNvGrpSpPr/>
          <p:nvPr/>
        </p:nvGrpSpPr>
        <p:grpSpPr>
          <a:xfrm>
            <a:off x="579240" y="600120"/>
            <a:ext cx="464040" cy="464040"/>
            <a:chOff x="579240" y="600120"/>
            <a:chExt cx="464040" cy="464040"/>
          </a:xfrm>
        </p:grpSpPr>
        <p:sp>
          <p:nvSpPr>
            <p:cNvPr id="93" name="椭圆 4"/>
            <p:cNvSpPr/>
            <p:nvPr/>
          </p:nvSpPr>
          <p:spPr>
            <a:xfrm>
              <a:off x="579240" y="600120"/>
              <a:ext cx="464040" cy="46404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" name="同侧圆角矩形 10"/>
            <p:cNvSpPr/>
            <p:nvPr/>
          </p:nvSpPr>
          <p:spPr>
            <a:xfrm>
              <a:off x="654840" y="746280"/>
              <a:ext cx="302040" cy="15084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008112" h="504056">
                  <a:moveTo>
                    <a:pt x="297916" y="0"/>
                  </a:moveTo>
                  <a:lnTo>
                    <a:pt x="413473" y="0"/>
                  </a:lnTo>
                  <a:cubicBezTo>
                    <a:pt x="395124" y="19992"/>
                    <a:pt x="380823" y="47352"/>
                    <a:pt x="371503" y="78619"/>
                  </a:cubicBezTo>
                  <a:cubicBezTo>
                    <a:pt x="346705" y="161807"/>
                    <a:pt x="366554" y="241155"/>
                    <a:pt x="415835" y="255845"/>
                  </a:cubicBezTo>
                  <a:cubicBezTo>
                    <a:pt x="398348" y="211914"/>
                    <a:pt x="398453" y="151182"/>
                    <a:pt x="416119" y="91918"/>
                  </a:cubicBezTo>
                  <a:cubicBezTo>
                    <a:pt x="426458" y="57231"/>
                    <a:pt x="442107" y="25417"/>
                    <a:pt x="461688" y="0"/>
                  </a:cubicBezTo>
                  <a:lnTo>
                    <a:pt x="551488" y="0"/>
                  </a:lnTo>
                  <a:cubicBezTo>
                    <a:pt x="533139" y="19992"/>
                    <a:pt x="518838" y="47352"/>
                    <a:pt x="509518" y="78619"/>
                  </a:cubicBezTo>
                  <a:cubicBezTo>
                    <a:pt x="484720" y="161807"/>
                    <a:pt x="504569" y="241155"/>
                    <a:pt x="553850" y="255845"/>
                  </a:cubicBezTo>
                  <a:cubicBezTo>
                    <a:pt x="536363" y="211914"/>
                    <a:pt x="536468" y="151182"/>
                    <a:pt x="554134" y="91918"/>
                  </a:cubicBezTo>
                  <a:cubicBezTo>
                    <a:pt x="564473" y="57231"/>
                    <a:pt x="580122" y="25417"/>
                    <a:pt x="599703" y="0"/>
                  </a:cubicBezTo>
                  <a:lnTo>
                    <a:pt x="671045" y="0"/>
                  </a:lnTo>
                  <a:cubicBezTo>
                    <a:pt x="656870" y="18370"/>
                    <a:pt x="645856" y="41413"/>
                    <a:pt x="638202" y="67092"/>
                  </a:cubicBezTo>
                  <a:cubicBezTo>
                    <a:pt x="613404" y="150280"/>
                    <a:pt x="633253" y="229628"/>
                    <a:pt x="682534" y="244318"/>
                  </a:cubicBezTo>
                  <a:cubicBezTo>
                    <a:pt x="665047" y="200387"/>
                    <a:pt x="665152" y="139655"/>
                    <a:pt x="682818" y="80391"/>
                  </a:cubicBezTo>
                  <a:cubicBezTo>
                    <a:pt x="691616" y="50875"/>
                    <a:pt x="704259" y="23438"/>
                    <a:pt x="719555" y="0"/>
                  </a:cubicBezTo>
                  <a:lnTo>
                    <a:pt x="756084" y="0"/>
                  </a:lnTo>
                  <a:cubicBezTo>
                    <a:pt x="780542" y="0"/>
                    <a:pt x="804185" y="3484"/>
                    <a:pt x="826214" y="11123"/>
                  </a:cubicBezTo>
                  <a:lnTo>
                    <a:pt x="801973" y="67092"/>
                  </a:lnTo>
                  <a:cubicBezTo>
                    <a:pt x="777175" y="150280"/>
                    <a:pt x="797024" y="229628"/>
                    <a:pt x="846305" y="244318"/>
                  </a:cubicBezTo>
                  <a:cubicBezTo>
                    <a:pt x="828818" y="200387"/>
                    <a:pt x="828923" y="139655"/>
                    <a:pt x="846589" y="80391"/>
                  </a:cubicBezTo>
                  <a:cubicBezTo>
                    <a:pt x="852169" y="61669"/>
                    <a:pt x="859297" y="43784"/>
                    <a:pt x="870282" y="28543"/>
                  </a:cubicBezTo>
                  <a:cubicBezTo>
                    <a:pt x="952313" y="69297"/>
                    <a:pt x="1008112" y="154146"/>
                    <a:pt x="1008112" y="252028"/>
                  </a:cubicBezTo>
                  <a:lnTo>
                    <a:pt x="1008112" y="504056"/>
                  </a:lnTo>
                  <a:lnTo>
                    <a:pt x="0" y="504056"/>
                  </a:lnTo>
                  <a:lnTo>
                    <a:pt x="0" y="252028"/>
                  </a:lnTo>
                  <a:cubicBezTo>
                    <a:pt x="0" y="113682"/>
                    <a:pt x="111472" y="1371"/>
                    <a:pt x="249499" y="255"/>
                  </a:cubicBezTo>
                  <a:cubicBezTo>
                    <a:pt x="231237" y="20213"/>
                    <a:pt x="217014" y="47478"/>
                    <a:pt x="207731" y="78619"/>
                  </a:cubicBezTo>
                  <a:cubicBezTo>
                    <a:pt x="182934" y="161807"/>
                    <a:pt x="202782" y="241155"/>
                    <a:pt x="252063" y="255845"/>
                  </a:cubicBezTo>
                  <a:cubicBezTo>
                    <a:pt x="234576" y="211914"/>
                    <a:pt x="234681" y="151182"/>
                    <a:pt x="252347" y="91918"/>
                  </a:cubicBezTo>
                  <a:cubicBezTo>
                    <a:pt x="262687" y="57231"/>
                    <a:pt x="278336" y="25417"/>
                    <a:pt x="297916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95" name="图表 13"/>
          <p:cNvGraphicFramePr/>
          <p:nvPr/>
        </p:nvGraphicFramePr>
        <p:xfrm>
          <a:off x="683640" y="4997520"/>
          <a:ext cx="1972800" cy="1399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6" name="图表 14"/>
          <p:cNvGraphicFramePr/>
          <p:nvPr/>
        </p:nvGraphicFramePr>
        <p:xfrm>
          <a:off x="2709360" y="5013000"/>
          <a:ext cx="1828800" cy="136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97" name="图表 15"/>
          <p:cNvGraphicFramePr/>
          <p:nvPr/>
        </p:nvGraphicFramePr>
        <p:xfrm>
          <a:off x="4591080" y="4997520"/>
          <a:ext cx="2088000" cy="1399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98" name="图表 16"/>
          <p:cNvGraphicFramePr/>
          <p:nvPr/>
        </p:nvGraphicFramePr>
        <p:xfrm>
          <a:off x="579240" y="1772640"/>
          <a:ext cx="8064360" cy="237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99" name="任意多边形 20"/>
          <p:cNvSpPr/>
          <p:nvPr/>
        </p:nvSpPr>
        <p:spPr>
          <a:xfrm>
            <a:off x="5034960" y="2133000"/>
            <a:ext cx="796680" cy="740520"/>
          </a:xfrm>
          <a:custGeom>
            <a:avLst/>
            <a:gdLst>
              <a:gd name="textAreaLeft" fmla="*/ 0 w 796680"/>
              <a:gd name="textAreaRight" fmla="*/ 797040 w 796680"/>
              <a:gd name="textAreaTop" fmla="*/ 0 h 740520"/>
              <a:gd name="textAreaBottom" fmla="*/ 740880 h 7405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1403640" y="184500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2"/>
          <p:cNvSpPr/>
          <p:nvPr/>
        </p:nvSpPr>
        <p:spPr>
          <a:xfrm>
            <a:off x="5984640" y="185328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任意多边形 23"/>
          <p:cNvSpPr/>
          <p:nvPr/>
        </p:nvSpPr>
        <p:spPr>
          <a:xfrm flipH="1">
            <a:off x="2987280" y="2071080"/>
            <a:ext cx="255240" cy="370080"/>
          </a:xfrm>
          <a:custGeom>
            <a:avLst/>
            <a:gdLst>
              <a:gd name="textAreaLeft" fmla="*/ -360 w 255240"/>
              <a:gd name="textAreaRight" fmla="*/ 255240 w 25524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4"/>
          <p:cNvSpPr/>
          <p:nvPr/>
        </p:nvSpPr>
        <p:spPr>
          <a:xfrm>
            <a:off x="1739880" y="1309680"/>
            <a:ext cx="2847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此描述下面数据表的相关整体信息，并作出准确的分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图表 26"/>
          <p:cNvGraphicFramePr/>
          <p:nvPr/>
        </p:nvGraphicFramePr>
        <p:xfrm>
          <a:off x="6732360" y="5013000"/>
          <a:ext cx="1828800" cy="136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  <p:sp>
        <p:nvSpPr>
          <p:cNvPr id="105" name="TextBox 27"/>
          <p:cNvSpPr/>
          <p:nvPr/>
        </p:nvSpPr>
        <p:spPr>
          <a:xfrm>
            <a:off x="3035880" y="4347360"/>
            <a:ext cx="2847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此描述下面数据表的相关整体信息，并作出准确的分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6"/>
          <p:cNvSpPr/>
          <p:nvPr/>
        </p:nvSpPr>
        <p:spPr>
          <a:xfrm>
            <a:off x="1187640" y="341640"/>
            <a:ext cx="46080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直接连接符 4"/>
          <p:cNvCxnSpPr/>
          <p:nvPr/>
        </p:nvCxnSpPr>
        <p:spPr>
          <a:xfrm>
            <a:off x="791640" y="1017000"/>
            <a:ext cx="3456720" cy="360"/>
          </a:xfrm>
          <a:prstGeom prst="straightConnector1">
            <a:avLst/>
          </a:prstGeom>
          <a:ln w="28575">
            <a:solidFill>
              <a:srgbClr val="5dc1e7"/>
            </a:solidFill>
            <a:round/>
          </a:ln>
        </p:spPr>
      </p:cxnSp>
      <p:grpSp>
        <p:nvGrpSpPr>
          <p:cNvPr id="108" name="组合 5"/>
          <p:cNvGrpSpPr/>
          <p:nvPr/>
        </p:nvGrpSpPr>
        <p:grpSpPr>
          <a:xfrm>
            <a:off x="579240" y="600120"/>
            <a:ext cx="464040" cy="464040"/>
            <a:chOff x="579240" y="600120"/>
            <a:chExt cx="464040" cy="464040"/>
          </a:xfrm>
        </p:grpSpPr>
        <p:sp>
          <p:nvSpPr>
            <p:cNvPr id="109" name="椭圆 6"/>
            <p:cNvSpPr/>
            <p:nvPr/>
          </p:nvSpPr>
          <p:spPr>
            <a:xfrm>
              <a:off x="579240" y="600120"/>
              <a:ext cx="464040" cy="46404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同侧圆角矩形 10"/>
            <p:cNvSpPr/>
            <p:nvPr/>
          </p:nvSpPr>
          <p:spPr>
            <a:xfrm>
              <a:off x="654840" y="746280"/>
              <a:ext cx="302040" cy="15084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008112" h="504056">
                  <a:moveTo>
                    <a:pt x="297916" y="0"/>
                  </a:moveTo>
                  <a:lnTo>
                    <a:pt x="413473" y="0"/>
                  </a:lnTo>
                  <a:cubicBezTo>
                    <a:pt x="395124" y="19992"/>
                    <a:pt x="380823" y="47352"/>
                    <a:pt x="371503" y="78619"/>
                  </a:cubicBezTo>
                  <a:cubicBezTo>
                    <a:pt x="346705" y="161807"/>
                    <a:pt x="366554" y="241155"/>
                    <a:pt x="415835" y="255845"/>
                  </a:cubicBezTo>
                  <a:cubicBezTo>
                    <a:pt x="398348" y="211914"/>
                    <a:pt x="398453" y="151182"/>
                    <a:pt x="416119" y="91918"/>
                  </a:cubicBezTo>
                  <a:cubicBezTo>
                    <a:pt x="426458" y="57231"/>
                    <a:pt x="442107" y="25417"/>
                    <a:pt x="461688" y="0"/>
                  </a:cubicBezTo>
                  <a:lnTo>
                    <a:pt x="551488" y="0"/>
                  </a:lnTo>
                  <a:cubicBezTo>
                    <a:pt x="533139" y="19992"/>
                    <a:pt x="518838" y="47352"/>
                    <a:pt x="509518" y="78619"/>
                  </a:cubicBezTo>
                  <a:cubicBezTo>
                    <a:pt x="484720" y="161807"/>
                    <a:pt x="504569" y="241155"/>
                    <a:pt x="553850" y="255845"/>
                  </a:cubicBezTo>
                  <a:cubicBezTo>
                    <a:pt x="536363" y="211914"/>
                    <a:pt x="536468" y="151182"/>
                    <a:pt x="554134" y="91918"/>
                  </a:cubicBezTo>
                  <a:cubicBezTo>
                    <a:pt x="564473" y="57231"/>
                    <a:pt x="580122" y="25417"/>
                    <a:pt x="599703" y="0"/>
                  </a:cubicBezTo>
                  <a:lnTo>
                    <a:pt x="671045" y="0"/>
                  </a:lnTo>
                  <a:cubicBezTo>
                    <a:pt x="656870" y="18370"/>
                    <a:pt x="645856" y="41413"/>
                    <a:pt x="638202" y="67092"/>
                  </a:cubicBezTo>
                  <a:cubicBezTo>
                    <a:pt x="613404" y="150280"/>
                    <a:pt x="633253" y="229628"/>
                    <a:pt x="682534" y="244318"/>
                  </a:cubicBezTo>
                  <a:cubicBezTo>
                    <a:pt x="665047" y="200387"/>
                    <a:pt x="665152" y="139655"/>
                    <a:pt x="682818" y="80391"/>
                  </a:cubicBezTo>
                  <a:cubicBezTo>
                    <a:pt x="691616" y="50875"/>
                    <a:pt x="704259" y="23438"/>
                    <a:pt x="719555" y="0"/>
                  </a:cubicBezTo>
                  <a:lnTo>
                    <a:pt x="756084" y="0"/>
                  </a:lnTo>
                  <a:cubicBezTo>
                    <a:pt x="780542" y="0"/>
                    <a:pt x="804185" y="3484"/>
                    <a:pt x="826214" y="11123"/>
                  </a:cubicBezTo>
                  <a:lnTo>
                    <a:pt x="801973" y="67092"/>
                  </a:lnTo>
                  <a:cubicBezTo>
                    <a:pt x="777175" y="150280"/>
                    <a:pt x="797024" y="229628"/>
                    <a:pt x="846305" y="244318"/>
                  </a:cubicBezTo>
                  <a:cubicBezTo>
                    <a:pt x="828818" y="200387"/>
                    <a:pt x="828923" y="139655"/>
                    <a:pt x="846589" y="80391"/>
                  </a:cubicBezTo>
                  <a:cubicBezTo>
                    <a:pt x="852169" y="61669"/>
                    <a:pt x="859297" y="43784"/>
                    <a:pt x="870282" y="28543"/>
                  </a:cubicBezTo>
                  <a:cubicBezTo>
                    <a:pt x="952313" y="69297"/>
                    <a:pt x="1008112" y="154146"/>
                    <a:pt x="1008112" y="252028"/>
                  </a:cubicBezTo>
                  <a:lnTo>
                    <a:pt x="1008112" y="504056"/>
                  </a:lnTo>
                  <a:lnTo>
                    <a:pt x="0" y="504056"/>
                  </a:lnTo>
                  <a:lnTo>
                    <a:pt x="0" y="252028"/>
                  </a:lnTo>
                  <a:cubicBezTo>
                    <a:pt x="0" y="113682"/>
                    <a:pt x="111472" y="1371"/>
                    <a:pt x="249499" y="255"/>
                  </a:cubicBezTo>
                  <a:cubicBezTo>
                    <a:pt x="231237" y="20213"/>
                    <a:pt x="217014" y="47478"/>
                    <a:pt x="207731" y="78619"/>
                  </a:cubicBezTo>
                  <a:cubicBezTo>
                    <a:pt x="182934" y="161807"/>
                    <a:pt x="202782" y="241155"/>
                    <a:pt x="252063" y="255845"/>
                  </a:cubicBezTo>
                  <a:cubicBezTo>
                    <a:pt x="234576" y="211914"/>
                    <a:pt x="234681" y="151182"/>
                    <a:pt x="252347" y="91918"/>
                  </a:cubicBezTo>
                  <a:cubicBezTo>
                    <a:pt x="262687" y="57231"/>
                    <a:pt x="278336" y="25417"/>
                    <a:pt x="297916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 rot="20463600">
            <a:off x="890640" y="1660680"/>
            <a:ext cx="1827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淘宝商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 rot="20374200">
            <a:off x="1033920" y="2427840"/>
            <a:ext cx="1974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正品  低价  便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Mall.taoba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图表 19"/>
          <p:cNvGraphicFramePr/>
          <p:nvPr/>
        </p:nvGraphicFramePr>
        <p:xfrm>
          <a:off x="3564000" y="1484640"/>
          <a:ext cx="4536000" cy="181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4" name="TextBox 20"/>
          <p:cNvSpPr/>
          <p:nvPr/>
        </p:nvSpPr>
        <p:spPr>
          <a:xfrm>
            <a:off x="5956920" y="1576800"/>
            <a:ext cx="1383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Gloucester MT Extra Condensed"/>
              </a:rPr>
              <a:t>50%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5472720" y="19857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每月增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下载软件包图标"/>
          <p:cNvPicPr/>
          <p:nvPr/>
        </p:nvPicPr>
        <p:blipFill>
          <a:blip r:embed="rId2"/>
          <a:stretch/>
        </p:blipFill>
        <p:spPr>
          <a:xfrm>
            <a:off x="7273440" y="1700640"/>
            <a:ext cx="1042560" cy="1042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下载软件包图标"/>
          <p:cNvPicPr/>
          <p:nvPr/>
        </p:nvPicPr>
        <p:blipFill>
          <a:blip r:embed="rId3"/>
          <a:stretch/>
        </p:blipFill>
        <p:spPr>
          <a:xfrm>
            <a:off x="7653240" y="2293200"/>
            <a:ext cx="878760" cy="878760"/>
          </a:xfrm>
          <a:prstGeom prst="rect">
            <a:avLst/>
          </a:prstGeom>
          <a:ln w="0">
            <a:noFill/>
          </a:ln>
        </p:spPr>
      </p:pic>
      <p:sp>
        <p:nvSpPr>
          <p:cNvPr id="118" name="圆角矩形 22"/>
          <p:cNvSpPr/>
          <p:nvPr/>
        </p:nvSpPr>
        <p:spPr>
          <a:xfrm>
            <a:off x="6435720" y="3894120"/>
            <a:ext cx="2304000" cy="2304000"/>
          </a:xfrm>
          <a:prstGeom prst="roundRect">
            <a:avLst>
              <a:gd name="adj" fmla="val 7906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圆角矩形 25"/>
          <p:cNvSpPr/>
          <p:nvPr/>
        </p:nvSpPr>
        <p:spPr>
          <a:xfrm>
            <a:off x="666360" y="3861000"/>
            <a:ext cx="5478120" cy="2304000"/>
          </a:xfrm>
          <a:prstGeom prst="roundRect">
            <a:avLst>
              <a:gd name="adj" fmla="val 10483"/>
            </a:avLst>
          </a:prstGeom>
          <a:solidFill>
            <a:srgbClr val="63c5e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1869480" y="4221000"/>
            <a:ext cx="2847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描述下面数据表的相关整体信息，并作出准确的分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入相关的解析情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入相关的解析情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入相关的解析情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3628800" y="4959720"/>
            <a:ext cx="1875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$10,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19"/>
          <p:cNvSpPr/>
          <p:nvPr/>
        </p:nvSpPr>
        <p:spPr>
          <a:xfrm>
            <a:off x="0" y="3063960"/>
            <a:ext cx="9155520" cy="2291400"/>
          </a:xfrm>
          <a:custGeom>
            <a:avLst/>
            <a:gdLst>
              <a:gd name="textAreaLeft" fmla="*/ 0 w 9155520"/>
              <a:gd name="textAreaRight" fmla="*/ 9155880 w 9155520"/>
              <a:gd name="textAreaTop" fmla="*/ 0 h 2291400"/>
              <a:gd name="textAreaBottom" fmla="*/ 2291760 h 2291400"/>
            </a:gdLst>
            <a:ahLst/>
            <a:rect l="textAreaLeft" t="textAreaTop" r="textAreaRight" b="textAreaBottom"/>
            <a:pathLst>
              <a:path w="9155875" h="2291937">
                <a:moveTo>
                  <a:pt x="0" y="2291937"/>
                </a:moveTo>
                <a:lnTo>
                  <a:pt x="2909455" y="2291937"/>
                </a:lnTo>
                <a:lnTo>
                  <a:pt x="5807034" y="0"/>
                </a:lnTo>
                <a:lnTo>
                  <a:pt x="9155875" y="0"/>
                </a:lnTo>
              </a:path>
            </a:pathLst>
          </a:custGeom>
          <a:noFill/>
          <a:ln w="38100">
            <a:solidFill>
              <a:srgbClr val="5dc1e7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标题 6"/>
          <p:cNvSpPr/>
          <p:nvPr/>
        </p:nvSpPr>
        <p:spPr>
          <a:xfrm>
            <a:off x="1187640" y="341640"/>
            <a:ext cx="46080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直接连接符 8"/>
          <p:cNvCxnSpPr/>
          <p:nvPr/>
        </p:nvCxnSpPr>
        <p:spPr>
          <a:xfrm>
            <a:off x="791640" y="1017000"/>
            <a:ext cx="3456720" cy="360"/>
          </a:xfrm>
          <a:prstGeom prst="straightConnector1">
            <a:avLst/>
          </a:prstGeom>
          <a:ln w="28575">
            <a:solidFill>
              <a:srgbClr val="5dc1e7"/>
            </a:solidFill>
            <a:round/>
          </a:ln>
        </p:spPr>
      </p:cxnSp>
      <p:grpSp>
        <p:nvGrpSpPr>
          <p:cNvPr id="125" name="组合 9"/>
          <p:cNvGrpSpPr/>
          <p:nvPr/>
        </p:nvGrpSpPr>
        <p:grpSpPr>
          <a:xfrm>
            <a:off x="579240" y="600120"/>
            <a:ext cx="464040" cy="464040"/>
            <a:chOff x="579240" y="600120"/>
            <a:chExt cx="464040" cy="464040"/>
          </a:xfrm>
        </p:grpSpPr>
        <p:sp>
          <p:nvSpPr>
            <p:cNvPr id="126" name="椭圆 10"/>
            <p:cNvSpPr/>
            <p:nvPr/>
          </p:nvSpPr>
          <p:spPr>
            <a:xfrm>
              <a:off x="579240" y="600120"/>
              <a:ext cx="464040" cy="46404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同侧圆角矩形 10"/>
            <p:cNvSpPr/>
            <p:nvPr/>
          </p:nvSpPr>
          <p:spPr>
            <a:xfrm>
              <a:off x="654840" y="746280"/>
              <a:ext cx="302040" cy="15084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008112" h="504056">
                  <a:moveTo>
                    <a:pt x="297916" y="0"/>
                  </a:moveTo>
                  <a:lnTo>
                    <a:pt x="413473" y="0"/>
                  </a:lnTo>
                  <a:cubicBezTo>
                    <a:pt x="395124" y="19992"/>
                    <a:pt x="380823" y="47352"/>
                    <a:pt x="371503" y="78619"/>
                  </a:cubicBezTo>
                  <a:cubicBezTo>
                    <a:pt x="346705" y="161807"/>
                    <a:pt x="366554" y="241155"/>
                    <a:pt x="415835" y="255845"/>
                  </a:cubicBezTo>
                  <a:cubicBezTo>
                    <a:pt x="398348" y="211914"/>
                    <a:pt x="398453" y="151182"/>
                    <a:pt x="416119" y="91918"/>
                  </a:cubicBezTo>
                  <a:cubicBezTo>
                    <a:pt x="426458" y="57231"/>
                    <a:pt x="442107" y="25417"/>
                    <a:pt x="461688" y="0"/>
                  </a:cubicBezTo>
                  <a:lnTo>
                    <a:pt x="551488" y="0"/>
                  </a:lnTo>
                  <a:cubicBezTo>
                    <a:pt x="533139" y="19992"/>
                    <a:pt x="518838" y="47352"/>
                    <a:pt x="509518" y="78619"/>
                  </a:cubicBezTo>
                  <a:cubicBezTo>
                    <a:pt x="484720" y="161807"/>
                    <a:pt x="504569" y="241155"/>
                    <a:pt x="553850" y="255845"/>
                  </a:cubicBezTo>
                  <a:cubicBezTo>
                    <a:pt x="536363" y="211914"/>
                    <a:pt x="536468" y="151182"/>
                    <a:pt x="554134" y="91918"/>
                  </a:cubicBezTo>
                  <a:cubicBezTo>
                    <a:pt x="564473" y="57231"/>
                    <a:pt x="580122" y="25417"/>
                    <a:pt x="599703" y="0"/>
                  </a:cubicBezTo>
                  <a:lnTo>
                    <a:pt x="671045" y="0"/>
                  </a:lnTo>
                  <a:cubicBezTo>
                    <a:pt x="656870" y="18370"/>
                    <a:pt x="645856" y="41413"/>
                    <a:pt x="638202" y="67092"/>
                  </a:cubicBezTo>
                  <a:cubicBezTo>
                    <a:pt x="613404" y="150280"/>
                    <a:pt x="633253" y="229628"/>
                    <a:pt x="682534" y="244318"/>
                  </a:cubicBezTo>
                  <a:cubicBezTo>
                    <a:pt x="665047" y="200387"/>
                    <a:pt x="665152" y="139655"/>
                    <a:pt x="682818" y="80391"/>
                  </a:cubicBezTo>
                  <a:cubicBezTo>
                    <a:pt x="691616" y="50875"/>
                    <a:pt x="704259" y="23438"/>
                    <a:pt x="719555" y="0"/>
                  </a:cubicBezTo>
                  <a:lnTo>
                    <a:pt x="756084" y="0"/>
                  </a:lnTo>
                  <a:cubicBezTo>
                    <a:pt x="780542" y="0"/>
                    <a:pt x="804185" y="3484"/>
                    <a:pt x="826214" y="11123"/>
                  </a:cubicBezTo>
                  <a:lnTo>
                    <a:pt x="801973" y="67092"/>
                  </a:lnTo>
                  <a:cubicBezTo>
                    <a:pt x="777175" y="150280"/>
                    <a:pt x="797024" y="229628"/>
                    <a:pt x="846305" y="244318"/>
                  </a:cubicBezTo>
                  <a:cubicBezTo>
                    <a:pt x="828818" y="200387"/>
                    <a:pt x="828923" y="139655"/>
                    <a:pt x="846589" y="80391"/>
                  </a:cubicBezTo>
                  <a:cubicBezTo>
                    <a:pt x="852169" y="61669"/>
                    <a:pt x="859297" y="43784"/>
                    <a:pt x="870282" y="28543"/>
                  </a:cubicBezTo>
                  <a:cubicBezTo>
                    <a:pt x="952313" y="69297"/>
                    <a:pt x="1008112" y="154146"/>
                    <a:pt x="1008112" y="252028"/>
                  </a:cubicBezTo>
                  <a:lnTo>
                    <a:pt x="1008112" y="504056"/>
                  </a:lnTo>
                  <a:lnTo>
                    <a:pt x="0" y="504056"/>
                  </a:lnTo>
                  <a:lnTo>
                    <a:pt x="0" y="252028"/>
                  </a:lnTo>
                  <a:cubicBezTo>
                    <a:pt x="0" y="113682"/>
                    <a:pt x="111472" y="1371"/>
                    <a:pt x="249499" y="255"/>
                  </a:cubicBezTo>
                  <a:cubicBezTo>
                    <a:pt x="231237" y="20213"/>
                    <a:pt x="217014" y="47478"/>
                    <a:pt x="207731" y="78619"/>
                  </a:cubicBezTo>
                  <a:cubicBezTo>
                    <a:pt x="182934" y="161807"/>
                    <a:pt x="202782" y="241155"/>
                    <a:pt x="252063" y="255845"/>
                  </a:cubicBezTo>
                  <a:cubicBezTo>
                    <a:pt x="234576" y="211914"/>
                    <a:pt x="234681" y="151182"/>
                    <a:pt x="252347" y="91918"/>
                  </a:cubicBezTo>
                  <a:cubicBezTo>
                    <a:pt x="262687" y="57231"/>
                    <a:pt x="278336" y="25417"/>
                    <a:pt x="297916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8" name="椭圆 16"/>
          <p:cNvSpPr/>
          <p:nvPr/>
        </p:nvSpPr>
        <p:spPr>
          <a:xfrm>
            <a:off x="731880" y="5193720"/>
            <a:ext cx="323640" cy="323640"/>
          </a:xfrm>
          <a:prstGeom prst="ellipse">
            <a:avLst/>
          </a:prstGeom>
          <a:solidFill>
            <a:schemeClr val="bg1">
              <a:lumMod val="95000"/>
            </a:schemeClr>
          </a:solidFill>
          <a:ln w="57150">
            <a:solidFill>
              <a:srgbClr val="63c5e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椭圆 17"/>
          <p:cNvSpPr/>
          <p:nvPr/>
        </p:nvSpPr>
        <p:spPr>
          <a:xfrm>
            <a:off x="5634000" y="2955960"/>
            <a:ext cx="323640" cy="323640"/>
          </a:xfrm>
          <a:prstGeom prst="ellipse">
            <a:avLst/>
          </a:prstGeom>
          <a:solidFill>
            <a:schemeClr val="bg1">
              <a:lumMod val="95000"/>
            </a:schemeClr>
          </a:solidFill>
          <a:ln w="57150">
            <a:solidFill>
              <a:srgbClr val="63c5e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椭圆 18"/>
          <p:cNvSpPr/>
          <p:nvPr/>
        </p:nvSpPr>
        <p:spPr>
          <a:xfrm>
            <a:off x="7893360" y="2901960"/>
            <a:ext cx="323640" cy="323640"/>
          </a:xfrm>
          <a:prstGeom prst="ellipse">
            <a:avLst/>
          </a:prstGeom>
          <a:solidFill>
            <a:schemeClr val="bg1">
              <a:lumMod val="95000"/>
            </a:schemeClr>
          </a:solidFill>
          <a:ln w="57150">
            <a:solidFill>
              <a:srgbClr val="63c5e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椭圆 20"/>
          <p:cNvSpPr/>
          <p:nvPr/>
        </p:nvSpPr>
        <p:spPr>
          <a:xfrm>
            <a:off x="4319280" y="3988440"/>
            <a:ext cx="323640" cy="323640"/>
          </a:xfrm>
          <a:prstGeom prst="ellipse">
            <a:avLst/>
          </a:prstGeom>
          <a:solidFill>
            <a:schemeClr val="bg1">
              <a:lumMod val="95000"/>
            </a:schemeClr>
          </a:solidFill>
          <a:ln w="57150">
            <a:solidFill>
              <a:srgbClr val="63c5e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椭圆 21"/>
          <p:cNvSpPr/>
          <p:nvPr/>
        </p:nvSpPr>
        <p:spPr>
          <a:xfrm>
            <a:off x="2771640" y="5136480"/>
            <a:ext cx="323640" cy="323640"/>
          </a:xfrm>
          <a:prstGeom prst="ellipse">
            <a:avLst/>
          </a:prstGeom>
          <a:solidFill>
            <a:schemeClr val="bg1">
              <a:lumMod val="95000"/>
            </a:schemeClr>
          </a:solidFill>
          <a:ln w="57150">
            <a:solidFill>
              <a:srgbClr val="63c5e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1242720" y="587628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任意多边形 26"/>
          <p:cNvSpPr/>
          <p:nvPr/>
        </p:nvSpPr>
        <p:spPr>
          <a:xfrm flipV="1">
            <a:off x="975960" y="5656320"/>
            <a:ext cx="211320" cy="651960"/>
          </a:xfrm>
          <a:custGeom>
            <a:avLst/>
            <a:gdLst>
              <a:gd name="textAreaLeft" fmla="*/ 0 w 211320"/>
              <a:gd name="textAreaRight" fmla="*/ 211680 w 211320"/>
              <a:gd name="textAreaTop" fmla="*/ -360 h 651960"/>
              <a:gd name="textAreaBottom" fmla="*/ 651960 h 65196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任意多边形 27"/>
          <p:cNvSpPr/>
          <p:nvPr/>
        </p:nvSpPr>
        <p:spPr>
          <a:xfrm flipH="1">
            <a:off x="2395080" y="4209840"/>
            <a:ext cx="472320" cy="812520"/>
          </a:xfrm>
          <a:custGeom>
            <a:avLst/>
            <a:gdLst>
              <a:gd name="textAreaLeft" fmla="*/ 360 w 472320"/>
              <a:gd name="textAreaRight" fmla="*/ 473040 w 47232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827640" y="393480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任意多边形 29"/>
          <p:cNvSpPr/>
          <p:nvPr/>
        </p:nvSpPr>
        <p:spPr>
          <a:xfrm flipH="1">
            <a:off x="3775680" y="3063960"/>
            <a:ext cx="472320" cy="812520"/>
          </a:xfrm>
          <a:custGeom>
            <a:avLst/>
            <a:gdLst>
              <a:gd name="textAreaLeft" fmla="*/ 360 w 472320"/>
              <a:gd name="textAreaRight" fmla="*/ 473040 w 47232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30"/>
          <p:cNvSpPr/>
          <p:nvPr/>
        </p:nvSpPr>
        <p:spPr>
          <a:xfrm>
            <a:off x="2207880" y="278892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任意多边形 31"/>
          <p:cNvSpPr/>
          <p:nvPr/>
        </p:nvSpPr>
        <p:spPr>
          <a:xfrm flipH="1">
            <a:off x="5349960" y="1975680"/>
            <a:ext cx="472320" cy="812520"/>
          </a:xfrm>
          <a:custGeom>
            <a:avLst/>
            <a:gdLst>
              <a:gd name="textAreaLeft" fmla="*/ 360 w 472320"/>
              <a:gd name="textAreaRight" fmla="*/ 473040 w 47232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2"/>
          <p:cNvSpPr/>
          <p:nvPr/>
        </p:nvSpPr>
        <p:spPr>
          <a:xfrm>
            <a:off x="3782520" y="170100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任意多边形 33"/>
          <p:cNvSpPr/>
          <p:nvPr/>
        </p:nvSpPr>
        <p:spPr>
          <a:xfrm flipH="1" flipV="1">
            <a:off x="7640640" y="3351600"/>
            <a:ext cx="431640" cy="716040"/>
          </a:xfrm>
          <a:custGeom>
            <a:avLst/>
            <a:gdLst>
              <a:gd name="textAreaLeft" fmla="*/ -360 w 431640"/>
              <a:gd name="textAreaRight" fmla="*/ 431640 w 431640"/>
              <a:gd name="textAreaTop" fmla="*/ -360 h 716040"/>
              <a:gd name="textAreaBottom" fmla="*/ 716040 h 71604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4"/>
          <p:cNvSpPr/>
          <p:nvPr/>
        </p:nvSpPr>
        <p:spPr>
          <a:xfrm>
            <a:off x="5870880" y="371052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蓝色的小旗图标"/>
          <p:cNvPicPr/>
          <p:nvPr/>
        </p:nvPicPr>
        <p:blipFill>
          <a:blip r:embed="rId1"/>
          <a:stretch/>
        </p:blipFill>
        <p:spPr>
          <a:xfrm>
            <a:off x="6773040" y="2195640"/>
            <a:ext cx="899280" cy="89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绿色的小旗图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3160" y="2955960"/>
            <a:ext cx="879120" cy="879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黄色的旗帜图标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52240" y="4068720"/>
            <a:ext cx="847440" cy="84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蓝色的小旗图标"/>
          <p:cNvPicPr/>
          <p:nvPr/>
        </p:nvPicPr>
        <p:blipFill>
          <a:blip r:embed="rId6"/>
          <a:stretch/>
        </p:blipFill>
        <p:spPr>
          <a:xfrm>
            <a:off x="1620360" y="4547880"/>
            <a:ext cx="899280" cy="899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7"/>
          <p:cNvSpPr/>
          <p:nvPr/>
        </p:nvSpPr>
        <p:spPr>
          <a:xfrm>
            <a:off x="5372640" y="5045400"/>
            <a:ext cx="3247560" cy="155196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Britannic Bold"/>
              </a:rPr>
              <a:t>FACE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79240" y="6442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16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63c5ea"/>
      </a:accent1>
      <a:accent2>
        <a:srgbClr val="ed3e2d"/>
      </a:accent2>
      <a:accent3>
        <a:srgbClr val="c5cf67"/>
      </a:accent3>
      <a:accent4>
        <a:srgbClr val="c6caa9"/>
      </a:accent4>
      <a:accent5>
        <a:srgbClr val="4bacc6"/>
      </a:accent5>
      <a:accent6>
        <a:srgbClr val="e8a87a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16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63c5ea"/>
      </a:accent1>
      <a:accent2>
        <a:srgbClr val="ed3e2d"/>
      </a:accent2>
      <a:accent3>
        <a:srgbClr val="c5cf67"/>
      </a:accent3>
      <a:accent4>
        <a:srgbClr val="c6caa9"/>
      </a:accent4>
      <a:accent5>
        <a:srgbClr val="4bacc6"/>
      </a:accent5>
      <a:accent6>
        <a:srgbClr val="e8a87a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  <Words>319</Words>
  <Paragraphs>74</Paragraphs>
  <Company>SkyUN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6:25:16Z</dcterms:created>
  <dc:creator>Bread</dc:creator>
  <dc:description/>
  <dc:language>en-US</dc:language>
  <cp:lastModifiedBy>yu wang</cp:lastModifiedBy>
  <dcterms:modified xsi:type="dcterms:W3CDTF">2015-08-12T14:52:04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