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7C1-2D10-4E4E-BE98-0B396952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8C2-53D0-4740-B013-FDC3A2D8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8A8-CEF2-4996-9078-2115BD29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990-1362-4C53-AF8C-9A821F6B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22EB-5581-401B-B180-C0BD4A08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EF51-F5E4-4AB3-AA5F-9F68317E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18B5-427D-4491-9BA8-E076F0CD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96E9-CC92-4FF5-9523-48F0B600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8817-436B-44B0-A84A-627D5E8D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5011-6A63-4FFF-A22A-E26C3AD0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F92F-45CB-4D9B-A560-0F2C8A35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B36-6B75-4213-9CCF-1F6E8D90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5B0A-08D2-4694-96FA-99464B13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320C-AC3E-4FBA-98AF-D0AA65B9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5DE0-3146-4FD2-9EBC-F31EB8FA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8EAC-592D-4B02-87A6-B0BF31C6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8A55-1947-4834-8D7F-A8629E88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87F-BBA0-4B6F-BF61-531DD8DB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C75-FB5D-470B-AE5A-5A0AC6B1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5AC-50FB-4CE0-8E71-AF6A93DF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E85-8DCA-49CD-845D-0AB65B39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B71-45E8-4DD3-9431-CA3C552F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F6D-8682-43D6-AA28-7D27C47A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EB0-8D86-4511-A4AA-D1E345B3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70A514-94C0-417D-8A4F-9DA7F5BBDA5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F9B012-0FA7-4C58-9EBA-E3CAADB2B16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330640" y="4943520"/>
            <a:ext cx="4976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创意书架设计</a:t>
            </a: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822840" y="5723280"/>
            <a:ext cx="237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简约创意主题及相关类别演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" name="直接连接符 3"/>
          <p:cNvCxnSpPr/>
          <p:nvPr/>
        </p:nvCxnSpPr>
        <p:spPr>
          <a:xfrm>
            <a:off x="2123640" y="5651280"/>
            <a:ext cx="5297400" cy="36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4143240" y="1149480"/>
            <a:ext cx="12139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471168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47116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7116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4783320" y="4773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8064000" y="-540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  <Words>261</Words>
  <Paragraphs>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2T14:51:02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