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096-65DD-4187-B40A-90A9FB01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B68-5E08-4471-9DB7-8592057A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E5A-9EFC-425C-A431-963ADBA3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14D-2885-4650-AA2D-E6B8ABD7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19DA-0CBB-47DC-9FE8-2D8C4B0D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5A6D-7A81-4F1E-83B9-3637FEA0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4793-C86C-42E7-86B1-C03F674F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67C0-3CE9-4429-8D4E-AA47698B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0190-F185-468F-A3A9-3DCA9D0A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4DEF-C02E-4F22-BFA8-3234583C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0340-807A-41CC-9CAD-6D9F947A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BE6-0346-4D46-B276-221A825F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7FD6-BEF7-4495-8666-0208A05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6042-28A7-4B8F-8D98-E5315525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170B-3F52-4645-9045-E97EBF2E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1312-7AD8-4018-9512-92D9AEE5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9A9-995D-465D-A412-1845F57D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185-2388-4F55-85B4-C3CAA630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330-B27D-49F2-AFC6-E2716166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5EF-3F51-48EA-869B-42302DE4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C6D-36D9-4258-A712-0A8C06F7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049-3C29-40EE-80C3-71942D38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AEC-4009-440E-B8C4-9E47B12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100-33E9-4316-8B78-F9B7F29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CFEB11-31DB-48ED-AA72-56F3E716070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B4B64B-0E14-4EEC-A701-C2BFC8295AB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330640" y="4943520"/>
            <a:ext cx="49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创意书架艺术设计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822840" y="5723280"/>
            <a:ext cx="237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简约创意主题及相关类别演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" name="直接连接符 3"/>
          <p:cNvCxnSpPr/>
          <p:nvPr/>
        </p:nvCxnSpPr>
        <p:spPr>
          <a:xfrm>
            <a:off x="2123640" y="5651280"/>
            <a:ext cx="529740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143240" y="1149480"/>
            <a:ext cx="1213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471168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711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7116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78332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  <Words>177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49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