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CE6-7A49-4FB0-8C12-63E4DF70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BFD-CD2D-4A33-BCF1-A6EC5713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480-A096-4276-BBFE-B96BFD52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263-1FD7-4D58-ABC9-6A3C4B69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BE69-3B9A-4C7A-A4A5-6EE227E8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37F6-4008-458A-96F7-41E394C3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73A6-D775-4BD0-AB92-6EE39333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2592-AF74-4ACD-98A2-1C581CD8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2F98-1CCD-4DD6-BCD8-93B3E84D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2971-BCE8-42D4-946E-0912F292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C406-0E14-4C2B-8ED7-28CB38FF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FD6-16F3-43C2-A2D6-F0FC0365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BF8D-5A7A-473A-A966-66D7E591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F9A7-0D51-42A4-A49F-7135B0B8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A856-3720-4054-8214-CC6FD08E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5D15-6802-4D98-9BB2-C197DCED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C1A7-120E-4B27-8EAA-824B000D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349-7701-4EB6-B481-5781FB94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93B-4DA5-4702-A6B3-50A5259C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69F-CD05-482A-ABA8-39F7D2D5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969-9A1A-44CD-8DE5-ADCEB227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B31-2707-472A-ACE7-94CE033C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113-F63D-458F-9481-3610CEB3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0988-DCAE-485A-AF5B-15EAFCFE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C0F437-7514-4A4D-BA08-89AAF6DEF99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8A4F56-B7DB-4781-8BE9-01088AEFD39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107080" y="4943520"/>
            <a:ext cx="55861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创意书架艺术设计</a:t>
            </a: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822840" y="5723280"/>
            <a:ext cx="237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简约创意主题及相关类别演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" name="直接连接符 3"/>
          <p:cNvCxnSpPr/>
          <p:nvPr/>
        </p:nvCxnSpPr>
        <p:spPr>
          <a:xfrm>
            <a:off x="2123640" y="5651280"/>
            <a:ext cx="5297400" cy="36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4143240" y="1149480"/>
            <a:ext cx="12139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471168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47116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7116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4783320" y="4773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8064000" y="-540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  <Words>262</Words>
  <Paragraphs>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2T14:51:00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