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创意室内设计毕业论文答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1280" y="6365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ee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ee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ee6600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PoweredTemplates.com</dc:creator>
  <dc:description/>
  <cp:keywords/>
  <dc:language>en-US</dc:language>
  <cp:lastModifiedBy>yu wang</cp:lastModifiedBy>
  <cp:lastPrinted>1899-12-30T00:00:00Z</cp:lastPrinted>
  <dcterms:modified xsi:type="dcterms:W3CDTF">2015-08-12T14:51:13Z</dcterms:modified>
  <cp:revision>86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