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CEC2-8CF6-4222-A8FF-DC5EA6995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48AE-B81A-4DEB-9B0D-D3098142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49C9-A036-4658-A08E-114547F1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3D0E-040C-4804-B959-2FE88FD26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C530-7806-4525-9EA5-91072C24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0565-5351-49D8-8C96-8C3A34AD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68E1-37E8-4EB4-8916-F7B62044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04D0-2B2C-46EF-8CD0-FA97E793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048B-4E8B-4D6B-898D-56C83483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683F-41CD-4787-8E13-4A786E13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6ED8-895C-46D3-AF32-2A3DAB24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B3FF-4D54-48F0-BB13-ED33472F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C1AC-A8F8-4368-85DB-98C41853336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FE9F-C7C9-41EA-A679-500F0F863BD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同心圆 10"/>
          <p:cNvSpPr/>
          <p:nvPr/>
        </p:nvSpPr>
        <p:spPr>
          <a:xfrm>
            <a:off x="357120" y="2857680"/>
            <a:ext cx="2643120" cy="2643120"/>
          </a:xfrm>
          <a:prstGeom prst="pi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同心圆 3"/>
          <p:cNvSpPr/>
          <p:nvPr/>
        </p:nvSpPr>
        <p:spPr>
          <a:xfrm>
            <a:off x="-960480" y="428760"/>
            <a:ext cx="1925640" cy="1928520"/>
          </a:xfrm>
          <a:custGeom>
            <a:avLst/>
            <a:gdLst>
              <a:gd name="textAreaLeft" fmla="*/ 281880 w 1925640"/>
              <a:gd name="textAreaRight" fmla="*/ 1643760 w 1925640"/>
              <a:gd name="textAreaTop" fmla="*/ 282240 h 1928520"/>
              <a:gd name="textAreaBottom" fmla="*/ 1646280 h 192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4"/>
          <p:cNvSpPr/>
          <p:nvPr/>
        </p:nvSpPr>
        <p:spPr>
          <a:xfrm>
            <a:off x="-576360" y="4643280"/>
            <a:ext cx="1157400" cy="1160640"/>
          </a:xfrm>
          <a:custGeom>
            <a:avLst/>
            <a:gdLst>
              <a:gd name="textAreaLeft" fmla="*/ 169200 w 1157400"/>
              <a:gd name="textAreaRight" fmla="*/ 988200 w 1157400"/>
              <a:gd name="textAreaTop" fmla="*/ 169920 h 1160640"/>
              <a:gd name="textAreaBottom" fmla="*/ 990720 h 1160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同心圆 5"/>
          <p:cNvSpPr/>
          <p:nvPr/>
        </p:nvSpPr>
        <p:spPr>
          <a:xfrm>
            <a:off x="136440" y="3929040"/>
            <a:ext cx="1444680" cy="1444680"/>
          </a:xfrm>
          <a:custGeom>
            <a:avLst/>
            <a:gdLst>
              <a:gd name="textAreaLeft" fmla="*/ 211320 w 1444680"/>
              <a:gd name="textAreaRight" fmla="*/ 1233360 w 1444680"/>
              <a:gd name="textAreaTop" fmla="*/ 211320 h 1444680"/>
              <a:gd name="textAreaBottom" fmla="*/ 1233360 h 1444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同心圆 6"/>
          <p:cNvSpPr/>
          <p:nvPr/>
        </p:nvSpPr>
        <p:spPr>
          <a:xfrm>
            <a:off x="285840" y="2071800"/>
            <a:ext cx="444240" cy="444240"/>
          </a:xfrm>
          <a:custGeom>
            <a:avLst/>
            <a:gdLst>
              <a:gd name="textAreaLeft" fmla="*/ 64800 w 444240"/>
              <a:gd name="textAreaRight" fmla="*/ 379440 w 444240"/>
              <a:gd name="textAreaTop" fmla="*/ 64800 h 444240"/>
              <a:gd name="textAreaBottom" fmla="*/ 379440 h 444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同心圆 7"/>
          <p:cNvSpPr/>
          <p:nvPr/>
        </p:nvSpPr>
        <p:spPr>
          <a:xfrm>
            <a:off x="1000080" y="1571760"/>
            <a:ext cx="1160640" cy="1160280"/>
          </a:xfrm>
          <a:custGeom>
            <a:avLst/>
            <a:gdLst>
              <a:gd name="textAreaLeft" fmla="*/ 169920 w 1160640"/>
              <a:gd name="textAreaRight" fmla="*/ 990720 w 1160640"/>
              <a:gd name="textAreaTop" fmla="*/ 169920 h 1160280"/>
              <a:gd name="textAreaBottom" fmla="*/ 990360 h 1160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513" y="10800"/>
                </a:moveTo>
                <a:cubicBezTo>
                  <a:pt x="3513" y="14824"/>
                  <a:pt x="6776" y="18087"/>
                  <a:pt x="10800" y="18087"/>
                </a:cubicBezTo>
                <a:cubicBezTo>
                  <a:pt x="14824" y="18087"/>
                  <a:pt x="18087" y="14824"/>
                  <a:pt x="18087" y="10800"/>
                </a:cubicBezTo>
                <a:cubicBezTo>
                  <a:pt x="18087" y="6776"/>
                  <a:pt x="14824" y="3513"/>
                  <a:pt x="10800" y="3513"/>
                </a:cubicBezTo>
                <a:cubicBezTo>
                  <a:pt x="6776" y="3513"/>
                  <a:pt x="3513" y="6776"/>
                  <a:pt x="3513" y="10800"/>
                </a:cubicBezTo>
                <a:close/>
              </a:path>
            </a:pathLst>
          </a:cu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同心圆 8"/>
          <p:cNvSpPr/>
          <p:nvPr/>
        </p:nvSpPr>
        <p:spPr>
          <a:xfrm>
            <a:off x="1071720" y="2357280"/>
            <a:ext cx="1160280" cy="1160640"/>
          </a:xfrm>
          <a:custGeom>
            <a:avLst/>
            <a:gdLst>
              <a:gd name="textAreaLeft" fmla="*/ 169920 w 1160280"/>
              <a:gd name="textAreaRight" fmla="*/ 990360 w 1160280"/>
              <a:gd name="textAreaTop" fmla="*/ 169920 h 1160640"/>
              <a:gd name="textAreaBottom" fmla="*/ 990720 h 1160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9"/>
          <p:cNvSpPr/>
          <p:nvPr/>
        </p:nvSpPr>
        <p:spPr>
          <a:xfrm>
            <a:off x="2000160" y="2127240"/>
            <a:ext cx="730440" cy="730440"/>
          </a:xfrm>
          <a:custGeom>
            <a:avLst/>
            <a:gdLst>
              <a:gd name="textAreaLeft" fmla="*/ 106920 w 730440"/>
              <a:gd name="textAreaRight" fmla="*/ 623520 w 730440"/>
              <a:gd name="textAreaTop" fmla="*/ 106920 h 730440"/>
              <a:gd name="textAreaBottom" fmla="*/ 623520 h 730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同心圆 11"/>
          <p:cNvSpPr/>
          <p:nvPr/>
        </p:nvSpPr>
        <p:spPr>
          <a:xfrm>
            <a:off x="2071800" y="3143160"/>
            <a:ext cx="1444680" cy="1444680"/>
          </a:xfrm>
          <a:custGeom>
            <a:avLst/>
            <a:gdLst>
              <a:gd name="textAreaLeft" fmla="*/ 211320 w 1444680"/>
              <a:gd name="textAreaRight" fmla="*/ 1233360 w 1444680"/>
              <a:gd name="textAreaTop" fmla="*/ 211320 h 1444680"/>
              <a:gd name="textAreaBottom" fmla="*/ 1233360 h 1444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同心圆 12"/>
          <p:cNvSpPr/>
          <p:nvPr/>
        </p:nvSpPr>
        <p:spPr>
          <a:xfrm>
            <a:off x="1714680" y="4071960"/>
            <a:ext cx="1015920" cy="1015920"/>
          </a:xfrm>
          <a:custGeom>
            <a:avLst/>
            <a:gdLst>
              <a:gd name="textAreaLeft" fmla="*/ 148680 w 1015920"/>
              <a:gd name="textAreaRight" fmla="*/ 867240 w 1015920"/>
              <a:gd name="textAreaTop" fmla="*/ 148680 h 1015920"/>
              <a:gd name="textAreaBottom" fmla="*/ 867240 h 1015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802" y="10800"/>
                </a:moveTo>
                <a:cubicBezTo>
                  <a:pt x="2802" y="15217"/>
                  <a:pt x="6383" y="18798"/>
                  <a:pt x="10800" y="18798"/>
                </a:cubicBezTo>
                <a:cubicBezTo>
                  <a:pt x="15217" y="18798"/>
                  <a:pt x="18798" y="15217"/>
                  <a:pt x="18798" y="10800"/>
                </a:cubicBezTo>
                <a:cubicBezTo>
                  <a:pt x="18798" y="6383"/>
                  <a:pt x="15217" y="2802"/>
                  <a:pt x="10800" y="2802"/>
                </a:cubicBezTo>
                <a:cubicBezTo>
                  <a:pt x="6383" y="2802"/>
                  <a:pt x="2802" y="6383"/>
                  <a:pt x="280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同心圆 13"/>
          <p:cNvSpPr/>
          <p:nvPr/>
        </p:nvSpPr>
        <p:spPr>
          <a:xfrm>
            <a:off x="928800" y="5429160"/>
            <a:ext cx="1428480" cy="1428840"/>
          </a:xfrm>
          <a:custGeom>
            <a:avLst/>
            <a:gdLst>
              <a:gd name="textAreaLeft" fmla="*/ 209160 w 1428480"/>
              <a:gd name="textAreaRight" fmla="*/ 1219320 w 1428480"/>
              <a:gd name="textAreaTop" fmla="*/ 209160 h 1428840"/>
              <a:gd name="textAreaBottom" fmla="*/ 121968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同心圆 14"/>
          <p:cNvSpPr/>
          <p:nvPr/>
        </p:nvSpPr>
        <p:spPr>
          <a:xfrm>
            <a:off x="1285920" y="6429240"/>
            <a:ext cx="214200" cy="214560"/>
          </a:xfrm>
          <a:custGeom>
            <a:avLst/>
            <a:gdLst>
              <a:gd name="textAreaLeft" fmla="*/ 31320 w 214200"/>
              <a:gd name="textAreaRight" fmla="*/ 182880 w 214200"/>
              <a:gd name="textAreaTop" fmla="*/ 31320 h 214560"/>
              <a:gd name="textAreaBottom" fmla="*/ 183240 h 21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同心圆 15"/>
          <p:cNvSpPr/>
          <p:nvPr/>
        </p:nvSpPr>
        <p:spPr>
          <a:xfrm>
            <a:off x="2428920" y="1214280"/>
            <a:ext cx="730080" cy="730440"/>
          </a:xfrm>
          <a:custGeom>
            <a:avLst/>
            <a:gdLst>
              <a:gd name="textAreaLeft" fmla="*/ 106920 w 730080"/>
              <a:gd name="textAreaRight" fmla="*/ 623160 w 730080"/>
              <a:gd name="textAreaTop" fmla="*/ 106920 h 730440"/>
              <a:gd name="textAreaBottom" fmla="*/ 623520 h 730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同心圆 18"/>
          <p:cNvSpPr/>
          <p:nvPr/>
        </p:nvSpPr>
        <p:spPr>
          <a:xfrm>
            <a:off x="3214800" y="785880"/>
            <a:ext cx="714240" cy="714240"/>
          </a:xfrm>
          <a:custGeom>
            <a:avLst/>
            <a:gdLst>
              <a:gd name="textAreaLeft" fmla="*/ 104400 w 714240"/>
              <a:gd name="textAreaRight" fmla="*/ 609840 w 714240"/>
              <a:gd name="textAreaTop" fmla="*/ 104400 h 714240"/>
              <a:gd name="textAreaBottom" fmla="*/ 609840 h 714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同心圆 19"/>
          <p:cNvSpPr/>
          <p:nvPr/>
        </p:nvSpPr>
        <p:spPr>
          <a:xfrm>
            <a:off x="7072200" y="5214960"/>
            <a:ext cx="928800" cy="928800"/>
          </a:xfrm>
          <a:custGeom>
            <a:avLst/>
            <a:gdLst>
              <a:gd name="textAreaLeft" fmla="*/ 135720 w 928800"/>
              <a:gd name="textAreaRight" fmla="*/ 793080 w 928800"/>
              <a:gd name="textAreaTop" fmla="*/ 135720 h 928800"/>
              <a:gd name="textAreaBottom" fmla="*/ 79308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同心圆 20"/>
          <p:cNvSpPr/>
          <p:nvPr/>
        </p:nvSpPr>
        <p:spPr>
          <a:xfrm>
            <a:off x="5715000" y="4429080"/>
            <a:ext cx="785880" cy="785880"/>
          </a:xfrm>
          <a:custGeom>
            <a:avLst/>
            <a:gdLst>
              <a:gd name="textAreaLeft" fmla="*/ 114840 w 785880"/>
              <a:gd name="textAreaRight" fmla="*/ 671040 w 785880"/>
              <a:gd name="textAreaTop" fmla="*/ 114840 h 785880"/>
              <a:gd name="textAreaBottom" fmla="*/ 671040 h 785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同心圆 21"/>
          <p:cNvSpPr/>
          <p:nvPr/>
        </p:nvSpPr>
        <p:spPr>
          <a:xfrm>
            <a:off x="5357880" y="5500800"/>
            <a:ext cx="515880" cy="515880"/>
          </a:xfrm>
          <a:custGeom>
            <a:avLst/>
            <a:gdLst>
              <a:gd name="textAreaLeft" fmla="*/ 75240 w 515880"/>
              <a:gd name="textAreaRight" fmla="*/ 440640 w 515880"/>
              <a:gd name="textAreaTop" fmla="*/ 75240 h 515880"/>
              <a:gd name="textAreaBottom" fmla="*/ 440640 h 515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同心圆 22"/>
          <p:cNvSpPr/>
          <p:nvPr/>
        </p:nvSpPr>
        <p:spPr>
          <a:xfrm>
            <a:off x="4643280" y="6413400"/>
            <a:ext cx="444600" cy="444600"/>
          </a:xfrm>
          <a:custGeom>
            <a:avLst/>
            <a:gdLst>
              <a:gd name="textAreaLeft" fmla="*/ 64800 w 444600"/>
              <a:gd name="textAreaRight" fmla="*/ 379800 w 444600"/>
              <a:gd name="textAreaTop" fmla="*/ 64800 h 444600"/>
              <a:gd name="textAreaBottom" fmla="*/ 379800 h 44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同心圆 23"/>
          <p:cNvSpPr/>
          <p:nvPr/>
        </p:nvSpPr>
        <p:spPr>
          <a:xfrm>
            <a:off x="3786120" y="5911920"/>
            <a:ext cx="946080" cy="946080"/>
          </a:xfrm>
          <a:custGeom>
            <a:avLst/>
            <a:gdLst>
              <a:gd name="textAreaLeft" fmla="*/ 138240 w 946080"/>
              <a:gd name="textAreaRight" fmla="*/ 807840 w 946080"/>
              <a:gd name="textAreaTop" fmla="*/ 138240 h 946080"/>
              <a:gd name="textAreaBottom" fmla="*/ 807840 h 946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513" y="10800"/>
                </a:moveTo>
                <a:cubicBezTo>
                  <a:pt x="3513" y="14824"/>
                  <a:pt x="6776" y="18087"/>
                  <a:pt x="10800" y="18087"/>
                </a:cubicBezTo>
                <a:cubicBezTo>
                  <a:pt x="14824" y="18087"/>
                  <a:pt x="18087" y="14824"/>
                  <a:pt x="18087" y="10800"/>
                </a:cubicBezTo>
                <a:cubicBezTo>
                  <a:pt x="18087" y="6776"/>
                  <a:pt x="14824" y="3513"/>
                  <a:pt x="10800" y="3513"/>
                </a:cubicBezTo>
                <a:cubicBezTo>
                  <a:pt x="6776" y="3513"/>
                  <a:pt x="3513" y="6776"/>
                  <a:pt x="3513" y="10800"/>
                </a:cubicBezTo>
                <a:close/>
              </a:path>
            </a:pathLst>
          </a:cu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同心圆 24"/>
          <p:cNvSpPr/>
          <p:nvPr/>
        </p:nvSpPr>
        <p:spPr>
          <a:xfrm>
            <a:off x="3500280" y="6429240"/>
            <a:ext cx="714600" cy="714600"/>
          </a:xfrm>
          <a:custGeom>
            <a:avLst/>
            <a:gdLst>
              <a:gd name="textAreaLeft" fmla="*/ 104400 w 714600"/>
              <a:gd name="textAreaRight" fmla="*/ 610200 w 714600"/>
              <a:gd name="textAreaTop" fmla="*/ 104400 h 714600"/>
              <a:gd name="textAreaBottom" fmla="*/ 610200 h 7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802" y="10800"/>
                </a:moveTo>
                <a:cubicBezTo>
                  <a:pt x="2802" y="15217"/>
                  <a:pt x="6383" y="18798"/>
                  <a:pt x="10800" y="18798"/>
                </a:cubicBezTo>
                <a:cubicBezTo>
                  <a:pt x="15217" y="18798"/>
                  <a:pt x="18798" y="15217"/>
                  <a:pt x="18798" y="10800"/>
                </a:cubicBezTo>
                <a:cubicBezTo>
                  <a:pt x="18798" y="6383"/>
                  <a:pt x="15217" y="2802"/>
                  <a:pt x="10800" y="2802"/>
                </a:cubicBezTo>
                <a:cubicBezTo>
                  <a:pt x="6383" y="2802"/>
                  <a:pt x="2802" y="6383"/>
                  <a:pt x="280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同心圆 26"/>
          <p:cNvSpPr/>
          <p:nvPr/>
        </p:nvSpPr>
        <p:spPr>
          <a:xfrm>
            <a:off x="2357280" y="5786280"/>
            <a:ext cx="1357560" cy="1357560"/>
          </a:xfrm>
          <a:prstGeom prst="pi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同心圆 27"/>
          <p:cNvSpPr/>
          <p:nvPr/>
        </p:nvSpPr>
        <p:spPr>
          <a:xfrm>
            <a:off x="2428920" y="5214960"/>
            <a:ext cx="928800" cy="928800"/>
          </a:xfrm>
          <a:custGeom>
            <a:avLst/>
            <a:gdLst>
              <a:gd name="textAreaLeft" fmla="*/ 135720 w 928800"/>
              <a:gd name="textAreaRight" fmla="*/ 793080 w 928800"/>
              <a:gd name="textAreaTop" fmla="*/ 135720 h 928800"/>
              <a:gd name="textAreaBottom" fmla="*/ 79308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28"/>
          <p:cNvSpPr/>
          <p:nvPr/>
        </p:nvSpPr>
        <p:spPr>
          <a:xfrm>
            <a:off x="0" y="3214800"/>
            <a:ext cx="357120" cy="3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29"/>
          <p:cNvSpPr/>
          <p:nvPr/>
        </p:nvSpPr>
        <p:spPr>
          <a:xfrm>
            <a:off x="3286080" y="3500280"/>
            <a:ext cx="324000" cy="32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30"/>
          <p:cNvSpPr/>
          <p:nvPr/>
        </p:nvSpPr>
        <p:spPr>
          <a:xfrm>
            <a:off x="2357280" y="4786200"/>
            <a:ext cx="324000" cy="32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31"/>
          <p:cNvSpPr/>
          <p:nvPr/>
        </p:nvSpPr>
        <p:spPr>
          <a:xfrm>
            <a:off x="4143240" y="5857920"/>
            <a:ext cx="324000" cy="323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32"/>
          <p:cNvSpPr/>
          <p:nvPr/>
        </p:nvSpPr>
        <p:spPr>
          <a:xfrm>
            <a:off x="2549520" y="2246400"/>
            <a:ext cx="252360" cy="25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30"/>
          <p:cNvSpPr/>
          <p:nvPr/>
        </p:nvSpPr>
        <p:spPr>
          <a:xfrm>
            <a:off x="3621960" y="1620720"/>
            <a:ext cx="505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创意圆环</a:t>
            </a:r>
            <a:r>
              <a:rPr b="0" lang="en-US" sz="4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34"/>
          <p:cNvSpPr/>
          <p:nvPr/>
        </p:nvSpPr>
        <p:spPr>
          <a:xfrm>
            <a:off x="112680" y="6556320"/>
            <a:ext cx="7905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333333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333333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333333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333333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333333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333333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333333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333333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333333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333333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333333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333333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333333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333333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333333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333333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333333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333333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333333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333333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333333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333333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333333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333333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333333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333333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333333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333333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333333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333333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333333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333333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333333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333333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333333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333333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333333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333333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333333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333333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同心圆 3"/>
          <p:cNvSpPr/>
          <p:nvPr/>
        </p:nvSpPr>
        <p:spPr>
          <a:xfrm>
            <a:off x="357120" y="2857680"/>
            <a:ext cx="2643120" cy="2643120"/>
          </a:xfrm>
          <a:prstGeom prst="pi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同心圆 4"/>
          <p:cNvSpPr/>
          <p:nvPr/>
        </p:nvSpPr>
        <p:spPr>
          <a:xfrm>
            <a:off x="-960480" y="428760"/>
            <a:ext cx="1925640" cy="1928520"/>
          </a:xfrm>
          <a:custGeom>
            <a:avLst/>
            <a:gdLst>
              <a:gd name="textAreaLeft" fmla="*/ 281880 w 1925640"/>
              <a:gd name="textAreaRight" fmla="*/ 1643760 w 1925640"/>
              <a:gd name="textAreaTop" fmla="*/ 282240 h 1928520"/>
              <a:gd name="textAreaBottom" fmla="*/ 1646280 h 192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同心圆 5"/>
          <p:cNvSpPr/>
          <p:nvPr/>
        </p:nvSpPr>
        <p:spPr>
          <a:xfrm>
            <a:off x="136440" y="3929040"/>
            <a:ext cx="1444680" cy="1444680"/>
          </a:xfrm>
          <a:custGeom>
            <a:avLst/>
            <a:gdLst>
              <a:gd name="textAreaLeft" fmla="*/ 211320 w 1444680"/>
              <a:gd name="textAreaRight" fmla="*/ 1233360 w 1444680"/>
              <a:gd name="textAreaTop" fmla="*/ 211320 h 1444680"/>
              <a:gd name="textAreaBottom" fmla="*/ 1233360 h 1444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同心圆 6"/>
          <p:cNvSpPr/>
          <p:nvPr/>
        </p:nvSpPr>
        <p:spPr>
          <a:xfrm>
            <a:off x="1000080" y="1571760"/>
            <a:ext cx="1160640" cy="1160280"/>
          </a:xfrm>
          <a:custGeom>
            <a:avLst/>
            <a:gdLst>
              <a:gd name="textAreaLeft" fmla="*/ 169920 w 1160640"/>
              <a:gd name="textAreaRight" fmla="*/ 990720 w 1160640"/>
              <a:gd name="textAreaTop" fmla="*/ 169920 h 1160280"/>
              <a:gd name="textAreaBottom" fmla="*/ 990360 h 1160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513" y="10800"/>
                </a:moveTo>
                <a:cubicBezTo>
                  <a:pt x="3513" y="14824"/>
                  <a:pt x="6776" y="18087"/>
                  <a:pt x="10800" y="18087"/>
                </a:cubicBezTo>
                <a:cubicBezTo>
                  <a:pt x="14824" y="18087"/>
                  <a:pt x="18087" y="14824"/>
                  <a:pt x="18087" y="10800"/>
                </a:cubicBezTo>
                <a:cubicBezTo>
                  <a:pt x="18087" y="6776"/>
                  <a:pt x="14824" y="3513"/>
                  <a:pt x="10800" y="3513"/>
                </a:cubicBezTo>
                <a:cubicBezTo>
                  <a:pt x="6776" y="3513"/>
                  <a:pt x="3513" y="6776"/>
                  <a:pt x="3513" y="10800"/>
                </a:cubicBezTo>
                <a:close/>
              </a:path>
            </a:pathLst>
          </a:cu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同心圆 7"/>
          <p:cNvSpPr/>
          <p:nvPr/>
        </p:nvSpPr>
        <p:spPr>
          <a:xfrm>
            <a:off x="8126280" y="839880"/>
            <a:ext cx="1160640" cy="1160280"/>
          </a:xfrm>
          <a:custGeom>
            <a:avLst/>
            <a:gdLst>
              <a:gd name="textAreaLeft" fmla="*/ 169920 w 1160640"/>
              <a:gd name="textAreaRight" fmla="*/ 990720 w 1160640"/>
              <a:gd name="textAreaTop" fmla="*/ 169920 h 1160280"/>
              <a:gd name="textAreaBottom" fmla="*/ 990360 h 1160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同心圆 8"/>
          <p:cNvSpPr/>
          <p:nvPr/>
        </p:nvSpPr>
        <p:spPr>
          <a:xfrm>
            <a:off x="7215120" y="-46080"/>
            <a:ext cx="1143000" cy="113976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66680 h 1139760"/>
              <a:gd name="textAreaBottom" fmla="*/ 973080 h 1139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297" y="10800"/>
                </a:moveTo>
                <a:cubicBezTo>
                  <a:pt x="1297" y="16048"/>
                  <a:pt x="5552" y="20303"/>
                  <a:pt x="10800" y="20303"/>
                </a:cubicBezTo>
                <a:cubicBezTo>
                  <a:pt x="16048" y="20303"/>
                  <a:pt x="20303" y="16048"/>
                  <a:pt x="20303" y="10800"/>
                </a:cubicBezTo>
                <a:cubicBezTo>
                  <a:pt x="20303" y="5552"/>
                  <a:pt x="16048" y="1297"/>
                  <a:pt x="10800" y="1297"/>
                </a:cubicBezTo>
                <a:cubicBezTo>
                  <a:pt x="5552" y="1297"/>
                  <a:pt x="1297" y="5552"/>
                  <a:pt x="1297" y="108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同心圆 9"/>
          <p:cNvSpPr/>
          <p:nvPr/>
        </p:nvSpPr>
        <p:spPr>
          <a:xfrm>
            <a:off x="9001080" y="857160"/>
            <a:ext cx="928800" cy="928800"/>
          </a:xfrm>
          <a:custGeom>
            <a:avLst/>
            <a:gdLst>
              <a:gd name="textAreaLeft" fmla="*/ 135720 w 928800"/>
              <a:gd name="textAreaRight" fmla="*/ 793080 w 928800"/>
              <a:gd name="textAreaTop" fmla="*/ 135720 h 928800"/>
              <a:gd name="textAreaBottom" fmla="*/ 79308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圆角矩形 10"/>
          <p:cNvSpPr/>
          <p:nvPr/>
        </p:nvSpPr>
        <p:spPr>
          <a:xfrm>
            <a:off x="1643040" y="1857240"/>
            <a:ext cx="6072120" cy="3143520"/>
          </a:xfrm>
          <a:prstGeom prst="roundRect">
            <a:avLst>
              <a:gd name="adj" fmla="val 4343"/>
            </a:avLst>
          </a:prstGeom>
          <a:solidFill>
            <a:srgbClr val="00b0f0">
              <a:alpha val="27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1"/>
          <p:cNvSpPr/>
          <p:nvPr/>
        </p:nvSpPr>
        <p:spPr>
          <a:xfrm>
            <a:off x="1290960" y="762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前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2"/>
          <p:cNvSpPr/>
          <p:nvPr/>
        </p:nvSpPr>
        <p:spPr>
          <a:xfrm>
            <a:off x="206892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同心圆 3"/>
          <p:cNvSpPr/>
          <p:nvPr/>
        </p:nvSpPr>
        <p:spPr>
          <a:xfrm>
            <a:off x="357120" y="2857680"/>
            <a:ext cx="2643120" cy="2643120"/>
          </a:xfrm>
          <a:prstGeom prst="pi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同心圆 4"/>
          <p:cNvSpPr/>
          <p:nvPr/>
        </p:nvSpPr>
        <p:spPr>
          <a:xfrm>
            <a:off x="-960480" y="428760"/>
            <a:ext cx="1925640" cy="1928520"/>
          </a:xfrm>
          <a:custGeom>
            <a:avLst/>
            <a:gdLst>
              <a:gd name="textAreaLeft" fmla="*/ 281880 w 1925640"/>
              <a:gd name="textAreaRight" fmla="*/ 1643760 w 1925640"/>
              <a:gd name="textAreaTop" fmla="*/ 282240 h 1928520"/>
              <a:gd name="textAreaBottom" fmla="*/ 1646280 h 192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同心圆 5"/>
          <p:cNvSpPr/>
          <p:nvPr/>
        </p:nvSpPr>
        <p:spPr>
          <a:xfrm>
            <a:off x="136440" y="3929040"/>
            <a:ext cx="1444680" cy="1444680"/>
          </a:xfrm>
          <a:custGeom>
            <a:avLst/>
            <a:gdLst>
              <a:gd name="textAreaLeft" fmla="*/ 211320 w 1444680"/>
              <a:gd name="textAreaRight" fmla="*/ 1233360 w 1444680"/>
              <a:gd name="textAreaTop" fmla="*/ 211320 h 1444680"/>
              <a:gd name="textAreaBottom" fmla="*/ 1233360 h 1444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同心圆 6"/>
          <p:cNvSpPr/>
          <p:nvPr/>
        </p:nvSpPr>
        <p:spPr>
          <a:xfrm>
            <a:off x="1000080" y="1571760"/>
            <a:ext cx="1160640" cy="1160280"/>
          </a:xfrm>
          <a:custGeom>
            <a:avLst/>
            <a:gdLst>
              <a:gd name="textAreaLeft" fmla="*/ 169920 w 1160640"/>
              <a:gd name="textAreaRight" fmla="*/ 990720 w 1160640"/>
              <a:gd name="textAreaTop" fmla="*/ 169920 h 1160280"/>
              <a:gd name="textAreaBottom" fmla="*/ 990360 h 1160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513" y="10800"/>
                </a:moveTo>
                <a:cubicBezTo>
                  <a:pt x="3513" y="14824"/>
                  <a:pt x="6776" y="18087"/>
                  <a:pt x="10800" y="18087"/>
                </a:cubicBezTo>
                <a:cubicBezTo>
                  <a:pt x="14824" y="18087"/>
                  <a:pt x="18087" y="14824"/>
                  <a:pt x="18087" y="10800"/>
                </a:cubicBezTo>
                <a:cubicBezTo>
                  <a:pt x="18087" y="6776"/>
                  <a:pt x="14824" y="3513"/>
                  <a:pt x="10800" y="3513"/>
                </a:cubicBezTo>
                <a:cubicBezTo>
                  <a:pt x="6776" y="3513"/>
                  <a:pt x="3513" y="6776"/>
                  <a:pt x="3513" y="10800"/>
                </a:cubicBezTo>
                <a:close/>
              </a:path>
            </a:pathLst>
          </a:cu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同心圆 7"/>
          <p:cNvSpPr/>
          <p:nvPr/>
        </p:nvSpPr>
        <p:spPr>
          <a:xfrm>
            <a:off x="8126280" y="839880"/>
            <a:ext cx="1160640" cy="1160280"/>
          </a:xfrm>
          <a:custGeom>
            <a:avLst/>
            <a:gdLst>
              <a:gd name="textAreaLeft" fmla="*/ 169920 w 1160640"/>
              <a:gd name="textAreaRight" fmla="*/ 990720 w 1160640"/>
              <a:gd name="textAreaTop" fmla="*/ 169920 h 1160280"/>
              <a:gd name="textAreaBottom" fmla="*/ 990360 h 1160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同心圆 8"/>
          <p:cNvSpPr/>
          <p:nvPr/>
        </p:nvSpPr>
        <p:spPr>
          <a:xfrm>
            <a:off x="7215120" y="-46080"/>
            <a:ext cx="1143000" cy="113976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66680 h 1139760"/>
              <a:gd name="textAreaBottom" fmla="*/ 973080 h 1139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297" y="10800"/>
                </a:moveTo>
                <a:cubicBezTo>
                  <a:pt x="1297" y="16048"/>
                  <a:pt x="5552" y="20303"/>
                  <a:pt x="10800" y="20303"/>
                </a:cubicBezTo>
                <a:cubicBezTo>
                  <a:pt x="16048" y="20303"/>
                  <a:pt x="20303" y="16048"/>
                  <a:pt x="20303" y="10800"/>
                </a:cubicBezTo>
                <a:cubicBezTo>
                  <a:pt x="20303" y="5552"/>
                  <a:pt x="16048" y="1297"/>
                  <a:pt x="10800" y="1297"/>
                </a:cubicBezTo>
                <a:cubicBezTo>
                  <a:pt x="5552" y="1297"/>
                  <a:pt x="1297" y="5552"/>
                  <a:pt x="1297" y="108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同心圆 9"/>
          <p:cNvSpPr/>
          <p:nvPr/>
        </p:nvSpPr>
        <p:spPr>
          <a:xfrm>
            <a:off x="9001080" y="857160"/>
            <a:ext cx="928800" cy="928800"/>
          </a:xfrm>
          <a:custGeom>
            <a:avLst/>
            <a:gdLst>
              <a:gd name="textAreaLeft" fmla="*/ 135720 w 928800"/>
              <a:gd name="textAreaRight" fmla="*/ 793080 w 928800"/>
              <a:gd name="textAreaTop" fmla="*/ 135720 h 928800"/>
              <a:gd name="textAreaBottom" fmla="*/ 79308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圆角矩形 10"/>
          <p:cNvSpPr/>
          <p:nvPr/>
        </p:nvSpPr>
        <p:spPr>
          <a:xfrm>
            <a:off x="1714680" y="1857240"/>
            <a:ext cx="5929200" cy="500040"/>
          </a:xfrm>
          <a:prstGeom prst="roundRect">
            <a:avLst>
              <a:gd name="adj" fmla="val 4343"/>
            </a:avLst>
          </a:prstGeom>
          <a:solidFill>
            <a:srgbClr val="00b0f0">
              <a:alpha val="27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2"/>
          <p:cNvSpPr/>
          <p:nvPr/>
        </p:nvSpPr>
        <p:spPr>
          <a:xfrm>
            <a:off x="4070880" y="1916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 13"/>
          <p:cNvSpPr/>
          <p:nvPr/>
        </p:nvSpPr>
        <p:spPr>
          <a:xfrm>
            <a:off x="1714680" y="2714760"/>
            <a:ext cx="5929200" cy="500040"/>
          </a:xfrm>
          <a:prstGeom prst="roundRect">
            <a:avLst>
              <a:gd name="adj" fmla="val 4343"/>
            </a:avLst>
          </a:prstGeom>
          <a:solidFill>
            <a:srgbClr val="00b0f0">
              <a:alpha val="27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4"/>
          <p:cNvSpPr/>
          <p:nvPr/>
        </p:nvSpPr>
        <p:spPr>
          <a:xfrm>
            <a:off x="4070880" y="2773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圆角矩形 15"/>
          <p:cNvSpPr/>
          <p:nvPr/>
        </p:nvSpPr>
        <p:spPr>
          <a:xfrm>
            <a:off x="1714680" y="3571920"/>
            <a:ext cx="5929200" cy="500040"/>
          </a:xfrm>
          <a:prstGeom prst="roundRect">
            <a:avLst>
              <a:gd name="adj" fmla="val 4343"/>
            </a:avLst>
          </a:prstGeom>
          <a:solidFill>
            <a:srgbClr val="00b0f0">
              <a:alpha val="27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6"/>
          <p:cNvSpPr/>
          <p:nvPr/>
        </p:nvSpPr>
        <p:spPr>
          <a:xfrm>
            <a:off x="4070880" y="3630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 17"/>
          <p:cNvSpPr/>
          <p:nvPr/>
        </p:nvSpPr>
        <p:spPr>
          <a:xfrm>
            <a:off x="1714680" y="4429080"/>
            <a:ext cx="5929200" cy="500040"/>
          </a:xfrm>
          <a:prstGeom prst="roundRect">
            <a:avLst>
              <a:gd name="adj" fmla="val 4343"/>
            </a:avLst>
          </a:prstGeom>
          <a:solidFill>
            <a:srgbClr val="00b0f0">
              <a:alpha val="27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8"/>
          <p:cNvSpPr/>
          <p:nvPr/>
        </p:nvSpPr>
        <p:spPr>
          <a:xfrm>
            <a:off x="4070880" y="448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9"/>
          <p:cNvSpPr/>
          <p:nvPr/>
        </p:nvSpPr>
        <p:spPr>
          <a:xfrm>
            <a:off x="1910160" y="1835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0"/>
          <p:cNvSpPr/>
          <p:nvPr/>
        </p:nvSpPr>
        <p:spPr>
          <a:xfrm>
            <a:off x="1920600" y="26924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1"/>
          <p:cNvSpPr/>
          <p:nvPr/>
        </p:nvSpPr>
        <p:spPr>
          <a:xfrm>
            <a:off x="1920600" y="3500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2"/>
          <p:cNvSpPr/>
          <p:nvPr/>
        </p:nvSpPr>
        <p:spPr>
          <a:xfrm>
            <a:off x="1920600" y="4406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同心圆 13"/>
          <p:cNvSpPr/>
          <p:nvPr/>
        </p:nvSpPr>
        <p:spPr>
          <a:xfrm>
            <a:off x="357120" y="2857680"/>
            <a:ext cx="2643120" cy="2643120"/>
          </a:xfrm>
          <a:prstGeom prst="pi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同心圆 14"/>
          <p:cNvSpPr/>
          <p:nvPr/>
        </p:nvSpPr>
        <p:spPr>
          <a:xfrm>
            <a:off x="-960480" y="428760"/>
            <a:ext cx="1925640" cy="1928520"/>
          </a:xfrm>
          <a:custGeom>
            <a:avLst/>
            <a:gdLst>
              <a:gd name="textAreaLeft" fmla="*/ 281880 w 1925640"/>
              <a:gd name="textAreaRight" fmla="*/ 1643760 w 1925640"/>
              <a:gd name="textAreaTop" fmla="*/ 282240 h 1928520"/>
              <a:gd name="textAreaBottom" fmla="*/ 1646280 h 192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同心圆 15"/>
          <p:cNvSpPr/>
          <p:nvPr/>
        </p:nvSpPr>
        <p:spPr>
          <a:xfrm>
            <a:off x="136440" y="3929040"/>
            <a:ext cx="1444680" cy="1444680"/>
          </a:xfrm>
          <a:custGeom>
            <a:avLst/>
            <a:gdLst>
              <a:gd name="textAreaLeft" fmla="*/ 211320 w 1444680"/>
              <a:gd name="textAreaRight" fmla="*/ 1233360 w 1444680"/>
              <a:gd name="textAreaTop" fmla="*/ 211320 h 1444680"/>
              <a:gd name="textAreaBottom" fmla="*/ 1233360 h 1444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同心圆 16"/>
          <p:cNvSpPr/>
          <p:nvPr/>
        </p:nvSpPr>
        <p:spPr>
          <a:xfrm>
            <a:off x="1000080" y="1571760"/>
            <a:ext cx="1160640" cy="1160280"/>
          </a:xfrm>
          <a:custGeom>
            <a:avLst/>
            <a:gdLst>
              <a:gd name="textAreaLeft" fmla="*/ 169920 w 1160640"/>
              <a:gd name="textAreaRight" fmla="*/ 990720 w 1160640"/>
              <a:gd name="textAreaTop" fmla="*/ 169920 h 1160280"/>
              <a:gd name="textAreaBottom" fmla="*/ 990360 h 1160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513" y="10800"/>
                </a:moveTo>
                <a:cubicBezTo>
                  <a:pt x="3513" y="14824"/>
                  <a:pt x="6776" y="18087"/>
                  <a:pt x="10800" y="18087"/>
                </a:cubicBezTo>
                <a:cubicBezTo>
                  <a:pt x="14824" y="18087"/>
                  <a:pt x="18087" y="14824"/>
                  <a:pt x="18087" y="10800"/>
                </a:cubicBezTo>
                <a:cubicBezTo>
                  <a:pt x="18087" y="6776"/>
                  <a:pt x="14824" y="3513"/>
                  <a:pt x="10800" y="3513"/>
                </a:cubicBezTo>
                <a:cubicBezTo>
                  <a:pt x="6776" y="3513"/>
                  <a:pt x="3513" y="6776"/>
                  <a:pt x="3513" y="10800"/>
                </a:cubicBezTo>
                <a:close/>
              </a:path>
            </a:pathLst>
          </a:cu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同心圆 17"/>
          <p:cNvSpPr/>
          <p:nvPr/>
        </p:nvSpPr>
        <p:spPr>
          <a:xfrm>
            <a:off x="8126280" y="839880"/>
            <a:ext cx="1160640" cy="1160280"/>
          </a:xfrm>
          <a:custGeom>
            <a:avLst/>
            <a:gdLst>
              <a:gd name="textAreaLeft" fmla="*/ 169920 w 1160640"/>
              <a:gd name="textAreaRight" fmla="*/ 990720 w 1160640"/>
              <a:gd name="textAreaTop" fmla="*/ 169920 h 1160280"/>
              <a:gd name="textAreaBottom" fmla="*/ 990360 h 1160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同心圆 18"/>
          <p:cNvSpPr/>
          <p:nvPr/>
        </p:nvSpPr>
        <p:spPr>
          <a:xfrm>
            <a:off x="7215120" y="-46080"/>
            <a:ext cx="1143000" cy="113976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66680 h 1139760"/>
              <a:gd name="textAreaBottom" fmla="*/ 973080 h 1139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297" y="10800"/>
                </a:moveTo>
                <a:cubicBezTo>
                  <a:pt x="1297" y="16048"/>
                  <a:pt x="5552" y="20303"/>
                  <a:pt x="10800" y="20303"/>
                </a:cubicBezTo>
                <a:cubicBezTo>
                  <a:pt x="16048" y="20303"/>
                  <a:pt x="20303" y="16048"/>
                  <a:pt x="20303" y="10800"/>
                </a:cubicBezTo>
                <a:cubicBezTo>
                  <a:pt x="20303" y="5552"/>
                  <a:pt x="16048" y="1297"/>
                  <a:pt x="10800" y="1297"/>
                </a:cubicBezTo>
                <a:cubicBezTo>
                  <a:pt x="5552" y="1297"/>
                  <a:pt x="1297" y="5552"/>
                  <a:pt x="1297" y="108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同心圆 19"/>
          <p:cNvSpPr/>
          <p:nvPr/>
        </p:nvSpPr>
        <p:spPr>
          <a:xfrm>
            <a:off x="9001080" y="857160"/>
            <a:ext cx="928800" cy="928800"/>
          </a:xfrm>
          <a:custGeom>
            <a:avLst/>
            <a:gdLst>
              <a:gd name="textAreaLeft" fmla="*/ 135720 w 928800"/>
              <a:gd name="textAreaRight" fmla="*/ 793080 w 928800"/>
              <a:gd name="textAreaTop" fmla="*/ 135720 h 928800"/>
              <a:gd name="textAreaBottom" fmla="*/ 79308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1"/>
          <p:cNvSpPr/>
          <p:nvPr/>
        </p:nvSpPr>
        <p:spPr>
          <a:xfrm>
            <a:off x="1363680" y="76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圆角矩形 23"/>
          <p:cNvSpPr/>
          <p:nvPr/>
        </p:nvSpPr>
        <p:spPr>
          <a:xfrm>
            <a:off x="1214280" y="2928960"/>
            <a:ext cx="6786720" cy="500040"/>
          </a:xfrm>
          <a:prstGeom prst="roundRect">
            <a:avLst>
              <a:gd name="adj" fmla="val 4343"/>
            </a:avLst>
          </a:prstGeom>
          <a:solidFill>
            <a:srgbClr val="00b0f0">
              <a:alpha val="27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4"/>
          <p:cNvSpPr/>
          <p:nvPr/>
        </p:nvSpPr>
        <p:spPr>
          <a:xfrm>
            <a:off x="3773520" y="2987640"/>
            <a:ext cx="17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同心圆 3"/>
          <p:cNvSpPr/>
          <p:nvPr/>
        </p:nvSpPr>
        <p:spPr>
          <a:xfrm>
            <a:off x="357120" y="2857680"/>
            <a:ext cx="2643120" cy="2643120"/>
          </a:xfrm>
          <a:prstGeom prst="pi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同心圆 4"/>
          <p:cNvSpPr/>
          <p:nvPr/>
        </p:nvSpPr>
        <p:spPr>
          <a:xfrm>
            <a:off x="-960480" y="428760"/>
            <a:ext cx="1925640" cy="1928520"/>
          </a:xfrm>
          <a:custGeom>
            <a:avLst/>
            <a:gdLst>
              <a:gd name="textAreaLeft" fmla="*/ 281880 w 1925640"/>
              <a:gd name="textAreaRight" fmla="*/ 1643760 w 1925640"/>
              <a:gd name="textAreaTop" fmla="*/ 282240 h 1928520"/>
              <a:gd name="textAreaBottom" fmla="*/ 1646280 h 192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同心圆 5"/>
          <p:cNvSpPr/>
          <p:nvPr/>
        </p:nvSpPr>
        <p:spPr>
          <a:xfrm>
            <a:off x="136440" y="3929040"/>
            <a:ext cx="1444680" cy="1444680"/>
          </a:xfrm>
          <a:custGeom>
            <a:avLst/>
            <a:gdLst>
              <a:gd name="textAreaLeft" fmla="*/ 211320 w 1444680"/>
              <a:gd name="textAreaRight" fmla="*/ 1233360 w 1444680"/>
              <a:gd name="textAreaTop" fmla="*/ 211320 h 1444680"/>
              <a:gd name="textAreaBottom" fmla="*/ 1233360 h 1444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同心圆 6"/>
          <p:cNvSpPr/>
          <p:nvPr/>
        </p:nvSpPr>
        <p:spPr>
          <a:xfrm>
            <a:off x="1027080" y="1593720"/>
            <a:ext cx="1160640" cy="1160640"/>
          </a:xfrm>
          <a:custGeom>
            <a:avLst/>
            <a:gdLst>
              <a:gd name="textAreaLeft" fmla="*/ 169920 w 1160640"/>
              <a:gd name="textAreaRight" fmla="*/ 990720 w 1160640"/>
              <a:gd name="textAreaTop" fmla="*/ 169920 h 1160640"/>
              <a:gd name="textAreaBottom" fmla="*/ 990720 h 1160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513" y="10800"/>
                </a:moveTo>
                <a:cubicBezTo>
                  <a:pt x="3513" y="14824"/>
                  <a:pt x="6776" y="18087"/>
                  <a:pt x="10800" y="18087"/>
                </a:cubicBezTo>
                <a:cubicBezTo>
                  <a:pt x="14824" y="18087"/>
                  <a:pt x="18087" y="14824"/>
                  <a:pt x="18087" y="10800"/>
                </a:cubicBezTo>
                <a:cubicBezTo>
                  <a:pt x="18087" y="6776"/>
                  <a:pt x="14824" y="3513"/>
                  <a:pt x="10800" y="3513"/>
                </a:cubicBezTo>
                <a:cubicBezTo>
                  <a:pt x="6776" y="3513"/>
                  <a:pt x="3513" y="6776"/>
                  <a:pt x="3513" y="10800"/>
                </a:cubicBezTo>
                <a:close/>
              </a:path>
            </a:pathLst>
          </a:cu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同心圆 7"/>
          <p:cNvSpPr/>
          <p:nvPr/>
        </p:nvSpPr>
        <p:spPr>
          <a:xfrm>
            <a:off x="8126280" y="839880"/>
            <a:ext cx="1160640" cy="1160280"/>
          </a:xfrm>
          <a:custGeom>
            <a:avLst/>
            <a:gdLst>
              <a:gd name="textAreaLeft" fmla="*/ 169920 w 1160640"/>
              <a:gd name="textAreaRight" fmla="*/ 990720 w 1160640"/>
              <a:gd name="textAreaTop" fmla="*/ 169920 h 1160280"/>
              <a:gd name="textAreaBottom" fmla="*/ 990360 h 1160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同心圆 8"/>
          <p:cNvSpPr/>
          <p:nvPr/>
        </p:nvSpPr>
        <p:spPr>
          <a:xfrm>
            <a:off x="7215120" y="-46080"/>
            <a:ext cx="1143000" cy="113976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66680 h 1139760"/>
              <a:gd name="textAreaBottom" fmla="*/ 973080 h 1139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297" y="10800"/>
                </a:moveTo>
                <a:cubicBezTo>
                  <a:pt x="1297" y="16048"/>
                  <a:pt x="5552" y="20303"/>
                  <a:pt x="10800" y="20303"/>
                </a:cubicBezTo>
                <a:cubicBezTo>
                  <a:pt x="16048" y="20303"/>
                  <a:pt x="20303" y="16048"/>
                  <a:pt x="20303" y="10800"/>
                </a:cubicBezTo>
                <a:cubicBezTo>
                  <a:pt x="20303" y="5552"/>
                  <a:pt x="16048" y="1297"/>
                  <a:pt x="10800" y="1297"/>
                </a:cubicBezTo>
                <a:cubicBezTo>
                  <a:pt x="5552" y="1297"/>
                  <a:pt x="1297" y="5552"/>
                  <a:pt x="1297" y="108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同心圆 9"/>
          <p:cNvSpPr/>
          <p:nvPr/>
        </p:nvSpPr>
        <p:spPr>
          <a:xfrm>
            <a:off x="9001080" y="857160"/>
            <a:ext cx="928800" cy="928800"/>
          </a:xfrm>
          <a:custGeom>
            <a:avLst/>
            <a:gdLst>
              <a:gd name="textAreaLeft" fmla="*/ 135720 w 928800"/>
              <a:gd name="textAreaRight" fmla="*/ 793080 w 928800"/>
              <a:gd name="textAreaTop" fmla="*/ 135720 h 928800"/>
              <a:gd name="textAreaBottom" fmla="*/ 79308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1363680" y="76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圆角矩形 11"/>
          <p:cNvSpPr/>
          <p:nvPr/>
        </p:nvSpPr>
        <p:spPr>
          <a:xfrm>
            <a:off x="1714680" y="1714680"/>
            <a:ext cx="5786280" cy="500040"/>
          </a:xfrm>
          <a:prstGeom prst="roundRect">
            <a:avLst>
              <a:gd name="adj" fmla="val 4343"/>
            </a:avLst>
          </a:prstGeom>
          <a:solidFill>
            <a:srgbClr val="00b0f0">
              <a:alpha val="78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3773520" y="1785960"/>
            <a:ext cx="17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圆角矩形 13"/>
          <p:cNvSpPr/>
          <p:nvPr/>
        </p:nvSpPr>
        <p:spPr>
          <a:xfrm>
            <a:off x="1357200" y="2214720"/>
            <a:ext cx="6429600" cy="4071960"/>
          </a:xfrm>
          <a:prstGeom prst="roundRect">
            <a:avLst>
              <a:gd name="adj" fmla="val 5435"/>
            </a:avLst>
          </a:prstGeom>
          <a:noFill/>
          <a:ln w="25560">
            <a:solidFill>
              <a:srgbClr val="00b0f0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 14"/>
          <p:cNvSpPr/>
          <p:nvPr/>
        </p:nvSpPr>
        <p:spPr>
          <a:xfrm>
            <a:off x="1643040" y="3286080"/>
            <a:ext cx="1857240" cy="271476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2714760"/>
              <a:gd name="textAreaBottom" fmla="*/ 2715120 h 2714760"/>
            </a:gdLst>
            <a:ahLst/>
            <a:rect l="textAreaLeft" t="textAreaTop" r="textAreaRight" b="textAreaBottom"/>
            <a:pathLst>
              <a:path w="21600" h="31571">
                <a:moveTo>
                  <a:pt x="0" y="0"/>
                </a:moveTo>
                <a:arcTo wR="0" hR="0" stAng="16200000" swAng="-5400000"/>
                <a:lnTo>
                  <a:pt x="0" y="31571"/>
                </a:lnTo>
                <a:arcTo wR="0" hR="0" stAng="10800000" swAng="-5400000"/>
                <a:lnTo>
                  <a:pt x="21600" y="3157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00b0f0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圆角矩形 17"/>
          <p:cNvSpPr/>
          <p:nvPr/>
        </p:nvSpPr>
        <p:spPr>
          <a:xfrm>
            <a:off x="3643200" y="3286080"/>
            <a:ext cx="1857600" cy="2714760"/>
          </a:xfrm>
          <a:custGeom>
            <a:avLst/>
            <a:gdLst>
              <a:gd name="textAreaLeft" fmla="*/ 0 w 1857600"/>
              <a:gd name="textAreaRight" fmla="*/ 1857960 w 1857600"/>
              <a:gd name="textAreaTop" fmla="*/ 0 h 2714760"/>
              <a:gd name="textAreaBottom" fmla="*/ 2715120 h 2714760"/>
            </a:gdLst>
            <a:ahLst/>
            <a:rect l="textAreaLeft" t="textAreaTop" r="textAreaRight" b="textAreaBottom"/>
            <a:pathLst>
              <a:path w="21600" h="31565">
                <a:moveTo>
                  <a:pt x="0" y="0"/>
                </a:moveTo>
                <a:arcTo wR="0" hR="0" stAng="16200000" swAng="-5400000"/>
                <a:lnTo>
                  <a:pt x="0" y="31565"/>
                </a:lnTo>
                <a:arcTo wR="0" hR="0" stAng="10800000" swAng="-5400000"/>
                <a:lnTo>
                  <a:pt x="21600" y="3156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00b0f0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圆角矩形 18"/>
          <p:cNvSpPr/>
          <p:nvPr/>
        </p:nvSpPr>
        <p:spPr>
          <a:xfrm>
            <a:off x="5643720" y="3286080"/>
            <a:ext cx="1857240" cy="271476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2714760"/>
              <a:gd name="textAreaBottom" fmla="*/ 2715120 h 2714760"/>
            </a:gdLst>
            <a:ahLst/>
            <a:rect l="textAreaLeft" t="textAreaTop" r="textAreaRight" b="textAreaBottom"/>
            <a:pathLst>
              <a:path w="21600" h="31571">
                <a:moveTo>
                  <a:pt x="0" y="0"/>
                </a:moveTo>
                <a:arcTo wR="0" hR="0" stAng="16200000" swAng="-5400000"/>
                <a:lnTo>
                  <a:pt x="0" y="31571"/>
                </a:lnTo>
                <a:arcTo wR="0" hR="0" stAng="10800000" swAng="-5400000"/>
                <a:lnTo>
                  <a:pt x="21600" y="3157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00b0f0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圆角矩形 19"/>
          <p:cNvSpPr/>
          <p:nvPr/>
        </p:nvSpPr>
        <p:spPr>
          <a:xfrm>
            <a:off x="1643040" y="2786040"/>
            <a:ext cx="1857240" cy="500040"/>
          </a:xfrm>
          <a:prstGeom prst="roundRect">
            <a:avLst>
              <a:gd name="adj" fmla="val 4343"/>
            </a:avLst>
          </a:prstGeom>
          <a:solidFill>
            <a:srgbClr val="00b0f0">
              <a:alpha val="52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0"/>
          <p:cNvSpPr/>
          <p:nvPr/>
        </p:nvSpPr>
        <p:spPr>
          <a:xfrm>
            <a:off x="1844640" y="28576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圆角矩形 22"/>
          <p:cNvSpPr/>
          <p:nvPr/>
        </p:nvSpPr>
        <p:spPr>
          <a:xfrm>
            <a:off x="3643200" y="2786040"/>
            <a:ext cx="1857600" cy="500040"/>
          </a:xfrm>
          <a:prstGeom prst="roundRect">
            <a:avLst>
              <a:gd name="adj" fmla="val 4343"/>
            </a:avLst>
          </a:prstGeom>
          <a:solidFill>
            <a:srgbClr val="00b0f0">
              <a:alpha val="52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圆角矩形 23"/>
          <p:cNvSpPr/>
          <p:nvPr/>
        </p:nvSpPr>
        <p:spPr>
          <a:xfrm>
            <a:off x="5643720" y="2786040"/>
            <a:ext cx="1857240" cy="500040"/>
          </a:xfrm>
          <a:prstGeom prst="roundRect">
            <a:avLst>
              <a:gd name="adj" fmla="val 4343"/>
            </a:avLst>
          </a:prstGeom>
          <a:solidFill>
            <a:srgbClr val="00b0f0">
              <a:alpha val="52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4"/>
          <p:cNvSpPr/>
          <p:nvPr/>
        </p:nvSpPr>
        <p:spPr>
          <a:xfrm>
            <a:off x="3714840" y="28576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5"/>
          <p:cNvSpPr/>
          <p:nvPr/>
        </p:nvSpPr>
        <p:spPr>
          <a:xfrm>
            <a:off x="5715000" y="28576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6"/>
          <p:cNvSpPr/>
          <p:nvPr/>
        </p:nvSpPr>
        <p:spPr>
          <a:xfrm>
            <a:off x="1844640" y="36432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7"/>
          <p:cNvSpPr/>
          <p:nvPr/>
        </p:nvSpPr>
        <p:spPr>
          <a:xfrm>
            <a:off x="1844640" y="43578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8"/>
          <p:cNvSpPr/>
          <p:nvPr/>
        </p:nvSpPr>
        <p:spPr>
          <a:xfrm>
            <a:off x="1844640" y="50720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9"/>
          <p:cNvSpPr/>
          <p:nvPr/>
        </p:nvSpPr>
        <p:spPr>
          <a:xfrm>
            <a:off x="3745080" y="36432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0"/>
          <p:cNvSpPr/>
          <p:nvPr/>
        </p:nvSpPr>
        <p:spPr>
          <a:xfrm>
            <a:off x="3745080" y="43578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1"/>
          <p:cNvSpPr/>
          <p:nvPr/>
        </p:nvSpPr>
        <p:spPr>
          <a:xfrm>
            <a:off x="3745080" y="50720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2"/>
          <p:cNvSpPr/>
          <p:nvPr/>
        </p:nvSpPr>
        <p:spPr>
          <a:xfrm>
            <a:off x="5745240" y="36432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3"/>
          <p:cNvSpPr/>
          <p:nvPr/>
        </p:nvSpPr>
        <p:spPr>
          <a:xfrm>
            <a:off x="5745240" y="43578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4"/>
          <p:cNvSpPr/>
          <p:nvPr/>
        </p:nvSpPr>
        <p:spPr>
          <a:xfrm>
            <a:off x="5745240" y="50720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79440" y="634824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同心圆 3"/>
          <p:cNvSpPr/>
          <p:nvPr/>
        </p:nvSpPr>
        <p:spPr>
          <a:xfrm>
            <a:off x="357120" y="2857680"/>
            <a:ext cx="2643120" cy="2643120"/>
          </a:xfrm>
          <a:prstGeom prst="pi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同心圆 4"/>
          <p:cNvSpPr/>
          <p:nvPr/>
        </p:nvSpPr>
        <p:spPr>
          <a:xfrm>
            <a:off x="-960480" y="428760"/>
            <a:ext cx="1925640" cy="1928520"/>
          </a:xfrm>
          <a:custGeom>
            <a:avLst/>
            <a:gdLst>
              <a:gd name="textAreaLeft" fmla="*/ 281880 w 1925640"/>
              <a:gd name="textAreaRight" fmla="*/ 1643760 w 1925640"/>
              <a:gd name="textAreaTop" fmla="*/ 282240 h 1928520"/>
              <a:gd name="textAreaBottom" fmla="*/ 1646280 h 192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同心圆 5"/>
          <p:cNvSpPr/>
          <p:nvPr/>
        </p:nvSpPr>
        <p:spPr>
          <a:xfrm>
            <a:off x="-576360" y="4643280"/>
            <a:ext cx="1157400" cy="1160640"/>
          </a:xfrm>
          <a:custGeom>
            <a:avLst/>
            <a:gdLst>
              <a:gd name="textAreaLeft" fmla="*/ 169200 w 1157400"/>
              <a:gd name="textAreaRight" fmla="*/ 988200 w 1157400"/>
              <a:gd name="textAreaTop" fmla="*/ 169920 h 1160640"/>
              <a:gd name="textAreaBottom" fmla="*/ 990720 h 1160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同心圆 6"/>
          <p:cNvSpPr/>
          <p:nvPr/>
        </p:nvSpPr>
        <p:spPr>
          <a:xfrm>
            <a:off x="136440" y="3929040"/>
            <a:ext cx="1444680" cy="1444680"/>
          </a:xfrm>
          <a:custGeom>
            <a:avLst/>
            <a:gdLst>
              <a:gd name="textAreaLeft" fmla="*/ 211320 w 1444680"/>
              <a:gd name="textAreaRight" fmla="*/ 1233360 w 1444680"/>
              <a:gd name="textAreaTop" fmla="*/ 211320 h 1444680"/>
              <a:gd name="textAreaBottom" fmla="*/ 1233360 h 1444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同心圆 7"/>
          <p:cNvSpPr/>
          <p:nvPr/>
        </p:nvSpPr>
        <p:spPr>
          <a:xfrm>
            <a:off x="285840" y="2071800"/>
            <a:ext cx="444240" cy="444240"/>
          </a:xfrm>
          <a:custGeom>
            <a:avLst/>
            <a:gdLst>
              <a:gd name="textAreaLeft" fmla="*/ 64800 w 444240"/>
              <a:gd name="textAreaRight" fmla="*/ 379440 w 444240"/>
              <a:gd name="textAreaTop" fmla="*/ 64800 h 444240"/>
              <a:gd name="textAreaBottom" fmla="*/ 379440 h 444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同心圆 8"/>
          <p:cNvSpPr/>
          <p:nvPr/>
        </p:nvSpPr>
        <p:spPr>
          <a:xfrm>
            <a:off x="1000080" y="1571760"/>
            <a:ext cx="1160640" cy="1160280"/>
          </a:xfrm>
          <a:custGeom>
            <a:avLst/>
            <a:gdLst>
              <a:gd name="textAreaLeft" fmla="*/ 169920 w 1160640"/>
              <a:gd name="textAreaRight" fmla="*/ 990720 w 1160640"/>
              <a:gd name="textAreaTop" fmla="*/ 169920 h 1160280"/>
              <a:gd name="textAreaBottom" fmla="*/ 990360 h 1160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513" y="10800"/>
                </a:moveTo>
                <a:cubicBezTo>
                  <a:pt x="3513" y="14824"/>
                  <a:pt x="6776" y="18087"/>
                  <a:pt x="10800" y="18087"/>
                </a:cubicBezTo>
                <a:cubicBezTo>
                  <a:pt x="14824" y="18087"/>
                  <a:pt x="18087" y="14824"/>
                  <a:pt x="18087" y="10800"/>
                </a:cubicBezTo>
                <a:cubicBezTo>
                  <a:pt x="18087" y="6776"/>
                  <a:pt x="14824" y="3513"/>
                  <a:pt x="10800" y="3513"/>
                </a:cubicBezTo>
                <a:cubicBezTo>
                  <a:pt x="6776" y="3513"/>
                  <a:pt x="3513" y="6776"/>
                  <a:pt x="3513" y="10800"/>
                </a:cubicBezTo>
                <a:close/>
              </a:path>
            </a:pathLst>
          </a:cu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同心圆 9"/>
          <p:cNvSpPr/>
          <p:nvPr/>
        </p:nvSpPr>
        <p:spPr>
          <a:xfrm>
            <a:off x="1071720" y="2357280"/>
            <a:ext cx="1160280" cy="1160640"/>
          </a:xfrm>
          <a:custGeom>
            <a:avLst/>
            <a:gdLst>
              <a:gd name="textAreaLeft" fmla="*/ 169920 w 1160280"/>
              <a:gd name="textAreaRight" fmla="*/ 990360 w 1160280"/>
              <a:gd name="textAreaTop" fmla="*/ 169920 h 1160640"/>
              <a:gd name="textAreaBottom" fmla="*/ 990720 h 1160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同心圆 10"/>
          <p:cNvSpPr/>
          <p:nvPr/>
        </p:nvSpPr>
        <p:spPr>
          <a:xfrm>
            <a:off x="2000160" y="2127240"/>
            <a:ext cx="730440" cy="730440"/>
          </a:xfrm>
          <a:custGeom>
            <a:avLst/>
            <a:gdLst>
              <a:gd name="textAreaLeft" fmla="*/ 106920 w 730440"/>
              <a:gd name="textAreaRight" fmla="*/ 623520 w 730440"/>
              <a:gd name="textAreaTop" fmla="*/ 106920 h 730440"/>
              <a:gd name="textAreaBottom" fmla="*/ 623520 h 730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同心圆 11"/>
          <p:cNvSpPr/>
          <p:nvPr/>
        </p:nvSpPr>
        <p:spPr>
          <a:xfrm>
            <a:off x="2071800" y="3143160"/>
            <a:ext cx="1444680" cy="1444680"/>
          </a:xfrm>
          <a:custGeom>
            <a:avLst/>
            <a:gdLst>
              <a:gd name="textAreaLeft" fmla="*/ 211320 w 1444680"/>
              <a:gd name="textAreaRight" fmla="*/ 1233360 w 1444680"/>
              <a:gd name="textAreaTop" fmla="*/ 211320 h 1444680"/>
              <a:gd name="textAreaBottom" fmla="*/ 1233360 h 1444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同心圆 12"/>
          <p:cNvSpPr/>
          <p:nvPr/>
        </p:nvSpPr>
        <p:spPr>
          <a:xfrm>
            <a:off x="1714680" y="4071960"/>
            <a:ext cx="1015920" cy="1015920"/>
          </a:xfrm>
          <a:custGeom>
            <a:avLst/>
            <a:gdLst>
              <a:gd name="textAreaLeft" fmla="*/ 148680 w 1015920"/>
              <a:gd name="textAreaRight" fmla="*/ 867240 w 1015920"/>
              <a:gd name="textAreaTop" fmla="*/ 148680 h 1015920"/>
              <a:gd name="textAreaBottom" fmla="*/ 867240 h 1015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802" y="10800"/>
                </a:moveTo>
                <a:cubicBezTo>
                  <a:pt x="2802" y="15217"/>
                  <a:pt x="6383" y="18798"/>
                  <a:pt x="10800" y="18798"/>
                </a:cubicBezTo>
                <a:cubicBezTo>
                  <a:pt x="15217" y="18798"/>
                  <a:pt x="18798" y="15217"/>
                  <a:pt x="18798" y="10800"/>
                </a:cubicBezTo>
                <a:cubicBezTo>
                  <a:pt x="18798" y="6383"/>
                  <a:pt x="15217" y="2802"/>
                  <a:pt x="10800" y="2802"/>
                </a:cubicBezTo>
                <a:cubicBezTo>
                  <a:pt x="6383" y="2802"/>
                  <a:pt x="2802" y="6383"/>
                  <a:pt x="280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同心圆 13"/>
          <p:cNvSpPr/>
          <p:nvPr/>
        </p:nvSpPr>
        <p:spPr>
          <a:xfrm>
            <a:off x="928800" y="5429160"/>
            <a:ext cx="1428480" cy="1428840"/>
          </a:xfrm>
          <a:custGeom>
            <a:avLst/>
            <a:gdLst>
              <a:gd name="textAreaLeft" fmla="*/ 209160 w 1428480"/>
              <a:gd name="textAreaRight" fmla="*/ 1219320 w 1428480"/>
              <a:gd name="textAreaTop" fmla="*/ 209160 h 1428840"/>
              <a:gd name="textAreaBottom" fmla="*/ 121968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同心圆 14"/>
          <p:cNvSpPr/>
          <p:nvPr/>
        </p:nvSpPr>
        <p:spPr>
          <a:xfrm>
            <a:off x="1285920" y="6429240"/>
            <a:ext cx="214200" cy="214560"/>
          </a:xfrm>
          <a:custGeom>
            <a:avLst/>
            <a:gdLst>
              <a:gd name="textAreaLeft" fmla="*/ 31320 w 214200"/>
              <a:gd name="textAreaRight" fmla="*/ 182880 w 214200"/>
              <a:gd name="textAreaTop" fmla="*/ 31320 h 214560"/>
              <a:gd name="textAreaBottom" fmla="*/ 183240 h 21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同心圆 15"/>
          <p:cNvSpPr/>
          <p:nvPr/>
        </p:nvSpPr>
        <p:spPr>
          <a:xfrm>
            <a:off x="2428920" y="1214280"/>
            <a:ext cx="730080" cy="730440"/>
          </a:xfrm>
          <a:custGeom>
            <a:avLst/>
            <a:gdLst>
              <a:gd name="textAreaLeft" fmla="*/ 106920 w 730080"/>
              <a:gd name="textAreaRight" fmla="*/ 623160 w 730080"/>
              <a:gd name="textAreaTop" fmla="*/ 106920 h 730440"/>
              <a:gd name="textAreaBottom" fmla="*/ 623520 h 730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同心圆 16"/>
          <p:cNvSpPr/>
          <p:nvPr/>
        </p:nvSpPr>
        <p:spPr>
          <a:xfrm>
            <a:off x="3214800" y="785880"/>
            <a:ext cx="714240" cy="714240"/>
          </a:xfrm>
          <a:custGeom>
            <a:avLst/>
            <a:gdLst>
              <a:gd name="textAreaLeft" fmla="*/ 104400 w 714240"/>
              <a:gd name="textAreaRight" fmla="*/ 609840 w 714240"/>
              <a:gd name="textAreaTop" fmla="*/ 104400 h 714240"/>
              <a:gd name="textAreaBottom" fmla="*/ 609840 h 714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同心圆 17"/>
          <p:cNvSpPr/>
          <p:nvPr/>
        </p:nvSpPr>
        <p:spPr>
          <a:xfrm>
            <a:off x="7072200" y="5214960"/>
            <a:ext cx="928800" cy="928800"/>
          </a:xfrm>
          <a:custGeom>
            <a:avLst/>
            <a:gdLst>
              <a:gd name="textAreaLeft" fmla="*/ 135720 w 928800"/>
              <a:gd name="textAreaRight" fmla="*/ 793080 w 928800"/>
              <a:gd name="textAreaTop" fmla="*/ 135720 h 928800"/>
              <a:gd name="textAreaBottom" fmla="*/ 79308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同心圆 18"/>
          <p:cNvSpPr/>
          <p:nvPr/>
        </p:nvSpPr>
        <p:spPr>
          <a:xfrm>
            <a:off x="5715000" y="4429080"/>
            <a:ext cx="785880" cy="785880"/>
          </a:xfrm>
          <a:custGeom>
            <a:avLst/>
            <a:gdLst>
              <a:gd name="textAreaLeft" fmla="*/ 114840 w 785880"/>
              <a:gd name="textAreaRight" fmla="*/ 671040 w 785880"/>
              <a:gd name="textAreaTop" fmla="*/ 114840 h 785880"/>
              <a:gd name="textAreaBottom" fmla="*/ 671040 h 785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同心圆 19"/>
          <p:cNvSpPr/>
          <p:nvPr/>
        </p:nvSpPr>
        <p:spPr>
          <a:xfrm>
            <a:off x="5357880" y="5500800"/>
            <a:ext cx="515880" cy="515880"/>
          </a:xfrm>
          <a:custGeom>
            <a:avLst/>
            <a:gdLst>
              <a:gd name="textAreaLeft" fmla="*/ 75240 w 515880"/>
              <a:gd name="textAreaRight" fmla="*/ 440640 w 515880"/>
              <a:gd name="textAreaTop" fmla="*/ 75240 h 515880"/>
              <a:gd name="textAreaBottom" fmla="*/ 440640 h 515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同心圆 20"/>
          <p:cNvSpPr/>
          <p:nvPr/>
        </p:nvSpPr>
        <p:spPr>
          <a:xfrm>
            <a:off x="4643280" y="6413400"/>
            <a:ext cx="444600" cy="444600"/>
          </a:xfrm>
          <a:custGeom>
            <a:avLst/>
            <a:gdLst>
              <a:gd name="textAreaLeft" fmla="*/ 64800 w 444600"/>
              <a:gd name="textAreaRight" fmla="*/ 379800 w 444600"/>
              <a:gd name="textAreaTop" fmla="*/ 64800 h 444600"/>
              <a:gd name="textAreaBottom" fmla="*/ 379800 h 44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同心圆 21"/>
          <p:cNvSpPr/>
          <p:nvPr/>
        </p:nvSpPr>
        <p:spPr>
          <a:xfrm>
            <a:off x="3786120" y="5911920"/>
            <a:ext cx="946080" cy="946080"/>
          </a:xfrm>
          <a:custGeom>
            <a:avLst/>
            <a:gdLst>
              <a:gd name="textAreaLeft" fmla="*/ 138240 w 946080"/>
              <a:gd name="textAreaRight" fmla="*/ 807840 w 946080"/>
              <a:gd name="textAreaTop" fmla="*/ 138240 h 946080"/>
              <a:gd name="textAreaBottom" fmla="*/ 807840 h 946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513" y="10800"/>
                </a:moveTo>
                <a:cubicBezTo>
                  <a:pt x="3513" y="14824"/>
                  <a:pt x="6776" y="18087"/>
                  <a:pt x="10800" y="18087"/>
                </a:cubicBezTo>
                <a:cubicBezTo>
                  <a:pt x="14824" y="18087"/>
                  <a:pt x="18087" y="14824"/>
                  <a:pt x="18087" y="10800"/>
                </a:cubicBezTo>
                <a:cubicBezTo>
                  <a:pt x="18087" y="6776"/>
                  <a:pt x="14824" y="3513"/>
                  <a:pt x="10800" y="3513"/>
                </a:cubicBezTo>
                <a:cubicBezTo>
                  <a:pt x="6776" y="3513"/>
                  <a:pt x="3513" y="6776"/>
                  <a:pt x="3513" y="10800"/>
                </a:cubicBezTo>
                <a:close/>
              </a:path>
            </a:pathLst>
          </a:cu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同心圆 22"/>
          <p:cNvSpPr/>
          <p:nvPr/>
        </p:nvSpPr>
        <p:spPr>
          <a:xfrm>
            <a:off x="3500280" y="6429240"/>
            <a:ext cx="714600" cy="714600"/>
          </a:xfrm>
          <a:custGeom>
            <a:avLst/>
            <a:gdLst>
              <a:gd name="textAreaLeft" fmla="*/ 104400 w 714600"/>
              <a:gd name="textAreaRight" fmla="*/ 610200 w 714600"/>
              <a:gd name="textAreaTop" fmla="*/ 104400 h 714600"/>
              <a:gd name="textAreaBottom" fmla="*/ 610200 h 7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802" y="10800"/>
                </a:moveTo>
                <a:cubicBezTo>
                  <a:pt x="2802" y="15217"/>
                  <a:pt x="6383" y="18798"/>
                  <a:pt x="10800" y="18798"/>
                </a:cubicBezTo>
                <a:cubicBezTo>
                  <a:pt x="15217" y="18798"/>
                  <a:pt x="18798" y="15217"/>
                  <a:pt x="18798" y="10800"/>
                </a:cubicBezTo>
                <a:cubicBezTo>
                  <a:pt x="18798" y="6383"/>
                  <a:pt x="15217" y="2802"/>
                  <a:pt x="10800" y="2802"/>
                </a:cubicBezTo>
                <a:cubicBezTo>
                  <a:pt x="6383" y="2802"/>
                  <a:pt x="2802" y="6383"/>
                  <a:pt x="280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同心圆 23"/>
          <p:cNvSpPr/>
          <p:nvPr/>
        </p:nvSpPr>
        <p:spPr>
          <a:xfrm>
            <a:off x="2357280" y="5786280"/>
            <a:ext cx="1357560" cy="1357560"/>
          </a:xfrm>
          <a:prstGeom prst="pi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同心圆 24"/>
          <p:cNvSpPr/>
          <p:nvPr/>
        </p:nvSpPr>
        <p:spPr>
          <a:xfrm>
            <a:off x="2428920" y="5214960"/>
            <a:ext cx="928800" cy="928800"/>
          </a:xfrm>
          <a:custGeom>
            <a:avLst/>
            <a:gdLst>
              <a:gd name="textAreaLeft" fmla="*/ 135720 w 928800"/>
              <a:gd name="textAreaRight" fmla="*/ 793080 w 928800"/>
              <a:gd name="textAreaTop" fmla="*/ 135720 h 928800"/>
              <a:gd name="textAreaBottom" fmla="*/ 79308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25"/>
          <p:cNvSpPr/>
          <p:nvPr/>
        </p:nvSpPr>
        <p:spPr>
          <a:xfrm>
            <a:off x="0" y="3214800"/>
            <a:ext cx="357120" cy="3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26"/>
          <p:cNvSpPr/>
          <p:nvPr/>
        </p:nvSpPr>
        <p:spPr>
          <a:xfrm>
            <a:off x="3286080" y="3500280"/>
            <a:ext cx="324000" cy="32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27"/>
          <p:cNvSpPr/>
          <p:nvPr/>
        </p:nvSpPr>
        <p:spPr>
          <a:xfrm>
            <a:off x="2357280" y="4786200"/>
            <a:ext cx="324000" cy="32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28"/>
          <p:cNvSpPr/>
          <p:nvPr/>
        </p:nvSpPr>
        <p:spPr>
          <a:xfrm>
            <a:off x="4143240" y="5857920"/>
            <a:ext cx="324000" cy="323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29"/>
          <p:cNvSpPr/>
          <p:nvPr/>
        </p:nvSpPr>
        <p:spPr>
          <a:xfrm>
            <a:off x="2549520" y="2246400"/>
            <a:ext cx="252360" cy="25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0"/>
          <p:cNvSpPr/>
          <p:nvPr/>
        </p:nvSpPr>
        <p:spPr>
          <a:xfrm>
            <a:off x="4778640" y="1933560"/>
            <a:ext cx="308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f0"/>
                </a:solidFill>
                <a:latin typeface="Calibri"/>
              </a:rPr>
              <a:t>T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11:01:47Z</dcterms:created>
  <dc:creator>rachel</dc:creator>
  <dc:description/>
  <dc:language>en-US</dc:language>
  <cp:lastModifiedBy>yu wang</cp:lastModifiedBy>
  <cp:lastPrinted>1899-12-30T00:00:00Z</cp:lastPrinted>
  <dcterms:modified xsi:type="dcterms:W3CDTF">2015-08-12T14:51:05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38</vt:lpwstr>
  </property>
</Properties>
</file>