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F8BD12-0229-4EE4-BFE9-827A8D31C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4CC9EF-5AA6-42A1-B88D-6D944B678CA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487-A344-4551-9C1E-194F4911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08B-1D86-4693-A66B-AF451037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51A-4980-4732-A2DB-D4A92A3D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195-8DE8-4E23-9246-A0F1B5D5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D3DF-95CD-4243-B4EC-5D1A9FC0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D00D-7850-4FF5-BAAD-FDDB0900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1BBE-9E7A-4C46-9E8D-44ABF9FE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5E09-8D03-4E90-8174-4E579DE3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51E4-D1E3-4A9E-A748-5C2CE770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0740-A0BF-41D3-9C30-63B9BC47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1024-E7D6-4583-8B2B-1DC169BA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F2C-81CE-4A7C-9B70-42DBD0D4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9F36-C7C1-47E6-8F51-B6ABD3E7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96B0-E85C-4182-8E22-C03D5A2A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89EF-C20C-46B0-857F-3C96372B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BE13-0767-4184-8D1C-8B2D3FEA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CC93-398A-4559-A801-D450E537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923-9B2C-439C-947A-D07B4E76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088-6C54-499B-9AE2-98EC55B0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8AED-1D5A-4231-BD59-58D2FF5B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438B-AD59-43BC-9C7D-BC26DAA6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324-9E23-4CD1-937F-0F4C26DF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2A3-2257-4663-A380-90843C6A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FFB-969E-47E7-A901-A994AB71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8B2ACD-7FAA-417E-845B-A367FC01781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86FC54-0F10-4C24-933E-9F38BA6BFBE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等腰三角形 11"/>
          <p:cNvSpPr/>
          <p:nvPr/>
        </p:nvSpPr>
        <p:spPr>
          <a:xfrm rot="13558800">
            <a:off x="7778160" y="-622080"/>
            <a:ext cx="1198080" cy="3095280"/>
          </a:xfrm>
          <a:prstGeom prst="triangle">
            <a:avLst>
              <a:gd name="adj" fmla="val 65111"/>
            </a:avLst>
          </a:prstGeom>
          <a:solidFill>
            <a:srgbClr val="29a4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任意多边形 8"/>
          <p:cNvSpPr/>
          <p:nvPr/>
        </p:nvSpPr>
        <p:spPr>
          <a:xfrm>
            <a:off x="1749600" y="2146320"/>
            <a:ext cx="4533480" cy="2997000"/>
          </a:xfrm>
          <a:custGeom>
            <a:avLst/>
            <a:gdLst>
              <a:gd name="textAreaLeft" fmla="*/ 0 w 4533480"/>
              <a:gd name="textAreaRight" fmla="*/ 4533840 w 4533480"/>
              <a:gd name="textAreaTop" fmla="*/ 0 h 2997000"/>
              <a:gd name="textAreaBottom" fmla="*/ 2997360 h 2997000"/>
            </a:gdLst>
            <a:ahLst/>
            <a:rect l="textAreaLeft" t="textAreaTop" r="textAreaRight" b="textAreaBottom"/>
            <a:pathLst>
              <a:path w="4533900" h="2997200">
                <a:moveTo>
                  <a:pt x="1638300" y="0"/>
                </a:moveTo>
                <a:lnTo>
                  <a:pt x="4533900" y="762000"/>
                </a:lnTo>
                <a:lnTo>
                  <a:pt x="0" y="2997200"/>
                </a:lnTo>
                <a:lnTo>
                  <a:pt x="1638300" y="0"/>
                </a:lnTo>
                <a:close/>
              </a:path>
            </a:pathLst>
          </a:custGeom>
          <a:solidFill>
            <a:srgbClr val="29a4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任意多边形 4"/>
          <p:cNvSpPr/>
          <p:nvPr/>
        </p:nvSpPr>
        <p:spPr>
          <a:xfrm>
            <a:off x="0" y="1460520"/>
            <a:ext cx="3435120" cy="3682800"/>
          </a:xfrm>
          <a:custGeom>
            <a:avLst/>
            <a:gdLst>
              <a:gd name="textAreaLeft" fmla="*/ 0 w 3435120"/>
              <a:gd name="textAreaRight" fmla="*/ 3435480 w 3435120"/>
              <a:gd name="textAreaTop" fmla="*/ 0 h 3682800"/>
              <a:gd name="textAreaBottom" fmla="*/ 3683160 h 3682800"/>
            </a:gdLst>
            <a:ahLst/>
            <a:rect l="textAreaLeft" t="textAreaTop" r="textAreaRight" b="textAreaBottom"/>
            <a:pathLst>
              <a:path w="3435179" h="3682313">
                <a:moveTo>
                  <a:pt x="0" y="3657600"/>
                </a:moveTo>
                <a:lnTo>
                  <a:pt x="1754660" y="3682313"/>
                </a:lnTo>
                <a:lnTo>
                  <a:pt x="3385752" y="630194"/>
                </a:lnTo>
                <a:lnTo>
                  <a:pt x="3435179" y="0"/>
                </a:lnTo>
                <a:lnTo>
                  <a:pt x="12357" y="2792627"/>
                </a:lnTo>
                <a:lnTo>
                  <a:pt x="0" y="3657600"/>
                </a:lnTo>
                <a:close/>
              </a:path>
            </a:pathLst>
          </a:custGeom>
          <a:solidFill>
            <a:srgbClr val="ee0f68"/>
          </a:solidFill>
          <a:ln>
            <a:noFill/>
          </a:ln>
          <a:effectLst>
            <a:outerShdw algn="tl" blurRad="76320" dir="2700000" dist="50402" rotWithShape="0" sx="100500" sy="100500">
              <a:srgbClr val="000000">
                <a:alpha val="9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任意多边形 10"/>
          <p:cNvSpPr/>
          <p:nvPr/>
        </p:nvSpPr>
        <p:spPr>
          <a:xfrm>
            <a:off x="5513400" y="-258840"/>
            <a:ext cx="3303360" cy="2099880"/>
          </a:xfrm>
          <a:custGeom>
            <a:avLst/>
            <a:gdLst>
              <a:gd name="textAreaLeft" fmla="*/ 0 w 3303360"/>
              <a:gd name="textAreaRight" fmla="*/ 3303720 w 3303360"/>
              <a:gd name="textAreaTop" fmla="*/ 0 h 2099880"/>
              <a:gd name="textAreaBottom" fmla="*/ 2100240 h 2099880"/>
            </a:gdLst>
            <a:ahLst/>
            <a:rect l="textAreaLeft" t="textAreaTop" r="textAreaRight" b="textAreaBottom"/>
            <a:pathLst>
              <a:path w="3225113" h="2100649">
                <a:moveTo>
                  <a:pt x="0" y="1692876"/>
                </a:moveTo>
                <a:lnTo>
                  <a:pt x="1556951" y="2100649"/>
                </a:lnTo>
                <a:lnTo>
                  <a:pt x="3225113" y="0"/>
                </a:lnTo>
                <a:lnTo>
                  <a:pt x="0" y="1692876"/>
                </a:lnTo>
                <a:close/>
              </a:path>
            </a:pathLst>
          </a:custGeom>
          <a:solidFill>
            <a:srgbClr val="ee0f68"/>
          </a:solidFill>
          <a:ln>
            <a:noFill/>
          </a:ln>
          <a:effectLst>
            <a:outerShdw algn="tl" blurRad="76320" dir="2700000" dist="50402" rotWithShape="0" sx="100500" sy="100500">
              <a:srgbClr val="000000">
                <a:alpha val="9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TextBox 15"/>
          <p:cNvSpPr/>
          <p:nvPr/>
        </p:nvSpPr>
        <p:spPr>
          <a:xfrm>
            <a:off x="468360" y="141120"/>
            <a:ext cx="9885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767676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2696760" y="1639800"/>
            <a:ext cx="3848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彩活力企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39400" y="4677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任意多边形 2"/>
          <p:cNvSpPr/>
          <p:nvPr/>
        </p:nvSpPr>
        <p:spPr>
          <a:xfrm>
            <a:off x="1743120" y="2286000"/>
            <a:ext cx="1988640" cy="2866680"/>
          </a:xfrm>
          <a:custGeom>
            <a:avLst/>
            <a:gdLst>
              <a:gd name="textAreaLeft" fmla="*/ 0 w 1988640"/>
              <a:gd name="textAreaRight" fmla="*/ 1989000 w 1988640"/>
              <a:gd name="textAreaTop" fmla="*/ 0 h 2866680"/>
              <a:gd name="textAreaBottom" fmla="*/ 2867040 h 2866680"/>
            </a:gdLst>
            <a:ahLst/>
            <a:rect l="textAreaLeft" t="textAreaTop" r="textAreaRight" b="textAreaBottom"/>
            <a:pathLst>
              <a:path w="1989438" h="2866768">
                <a:moveTo>
                  <a:pt x="1989438" y="0"/>
                </a:moveTo>
                <a:lnTo>
                  <a:pt x="0" y="2866768"/>
                </a:lnTo>
                <a:lnTo>
                  <a:pt x="1495168" y="0"/>
                </a:lnTo>
                <a:lnTo>
                  <a:pt x="1989438" y="0"/>
                </a:lnTo>
                <a:close/>
              </a:path>
            </a:pathLst>
          </a:custGeom>
          <a:solidFill>
            <a:srgbClr val="29a4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" name="任意多边形 1"/>
          <p:cNvSpPr/>
          <p:nvPr/>
        </p:nvSpPr>
        <p:spPr>
          <a:xfrm>
            <a:off x="0" y="36360"/>
            <a:ext cx="3447720" cy="5116320"/>
          </a:xfrm>
          <a:custGeom>
            <a:avLst/>
            <a:gdLst>
              <a:gd name="textAreaLeft" fmla="*/ 0 w 3447720"/>
              <a:gd name="textAreaRight" fmla="*/ 3448080 w 3447720"/>
              <a:gd name="textAreaTop" fmla="*/ 0 h 5116320"/>
              <a:gd name="textAreaBottom" fmla="*/ 5116680 h 5116320"/>
            </a:gdLst>
            <a:ahLst/>
            <a:rect l="textAreaLeft" t="textAreaTop" r="textAreaRight" b="textAreaBottom"/>
            <a:pathLst>
              <a:path w="3447535" h="5115698">
                <a:moveTo>
                  <a:pt x="0" y="5103341"/>
                </a:moveTo>
                <a:lnTo>
                  <a:pt x="1705233" y="5115698"/>
                </a:lnTo>
                <a:lnTo>
                  <a:pt x="3249827" y="2224216"/>
                </a:lnTo>
                <a:lnTo>
                  <a:pt x="3447535" y="0"/>
                </a:lnTo>
                <a:lnTo>
                  <a:pt x="24714" y="3892379"/>
                </a:lnTo>
                <a:lnTo>
                  <a:pt x="0" y="5103341"/>
                </a:lnTo>
                <a:close/>
              </a:path>
            </a:pathLst>
          </a:custGeom>
          <a:solidFill>
            <a:srgbClr val="ee0f68"/>
          </a:solidFill>
          <a:ln>
            <a:noFill/>
          </a:ln>
          <a:effectLst>
            <a:outerShdw algn="tl" blurRad="63360" dir="2700000" dist="37674" rotWithShape="0" sx="100500" sy="100500">
              <a:srgbClr val="000000">
                <a:alpha val="9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TextBox 16"/>
          <p:cNvSpPr/>
          <p:nvPr/>
        </p:nvSpPr>
        <p:spPr>
          <a:xfrm rot="18331200">
            <a:off x="1789200" y="3743280"/>
            <a:ext cx="21459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767676"/>
                </a:solidFill>
                <a:latin typeface="微软雅黑"/>
                <a:ea typeface="微软雅黑"/>
              </a:rPr>
              <a:t>目 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468360" y="141120"/>
            <a:ext cx="9885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767676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19"/>
          <p:cNvSpPr/>
          <p:nvPr/>
        </p:nvSpPr>
        <p:spPr>
          <a:xfrm>
            <a:off x="3454560" y="1193760"/>
            <a:ext cx="1231560" cy="647280"/>
          </a:xfrm>
          <a:custGeom>
            <a:avLst/>
            <a:gdLst>
              <a:gd name="textAreaLeft" fmla="*/ 0 w 1231560"/>
              <a:gd name="textAreaRight" fmla="*/ 1231920 w 1231560"/>
              <a:gd name="textAreaTop" fmla="*/ 0 h 647280"/>
              <a:gd name="textAreaBottom" fmla="*/ 647640 h 647280"/>
            </a:gdLst>
            <a:ahLst/>
            <a:rect l="textAreaLeft" t="textAreaTop" r="textAreaRight" b="textAreaBottom"/>
            <a:pathLst>
              <a:path w="1231900" h="647700">
                <a:moveTo>
                  <a:pt x="0" y="647700"/>
                </a:moveTo>
                <a:lnTo>
                  <a:pt x="419100" y="0"/>
                </a:lnTo>
                <a:lnTo>
                  <a:pt x="1231900" y="0"/>
                </a:lnTo>
              </a:path>
            </a:pathLst>
          </a:custGeom>
          <a:noFill/>
          <a:ln>
            <a:solidFill>
              <a:srgbClr val="ffffff">
                <a:lumMod val="65000"/>
              </a:srgbClr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0" name="任意多边形 22"/>
          <p:cNvSpPr/>
          <p:nvPr/>
        </p:nvSpPr>
        <p:spPr>
          <a:xfrm>
            <a:off x="2971800" y="2712960"/>
            <a:ext cx="2361960" cy="242208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2422080"/>
              <a:gd name="textAreaBottom" fmla="*/ 2422440 h 2422080"/>
            </a:gdLst>
            <a:ahLst/>
            <a:rect l="textAreaLeft" t="textAreaTop" r="textAreaRight" b="textAreaBottom"/>
            <a:pathLst>
              <a:path w="2362200" h="2423160">
                <a:moveTo>
                  <a:pt x="0" y="2423160"/>
                </a:moveTo>
                <a:lnTo>
                  <a:pt x="1546860" y="0"/>
                </a:lnTo>
                <a:lnTo>
                  <a:pt x="2362200" y="0"/>
                </a:lnTo>
              </a:path>
            </a:pathLst>
          </a:custGeom>
          <a:noFill/>
          <a:ln>
            <a:solidFill>
              <a:srgbClr val="ffffff">
                <a:lumMod val="65000"/>
              </a:srgbClr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任意多边形 23"/>
          <p:cNvSpPr/>
          <p:nvPr/>
        </p:nvSpPr>
        <p:spPr>
          <a:xfrm>
            <a:off x="3897360" y="3573360"/>
            <a:ext cx="1760040" cy="1553760"/>
          </a:xfrm>
          <a:custGeom>
            <a:avLst/>
            <a:gdLst>
              <a:gd name="textAreaLeft" fmla="*/ 0 w 1760040"/>
              <a:gd name="textAreaRight" fmla="*/ 1760400 w 1760040"/>
              <a:gd name="textAreaTop" fmla="*/ 0 h 1553760"/>
              <a:gd name="textAreaBottom" fmla="*/ 1554120 h 1553760"/>
            </a:gdLst>
            <a:ahLst/>
            <a:rect l="textAreaLeft" t="textAreaTop" r="textAreaRight" b="textAreaBottom"/>
            <a:pathLst>
              <a:path w="1760220" h="1554480">
                <a:moveTo>
                  <a:pt x="0" y="1554480"/>
                </a:moveTo>
                <a:lnTo>
                  <a:pt x="960120" y="0"/>
                </a:lnTo>
                <a:lnTo>
                  <a:pt x="1760220" y="0"/>
                </a:lnTo>
                <a:lnTo>
                  <a:pt x="1760220" y="0"/>
                </a:lnTo>
              </a:path>
            </a:pathLst>
          </a:custGeom>
          <a:noFill/>
          <a:ln>
            <a:solidFill>
              <a:srgbClr val="ffffff">
                <a:lumMod val="65000"/>
              </a:srgbClr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任意多边形 24"/>
          <p:cNvSpPr/>
          <p:nvPr/>
        </p:nvSpPr>
        <p:spPr>
          <a:xfrm>
            <a:off x="3262320" y="1927080"/>
            <a:ext cx="1692000" cy="1396800"/>
          </a:xfrm>
          <a:custGeom>
            <a:avLst/>
            <a:gdLst>
              <a:gd name="textAreaLeft" fmla="*/ 0 w 1692000"/>
              <a:gd name="textAreaRight" fmla="*/ 1692360 w 169200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1692875" h="1396314">
                <a:moveTo>
                  <a:pt x="1692875" y="0"/>
                </a:moveTo>
                <a:lnTo>
                  <a:pt x="902043" y="0"/>
                </a:lnTo>
                <a:lnTo>
                  <a:pt x="0" y="1396314"/>
                </a:lnTo>
              </a:path>
            </a:pathLst>
          </a:custGeom>
          <a:noFill/>
          <a:ln>
            <a:solidFill>
              <a:srgbClr val="ffffff">
                <a:lumMod val="65000"/>
              </a:srgbClr>
            </a:solidFill>
            <a:prstDash val="sys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TextBox 25"/>
          <p:cNvSpPr/>
          <p:nvPr/>
        </p:nvSpPr>
        <p:spPr>
          <a:xfrm>
            <a:off x="4726080" y="1044720"/>
            <a:ext cx="16524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5016600" y="1773360"/>
            <a:ext cx="165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7"/>
          <p:cNvSpPr/>
          <p:nvPr/>
        </p:nvSpPr>
        <p:spPr>
          <a:xfrm>
            <a:off x="5432400" y="2558880"/>
            <a:ext cx="16524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8"/>
          <p:cNvSpPr/>
          <p:nvPr/>
        </p:nvSpPr>
        <p:spPr>
          <a:xfrm>
            <a:off x="5713560" y="3419640"/>
            <a:ext cx="165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任意多边形 6"/>
          <p:cNvSpPr/>
          <p:nvPr/>
        </p:nvSpPr>
        <p:spPr>
          <a:xfrm>
            <a:off x="3916440" y="1531800"/>
            <a:ext cx="3472920" cy="2001600"/>
          </a:xfrm>
          <a:custGeom>
            <a:avLst/>
            <a:gdLst>
              <a:gd name="textAreaLeft" fmla="*/ 0 w 3472920"/>
              <a:gd name="textAreaRight" fmla="*/ 3473280 w 3472920"/>
              <a:gd name="textAreaTop" fmla="*/ 0 h 2001600"/>
              <a:gd name="textAreaBottom" fmla="*/ 2001960 h 2001600"/>
            </a:gdLst>
            <a:ahLst/>
            <a:rect l="textAreaLeft" t="textAreaTop" r="textAreaRight" b="textAreaBottom"/>
            <a:pathLst>
              <a:path w="3472249" h="2001794">
                <a:moveTo>
                  <a:pt x="3472249" y="2001794"/>
                </a:moveTo>
                <a:lnTo>
                  <a:pt x="3064476" y="0"/>
                </a:lnTo>
                <a:lnTo>
                  <a:pt x="0" y="568411"/>
                </a:lnTo>
                <a:lnTo>
                  <a:pt x="395416" y="1977081"/>
                </a:lnTo>
                <a:lnTo>
                  <a:pt x="3472249" y="2001794"/>
                </a:lnTo>
                <a:close/>
              </a:path>
            </a:pathLst>
          </a:custGeom>
          <a:solidFill>
            <a:srgbClr val="29a4d0"/>
          </a:solidFill>
          <a:ln>
            <a:noFill/>
          </a:ln>
          <a:effectLst>
            <a:outerShdw algn="tl" blurRad="63360" dir="2700000" dist="37674" rotWithShape="0" sx="100500" sy="100500">
              <a:srgbClr val="000000">
                <a:alpha val="9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任意多边形 5"/>
          <p:cNvSpPr/>
          <p:nvPr/>
        </p:nvSpPr>
        <p:spPr>
          <a:xfrm>
            <a:off x="1743120" y="542880"/>
            <a:ext cx="3260520" cy="2001600"/>
          </a:xfrm>
          <a:custGeom>
            <a:avLst/>
            <a:gdLst>
              <a:gd name="textAreaLeft" fmla="*/ 0 w 3260520"/>
              <a:gd name="textAreaRight" fmla="*/ 3260880 w 3260520"/>
              <a:gd name="textAreaTop" fmla="*/ 0 h 2001600"/>
              <a:gd name="textAreaBottom" fmla="*/ 2001960 h 2001600"/>
            </a:gdLst>
            <a:ahLst/>
            <a:rect l="textAreaLeft" t="textAreaTop" r="textAreaRight" b="textAreaBottom"/>
            <a:pathLst>
              <a:path w="3262183" h="2001795">
                <a:moveTo>
                  <a:pt x="630194" y="0"/>
                </a:moveTo>
                <a:lnTo>
                  <a:pt x="0" y="1618735"/>
                </a:lnTo>
                <a:lnTo>
                  <a:pt x="3262183" y="2001795"/>
                </a:lnTo>
                <a:lnTo>
                  <a:pt x="3150973" y="840260"/>
                </a:lnTo>
                <a:lnTo>
                  <a:pt x="630194" y="0"/>
                </a:lnTo>
                <a:close/>
              </a:path>
            </a:pathLst>
          </a:custGeom>
          <a:solidFill>
            <a:srgbClr val="ee0f68"/>
          </a:solidFill>
          <a:ln>
            <a:noFill/>
          </a:ln>
          <a:effectLst>
            <a:outerShdw algn="tl" blurRad="63360" dir="2700000" dist="37674" rotWithShape="0" sx="100500" sy="100500">
              <a:srgbClr val="000000">
                <a:alpha val="9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68360" y="141120"/>
            <a:ext cx="9885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767676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 rot="20929800">
            <a:off x="4958640" y="1222200"/>
            <a:ext cx="273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 rot="346800">
            <a:off x="1743120" y="2452320"/>
            <a:ext cx="2734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-14400" y="4732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任意多边形 6"/>
          <p:cNvSpPr/>
          <p:nvPr/>
        </p:nvSpPr>
        <p:spPr>
          <a:xfrm>
            <a:off x="7505640" y="628560"/>
            <a:ext cx="3123720" cy="1161720"/>
          </a:xfrm>
          <a:custGeom>
            <a:avLst/>
            <a:gdLst>
              <a:gd name="textAreaLeft" fmla="*/ 0 w 3123720"/>
              <a:gd name="textAreaRight" fmla="*/ 3124080 w 3123720"/>
              <a:gd name="textAreaTop" fmla="*/ 0 h 1161720"/>
              <a:gd name="textAreaBottom" fmla="*/ 1162080 h 1161720"/>
            </a:gdLst>
            <a:ahLst/>
            <a:rect l="textAreaLeft" t="textAreaTop" r="textAreaRight" b="textAreaBottom"/>
            <a:pathLst>
              <a:path w="3124200" h="1162050">
                <a:moveTo>
                  <a:pt x="0" y="0"/>
                </a:moveTo>
                <a:lnTo>
                  <a:pt x="1123950" y="1162050"/>
                </a:lnTo>
                <a:lnTo>
                  <a:pt x="3124200" y="781050"/>
                </a:lnTo>
                <a:lnTo>
                  <a:pt x="0" y="0"/>
                </a:lnTo>
                <a:close/>
              </a:path>
            </a:pathLst>
          </a:custGeom>
          <a:solidFill>
            <a:srgbClr val="29a4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68360" y="141120"/>
            <a:ext cx="9885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767676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角三角形 5"/>
          <p:cNvSpPr/>
          <p:nvPr/>
        </p:nvSpPr>
        <p:spPr>
          <a:xfrm flipH="1" flipV="1">
            <a:off x="5129280" y="-22680"/>
            <a:ext cx="4024080" cy="1115640"/>
          </a:xfrm>
          <a:prstGeom prst="rtTriangle">
            <a:avLst/>
          </a:prstGeom>
          <a:solidFill>
            <a:srgbClr val="ee0f68"/>
          </a:solidFill>
          <a:ln>
            <a:noFill/>
          </a:ln>
          <a:effectLst>
            <a:outerShdw algn="tr" blurRad="76320" dir="8100000" dist="37674" rotWithShape="0" sx="100500" sy="100500">
              <a:srgbClr val="000000">
                <a:alpha val="9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16" name="直接连接符 8"/>
          <p:cNvCxnSpPr/>
          <p:nvPr/>
        </p:nvCxnSpPr>
        <p:spPr>
          <a:xfrm>
            <a:off x="3276360" y="1209600"/>
            <a:ext cx="360" cy="2370240"/>
          </a:xfrm>
          <a:prstGeom prst="straightConnector1">
            <a:avLst/>
          </a:prstGeom>
          <a:ln w="12700">
            <a:solidFill>
              <a:srgbClr val="767676"/>
            </a:solidFill>
            <a:prstDash val="dash"/>
            <a:round/>
          </a:ln>
        </p:spPr>
      </p:cxnSp>
      <p:sp>
        <p:nvSpPr>
          <p:cNvPr id="117" name="TextBox 9"/>
          <p:cNvSpPr/>
          <p:nvPr/>
        </p:nvSpPr>
        <p:spPr>
          <a:xfrm>
            <a:off x="3551400" y="1517760"/>
            <a:ext cx="4895640" cy="196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 rot="951600">
            <a:off x="5507640" y="522360"/>
            <a:ext cx="266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1619280" y="2066760"/>
            <a:ext cx="1152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767676"/>
                </a:solidFill>
                <a:latin typeface="微软雅黑"/>
                <a:ea typeface="微软雅黑"/>
              </a:rPr>
              <a:t>请在此处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任意多边形 6"/>
          <p:cNvSpPr/>
          <p:nvPr/>
        </p:nvSpPr>
        <p:spPr>
          <a:xfrm>
            <a:off x="2502000" y="2768760"/>
            <a:ext cx="5168520" cy="2400120"/>
          </a:xfrm>
          <a:custGeom>
            <a:avLst/>
            <a:gdLst>
              <a:gd name="textAreaLeft" fmla="*/ 0 w 5168520"/>
              <a:gd name="textAreaRight" fmla="*/ 5168880 w 5168520"/>
              <a:gd name="textAreaTop" fmla="*/ 0 h 2400120"/>
              <a:gd name="textAreaBottom" fmla="*/ 2400480 h 2400120"/>
            </a:gdLst>
            <a:ahLst/>
            <a:rect l="textAreaLeft" t="textAreaTop" r="textAreaRight" b="textAreaBottom"/>
            <a:pathLst>
              <a:path w="5168900" h="2400300">
                <a:moveTo>
                  <a:pt x="0" y="203200"/>
                </a:moveTo>
                <a:lnTo>
                  <a:pt x="3136900" y="0"/>
                </a:lnTo>
                <a:lnTo>
                  <a:pt x="5168900" y="2400300"/>
                </a:lnTo>
                <a:lnTo>
                  <a:pt x="0" y="203200"/>
                </a:lnTo>
                <a:close/>
              </a:path>
            </a:pathLst>
          </a:custGeom>
          <a:solidFill>
            <a:srgbClr val="29a4d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68360" y="141120"/>
            <a:ext cx="9885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767676"/>
                </a:solidFill>
                <a:latin typeface="微软雅黑"/>
                <a:ea typeface="微软雅黑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5"/>
          <p:cNvSpPr/>
          <p:nvPr/>
        </p:nvSpPr>
        <p:spPr>
          <a:xfrm>
            <a:off x="5486400" y="1536840"/>
            <a:ext cx="3708000" cy="3623760"/>
          </a:xfrm>
          <a:custGeom>
            <a:avLst/>
            <a:gdLst>
              <a:gd name="textAreaLeft" fmla="*/ 0 w 3708000"/>
              <a:gd name="textAreaRight" fmla="*/ 3708360 w 3708000"/>
              <a:gd name="textAreaTop" fmla="*/ 0 h 3623760"/>
              <a:gd name="textAreaBottom" fmla="*/ 3624120 h 3623760"/>
            </a:gdLst>
            <a:ahLst/>
            <a:rect l="textAreaLeft" t="textAreaTop" r="textAreaRight" b="textAreaBottom"/>
            <a:pathLst>
              <a:path w="3708400" h="3670300">
                <a:moveTo>
                  <a:pt x="0" y="0"/>
                </a:moveTo>
                <a:lnTo>
                  <a:pt x="139700" y="1206500"/>
                </a:lnTo>
                <a:lnTo>
                  <a:pt x="2184400" y="3670300"/>
                </a:lnTo>
                <a:lnTo>
                  <a:pt x="3708400" y="3670300"/>
                </a:lnTo>
                <a:lnTo>
                  <a:pt x="0" y="0"/>
                </a:lnTo>
                <a:close/>
              </a:path>
            </a:pathLst>
          </a:custGeom>
          <a:solidFill>
            <a:srgbClr val="ee0f68"/>
          </a:solidFill>
          <a:ln>
            <a:noFill/>
          </a:ln>
          <a:effectLst>
            <a:outerShdw algn="tr" blurRad="76320" dir="8100000" dist="37674" rotWithShape="0" sx="100500" sy="100500">
              <a:srgbClr val="000000">
                <a:alpha val="7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TextBox 8"/>
          <p:cNvSpPr/>
          <p:nvPr/>
        </p:nvSpPr>
        <p:spPr>
          <a:xfrm rot="21360000">
            <a:off x="2253600" y="1528560"/>
            <a:ext cx="32047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5400" spc="-1" strike="noStrike">
                <a:solidFill>
                  <a:srgbClr val="767676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 rot="21352200">
            <a:off x="3798360" y="2411280"/>
            <a:ext cx="16300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767676"/>
                </a:solidFill>
                <a:latin typeface="微软雅黑"/>
                <a:ea typeface="微软雅黑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  <Words>251</Words>
  <Paragraphs>55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2:45:16Z</dcterms:created>
  <dc:creator>chenzhilei</dc:creator>
  <dc:description/>
  <dc:language>en-US</dc:language>
  <cp:lastModifiedBy>yu wang</cp:lastModifiedBy>
  <dcterms:modified xsi:type="dcterms:W3CDTF">2015-08-12T14:51:44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6</vt:r8>
  </property>
</Properties>
</file>