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5295-06F8-4C49-9604-904FE06B55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7089-DF39-4BF5-B1C3-A3BFB1D40E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D70-1A22-4FFA-996F-03E50581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6E5-177A-42F5-B995-249B0539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476-0324-40BE-88C5-9D2E7226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17A-66D6-41D9-9EF9-44C9C3E7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9A3-AFA4-4395-BC21-11207C19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56DC-1D7D-46CD-8CE8-E7E1A8C5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BA9F-FADF-416D-97B5-FA6C16EC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CE21-6861-4741-A121-74BEB2CB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9A22-938F-4BA9-A5FB-4D480CCA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DE8A-80AB-422A-BC05-529A948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2260-14C6-44E7-9325-1F3758A9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74D-7826-403B-A3B4-B6CAC9EE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6CEB-13BD-45F2-8C38-F388A1FC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0FF3-F945-455B-9508-4CFB1B1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AC5-A8FF-4235-A63C-9C479F0C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E8D7-88A7-4690-A692-3B584CE5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675-62ED-49F4-9574-507EAC80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7CF-090C-4E6C-ADBB-9DF8CF23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73B-3ED5-4309-8D6A-4AC5491D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7A9-02A2-46E8-8E9B-42EFD576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9D6-DC90-446B-B7E5-D8E57AFE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866-7BD4-4D4F-95A8-D5F331A3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D63-AD61-4CB6-A30D-37AAE57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13B-3CC9-4420-90C3-22EA156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1AF-D0D3-4E54-B531-8A9F68F6302F}" type="datetime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778-2D76-49DD-ACFC-34CCE15C5CE1}" type="slidenum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 (9)\5.jpg"/>
          <p:cNvPicPr/>
          <p:nvPr/>
        </p:nvPicPr>
        <p:blipFill>
          <a:blip r:embed="rId3"/>
          <a:stretch/>
        </p:blipFill>
        <p:spPr>
          <a:xfrm>
            <a:off x="-648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36F5-09B2-4802-8E57-473EA170BF69}" type="datetime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65B7-F925-4BF7-8D43-F220E10BD4CA}" type="slidenum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多彩炫丽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模板完整版下载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3840" y="26366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28A9-D776-48FE-B8E4-F0ED25A1499B}" type="slidenum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yu wang</cp:lastModifiedBy>
  <cp:lastPrinted>1899-12-30T00:00:00Z</cp:lastPrinted>
  <dcterms:modified xsi:type="dcterms:W3CDTF">2015-08-12T14:51:4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