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133360" y="335268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ero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Eras Bold ITC"/>
                <a:ea typeface="宋体"/>
              </a:rPr>
              <a:t>YOUR</a:t>
            </a:r>
            <a:r>
              <a:rPr b="1" lang="en-US" sz="2000" spc="-1" strike="noStrike">
                <a:solidFill>
                  <a:srgbClr val="000000"/>
                </a:solidFill>
                <a:latin typeface="Eras Bold ITC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Eras Bold ITC"/>
                <a:ea typeface="宋体"/>
              </a:rPr>
              <a:t>SUBTITLE</a:t>
            </a:r>
            <a:r>
              <a:rPr b="1" lang="en-US" sz="2000" spc="-1" strike="noStrike">
                <a:solidFill>
                  <a:srgbClr val="000000"/>
                </a:solidFill>
                <a:latin typeface="Eras Bold ITC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Eras Bold ITC"/>
                <a:ea typeface="宋体"/>
              </a:rPr>
              <a:t>GOES</a:t>
            </a:r>
            <a:r>
              <a:rPr b="1" lang="en-US" sz="2000" spc="-1" strike="noStrike">
                <a:solidFill>
                  <a:srgbClr val="000000"/>
                </a:solidFill>
                <a:latin typeface="Eras Bold ITC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Eras Bold ITC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1143000" y="259092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ero"/>
                <a:ea typeface="宋体"/>
              </a:rPr>
              <a:t>动感水珠工业企业</a:t>
            </a:r>
            <a:r>
              <a:rPr b="1" lang="en-US" sz="4000" spc="-1" strike="noStrike">
                <a:solidFill>
                  <a:srgbClr val="000000"/>
                </a:solidFill>
                <a:latin typeface="Aero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ero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ero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04920" y="7621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ero"/>
                <a:ea typeface="宋体"/>
              </a:rPr>
              <a:t>YOUR 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ero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6520" y="5331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23720" y="12193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ero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ero"/>
                <a:ea typeface="宋体"/>
              </a:rPr>
              <a:t>YOUR SUBTOPIC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06480" y="65232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21:07:48Z</dcterms:created>
  <dc:creator>eclipse</dc:creator>
  <dc:description/>
  <dc:language>en-US</dc:language>
  <cp:lastModifiedBy>yu wang</cp:lastModifiedBy>
  <dcterms:modified xsi:type="dcterms:W3CDTF">2015-08-14T12:50:07Z</dcterms:modified>
  <cp:revision>7</cp:revision>
  <dc:subject/>
  <dc:title>Slide 1</dc:title>
</cp:coreProperties>
</file>