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6C6-F395-4D68-878D-F667CB45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9592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BB6-02E5-44F8-BA52-3177312C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548C-0292-4DD7-A5CE-B93771B7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1253-6CEF-4862-96D4-18A4B83D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B79D-C009-4141-83DE-6446B295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01DE-C88C-4D31-B83A-1140C0C8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D004-82D9-4EBC-A7C9-6F33F688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724F-9C25-418B-9D33-46AD543A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5E6A-5E46-45DA-8190-EAE79B2E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5341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FADD-365A-4CB6-A276-80BEC00A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2C86-DBDA-4EAF-9A2D-1F7D5C97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F68-C643-43B1-8E75-D91899B5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EEFA-B743-40C6-9849-F2F5E7E5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CA69-3C0B-4672-8524-83C28DAE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89592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DE55-2536-4E18-9D92-E9FAA4FE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2C79-4728-4AB9-8D9B-E40F6010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2F12-363E-4607-B0C2-440F0E08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5A1-5847-4031-BF8F-F8AEB44C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866C-35D4-4638-8551-47591D83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26A-3DD6-4E46-8118-13F7D474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5341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F15-31B6-43F3-BB5A-967EB11E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D05-968C-4CFC-A35A-C849346E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063-9EEF-4A7E-A3DC-7AB36749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660-DE77-460C-8656-852ACB3D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1D4C-2E52-4B1C-A2C0-7E70AACBF9E3}" type="slidenum">
              <a:rPr b="0" lang="en-US" sz="10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0" descr="C:\Documents and Settings\Administrator\Desktop\work from home\the_fine_print\elements\magnifying_glass_contract_hg_clr.gif"/>
          <p:cNvPicPr/>
          <p:nvPr/>
        </p:nvPicPr>
        <p:blipFill>
          <a:blip r:embed="rId3"/>
          <a:stretch/>
        </p:blipFill>
        <p:spPr>
          <a:xfrm>
            <a:off x="6248520" y="407664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00C1-308A-4611-9A7E-86DB6170C89F}" type="slidenum">
              <a:rPr b="0" lang="en-US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放大镜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企业模板在线下载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479520"/>
            <a:ext cx="9144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  <a:ea typeface="宋体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宋体"/>
              </a:rPr>
              <a:t>Your subtopic goes her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4795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Arial Black"/>
              <a:ea typeface="宋体"/>
            </a:endParaRPr>
          </a:p>
        </p:txBody>
      </p:sp>
      <p:pic>
        <p:nvPicPr>
          <p:cNvPr id="90" name="Picture 10" descr="magnifying_glass_contract_hg_clr"/>
          <p:cNvPicPr/>
          <p:nvPr/>
        </p:nvPicPr>
        <p:blipFill>
          <a:blip r:embed="rId2"/>
          <a:stretch/>
        </p:blipFill>
        <p:spPr>
          <a:xfrm>
            <a:off x="2666880" y="1905120"/>
            <a:ext cx="400068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宋体"/>
              </a:rPr>
              <a:t>Your subtopic goes her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380880" y="60958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 Black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 Black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 Black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 Black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 Black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03:21:05Z</dcterms:created>
  <dc:creator>Administrator</dc:creator>
  <dc:description/>
  <dc:language>en-US</dc:language>
  <cp:lastModifiedBy>yu wang</cp:lastModifiedBy>
  <dcterms:modified xsi:type="dcterms:W3CDTF">2015-08-14T12:51:06Z</dcterms:modified>
  <cp:revision>5</cp:revision>
  <dc:subject/>
  <dc:title>Chiller</dc:title>
</cp:coreProperties>
</file>