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074-AB11-4C58-892B-18343B70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869-983E-4E11-BE7A-03A85E64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5F0-20A3-4FC0-9C64-1198228F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886-533C-4108-A637-3C562694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9A4-D9DA-46CA-966B-C21A36B6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391-C73C-49B9-AA7F-BCE67686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630-F70F-4D0C-B75D-3697CC65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657-376A-4469-9E07-E606A969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BDF-C8BE-446A-B79E-5F94B95D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1E6-C914-4F35-919C-68DAB6FB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6EF-CE3C-40F0-8D4D-31033002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5A5-BADE-4BA0-8058-B10EEB8A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C4B6-B4E1-42C5-8365-BB959C5B043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49C2-92BD-45A5-BC06-E8A6334515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60520" y="5032440"/>
            <a:ext cx="6107040" cy="431640"/>
            <a:chOff x="1460520" y="5032440"/>
            <a:chExt cx="6107040" cy="431640"/>
          </a:xfrm>
        </p:grpSpPr>
        <p:sp>
          <p:nvSpPr>
            <p:cNvPr id="42" name="圆角矩形 3"/>
            <p:cNvSpPr/>
            <p:nvPr/>
          </p:nvSpPr>
          <p:spPr>
            <a:xfrm>
              <a:off x="1561320" y="5075280"/>
              <a:ext cx="6006240" cy="359640"/>
            </a:xfrm>
            <a:prstGeom prst="roundRect">
              <a:avLst>
                <a:gd name="adj" fmla="val 16667"/>
              </a:avLst>
            </a:prstGeom>
            <a:solidFill>
              <a:srgbClr val="d8d8d8"/>
            </a:solidFill>
            <a:ln w="1260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圆角矩形 4"/>
            <p:cNvSpPr/>
            <p:nvPr/>
          </p:nvSpPr>
          <p:spPr>
            <a:xfrm>
              <a:off x="1460520" y="5032440"/>
              <a:ext cx="339228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ff6da"/>
                </a:gs>
                <a:gs pos="100000">
                  <a:srgbClr val="a3c28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TextBox 9"/>
          <p:cNvSpPr/>
          <p:nvPr/>
        </p:nvSpPr>
        <p:spPr>
          <a:xfrm>
            <a:off x="3625920" y="4365720"/>
            <a:ext cx="20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Loading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2717640" y="5646600"/>
            <a:ext cx="424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黑_YS_GB18030"/>
                <a:ea typeface="方正兰亭黑_YS_GB18030"/>
              </a:rPr>
              <a:t>为了完成您的愿望，任何的等待都是值得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3174840" y="1612800"/>
            <a:ext cx="2644920" cy="882720"/>
            <a:chOff x="3174840" y="1612800"/>
            <a:chExt cx="2644920" cy="882720"/>
          </a:xfrm>
        </p:grpSpPr>
        <p:sp>
          <p:nvSpPr>
            <p:cNvPr id="47" name="TextBox 12"/>
            <p:cNvSpPr/>
            <p:nvPr/>
          </p:nvSpPr>
          <p:spPr>
            <a:xfrm>
              <a:off x="3174840" y="1612800"/>
              <a:ext cx="24274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3"/>
            <p:cNvSpPr/>
            <p:nvPr/>
          </p:nvSpPr>
          <p:spPr>
            <a:xfrm>
              <a:off x="3973320" y="2156760"/>
              <a:ext cx="184644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直接连接符 26"/>
          <p:cNvSpPr/>
          <p:nvPr/>
        </p:nvSpPr>
        <p:spPr>
          <a:xfrm>
            <a:off x="1187280" y="-1262548440"/>
            <a:ext cx="4248360" cy="1800"/>
          </a:xfrm>
          <a:prstGeom prst="line">
            <a:avLst/>
          </a:prstGeom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1077840" y="2581200"/>
            <a:ext cx="7056360" cy="19080"/>
            <a:chOff x="1077840" y="2581200"/>
            <a:chExt cx="7056360" cy="19080"/>
          </a:xfrm>
        </p:grpSpPr>
        <p:sp>
          <p:nvSpPr>
            <p:cNvPr id="51" name="直接连接符 28"/>
            <p:cNvSpPr/>
            <p:nvPr/>
          </p:nvSpPr>
          <p:spPr>
            <a:xfrm>
              <a:off x="1077840" y="2581200"/>
              <a:ext cx="7056360" cy="0"/>
            </a:xfrm>
            <a:prstGeom prst="line">
              <a:avLst/>
            </a:prstGeom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29"/>
            <p:cNvSpPr/>
            <p:nvPr/>
          </p:nvSpPr>
          <p:spPr>
            <a:xfrm>
              <a:off x="1077840" y="2600280"/>
              <a:ext cx="7056360" cy="0"/>
            </a:xfrm>
            <a:prstGeom prst="line">
              <a:avLst/>
            </a:prstGeom>
            <a:ln w="1260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0" t="27648" r="0" b="0"/>
          <a:stretch/>
        </p:blipFill>
        <p:spPr>
          <a:xfrm>
            <a:off x="3757680" y="0"/>
            <a:ext cx="1749240" cy="2886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-2655720" y="7389720"/>
            <a:ext cx="5314680" cy="5302440"/>
          </a:xfrm>
          <a:prstGeom prst="rect">
            <a:avLst/>
          </a:prstGeom>
          <a:ln w="0">
            <a:noFill/>
          </a:ln>
        </p:spPr>
      </p:pic>
      <p:sp>
        <p:nvSpPr>
          <p:cNvPr id="56" name="椭圆 4"/>
          <p:cNvSpPr/>
          <p:nvPr/>
        </p:nvSpPr>
        <p:spPr>
          <a:xfrm>
            <a:off x="3824280" y="1190520"/>
            <a:ext cx="1584360" cy="1584360"/>
          </a:xfrm>
          <a:prstGeom prst="ellipse">
            <a:avLst/>
          </a:prstGeom>
          <a:solidFill>
            <a:srgbClr val="ffffff"/>
          </a:solidFill>
          <a:ln w="324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5"/>
          <p:cNvGrpSpPr/>
          <p:nvPr/>
        </p:nvGrpSpPr>
        <p:grpSpPr>
          <a:xfrm>
            <a:off x="1365120" y="4064040"/>
            <a:ext cx="1265400" cy="1266840"/>
            <a:chOff x="1365120" y="4064040"/>
            <a:chExt cx="1265400" cy="1266840"/>
          </a:xfrm>
        </p:grpSpPr>
        <p:sp>
          <p:nvSpPr>
            <p:cNvPr id="58" name="椭圆 5"/>
            <p:cNvSpPr/>
            <p:nvPr/>
          </p:nvSpPr>
          <p:spPr>
            <a:xfrm>
              <a:off x="1365120" y="4064040"/>
              <a:ext cx="1265400" cy="126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e5e5e5"/>
                </a:gs>
              </a:gsLst>
              <a:lin ang="5400000"/>
            </a:gra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7"/>
            <p:cNvSpPr/>
            <p:nvPr/>
          </p:nvSpPr>
          <p:spPr>
            <a:xfrm>
              <a:off x="1494000" y="4192920"/>
              <a:ext cx="1007640" cy="100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3116160" y="4064040"/>
            <a:ext cx="1265400" cy="1266840"/>
            <a:chOff x="3116160" y="4064040"/>
            <a:chExt cx="1265400" cy="1266840"/>
          </a:xfrm>
        </p:grpSpPr>
        <p:sp>
          <p:nvSpPr>
            <p:cNvPr id="61" name="椭圆 23"/>
            <p:cNvSpPr/>
            <p:nvPr/>
          </p:nvSpPr>
          <p:spPr>
            <a:xfrm>
              <a:off x="3116160" y="4064040"/>
              <a:ext cx="1265400" cy="126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e5e5e5"/>
                </a:gs>
              </a:gsLst>
              <a:lin ang="5400000"/>
            </a:gra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24"/>
            <p:cNvSpPr/>
            <p:nvPr/>
          </p:nvSpPr>
          <p:spPr>
            <a:xfrm>
              <a:off x="3245040" y="4192920"/>
              <a:ext cx="1007640" cy="100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1"/>
          <p:cNvGrpSpPr/>
          <p:nvPr/>
        </p:nvGrpSpPr>
        <p:grpSpPr>
          <a:xfrm>
            <a:off x="4867200" y="4064040"/>
            <a:ext cx="1266840" cy="1266840"/>
            <a:chOff x="4867200" y="4064040"/>
            <a:chExt cx="1266840" cy="1266840"/>
          </a:xfrm>
        </p:grpSpPr>
        <p:sp>
          <p:nvSpPr>
            <p:cNvPr id="64" name="椭圆 26"/>
            <p:cNvSpPr/>
            <p:nvPr/>
          </p:nvSpPr>
          <p:spPr>
            <a:xfrm>
              <a:off x="4867200" y="4064040"/>
              <a:ext cx="1266840" cy="126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e5e5e5"/>
                </a:gs>
              </a:gsLst>
              <a:lin ang="5400000"/>
            </a:gra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27"/>
            <p:cNvSpPr/>
            <p:nvPr/>
          </p:nvSpPr>
          <p:spPr>
            <a:xfrm>
              <a:off x="4996080" y="4192920"/>
              <a:ext cx="1009080" cy="100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4"/>
          <p:cNvGrpSpPr/>
          <p:nvPr/>
        </p:nvGrpSpPr>
        <p:grpSpPr>
          <a:xfrm>
            <a:off x="6618240" y="4064040"/>
            <a:ext cx="1266840" cy="1266840"/>
            <a:chOff x="6618240" y="4064040"/>
            <a:chExt cx="1266840" cy="1266840"/>
          </a:xfrm>
        </p:grpSpPr>
        <p:sp>
          <p:nvSpPr>
            <p:cNvPr id="67" name="椭圆 29"/>
            <p:cNvSpPr/>
            <p:nvPr/>
          </p:nvSpPr>
          <p:spPr>
            <a:xfrm>
              <a:off x="6618240" y="4064040"/>
              <a:ext cx="1266840" cy="126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e5e5e5"/>
                </a:gs>
              </a:gsLst>
              <a:lin ang="5400000"/>
            </a:gra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30"/>
            <p:cNvSpPr/>
            <p:nvPr/>
          </p:nvSpPr>
          <p:spPr>
            <a:xfrm>
              <a:off x="6747120" y="4192920"/>
              <a:ext cx="1009080" cy="100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7"/>
          <p:cNvGrpSpPr/>
          <p:nvPr/>
        </p:nvGrpSpPr>
        <p:grpSpPr>
          <a:xfrm>
            <a:off x="5311800" y="4459320"/>
            <a:ext cx="409680" cy="412560"/>
            <a:chOff x="5311800" y="4459320"/>
            <a:chExt cx="409680" cy="412560"/>
          </a:xfrm>
        </p:grpSpPr>
        <p:sp>
          <p:nvSpPr>
            <p:cNvPr id="70" name="矩形 9"/>
            <p:cNvSpPr/>
            <p:nvPr/>
          </p:nvSpPr>
          <p:spPr>
            <a:xfrm>
              <a:off x="5311800" y="4496400"/>
              <a:ext cx="118800" cy="119160"/>
            </a:xfrm>
            <a:prstGeom prst="rect">
              <a:avLst/>
            </a:prstGeom>
            <a:solidFill>
              <a:srgbClr val="f5872f"/>
            </a:solidFill>
            <a:ln w="144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5437440" y="4496400"/>
              <a:ext cx="118800" cy="119160"/>
            </a:xfrm>
            <a:prstGeom prst="rect">
              <a:avLst/>
            </a:prstGeom>
            <a:solidFill>
              <a:srgbClr val="f5872f"/>
            </a:solidFill>
            <a:ln w="144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33"/>
            <p:cNvSpPr/>
            <p:nvPr/>
          </p:nvSpPr>
          <p:spPr>
            <a:xfrm>
              <a:off x="5602680" y="4459320"/>
              <a:ext cx="118800" cy="119160"/>
            </a:xfrm>
            <a:prstGeom prst="rect">
              <a:avLst/>
            </a:prstGeom>
            <a:solidFill>
              <a:srgbClr val="f5872f"/>
            </a:solidFill>
            <a:ln w="144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1"/>
            <p:cNvGrpSpPr/>
            <p:nvPr/>
          </p:nvGrpSpPr>
          <p:grpSpPr>
            <a:xfrm>
              <a:off x="5311800" y="4624560"/>
              <a:ext cx="372600" cy="119160"/>
              <a:chOff x="5311800" y="4624560"/>
              <a:chExt cx="372600" cy="119160"/>
            </a:xfrm>
          </p:grpSpPr>
          <p:sp>
            <p:nvSpPr>
              <p:cNvPr id="74" name="矩形 36"/>
              <p:cNvSpPr/>
              <p:nvPr/>
            </p:nvSpPr>
            <p:spPr>
              <a:xfrm>
                <a:off x="5311800" y="4624560"/>
                <a:ext cx="118800" cy="119160"/>
              </a:xfrm>
              <a:prstGeom prst="rect">
                <a:avLst/>
              </a:prstGeom>
              <a:solidFill>
                <a:srgbClr val="f5872f"/>
              </a:solidFill>
              <a:ln w="1440">
                <a:solidFill>
                  <a:srgbClr val="f2f2f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矩形 37"/>
              <p:cNvSpPr/>
              <p:nvPr/>
            </p:nvSpPr>
            <p:spPr>
              <a:xfrm>
                <a:off x="5437440" y="4624560"/>
                <a:ext cx="118800" cy="119160"/>
              </a:xfrm>
              <a:prstGeom prst="rect">
                <a:avLst/>
              </a:prstGeom>
              <a:solidFill>
                <a:srgbClr val="f5872f"/>
              </a:solidFill>
              <a:ln w="1440">
                <a:solidFill>
                  <a:srgbClr val="f2f2f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38"/>
              <p:cNvSpPr/>
              <p:nvPr/>
            </p:nvSpPr>
            <p:spPr>
              <a:xfrm>
                <a:off x="5565600" y="4624560"/>
                <a:ext cx="118800" cy="119160"/>
              </a:xfrm>
              <a:prstGeom prst="rect">
                <a:avLst/>
              </a:prstGeom>
              <a:solidFill>
                <a:srgbClr val="f5872f"/>
              </a:solidFill>
              <a:ln w="1440">
                <a:solidFill>
                  <a:srgbClr val="f2f2f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25"/>
            <p:cNvGrpSpPr/>
            <p:nvPr/>
          </p:nvGrpSpPr>
          <p:grpSpPr>
            <a:xfrm>
              <a:off x="5311800" y="4752720"/>
              <a:ext cx="372600" cy="119160"/>
              <a:chOff x="5311800" y="4752720"/>
              <a:chExt cx="372600" cy="119160"/>
            </a:xfrm>
          </p:grpSpPr>
          <p:sp>
            <p:nvSpPr>
              <p:cNvPr id="78" name="矩形 40"/>
              <p:cNvSpPr/>
              <p:nvPr/>
            </p:nvSpPr>
            <p:spPr>
              <a:xfrm>
                <a:off x="5311800" y="4752720"/>
                <a:ext cx="118800" cy="119160"/>
              </a:xfrm>
              <a:prstGeom prst="rect">
                <a:avLst/>
              </a:prstGeom>
              <a:solidFill>
                <a:srgbClr val="f5872f"/>
              </a:solidFill>
              <a:ln w="1440">
                <a:solidFill>
                  <a:srgbClr val="f2f2f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矩形 41"/>
              <p:cNvSpPr/>
              <p:nvPr/>
            </p:nvSpPr>
            <p:spPr>
              <a:xfrm>
                <a:off x="5437440" y="4752720"/>
                <a:ext cx="118800" cy="119160"/>
              </a:xfrm>
              <a:prstGeom prst="rect">
                <a:avLst/>
              </a:prstGeom>
              <a:solidFill>
                <a:srgbClr val="f5872f"/>
              </a:solidFill>
              <a:ln w="1440">
                <a:solidFill>
                  <a:srgbClr val="f2f2f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42"/>
              <p:cNvSpPr/>
              <p:nvPr/>
            </p:nvSpPr>
            <p:spPr>
              <a:xfrm>
                <a:off x="5565600" y="4752720"/>
                <a:ext cx="118800" cy="119160"/>
              </a:xfrm>
              <a:prstGeom prst="rect">
                <a:avLst/>
              </a:prstGeom>
              <a:solidFill>
                <a:srgbClr val="f5872f"/>
              </a:solidFill>
              <a:ln w="1440">
                <a:solidFill>
                  <a:srgbClr val="f2f2f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" name="Group 29"/>
          <p:cNvGrpSpPr/>
          <p:nvPr/>
        </p:nvGrpSpPr>
        <p:grpSpPr>
          <a:xfrm>
            <a:off x="1744560" y="4459320"/>
            <a:ext cx="522360" cy="482400"/>
            <a:chOff x="1744560" y="4459320"/>
            <a:chExt cx="522360" cy="482400"/>
          </a:xfrm>
        </p:grpSpPr>
        <p:sp>
          <p:nvSpPr>
            <p:cNvPr id="82" name="圆角矩形 12"/>
            <p:cNvSpPr/>
            <p:nvPr/>
          </p:nvSpPr>
          <p:spPr>
            <a:xfrm>
              <a:off x="1744560" y="4459320"/>
              <a:ext cx="522360" cy="482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0a6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 50"/>
            <p:cNvSpPr/>
            <p:nvPr/>
          </p:nvSpPr>
          <p:spPr>
            <a:xfrm>
              <a:off x="1789560" y="4500720"/>
              <a:ext cx="429840" cy="396720"/>
            </a:xfrm>
            <a:prstGeom prst="roundRect">
              <a:avLst>
                <a:gd name="adj" fmla="val 16667"/>
              </a:avLst>
            </a:prstGeom>
            <a:solidFill>
              <a:srgbClr val="50a6e5"/>
            </a:solidFill>
            <a:ln w="25560">
              <a:solidFill>
                <a:srgbClr val="50a6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五角星 34"/>
            <p:cNvSpPr/>
            <p:nvPr/>
          </p:nvSpPr>
          <p:spPr>
            <a:xfrm>
              <a:off x="1861920" y="4541760"/>
              <a:ext cx="287280" cy="287280"/>
            </a:xfrm>
            <a:custGeom>
              <a:avLst/>
              <a:gdLst/>
              <a:ahLst/>
              <a:rect l="l" t="t" r="r" b="b"/>
              <a:pathLst>
                <a:path w="287130" h="286820">
                  <a:moveTo>
                    <a:pt x="0" y="109555"/>
                  </a:moveTo>
                  <a:lnTo>
                    <a:pt x="109675" y="109556"/>
                  </a:lnTo>
                  <a:lnTo>
                    <a:pt x="143565" y="0"/>
                  </a:lnTo>
                  <a:lnTo>
                    <a:pt x="177455" y="109556"/>
                  </a:lnTo>
                  <a:lnTo>
                    <a:pt x="287130" y="109555"/>
                  </a:lnTo>
                  <a:lnTo>
                    <a:pt x="198401" y="177264"/>
                  </a:lnTo>
                  <a:lnTo>
                    <a:pt x="232293" y="286819"/>
                  </a:lnTo>
                  <a:lnTo>
                    <a:pt x="143565" y="219109"/>
                  </a:lnTo>
                  <a:lnTo>
                    <a:pt x="54837" y="286819"/>
                  </a:lnTo>
                  <a:lnTo>
                    <a:pt x="88729" y="177264"/>
                  </a:lnTo>
                  <a:lnTo>
                    <a:pt x="0" y="1095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3"/>
          <p:cNvGrpSpPr/>
          <p:nvPr/>
        </p:nvGrpSpPr>
        <p:grpSpPr>
          <a:xfrm>
            <a:off x="3448080" y="4459320"/>
            <a:ext cx="600120" cy="482400"/>
            <a:chOff x="3448080" y="4459320"/>
            <a:chExt cx="600120" cy="482400"/>
          </a:xfrm>
        </p:grpSpPr>
        <p:sp>
          <p:nvSpPr>
            <p:cNvPr id="86" name="圆角矩形 53"/>
            <p:cNvSpPr/>
            <p:nvPr/>
          </p:nvSpPr>
          <p:spPr>
            <a:xfrm>
              <a:off x="3448080" y="4459320"/>
              <a:ext cx="600120" cy="482400"/>
            </a:xfrm>
            <a:prstGeom prst="roundRect">
              <a:avLst>
                <a:gd name="adj" fmla="val 16667"/>
              </a:avLst>
            </a:prstGeom>
            <a:solidFill>
              <a:srgbClr val="9dd8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圆角矩形 55"/>
            <p:cNvSpPr/>
            <p:nvPr/>
          </p:nvSpPr>
          <p:spPr>
            <a:xfrm>
              <a:off x="3534480" y="4683600"/>
              <a:ext cx="432000" cy="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圆角矩形 56"/>
            <p:cNvSpPr/>
            <p:nvPr/>
          </p:nvSpPr>
          <p:spPr>
            <a:xfrm>
              <a:off x="3813120" y="4804560"/>
              <a:ext cx="153360" cy="5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圆角矩形 57"/>
            <p:cNvSpPr/>
            <p:nvPr/>
          </p:nvSpPr>
          <p:spPr>
            <a:xfrm>
              <a:off x="3534480" y="4549680"/>
              <a:ext cx="432000" cy="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6875280" y="4323240"/>
            <a:ext cx="794520" cy="795240"/>
            <a:chOff x="6875280" y="4323240"/>
            <a:chExt cx="794520" cy="795240"/>
          </a:xfrm>
        </p:grpSpPr>
        <p:pic>
          <p:nvPicPr>
            <p:cNvPr id="91" name="Picture 6" descr=""/>
            <p:cNvPicPr/>
            <p:nvPr/>
          </p:nvPicPr>
          <p:blipFill>
            <a:blip r:embed="rId3"/>
            <a:srcRect l="-12709" t="22196" r="0" b="0"/>
            <a:stretch/>
          </p:blipFill>
          <p:spPr>
            <a:xfrm rot="15054600">
              <a:off x="6997320" y="4485960"/>
              <a:ext cx="67932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"/>
            <p:cNvPicPr/>
            <p:nvPr/>
          </p:nvPicPr>
          <p:blipFill>
            <a:blip r:embed="rId4"/>
            <a:srcRect l="0" t="0" r="0" b="76551"/>
            <a:stretch/>
          </p:blipFill>
          <p:spPr>
            <a:xfrm rot="15054600">
              <a:off x="6738840" y="4713480"/>
              <a:ext cx="602640" cy="1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54"/>
          <p:cNvSpPr/>
          <p:nvPr/>
        </p:nvSpPr>
        <p:spPr>
          <a:xfrm>
            <a:off x="4000680" y="18194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方正兰亭黑_YS_GB18030"/>
                <a:ea typeface="方正兰亭黑_YS_GB18030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8"/>
          <p:cNvSpPr/>
          <p:nvPr/>
        </p:nvSpPr>
        <p:spPr>
          <a:xfrm>
            <a:off x="4027320" y="2235240"/>
            <a:ext cx="149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1103400" y="5805360"/>
            <a:ext cx="7056360" cy="19080"/>
            <a:chOff x="1103400" y="5805360"/>
            <a:chExt cx="7056360" cy="19080"/>
          </a:xfrm>
        </p:grpSpPr>
        <p:sp>
          <p:nvSpPr>
            <p:cNvPr id="96" name="直接连接符 61"/>
            <p:cNvSpPr/>
            <p:nvPr/>
          </p:nvSpPr>
          <p:spPr>
            <a:xfrm>
              <a:off x="1103400" y="5805360"/>
              <a:ext cx="7056360" cy="0"/>
            </a:xfrm>
            <a:prstGeom prst="line">
              <a:avLst/>
            </a:prstGeom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68"/>
            <p:cNvSpPr/>
            <p:nvPr/>
          </p:nvSpPr>
          <p:spPr>
            <a:xfrm>
              <a:off x="1103400" y="5824440"/>
              <a:ext cx="7056360" cy="0"/>
            </a:xfrm>
            <a:prstGeom prst="line">
              <a:avLst/>
            </a:prstGeom>
            <a:ln w="1260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64"/>
          <p:cNvSpPr/>
          <p:nvPr/>
        </p:nvSpPr>
        <p:spPr>
          <a:xfrm>
            <a:off x="1657440" y="546588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TIT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2"/>
          <p:cNvSpPr/>
          <p:nvPr/>
        </p:nvSpPr>
        <p:spPr>
          <a:xfrm>
            <a:off x="3427560" y="545796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TIT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3"/>
          <p:cNvSpPr/>
          <p:nvPr/>
        </p:nvSpPr>
        <p:spPr>
          <a:xfrm>
            <a:off x="5197320" y="545796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TIT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6966000" y="5457960"/>
            <a:ext cx="91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TIT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4AE2-6F14-4EFB-AAF3-3A31461725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2065"/>
          <p:cNvSpPr/>
          <p:nvPr/>
        </p:nvSpPr>
        <p:spPr>
          <a:xfrm>
            <a:off x="1335240" y="0"/>
            <a:ext cx="7881840" cy="6923160"/>
          </a:xfrm>
          <a:custGeom>
            <a:avLst/>
            <a:gdLst>
              <a:gd name="textAreaLeft" fmla="*/ 0 w 7881840"/>
              <a:gd name="textAreaRight" fmla="*/ 7882200 w 7881840"/>
              <a:gd name="textAreaTop" fmla="*/ 0 h 6923160"/>
              <a:gd name="textAreaBottom" fmla="*/ 6923520 h 6923160"/>
            </a:gdLst>
            <a:ahLst/>
            <a:rect l="textAreaLeft" t="textAreaTop" r="textAreaRight" b="textAreaBottom"/>
            <a:pathLst>
              <a:path w="7881258" h="6923314">
                <a:moveTo>
                  <a:pt x="7881258" y="0"/>
                </a:moveTo>
                <a:lnTo>
                  <a:pt x="3439886" y="14514"/>
                </a:lnTo>
                <a:lnTo>
                  <a:pt x="0" y="6923314"/>
                </a:lnTo>
                <a:lnTo>
                  <a:pt x="7852229" y="6865257"/>
                </a:lnTo>
                <a:lnTo>
                  <a:pt x="788125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2067"/>
          <p:cNvSpPr/>
          <p:nvPr/>
        </p:nvSpPr>
        <p:spPr>
          <a:xfrm>
            <a:off x="-41400" y="0"/>
            <a:ext cx="4830840" cy="6923160"/>
          </a:xfrm>
          <a:custGeom>
            <a:avLst/>
            <a:gdLst>
              <a:gd name="textAreaLeft" fmla="*/ 0 w 4830840"/>
              <a:gd name="textAreaRight" fmla="*/ 4831200 w 4830840"/>
              <a:gd name="textAreaTop" fmla="*/ 0 h 6923160"/>
              <a:gd name="textAreaBottom" fmla="*/ 6923520 h 6923160"/>
            </a:gdLst>
            <a:ahLst/>
            <a:rect l="textAreaLeft" t="textAreaTop" r="textAreaRight" b="textAreaBottom"/>
            <a:pathLst>
              <a:path w="4833257" h="6923314">
                <a:moveTo>
                  <a:pt x="29029" y="0"/>
                </a:moveTo>
                <a:lnTo>
                  <a:pt x="4833257" y="14514"/>
                </a:lnTo>
                <a:lnTo>
                  <a:pt x="1364343" y="6923314"/>
                </a:lnTo>
                <a:lnTo>
                  <a:pt x="0" y="6908800"/>
                </a:lnTo>
                <a:lnTo>
                  <a:pt x="29029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30"/>
          <p:cNvSpPr/>
          <p:nvPr/>
        </p:nvSpPr>
        <p:spPr>
          <a:xfrm>
            <a:off x="-7920" y="3178080"/>
            <a:ext cx="5191200" cy="2160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44"/>
          <p:cNvSpPr/>
          <p:nvPr/>
        </p:nvSpPr>
        <p:spPr>
          <a:xfrm>
            <a:off x="-12600" y="3625920"/>
            <a:ext cx="5191200" cy="216000"/>
          </a:xfrm>
          <a:prstGeom prst="roundRect">
            <a:avLst>
              <a:gd name="adj" fmla="val 16667"/>
            </a:avLst>
          </a:prstGeom>
          <a:solidFill>
            <a:srgbClr val="e45a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45"/>
          <p:cNvSpPr/>
          <p:nvPr/>
        </p:nvSpPr>
        <p:spPr>
          <a:xfrm>
            <a:off x="-14400" y="4043520"/>
            <a:ext cx="5191200" cy="2156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47"/>
          <p:cNvSpPr/>
          <p:nvPr/>
        </p:nvSpPr>
        <p:spPr>
          <a:xfrm>
            <a:off x="5432400" y="4043520"/>
            <a:ext cx="3767040" cy="2156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35640" y="-1754280"/>
            <a:ext cx="2736720" cy="10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400" spc="-1" strike="noStrike">
                <a:solidFill>
                  <a:srgbClr val="7f7f7f"/>
                </a:solidFill>
                <a:latin typeface="Calibri"/>
              </a:rPr>
              <a:t>1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9"/>
          <p:cNvGrpSpPr/>
          <p:nvPr/>
        </p:nvGrpSpPr>
        <p:grpSpPr>
          <a:xfrm>
            <a:off x="2987640" y="3500280"/>
            <a:ext cx="5327640" cy="2629080"/>
            <a:chOff x="2987640" y="3500280"/>
            <a:chExt cx="5327640" cy="2629080"/>
          </a:xfrm>
        </p:grpSpPr>
        <p:sp>
          <p:nvSpPr>
            <p:cNvPr id="111" name="圆角矩形 26"/>
            <p:cNvSpPr/>
            <p:nvPr/>
          </p:nvSpPr>
          <p:spPr>
            <a:xfrm>
              <a:off x="2987640" y="3500280"/>
              <a:ext cx="5327640" cy="262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f3f3f"/>
                </a:gs>
                <a:gs pos="100000">
                  <a:srgbClr val="595959"/>
                </a:gs>
              </a:gsLst>
              <a:lin ang="16200000"/>
            </a:gra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9"/>
            <p:cNvSpPr/>
            <p:nvPr/>
          </p:nvSpPr>
          <p:spPr>
            <a:xfrm>
              <a:off x="3203640" y="3731040"/>
              <a:ext cx="2261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-506520" y="-2297160"/>
            <a:ext cx="4453200" cy="10974960"/>
            <a:chOff x="-506520" y="-2297160"/>
            <a:chExt cx="4453200" cy="10974960"/>
          </a:xfrm>
        </p:grpSpPr>
        <p:sp>
          <p:nvSpPr>
            <p:cNvPr id="114" name="TextBox 11"/>
            <p:cNvSpPr/>
            <p:nvPr/>
          </p:nvSpPr>
          <p:spPr>
            <a:xfrm>
              <a:off x="-506520" y="-2297160"/>
              <a:ext cx="3392280" cy="109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1400" spc="-1" strike="noStrike">
                  <a:solidFill>
                    <a:srgbClr val="eeece1"/>
                  </a:solidFill>
                  <a:latin typeface="Calibri"/>
                </a:rPr>
                <a:t>2</a:t>
              </a:r>
              <a:endParaRPr b="0" lang="en-US" sz="7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13"/>
            <p:cNvSpPr/>
            <p:nvPr/>
          </p:nvSpPr>
          <p:spPr>
            <a:xfrm>
              <a:off x="1411560" y="2191680"/>
              <a:ext cx="1570320" cy="1460880"/>
            </a:xfrm>
            <a:prstGeom prst="ellipse">
              <a:avLst/>
            </a:prstGeom>
            <a:solidFill>
              <a:srgbClr val="eeece1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14"/>
            <p:cNvSpPr/>
            <p:nvPr/>
          </p:nvSpPr>
          <p:spPr>
            <a:xfrm>
              <a:off x="2288880" y="1475640"/>
              <a:ext cx="1005480" cy="934920"/>
            </a:xfrm>
            <a:prstGeom prst="ellipse">
              <a:avLst/>
            </a:prstGeom>
            <a:solidFill>
              <a:srgbClr val="eeece1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15"/>
            <p:cNvSpPr/>
            <p:nvPr/>
          </p:nvSpPr>
          <p:spPr>
            <a:xfrm>
              <a:off x="404280" y="4599720"/>
              <a:ext cx="1570320" cy="1460880"/>
            </a:xfrm>
            <a:prstGeom prst="ellipse">
              <a:avLst/>
            </a:prstGeom>
            <a:solidFill>
              <a:srgbClr val="eeece1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7"/>
            <p:cNvSpPr/>
            <p:nvPr/>
          </p:nvSpPr>
          <p:spPr>
            <a:xfrm>
              <a:off x="104760" y="284040"/>
              <a:ext cx="942120" cy="951120"/>
            </a:xfrm>
            <a:prstGeom prst="ellipse">
              <a:avLst/>
            </a:prstGeom>
            <a:solidFill>
              <a:srgbClr val="eeece1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18"/>
            <p:cNvSpPr/>
            <p:nvPr/>
          </p:nvSpPr>
          <p:spPr>
            <a:xfrm>
              <a:off x="2690280" y="2574720"/>
              <a:ext cx="1256400" cy="951120"/>
            </a:xfrm>
            <a:prstGeom prst="ellipse">
              <a:avLst/>
            </a:prstGeom>
            <a:solidFill>
              <a:srgbClr val="eeece1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椭圆 63"/>
          <p:cNvSpPr/>
          <p:nvPr/>
        </p:nvSpPr>
        <p:spPr>
          <a:xfrm>
            <a:off x="2195640" y="2921040"/>
            <a:ext cx="392040" cy="365040"/>
          </a:xfrm>
          <a:prstGeom prst="ellipse">
            <a:avLst/>
          </a:prstGeom>
          <a:solidFill>
            <a:srgbClr val="eeece1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50"/>
          <p:cNvSpPr/>
          <p:nvPr/>
        </p:nvSpPr>
        <p:spPr>
          <a:xfrm>
            <a:off x="2124000" y="3286080"/>
            <a:ext cx="6504120" cy="2772000"/>
          </a:xfrm>
          <a:prstGeom prst="roundRect">
            <a:avLst>
              <a:gd name="adj" fmla="val 4028"/>
            </a:avLst>
          </a:prstGeom>
          <a:solidFill>
            <a:srgbClr val="d8d8d8"/>
          </a:solidFill>
          <a:ln w="1260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2"/>
          <p:cNvSpPr/>
          <p:nvPr/>
        </p:nvSpPr>
        <p:spPr>
          <a:xfrm>
            <a:off x="2392200" y="3462480"/>
            <a:ext cx="226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5a78"/>
                </a:solidFill>
                <a:latin typeface="Arial Unicode MS"/>
                <a:ea typeface="Arial Unicode MS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64"/>
          <p:cNvSpPr/>
          <p:nvPr/>
        </p:nvSpPr>
        <p:spPr>
          <a:xfrm>
            <a:off x="2217600" y="2093760"/>
            <a:ext cx="1006560" cy="935280"/>
          </a:xfrm>
          <a:prstGeom prst="ellipse">
            <a:avLst/>
          </a:prstGeom>
          <a:solidFill>
            <a:srgbClr val="eeece1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6934320" y="1214280"/>
            <a:ext cx="1944720" cy="1944720"/>
            <a:chOff x="6934320" y="1214280"/>
            <a:chExt cx="1944720" cy="1944720"/>
          </a:xfrm>
        </p:grpSpPr>
        <p:sp>
          <p:nvSpPr>
            <p:cNvPr id="125" name="椭圆 66"/>
            <p:cNvSpPr/>
            <p:nvPr/>
          </p:nvSpPr>
          <p:spPr>
            <a:xfrm>
              <a:off x="6934320" y="1214280"/>
              <a:ext cx="1944720" cy="194472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67"/>
            <p:cNvSpPr/>
            <p:nvPr/>
          </p:nvSpPr>
          <p:spPr>
            <a:xfrm>
              <a:off x="7092360" y="1384920"/>
              <a:ext cx="1624320" cy="162432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68"/>
            <p:cNvSpPr/>
            <p:nvPr/>
          </p:nvSpPr>
          <p:spPr>
            <a:xfrm>
              <a:off x="7317360" y="2392920"/>
              <a:ext cx="294480" cy="29448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69"/>
            <p:cNvSpPr/>
            <p:nvPr/>
          </p:nvSpPr>
          <p:spPr>
            <a:xfrm>
              <a:off x="7180200" y="1494000"/>
              <a:ext cx="1446840" cy="144684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70"/>
            <p:cNvSpPr/>
            <p:nvPr/>
          </p:nvSpPr>
          <p:spPr>
            <a:xfrm>
              <a:off x="7173720" y="1487520"/>
              <a:ext cx="1456200" cy="1456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92200" y="5189400"/>
            <a:ext cx="576360" cy="576360"/>
            <a:chOff x="2392200" y="5189400"/>
            <a:chExt cx="576360" cy="576360"/>
          </a:xfrm>
        </p:grpSpPr>
        <p:sp>
          <p:nvSpPr>
            <p:cNvPr id="131" name="椭圆 73"/>
            <p:cNvSpPr/>
            <p:nvPr/>
          </p:nvSpPr>
          <p:spPr>
            <a:xfrm>
              <a:off x="2392200" y="51894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74"/>
            <p:cNvSpPr/>
            <p:nvPr/>
          </p:nvSpPr>
          <p:spPr>
            <a:xfrm>
              <a:off x="2439000" y="5239800"/>
              <a:ext cx="481320" cy="48132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75"/>
            <p:cNvSpPr/>
            <p:nvPr/>
          </p:nvSpPr>
          <p:spPr>
            <a:xfrm>
              <a:off x="2505600" y="5538600"/>
              <a:ext cx="87120" cy="8712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76"/>
            <p:cNvSpPr/>
            <p:nvPr/>
          </p:nvSpPr>
          <p:spPr>
            <a:xfrm>
              <a:off x="2464920" y="5272200"/>
              <a:ext cx="428760" cy="4287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77"/>
            <p:cNvSpPr/>
            <p:nvPr/>
          </p:nvSpPr>
          <p:spPr>
            <a:xfrm>
              <a:off x="2463120" y="5270400"/>
              <a:ext cx="431640" cy="43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5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圆角矩形 52"/>
          <p:cNvSpPr/>
          <p:nvPr/>
        </p:nvSpPr>
        <p:spPr>
          <a:xfrm>
            <a:off x="-31680" y="1413000"/>
            <a:ext cx="9142200" cy="2771640"/>
          </a:xfrm>
          <a:prstGeom prst="roundRect">
            <a:avLst>
              <a:gd name="adj" fmla="val 4028"/>
            </a:avLst>
          </a:prstGeom>
          <a:solidFill>
            <a:srgbClr val="d8d8d8"/>
          </a:solidFill>
          <a:ln w="1260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6083280" y="-1681200"/>
            <a:ext cx="2881440" cy="76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600" spc="-1" strike="noStrike">
                <a:solidFill>
                  <a:srgbClr val="e14b6b"/>
                </a:solidFill>
                <a:latin typeface="Calibri"/>
              </a:rPr>
              <a:t>3</a:t>
            </a:r>
            <a:endParaRPr b="0" lang="en-US" sz="4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289080" y="4508640"/>
            <a:ext cx="2800080" cy="2089080"/>
            <a:chOff x="289080" y="4508640"/>
            <a:chExt cx="2800080" cy="2089080"/>
          </a:xfrm>
        </p:grpSpPr>
        <p:sp>
          <p:nvSpPr>
            <p:cNvPr id="140" name="圆角矩形 30"/>
            <p:cNvSpPr/>
            <p:nvPr/>
          </p:nvSpPr>
          <p:spPr>
            <a:xfrm rot="16200000">
              <a:off x="1635120" y="5032800"/>
              <a:ext cx="108000" cy="2800080"/>
            </a:xfrm>
            <a:custGeom>
              <a:avLst/>
              <a:gdLst>
                <a:gd name="textAreaLeft" fmla="*/ 13320 w 108000"/>
                <a:gd name="textAreaRight" fmla="*/ 94680 w 108000"/>
                <a:gd name="textAreaTop" fmla="*/ 13320 h 2800080"/>
                <a:gd name="textAreaBottom" fmla="*/ 2786760 h 2800080"/>
              </a:gdLst>
              <a:ahLst/>
              <a:rect l="textAreaLeft" t="textAreaTop" r="textAreaRight" b="textAreaBottom"/>
              <a:pathLst>
                <a:path w="21600" h="558227">
                  <a:moveTo>
                    <a:pt x="9172" y="0"/>
                  </a:moveTo>
                  <a:arcTo wR="9172" hR="9172" stAng="16200000" swAng="-5400000"/>
                  <a:lnTo>
                    <a:pt x="0" y="549055"/>
                  </a:lnTo>
                  <a:arcTo wR="9172" hR="9172" stAng="10800000" swAng="-5400000"/>
                  <a:lnTo>
                    <a:pt x="12428" y="558227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c0b5bd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圆角矩形 31"/>
            <p:cNvSpPr/>
            <p:nvPr/>
          </p:nvSpPr>
          <p:spPr>
            <a:xfrm rot="16200000">
              <a:off x="1635120" y="4456800"/>
              <a:ext cx="108000" cy="2800080"/>
            </a:xfrm>
            <a:custGeom>
              <a:avLst/>
              <a:gdLst>
                <a:gd name="textAreaLeft" fmla="*/ 13320 w 108000"/>
                <a:gd name="textAreaRight" fmla="*/ 94680 w 108000"/>
                <a:gd name="textAreaTop" fmla="*/ 13320 h 2800080"/>
                <a:gd name="textAreaBottom" fmla="*/ 2786760 h 2800080"/>
              </a:gdLst>
              <a:ahLst/>
              <a:rect l="textAreaLeft" t="textAreaTop" r="textAreaRight" b="textAreaBottom"/>
              <a:pathLst>
                <a:path w="21600" h="558227">
                  <a:moveTo>
                    <a:pt x="9172" y="0"/>
                  </a:moveTo>
                  <a:arcTo wR="9172" hR="9172" stAng="16200000" swAng="-5400000"/>
                  <a:lnTo>
                    <a:pt x="0" y="549055"/>
                  </a:lnTo>
                  <a:arcTo wR="9172" hR="9172" stAng="10800000" swAng="-5400000"/>
                  <a:lnTo>
                    <a:pt x="12428" y="558227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c0b5bd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圆角矩形 32"/>
            <p:cNvSpPr/>
            <p:nvPr/>
          </p:nvSpPr>
          <p:spPr>
            <a:xfrm rot="16200000">
              <a:off x="1635120" y="3880440"/>
              <a:ext cx="108000" cy="2800080"/>
            </a:xfrm>
            <a:custGeom>
              <a:avLst/>
              <a:gdLst>
                <a:gd name="textAreaLeft" fmla="*/ 13320 w 108000"/>
                <a:gd name="textAreaRight" fmla="*/ 94680 w 108000"/>
                <a:gd name="textAreaTop" fmla="*/ 13320 h 2800080"/>
                <a:gd name="textAreaBottom" fmla="*/ 2786760 h 2800080"/>
              </a:gdLst>
              <a:ahLst/>
              <a:rect l="textAreaLeft" t="textAreaTop" r="textAreaRight" b="textAreaBottom"/>
              <a:pathLst>
                <a:path w="21600" h="558227">
                  <a:moveTo>
                    <a:pt x="9172" y="0"/>
                  </a:moveTo>
                  <a:arcTo wR="9172" hR="9172" stAng="16200000" swAng="-5400000"/>
                  <a:lnTo>
                    <a:pt x="0" y="549055"/>
                  </a:lnTo>
                  <a:arcTo wR="9172" hR="9172" stAng="10800000" swAng="-5400000"/>
                  <a:lnTo>
                    <a:pt x="12428" y="558227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c0b5bd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圆角矩形 33"/>
            <p:cNvSpPr/>
            <p:nvPr/>
          </p:nvSpPr>
          <p:spPr>
            <a:xfrm rot="16200000">
              <a:off x="1635120" y="3304440"/>
              <a:ext cx="108000" cy="2800080"/>
            </a:xfrm>
            <a:custGeom>
              <a:avLst/>
              <a:gdLst>
                <a:gd name="textAreaLeft" fmla="*/ 13320 w 108000"/>
                <a:gd name="textAreaRight" fmla="*/ 94680 w 108000"/>
                <a:gd name="textAreaTop" fmla="*/ 13320 h 2800080"/>
                <a:gd name="textAreaBottom" fmla="*/ 2786760 h 2800080"/>
              </a:gdLst>
              <a:ahLst/>
              <a:rect l="textAreaLeft" t="textAreaTop" r="textAreaRight" b="textAreaBottom"/>
              <a:pathLst>
                <a:path w="21600" h="558227">
                  <a:moveTo>
                    <a:pt x="9172" y="0"/>
                  </a:moveTo>
                  <a:arcTo wR="9172" hR="9172" stAng="16200000" swAng="-5400000"/>
                  <a:lnTo>
                    <a:pt x="0" y="549055"/>
                  </a:lnTo>
                  <a:arcTo wR="9172" hR="9172" stAng="10800000" swAng="-5400000"/>
                  <a:lnTo>
                    <a:pt x="12428" y="558227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c0b5bd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圆角矩形 34"/>
            <p:cNvSpPr/>
            <p:nvPr/>
          </p:nvSpPr>
          <p:spPr>
            <a:xfrm rot="16200000">
              <a:off x="1844280" y="3517200"/>
              <a:ext cx="111600" cy="2377800"/>
            </a:xfrm>
            <a:custGeom>
              <a:avLst/>
              <a:gdLst>
                <a:gd name="textAreaLeft" fmla="*/ 13680 w 111600"/>
                <a:gd name="textAreaRight" fmla="*/ 97920 w 111600"/>
                <a:gd name="textAreaTop" fmla="*/ 13680 h 2377800"/>
                <a:gd name="textAreaBottom" fmla="*/ 2364120 h 2377800"/>
              </a:gdLst>
              <a:ahLst/>
              <a:rect l="textAreaLeft" t="textAreaTop" r="textAreaRight" b="textAreaBottom"/>
              <a:pathLst>
                <a:path w="21600" h="458809">
                  <a:moveTo>
                    <a:pt x="9172" y="0"/>
                  </a:moveTo>
                  <a:arcTo wR="9172" hR="9172" stAng="16200000" swAng="-5400000"/>
                  <a:lnTo>
                    <a:pt x="0" y="449637"/>
                  </a:lnTo>
                  <a:arcTo wR="9172" hR="9172" stAng="10800000" swAng="-5400000"/>
                  <a:lnTo>
                    <a:pt x="12428" y="458809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0"/>
            <p:cNvGrpSpPr/>
            <p:nvPr/>
          </p:nvGrpSpPr>
          <p:grpSpPr>
            <a:xfrm>
              <a:off x="612000" y="4508640"/>
              <a:ext cx="362520" cy="362520"/>
              <a:chOff x="612000" y="4508640"/>
              <a:chExt cx="362520" cy="362520"/>
            </a:xfrm>
          </p:grpSpPr>
          <p:sp>
            <p:nvSpPr>
              <p:cNvPr id="146" name="椭圆 48"/>
              <p:cNvSpPr/>
              <p:nvPr/>
            </p:nvSpPr>
            <p:spPr>
              <a:xfrm>
                <a:off x="612000" y="4508640"/>
                <a:ext cx="362520" cy="362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椭圆 49"/>
              <p:cNvSpPr/>
              <p:nvPr/>
            </p:nvSpPr>
            <p:spPr>
              <a:xfrm>
                <a:off x="702360" y="4593960"/>
                <a:ext cx="181440" cy="18144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圆角矩形 36"/>
            <p:cNvSpPr/>
            <p:nvPr/>
          </p:nvSpPr>
          <p:spPr>
            <a:xfrm rot="16200000">
              <a:off x="2439000" y="4687920"/>
              <a:ext cx="111600" cy="1188720"/>
            </a:xfrm>
            <a:custGeom>
              <a:avLst/>
              <a:gdLst>
                <a:gd name="textAreaLeft" fmla="*/ 13680 w 111600"/>
                <a:gd name="textAreaRight" fmla="*/ 97920 w 111600"/>
                <a:gd name="textAreaTop" fmla="*/ 13680 h 1188720"/>
                <a:gd name="textAreaBottom" fmla="*/ 1175040 h 1188720"/>
              </a:gdLst>
              <a:ahLst/>
              <a:rect l="textAreaLeft" t="textAreaTop" r="textAreaRight" b="textAreaBottom"/>
              <a:pathLst>
                <a:path w="21600" h="229405">
                  <a:moveTo>
                    <a:pt x="9172" y="0"/>
                  </a:moveTo>
                  <a:arcTo wR="9172" hR="9172" stAng="16200000" swAng="-5400000"/>
                  <a:lnTo>
                    <a:pt x="0" y="220233"/>
                  </a:lnTo>
                  <a:arcTo wR="9172" hR="9172" stAng="10800000" swAng="-5400000"/>
                  <a:lnTo>
                    <a:pt x="12428" y="229405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圆角矩形 37"/>
            <p:cNvSpPr/>
            <p:nvPr/>
          </p:nvSpPr>
          <p:spPr>
            <a:xfrm rot="16200000">
              <a:off x="2024280" y="4855320"/>
              <a:ext cx="111600" cy="2017800"/>
            </a:xfrm>
            <a:custGeom>
              <a:avLst/>
              <a:gdLst>
                <a:gd name="textAreaLeft" fmla="*/ 13680 w 111600"/>
                <a:gd name="textAreaRight" fmla="*/ 97920 w 111600"/>
                <a:gd name="textAreaTop" fmla="*/ 13680 h 2017800"/>
                <a:gd name="textAreaBottom" fmla="*/ 2004120 h 2017800"/>
              </a:gdLst>
              <a:ahLst/>
              <a:rect l="textAreaLeft" t="textAreaTop" r="textAreaRight" b="textAreaBottom"/>
              <a:pathLst>
                <a:path w="21600" h="389356">
                  <a:moveTo>
                    <a:pt x="9172" y="0"/>
                  </a:moveTo>
                  <a:arcTo wR="9172" hR="9172" stAng="16200000" swAng="-5400000"/>
                  <a:lnTo>
                    <a:pt x="0" y="380184"/>
                  </a:lnTo>
                  <a:arcTo wR="9172" hR="9172" stAng="10800000" swAng="-5400000"/>
                  <a:lnTo>
                    <a:pt x="12428" y="389356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38"/>
            <p:cNvSpPr/>
            <p:nvPr/>
          </p:nvSpPr>
          <p:spPr>
            <a:xfrm rot="16200000">
              <a:off x="2342880" y="5740560"/>
              <a:ext cx="111600" cy="1380600"/>
            </a:xfrm>
            <a:custGeom>
              <a:avLst/>
              <a:gdLst>
                <a:gd name="textAreaLeft" fmla="*/ 13680 w 111600"/>
                <a:gd name="textAreaRight" fmla="*/ 97920 w 111600"/>
                <a:gd name="textAreaTop" fmla="*/ 13680 h 1380600"/>
                <a:gd name="textAreaBottom" fmla="*/ 1366920 h 1380600"/>
              </a:gdLst>
              <a:ahLst/>
              <a:rect l="textAreaLeft" t="textAreaTop" r="textAreaRight" b="textAreaBottom"/>
              <a:pathLst>
                <a:path w="21600" h="266423">
                  <a:moveTo>
                    <a:pt x="9172" y="0"/>
                  </a:moveTo>
                  <a:arcTo wR="9172" hR="9172" stAng="16200000" swAng="-5400000"/>
                  <a:lnTo>
                    <a:pt x="0" y="257251"/>
                  </a:lnTo>
                  <a:arcTo wR="9172" hR="9172" stAng="10800000" swAng="-5400000"/>
                  <a:lnTo>
                    <a:pt x="12428" y="266423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16"/>
            <p:cNvGrpSpPr/>
            <p:nvPr/>
          </p:nvGrpSpPr>
          <p:grpSpPr>
            <a:xfrm>
              <a:off x="1719000" y="5077800"/>
              <a:ext cx="362520" cy="362520"/>
              <a:chOff x="1719000" y="5077800"/>
              <a:chExt cx="362520" cy="362520"/>
            </a:xfrm>
          </p:grpSpPr>
          <p:sp>
            <p:nvSpPr>
              <p:cNvPr id="152" name="椭圆 46"/>
              <p:cNvSpPr/>
              <p:nvPr/>
            </p:nvSpPr>
            <p:spPr>
              <a:xfrm>
                <a:off x="1719000" y="5077800"/>
                <a:ext cx="362520" cy="362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47"/>
              <p:cNvSpPr/>
              <p:nvPr/>
            </p:nvSpPr>
            <p:spPr>
              <a:xfrm>
                <a:off x="1809360" y="5163120"/>
                <a:ext cx="181440" cy="18144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9"/>
            <p:cNvGrpSpPr/>
            <p:nvPr/>
          </p:nvGrpSpPr>
          <p:grpSpPr>
            <a:xfrm>
              <a:off x="868680" y="5652000"/>
              <a:ext cx="362520" cy="362520"/>
              <a:chOff x="868680" y="5652000"/>
              <a:chExt cx="362520" cy="362520"/>
            </a:xfrm>
          </p:grpSpPr>
          <p:sp>
            <p:nvSpPr>
              <p:cNvPr id="155" name="椭圆 44"/>
              <p:cNvSpPr/>
              <p:nvPr/>
            </p:nvSpPr>
            <p:spPr>
              <a:xfrm>
                <a:off x="868680" y="5652000"/>
                <a:ext cx="362520" cy="362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45"/>
              <p:cNvSpPr/>
              <p:nvPr/>
            </p:nvSpPr>
            <p:spPr>
              <a:xfrm>
                <a:off x="959040" y="5737320"/>
                <a:ext cx="181440" cy="18144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22"/>
            <p:cNvGrpSpPr/>
            <p:nvPr/>
          </p:nvGrpSpPr>
          <p:grpSpPr>
            <a:xfrm>
              <a:off x="1537560" y="6235200"/>
              <a:ext cx="362520" cy="362520"/>
              <a:chOff x="1537560" y="6235200"/>
              <a:chExt cx="362520" cy="362520"/>
            </a:xfrm>
          </p:grpSpPr>
          <p:sp>
            <p:nvSpPr>
              <p:cNvPr id="158" name="椭圆 42"/>
              <p:cNvSpPr/>
              <p:nvPr/>
            </p:nvSpPr>
            <p:spPr>
              <a:xfrm>
                <a:off x="1537560" y="6235200"/>
                <a:ext cx="362520" cy="362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椭圆 43"/>
              <p:cNvSpPr/>
              <p:nvPr/>
            </p:nvSpPr>
            <p:spPr>
              <a:xfrm>
                <a:off x="1627920" y="6320520"/>
                <a:ext cx="181440" cy="18144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7:15:00Z</dcterms:created>
  <dc:creator>微软用户</dc:creator>
  <dc:description/>
  <cp:keywords/>
  <dc:language>en-US</dc:language>
  <cp:lastModifiedBy>yu wang</cp:lastModifiedBy>
  <dcterms:modified xsi:type="dcterms:W3CDTF">2015-08-14T12:49:11Z</dcterms:modified>
  <cp:revision>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