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768-1B10-4390-B96D-F3247253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449-1B87-4541-86F4-7693E920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A82-4722-400C-81C1-C99049EA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6D2-012C-401C-ABFB-C1647EA7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C98-3DDF-4347-8896-F16E9212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9ED-FF96-4069-8552-6CC2E836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5F4-C236-4FB7-A339-A4DAF0F3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4EF-4EE4-4B48-842F-74875CC4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4BF-481C-4BDF-9855-36F1DCEE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359-0289-4804-B85D-422EB67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D41-2C81-4141-BC84-869A369E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885-36DA-47B4-906A-6887693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D8BA-6F46-4302-9D6B-3E0D2CCC4C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幻灯封面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ce7d7"/>
            </a:outerShdw>
          </a:effectLst>
        </p:spPr>
      </p:pic>
      <p:sp>
        <p:nvSpPr>
          <p:cNvPr id="42" name="Text Box 3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946840" y="3260520"/>
            <a:ext cx="546120" cy="27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52280" y="25560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迷你繁智楷"/>
              </a:rPr>
              <a:t>古典汉语言文学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迷你繁智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迷你繁智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39723_QWPEJYA4ikvK"/>
          <p:cNvPicPr/>
          <p:nvPr/>
        </p:nvPicPr>
        <p:blipFill>
          <a:blip r:embed="rId1"/>
          <a:srcRect l="9307" t="39004" r="50857" b="29995"/>
          <a:stretch/>
        </p:blipFill>
        <p:spPr>
          <a:xfrm>
            <a:off x="4191120" y="4495680"/>
            <a:ext cx="303516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439723_QWPEJYA4ikvK"/>
          <p:cNvPicPr/>
          <p:nvPr/>
        </p:nvPicPr>
        <p:blipFill>
          <a:blip r:embed="rId2"/>
          <a:srcRect l="4016" t="0" r="52001" b="12992"/>
          <a:stretch/>
        </p:blipFill>
        <p:spPr>
          <a:xfrm>
            <a:off x="5792760" y="304920"/>
            <a:ext cx="3351240" cy="6629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幻灯封面no2"/>
          <p:cNvPicPr/>
          <p:nvPr/>
        </p:nvPicPr>
        <p:blipFill>
          <a:blip r:embed="rId3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434680" y="1219320"/>
            <a:ext cx="1410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内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之一二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439723_QWPEJYA4ikvK"/>
          <p:cNvPicPr/>
          <p:nvPr/>
        </p:nvPicPr>
        <p:blipFill>
          <a:blip r:embed="rId4"/>
          <a:srcRect l="4016" t="0" r="66982" b="62999"/>
          <a:stretch/>
        </p:blipFill>
        <p:spPr>
          <a:xfrm>
            <a:off x="5791320" y="304920"/>
            <a:ext cx="2209680" cy="2819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96160" y="38088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行楷"/>
              </a:rPr>
              <a:t>相关主要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幻灯封面2"/>
          <p:cNvPicPr/>
          <p:nvPr/>
        </p:nvPicPr>
        <p:blipFill>
          <a:blip r:embed="rId1"/>
          <a:stretch/>
        </p:blipFill>
        <p:spPr>
          <a:xfrm>
            <a:off x="304920" y="0"/>
            <a:ext cx="784836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lip_2"/>
          <p:cNvPicPr/>
          <p:nvPr/>
        </p:nvPicPr>
        <p:blipFill>
          <a:blip r:embed="rId2"/>
          <a:srcRect l="1245" t="5757" r="74858" b="-3640"/>
          <a:stretch/>
        </p:blipFill>
        <p:spPr>
          <a:xfrm>
            <a:off x="7315200" y="0"/>
            <a:ext cx="1465200" cy="6477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380880"/>
            <a:ext cx="3767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加入相关内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迷你繁智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幻灯n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57200" y="685800"/>
            <a:ext cx="361332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加入相关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492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幻灯封面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39640" y="549360"/>
            <a:ext cx="480060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加入相关内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2:22:02Z</dcterms:created>
  <dc:creator/>
  <dc:description/>
  <cp:keywords/>
  <dc:language>en-US</dc:language>
  <cp:lastModifiedBy>yu wang</cp:lastModifiedBy>
  <dcterms:modified xsi:type="dcterms:W3CDTF">2015-08-12T14:51:29Z</dcterms:modified>
  <cp:revision>126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