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33057C-28CE-4DB0-B4D6-9ABAB1B0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029572-221B-4BDF-8022-DDA0A323E0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D832B3-AB48-4DB0-B028-6119EE3788E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59E-AC20-4BF5-8170-DD0DD5C8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5A3-89B2-4315-8ED9-540A050B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0B7-2483-422B-AB16-483B1FE9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91E-74AE-4603-A26F-BE0270B6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7B0B-4D33-415F-B300-DC0749F1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5207-044E-4A02-83AB-228510B7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E4EE-C22F-451C-BF4A-759F6BD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661A-5124-460A-B3CA-91A57E1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F42-60F8-4CE4-AC48-3D3852E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4EB2-C7E8-4155-A0C4-B0D0E8E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B0E5-C9A0-4CE4-9E32-C37D9E1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61D-91F1-4C64-8BF7-AF4E0897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65BE-59E0-48D0-A990-DC95B338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2DD3-7E86-4115-ABBF-2647142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7B92-9858-4269-BF88-BD43ECEC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EBC0-CB11-4A65-BACA-5EC1248D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01B9-205A-4D10-817D-4CA045A3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593C-7AF3-4B42-91F0-D8A623BD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973F-AFEB-4C05-92C5-384BFBB2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2CC0-89C9-4C61-B1E2-4D79301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79C5-B0A1-4850-AB54-00C9466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58A0-728F-4EDE-B48F-A9A218B1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797-7768-4A57-925B-9C9C5BF1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4614-B66C-44BB-B775-C8C1684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34A7-FA36-4702-B27C-A4862789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4D9E-60B4-4B7E-9907-6D75B53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5F7D-5164-449D-8970-B949AB14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9409-2C1D-42A9-8DE4-9F41B84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BD23-9A0E-42AF-9313-3BFDC1D3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0A12-8306-4D64-8273-063724B5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DD8-0E03-4F47-8552-D5AACFF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486-5779-47ED-B484-835D7D92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9B6-20CD-4D66-A199-F4D2E75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E5E-1D9C-45A2-A55B-2D1EBE2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A17-662C-4AD3-BEE1-23B2760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6E3-00CD-4DDE-AC3C-72B46CD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396480"/>
            <a:ext cx="12191760" cy="4611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" name="文本框 7"/>
          <p:cNvSpPr/>
          <p:nvPr/>
        </p:nvSpPr>
        <p:spPr>
          <a:xfrm>
            <a:off x="323640" y="6424560"/>
            <a:ext cx="382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6316560"/>
            <a:ext cx="12191760" cy="838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0" y="299880"/>
            <a:ext cx="12191760" cy="317160"/>
          </a:xfrm>
          <a:prstGeom prst="rect">
            <a:avLst/>
          </a:prstGeom>
          <a:solidFill>
            <a:srgbClr val="01395c"/>
          </a:solidFill>
          <a:ln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Impact"/>
                <a:ea typeface="方正粗宋简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919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F0CF43-EC41-4E9A-B5CF-33A363BF1F8B}" type="slidenum">
              <a:rPr b="0" lang="en-US" sz="1200" spc="-1" strike="noStrike">
                <a:solidFill>
                  <a:srgbClr val="8b919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0" y="6396480"/>
            <a:ext cx="12191760" cy="4611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6" name="文本框 7"/>
          <p:cNvSpPr/>
          <p:nvPr/>
        </p:nvSpPr>
        <p:spPr>
          <a:xfrm>
            <a:off x="323640" y="6424560"/>
            <a:ext cx="382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0" y="6316560"/>
            <a:ext cx="12191760" cy="838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299880"/>
            <a:ext cx="12191760" cy="317160"/>
          </a:xfrm>
          <a:prstGeom prst="rect">
            <a:avLst/>
          </a:prstGeom>
          <a:solidFill>
            <a:srgbClr val="01395c"/>
          </a:solidFill>
          <a:ln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方正粗宋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5295A-AC18-4A4F-AFC1-C9D92CAEA97D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0" y="6396480"/>
            <a:ext cx="12191760" cy="4611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323640" y="6424560"/>
            <a:ext cx="382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0" y="6316560"/>
            <a:ext cx="12191760" cy="838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299880"/>
            <a:ext cx="12191760" cy="317160"/>
          </a:xfrm>
          <a:prstGeom prst="rect">
            <a:avLst/>
          </a:prstGeom>
          <a:solidFill>
            <a:srgbClr val="01395c"/>
          </a:solidFill>
          <a:ln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4D850D-89E7-4184-8213-99A5A5CEF76E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 hidden="1"/>
          <p:cNvSpPr/>
          <p:nvPr/>
        </p:nvSpPr>
        <p:spPr>
          <a:xfrm>
            <a:off x="-10800" y="4083480"/>
            <a:ext cx="12202560" cy="1987560"/>
          </a:xfrm>
          <a:custGeom>
            <a:avLst/>
            <a:gdLst>
              <a:gd name="textAreaLeft" fmla="*/ 0 w 12202560"/>
              <a:gd name="textAreaRight" fmla="*/ 12202920 w 1220256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2202851" h="1987781">
                <a:moveTo>
                  <a:pt x="11430" y="0"/>
                </a:moveTo>
                <a:cubicBezTo>
                  <a:pt x="3514321" y="1818409"/>
                  <a:pt x="8046951" y="1697875"/>
                  <a:pt x="12202391" y="629689"/>
                </a:cubicBezTo>
                <a:cubicBezTo>
                  <a:pt x="12205855" y="1003762"/>
                  <a:pt x="12188536" y="1613708"/>
                  <a:pt x="12192000" y="1987781"/>
                </a:cubicBezTo>
                <a:lnTo>
                  <a:pt x="0" y="1987781"/>
                </a:lnTo>
                <a:lnTo>
                  <a:pt x="11430" y="0"/>
                </a:lnTo>
                <a:close/>
              </a:path>
            </a:pathLst>
          </a:custGeom>
          <a:solidFill>
            <a:srgbClr val="8bbf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0" y="3979800"/>
            <a:ext cx="12202560" cy="2877840"/>
            <a:chOff x="0" y="3979800"/>
            <a:chExt cx="12202560" cy="2877840"/>
          </a:xfrm>
        </p:grpSpPr>
        <p:sp>
          <p:nvSpPr>
            <p:cNvPr id="143" name="矩形 1"/>
            <p:cNvSpPr/>
            <p:nvPr/>
          </p:nvSpPr>
          <p:spPr>
            <a:xfrm>
              <a:off x="0" y="4049280"/>
              <a:ext cx="12202560" cy="233028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330280"/>
                <a:gd name="textAreaBottom" fmla="*/ 2330640 h 2330280"/>
              </a:gdLst>
              <a:ahLst/>
              <a:rect l="textAreaLeft" t="textAreaTop" r="textAreaRight" b="textAreaBottom"/>
              <a:pathLst>
                <a:path w="12202851" h="2330681">
                  <a:moveTo>
                    <a:pt x="0" y="0"/>
                  </a:moveTo>
                  <a:cubicBezTo>
                    <a:pt x="3502891" y="1818409"/>
                    <a:pt x="8046951" y="2097925"/>
                    <a:pt x="12202391" y="1029739"/>
                  </a:cubicBezTo>
                  <a:cubicBezTo>
                    <a:pt x="12205855" y="1403812"/>
                    <a:pt x="12188536" y="1956608"/>
                    <a:pt x="12192000" y="2330681"/>
                  </a:cubicBezTo>
                  <a:lnTo>
                    <a:pt x="0" y="2330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f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44" name="矩形 1"/>
            <p:cNvSpPr/>
            <p:nvPr/>
          </p:nvSpPr>
          <p:spPr>
            <a:xfrm>
              <a:off x="0" y="3979800"/>
              <a:ext cx="12202560" cy="263880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638800"/>
                <a:gd name="textAreaBottom" fmla="*/ 2639160 h 2638800"/>
              </a:gdLst>
              <a:ahLst/>
              <a:rect l="textAreaLeft" t="textAreaTop" r="textAreaRight" b="textAreaBottom"/>
              <a:pathLst>
                <a:path w="12202851" h="2639291">
                  <a:moveTo>
                    <a:pt x="0" y="0"/>
                  </a:moveTo>
                  <a:cubicBezTo>
                    <a:pt x="3502891" y="1818409"/>
                    <a:pt x="8024091" y="2726575"/>
                    <a:pt x="12202391" y="1406929"/>
                  </a:cubicBezTo>
                  <a:cubicBezTo>
                    <a:pt x="12205855" y="1781002"/>
                    <a:pt x="12188536" y="2265218"/>
                    <a:pt x="12192000" y="2639291"/>
                  </a:cubicBezTo>
                  <a:lnTo>
                    <a:pt x="0" y="2639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95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45" name="矩形 1"/>
            <p:cNvSpPr/>
            <p:nvPr/>
          </p:nvSpPr>
          <p:spPr>
            <a:xfrm>
              <a:off x="0" y="3990240"/>
              <a:ext cx="12192480" cy="2867400"/>
            </a:xfrm>
            <a:custGeom>
              <a:avLst/>
              <a:gdLst>
                <a:gd name="textAreaLeft" fmla="*/ 0 w 12192480"/>
                <a:gd name="textAreaRight" fmla="*/ 12192840 w 12192480"/>
                <a:gd name="textAreaTop" fmla="*/ 0 h 2867400"/>
                <a:gd name="textAreaBottom" fmla="*/ 2867760 h 2867400"/>
              </a:gdLst>
              <a:ahLst/>
              <a:rect l="textAreaLeft" t="textAreaTop" r="textAreaRight" b="textAreaBottom"/>
              <a:pathLst>
                <a:path w="12192999" h="2867891">
                  <a:moveTo>
                    <a:pt x="0" y="0"/>
                  </a:moveTo>
                  <a:cubicBezTo>
                    <a:pt x="3502891" y="1818409"/>
                    <a:pt x="8013700" y="3054928"/>
                    <a:pt x="12192000" y="1735282"/>
                  </a:cubicBezTo>
                  <a:cubicBezTo>
                    <a:pt x="12195464" y="2109355"/>
                    <a:pt x="12188536" y="2493818"/>
                    <a:pt x="12192000" y="2867891"/>
                  </a:cubicBezTo>
                  <a:lnTo>
                    <a:pt x="0" y="2867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146" name="矩形 5"/>
          <p:cNvSpPr/>
          <p:nvPr/>
        </p:nvSpPr>
        <p:spPr>
          <a:xfrm>
            <a:off x="8577360" y="0"/>
            <a:ext cx="2446560" cy="1752120"/>
          </a:xfrm>
          <a:prstGeom prst="rect">
            <a:avLst/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7" name="文本框 6"/>
          <p:cNvSpPr/>
          <p:nvPr/>
        </p:nvSpPr>
        <p:spPr>
          <a:xfrm>
            <a:off x="8757720" y="1058040"/>
            <a:ext cx="2446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1999" strike="noStrike">
                <a:solidFill>
                  <a:srgbClr val="f2f2f2"/>
                </a:solidFill>
                <a:latin typeface="Impact"/>
                <a:ea typeface="微软雅黑"/>
              </a:rPr>
              <a:t>20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2400" y="2023560"/>
            <a:ext cx="10451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01395c"/>
                </a:solidFill>
                <a:latin typeface="Impact"/>
                <a:ea typeface="方正粗宋简体"/>
              </a:rPr>
              <a:t>公司企业党群工作计划落实情况汇报</a:t>
            </a:r>
            <a:r>
              <a:rPr b="0" lang="en-US" sz="4000" spc="-1" strike="noStrike">
                <a:solidFill>
                  <a:srgbClr val="01395c"/>
                </a:solidFill>
                <a:latin typeface="Impact"/>
                <a:ea typeface="方正粗宋简体"/>
              </a:rPr>
              <a:t>PPT</a:t>
            </a:r>
            <a:r>
              <a:rPr b="0" lang="zh-CN" sz="4000" spc="-1" strike="noStrike">
                <a:solidFill>
                  <a:srgbClr val="01395c"/>
                </a:solidFill>
                <a:latin typeface="Impact"/>
                <a:ea typeface="方正粗宋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39400" y="3099960"/>
            <a:ext cx="286488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公司名称</a:t>
            </a:r>
            <a:r>
              <a:rPr b="0" lang="en-US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/LO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Num" idx="21"/>
          </p:nvPr>
        </p:nvSpPr>
        <p:spPr>
          <a:xfrm>
            <a:off x="8610480" y="6462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80FF2-7E5C-4A2E-AD86-624D7CAF1A29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59" name="文本框 5"/>
          <p:cNvSpPr/>
          <p:nvPr/>
        </p:nvSpPr>
        <p:spPr>
          <a:xfrm>
            <a:off x="4086720" y="214668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连接符 6"/>
          <p:cNvCxnSpPr/>
          <p:nvPr/>
        </p:nvCxnSpPr>
        <p:spPr>
          <a:xfrm>
            <a:off x="4939200" y="231408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261" name="文本框 7"/>
          <p:cNvSpPr/>
          <p:nvPr/>
        </p:nvSpPr>
        <p:spPr>
          <a:xfrm>
            <a:off x="5029560" y="2529720"/>
            <a:ext cx="4202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企业文化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Num" idx="22"/>
          </p:nvPr>
        </p:nvSpPr>
        <p:spPr>
          <a:xfrm>
            <a:off x="8610480" y="6462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B1BB2-7EA6-4AF7-B24F-7D0AB1CEC619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组合 4"/>
          <p:cNvGrpSpPr/>
          <p:nvPr/>
        </p:nvGrpSpPr>
        <p:grpSpPr>
          <a:xfrm>
            <a:off x="1108800" y="240120"/>
            <a:ext cx="1623600" cy="468360"/>
            <a:chOff x="1108800" y="240120"/>
            <a:chExt cx="1623600" cy="468360"/>
          </a:xfrm>
        </p:grpSpPr>
        <p:sp>
          <p:nvSpPr>
            <p:cNvPr id="264" name="矩形 5"/>
            <p:cNvSpPr/>
            <p:nvPr/>
          </p:nvSpPr>
          <p:spPr>
            <a:xfrm>
              <a:off x="1108800" y="240120"/>
              <a:ext cx="159120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65" name="文本框 6"/>
            <p:cNvSpPr/>
            <p:nvPr/>
          </p:nvSpPr>
          <p:spPr>
            <a:xfrm>
              <a:off x="1141200" y="276840"/>
              <a:ext cx="159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14"/>
          <p:cNvGrpSpPr/>
          <p:nvPr/>
        </p:nvGrpSpPr>
        <p:grpSpPr>
          <a:xfrm>
            <a:off x="1391400" y="992160"/>
            <a:ext cx="9207000" cy="2351880"/>
            <a:chOff x="1391400" y="992160"/>
            <a:chExt cx="9207000" cy="2351880"/>
          </a:xfrm>
        </p:grpSpPr>
        <p:sp>
          <p:nvSpPr>
            <p:cNvPr id="267" name="圆角矩形 8"/>
            <p:cNvSpPr/>
            <p:nvPr/>
          </p:nvSpPr>
          <p:spPr>
            <a:xfrm>
              <a:off x="1922400" y="1537920"/>
              <a:ext cx="8676000" cy="180612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01395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68" name="文本框 10"/>
            <p:cNvSpPr/>
            <p:nvPr/>
          </p:nvSpPr>
          <p:spPr>
            <a:xfrm>
              <a:off x="2867760" y="1299960"/>
              <a:ext cx="2057400" cy="363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       </a:t>
              </a: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12"/>
            <p:cNvGrpSpPr/>
            <p:nvPr/>
          </p:nvGrpSpPr>
          <p:grpSpPr>
            <a:xfrm>
              <a:off x="1391400" y="992160"/>
              <a:ext cx="1210320" cy="1210320"/>
              <a:chOff x="1391400" y="992160"/>
              <a:chExt cx="1210320" cy="1210320"/>
            </a:xfrm>
          </p:grpSpPr>
          <p:sp>
            <p:nvSpPr>
              <p:cNvPr id="270" name="椭圆 7"/>
              <p:cNvSpPr/>
              <p:nvPr/>
            </p:nvSpPr>
            <p:spPr>
              <a:xfrm>
                <a:off x="1391400" y="992160"/>
                <a:ext cx="1210320" cy="121032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71" name="文本框 11"/>
              <p:cNvSpPr/>
              <p:nvPr/>
            </p:nvSpPr>
            <p:spPr>
              <a:xfrm>
                <a:off x="1753200" y="1077120"/>
                <a:ext cx="69588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文本框 13"/>
            <p:cNvSpPr/>
            <p:nvPr/>
          </p:nvSpPr>
          <p:spPr>
            <a:xfrm>
              <a:off x="2490840" y="1841400"/>
              <a:ext cx="81075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5"/>
          <p:cNvGrpSpPr/>
          <p:nvPr/>
        </p:nvGrpSpPr>
        <p:grpSpPr>
          <a:xfrm>
            <a:off x="1391400" y="3652560"/>
            <a:ext cx="9207000" cy="2351520"/>
            <a:chOff x="1391400" y="3652560"/>
            <a:chExt cx="9207000" cy="2351520"/>
          </a:xfrm>
        </p:grpSpPr>
        <p:sp>
          <p:nvSpPr>
            <p:cNvPr id="274" name="圆角矩形 16"/>
            <p:cNvSpPr/>
            <p:nvPr/>
          </p:nvSpPr>
          <p:spPr>
            <a:xfrm>
              <a:off x="1922400" y="4197960"/>
              <a:ext cx="8676000" cy="180612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01395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75" name="文本框 17"/>
            <p:cNvSpPr/>
            <p:nvPr/>
          </p:nvSpPr>
          <p:spPr>
            <a:xfrm>
              <a:off x="2867760" y="4013280"/>
              <a:ext cx="2057400" cy="363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1395c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  <a:ea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18"/>
            <p:cNvGrpSpPr/>
            <p:nvPr/>
          </p:nvGrpSpPr>
          <p:grpSpPr>
            <a:xfrm>
              <a:off x="1391400" y="3652560"/>
              <a:ext cx="1210320" cy="1210320"/>
              <a:chOff x="1391400" y="3652560"/>
              <a:chExt cx="1210320" cy="1210320"/>
            </a:xfrm>
          </p:grpSpPr>
          <p:sp>
            <p:nvSpPr>
              <p:cNvPr id="277" name="椭圆 20"/>
              <p:cNvSpPr/>
              <p:nvPr/>
            </p:nvSpPr>
            <p:spPr>
              <a:xfrm>
                <a:off x="1391400" y="3652560"/>
                <a:ext cx="1210320" cy="121032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78" name="文本框 21"/>
              <p:cNvSpPr/>
              <p:nvPr/>
            </p:nvSpPr>
            <p:spPr>
              <a:xfrm>
                <a:off x="1753200" y="3737160"/>
                <a:ext cx="69588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文本框 19"/>
            <p:cNvSpPr/>
            <p:nvPr/>
          </p:nvSpPr>
          <p:spPr>
            <a:xfrm>
              <a:off x="2490840" y="4449600"/>
              <a:ext cx="81075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23"/>
          </p:nvPr>
        </p:nvSpPr>
        <p:spPr>
          <a:xfrm>
            <a:off x="8610480" y="6462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017F44-E49D-4133-8372-C40ACC208B62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2"/>
          <p:cNvGrpSpPr/>
          <p:nvPr/>
        </p:nvGrpSpPr>
        <p:grpSpPr>
          <a:xfrm>
            <a:off x="1108800" y="240120"/>
            <a:ext cx="1623600" cy="468360"/>
            <a:chOff x="1108800" y="240120"/>
            <a:chExt cx="1623600" cy="468360"/>
          </a:xfrm>
        </p:grpSpPr>
        <p:sp>
          <p:nvSpPr>
            <p:cNvPr id="282" name="矩形 3"/>
            <p:cNvSpPr/>
            <p:nvPr/>
          </p:nvSpPr>
          <p:spPr>
            <a:xfrm>
              <a:off x="1108800" y="240120"/>
              <a:ext cx="159120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83" name="文本框 4"/>
            <p:cNvSpPr/>
            <p:nvPr/>
          </p:nvSpPr>
          <p:spPr>
            <a:xfrm>
              <a:off x="1141200" y="276840"/>
              <a:ext cx="159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圆角矩形 6"/>
          <p:cNvSpPr/>
          <p:nvPr/>
        </p:nvSpPr>
        <p:spPr>
          <a:xfrm>
            <a:off x="1922400" y="1537920"/>
            <a:ext cx="8676000" cy="180612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85" name="文本框 7"/>
          <p:cNvSpPr/>
          <p:nvPr/>
        </p:nvSpPr>
        <p:spPr>
          <a:xfrm>
            <a:off x="2867760" y="1353240"/>
            <a:ext cx="2167200" cy="36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0"/>
          <p:cNvSpPr/>
          <p:nvPr/>
        </p:nvSpPr>
        <p:spPr>
          <a:xfrm>
            <a:off x="1391400" y="992160"/>
            <a:ext cx="1210320" cy="1210320"/>
          </a:xfrm>
          <a:prstGeom prst="ellipse">
            <a:avLst/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87" name="文本框 11"/>
          <p:cNvSpPr/>
          <p:nvPr/>
        </p:nvSpPr>
        <p:spPr>
          <a:xfrm>
            <a:off x="1690560" y="1077120"/>
            <a:ext cx="69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9"/>
          <p:cNvSpPr/>
          <p:nvPr/>
        </p:nvSpPr>
        <p:spPr>
          <a:xfrm>
            <a:off x="2490840" y="1789200"/>
            <a:ext cx="810756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13"/>
          <p:cNvSpPr/>
          <p:nvPr/>
        </p:nvSpPr>
        <p:spPr>
          <a:xfrm>
            <a:off x="1922400" y="4197960"/>
            <a:ext cx="8676000" cy="180612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90" name="文本框 14"/>
          <p:cNvSpPr/>
          <p:nvPr/>
        </p:nvSpPr>
        <p:spPr>
          <a:xfrm>
            <a:off x="2867760" y="4013280"/>
            <a:ext cx="2167200" cy="36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7"/>
          <p:cNvSpPr/>
          <p:nvPr/>
        </p:nvSpPr>
        <p:spPr>
          <a:xfrm>
            <a:off x="1391400" y="3652560"/>
            <a:ext cx="1210320" cy="1210320"/>
          </a:xfrm>
          <a:prstGeom prst="ellipse">
            <a:avLst/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92" name="文本框 18"/>
          <p:cNvSpPr/>
          <p:nvPr/>
        </p:nvSpPr>
        <p:spPr>
          <a:xfrm>
            <a:off x="1690560" y="3730680"/>
            <a:ext cx="69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6"/>
          <p:cNvSpPr/>
          <p:nvPr/>
        </p:nvSpPr>
        <p:spPr>
          <a:xfrm>
            <a:off x="2490840" y="4449600"/>
            <a:ext cx="810756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6189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7200" y="114012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1395c"/>
                </a:solidFill>
                <a:latin typeface="Impact"/>
                <a:ea typeface="方正粗宋简体"/>
              </a:rPr>
              <a:t>感谢聆听</a:t>
            </a:r>
            <a:br>
              <a:rPr sz="6000"/>
            </a:br>
            <a:r>
              <a:rPr b="0" lang="zh-CN" sz="6000" spc="-1" strike="noStrike">
                <a:solidFill>
                  <a:srgbClr val="01395c"/>
                </a:solidFill>
                <a:latin typeface="Impact"/>
                <a:ea typeface="方正粗宋简体"/>
              </a:rPr>
              <a:t>请批评指正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0" y="3979800"/>
            <a:ext cx="12202560" cy="2877840"/>
            <a:chOff x="0" y="3979800"/>
            <a:chExt cx="12202560" cy="2877840"/>
          </a:xfrm>
        </p:grpSpPr>
        <p:sp>
          <p:nvSpPr>
            <p:cNvPr id="297" name="矩形 1"/>
            <p:cNvSpPr/>
            <p:nvPr/>
          </p:nvSpPr>
          <p:spPr>
            <a:xfrm>
              <a:off x="0" y="4049280"/>
              <a:ext cx="12202560" cy="233028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330280"/>
                <a:gd name="textAreaBottom" fmla="*/ 2330640 h 2330280"/>
              </a:gdLst>
              <a:ahLst/>
              <a:rect l="textAreaLeft" t="textAreaTop" r="textAreaRight" b="textAreaBottom"/>
              <a:pathLst>
                <a:path w="12202851" h="2330681">
                  <a:moveTo>
                    <a:pt x="0" y="0"/>
                  </a:moveTo>
                  <a:cubicBezTo>
                    <a:pt x="3502891" y="1818409"/>
                    <a:pt x="8046951" y="2097925"/>
                    <a:pt x="12202391" y="1029739"/>
                  </a:cubicBezTo>
                  <a:cubicBezTo>
                    <a:pt x="12205855" y="1403812"/>
                    <a:pt x="12188536" y="1956608"/>
                    <a:pt x="12192000" y="2330681"/>
                  </a:cubicBezTo>
                  <a:lnTo>
                    <a:pt x="0" y="2330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f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98" name="矩形 1"/>
            <p:cNvSpPr/>
            <p:nvPr/>
          </p:nvSpPr>
          <p:spPr>
            <a:xfrm>
              <a:off x="0" y="3979800"/>
              <a:ext cx="12202560" cy="263880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638800"/>
                <a:gd name="textAreaBottom" fmla="*/ 2639160 h 2638800"/>
              </a:gdLst>
              <a:ahLst/>
              <a:rect l="textAreaLeft" t="textAreaTop" r="textAreaRight" b="textAreaBottom"/>
              <a:pathLst>
                <a:path w="12202851" h="2639291">
                  <a:moveTo>
                    <a:pt x="0" y="0"/>
                  </a:moveTo>
                  <a:cubicBezTo>
                    <a:pt x="3502891" y="1818409"/>
                    <a:pt x="8024091" y="2726575"/>
                    <a:pt x="12202391" y="1406929"/>
                  </a:cubicBezTo>
                  <a:cubicBezTo>
                    <a:pt x="12205855" y="1781002"/>
                    <a:pt x="12188536" y="2265218"/>
                    <a:pt x="12192000" y="2639291"/>
                  </a:cubicBezTo>
                  <a:lnTo>
                    <a:pt x="0" y="2639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95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99" name="矩形 1"/>
            <p:cNvSpPr/>
            <p:nvPr/>
          </p:nvSpPr>
          <p:spPr>
            <a:xfrm>
              <a:off x="0" y="3990240"/>
              <a:ext cx="12192480" cy="2867400"/>
            </a:xfrm>
            <a:custGeom>
              <a:avLst/>
              <a:gdLst>
                <a:gd name="textAreaLeft" fmla="*/ 0 w 12192480"/>
                <a:gd name="textAreaRight" fmla="*/ 12192840 w 12192480"/>
                <a:gd name="textAreaTop" fmla="*/ 0 h 2867400"/>
                <a:gd name="textAreaBottom" fmla="*/ 2867760 h 2867400"/>
              </a:gdLst>
              <a:ahLst/>
              <a:rect l="textAreaLeft" t="textAreaTop" r="textAreaRight" b="textAreaBottom"/>
              <a:pathLst>
                <a:path w="12192999" h="2867891">
                  <a:moveTo>
                    <a:pt x="0" y="0"/>
                  </a:moveTo>
                  <a:cubicBezTo>
                    <a:pt x="3502891" y="1818409"/>
                    <a:pt x="8013700" y="3054928"/>
                    <a:pt x="12192000" y="1735282"/>
                  </a:cubicBezTo>
                  <a:cubicBezTo>
                    <a:pt x="12195464" y="2109355"/>
                    <a:pt x="12188536" y="2493818"/>
                    <a:pt x="12192000" y="2867891"/>
                  </a:cubicBezTo>
                  <a:lnTo>
                    <a:pt x="0" y="2867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300" name="TextBox 1"/>
          <p:cNvSpPr/>
          <p:nvPr/>
        </p:nvSpPr>
        <p:spPr>
          <a:xfrm>
            <a:off x="6919920" y="3588480"/>
            <a:ext cx="184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（制作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%40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心有锋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Num" idx="13"/>
          </p:nvPr>
        </p:nvSpPr>
        <p:spPr>
          <a:xfrm>
            <a:off x="8610480" y="64245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65EB28-1747-48D9-8CF1-86B72A09792D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组合 25"/>
          <p:cNvGrpSpPr/>
          <p:nvPr/>
        </p:nvGrpSpPr>
        <p:grpSpPr>
          <a:xfrm>
            <a:off x="2994840" y="1039680"/>
            <a:ext cx="6023160" cy="696960"/>
            <a:chOff x="2994840" y="1039680"/>
            <a:chExt cx="6023160" cy="696960"/>
          </a:xfrm>
        </p:grpSpPr>
        <p:sp>
          <p:nvSpPr>
            <p:cNvPr id="153" name="矩形 5"/>
            <p:cNvSpPr/>
            <p:nvPr/>
          </p:nvSpPr>
          <p:spPr>
            <a:xfrm>
              <a:off x="3440520" y="106236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54" name="椭圆 4"/>
            <p:cNvSpPr/>
            <p:nvPr/>
          </p:nvSpPr>
          <p:spPr>
            <a:xfrm>
              <a:off x="2994840" y="103968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3160440" y="111420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7"/>
            <p:cNvSpPr/>
            <p:nvPr/>
          </p:nvSpPr>
          <p:spPr>
            <a:xfrm>
              <a:off x="4271040" y="1144800"/>
              <a:ext cx="4167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6"/>
          <p:cNvGrpSpPr/>
          <p:nvPr/>
        </p:nvGrpSpPr>
        <p:grpSpPr>
          <a:xfrm>
            <a:off x="2994840" y="2000160"/>
            <a:ext cx="6063120" cy="696960"/>
            <a:chOff x="2994840" y="2000160"/>
            <a:chExt cx="6063120" cy="696960"/>
          </a:xfrm>
        </p:grpSpPr>
        <p:sp>
          <p:nvSpPr>
            <p:cNvPr id="158" name="矩形 10"/>
            <p:cNvSpPr/>
            <p:nvPr/>
          </p:nvSpPr>
          <p:spPr>
            <a:xfrm>
              <a:off x="3440520" y="202320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59" name="椭圆 11"/>
            <p:cNvSpPr/>
            <p:nvPr/>
          </p:nvSpPr>
          <p:spPr>
            <a:xfrm>
              <a:off x="2994840" y="200016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0" name="文本框 12"/>
            <p:cNvSpPr/>
            <p:nvPr/>
          </p:nvSpPr>
          <p:spPr>
            <a:xfrm>
              <a:off x="3160440" y="207504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3"/>
            <p:cNvSpPr/>
            <p:nvPr/>
          </p:nvSpPr>
          <p:spPr>
            <a:xfrm>
              <a:off x="3789000" y="2142360"/>
              <a:ext cx="5268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6"/>
          <p:cNvGrpSpPr/>
          <p:nvPr/>
        </p:nvGrpSpPr>
        <p:grpSpPr>
          <a:xfrm>
            <a:off x="2973600" y="3008160"/>
            <a:ext cx="6023520" cy="696960"/>
            <a:chOff x="2973600" y="3008160"/>
            <a:chExt cx="6023520" cy="696960"/>
          </a:xfrm>
        </p:grpSpPr>
        <p:sp>
          <p:nvSpPr>
            <p:cNvPr id="163" name="矩形 27"/>
            <p:cNvSpPr/>
            <p:nvPr/>
          </p:nvSpPr>
          <p:spPr>
            <a:xfrm>
              <a:off x="3419640" y="303120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4" name="椭圆 28"/>
            <p:cNvSpPr/>
            <p:nvPr/>
          </p:nvSpPr>
          <p:spPr>
            <a:xfrm>
              <a:off x="2973600" y="300816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5" name="文本框 29"/>
            <p:cNvSpPr/>
            <p:nvPr/>
          </p:nvSpPr>
          <p:spPr>
            <a:xfrm>
              <a:off x="3139560" y="308304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30"/>
            <p:cNvSpPr/>
            <p:nvPr/>
          </p:nvSpPr>
          <p:spPr>
            <a:xfrm>
              <a:off x="5297760" y="3144600"/>
              <a:ext cx="2521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31"/>
          <p:cNvGrpSpPr/>
          <p:nvPr/>
        </p:nvGrpSpPr>
        <p:grpSpPr>
          <a:xfrm>
            <a:off x="2994840" y="4061880"/>
            <a:ext cx="6023160" cy="696960"/>
            <a:chOff x="2994840" y="4061880"/>
            <a:chExt cx="6023160" cy="696960"/>
          </a:xfrm>
        </p:grpSpPr>
        <p:sp>
          <p:nvSpPr>
            <p:cNvPr id="168" name="矩形 32"/>
            <p:cNvSpPr/>
            <p:nvPr/>
          </p:nvSpPr>
          <p:spPr>
            <a:xfrm>
              <a:off x="3440520" y="408492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9" name="椭圆 33"/>
            <p:cNvSpPr/>
            <p:nvPr/>
          </p:nvSpPr>
          <p:spPr>
            <a:xfrm>
              <a:off x="2994840" y="406188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70" name="文本框 34"/>
            <p:cNvSpPr/>
            <p:nvPr/>
          </p:nvSpPr>
          <p:spPr>
            <a:xfrm>
              <a:off x="3160440" y="413676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5"/>
            <p:cNvSpPr/>
            <p:nvPr/>
          </p:nvSpPr>
          <p:spPr>
            <a:xfrm>
              <a:off x="5094000" y="4162680"/>
              <a:ext cx="2521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37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Num" idx="14"/>
          </p:nvPr>
        </p:nvSpPr>
        <p:spPr>
          <a:xfrm>
            <a:off x="8610480" y="64267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0E797C-2FF3-46DA-A4F9-1D02C4EF0ADB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2627280" y="205884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连接符 7"/>
          <p:cNvCxnSpPr/>
          <p:nvPr/>
        </p:nvCxnSpPr>
        <p:spPr>
          <a:xfrm>
            <a:off x="3373920" y="222624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177" name="文本框 8"/>
          <p:cNvSpPr/>
          <p:nvPr/>
        </p:nvSpPr>
        <p:spPr>
          <a:xfrm>
            <a:off x="3464280" y="2441880"/>
            <a:ext cx="7108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风廉政和惩防体系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5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AB2FF4-5A1D-49B5-BC1C-39F454936A2A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组合 22"/>
          <p:cNvGrpSpPr/>
          <p:nvPr/>
        </p:nvGrpSpPr>
        <p:grpSpPr>
          <a:xfrm>
            <a:off x="1108800" y="240120"/>
            <a:ext cx="2845800" cy="468360"/>
            <a:chOff x="1108800" y="240120"/>
            <a:chExt cx="2845800" cy="468360"/>
          </a:xfrm>
        </p:grpSpPr>
        <p:sp>
          <p:nvSpPr>
            <p:cNvPr id="180" name="矩形 6"/>
            <p:cNvSpPr/>
            <p:nvPr/>
          </p:nvSpPr>
          <p:spPr>
            <a:xfrm>
              <a:off x="1108800" y="240120"/>
              <a:ext cx="278856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1" name="文本框 5"/>
            <p:cNvSpPr/>
            <p:nvPr/>
          </p:nvSpPr>
          <p:spPr>
            <a:xfrm>
              <a:off x="1166040" y="276840"/>
              <a:ext cx="27885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圆角矩形 7"/>
          <p:cNvSpPr/>
          <p:nvPr/>
        </p:nvSpPr>
        <p:spPr>
          <a:xfrm>
            <a:off x="1028880" y="1508760"/>
            <a:ext cx="2514240" cy="61704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3" name="文本框 10"/>
          <p:cNvSpPr/>
          <p:nvPr/>
        </p:nvSpPr>
        <p:spPr>
          <a:xfrm>
            <a:off x="1284120" y="1630800"/>
            <a:ext cx="251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2"/>
          <p:cNvSpPr/>
          <p:nvPr/>
        </p:nvSpPr>
        <p:spPr>
          <a:xfrm>
            <a:off x="4876920" y="1508760"/>
            <a:ext cx="2514240" cy="61704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5" name="圆角矩形 13"/>
          <p:cNvSpPr/>
          <p:nvPr/>
        </p:nvSpPr>
        <p:spPr>
          <a:xfrm>
            <a:off x="8724960" y="1508760"/>
            <a:ext cx="2514240" cy="61704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5132160" y="1632600"/>
            <a:ext cx="208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9015840" y="1631520"/>
            <a:ext cx="244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6"/>
          <p:cNvSpPr/>
          <p:nvPr/>
        </p:nvSpPr>
        <p:spPr>
          <a:xfrm>
            <a:off x="462960" y="2720520"/>
            <a:ext cx="35085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7"/>
          <p:cNvSpPr/>
          <p:nvPr/>
        </p:nvSpPr>
        <p:spPr>
          <a:xfrm>
            <a:off x="4468320" y="2720520"/>
            <a:ext cx="34524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8"/>
          <p:cNvSpPr/>
          <p:nvPr/>
        </p:nvSpPr>
        <p:spPr>
          <a:xfrm>
            <a:off x="8451360" y="2720520"/>
            <a:ext cx="328572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连接符 20"/>
          <p:cNvCxnSpPr/>
          <p:nvPr/>
        </p:nvCxnSpPr>
        <p:spPr>
          <a:xfrm>
            <a:off x="4194720" y="1199880"/>
            <a:ext cx="360" cy="486972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</a:ln>
        </p:spPr>
      </p:cxnSp>
      <p:cxnSp>
        <p:nvCxnSpPr>
          <p:cNvPr id="192" name="直接连接符 21"/>
          <p:cNvCxnSpPr/>
          <p:nvPr/>
        </p:nvCxnSpPr>
        <p:spPr>
          <a:xfrm>
            <a:off x="8149320" y="1199880"/>
            <a:ext cx="360" cy="486972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Num" idx="16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440A3-4A85-40EC-A62C-E9CEA1494D2F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95" name="文本框 5"/>
          <p:cNvSpPr/>
          <p:nvPr/>
        </p:nvSpPr>
        <p:spPr>
          <a:xfrm>
            <a:off x="1484280" y="214668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直接连接符 6"/>
          <p:cNvCxnSpPr/>
          <p:nvPr/>
        </p:nvCxnSpPr>
        <p:spPr>
          <a:xfrm>
            <a:off x="2319120" y="231408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197" name="文本框 7"/>
          <p:cNvSpPr/>
          <p:nvPr/>
        </p:nvSpPr>
        <p:spPr>
          <a:xfrm>
            <a:off x="2409480" y="2529720"/>
            <a:ext cx="8727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员干部队伍和基层党组织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5640" y="6000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7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BC04A-59F0-4C16-85AC-9F22CAFA999E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组合 25"/>
          <p:cNvGrpSpPr/>
          <p:nvPr/>
        </p:nvGrpSpPr>
        <p:grpSpPr>
          <a:xfrm>
            <a:off x="1108800" y="240120"/>
            <a:ext cx="3634560" cy="468360"/>
            <a:chOff x="1108800" y="240120"/>
            <a:chExt cx="3634560" cy="468360"/>
          </a:xfrm>
        </p:grpSpPr>
        <p:sp>
          <p:nvSpPr>
            <p:cNvPr id="201" name="矩形 4"/>
            <p:cNvSpPr/>
            <p:nvPr/>
          </p:nvSpPr>
          <p:spPr>
            <a:xfrm>
              <a:off x="1108800" y="240120"/>
              <a:ext cx="347436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2" name="文本框 5"/>
            <p:cNvSpPr/>
            <p:nvPr/>
          </p:nvSpPr>
          <p:spPr>
            <a:xfrm>
              <a:off x="1166040" y="276840"/>
              <a:ext cx="3577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11"/>
          <p:cNvSpPr/>
          <p:nvPr/>
        </p:nvSpPr>
        <p:spPr>
          <a:xfrm>
            <a:off x="1771560" y="1291680"/>
            <a:ext cx="418320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6"/>
          <p:cNvGrpSpPr/>
          <p:nvPr/>
        </p:nvGrpSpPr>
        <p:grpSpPr>
          <a:xfrm>
            <a:off x="1051560" y="1291680"/>
            <a:ext cx="594000" cy="594000"/>
            <a:chOff x="1051560" y="1291680"/>
            <a:chExt cx="594000" cy="594000"/>
          </a:xfrm>
        </p:grpSpPr>
        <p:sp>
          <p:nvSpPr>
            <p:cNvPr id="205" name="椭圆 6"/>
            <p:cNvSpPr/>
            <p:nvPr/>
          </p:nvSpPr>
          <p:spPr>
            <a:xfrm>
              <a:off x="1051560" y="129168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6" name="文本框 13"/>
            <p:cNvSpPr/>
            <p:nvPr/>
          </p:nvSpPr>
          <p:spPr>
            <a:xfrm>
              <a:off x="1211760" y="142704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12"/>
          <p:cNvSpPr/>
          <p:nvPr/>
        </p:nvSpPr>
        <p:spPr>
          <a:xfrm>
            <a:off x="1771560" y="3944160"/>
            <a:ext cx="321156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7"/>
          <p:cNvGrpSpPr/>
          <p:nvPr/>
        </p:nvGrpSpPr>
        <p:grpSpPr>
          <a:xfrm>
            <a:off x="1051560" y="3944160"/>
            <a:ext cx="594000" cy="594000"/>
            <a:chOff x="1051560" y="3944160"/>
            <a:chExt cx="594000" cy="594000"/>
          </a:xfrm>
        </p:grpSpPr>
        <p:sp>
          <p:nvSpPr>
            <p:cNvPr id="209" name="椭圆 7"/>
            <p:cNvSpPr/>
            <p:nvPr/>
          </p:nvSpPr>
          <p:spPr>
            <a:xfrm>
              <a:off x="1051560" y="394416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0" name="文本框 14"/>
            <p:cNvSpPr/>
            <p:nvPr/>
          </p:nvSpPr>
          <p:spPr>
            <a:xfrm>
              <a:off x="1211760" y="405648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18"/>
          <p:cNvSpPr/>
          <p:nvPr/>
        </p:nvSpPr>
        <p:spPr>
          <a:xfrm>
            <a:off x="7206480" y="3944160"/>
            <a:ext cx="34916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9"/>
          <p:cNvGrpSpPr/>
          <p:nvPr/>
        </p:nvGrpSpPr>
        <p:grpSpPr>
          <a:xfrm>
            <a:off x="6486480" y="3944160"/>
            <a:ext cx="594000" cy="594000"/>
            <a:chOff x="6486480" y="3944160"/>
            <a:chExt cx="594000" cy="594000"/>
          </a:xfrm>
        </p:grpSpPr>
        <p:sp>
          <p:nvSpPr>
            <p:cNvPr id="213" name="椭圆 17"/>
            <p:cNvSpPr/>
            <p:nvPr/>
          </p:nvSpPr>
          <p:spPr>
            <a:xfrm>
              <a:off x="6486480" y="394416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4" name="文本框 19"/>
            <p:cNvSpPr/>
            <p:nvPr/>
          </p:nvSpPr>
          <p:spPr>
            <a:xfrm>
              <a:off x="6646680" y="405648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2"/>
          <p:cNvGrpSpPr/>
          <p:nvPr/>
        </p:nvGrpSpPr>
        <p:grpSpPr>
          <a:xfrm>
            <a:off x="6486480" y="1314360"/>
            <a:ext cx="4859280" cy="1753560"/>
            <a:chOff x="6486480" y="1314360"/>
            <a:chExt cx="4859280" cy="1753560"/>
          </a:xfrm>
        </p:grpSpPr>
        <p:sp>
          <p:nvSpPr>
            <p:cNvPr id="216" name="文本框 23"/>
            <p:cNvSpPr/>
            <p:nvPr/>
          </p:nvSpPr>
          <p:spPr>
            <a:xfrm>
              <a:off x="7206480" y="1314360"/>
              <a:ext cx="413928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500"/>
                </a:lnSpc>
                <a:spcAft>
                  <a:spcPts val="601"/>
                </a:spcAf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28"/>
            <p:cNvGrpSpPr/>
            <p:nvPr/>
          </p:nvGrpSpPr>
          <p:grpSpPr>
            <a:xfrm>
              <a:off x="6486480" y="1314360"/>
              <a:ext cx="594000" cy="594000"/>
              <a:chOff x="6486480" y="1314360"/>
              <a:chExt cx="594000" cy="594000"/>
            </a:xfrm>
          </p:grpSpPr>
          <p:sp>
            <p:nvSpPr>
              <p:cNvPr id="218" name="椭圆 22"/>
              <p:cNvSpPr/>
              <p:nvPr/>
            </p:nvSpPr>
            <p:spPr>
              <a:xfrm>
                <a:off x="6486480" y="131436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19" name="文本框 24"/>
              <p:cNvSpPr/>
              <p:nvPr/>
            </p:nvSpPr>
            <p:spPr>
              <a:xfrm>
                <a:off x="6646680" y="1427040"/>
                <a:ext cx="331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Num" idx="18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84983F-030C-498A-9866-EB44645B0757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组合 4"/>
          <p:cNvGrpSpPr/>
          <p:nvPr/>
        </p:nvGrpSpPr>
        <p:grpSpPr>
          <a:xfrm>
            <a:off x="1108800" y="240120"/>
            <a:ext cx="3634560" cy="468360"/>
            <a:chOff x="1108800" y="240120"/>
            <a:chExt cx="3634560" cy="468360"/>
          </a:xfrm>
        </p:grpSpPr>
        <p:sp>
          <p:nvSpPr>
            <p:cNvPr id="222" name="矩形 5"/>
            <p:cNvSpPr/>
            <p:nvPr/>
          </p:nvSpPr>
          <p:spPr>
            <a:xfrm>
              <a:off x="1108800" y="240120"/>
              <a:ext cx="347436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23" name="文本框 6"/>
            <p:cNvSpPr/>
            <p:nvPr/>
          </p:nvSpPr>
          <p:spPr>
            <a:xfrm>
              <a:off x="1166040" y="276840"/>
              <a:ext cx="3577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8"/>
          <p:cNvSpPr/>
          <p:nvPr/>
        </p:nvSpPr>
        <p:spPr>
          <a:xfrm>
            <a:off x="1753200" y="1796400"/>
            <a:ext cx="47088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9"/>
          <p:cNvGrpSpPr/>
          <p:nvPr/>
        </p:nvGrpSpPr>
        <p:grpSpPr>
          <a:xfrm>
            <a:off x="1045440" y="1796400"/>
            <a:ext cx="594000" cy="594000"/>
            <a:chOff x="1045440" y="1796400"/>
            <a:chExt cx="594000" cy="594000"/>
          </a:xfrm>
        </p:grpSpPr>
        <p:sp>
          <p:nvSpPr>
            <p:cNvPr id="226" name="椭圆 10"/>
            <p:cNvSpPr/>
            <p:nvPr/>
          </p:nvSpPr>
          <p:spPr>
            <a:xfrm>
              <a:off x="1045440" y="179640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27" name="文本框 11"/>
            <p:cNvSpPr/>
            <p:nvPr/>
          </p:nvSpPr>
          <p:spPr>
            <a:xfrm>
              <a:off x="1205640" y="193176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2"/>
          <p:cNvGrpSpPr/>
          <p:nvPr/>
        </p:nvGrpSpPr>
        <p:grpSpPr>
          <a:xfrm>
            <a:off x="6323760" y="1796400"/>
            <a:ext cx="5021280" cy="2027880"/>
            <a:chOff x="6323760" y="1796400"/>
            <a:chExt cx="5021280" cy="2027880"/>
          </a:xfrm>
        </p:grpSpPr>
        <p:sp>
          <p:nvSpPr>
            <p:cNvPr id="229" name="文本框 13"/>
            <p:cNvSpPr/>
            <p:nvPr/>
          </p:nvSpPr>
          <p:spPr>
            <a:xfrm>
              <a:off x="7043760" y="1796400"/>
              <a:ext cx="4301280" cy="20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组合 14"/>
            <p:cNvGrpSpPr/>
            <p:nvPr/>
          </p:nvGrpSpPr>
          <p:grpSpPr>
            <a:xfrm>
              <a:off x="6323760" y="1796400"/>
              <a:ext cx="594000" cy="594000"/>
              <a:chOff x="6323760" y="1796400"/>
              <a:chExt cx="594000" cy="594000"/>
            </a:xfrm>
          </p:grpSpPr>
          <p:sp>
            <p:nvSpPr>
              <p:cNvPr id="231" name="椭圆 15"/>
              <p:cNvSpPr/>
              <p:nvPr/>
            </p:nvSpPr>
            <p:spPr>
              <a:xfrm>
                <a:off x="6323760" y="179640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32" name="文本框 16"/>
              <p:cNvSpPr/>
              <p:nvPr/>
            </p:nvSpPr>
            <p:spPr>
              <a:xfrm>
                <a:off x="6455160" y="1931760"/>
                <a:ext cx="331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9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A8CFDE-3609-49EC-BA5D-5AB5A2D6A5F9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5" name="文本框 5"/>
          <p:cNvSpPr/>
          <p:nvPr/>
        </p:nvSpPr>
        <p:spPr>
          <a:xfrm>
            <a:off x="4086720" y="214668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直接连接符 6"/>
          <p:cNvCxnSpPr/>
          <p:nvPr/>
        </p:nvCxnSpPr>
        <p:spPr>
          <a:xfrm>
            <a:off x="4939200" y="231408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237" name="文本框 7"/>
          <p:cNvSpPr/>
          <p:nvPr/>
        </p:nvSpPr>
        <p:spPr>
          <a:xfrm>
            <a:off x="5029560" y="2529720"/>
            <a:ext cx="3481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作风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Num" idx="20"/>
          </p:nvPr>
        </p:nvSpPr>
        <p:spPr>
          <a:xfrm>
            <a:off x="8610480" y="64792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1A72DF-EF9A-4178-9DC8-F256427BE6B1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组合 7"/>
          <p:cNvGrpSpPr/>
          <p:nvPr/>
        </p:nvGrpSpPr>
        <p:grpSpPr>
          <a:xfrm>
            <a:off x="1108800" y="240120"/>
            <a:ext cx="1668600" cy="468360"/>
            <a:chOff x="1108800" y="240120"/>
            <a:chExt cx="1668600" cy="468360"/>
          </a:xfrm>
        </p:grpSpPr>
        <p:sp>
          <p:nvSpPr>
            <p:cNvPr id="240" name="矩形 5"/>
            <p:cNvSpPr/>
            <p:nvPr/>
          </p:nvSpPr>
          <p:spPr>
            <a:xfrm>
              <a:off x="1108800" y="240120"/>
              <a:ext cx="146700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41" name="文本框 6"/>
            <p:cNvSpPr/>
            <p:nvPr/>
          </p:nvSpPr>
          <p:spPr>
            <a:xfrm>
              <a:off x="1310400" y="292320"/>
              <a:ext cx="14670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9"/>
          <p:cNvSpPr/>
          <p:nvPr/>
        </p:nvSpPr>
        <p:spPr>
          <a:xfrm>
            <a:off x="1554480" y="2161080"/>
            <a:ext cx="248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0"/>
          <p:cNvSpPr/>
          <p:nvPr/>
        </p:nvSpPr>
        <p:spPr>
          <a:xfrm>
            <a:off x="834480" y="2918520"/>
            <a:ext cx="348588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4"/>
          <p:cNvGrpSpPr/>
          <p:nvPr/>
        </p:nvGrpSpPr>
        <p:grpSpPr>
          <a:xfrm>
            <a:off x="651600" y="1855440"/>
            <a:ext cx="925560" cy="925560"/>
            <a:chOff x="651600" y="1855440"/>
            <a:chExt cx="925560" cy="925560"/>
          </a:xfrm>
        </p:grpSpPr>
        <p:sp>
          <p:nvSpPr>
            <p:cNvPr id="245" name="椭圆 8"/>
            <p:cNvSpPr/>
            <p:nvPr/>
          </p:nvSpPr>
          <p:spPr>
            <a:xfrm>
              <a:off x="651600" y="1855440"/>
              <a:ext cx="925560" cy="92556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46" name="文本框 11"/>
            <p:cNvSpPr/>
            <p:nvPr/>
          </p:nvSpPr>
          <p:spPr>
            <a:xfrm>
              <a:off x="880200" y="1902960"/>
              <a:ext cx="422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15"/>
          <p:cNvSpPr/>
          <p:nvPr/>
        </p:nvSpPr>
        <p:spPr>
          <a:xfrm>
            <a:off x="5257800" y="2161080"/>
            <a:ext cx="248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6"/>
          <p:cNvSpPr/>
          <p:nvPr/>
        </p:nvSpPr>
        <p:spPr>
          <a:xfrm>
            <a:off x="4537800" y="2918520"/>
            <a:ext cx="34858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0"/>
          <p:cNvSpPr/>
          <p:nvPr/>
        </p:nvSpPr>
        <p:spPr>
          <a:xfrm>
            <a:off x="9029880" y="2161080"/>
            <a:ext cx="27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1"/>
          <p:cNvSpPr/>
          <p:nvPr/>
        </p:nvSpPr>
        <p:spPr>
          <a:xfrm>
            <a:off x="8309520" y="2918520"/>
            <a:ext cx="348588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25"/>
          <p:cNvGrpSpPr/>
          <p:nvPr/>
        </p:nvGrpSpPr>
        <p:grpSpPr>
          <a:xfrm>
            <a:off x="4343400" y="1855440"/>
            <a:ext cx="925560" cy="925560"/>
            <a:chOff x="4343400" y="1855440"/>
            <a:chExt cx="925560" cy="925560"/>
          </a:xfrm>
        </p:grpSpPr>
        <p:sp>
          <p:nvSpPr>
            <p:cNvPr id="252" name="椭圆 26"/>
            <p:cNvSpPr/>
            <p:nvPr/>
          </p:nvSpPr>
          <p:spPr>
            <a:xfrm>
              <a:off x="4343400" y="1855440"/>
              <a:ext cx="925560" cy="92556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53" name="文本框 27"/>
            <p:cNvSpPr/>
            <p:nvPr/>
          </p:nvSpPr>
          <p:spPr>
            <a:xfrm>
              <a:off x="4572000" y="1902960"/>
              <a:ext cx="422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8"/>
          <p:cNvGrpSpPr/>
          <p:nvPr/>
        </p:nvGrpSpPr>
        <p:grpSpPr>
          <a:xfrm>
            <a:off x="8147520" y="1855440"/>
            <a:ext cx="925560" cy="925560"/>
            <a:chOff x="8147520" y="1855440"/>
            <a:chExt cx="925560" cy="925560"/>
          </a:xfrm>
        </p:grpSpPr>
        <p:sp>
          <p:nvSpPr>
            <p:cNvPr id="255" name="椭圆 29"/>
            <p:cNvSpPr/>
            <p:nvPr/>
          </p:nvSpPr>
          <p:spPr>
            <a:xfrm>
              <a:off x="8147520" y="1855440"/>
              <a:ext cx="925560" cy="92556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56" name="文本框 30"/>
            <p:cNvSpPr/>
            <p:nvPr/>
          </p:nvSpPr>
          <p:spPr>
            <a:xfrm>
              <a:off x="8376120" y="1902960"/>
              <a:ext cx="422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  <Words>820</Words>
  <Paragraphs>1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42:58Z</dcterms:created>
  <dc:creator>jianfeng lai</dc:creator>
  <dc:description/>
  <dc:language>en-US</dc:language>
  <cp:lastModifiedBy>yu wang</cp:lastModifiedBy>
  <dcterms:modified xsi:type="dcterms:W3CDTF">2015-08-14T12:49:36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4</vt:r8>
  </property>
</Properties>
</file>