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C3F-C049-465A-AF2E-149609E7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6705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067640"/>
            <a:ext cx="6705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7E6-EF2E-4E0E-BFA8-1F65C60E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6920" y="15998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0676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6920" y="40676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7AA-31DE-407F-8946-FF1BD689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15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8000" y="1599840"/>
            <a:ext cx="215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25280" y="1599840"/>
            <a:ext cx="215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067640"/>
            <a:ext cx="215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8000" y="4067640"/>
            <a:ext cx="215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25280" y="4067640"/>
            <a:ext cx="215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DB5-FFE1-4D8F-8729-B6622DA4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4201-2F84-4515-9465-288B8D04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59CC-25A0-4BF7-835A-462C17B5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7C40-0B65-4DB5-BC6B-717D6CB0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272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6920" y="1599840"/>
            <a:ext cx="3272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378F-99ED-49F2-BC2F-CE33B7F5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238D-DBF7-41D0-9619-C6C6FA93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64771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D9C4-1E07-4B49-A4EB-76EB379B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6920" y="1599840"/>
            <a:ext cx="3272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0676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246A-ACC6-4ABD-97C8-C1AEC2AA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3A3-30AA-478A-A230-29814EF0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272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6920" y="15998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6920" y="40676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AE3D-F14D-44DE-B6CB-0A12F42B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6920" y="15998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067640"/>
            <a:ext cx="6705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72DB-B9BF-43D3-948A-D09EF31D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6705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067640"/>
            <a:ext cx="6705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ED3D-BAD7-4045-A08C-C2A07422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6920" y="15998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0676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6920" y="40676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DA37-F329-4962-B4DC-829303F9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15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8000" y="1599840"/>
            <a:ext cx="215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25280" y="1599840"/>
            <a:ext cx="215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067640"/>
            <a:ext cx="215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8000" y="4067640"/>
            <a:ext cx="215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25280" y="4067640"/>
            <a:ext cx="215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AD19-1C8C-4221-8A96-797E3C66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607-F840-4AD0-B9C2-8EF8E97E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272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6920" y="1599840"/>
            <a:ext cx="3272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DE6-6DA8-42F4-A28B-771E9377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2F9-E3F4-4350-BE61-8258DFA2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64771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CCE-D111-423C-8166-3D2DAF60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6920" y="1599840"/>
            <a:ext cx="3272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0676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7E3-3389-4DE7-A9C0-C2030461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272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6920" y="15998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6920" y="40676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3CD-834C-4166-9A20-CB06EB45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6920" y="1599840"/>
            <a:ext cx="3272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067640"/>
            <a:ext cx="6705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C5E-FEF0-404B-9FC6-C754CCE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59984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9532-C01B-44D1-80E5-609B9F0F9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90720" y="159984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D1E8-DD26-4A35-8535-95D82BB4E8B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1523880" y="1828800"/>
            <a:ext cx="426744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93263"/>
              </a:gs>
              <a:gs pos="50000">
                <a:srgbClr val="3366cc"/>
              </a:gs>
              <a:gs pos="100000">
                <a:srgbClr val="1932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1295280" y="10666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ff69b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66">
                      <a:alpha val="50000"/>
                    </a:srgbClr>
                  </a:outerShdw>
                </a:effectLst>
                <a:latin typeface="Arial Black"/>
              </a:rPr>
              <a:t>Power Template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ff69b"/>
                  </a:gs>
                </a:gsLst>
                <a:lin ang="5400000"/>
              </a:gradFill>
              <a:effectLst>
                <a:outerShdw dist="71785" dir="2700000" blurRad="0" rotWithShape="0">
                  <a:srgbClr val="00006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520" y="201924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国外绿色创意企业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66cc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376e8a"/>
              </a:gs>
              <a:gs pos="50000">
                <a:srgbClr val="66ccff"/>
              </a:gs>
              <a:gs pos="100000">
                <a:srgbClr val="376e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4182a2"/>
              </a:gs>
              <a:gs pos="100000">
                <a:srgbClr val="66cc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e70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fe70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8a7d01"/>
              </a:gs>
              <a:gs pos="50000">
                <a:srgbClr val="ffe701"/>
              </a:gs>
              <a:gs pos="100000">
                <a:srgbClr val="8a7d0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a29301"/>
              </a:gs>
              <a:gs pos="100000">
                <a:srgbClr val="ffe70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14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15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208" name="Oval 16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7"/>
            <p:cNvSpPr/>
            <p:nvPr/>
          </p:nvSpPr>
          <p:spPr>
            <a:xfrm>
              <a:off x="1250640" y="268632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8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9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Oval 20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66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21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3366cc">
                  <a:alpha val="32156"/>
                </a:srgbClr>
              </a:gs>
              <a:gs pos="100000">
                <a:srgbClr val="182f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22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1c376e"/>
              </a:gs>
              <a:gs pos="50000">
                <a:srgbClr val="3366cc"/>
              </a:gs>
              <a:gs pos="100000">
                <a:srgbClr val="1c37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23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204182"/>
              </a:gs>
              <a:gs pos="100000">
                <a:srgbClr val="3366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24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25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218" name="Oval 26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27"/>
            <p:cNvSpPr/>
            <p:nvPr/>
          </p:nvSpPr>
          <p:spPr>
            <a:xfrm>
              <a:off x="3766680" y="268632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28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29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Group 30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223" name="Oval 31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32"/>
            <p:cNvSpPr/>
            <p:nvPr/>
          </p:nvSpPr>
          <p:spPr>
            <a:xfrm>
              <a:off x="6291360" y="2686320"/>
              <a:ext cx="14688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33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34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AutoShape 35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36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37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8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9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0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6"/>
          <p:cNvSpPr/>
          <p:nvPr/>
        </p:nvSpPr>
        <p:spPr>
          <a:xfrm>
            <a:off x="1447920" y="5181480"/>
            <a:ext cx="58672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01"/>
              </a:gs>
              <a:gs pos="100000">
                <a:srgbClr val="fff38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1066680" y="2293920"/>
            <a:ext cx="3041280" cy="2430000"/>
            <a:chOff x="1066680" y="2293920"/>
            <a:chExt cx="3041280" cy="2430000"/>
          </a:xfrm>
        </p:grpSpPr>
        <p:pic>
          <p:nvPicPr>
            <p:cNvPr id="236" name="Picture 8" descr="pan_03"/>
            <p:cNvPicPr/>
            <p:nvPr/>
          </p:nvPicPr>
          <p:blipFill>
            <a:blip r:embed="rId1"/>
            <a:stretch/>
          </p:blipFill>
          <p:spPr>
            <a:xfrm flipH="1">
              <a:off x="1073880" y="2293920"/>
              <a:ext cx="3026880" cy="243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Freeform 9"/>
            <p:cNvGrpSpPr/>
            <p:nvPr/>
          </p:nvGrpSpPr>
          <p:grpSpPr>
            <a:xfrm>
              <a:off x="1066680" y="2297160"/>
              <a:ext cx="3041280" cy="2419560"/>
              <a:chOff x="1066680" y="2297160"/>
              <a:chExt cx="3041280" cy="2419560"/>
            </a:xfrm>
          </p:grpSpPr>
          <p:pic>
            <p:nvPicPr>
              <p:cNvPr id="238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6680" y="2297880"/>
                <a:ext cx="3035520" cy="241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1066680" y="2297160"/>
                <a:ext cx="3041280" cy="24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Text Box 10"/>
          <p:cNvSpPr/>
          <p:nvPr/>
        </p:nvSpPr>
        <p:spPr>
          <a:xfrm>
            <a:off x="1371600" y="282744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2895480" y="1905120"/>
            <a:ext cx="27432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0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Verdana"/>
              </a:rPr>
              <a:t>Your Text Here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  <p:grpSp>
        <p:nvGrpSpPr>
          <p:cNvPr id="242" name="Group 12"/>
          <p:cNvGrpSpPr/>
          <p:nvPr/>
        </p:nvGrpSpPr>
        <p:grpSpPr>
          <a:xfrm>
            <a:off x="4420440" y="2286000"/>
            <a:ext cx="3123720" cy="2437920"/>
            <a:chOff x="4420440" y="2286000"/>
            <a:chExt cx="3123720" cy="2437920"/>
          </a:xfrm>
        </p:grpSpPr>
        <p:pic>
          <p:nvPicPr>
            <p:cNvPr id="243" name="Picture 13" descr="pan_03"/>
            <p:cNvPicPr/>
            <p:nvPr/>
          </p:nvPicPr>
          <p:blipFill>
            <a:blip r:embed="rId3"/>
            <a:stretch/>
          </p:blipFill>
          <p:spPr>
            <a:xfrm>
              <a:off x="4425840" y="2286000"/>
              <a:ext cx="3107880" cy="24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Freeform 14"/>
            <p:cNvGrpSpPr/>
            <p:nvPr/>
          </p:nvGrpSpPr>
          <p:grpSpPr>
            <a:xfrm>
              <a:off x="4420440" y="2291400"/>
              <a:ext cx="3123720" cy="2425320"/>
              <a:chOff x="4420440" y="2291400"/>
              <a:chExt cx="3123720" cy="2425320"/>
            </a:xfrm>
          </p:grpSpPr>
          <p:pic>
            <p:nvPicPr>
              <p:cNvPr id="245" name="Freeform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426200" y="2293920"/>
                <a:ext cx="3117960" cy="242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4420440" y="2291400"/>
                <a:ext cx="3120840" cy="24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Text Box 15"/>
          <p:cNvSpPr/>
          <p:nvPr/>
        </p:nvSpPr>
        <p:spPr>
          <a:xfrm>
            <a:off x="4648320" y="292248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1828800" y="527364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9" descr="173"/>
          <p:cNvPicPr/>
          <p:nvPr/>
        </p:nvPicPr>
        <p:blipFill>
          <a:blip r:embed="rId5"/>
          <a:stretch/>
        </p:blipFill>
        <p:spPr>
          <a:xfrm>
            <a:off x="3276720" y="3581280"/>
            <a:ext cx="1676160" cy="1600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9"/>
          <p:cNvSpPr/>
          <p:nvPr/>
        </p:nvSpPr>
        <p:spPr>
          <a:xfrm>
            <a:off x="838080" y="6523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ccff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15"/>
          <p:cNvSpPr/>
          <p:nvPr/>
        </p:nvSpPr>
        <p:spPr>
          <a:xfrm>
            <a:off x="3886200" y="2057400"/>
            <a:ext cx="3505320" cy="3276720"/>
          </a:xfrm>
          <a:prstGeom prst="leftArrowCallout">
            <a:avLst>
              <a:gd name="adj1" fmla="val 25002"/>
              <a:gd name="adj2" fmla="val 25000"/>
              <a:gd name="adj3" fmla="val 17829"/>
              <a:gd name="adj4" fmla="val 76961"/>
            </a:avLst>
          </a:prstGeom>
          <a:gradFill rotWithShape="0">
            <a:gsLst>
              <a:gs pos="0">
                <a:srgbClr val="0c1932"/>
              </a:gs>
              <a:gs pos="100000">
                <a:srgbClr val="3366cc"/>
              </a:gs>
            </a:gsLst>
            <a:lin ang="2700000"/>
          </a:gra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143000" y="205740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14" descr="244"/>
          <p:cNvPicPr/>
          <p:nvPr/>
        </p:nvPicPr>
        <p:blipFill>
          <a:blip r:embed="rId1"/>
          <a:stretch/>
        </p:blipFill>
        <p:spPr>
          <a:xfrm>
            <a:off x="1143000" y="3124080"/>
            <a:ext cx="2971800" cy="26258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4952880" y="243828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e70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cc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828800" y="1828800"/>
            <a:ext cx="5486400" cy="3962160"/>
            <a:chOff x="1828800" y="1828800"/>
            <a:chExt cx="5486400" cy="3962160"/>
          </a:xfrm>
        </p:grpSpPr>
        <p:sp>
          <p:nvSpPr>
            <p:cNvPr id="258" name="AutoShape 4"/>
            <p:cNvSpPr/>
            <p:nvPr/>
          </p:nvSpPr>
          <p:spPr>
            <a:xfrm>
              <a:off x="1828800" y="1828800"/>
              <a:ext cx="5486400" cy="1229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5"/>
            <p:cNvSpPr/>
            <p:nvPr/>
          </p:nvSpPr>
          <p:spPr>
            <a:xfrm>
              <a:off x="1949040" y="1942200"/>
              <a:ext cx="105660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Freeform 6"/>
            <p:cNvGrpSpPr/>
            <p:nvPr/>
          </p:nvGrpSpPr>
          <p:grpSpPr>
            <a:xfrm>
              <a:off x="2011320" y="2005560"/>
              <a:ext cx="523440" cy="499680"/>
              <a:chOff x="2011320" y="2005560"/>
              <a:chExt cx="523440" cy="499680"/>
            </a:xfrm>
          </p:grpSpPr>
          <p:pic>
            <p:nvPicPr>
              <p:cNvPr id="261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011320" y="2005560"/>
                <a:ext cx="516960" cy="4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2013840" y="2007000"/>
                <a:ext cx="52092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Text Box 7"/>
            <p:cNvSpPr/>
            <p:nvPr/>
          </p:nvSpPr>
          <p:spPr>
            <a:xfrm>
              <a:off x="2040480" y="22165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8"/>
            <p:cNvSpPr/>
            <p:nvPr/>
          </p:nvSpPr>
          <p:spPr>
            <a:xfrm>
              <a:off x="3151080" y="2018880"/>
              <a:ext cx="403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9"/>
            <p:cNvSpPr/>
            <p:nvPr/>
          </p:nvSpPr>
          <p:spPr>
            <a:xfrm>
              <a:off x="1828800" y="3187800"/>
              <a:ext cx="5486400" cy="12276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>
              <a:off x="1949040" y="3299760"/>
              <a:ext cx="105660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1"/>
            <p:cNvSpPr/>
            <p:nvPr/>
          </p:nvSpPr>
          <p:spPr>
            <a:xfrm>
              <a:off x="2014560" y="3364920"/>
              <a:ext cx="52812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2"/>
            <p:cNvSpPr/>
            <p:nvPr/>
          </p:nvSpPr>
          <p:spPr>
            <a:xfrm>
              <a:off x="2040480" y="35769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3151080" y="3354480"/>
              <a:ext cx="403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AutoShape 14"/>
            <p:cNvSpPr/>
            <p:nvPr/>
          </p:nvSpPr>
          <p:spPr>
            <a:xfrm>
              <a:off x="1828800" y="4561920"/>
              <a:ext cx="5486400" cy="1229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utoShape 15"/>
            <p:cNvSpPr/>
            <p:nvPr/>
          </p:nvSpPr>
          <p:spPr>
            <a:xfrm>
              <a:off x="1949040" y="4675320"/>
              <a:ext cx="1056600" cy="1005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2014560" y="4740120"/>
              <a:ext cx="52812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17"/>
            <p:cNvSpPr/>
            <p:nvPr/>
          </p:nvSpPr>
          <p:spPr>
            <a:xfrm>
              <a:off x="2040480" y="49492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>
              <a:off x="3151080" y="4729680"/>
              <a:ext cx="403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0" y="3086280"/>
            <a:ext cx="9144000" cy="122040"/>
            <a:chOff x="0" y="3086280"/>
            <a:chExt cx="9144000" cy="122040"/>
          </a:xfrm>
        </p:grpSpPr>
        <p:sp>
          <p:nvSpPr>
            <p:cNvPr id="277" name="Rectangle 5"/>
            <p:cNvSpPr/>
            <p:nvPr/>
          </p:nvSpPr>
          <p:spPr>
            <a:xfrm>
              <a:off x="0" y="308628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6"/>
            <p:cNvSpPr/>
            <p:nvPr/>
          </p:nvSpPr>
          <p:spPr>
            <a:xfrm>
              <a:off x="0" y="313308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Group 7"/>
          <p:cNvGrpSpPr/>
          <p:nvPr/>
        </p:nvGrpSpPr>
        <p:grpSpPr>
          <a:xfrm>
            <a:off x="762120" y="2533680"/>
            <a:ext cx="1932480" cy="3264480"/>
            <a:chOff x="762120" y="2533680"/>
            <a:chExt cx="1932480" cy="3264480"/>
          </a:xfrm>
        </p:grpSpPr>
        <p:grpSp>
          <p:nvGrpSpPr>
            <p:cNvPr id="280" name="Group 8"/>
            <p:cNvGrpSpPr/>
            <p:nvPr/>
          </p:nvGrpSpPr>
          <p:grpSpPr>
            <a:xfrm>
              <a:off x="1170720" y="3376440"/>
              <a:ext cx="1523880" cy="2421720"/>
              <a:chOff x="1170720" y="3376440"/>
              <a:chExt cx="1523880" cy="2421720"/>
            </a:xfrm>
          </p:grpSpPr>
          <p:grpSp>
            <p:nvGrpSpPr>
              <p:cNvPr id="281" name="Group 9"/>
              <p:cNvGrpSpPr/>
              <p:nvPr/>
            </p:nvGrpSpPr>
            <p:grpSpPr>
              <a:xfrm>
                <a:off x="1170720" y="3534120"/>
                <a:ext cx="1418400" cy="2264040"/>
                <a:chOff x="1170720" y="3534120"/>
                <a:chExt cx="1418400" cy="2264040"/>
              </a:xfrm>
            </p:grpSpPr>
            <p:sp>
              <p:nvSpPr>
                <p:cNvPr id="282" name="Freeform 10"/>
                <p:cNvSpPr/>
                <p:nvPr/>
              </p:nvSpPr>
              <p:spPr>
                <a:xfrm rot="3876600">
                  <a:off x="743400" y="4420440"/>
                  <a:ext cx="2273040" cy="491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11"/>
                <p:cNvSpPr/>
                <p:nvPr/>
              </p:nvSpPr>
              <p:spPr>
                <a:xfrm rot="3876600">
                  <a:off x="2108880" y="5298480"/>
                  <a:ext cx="357120" cy="402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Group 12"/>
              <p:cNvGrpSpPr/>
              <p:nvPr/>
            </p:nvGrpSpPr>
            <p:grpSpPr>
              <a:xfrm>
                <a:off x="1606320" y="3376440"/>
                <a:ext cx="1088280" cy="1737360"/>
                <a:chOff x="1606320" y="3376440"/>
                <a:chExt cx="1088280" cy="1737360"/>
              </a:xfrm>
            </p:grpSpPr>
            <p:sp>
              <p:nvSpPr>
                <p:cNvPr id="285" name="Freeform 13"/>
                <p:cNvSpPr/>
                <p:nvPr/>
              </p:nvSpPr>
              <p:spPr>
                <a:xfrm flipV="1" rot="3876600">
                  <a:off x="1278360" y="4056480"/>
                  <a:ext cx="1744200" cy="376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4"/>
                <p:cNvSpPr/>
                <p:nvPr/>
              </p:nvSpPr>
              <p:spPr>
                <a:xfrm flipV="1" rot="3876600">
                  <a:off x="2310840" y="4736880"/>
                  <a:ext cx="273960" cy="3085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5"/>
            <p:cNvGrpSpPr/>
            <p:nvPr/>
          </p:nvGrpSpPr>
          <p:grpSpPr>
            <a:xfrm>
              <a:off x="762120" y="2533680"/>
              <a:ext cx="1268280" cy="1307880"/>
              <a:chOff x="762120" y="2533680"/>
              <a:chExt cx="1268280" cy="1307880"/>
            </a:xfrm>
          </p:grpSpPr>
          <p:sp>
            <p:nvSpPr>
              <p:cNvPr id="288" name="Oval 16"/>
              <p:cNvSpPr/>
              <p:nvPr/>
            </p:nvSpPr>
            <p:spPr>
              <a:xfrm>
                <a:off x="762120" y="2533680"/>
                <a:ext cx="1268280" cy="13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17"/>
              <p:cNvSpPr/>
              <p:nvPr/>
            </p:nvSpPr>
            <p:spPr>
              <a:xfrm>
                <a:off x="762120" y="2533680"/>
                <a:ext cx="1268280" cy="130788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18"/>
              <p:cNvSpPr/>
              <p:nvPr/>
            </p:nvSpPr>
            <p:spPr>
              <a:xfrm>
                <a:off x="845640" y="2618640"/>
                <a:ext cx="1100520" cy="11365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19"/>
              <p:cNvSpPr/>
              <p:nvPr/>
            </p:nvSpPr>
            <p:spPr>
              <a:xfrm>
                <a:off x="845640" y="2621520"/>
                <a:ext cx="1100520" cy="11365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20"/>
              <p:cNvSpPr/>
              <p:nvPr/>
            </p:nvSpPr>
            <p:spPr>
              <a:xfrm>
                <a:off x="900360" y="2676240"/>
                <a:ext cx="991440" cy="1022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3" name="Group 21"/>
              <p:cNvGrpSpPr/>
              <p:nvPr/>
            </p:nvGrpSpPr>
            <p:grpSpPr>
              <a:xfrm>
                <a:off x="915840" y="2692080"/>
                <a:ext cx="960480" cy="992160"/>
                <a:chOff x="915840" y="2692080"/>
                <a:chExt cx="960480" cy="992160"/>
              </a:xfrm>
            </p:grpSpPr>
            <p:sp>
              <p:nvSpPr>
                <p:cNvPr id="294" name="Oval 22"/>
                <p:cNvSpPr/>
                <p:nvPr/>
              </p:nvSpPr>
              <p:spPr>
                <a:xfrm>
                  <a:off x="915840" y="269208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3"/>
                <p:cNvSpPr/>
                <p:nvPr/>
              </p:nvSpPr>
              <p:spPr>
                <a:xfrm>
                  <a:off x="927720" y="269748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4"/>
                <p:cNvSpPr/>
                <p:nvPr/>
              </p:nvSpPr>
              <p:spPr>
                <a:xfrm>
                  <a:off x="937800" y="2706840"/>
                  <a:ext cx="891360" cy="90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Oval 25"/>
                <p:cNvSpPr/>
                <p:nvPr/>
              </p:nvSpPr>
              <p:spPr>
                <a:xfrm>
                  <a:off x="990000" y="273240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8" name="Text Box 26"/>
            <p:cNvSpPr/>
            <p:nvPr/>
          </p:nvSpPr>
          <p:spPr>
            <a:xfrm rot="3925800">
              <a:off x="1126800" y="43484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7"/>
            <p:cNvSpPr/>
            <p:nvPr/>
          </p:nvSpPr>
          <p:spPr>
            <a:xfrm rot="3925800">
              <a:off x="1591560" y="40730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28"/>
          <p:cNvGrpSpPr/>
          <p:nvPr/>
        </p:nvGrpSpPr>
        <p:grpSpPr>
          <a:xfrm>
            <a:off x="2509920" y="2533680"/>
            <a:ext cx="1930320" cy="3264480"/>
            <a:chOff x="2509920" y="2533680"/>
            <a:chExt cx="1930320" cy="3264480"/>
          </a:xfrm>
        </p:grpSpPr>
        <p:grpSp>
          <p:nvGrpSpPr>
            <p:cNvPr id="301" name="Group 29"/>
            <p:cNvGrpSpPr/>
            <p:nvPr/>
          </p:nvGrpSpPr>
          <p:grpSpPr>
            <a:xfrm>
              <a:off x="2916360" y="3376440"/>
              <a:ext cx="1523880" cy="2421720"/>
              <a:chOff x="2916360" y="3376440"/>
              <a:chExt cx="1523880" cy="2421720"/>
            </a:xfrm>
          </p:grpSpPr>
          <p:grpSp>
            <p:nvGrpSpPr>
              <p:cNvPr id="302" name="Group 30"/>
              <p:cNvGrpSpPr/>
              <p:nvPr/>
            </p:nvGrpSpPr>
            <p:grpSpPr>
              <a:xfrm>
                <a:off x="2916360" y="3534120"/>
                <a:ext cx="1418400" cy="2264040"/>
                <a:chOff x="2916360" y="3534120"/>
                <a:chExt cx="1418400" cy="2264040"/>
              </a:xfrm>
            </p:grpSpPr>
            <p:sp>
              <p:nvSpPr>
                <p:cNvPr id="303" name="Freeform 31"/>
                <p:cNvSpPr/>
                <p:nvPr/>
              </p:nvSpPr>
              <p:spPr>
                <a:xfrm rot="3876600">
                  <a:off x="2489040" y="4420440"/>
                  <a:ext cx="2273040" cy="491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2"/>
                <p:cNvSpPr/>
                <p:nvPr/>
              </p:nvSpPr>
              <p:spPr>
                <a:xfrm rot="3876600">
                  <a:off x="3854520" y="5298840"/>
                  <a:ext cx="357120" cy="402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3"/>
              <p:cNvGrpSpPr/>
              <p:nvPr/>
            </p:nvGrpSpPr>
            <p:grpSpPr>
              <a:xfrm>
                <a:off x="3351960" y="3376440"/>
                <a:ext cx="1088280" cy="1737360"/>
                <a:chOff x="3351960" y="3376440"/>
                <a:chExt cx="1088280" cy="1737360"/>
              </a:xfrm>
            </p:grpSpPr>
            <p:sp>
              <p:nvSpPr>
                <p:cNvPr id="306" name="Freeform 34"/>
                <p:cNvSpPr/>
                <p:nvPr/>
              </p:nvSpPr>
              <p:spPr>
                <a:xfrm flipV="1" rot="3876600">
                  <a:off x="3024000" y="4056480"/>
                  <a:ext cx="1744200" cy="376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5"/>
                <p:cNvSpPr/>
                <p:nvPr/>
              </p:nvSpPr>
              <p:spPr>
                <a:xfrm flipV="1" rot="3876600">
                  <a:off x="4056480" y="4737240"/>
                  <a:ext cx="273960" cy="3085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6"/>
            <p:cNvGrpSpPr/>
            <p:nvPr/>
          </p:nvGrpSpPr>
          <p:grpSpPr>
            <a:xfrm>
              <a:off x="2509920" y="2533680"/>
              <a:ext cx="1268280" cy="1307880"/>
              <a:chOff x="2509920" y="2533680"/>
              <a:chExt cx="1268280" cy="1307880"/>
            </a:xfrm>
          </p:grpSpPr>
          <p:sp>
            <p:nvSpPr>
              <p:cNvPr id="309" name="Oval 37"/>
              <p:cNvSpPr/>
              <p:nvPr/>
            </p:nvSpPr>
            <p:spPr>
              <a:xfrm>
                <a:off x="2509920" y="2533680"/>
                <a:ext cx="1268280" cy="13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38"/>
              <p:cNvSpPr/>
              <p:nvPr/>
            </p:nvSpPr>
            <p:spPr>
              <a:xfrm>
                <a:off x="2509920" y="2533680"/>
                <a:ext cx="1268280" cy="130788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39"/>
              <p:cNvSpPr/>
              <p:nvPr/>
            </p:nvSpPr>
            <p:spPr>
              <a:xfrm>
                <a:off x="2593440" y="2618640"/>
                <a:ext cx="1100520" cy="11365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40"/>
              <p:cNvSpPr/>
              <p:nvPr/>
            </p:nvSpPr>
            <p:spPr>
              <a:xfrm>
                <a:off x="2593440" y="2621520"/>
                <a:ext cx="1100520" cy="11365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41"/>
              <p:cNvSpPr/>
              <p:nvPr/>
            </p:nvSpPr>
            <p:spPr>
              <a:xfrm>
                <a:off x="2648160" y="2676240"/>
                <a:ext cx="991440" cy="1022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4" name="Group 42"/>
              <p:cNvGrpSpPr/>
              <p:nvPr/>
            </p:nvGrpSpPr>
            <p:grpSpPr>
              <a:xfrm>
                <a:off x="2663640" y="2692080"/>
                <a:ext cx="960480" cy="992160"/>
                <a:chOff x="2663640" y="2692080"/>
                <a:chExt cx="960480" cy="992160"/>
              </a:xfrm>
            </p:grpSpPr>
            <p:sp>
              <p:nvSpPr>
                <p:cNvPr id="315" name="Oval 43"/>
                <p:cNvSpPr/>
                <p:nvPr/>
              </p:nvSpPr>
              <p:spPr>
                <a:xfrm>
                  <a:off x="2663640" y="269208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Oval 44"/>
                <p:cNvSpPr/>
                <p:nvPr/>
              </p:nvSpPr>
              <p:spPr>
                <a:xfrm>
                  <a:off x="2675520" y="269748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45"/>
                <p:cNvSpPr/>
                <p:nvPr/>
              </p:nvSpPr>
              <p:spPr>
                <a:xfrm>
                  <a:off x="2685600" y="2706840"/>
                  <a:ext cx="891360" cy="90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Oval 46"/>
                <p:cNvSpPr/>
                <p:nvPr/>
              </p:nvSpPr>
              <p:spPr>
                <a:xfrm>
                  <a:off x="2737800" y="273240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9" name="Text Box 47"/>
            <p:cNvSpPr/>
            <p:nvPr/>
          </p:nvSpPr>
          <p:spPr>
            <a:xfrm rot="3925800">
              <a:off x="2868120" y="43484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48"/>
            <p:cNvSpPr/>
            <p:nvPr/>
          </p:nvSpPr>
          <p:spPr>
            <a:xfrm rot="3925800">
              <a:off x="3333240" y="40730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49"/>
          <p:cNvGrpSpPr/>
          <p:nvPr/>
        </p:nvGrpSpPr>
        <p:grpSpPr>
          <a:xfrm>
            <a:off x="4313160" y="2533680"/>
            <a:ext cx="1932120" cy="3264480"/>
            <a:chOff x="4313160" y="2533680"/>
            <a:chExt cx="1932120" cy="3264480"/>
          </a:xfrm>
        </p:grpSpPr>
        <p:grpSp>
          <p:nvGrpSpPr>
            <p:cNvPr id="322" name="Group 50"/>
            <p:cNvGrpSpPr/>
            <p:nvPr/>
          </p:nvGrpSpPr>
          <p:grpSpPr>
            <a:xfrm>
              <a:off x="4721400" y="3376440"/>
              <a:ext cx="1523880" cy="2421720"/>
              <a:chOff x="4721400" y="3376440"/>
              <a:chExt cx="1523880" cy="2421720"/>
            </a:xfrm>
          </p:grpSpPr>
          <p:grpSp>
            <p:nvGrpSpPr>
              <p:cNvPr id="323" name="Group 51"/>
              <p:cNvGrpSpPr/>
              <p:nvPr/>
            </p:nvGrpSpPr>
            <p:grpSpPr>
              <a:xfrm>
                <a:off x="4721400" y="3534120"/>
                <a:ext cx="1418400" cy="2264040"/>
                <a:chOff x="4721400" y="3534120"/>
                <a:chExt cx="1418400" cy="2264040"/>
              </a:xfrm>
            </p:grpSpPr>
            <p:sp>
              <p:nvSpPr>
                <p:cNvPr id="324" name="Freeform 52"/>
                <p:cNvSpPr/>
                <p:nvPr/>
              </p:nvSpPr>
              <p:spPr>
                <a:xfrm rot="3876600">
                  <a:off x="4294080" y="4420440"/>
                  <a:ext cx="2273040" cy="491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53"/>
                <p:cNvSpPr/>
                <p:nvPr/>
              </p:nvSpPr>
              <p:spPr>
                <a:xfrm rot="3876600">
                  <a:off x="5659560" y="5298840"/>
                  <a:ext cx="357120" cy="402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54"/>
              <p:cNvGrpSpPr/>
              <p:nvPr/>
            </p:nvGrpSpPr>
            <p:grpSpPr>
              <a:xfrm>
                <a:off x="5157000" y="3376440"/>
                <a:ext cx="1088280" cy="1737360"/>
                <a:chOff x="5157000" y="3376440"/>
                <a:chExt cx="1088280" cy="1737360"/>
              </a:xfrm>
            </p:grpSpPr>
            <p:sp>
              <p:nvSpPr>
                <p:cNvPr id="327" name="Freeform 55"/>
                <p:cNvSpPr/>
                <p:nvPr/>
              </p:nvSpPr>
              <p:spPr>
                <a:xfrm flipV="1" rot="3876600">
                  <a:off x="4829040" y="4056480"/>
                  <a:ext cx="1744200" cy="376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56"/>
                <p:cNvSpPr/>
                <p:nvPr/>
              </p:nvSpPr>
              <p:spPr>
                <a:xfrm flipV="1" rot="3876600">
                  <a:off x="5861520" y="4737240"/>
                  <a:ext cx="273960" cy="3085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9" name="Group 57"/>
            <p:cNvGrpSpPr/>
            <p:nvPr/>
          </p:nvGrpSpPr>
          <p:grpSpPr>
            <a:xfrm>
              <a:off x="4313160" y="2533680"/>
              <a:ext cx="1270080" cy="1307880"/>
              <a:chOff x="4313160" y="2533680"/>
              <a:chExt cx="1270080" cy="1307880"/>
            </a:xfrm>
          </p:grpSpPr>
          <p:sp>
            <p:nvSpPr>
              <p:cNvPr id="330" name="Oval 58"/>
              <p:cNvSpPr/>
              <p:nvPr/>
            </p:nvSpPr>
            <p:spPr>
              <a:xfrm>
                <a:off x="4313160" y="2533680"/>
                <a:ext cx="1270080" cy="13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9"/>
              <p:cNvSpPr/>
              <p:nvPr/>
            </p:nvSpPr>
            <p:spPr>
              <a:xfrm>
                <a:off x="4313160" y="2533680"/>
                <a:ext cx="1270080" cy="130788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60"/>
              <p:cNvSpPr/>
              <p:nvPr/>
            </p:nvSpPr>
            <p:spPr>
              <a:xfrm>
                <a:off x="4396680" y="2618640"/>
                <a:ext cx="1102320" cy="11365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61"/>
              <p:cNvSpPr/>
              <p:nvPr/>
            </p:nvSpPr>
            <p:spPr>
              <a:xfrm>
                <a:off x="4396680" y="2621520"/>
                <a:ext cx="1102320" cy="11365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62"/>
              <p:cNvSpPr/>
              <p:nvPr/>
            </p:nvSpPr>
            <p:spPr>
              <a:xfrm>
                <a:off x="4451400" y="2676240"/>
                <a:ext cx="992880" cy="1022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5" name="Group 63"/>
              <p:cNvGrpSpPr/>
              <p:nvPr/>
            </p:nvGrpSpPr>
            <p:grpSpPr>
              <a:xfrm>
                <a:off x="4466880" y="2692080"/>
                <a:ext cx="961920" cy="992160"/>
                <a:chOff x="4466880" y="2692080"/>
                <a:chExt cx="961920" cy="992160"/>
              </a:xfrm>
            </p:grpSpPr>
            <p:sp>
              <p:nvSpPr>
                <p:cNvPr id="336" name="Oval 64"/>
                <p:cNvSpPr/>
                <p:nvPr/>
              </p:nvSpPr>
              <p:spPr>
                <a:xfrm>
                  <a:off x="4466880" y="2692080"/>
                  <a:ext cx="96192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Oval 65"/>
                <p:cNvSpPr/>
                <p:nvPr/>
              </p:nvSpPr>
              <p:spPr>
                <a:xfrm>
                  <a:off x="4478760" y="2697480"/>
                  <a:ext cx="93888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Oval 66"/>
                <p:cNvSpPr/>
                <p:nvPr/>
              </p:nvSpPr>
              <p:spPr>
                <a:xfrm>
                  <a:off x="4488840" y="2706840"/>
                  <a:ext cx="892800" cy="90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Oval 67"/>
                <p:cNvSpPr/>
                <p:nvPr/>
              </p:nvSpPr>
              <p:spPr>
                <a:xfrm>
                  <a:off x="4541400" y="2732400"/>
                  <a:ext cx="79344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0" name="Text Box 68"/>
            <p:cNvSpPr/>
            <p:nvPr/>
          </p:nvSpPr>
          <p:spPr>
            <a:xfrm rot="3925800">
              <a:off x="4681080" y="43484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69"/>
            <p:cNvSpPr/>
            <p:nvPr/>
          </p:nvSpPr>
          <p:spPr>
            <a:xfrm rot="3925800">
              <a:off x="5145840" y="40730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70"/>
          <p:cNvGrpSpPr/>
          <p:nvPr/>
        </p:nvGrpSpPr>
        <p:grpSpPr>
          <a:xfrm>
            <a:off x="6089760" y="2389320"/>
            <a:ext cx="2122920" cy="3476160"/>
            <a:chOff x="6089760" y="2389320"/>
            <a:chExt cx="2122920" cy="3476160"/>
          </a:xfrm>
        </p:grpSpPr>
        <p:grpSp>
          <p:nvGrpSpPr>
            <p:cNvPr id="343" name="Group 71"/>
            <p:cNvGrpSpPr/>
            <p:nvPr/>
          </p:nvGrpSpPr>
          <p:grpSpPr>
            <a:xfrm>
              <a:off x="6688800" y="3443400"/>
              <a:ext cx="1523880" cy="2422080"/>
              <a:chOff x="6688800" y="3443400"/>
              <a:chExt cx="1523880" cy="2422080"/>
            </a:xfrm>
          </p:grpSpPr>
          <p:grpSp>
            <p:nvGrpSpPr>
              <p:cNvPr id="344" name="Group 72"/>
              <p:cNvGrpSpPr/>
              <p:nvPr/>
            </p:nvGrpSpPr>
            <p:grpSpPr>
              <a:xfrm>
                <a:off x="6688800" y="3601080"/>
                <a:ext cx="1418760" cy="2264400"/>
                <a:chOff x="6688800" y="3601080"/>
                <a:chExt cx="1418760" cy="2264400"/>
              </a:xfrm>
            </p:grpSpPr>
            <p:sp>
              <p:nvSpPr>
                <p:cNvPr id="345" name="Freeform 73"/>
                <p:cNvSpPr/>
                <p:nvPr/>
              </p:nvSpPr>
              <p:spPr>
                <a:xfrm rot="3876600">
                  <a:off x="6261120" y="4487400"/>
                  <a:ext cx="2273400" cy="491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74"/>
                <p:cNvSpPr/>
                <p:nvPr/>
              </p:nvSpPr>
              <p:spPr>
                <a:xfrm rot="3876600">
                  <a:off x="7626960" y="5365800"/>
                  <a:ext cx="357120" cy="402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75"/>
              <p:cNvGrpSpPr/>
              <p:nvPr/>
            </p:nvGrpSpPr>
            <p:grpSpPr>
              <a:xfrm>
                <a:off x="7124040" y="3443400"/>
                <a:ext cx="1088640" cy="1737720"/>
                <a:chOff x="7124040" y="3443400"/>
                <a:chExt cx="1088640" cy="1737720"/>
              </a:xfrm>
            </p:grpSpPr>
            <p:sp>
              <p:nvSpPr>
                <p:cNvPr id="348" name="Freeform 76"/>
                <p:cNvSpPr/>
                <p:nvPr/>
              </p:nvSpPr>
              <p:spPr>
                <a:xfrm flipV="1" rot="3876600">
                  <a:off x="6795720" y="4123440"/>
                  <a:ext cx="1744560" cy="376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77"/>
                <p:cNvSpPr/>
                <p:nvPr/>
              </p:nvSpPr>
              <p:spPr>
                <a:xfrm flipV="1" rot="3876600">
                  <a:off x="7828920" y="4803840"/>
                  <a:ext cx="273960" cy="3085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0" name="Oval 78"/>
            <p:cNvSpPr/>
            <p:nvPr/>
          </p:nvSpPr>
          <p:spPr>
            <a:xfrm>
              <a:off x="6089760" y="2389320"/>
              <a:ext cx="1523880" cy="1568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79"/>
            <p:cNvSpPr/>
            <p:nvPr/>
          </p:nvSpPr>
          <p:spPr>
            <a:xfrm>
              <a:off x="6089760" y="2389320"/>
              <a:ext cx="1523880" cy="1568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80"/>
            <p:cNvSpPr/>
            <p:nvPr/>
          </p:nvSpPr>
          <p:spPr>
            <a:xfrm>
              <a:off x="6191280" y="2492640"/>
              <a:ext cx="1324080" cy="136188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81"/>
            <p:cNvSpPr/>
            <p:nvPr/>
          </p:nvSpPr>
          <p:spPr>
            <a:xfrm>
              <a:off x="6192720" y="2495520"/>
              <a:ext cx="1324080" cy="13622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82"/>
            <p:cNvSpPr/>
            <p:nvPr/>
          </p:nvSpPr>
          <p:spPr>
            <a:xfrm>
              <a:off x="6256440" y="2560680"/>
              <a:ext cx="1191960" cy="122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83"/>
            <p:cNvGrpSpPr/>
            <p:nvPr/>
          </p:nvGrpSpPr>
          <p:grpSpPr>
            <a:xfrm>
              <a:off x="6275520" y="2579760"/>
              <a:ext cx="1155600" cy="1189080"/>
              <a:chOff x="6275520" y="2579760"/>
              <a:chExt cx="1155600" cy="1189080"/>
            </a:xfrm>
          </p:grpSpPr>
          <p:sp>
            <p:nvSpPr>
              <p:cNvPr id="356" name="Oval 84"/>
              <p:cNvSpPr/>
              <p:nvPr/>
            </p:nvSpPr>
            <p:spPr>
              <a:xfrm>
                <a:off x="6275520" y="2579760"/>
                <a:ext cx="1155600" cy="1189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85"/>
              <p:cNvSpPr/>
              <p:nvPr/>
            </p:nvSpPr>
            <p:spPr>
              <a:xfrm>
                <a:off x="6289920" y="2586240"/>
                <a:ext cx="1127880" cy="1159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86"/>
              <p:cNvSpPr/>
              <p:nvPr/>
            </p:nvSpPr>
            <p:spPr>
              <a:xfrm>
                <a:off x="6302160" y="2597760"/>
                <a:ext cx="1072440" cy="108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7"/>
              <p:cNvSpPr/>
              <p:nvPr/>
            </p:nvSpPr>
            <p:spPr>
              <a:xfrm>
                <a:off x="6364800" y="2628000"/>
                <a:ext cx="953280" cy="87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Text Box 88"/>
            <p:cNvSpPr/>
            <p:nvPr/>
          </p:nvSpPr>
          <p:spPr>
            <a:xfrm rot="3925800">
              <a:off x="6633720" y="4492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89"/>
            <p:cNvSpPr/>
            <p:nvPr/>
          </p:nvSpPr>
          <p:spPr>
            <a:xfrm rot="3925800">
              <a:off x="7096680" y="4216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90"/>
          <p:cNvGrpSpPr/>
          <p:nvPr/>
        </p:nvGrpSpPr>
        <p:grpSpPr>
          <a:xfrm>
            <a:off x="1101600" y="1676520"/>
            <a:ext cx="6057000" cy="407880"/>
            <a:chOff x="1101600" y="1676520"/>
            <a:chExt cx="6057000" cy="407880"/>
          </a:xfrm>
        </p:grpSpPr>
        <p:sp>
          <p:nvSpPr>
            <p:cNvPr id="363" name="Text Box 91"/>
            <p:cNvSpPr/>
            <p:nvPr/>
          </p:nvSpPr>
          <p:spPr>
            <a:xfrm>
              <a:off x="1101600" y="1716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92"/>
            <p:cNvSpPr/>
            <p:nvPr/>
          </p:nvSpPr>
          <p:spPr>
            <a:xfrm>
              <a:off x="2855880" y="1716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93"/>
            <p:cNvSpPr/>
            <p:nvPr/>
          </p:nvSpPr>
          <p:spPr>
            <a:xfrm>
              <a:off x="4602240" y="1716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94"/>
            <p:cNvSpPr/>
            <p:nvPr/>
          </p:nvSpPr>
          <p:spPr>
            <a:xfrm>
              <a:off x="6392520" y="167652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ff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67" name="AutoShape 95"/>
            <p:cNvCxnSpPr>
              <a:stCxn id="363" idx="3"/>
              <a:endCxn id="364" idx="1"/>
            </p:cNvCxnSpPr>
            <p:nvPr/>
          </p:nvCxnSpPr>
          <p:spPr>
            <a:xfrm>
              <a:off x="1838520" y="1900080"/>
              <a:ext cx="986400" cy="1080"/>
            </a:xfrm>
            <a:prstGeom prst="straightConnector1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</p:cxnSp>
        <p:cxnSp>
          <p:nvCxnSpPr>
            <p:cNvPr id="368" name="AutoShape 96"/>
            <p:cNvCxnSpPr>
              <a:stCxn id="364" idx="3"/>
              <a:endCxn id="365" idx="1"/>
            </p:cNvCxnSpPr>
            <p:nvPr/>
          </p:nvCxnSpPr>
          <p:spPr>
            <a:xfrm>
              <a:off x="3592080" y="1900080"/>
              <a:ext cx="978840" cy="1080"/>
            </a:xfrm>
            <a:prstGeom prst="straightConnector1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</p:cxnSp>
        <p:cxnSp>
          <p:nvCxnSpPr>
            <p:cNvPr id="369" name="AutoShape 97"/>
            <p:cNvCxnSpPr/>
            <p:nvPr/>
          </p:nvCxnSpPr>
          <p:spPr>
            <a:xfrm>
              <a:off x="5338800" y="1904760"/>
              <a:ext cx="978480" cy="1080"/>
            </a:xfrm>
            <a:prstGeom prst="straightConnector1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1295280" y="1752480"/>
            <a:ext cx="6324480" cy="3200400"/>
            <a:chOff x="1295280" y="1752480"/>
            <a:chExt cx="6324480" cy="3200400"/>
          </a:xfrm>
        </p:grpSpPr>
        <p:grpSp>
          <p:nvGrpSpPr>
            <p:cNvPr id="372" name="Group 4"/>
            <p:cNvGrpSpPr/>
            <p:nvPr/>
          </p:nvGrpSpPr>
          <p:grpSpPr>
            <a:xfrm>
              <a:off x="1295280" y="1752480"/>
              <a:ext cx="6324480" cy="3200400"/>
              <a:chOff x="1295280" y="1752480"/>
              <a:chExt cx="6324480" cy="3200400"/>
            </a:xfrm>
          </p:grpSpPr>
          <p:sp>
            <p:nvSpPr>
              <p:cNvPr id="373" name="AutoShape 5"/>
              <p:cNvSpPr/>
              <p:nvPr/>
            </p:nvSpPr>
            <p:spPr>
              <a:xfrm>
                <a:off x="5256360" y="2472120"/>
                <a:ext cx="2363400" cy="248076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0760"/>
                  <a:gd name="textAreaBottom" fmla="*/ 2481120 h 248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00"/>
                  </a:gs>
                  <a:gs pos="100000">
                    <a:srgbClr val="00b000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AutoShape 6"/>
              <p:cNvSpPr/>
              <p:nvPr/>
            </p:nvSpPr>
            <p:spPr>
              <a:xfrm>
                <a:off x="3277080" y="2472120"/>
                <a:ext cx="2490120" cy="2480760"/>
              </a:xfrm>
              <a:custGeom>
                <a:avLst/>
                <a:gdLst>
                  <a:gd name="textAreaLeft" fmla="*/ 0 w 2490120"/>
                  <a:gd name="textAreaRight" fmla="*/ 2490480 w 2490120"/>
                  <a:gd name="textAreaTop" fmla="*/ 0 h 2480760"/>
                  <a:gd name="textAreaBottom" fmla="*/ 2481120 h 248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80"/>
                  </a:gs>
                  <a:gs pos="100000">
                    <a:srgbClr val="66ccff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AutoShape 7"/>
              <p:cNvSpPr/>
              <p:nvPr/>
            </p:nvSpPr>
            <p:spPr>
              <a:xfrm>
                <a:off x="1295280" y="2472120"/>
                <a:ext cx="2490120" cy="2480760"/>
              </a:xfrm>
              <a:custGeom>
                <a:avLst/>
                <a:gdLst>
                  <a:gd name="textAreaLeft" fmla="*/ 0 w 2490120"/>
                  <a:gd name="textAreaRight" fmla="*/ 2490480 w 2490120"/>
                  <a:gd name="textAreaTop" fmla="*/ 0 h 2480760"/>
                  <a:gd name="textAreaBottom" fmla="*/ 2481120 h 248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7194db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AutoShape 8"/>
              <p:cNvSpPr/>
              <p:nvPr/>
            </p:nvSpPr>
            <p:spPr>
              <a:xfrm>
                <a:off x="1486800" y="1752480"/>
                <a:ext cx="172224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7194db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AutoShape 9"/>
              <p:cNvSpPr/>
              <p:nvPr/>
            </p:nvSpPr>
            <p:spPr>
              <a:xfrm>
                <a:off x="3431520" y="1752480"/>
                <a:ext cx="172224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6680"/>
                  </a:gs>
                  <a:gs pos="100000">
                    <a:srgbClr val="66ccff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AutoShape 10"/>
              <p:cNvSpPr/>
              <p:nvPr/>
            </p:nvSpPr>
            <p:spPr>
              <a:xfrm>
                <a:off x="5385240" y="1752480"/>
                <a:ext cx="172368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b000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9" name="Text Box 11"/>
            <p:cNvSpPr/>
            <p:nvPr/>
          </p:nvSpPr>
          <p:spPr>
            <a:xfrm>
              <a:off x="1829160" y="3090240"/>
              <a:ext cx="17294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3825360" y="3103560"/>
              <a:ext cx="173052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5689080" y="3103560"/>
              <a:ext cx="173088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AutoShape 14"/>
          <p:cNvSpPr/>
          <p:nvPr/>
        </p:nvSpPr>
        <p:spPr>
          <a:xfrm>
            <a:off x="1371600" y="5181480"/>
            <a:ext cx="5943600" cy="685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c386f"/>
              </a:gs>
              <a:gs pos="50000">
                <a:srgbClr val="3366cc"/>
              </a:gs>
              <a:gs pos="100000">
                <a:srgbClr val="1c386f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3"/>
          <p:cNvSpPr/>
          <p:nvPr/>
        </p:nvSpPr>
        <p:spPr>
          <a:xfrm>
            <a:off x="2417760" y="4495680"/>
            <a:ext cx="4821120" cy="1143000"/>
          </a:xfrm>
          <a:prstGeom prst="ellipse">
            <a:avLst/>
          </a:prstGeom>
          <a:gradFill rotWithShape="0">
            <a:gsLst>
              <a:gs pos="0">
                <a:srgbClr val="0c1932"/>
              </a:gs>
              <a:gs pos="100000">
                <a:srgbClr val="3366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4"/>
          <p:cNvSpPr/>
          <p:nvPr/>
        </p:nvSpPr>
        <p:spPr>
          <a:xfrm rot="20601600">
            <a:off x="1789200" y="2673360"/>
            <a:ext cx="4994280" cy="2602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aeaeae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5"/>
          <p:cNvSpPr/>
          <p:nvPr/>
        </p:nvSpPr>
        <p:spPr>
          <a:xfrm rot="20601600">
            <a:off x="1838160" y="2533320"/>
            <a:ext cx="4821480" cy="2521080"/>
          </a:xfrm>
          <a:prstGeom prst="ellipse">
            <a:avLst/>
          </a:prstGeom>
          <a:gradFill rotWithShape="0">
            <a:gsLst>
              <a:gs pos="0">
                <a:srgbClr val="2791bb"/>
              </a:gs>
              <a:gs pos="100000">
                <a:srgbClr val="00000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rc 6"/>
          <p:cNvSpPr/>
          <p:nvPr/>
        </p:nvSpPr>
        <p:spPr>
          <a:xfrm rot="20601600">
            <a:off x="4140000" y="2438280"/>
            <a:ext cx="2469960" cy="1695600"/>
          </a:xfrm>
          <a:custGeom>
            <a:avLst/>
            <a:gdLst/>
            <a:ahLst/>
            <a:rect l="l" t="t" r="r" b="b"/>
            <a:pathLst>
              <a:path fill="none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</a:path>
              <a:path stroke="0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  <a:lnTo>
                  <a:pt x="0" y="17105"/>
                </a:lnTo>
                <a:lnTo>
                  <a:pt x="13190" y="-1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9edfff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rc 7"/>
          <p:cNvSpPr/>
          <p:nvPr/>
        </p:nvSpPr>
        <p:spPr>
          <a:xfrm flipH="1" rot="20602200">
            <a:off x="2048400" y="4053960"/>
            <a:ext cx="2844360" cy="1273680"/>
          </a:xfrm>
          <a:custGeom>
            <a:avLst/>
            <a:gdLst/>
            <a:ahLst/>
            <a:rect l="l" t="t" r="r" b="b"/>
            <a:pathLst>
              <a:path fill="none" w="25114" h="21600">
                <a:moveTo>
                  <a:pt x="25114" y="2497"/>
                </a:moveTo>
                <a:cubicBezTo>
                  <a:pt x="23846" y="13386"/>
                  <a:pt x="14622" y="21600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</a:path>
              <a:path stroke="0" w="25114" h="21600">
                <a:moveTo>
                  <a:pt x="25114" y="2497"/>
                </a:moveTo>
                <a:cubicBezTo>
                  <a:pt x="23846" y="13386"/>
                  <a:pt x="14622" y="21600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  <a:lnTo>
                  <a:pt x="3659" y="0"/>
                </a:lnTo>
                <a:lnTo>
                  <a:pt x="25114" y="2497"/>
                </a:lnTo>
                <a:close/>
              </a:path>
            </a:pathLst>
          </a:custGeom>
          <a:gradFill rotWithShape="0">
            <a:gsLst>
              <a:gs pos="0">
                <a:srgbClr val="24478e"/>
              </a:gs>
              <a:gs pos="100000">
                <a:srgbClr val="3366cc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rc 8"/>
          <p:cNvSpPr/>
          <p:nvPr/>
        </p:nvSpPr>
        <p:spPr>
          <a:xfrm rot="20601600">
            <a:off x="2924280" y="2477880"/>
            <a:ext cx="2798640" cy="1222200"/>
          </a:xfrm>
          <a:custGeom>
            <a:avLst/>
            <a:gdLst/>
            <a:ahLst/>
            <a:rect l="l" t="t" r="r" b="b"/>
            <a:pathLst>
              <a:path fill="none" w="24549" h="21600">
                <a:moveTo>
                  <a:pt x="0" y="2373"/>
                </a:moveTo>
                <a:cubicBezTo>
                  <a:pt x="3046" y="813"/>
                  <a:pt x="6420" y="0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</a:path>
              <a:path stroke="0" w="24549" h="21600">
                <a:moveTo>
                  <a:pt x="0" y="2373"/>
                </a:moveTo>
                <a:cubicBezTo>
                  <a:pt x="3046" y="813"/>
                  <a:pt x="6420" y="0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  <a:lnTo>
                  <a:pt x="9843" y="21600"/>
                </a:lnTo>
                <a:lnTo>
                  <a:pt x="0" y="2373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4a94b9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rc 9"/>
          <p:cNvSpPr/>
          <p:nvPr/>
        </p:nvSpPr>
        <p:spPr>
          <a:xfrm flipH="1" rot="20602200">
            <a:off x="1752120" y="2989080"/>
            <a:ext cx="2471760" cy="1782720"/>
          </a:xfrm>
          <a:custGeom>
            <a:avLst/>
            <a:gdLst/>
            <a:ahLst/>
            <a:rect l="l" t="t" r="r" b="b"/>
            <a:pathLst>
              <a:path fill="none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</a:path>
              <a:path stroke="0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  <a:lnTo>
                  <a:pt x="0" y="19945"/>
                </a:lnTo>
                <a:lnTo>
                  <a:pt x="8291" y="0"/>
                </a:lnTo>
                <a:close/>
              </a:path>
            </a:pathLst>
          </a:custGeom>
          <a:gradFill rotWithShape="0">
            <a:gsLst>
              <a:gs pos="0">
                <a:srgbClr val="00b000"/>
              </a:gs>
              <a:gs pos="100000">
                <a:srgbClr val="005100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10"/>
          <p:cNvSpPr/>
          <p:nvPr/>
        </p:nvSpPr>
        <p:spPr>
          <a:xfrm>
            <a:off x="5300640" y="3768840"/>
            <a:ext cx="1519200" cy="1533240"/>
          </a:xfrm>
          <a:custGeom>
            <a:avLst/>
            <a:gdLst/>
            <a:ahLst/>
            <a:rect l="l" t="t" r="r" b="b"/>
            <a:pathLst>
              <a:path w="1105" h="1120">
                <a:moveTo>
                  <a:pt x="9" y="888"/>
                </a:moveTo>
                <a:lnTo>
                  <a:pt x="1105" y="0"/>
                </a:lnTo>
                <a:lnTo>
                  <a:pt x="1081" y="256"/>
                </a:lnTo>
                <a:cubicBezTo>
                  <a:pt x="1014" y="373"/>
                  <a:pt x="882" y="560"/>
                  <a:pt x="705" y="704"/>
                </a:cubicBezTo>
                <a:cubicBezTo>
                  <a:pt x="528" y="848"/>
                  <a:pt x="133" y="1089"/>
                  <a:pt x="17" y="1120"/>
                </a:cubicBezTo>
                <a:cubicBezTo>
                  <a:pt x="0" y="1038"/>
                  <a:pt x="9" y="888"/>
                  <a:pt x="9" y="888"/>
                </a:cubicBezTo>
                <a:close/>
              </a:path>
            </a:pathLst>
          </a:custGeom>
          <a:gradFill rotWithShape="0">
            <a:gsLst>
              <a:gs pos="0">
                <a:srgbClr val="fff48b"/>
              </a:gs>
              <a:gs pos="100000">
                <a:srgbClr val="ffe7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rc 11"/>
          <p:cNvSpPr/>
          <p:nvPr/>
        </p:nvSpPr>
        <p:spPr>
          <a:xfrm rot="20539200">
            <a:off x="4471920" y="3241800"/>
            <a:ext cx="2365560" cy="1603080"/>
          </a:xfrm>
          <a:custGeom>
            <a:avLst/>
            <a:gdLst/>
            <a:ahLst/>
            <a:rect l="l" t="t" r="r" b="b"/>
            <a:pathLst>
              <a:path fill="none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</a:path>
              <a:path stroke="0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  <a:lnTo>
                  <a:pt x="0" y="0"/>
                </a:lnTo>
                <a:lnTo>
                  <a:pt x="18016" y="11915"/>
                </a:lnTo>
                <a:close/>
              </a:path>
            </a:pathLst>
          </a:custGeom>
          <a:gradFill rotWithShape="0">
            <a:gsLst>
              <a:gs pos="0">
                <a:srgbClr val="766b00"/>
              </a:gs>
              <a:gs pos="100000">
                <a:srgbClr val="ffe701"/>
              </a:gs>
            </a:gsLst>
            <a:lin ang="37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2"/>
          <p:cNvSpPr/>
          <p:nvPr/>
        </p:nvSpPr>
        <p:spPr>
          <a:xfrm>
            <a:off x="4443480" y="4062240"/>
            <a:ext cx="890640" cy="1270080"/>
          </a:xfrm>
          <a:custGeom>
            <a:avLst/>
            <a:gdLst/>
            <a:ahLst/>
            <a:rect l="l" t="t" r="r" b="b"/>
            <a:pathLst>
              <a:path w="648" h="928">
                <a:moveTo>
                  <a:pt x="648" y="632"/>
                </a:moveTo>
                <a:lnTo>
                  <a:pt x="648" y="928"/>
                </a:lnTo>
                <a:lnTo>
                  <a:pt x="0" y="64"/>
                </a:lnTo>
                <a:lnTo>
                  <a:pt x="96" y="0"/>
                </a:lnTo>
                <a:lnTo>
                  <a:pt x="648" y="632"/>
                </a:lnTo>
                <a:close/>
              </a:path>
            </a:pathLst>
          </a:custGeom>
          <a:gradFill rotWithShape="0">
            <a:gsLst>
              <a:gs pos="0">
                <a:srgbClr val="fff48b"/>
              </a:gs>
              <a:gs pos="100000">
                <a:srgbClr val="ffe70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3"/>
          <p:cNvSpPr/>
          <p:nvPr/>
        </p:nvSpPr>
        <p:spPr>
          <a:xfrm rot="20601600">
            <a:off x="3103200" y="3149280"/>
            <a:ext cx="2336760" cy="1155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2176920" y="37353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3827880" y="26859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5412240" y="29480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148720" y="39988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3232440" y="45896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19"/>
          <p:cNvSpPr/>
          <p:nvPr/>
        </p:nvSpPr>
        <p:spPr>
          <a:xfrm>
            <a:off x="4371840" y="4248000"/>
            <a:ext cx="749520" cy="93060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20"/>
          <p:cNvSpPr/>
          <p:nvPr/>
        </p:nvSpPr>
        <p:spPr>
          <a:xfrm rot="20601600">
            <a:off x="3192480" y="3366720"/>
            <a:ext cx="2241360" cy="941400"/>
          </a:xfrm>
          <a:prstGeom prst="ellipse">
            <a:avLst/>
          </a:prstGeom>
          <a:gradFill rotWithShape="0">
            <a:gsLst>
              <a:gs pos="0">
                <a:srgbClr val="224488"/>
              </a:gs>
              <a:gs pos="100000">
                <a:srgbClr val="3366cc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6019920" y="20574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AutoShape 23"/>
          <p:cNvCxnSpPr/>
          <p:nvPr/>
        </p:nvCxnSpPr>
        <p:spPr>
          <a:xfrm flipV="1" rot="10800000">
            <a:off x="5714280" y="2208600"/>
            <a:ext cx="24840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04" name="Text Box 24"/>
          <p:cNvSpPr/>
          <p:nvPr/>
        </p:nvSpPr>
        <p:spPr>
          <a:xfrm>
            <a:off x="60948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5" name="AutoShape 25"/>
          <p:cNvCxnSpPr/>
          <p:nvPr/>
        </p:nvCxnSpPr>
        <p:spPr>
          <a:xfrm>
            <a:off x="2437920" y="2819520"/>
            <a:ext cx="22932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06" name="Text Box 26"/>
          <p:cNvSpPr/>
          <p:nvPr/>
        </p:nvSpPr>
        <p:spPr>
          <a:xfrm>
            <a:off x="2438280" y="1905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7" name="AutoShape 27"/>
          <p:cNvCxnSpPr/>
          <p:nvPr/>
        </p:nvCxnSpPr>
        <p:spPr>
          <a:xfrm>
            <a:off x="4343040" y="2057400"/>
            <a:ext cx="22932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08" name="Text Box 28"/>
          <p:cNvSpPr/>
          <p:nvPr/>
        </p:nvSpPr>
        <p:spPr>
          <a:xfrm>
            <a:off x="6705720" y="4876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9" name="AutoShape 29"/>
          <p:cNvCxnSpPr/>
          <p:nvPr/>
        </p:nvCxnSpPr>
        <p:spPr>
          <a:xfrm rot="10800000">
            <a:off x="6019200" y="441900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410" name="Text Box 30"/>
          <p:cNvSpPr/>
          <p:nvPr/>
        </p:nvSpPr>
        <p:spPr>
          <a:xfrm>
            <a:off x="1219320" y="5715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" name="AutoShape 31"/>
          <p:cNvCxnSpPr/>
          <p:nvPr/>
        </p:nvCxnSpPr>
        <p:spPr>
          <a:xfrm flipH="1" flipV="1" rot="5400000">
            <a:off x="2834280" y="5338800"/>
            <a:ext cx="70380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3" descr="circuler_1"/>
          <p:cNvPicPr/>
          <p:nvPr/>
        </p:nvPicPr>
        <p:blipFill>
          <a:blip r:embed="rId1"/>
          <a:stretch/>
        </p:blipFill>
        <p:spPr>
          <a:xfrm>
            <a:off x="3776760" y="292104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414" name="Arc 4"/>
          <p:cNvSpPr/>
          <p:nvPr/>
        </p:nvSpPr>
        <p:spPr>
          <a:xfrm flipH="1" flipV="1" rot="5400000">
            <a:off x="3227760" y="3479760"/>
            <a:ext cx="2279520" cy="1174680"/>
          </a:xfrm>
          <a:custGeom>
            <a:avLst/>
            <a:gdLst/>
            <a:ahLst/>
            <a:rect l="l" t="t" r="r" b="b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0"/>
                  <a:pt x="21592" y="0"/>
                </a:cubicBezTo>
                <a:cubicBezTo>
                  <a:pt x="-32015" y="0"/>
                  <a:pt x="-22344" y="9670"/>
                  <a:pt x="-22344" y="21600"/>
                </a:cubicBezTo>
                <a:cubicBezTo>
                  <a:pt x="-22344" y="21669"/>
                  <a:pt x="-22345" y="21739"/>
                  <a:pt x="-22346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0"/>
                  <a:pt x="21592" y="0"/>
                </a:cubicBezTo>
                <a:cubicBezTo>
                  <a:pt x="-32015" y="0"/>
                  <a:pt x="-22344" y="9670"/>
                  <a:pt x="-22344" y="21600"/>
                </a:cubicBezTo>
                <a:cubicBezTo>
                  <a:pt x="-22344" y="21669"/>
                  <a:pt x="-22345" y="21739"/>
                  <a:pt x="-22346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33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rc 5"/>
          <p:cNvSpPr/>
          <p:nvPr/>
        </p:nvSpPr>
        <p:spPr>
          <a:xfrm flipH="1" flipV="1" rot="16490400">
            <a:off x="4329000" y="3496320"/>
            <a:ext cx="2279520" cy="1230120"/>
          </a:xfrm>
          <a:custGeom>
            <a:avLst/>
            <a:gdLst/>
            <a:ahLst/>
            <a:rect l="l" t="t" r="r" b="b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369" y="0"/>
                  <a:pt x="-22855" y="9112"/>
                  <a:pt x="-22357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369" y="0"/>
                  <a:pt x="-22855" y="9112"/>
                  <a:pt x="-22357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00b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Group 6"/>
          <p:cNvGrpSpPr/>
          <p:nvPr/>
        </p:nvGrpSpPr>
        <p:grpSpPr>
          <a:xfrm>
            <a:off x="4497840" y="3794400"/>
            <a:ext cx="1622880" cy="1480680"/>
            <a:chOff x="4497840" y="3794400"/>
            <a:chExt cx="1622880" cy="1480680"/>
          </a:xfrm>
        </p:grpSpPr>
        <p:grpSp>
          <p:nvGrpSpPr>
            <p:cNvPr id="417" name="Group 7"/>
            <p:cNvGrpSpPr/>
            <p:nvPr/>
          </p:nvGrpSpPr>
          <p:grpSpPr>
            <a:xfrm>
              <a:off x="4872240" y="3794400"/>
              <a:ext cx="1248480" cy="1465920"/>
              <a:chOff x="4872240" y="3794400"/>
              <a:chExt cx="1248480" cy="1465920"/>
            </a:xfrm>
          </p:grpSpPr>
          <p:sp>
            <p:nvSpPr>
              <p:cNvPr id="418" name="AutoShape 8"/>
              <p:cNvSpPr/>
              <p:nvPr/>
            </p:nvSpPr>
            <p:spPr>
              <a:xfrm flipH="1" flipV="1" rot="1528800">
                <a:off x="5567400" y="379872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AutoShape 9"/>
              <p:cNvSpPr/>
              <p:nvPr/>
            </p:nvSpPr>
            <p:spPr>
              <a:xfrm flipH="1" flipV="1" rot="2344200">
                <a:off x="5472720" y="397800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AutoShape 10"/>
              <p:cNvSpPr/>
              <p:nvPr/>
            </p:nvSpPr>
            <p:spPr>
              <a:xfrm flipH="1" flipV="1" rot="2640000">
                <a:off x="5395680" y="406548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AutoShape 11"/>
              <p:cNvSpPr/>
              <p:nvPr/>
            </p:nvSpPr>
            <p:spPr>
              <a:xfrm flipH="1" flipV="1" rot="3172200">
                <a:off x="5298480" y="416592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12"/>
            <p:cNvGrpSpPr/>
            <p:nvPr/>
          </p:nvGrpSpPr>
          <p:grpSpPr>
            <a:xfrm>
              <a:off x="4497840" y="4197960"/>
              <a:ext cx="1569240" cy="1077120"/>
              <a:chOff x="4497840" y="4197960"/>
              <a:chExt cx="1569240" cy="1077120"/>
            </a:xfrm>
          </p:grpSpPr>
          <p:sp>
            <p:nvSpPr>
              <p:cNvPr id="423" name="AutoShape 13"/>
              <p:cNvSpPr/>
              <p:nvPr/>
            </p:nvSpPr>
            <p:spPr>
              <a:xfrm flipH="1" flipV="1" rot="2881800">
                <a:off x="5364720" y="410724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AutoShape 14"/>
              <p:cNvSpPr/>
              <p:nvPr/>
            </p:nvSpPr>
            <p:spPr>
              <a:xfrm flipH="1" flipV="1" rot="3697200">
                <a:off x="5208480" y="423720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AutoShape 15"/>
              <p:cNvSpPr/>
              <p:nvPr/>
            </p:nvSpPr>
            <p:spPr>
              <a:xfrm flipH="1" flipV="1" rot="3993000">
                <a:off x="5103360" y="428724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AutoShape 16"/>
              <p:cNvSpPr/>
              <p:nvPr/>
            </p:nvSpPr>
            <p:spPr>
              <a:xfrm flipH="1" flipV="1" rot="4525200">
                <a:off x="4974840" y="434232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Text Box 17"/>
          <p:cNvSpPr/>
          <p:nvPr/>
        </p:nvSpPr>
        <p:spPr>
          <a:xfrm>
            <a:off x="3962520" y="391788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4952880" y="3429000"/>
            <a:ext cx="10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19"/>
          <p:cNvSpPr/>
          <p:nvPr/>
        </p:nvSpPr>
        <p:spPr>
          <a:xfrm>
            <a:off x="3462480" y="3335400"/>
            <a:ext cx="342720" cy="108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20"/>
          <p:cNvSpPr/>
          <p:nvPr/>
        </p:nvSpPr>
        <p:spPr>
          <a:xfrm flipV="1">
            <a:off x="3638520" y="4724280"/>
            <a:ext cx="247680" cy="190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21"/>
          <p:cNvSpPr/>
          <p:nvPr/>
        </p:nvSpPr>
        <p:spPr>
          <a:xfrm flipV="1">
            <a:off x="4364640" y="5199480"/>
            <a:ext cx="40320" cy="310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22"/>
          <p:cNvSpPr/>
          <p:nvPr/>
        </p:nvSpPr>
        <p:spPr>
          <a:xfrm flipV="1">
            <a:off x="3411360" y="4136760"/>
            <a:ext cx="313200" cy="12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23"/>
          <p:cNvSpPr/>
          <p:nvPr/>
        </p:nvSpPr>
        <p:spPr>
          <a:xfrm>
            <a:off x="5536800" y="2628720"/>
            <a:ext cx="720" cy="35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4"/>
          <p:cNvSpPr/>
          <p:nvPr/>
        </p:nvSpPr>
        <p:spPr>
          <a:xfrm flipH="1" flipV="1">
            <a:off x="6063840" y="4589280"/>
            <a:ext cx="254880" cy="18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5"/>
          <p:cNvSpPr/>
          <p:nvPr/>
        </p:nvSpPr>
        <p:spPr>
          <a:xfrm flipH="1">
            <a:off x="5999040" y="3115800"/>
            <a:ext cx="254160" cy="18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26"/>
          <p:cNvSpPr/>
          <p:nvPr/>
        </p:nvSpPr>
        <p:spPr>
          <a:xfrm>
            <a:off x="2009880" y="2874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27"/>
          <p:cNvSpPr/>
          <p:nvPr/>
        </p:nvSpPr>
        <p:spPr>
          <a:xfrm>
            <a:off x="2043000" y="291456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cc">
                  <a:alpha val="70196"/>
                </a:srgbClr>
              </a:gs>
              <a:gs pos="100000">
                <a:srgbClr val="a5bce9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28"/>
          <p:cNvSpPr/>
          <p:nvPr/>
        </p:nvSpPr>
        <p:spPr>
          <a:xfrm flipH="1">
            <a:off x="5017320" y="182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29"/>
          <p:cNvSpPr/>
          <p:nvPr/>
        </p:nvSpPr>
        <p:spPr>
          <a:xfrm flipH="1">
            <a:off x="5054040" y="186048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00">
                  <a:alpha val="70196"/>
                </a:srgbClr>
              </a:gs>
              <a:gs pos="100000">
                <a:srgbClr val="8fdc8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2394720" y="30351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429880" y="2004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32"/>
          <p:cNvSpPr/>
          <p:nvPr/>
        </p:nvSpPr>
        <p:spPr>
          <a:xfrm>
            <a:off x="1957320" y="380988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33"/>
          <p:cNvSpPr/>
          <p:nvPr/>
        </p:nvSpPr>
        <p:spPr>
          <a:xfrm>
            <a:off x="1990800" y="384984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cc">
                  <a:alpha val="70196"/>
                </a:srgbClr>
              </a:gs>
              <a:gs pos="100000">
                <a:srgbClr val="a5bce9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2342160" y="3970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35"/>
          <p:cNvSpPr/>
          <p:nvPr/>
        </p:nvSpPr>
        <p:spPr>
          <a:xfrm>
            <a:off x="2254320" y="47736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6"/>
          <p:cNvSpPr/>
          <p:nvPr/>
        </p:nvSpPr>
        <p:spPr>
          <a:xfrm>
            <a:off x="2287440" y="48132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cc">
                  <a:alpha val="70196"/>
                </a:srgbClr>
              </a:gs>
              <a:gs pos="100000">
                <a:srgbClr val="a5bce9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2639160" y="4933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38"/>
          <p:cNvSpPr/>
          <p:nvPr/>
        </p:nvSpPr>
        <p:spPr>
          <a:xfrm>
            <a:off x="3619440" y="558468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39"/>
          <p:cNvSpPr/>
          <p:nvPr/>
        </p:nvSpPr>
        <p:spPr>
          <a:xfrm>
            <a:off x="3652920" y="562464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cc">
                  <a:alpha val="70196"/>
                </a:srgbClr>
              </a:gs>
              <a:gs pos="100000">
                <a:srgbClr val="a5bce9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4004280" y="57452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41"/>
          <p:cNvSpPr/>
          <p:nvPr/>
        </p:nvSpPr>
        <p:spPr>
          <a:xfrm flipH="1">
            <a:off x="6269760" y="25574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42"/>
          <p:cNvSpPr/>
          <p:nvPr/>
        </p:nvSpPr>
        <p:spPr>
          <a:xfrm flipH="1">
            <a:off x="6306480" y="259560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00">
                  <a:alpha val="70196"/>
                </a:srgbClr>
              </a:gs>
              <a:gs pos="100000">
                <a:srgbClr val="8fdc8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6682320" y="27399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44"/>
          <p:cNvSpPr/>
          <p:nvPr/>
        </p:nvSpPr>
        <p:spPr>
          <a:xfrm flipH="1">
            <a:off x="6638040" y="35812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45"/>
          <p:cNvSpPr/>
          <p:nvPr/>
        </p:nvSpPr>
        <p:spPr>
          <a:xfrm flipH="1">
            <a:off x="6674760" y="36194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00">
                  <a:alpha val="70196"/>
                </a:srgbClr>
              </a:gs>
              <a:gs pos="100000">
                <a:srgbClr val="8fdc8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46"/>
          <p:cNvSpPr/>
          <p:nvPr/>
        </p:nvSpPr>
        <p:spPr>
          <a:xfrm>
            <a:off x="7050600" y="3763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47"/>
          <p:cNvSpPr/>
          <p:nvPr/>
        </p:nvSpPr>
        <p:spPr>
          <a:xfrm flipH="1">
            <a:off x="6368400" y="46022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48"/>
          <p:cNvSpPr/>
          <p:nvPr/>
        </p:nvSpPr>
        <p:spPr>
          <a:xfrm flipH="1">
            <a:off x="6405480" y="4640400"/>
            <a:ext cx="130032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00">
                  <a:alpha val="70196"/>
                </a:srgbClr>
              </a:gs>
              <a:gs pos="100000">
                <a:srgbClr val="8fdc8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9"/>
          <p:cNvSpPr/>
          <p:nvPr/>
        </p:nvSpPr>
        <p:spPr>
          <a:xfrm>
            <a:off x="6780960" y="4784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50"/>
          <p:cNvSpPr/>
          <p:nvPr/>
        </p:nvSpPr>
        <p:spPr>
          <a:xfrm flipH="1">
            <a:off x="6222240" y="3908520"/>
            <a:ext cx="313920" cy="9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51"/>
          <p:cNvGrpSpPr/>
          <p:nvPr/>
        </p:nvGrpSpPr>
        <p:grpSpPr>
          <a:xfrm>
            <a:off x="1143000" y="1676520"/>
            <a:ext cx="3505320" cy="798480"/>
            <a:chOff x="1143000" y="1676520"/>
            <a:chExt cx="3505320" cy="798480"/>
          </a:xfrm>
        </p:grpSpPr>
        <p:sp>
          <p:nvSpPr>
            <p:cNvPr id="462" name="AutoShape 52"/>
            <p:cNvSpPr/>
            <p:nvPr/>
          </p:nvSpPr>
          <p:spPr>
            <a:xfrm>
              <a:off x="1143000" y="1676520"/>
              <a:ext cx="3505320" cy="79308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1908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53"/>
            <p:cNvSpPr/>
            <p:nvPr/>
          </p:nvSpPr>
          <p:spPr>
            <a:xfrm>
              <a:off x="1270080" y="1833480"/>
              <a:ext cx="3377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Text Box 9"/>
          <p:cNvSpPr/>
          <p:nvPr/>
        </p:nvSpPr>
        <p:spPr>
          <a:xfrm>
            <a:off x="1177920" y="6262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2087640" y="1479600"/>
            <a:ext cx="5108400" cy="4664160"/>
          </a:xfrm>
          <a:prstGeom prst="sun">
            <a:avLst>
              <a:gd name="adj" fmla="val 24407"/>
            </a:avLst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4" descr="box_1"/>
          <p:cNvPicPr/>
          <p:nvPr/>
        </p:nvPicPr>
        <p:blipFill>
          <a:blip r:embed="rId1"/>
          <a:stretch/>
        </p:blipFill>
        <p:spPr>
          <a:xfrm>
            <a:off x="3095640" y="380520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5"/>
          <p:cNvSpPr/>
          <p:nvPr/>
        </p:nvSpPr>
        <p:spPr>
          <a:xfrm>
            <a:off x="3086280" y="3805200"/>
            <a:ext cx="1455480" cy="1500120"/>
          </a:xfrm>
          <a:custGeom>
            <a:avLst/>
            <a:gdLst>
              <a:gd name="textAreaLeft" fmla="*/ 42480 w 1455480"/>
              <a:gd name="textAreaRight" fmla="*/ 1413000 w 1455480"/>
              <a:gd name="textAreaTop" fmla="*/ 42480 h 1500120"/>
              <a:gd name="textAreaBottom" fmla="*/ 1457640 h 1500120"/>
            </a:gdLst>
            <a:ahLst/>
            <a:rect l="textAreaLeft" t="textAreaTop" r="textAreaRight" b="textAreaBottom"/>
            <a:pathLst>
              <a:path w="21600" h="22262">
                <a:moveTo>
                  <a:pt x="2158" y="0"/>
                </a:moveTo>
                <a:arcTo wR="2158" hR="2158" stAng="16200000" swAng="-5400000"/>
                <a:lnTo>
                  <a:pt x="0" y="20104"/>
                </a:lnTo>
                <a:arcTo wR="2158" hR="2158" stAng="10800000" swAng="-5400000"/>
                <a:lnTo>
                  <a:pt x="19442" y="22262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00b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6" descr="box_1"/>
          <p:cNvPicPr/>
          <p:nvPr/>
        </p:nvPicPr>
        <p:blipFill>
          <a:blip r:embed="rId2"/>
          <a:stretch/>
        </p:blipFill>
        <p:spPr>
          <a:xfrm>
            <a:off x="3095640" y="225756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470" name="AutoShape 7"/>
          <p:cNvSpPr/>
          <p:nvPr/>
        </p:nvSpPr>
        <p:spPr>
          <a:xfrm>
            <a:off x="3086280" y="2257560"/>
            <a:ext cx="1455480" cy="1500120"/>
          </a:xfrm>
          <a:custGeom>
            <a:avLst/>
            <a:gdLst>
              <a:gd name="textAreaLeft" fmla="*/ 42480 w 1455480"/>
              <a:gd name="textAreaRight" fmla="*/ 1413000 w 1455480"/>
              <a:gd name="textAreaTop" fmla="*/ 42480 h 1500120"/>
              <a:gd name="textAreaBottom" fmla="*/ 1457640 h 1500120"/>
            </a:gdLst>
            <a:ahLst/>
            <a:rect l="textAreaLeft" t="textAreaTop" r="textAreaRight" b="textAreaBottom"/>
            <a:pathLst>
              <a:path w="21600" h="22262">
                <a:moveTo>
                  <a:pt x="2158" y="0"/>
                </a:moveTo>
                <a:arcTo wR="2158" hR="2158" stAng="16200000" swAng="-5400000"/>
                <a:lnTo>
                  <a:pt x="0" y="20104"/>
                </a:lnTo>
                <a:arcTo wR="2158" hR="2158" stAng="10800000" swAng="-5400000"/>
                <a:lnTo>
                  <a:pt x="19442" y="22262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ffe7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8" descr="box_1"/>
          <p:cNvPicPr/>
          <p:nvPr/>
        </p:nvPicPr>
        <p:blipFill>
          <a:blip r:embed="rId3"/>
          <a:stretch/>
        </p:blipFill>
        <p:spPr>
          <a:xfrm>
            <a:off x="4610160" y="380520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472" name="AutoShape 9"/>
          <p:cNvSpPr/>
          <p:nvPr/>
        </p:nvSpPr>
        <p:spPr>
          <a:xfrm>
            <a:off x="4600440" y="3805200"/>
            <a:ext cx="1451160" cy="1500120"/>
          </a:xfrm>
          <a:custGeom>
            <a:avLst/>
            <a:gdLst>
              <a:gd name="textAreaLeft" fmla="*/ 42120 w 1451160"/>
              <a:gd name="textAreaRight" fmla="*/ 1409040 w 1451160"/>
              <a:gd name="textAreaTop" fmla="*/ 42120 h 1500120"/>
              <a:gd name="textAreaBottom" fmla="*/ 1458000 h 1500120"/>
            </a:gdLst>
            <a:ahLst/>
            <a:rect l="textAreaLeft" t="textAreaTop" r="textAreaRight" b="textAreaBottom"/>
            <a:pathLst>
              <a:path w="21600" h="22329">
                <a:moveTo>
                  <a:pt x="2158" y="0"/>
                </a:moveTo>
                <a:arcTo wR="2158" hR="2158" stAng="16200000" swAng="-5400000"/>
                <a:lnTo>
                  <a:pt x="0" y="20171"/>
                </a:lnTo>
                <a:arcTo wR="2158" hR="2158" stAng="10800000" swAng="-5400000"/>
                <a:lnTo>
                  <a:pt x="19442" y="22329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33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10" descr="box_1"/>
          <p:cNvPicPr/>
          <p:nvPr/>
        </p:nvPicPr>
        <p:blipFill>
          <a:blip r:embed="rId4"/>
          <a:stretch/>
        </p:blipFill>
        <p:spPr>
          <a:xfrm>
            <a:off x="4610160" y="2257560"/>
            <a:ext cx="1411200" cy="150012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11"/>
          <p:cNvSpPr/>
          <p:nvPr/>
        </p:nvSpPr>
        <p:spPr>
          <a:xfrm>
            <a:off x="4600440" y="2257560"/>
            <a:ext cx="1403640" cy="1500120"/>
          </a:xfrm>
          <a:custGeom>
            <a:avLst/>
            <a:gdLst>
              <a:gd name="textAreaLeft" fmla="*/ 41040 w 1403640"/>
              <a:gd name="textAreaRight" fmla="*/ 1362600 w 1403640"/>
              <a:gd name="textAreaTop" fmla="*/ 41040 h 1500120"/>
              <a:gd name="textAreaBottom" fmla="*/ 1459080 h 1500120"/>
            </a:gdLst>
            <a:ahLst/>
            <a:rect l="textAreaLeft" t="textAreaTop" r="textAreaRight" b="textAreaBottom"/>
            <a:pathLst>
              <a:path w="21600" h="23084">
                <a:moveTo>
                  <a:pt x="2158" y="0"/>
                </a:moveTo>
                <a:arcTo wR="2158" hR="2158" stAng="16200000" swAng="-5400000"/>
                <a:lnTo>
                  <a:pt x="0" y="20926"/>
                </a:lnTo>
                <a:arcTo wR="2158" hR="2158" stAng="10800000" swAng="-5400000"/>
                <a:lnTo>
                  <a:pt x="19442" y="23084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12"/>
          <p:cNvGrpSpPr/>
          <p:nvPr/>
        </p:nvGrpSpPr>
        <p:grpSpPr>
          <a:xfrm>
            <a:off x="2169720" y="1447560"/>
            <a:ext cx="4896000" cy="4678200"/>
            <a:chOff x="2169720" y="1447560"/>
            <a:chExt cx="4896000" cy="4678200"/>
          </a:xfrm>
        </p:grpSpPr>
        <p:sp>
          <p:nvSpPr>
            <p:cNvPr id="476" name="Arc 13"/>
            <p:cNvSpPr/>
            <p:nvPr/>
          </p:nvSpPr>
          <p:spPr>
            <a:xfrm flipH="1" rot="5400000">
              <a:off x="3692520" y="3265920"/>
              <a:ext cx="2344320" cy="3375000"/>
            </a:xfrm>
            <a:custGeom>
              <a:avLst/>
              <a:gdLst/>
              <a:ahLst/>
              <a:rect l="l" t="t" r="r" b="b"/>
              <a:pathLst>
                <a:path fill="none" w="21600" h="29835">
                  <a:moveTo>
                    <a:pt x="4176" y="29835"/>
                  </a:moveTo>
                  <a:cubicBezTo>
                    <a:pt x="1463" y="26131"/>
                    <a:pt x="0" y="21659"/>
                    <a:pt x="0" y="17068"/>
                  </a:cubicBezTo>
                  <a:cubicBezTo>
                    <a:pt x="0" y="10392"/>
                    <a:pt x="3086" y="4091"/>
                    <a:pt x="8362" y="0"/>
                  </a:cubicBezTo>
                </a:path>
                <a:path stroke="0" w="21600" h="29835">
                  <a:moveTo>
                    <a:pt x="4176" y="29835"/>
                  </a:moveTo>
                  <a:cubicBezTo>
                    <a:pt x="1463" y="26131"/>
                    <a:pt x="0" y="21659"/>
                    <a:pt x="0" y="17068"/>
                  </a:cubicBezTo>
                  <a:cubicBezTo>
                    <a:pt x="0" y="10392"/>
                    <a:pt x="3086" y="4091"/>
                    <a:pt x="8362" y="0"/>
                  </a:cubicBezTo>
                  <a:lnTo>
                    <a:pt x="21600" y="17068"/>
                  </a:lnTo>
                  <a:lnTo>
                    <a:pt x="4176" y="29835"/>
                  </a:ln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Arc 14"/>
            <p:cNvSpPr/>
            <p:nvPr/>
          </p:nvSpPr>
          <p:spPr>
            <a:xfrm flipH="1" rot="5400000">
              <a:off x="1416960" y="2598120"/>
              <a:ext cx="3947760" cy="2443320"/>
            </a:xfrm>
            <a:custGeom>
              <a:avLst/>
              <a:gdLst/>
              <a:ahLst/>
              <a:rect l="l" t="t" r="r" b="b"/>
              <a:pathLst>
                <a:path fill="none" w="36369" h="21600">
                  <a:moveTo>
                    <a:pt x="36368" y="11956"/>
                  </a:moveTo>
                  <a:cubicBezTo>
                    <a:pt x="32365" y="17980"/>
                    <a:pt x="25612" y="21600"/>
                    <a:pt x="18380" y="21600"/>
                  </a:cubicBezTo>
                  <a:cubicBezTo>
                    <a:pt x="10889" y="21600"/>
                    <a:pt x="3933" y="17719"/>
                    <a:pt x="-1" y="11345"/>
                  </a:cubicBezTo>
                </a:path>
                <a:path stroke="0" w="36369" h="21600">
                  <a:moveTo>
                    <a:pt x="36368" y="11956"/>
                  </a:moveTo>
                  <a:cubicBezTo>
                    <a:pt x="32365" y="17980"/>
                    <a:pt x="25612" y="21600"/>
                    <a:pt x="18380" y="21600"/>
                  </a:cubicBezTo>
                  <a:cubicBezTo>
                    <a:pt x="10889" y="21600"/>
                    <a:pt x="3933" y="17719"/>
                    <a:pt x="-1" y="11345"/>
                  </a:cubicBezTo>
                  <a:lnTo>
                    <a:pt x="18380" y="0"/>
                  </a:lnTo>
                  <a:lnTo>
                    <a:pt x="36368" y="11956"/>
                  </a:ln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Arc 15"/>
            <p:cNvSpPr/>
            <p:nvPr/>
          </p:nvSpPr>
          <p:spPr>
            <a:xfrm flipH="1" rot="5400000">
              <a:off x="3416400" y="1200240"/>
              <a:ext cx="2344680" cy="2838600"/>
            </a:xfrm>
            <a:custGeom>
              <a:avLst/>
              <a:gdLst/>
              <a:ahLst/>
              <a:rect l="l" t="t" r="r" b="b"/>
              <a:pathLst>
                <a:path fill="none" w="21600" h="25100">
                  <a:moveTo>
                    <a:pt x="17687" y="0"/>
                  </a:moveTo>
                  <a:cubicBezTo>
                    <a:pt x="20234" y="3632"/>
                    <a:pt x="21600" y="7961"/>
                    <a:pt x="21600" y="12398"/>
                  </a:cubicBezTo>
                  <a:cubicBezTo>
                    <a:pt x="21600" y="16962"/>
                    <a:pt x="20154" y="21408"/>
                    <a:pt x="17470" y="25100"/>
                  </a:cubicBezTo>
                </a:path>
                <a:path stroke="0" w="21600" h="25100">
                  <a:moveTo>
                    <a:pt x="17687" y="0"/>
                  </a:moveTo>
                  <a:cubicBezTo>
                    <a:pt x="20234" y="3632"/>
                    <a:pt x="21600" y="7961"/>
                    <a:pt x="21600" y="12398"/>
                  </a:cubicBezTo>
                  <a:cubicBezTo>
                    <a:pt x="21600" y="16962"/>
                    <a:pt x="20154" y="21408"/>
                    <a:pt x="17470" y="25100"/>
                  </a:cubicBezTo>
                  <a:lnTo>
                    <a:pt x="0" y="12398"/>
                  </a:lnTo>
                  <a:lnTo>
                    <a:pt x="17687" y="0"/>
                  </a:ln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Arc 16"/>
            <p:cNvSpPr/>
            <p:nvPr/>
          </p:nvSpPr>
          <p:spPr>
            <a:xfrm flipH="1" rot="5400000">
              <a:off x="4057920" y="2403720"/>
              <a:ext cx="3571200" cy="2443320"/>
            </a:xfrm>
            <a:custGeom>
              <a:avLst/>
              <a:gdLst/>
              <a:ahLst/>
              <a:rect l="l" t="t" r="r" b="b"/>
              <a:pathLst>
                <a:path fill="none" w="32922" h="21600">
                  <a:moveTo>
                    <a:pt x="-1" y="5871"/>
                  </a:moveTo>
                  <a:cubicBezTo>
                    <a:pt x="4006" y="2100"/>
                    <a:pt x="9302" y="0"/>
                    <a:pt x="14805" y="0"/>
                  </a:cubicBezTo>
                  <a:cubicBezTo>
                    <a:pt x="22120" y="0"/>
                    <a:pt x="28938" y="3702"/>
                    <a:pt x="32922" y="9838"/>
                  </a:cubicBezTo>
                </a:path>
                <a:path stroke="0" w="32922" h="21600">
                  <a:moveTo>
                    <a:pt x="-1" y="5871"/>
                  </a:moveTo>
                  <a:cubicBezTo>
                    <a:pt x="4006" y="2100"/>
                    <a:pt x="9302" y="0"/>
                    <a:pt x="14805" y="0"/>
                  </a:cubicBezTo>
                  <a:cubicBezTo>
                    <a:pt x="22120" y="0"/>
                    <a:pt x="28938" y="3702"/>
                    <a:pt x="32922" y="9838"/>
                  </a:cubicBezTo>
                  <a:lnTo>
                    <a:pt x="14805" y="21600"/>
                  </a:lnTo>
                  <a:lnTo>
                    <a:pt x="-1" y="5871"/>
                  </a:lnTo>
                  <a:close/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AutoShape 17"/>
          <p:cNvSpPr/>
          <p:nvPr/>
        </p:nvSpPr>
        <p:spPr>
          <a:xfrm flipH="1">
            <a:off x="6248520" y="2943360"/>
            <a:ext cx="2209680" cy="1765080"/>
          </a:xfrm>
          <a:prstGeom prst="rightArrow">
            <a:avLst>
              <a:gd name="adj1" fmla="val 65176"/>
              <a:gd name="adj2" fmla="val 41897"/>
            </a:avLst>
          </a:prstGeom>
          <a:gradFill rotWithShape="0">
            <a:gsLst>
              <a:gs pos="0">
                <a:srgbClr val="00b000"/>
              </a:gs>
              <a:gs pos="100000">
                <a:srgbClr val="9be09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18"/>
          <p:cNvSpPr/>
          <p:nvPr/>
        </p:nvSpPr>
        <p:spPr>
          <a:xfrm>
            <a:off x="685800" y="3019320"/>
            <a:ext cx="2004840" cy="1981440"/>
          </a:xfrm>
          <a:prstGeom prst="rightArrow">
            <a:avLst>
              <a:gd name="adj1" fmla="val 65176"/>
              <a:gd name="adj2" fmla="val 33863"/>
            </a:avLst>
          </a:prstGeom>
          <a:gradFill rotWithShape="0">
            <a:gsLst>
              <a:gs pos="0">
                <a:srgbClr val="66ccff"/>
              </a:gs>
              <a:gs pos="100000">
                <a:srgbClr val="cce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19"/>
          <p:cNvSpPr/>
          <p:nvPr/>
        </p:nvSpPr>
        <p:spPr>
          <a:xfrm>
            <a:off x="839520" y="3857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20"/>
          <p:cNvSpPr/>
          <p:nvPr/>
        </p:nvSpPr>
        <p:spPr>
          <a:xfrm>
            <a:off x="6783120" y="36291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1"/>
          <p:cNvSpPr/>
          <p:nvPr/>
        </p:nvSpPr>
        <p:spPr>
          <a:xfrm>
            <a:off x="3281400" y="27288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Click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2"/>
          <p:cNvSpPr/>
          <p:nvPr/>
        </p:nvSpPr>
        <p:spPr>
          <a:xfrm>
            <a:off x="4805640" y="27288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Click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23"/>
          <p:cNvSpPr/>
          <p:nvPr/>
        </p:nvSpPr>
        <p:spPr>
          <a:xfrm>
            <a:off x="3281400" y="42386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Click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24"/>
          <p:cNvSpPr/>
          <p:nvPr/>
        </p:nvSpPr>
        <p:spPr>
          <a:xfrm>
            <a:off x="4805640" y="42386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Click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3"/>
          <p:cNvSpPr/>
          <p:nvPr/>
        </p:nvSpPr>
        <p:spPr>
          <a:xfrm flipH="1">
            <a:off x="3144600" y="3238560"/>
            <a:ext cx="6120" cy="2414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"/>
          <p:cNvSpPr/>
          <p:nvPr/>
        </p:nvSpPr>
        <p:spPr>
          <a:xfrm flipH="1">
            <a:off x="5257440" y="3238560"/>
            <a:ext cx="4680" cy="2400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"/>
          <p:cNvSpPr/>
          <p:nvPr/>
        </p:nvSpPr>
        <p:spPr>
          <a:xfrm>
            <a:off x="7346880" y="2932200"/>
            <a:ext cx="0" cy="2730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Freeform 6"/>
          <p:cNvSpPr/>
          <p:nvPr/>
        </p:nvSpPr>
        <p:spPr>
          <a:xfrm>
            <a:off x="1171440" y="2182680"/>
            <a:ext cx="6742080" cy="163224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5410080" y="5284800"/>
            <a:ext cx="1781280" cy="314280"/>
          </a:xfrm>
          <a:prstGeom prst="bevel">
            <a:avLst>
              <a:gd name="adj" fmla="val 5949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230480" y="40384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1219320" y="179712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10"/>
          <p:cNvSpPr/>
          <p:nvPr/>
        </p:nvSpPr>
        <p:spPr>
          <a:xfrm>
            <a:off x="3324240" y="5284800"/>
            <a:ext cx="1781280" cy="314280"/>
          </a:xfrm>
          <a:prstGeom prst="bevel">
            <a:avLst>
              <a:gd name="adj" fmla="val 5949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11"/>
          <p:cNvSpPr/>
          <p:nvPr/>
        </p:nvSpPr>
        <p:spPr>
          <a:xfrm>
            <a:off x="1219320" y="5284800"/>
            <a:ext cx="1780920" cy="314280"/>
          </a:xfrm>
          <a:prstGeom prst="bevel">
            <a:avLst>
              <a:gd name="adj" fmla="val 5949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3200400" y="40654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5334120" y="40514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5"/>
          <p:cNvGrpSpPr/>
          <p:nvPr/>
        </p:nvGrpSpPr>
        <p:grpSpPr>
          <a:xfrm>
            <a:off x="2209680" y="3559320"/>
            <a:ext cx="4038480" cy="228600"/>
            <a:chOff x="2209680" y="3559320"/>
            <a:chExt cx="4038480" cy="228600"/>
          </a:xfrm>
        </p:grpSpPr>
        <p:sp>
          <p:nvSpPr>
            <p:cNvPr id="90" name="Line 6"/>
            <p:cNvSpPr/>
            <p:nvPr/>
          </p:nvSpPr>
          <p:spPr>
            <a:xfrm>
              <a:off x="2438280" y="367344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7"/>
            <p:cNvSpPr/>
            <p:nvPr/>
          </p:nvSpPr>
          <p:spPr>
            <a:xfrm>
              <a:off x="2209680" y="3559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b0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2209680" y="4230720"/>
            <a:ext cx="4038480" cy="228600"/>
            <a:chOff x="2209680" y="4230720"/>
            <a:chExt cx="4038480" cy="228600"/>
          </a:xfrm>
        </p:grpSpPr>
        <p:sp>
          <p:nvSpPr>
            <p:cNvPr id="93" name="Line 9"/>
            <p:cNvSpPr/>
            <p:nvPr/>
          </p:nvSpPr>
          <p:spPr>
            <a:xfrm>
              <a:off x="2438280" y="434484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10"/>
            <p:cNvSpPr/>
            <p:nvPr/>
          </p:nvSpPr>
          <p:spPr>
            <a:xfrm>
              <a:off x="2209680" y="4230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224488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11"/>
          <p:cNvGrpSpPr/>
          <p:nvPr/>
        </p:nvGrpSpPr>
        <p:grpSpPr>
          <a:xfrm>
            <a:off x="2209680" y="4840200"/>
            <a:ext cx="4038480" cy="228600"/>
            <a:chOff x="2209680" y="4840200"/>
            <a:chExt cx="4038480" cy="228600"/>
          </a:xfrm>
        </p:grpSpPr>
        <p:sp>
          <p:nvSpPr>
            <p:cNvPr id="96" name="Line 12"/>
            <p:cNvSpPr/>
            <p:nvPr/>
          </p:nvSpPr>
          <p:spPr>
            <a:xfrm>
              <a:off x="2438280" y="495432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13"/>
            <p:cNvSpPr/>
            <p:nvPr/>
          </p:nvSpPr>
          <p:spPr>
            <a:xfrm>
              <a:off x="2209680" y="48402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4488aa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14"/>
          <p:cNvGrpSpPr/>
          <p:nvPr/>
        </p:nvGrpSpPr>
        <p:grpSpPr>
          <a:xfrm>
            <a:off x="2209680" y="2340000"/>
            <a:ext cx="4038480" cy="228600"/>
            <a:chOff x="2209680" y="2340000"/>
            <a:chExt cx="4038480" cy="228600"/>
          </a:xfrm>
        </p:grpSpPr>
        <p:sp>
          <p:nvSpPr>
            <p:cNvPr id="99" name="Line 15"/>
            <p:cNvSpPr/>
            <p:nvPr/>
          </p:nvSpPr>
          <p:spPr>
            <a:xfrm>
              <a:off x="2438280" y="245412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6"/>
            <p:cNvSpPr/>
            <p:nvPr/>
          </p:nvSpPr>
          <p:spPr>
            <a:xfrm>
              <a:off x="2209680" y="2340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17"/>
          <p:cNvGrpSpPr/>
          <p:nvPr/>
        </p:nvGrpSpPr>
        <p:grpSpPr>
          <a:xfrm>
            <a:off x="2209680" y="2911320"/>
            <a:ext cx="4038480" cy="228600"/>
            <a:chOff x="2209680" y="2911320"/>
            <a:chExt cx="4038480" cy="228600"/>
          </a:xfrm>
        </p:grpSpPr>
        <p:sp>
          <p:nvSpPr>
            <p:cNvPr id="102" name="Line 18"/>
            <p:cNvSpPr/>
            <p:nvPr/>
          </p:nvSpPr>
          <p:spPr>
            <a:xfrm>
              <a:off x="2438280" y="302544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9"/>
            <p:cNvSpPr/>
            <p:nvPr/>
          </p:nvSpPr>
          <p:spPr>
            <a:xfrm>
              <a:off x="2209680" y="2911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Rectangle 20"/>
          <p:cNvSpPr/>
          <p:nvPr/>
        </p:nvSpPr>
        <p:spPr>
          <a:xfrm>
            <a:off x="2669040" y="198108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2669040" y="2581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2669040" y="320508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2669040" y="384984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2669040" y="44910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7" descr="016"/>
          <p:cNvPicPr/>
          <p:nvPr/>
        </p:nvPicPr>
        <p:blipFill>
          <a:blip r:embed="rId1"/>
          <a:stretch/>
        </p:blipFill>
        <p:spPr>
          <a:xfrm>
            <a:off x="6248520" y="4343400"/>
            <a:ext cx="152388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447920" y="1737000"/>
            <a:ext cx="4419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01" name="WordArt 6"/>
          <p:cNvSpPr txBox="1"/>
          <p:nvPr/>
        </p:nvSpPr>
        <p:spPr>
          <a:xfrm>
            <a:off x="1295280" y="990720"/>
            <a:ext cx="449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50000">
                      <a:srgbClr val="c2ebff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66">
                      <a:alpha val="50000"/>
                    </a:srgbClr>
                  </a:outerShdw>
                </a:effectLst>
                <a:latin typeface="Arial Black"/>
              </a:rPr>
              <a:t>          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50000">
                    <a:srgbClr val="c2ebff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89604" dir="2700000" blurRad="0" rotWithShape="0">
                  <a:srgbClr val="00006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40960"/>
            <a:ext cx="7086600" cy="29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447920" y="487692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: www.themegallery.co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1" descr="169"/>
          <p:cNvPicPr/>
          <p:nvPr/>
        </p:nvPicPr>
        <p:blipFill>
          <a:blip r:embed="rId1"/>
          <a:stretch/>
        </p:blipFill>
        <p:spPr>
          <a:xfrm>
            <a:off x="1600200" y="1752480"/>
            <a:ext cx="5334120" cy="2751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40"/>
          <p:cNvGrpSpPr/>
          <p:nvPr/>
        </p:nvGrpSpPr>
        <p:grpSpPr>
          <a:xfrm>
            <a:off x="1905120" y="3429000"/>
            <a:ext cx="5257440" cy="1523520"/>
            <a:chOff x="1905120" y="3429000"/>
            <a:chExt cx="5257440" cy="1523520"/>
          </a:xfrm>
        </p:grpSpPr>
        <p:pic>
          <p:nvPicPr>
            <p:cNvPr id="116" name="Picture 36" descr="L_B"/>
            <p:cNvPicPr/>
            <p:nvPr/>
          </p:nvPicPr>
          <p:blipFill>
            <a:blip r:embed="rId2"/>
            <a:stretch/>
          </p:blipFill>
          <p:spPr>
            <a:xfrm>
              <a:off x="1905120" y="3429000"/>
              <a:ext cx="1240200" cy="150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7" descr="L_E"/>
            <p:cNvPicPr/>
            <p:nvPr/>
          </p:nvPicPr>
          <p:blipFill>
            <a:blip r:embed="rId3"/>
            <a:stretch/>
          </p:blipFill>
          <p:spPr>
            <a:xfrm>
              <a:off x="3303360" y="3429000"/>
              <a:ext cx="1127880" cy="150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8" descr="L_S"/>
            <p:cNvPicPr/>
            <p:nvPr/>
          </p:nvPicPr>
          <p:blipFill>
            <a:blip r:embed="rId4"/>
            <a:stretch/>
          </p:blipFill>
          <p:spPr>
            <a:xfrm>
              <a:off x="4602600" y="3429000"/>
              <a:ext cx="1182240" cy="15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9" descr="L_T"/>
            <p:cNvPicPr/>
            <p:nvPr/>
          </p:nvPicPr>
          <p:blipFill>
            <a:blip r:embed="rId5"/>
            <a:stretch/>
          </p:blipFill>
          <p:spPr>
            <a:xfrm>
              <a:off x="5901480" y="3429000"/>
              <a:ext cx="1261080" cy="152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Rectangle 42"/>
          <p:cNvSpPr/>
          <p:nvPr/>
        </p:nvSpPr>
        <p:spPr>
          <a:xfrm>
            <a:off x="1981080" y="49528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928800" y="6343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ccff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all"/>
          <p:cNvPicPr/>
          <p:nvPr/>
        </p:nvPicPr>
        <p:blipFill>
          <a:blip r:embed="rId1"/>
          <a:stretch/>
        </p:blipFill>
        <p:spPr>
          <a:xfrm>
            <a:off x="1905120" y="12952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1066680" y="1981080"/>
            <a:ext cx="20163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029200" y="54864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1143000" y="5029200"/>
            <a:ext cx="201600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6095880" y="33526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 rot="3418800">
            <a:off x="6592320" y="1788840"/>
            <a:ext cx="923760" cy="1003320"/>
          </a:xfrm>
          <a:prstGeom prst="rect">
            <a:avLst/>
          </a:prstGeom>
          <a:gradFill rotWithShape="0">
            <a:gsLst>
              <a:gs pos="0">
                <a:srgbClr val="ffe701"/>
              </a:gs>
              <a:gs pos="100000">
                <a:srgbClr val="766b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089760" y="3124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 rot="3418800">
            <a:off x="1258560" y="2116080"/>
            <a:ext cx="924120" cy="1003320"/>
          </a:xfrm>
          <a:prstGeom prst="rect">
            <a:avLst/>
          </a:prstGeom>
          <a:gradFill rotWithShape="0">
            <a:gsLst>
              <a:gs pos="0">
                <a:srgbClr val="00b000"/>
              </a:gs>
              <a:gs pos="100000">
                <a:srgbClr val="0051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355400" y="247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 rot="3418800">
            <a:off x="2693520" y="4021200"/>
            <a:ext cx="924120" cy="10033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790360" y="4379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 rot="3418800">
            <a:off x="4611240" y="2931840"/>
            <a:ext cx="923760" cy="10033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708080" y="32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676560" y="2138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2057400" y="3070080"/>
            <a:ext cx="762120" cy="106704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V="1">
            <a:off x="3657600" y="3657240"/>
            <a:ext cx="914400" cy="5554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 flipV="1">
            <a:off x="5562720" y="2514240"/>
            <a:ext cx="990360" cy="62244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2209680" y="1600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2279520" y="5343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413240" y="43434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74760" y="35812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7973000">
            <a:off x="4691880" y="255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6e3e3">
                  <a:alpha val="0"/>
                </a:srgbClr>
              </a:gs>
              <a:gs pos="100000">
                <a:srgbClr val="cc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rot="3465600">
            <a:off x="4691520" y="4723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6e3e3">
                  <a:alpha val="0"/>
                </a:srgbClr>
              </a:gs>
              <a:gs pos="100000">
                <a:srgbClr val="cc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 rot="14368800">
            <a:off x="3472200" y="2635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b6e3e3">
                  <a:alpha val="0"/>
                </a:srgbClr>
              </a:gs>
              <a:gs pos="100000">
                <a:srgbClr val="cc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 rot="7534800">
            <a:off x="3434040" y="4690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b6e3e3">
                  <a:alpha val="0"/>
                </a:srgbClr>
              </a:gs>
              <a:gs pos="100000">
                <a:srgbClr val="cc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5270400" y="36878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6e3e3">
                  <a:alpha val="0"/>
                </a:srgbClr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 rot="10800000">
            <a:off x="2860200" y="36810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b6e3e3">
                  <a:alpha val="0"/>
                </a:srgbClr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2606760" y="191916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3262320" y="51768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2fbf9"/>
              </a:gs>
              <a:gs pos="100000">
                <a:srgbClr val="4dc9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631840" y="19051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1831320" y="19051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546240" y="3657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5631840" y="5257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916920" y="3657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755000" y="519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5324400" y="51814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af5fd"/>
              </a:gs>
              <a:gs pos="100000">
                <a:srgbClr val="cb90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162840" y="3657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1f6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5248440" y="19810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6e8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3267000" y="20574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efdf4"/>
              </a:gs>
              <a:gs pos="100000">
                <a:srgbClr val="edd9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2428920" y="3657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6faee"/>
              </a:gs>
              <a:gs pos="100000">
                <a:srgbClr val="82b82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22"/>
          <p:cNvGrpSpPr/>
          <p:nvPr/>
        </p:nvGrpSpPr>
        <p:grpSpPr>
          <a:xfrm>
            <a:off x="3352680" y="2743200"/>
            <a:ext cx="2160720" cy="2160360"/>
            <a:chOff x="3352680" y="2743200"/>
            <a:chExt cx="2160720" cy="2160360"/>
          </a:xfrm>
        </p:grpSpPr>
        <p:sp>
          <p:nvSpPr>
            <p:cNvPr id="166" name="Oval 23"/>
            <p:cNvSpPr/>
            <p:nvPr/>
          </p:nvSpPr>
          <p:spPr>
            <a:xfrm>
              <a:off x="3352680" y="2743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4"/>
            <p:cNvSpPr/>
            <p:nvPr/>
          </p:nvSpPr>
          <p:spPr>
            <a:xfrm>
              <a:off x="3493800" y="28843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25"/>
            <p:cNvSpPr/>
            <p:nvPr/>
          </p:nvSpPr>
          <p:spPr>
            <a:xfrm>
              <a:off x="3495600" y="28875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26"/>
            <p:cNvSpPr/>
            <p:nvPr/>
          </p:nvSpPr>
          <p:spPr>
            <a:xfrm>
              <a:off x="3595680" y="29779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Group 27"/>
            <p:cNvGrpSpPr/>
            <p:nvPr/>
          </p:nvGrpSpPr>
          <p:grpSpPr>
            <a:xfrm>
              <a:off x="3625560" y="2997000"/>
              <a:ext cx="1636920" cy="1636920"/>
              <a:chOff x="3625560" y="2997000"/>
              <a:chExt cx="1636920" cy="1636920"/>
            </a:xfrm>
          </p:grpSpPr>
          <p:sp>
            <p:nvSpPr>
              <p:cNvPr id="171" name="Oval 28"/>
              <p:cNvSpPr/>
              <p:nvPr/>
            </p:nvSpPr>
            <p:spPr>
              <a:xfrm>
                <a:off x="3625560" y="2997000"/>
                <a:ext cx="163692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29"/>
              <p:cNvSpPr/>
              <p:nvPr/>
            </p:nvSpPr>
            <p:spPr>
              <a:xfrm>
                <a:off x="3646080" y="3006000"/>
                <a:ext cx="159768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30"/>
              <p:cNvSpPr/>
              <p:nvPr/>
            </p:nvSpPr>
            <p:spPr>
              <a:xfrm>
                <a:off x="3663360" y="3021840"/>
                <a:ext cx="151920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31"/>
              <p:cNvSpPr/>
              <p:nvPr/>
            </p:nvSpPr>
            <p:spPr>
              <a:xfrm>
                <a:off x="3752280" y="3063600"/>
                <a:ext cx="135036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Text Box 32"/>
            <p:cNvSpPr/>
            <p:nvPr/>
          </p:nvSpPr>
          <p:spPr>
            <a:xfrm>
              <a:off x="4063320" y="3601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1981080" y="2514600"/>
            <a:ext cx="5181120" cy="2819520"/>
            <a:chOff x="1981080" y="2514600"/>
            <a:chExt cx="5181120" cy="2819520"/>
          </a:xfrm>
        </p:grpSpPr>
        <p:sp>
          <p:nvSpPr>
            <p:cNvPr id="177" name="Freeform 3"/>
            <p:cNvSpPr/>
            <p:nvPr/>
          </p:nvSpPr>
          <p:spPr>
            <a:xfrm>
              <a:off x="2761920" y="3965400"/>
              <a:ext cx="44002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00006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3585960" y="2514600"/>
              <a:ext cx="356724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00006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5"/>
            <p:cNvSpPr/>
            <p:nvPr/>
          </p:nvSpPr>
          <p:spPr>
            <a:xfrm>
              <a:off x="1981080" y="2900520"/>
              <a:ext cx="194904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006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1981080" y="2438280"/>
            <a:ext cx="5181120" cy="2742840"/>
            <a:chOff x="1981080" y="2438280"/>
            <a:chExt cx="5181120" cy="2742840"/>
          </a:xfrm>
        </p:grpSpPr>
        <p:sp>
          <p:nvSpPr>
            <p:cNvPr id="182" name="Freeform 8"/>
            <p:cNvSpPr/>
            <p:nvPr/>
          </p:nvSpPr>
          <p:spPr>
            <a:xfrm>
              <a:off x="2761920" y="3849480"/>
              <a:ext cx="4400280" cy="13316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3585960" y="2438280"/>
              <a:ext cx="3567240" cy="169236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1981080" y="2813760"/>
              <a:ext cx="1949040" cy="190728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AutoShape 11"/>
          <p:cNvSpPr/>
          <p:nvPr/>
        </p:nvSpPr>
        <p:spPr>
          <a:xfrm>
            <a:off x="5638680" y="1828800"/>
            <a:ext cx="2210040" cy="91440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4267080" y="5334120"/>
            <a:ext cx="3048120" cy="85392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685800" y="2057400"/>
            <a:ext cx="2057400" cy="96516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4876920" y="2666880"/>
            <a:ext cx="838080" cy="2210040"/>
          </a:xfrm>
          <a:prstGeom prst="rightArrow">
            <a:avLst>
              <a:gd name="adj1" fmla="val 58333"/>
              <a:gd name="adj2" fmla="val 6553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1066680" y="2209680"/>
            <a:ext cx="3657600" cy="9144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b000"/>
              </a:gs>
              <a:gs pos="100000">
                <a:srgbClr val="4dc8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1066680" y="3276720"/>
            <a:ext cx="3657600" cy="9144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1066680" y="4343400"/>
            <a:ext cx="3657600" cy="9144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66cc"/>
              </a:gs>
              <a:gs pos="100000">
                <a:srgbClr val="7d9ed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5791320" y="2133720"/>
            <a:ext cx="1981080" cy="3124080"/>
          </a:xfrm>
          <a:custGeom>
            <a:avLst/>
            <a:gdLst>
              <a:gd name="textAreaLeft" fmla="*/ 52560 w 1981080"/>
              <a:gd name="textAreaRight" fmla="*/ 1928520 w 1981080"/>
              <a:gd name="textAreaTop" fmla="*/ 52560 h 3124080"/>
              <a:gd name="textAreaBottom" fmla="*/ 3071520 h 3124080"/>
            </a:gdLst>
            <a:ahLst/>
            <a:rect l="textAreaLeft" t="textAreaTop" r="textAreaRight" b="textAreaBottom"/>
            <a:pathLst>
              <a:path w="21600" h="34060">
                <a:moveTo>
                  <a:pt x="1967" y="0"/>
                </a:moveTo>
                <a:arcTo wR="1967" hR="1967" stAng="16200000" swAng="-5400000"/>
                <a:lnTo>
                  <a:pt x="0" y="32093"/>
                </a:lnTo>
                <a:arcTo wR="1967" hR="1967" stAng="10800000" swAng="-5400000"/>
                <a:lnTo>
                  <a:pt x="19633" y="34060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21:42:16Z</dcterms:created>
  <dc:creator>Sung Ha, Park</dc:creator>
  <dc:description/>
  <dc:language>en-US</dc:language>
  <cp:lastModifiedBy>yu wang</cp:lastModifiedBy>
  <dcterms:modified xsi:type="dcterms:W3CDTF">2015-08-14T12:50:34Z</dcterms:modified>
  <cp:revision>14</cp:revision>
  <dc:subject/>
  <dc:title>ThemeGallery Power Template</dc:title>
</cp:coreProperties>
</file>