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FA9-DD0C-43E0-B639-46C98D62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F4C-F2A2-4730-BCA4-760A6E1E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9E3-0B47-44DC-B624-BDA09747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B64-DD84-429A-AC45-A3440E85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31B5-1243-43E7-9E2D-993B7F85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6AAA-4207-4426-BF7D-382A4003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D25D-E94C-4369-B5AC-41C71F5D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195D-948D-48BE-94D8-93184BDF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BD70-5709-40F7-8569-A3C4CA40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438D-2B4D-4728-B526-FC074197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25AE-10A3-4D5A-9202-49760879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B99-584C-4717-B824-159728A9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A538-4855-4A79-8D71-4080771B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303C-93C8-41BD-8E4C-088F78FA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F05A-9A1B-4C9F-ACE2-F05DF6D2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A089-474B-4062-91FD-588AADAD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FBAF-6927-4A11-BD07-2CCE5E62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D6493-5834-4067-962A-230BBA06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8CCEF-8408-48C3-8536-4685ED5E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590FD-92D6-42CC-9194-58032B5D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A5417-7817-48FE-A7AD-43B88524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C8250-04F9-458A-83EB-229BEFD0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E5E-990C-44B9-835B-9B65A5E7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C99F1-C020-4737-B07E-60270012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5364E-D5C6-461A-9200-E3392317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5E619-2484-43CD-9EC9-A4C68FCC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A01A7-687D-4EED-AF25-4A85C3BC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7A3D2-9028-4D63-930C-F6F61096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AFCA9-3294-4863-AC44-99153BDA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42E7D-4E01-4552-8B39-05E1963A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5DF8A-D356-44E8-BC34-F2D796F4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783C-55F0-4A49-A982-AE64C0EF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D4B52-EE8A-499F-9360-01A4119F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0C3-96D3-4E70-98E3-BDA5A5FC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BC5B0-0C89-4E38-831B-06F0C4C6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8D1EA-4F66-44AC-996D-C03289EE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C92D5-9220-4332-B81E-799951D5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6891-03A1-4679-B4FA-A8AFCA3B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E69BD-80EC-47CB-B708-4921CF69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EF72F-93CF-4EAA-A23B-BF2C5953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3C645-5E04-41CE-B953-8B6E0E86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C781D-3EE1-4E0A-97E2-C2CA95BC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46094-A207-4DEC-905E-C929D26F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1EC-D499-42FB-8D0F-4A97F59C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083-14F6-4FC2-AA67-2855D0A6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B0E-84C8-4224-82D6-1EE81078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04F-4791-4CC7-A645-A628592B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EEB-0B0D-4EE5-B18B-A62015DC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2DF7-8CAA-491C-8186-CEDD46C6E1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组合 8"/>
          <p:cNvGrpSpPr/>
          <p:nvPr/>
        </p:nvGrpSpPr>
        <p:grpSpPr>
          <a:xfrm>
            <a:off x="5703840" y="236520"/>
            <a:ext cx="3097440" cy="995400"/>
            <a:chOff x="5703840" y="236520"/>
            <a:chExt cx="3097440" cy="995400"/>
          </a:xfrm>
        </p:grpSpPr>
        <p:pic>
          <p:nvPicPr>
            <p:cNvPr id="4" name="图片 6" descr=""/>
            <p:cNvPicPr/>
            <p:nvPr/>
          </p:nvPicPr>
          <p:blipFill>
            <a:blip r:embed="rId2"/>
            <a:stretch/>
          </p:blipFill>
          <p:spPr>
            <a:xfrm>
              <a:off x="5703840" y="236520"/>
              <a:ext cx="85644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图片 7" descr=""/>
            <p:cNvPicPr/>
            <p:nvPr/>
          </p:nvPicPr>
          <p:blipFill>
            <a:blip r:embed="rId3"/>
            <a:stretch/>
          </p:blipFill>
          <p:spPr>
            <a:xfrm>
              <a:off x="6459840" y="344520"/>
              <a:ext cx="2341440" cy="88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" name="图片 9" descr=""/>
          <p:cNvPicPr/>
          <p:nvPr/>
        </p:nvPicPr>
        <p:blipFill>
          <a:blip r:embed="rId4"/>
          <a:stretch/>
        </p:blipFill>
        <p:spPr>
          <a:xfrm>
            <a:off x="5587920" y="6332400"/>
            <a:ext cx="332892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8"/>
          <p:cNvGrpSpPr/>
          <p:nvPr/>
        </p:nvGrpSpPr>
        <p:grpSpPr>
          <a:xfrm>
            <a:off x="5703840" y="236520"/>
            <a:ext cx="3097440" cy="995400"/>
            <a:chOff x="5703840" y="236520"/>
            <a:chExt cx="3097440" cy="995400"/>
          </a:xfrm>
        </p:grpSpPr>
        <p:pic>
          <p:nvPicPr>
            <p:cNvPr id="44" name="图片 6" descr=""/>
            <p:cNvPicPr/>
            <p:nvPr/>
          </p:nvPicPr>
          <p:blipFill>
            <a:blip r:embed="rId2"/>
            <a:stretch/>
          </p:blipFill>
          <p:spPr>
            <a:xfrm>
              <a:off x="5703840" y="236520"/>
              <a:ext cx="85644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图片 7" descr=""/>
            <p:cNvPicPr/>
            <p:nvPr/>
          </p:nvPicPr>
          <p:blipFill>
            <a:blip r:embed="rId3"/>
            <a:stretch/>
          </p:blipFill>
          <p:spPr>
            <a:xfrm>
              <a:off x="6459840" y="344520"/>
              <a:ext cx="2341440" cy="88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图片 9" descr=""/>
          <p:cNvPicPr/>
          <p:nvPr/>
        </p:nvPicPr>
        <p:blipFill>
          <a:blip r:embed="rId4"/>
          <a:stretch/>
        </p:blipFill>
        <p:spPr>
          <a:xfrm>
            <a:off x="5587920" y="6332400"/>
            <a:ext cx="3328920" cy="500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"/>
          <p:cNvPicPr/>
          <p:nvPr/>
        </p:nvPicPr>
        <p:blipFill>
          <a:blip r:embed="rId5"/>
          <a:srcRect l="0" t="7098" r="0" b="13923"/>
          <a:stretch/>
        </p:blipFill>
        <p:spPr>
          <a:xfrm>
            <a:off x="0" y="1430280"/>
            <a:ext cx="9144000" cy="4560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0469-7567-4262-9891-B19204F39F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8"/>
          <p:cNvGrpSpPr/>
          <p:nvPr/>
        </p:nvGrpSpPr>
        <p:grpSpPr>
          <a:xfrm>
            <a:off x="5703840" y="236520"/>
            <a:ext cx="3097440" cy="995400"/>
            <a:chOff x="5703840" y="236520"/>
            <a:chExt cx="3097440" cy="995400"/>
          </a:xfrm>
        </p:grpSpPr>
        <p:pic>
          <p:nvPicPr>
            <p:cNvPr id="88" name="图片 6" descr=""/>
            <p:cNvPicPr/>
            <p:nvPr/>
          </p:nvPicPr>
          <p:blipFill>
            <a:blip r:embed="rId2"/>
            <a:stretch/>
          </p:blipFill>
          <p:spPr>
            <a:xfrm>
              <a:off x="5703840" y="236520"/>
              <a:ext cx="85644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图片 7" descr=""/>
            <p:cNvPicPr/>
            <p:nvPr/>
          </p:nvPicPr>
          <p:blipFill>
            <a:blip r:embed="rId3"/>
            <a:stretch/>
          </p:blipFill>
          <p:spPr>
            <a:xfrm>
              <a:off x="6459840" y="344520"/>
              <a:ext cx="2341440" cy="88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图片 9" descr=""/>
          <p:cNvPicPr/>
          <p:nvPr/>
        </p:nvPicPr>
        <p:blipFill>
          <a:blip r:embed="rId4"/>
          <a:stretch/>
        </p:blipFill>
        <p:spPr>
          <a:xfrm>
            <a:off x="5587920" y="6332400"/>
            <a:ext cx="3328920" cy="5000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0" descr=""/>
          <p:cNvPicPr/>
          <p:nvPr/>
        </p:nvPicPr>
        <p:blipFill>
          <a:blip r:embed="rId5"/>
          <a:stretch/>
        </p:blipFill>
        <p:spPr>
          <a:xfrm>
            <a:off x="0" y="333360"/>
            <a:ext cx="9144000" cy="87804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11"/>
          <p:cNvGrpSpPr/>
          <p:nvPr/>
        </p:nvGrpSpPr>
        <p:grpSpPr>
          <a:xfrm>
            <a:off x="5651640" y="274680"/>
            <a:ext cx="3097080" cy="993600"/>
            <a:chOff x="5651640" y="274680"/>
            <a:chExt cx="3097080" cy="993600"/>
          </a:xfrm>
        </p:grpSpPr>
        <p:pic>
          <p:nvPicPr>
            <p:cNvPr id="93" name="图片 12" descr=""/>
            <p:cNvPicPr/>
            <p:nvPr/>
          </p:nvPicPr>
          <p:blipFill>
            <a:blip r:embed="rId6"/>
            <a:stretch/>
          </p:blipFill>
          <p:spPr>
            <a:xfrm>
              <a:off x="5651640" y="274680"/>
              <a:ext cx="856440" cy="9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13" descr=""/>
            <p:cNvPicPr/>
            <p:nvPr/>
          </p:nvPicPr>
          <p:blipFill>
            <a:blip r:embed="rId7"/>
            <a:stretch/>
          </p:blipFill>
          <p:spPr>
            <a:xfrm>
              <a:off x="6407640" y="382320"/>
              <a:ext cx="2341080" cy="8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E32F-835B-4507-B220-1028BEA99A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8"/>
          <p:cNvGrpSpPr/>
          <p:nvPr/>
        </p:nvGrpSpPr>
        <p:grpSpPr>
          <a:xfrm>
            <a:off x="5703840" y="236520"/>
            <a:ext cx="3097440" cy="995400"/>
            <a:chOff x="5703840" y="236520"/>
            <a:chExt cx="3097440" cy="995400"/>
          </a:xfrm>
        </p:grpSpPr>
        <p:pic>
          <p:nvPicPr>
            <p:cNvPr id="135" name="图片 6" descr=""/>
            <p:cNvPicPr/>
            <p:nvPr/>
          </p:nvPicPr>
          <p:blipFill>
            <a:blip r:embed="rId2"/>
            <a:stretch/>
          </p:blipFill>
          <p:spPr>
            <a:xfrm>
              <a:off x="5703840" y="236520"/>
              <a:ext cx="85644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图片 7" descr=""/>
            <p:cNvPicPr/>
            <p:nvPr/>
          </p:nvPicPr>
          <p:blipFill>
            <a:blip r:embed="rId3"/>
            <a:stretch/>
          </p:blipFill>
          <p:spPr>
            <a:xfrm>
              <a:off x="6459840" y="344520"/>
              <a:ext cx="2341440" cy="88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图片 9" descr=""/>
          <p:cNvPicPr/>
          <p:nvPr/>
        </p:nvPicPr>
        <p:blipFill>
          <a:blip r:embed="rId4"/>
          <a:stretch/>
        </p:blipFill>
        <p:spPr>
          <a:xfrm>
            <a:off x="5587920" y="6332400"/>
            <a:ext cx="3328920" cy="5000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0" descr=""/>
          <p:cNvPicPr/>
          <p:nvPr/>
        </p:nvPicPr>
        <p:blipFill>
          <a:blip r:embed="rId5"/>
          <a:srcRect l="0" t="0" r="0" b="1428"/>
          <a:stretch/>
        </p:blipFill>
        <p:spPr>
          <a:xfrm>
            <a:off x="-7920" y="6480"/>
            <a:ext cx="207972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F288-84DD-467C-963E-DDAB097B6F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4"/>
          <p:cNvSpPr/>
          <p:nvPr/>
        </p:nvSpPr>
        <p:spPr>
          <a:xfrm>
            <a:off x="-684360" y="3429000"/>
            <a:ext cx="10512720" cy="268452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"/>
          <p:cNvSpPr/>
          <p:nvPr/>
        </p:nvSpPr>
        <p:spPr>
          <a:xfrm>
            <a:off x="2615040" y="1700280"/>
            <a:ext cx="41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华中师范大学答辩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8"/>
          <p:cNvSpPr/>
          <p:nvPr/>
        </p:nvSpPr>
        <p:spPr>
          <a:xfrm>
            <a:off x="468360" y="6308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3:42:37Z</dcterms:created>
  <dc:creator>王长春</dc:creator>
  <dc:description/>
  <dc:language>en-US</dc:language>
  <cp:lastModifiedBy>yu wang</cp:lastModifiedBy>
  <dcterms:modified xsi:type="dcterms:W3CDTF">2015-08-12T14:51:26Z</dcterms:modified>
  <cp:revision>5</cp:revision>
  <dc:subject/>
  <dc:title>PowerPoint 演示文稿</dc:title>
</cp:coreProperties>
</file>