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16B-C5FB-402C-8B49-A665EEEDACB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BED6-C9FE-4A93-8D21-FA0CB0E954DD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E30-8A23-4B4F-A893-9EFA13B677F5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B4C3-8AA5-4DE6-85CA-606A3A88B0C8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711-DB95-4CB4-AB5E-8AC97E7B408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829-399E-4203-BBF0-E070CE09DD6F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D3E-8477-4B7E-A3F0-741C3B778278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CDEE-5497-485D-B2B4-33747348DC7F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43F-98AF-48F6-B378-32EA060E2EBD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AE9-B960-4EEC-8A31-D1FFE1EE8181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2E9-1460-4A6E-8E3A-B16EC377B84D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F45-DA29-4ABF-9503-54258BBE6C8A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90D9-64EB-41E8-A490-FF1FBA33A653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969-5C66-4555-B9B4-D8F89CCDA0D4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F717-1190-42B5-BE91-92602F3744E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CC8-B6A0-4363-9490-D50088474771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0C1-58DF-40D6-8F5B-09F926668285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00F-8EAA-450B-B55E-57C15788FB68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167-8DB4-4875-BE9F-A57EC9050299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41D-94CD-4CA8-9D7A-015E0F418732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0537-AA69-4EE7-B2C1-AA51D390C846}" type="slidenum">
              <a:rPr b="0" lang="zh-CN" sz="1200" spc="-1" strike="noStrike">
                <a:solidFill>
                  <a:srgbClr val="3366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D49-7B94-46CF-8D63-EBA7F5F1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988-F56B-4699-9A6F-EC94DCF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E1A-A3AC-4CAF-B4C2-7FD81371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8C2-ADB0-4324-9D72-BEC27770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514240" y="304560"/>
            <a:ext cx="6248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F7-0E98-449A-8FCB-627C6F34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906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080" y="39222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68B-FCED-46DE-A8A4-6DD16E4D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A7D-3505-421F-A4A3-997BE58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EDD-0A7C-4C85-979E-AD6CAA66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14240" y="304560"/>
            <a:ext cx="6248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A15-43C0-467C-A402-FB0A22F1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021-8AC0-4592-8F31-F1FE6557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9222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046-5A6A-474F-8864-4B6EF1D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222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033-256D-4396-A49D-1224F23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60280"/>
          <a:ext cx="91440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eba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907920"/>
            <a:ext cx="914400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705360" y="-36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ppt.glzy8.com</a:t>
            </a: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海量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1960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276720" y="6513120"/>
            <a:ext cx="2133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6E7-BF17-4B6F-9A46-DCF58EAE928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Line 10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07052"/>
          <p:cNvPicPr/>
          <p:nvPr/>
        </p:nvPicPr>
        <p:blipFill>
          <a:blip r:embed="rId2"/>
          <a:srcRect l="0" t="29557" r="0" b="45705"/>
          <a:stretch/>
        </p:blipFill>
        <p:spPr>
          <a:xfrm>
            <a:off x="0" y="182880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4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Rectangle 7"/>
              <p:cNvSpPr/>
              <p:nvPr/>
            </p:nvSpPr>
            <p:spPr>
              <a:xfrm flipV="1">
                <a:off x="28440" y="1688040"/>
                <a:ext cx="9115560" cy="1022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28440" y="5037840"/>
                <a:ext cx="9115560" cy="103680"/>
              </a:xfrm>
              <a:prstGeom prst="rect">
                <a:avLst/>
              </a:pr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0" y="4689000"/>
              <a:ext cx="9097920" cy="406440"/>
              <a:chOff x="0" y="4689000"/>
              <a:chExt cx="9097920" cy="406440"/>
            </a:xfrm>
          </p:grpSpPr>
          <p:sp>
            <p:nvSpPr>
              <p:cNvPr id="58" name="未知"/>
              <p:cNvSpPr/>
              <p:nvPr/>
            </p:nvSpPr>
            <p:spPr>
              <a:xfrm flipV="1">
                <a:off x="0" y="4688280"/>
                <a:ext cx="9097920" cy="3474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flipV="1">
                <a:off x="0" y="4732920"/>
                <a:ext cx="9097920" cy="3618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ba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a5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简单大方条理鲜明信息毕业答辩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5196600"/>
            <a:ext cx="601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296" name="Group 4"/>
            <p:cNvGrpSpPr/>
            <p:nvPr/>
          </p:nvGrpSpPr>
          <p:grpSpPr>
            <a:xfrm>
              <a:off x="2894760" y="1752480"/>
              <a:ext cx="3197520" cy="2890800"/>
              <a:chOff x="2894760" y="1752480"/>
              <a:chExt cx="3197520" cy="2890800"/>
            </a:xfrm>
          </p:grpSpPr>
          <p:sp>
            <p:nvSpPr>
              <p:cNvPr id="297" name="AutoShape 5"/>
              <p:cNvSpPr/>
              <p:nvPr/>
            </p:nvSpPr>
            <p:spPr>
              <a:xfrm flipH="1" rot="16200000">
                <a:off x="2812680" y="2867400"/>
                <a:ext cx="490320" cy="3272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8" name="AutoShape 6"/>
              <p:cNvSpPr/>
              <p:nvPr/>
            </p:nvSpPr>
            <p:spPr>
              <a:xfrm flipH="1" rot="5400000">
                <a:off x="5683680" y="2813760"/>
                <a:ext cx="49032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9" name="AutoShape 7"/>
              <p:cNvSpPr/>
              <p:nvPr/>
            </p:nvSpPr>
            <p:spPr>
              <a:xfrm flipH="1" rot="10800000">
                <a:off x="4247280" y="4316400"/>
                <a:ext cx="48924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0" name="Oval 8"/>
              <p:cNvSpPr/>
              <p:nvPr/>
            </p:nvSpPr>
            <p:spPr>
              <a:xfrm>
                <a:off x="3220920" y="1752480"/>
                <a:ext cx="256500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1" name="Oval 9"/>
              <p:cNvSpPr/>
              <p:nvPr/>
            </p:nvSpPr>
            <p:spPr>
              <a:xfrm>
                <a:off x="3367080" y="1896840"/>
                <a:ext cx="227088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2" name="Oval 10"/>
              <p:cNvSpPr/>
              <p:nvPr/>
            </p:nvSpPr>
            <p:spPr>
              <a:xfrm>
                <a:off x="350064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197b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3" name="Oval 11"/>
              <p:cNvSpPr/>
              <p:nvPr/>
            </p:nvSpPr>
            <p:spPr>
              <a:xfrm>
                <a:off x="3500640" y="2031840"/>
                <a:ext cx="200412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4" name="Oval 12"/>
              <p:cNvSpPr/>
              <p:nvPr/>
            </p:nvSpPr>
            <p:spPr>
              <a:xfrm>
                <a:off x="363240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1b5265"/>
                  </a:gs>
                  <a:gs pos="50000">
                    <a:srgbClr val="3197bb"/>
                  </a:gs>
                  <a:gs pos="100000">
                    <a:srgbClr val="1b526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05" name="Oval 13"/>
              <p:cNvSpPr/>
              <p:nvPr/>
            </p:nvSpPr>
            <p:spPr>
              <a:xfrm>
                <a:off x="3632400" y="2163600"/>
                <a:ext cx="174060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06" name="AutoShape 14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7" name="AutoShape 15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8" name="AutoShape 16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9" name="AutoShape 17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0" name="AutoShape 18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1" name="AutoShape 19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d4c18"/>
                </a:gs>
                <a:gs pos="50000">
                  <a:srgbClr val="eba533"/>
                </a:gs>
                <a:gs pos="100000">
                  <a:srgbClr val="6d4c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2" name="Text Box 20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3" name="AutoShape 21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878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4" name="Text Box 22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5" name="Text Box 23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8" name="Text Box 26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9" name="Text Box 27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320" name="Text Box 6"/>
          <p:cNvSpPr/>
          <p:nvPr/>
        </p:nvSpPr>
        <p:spPr>
          <a:xfrm>
            <a:off x="496800" y="60325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24" name="未知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4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5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9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1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4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5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6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7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8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9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755640" y="2174760"/>
            <a:ext cx="7473960" cy="2854440"/>
            <a:chOff x="755640" y="2174760"/>
            <a:chExt cx="7473960" cy="2854440"/>
          </a:xfrm>
        </p:grpSpPr>
        <p:sp>
          <p:nvSpPr>
            <p:cNvPr id="353" name="AutoShape 4"/>
            <p:cNvSpPr/>
            <p:nvPr/>
          </p:nvSpPr>
          <p:spPr>
            <a:xfrm>
              <a:off x="2916360" y="2973240"/>
              <a:ext cx="468360" cy="5428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eb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4" name="AutoShape 5"/>
            <p:cNvSpPr/>
            <p:nvPr/>
          </p:nvSpPr>
          <p:spPr>
            <a:xfrm>
              <a:off x="5651640" y="2973240"/>
              <a:ext cx="468000" cy="54288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1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5" name="Oval 6"/>
            <p:cNvSpPr/>
            <p:nvPr/>
          </p:nvSpPr>
          <p:spPr>
            <a:xfrm>
              <a:off x="622764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6" name="Oval 7"/>
            <p:cNvSpPr/>
            <p:nvPr/>
          </p:nvSpPr>
          <p:spPr>
            <a:xfrm>
              <a:off x="622764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7" name="Oval 8"/>
            <p:cNvSpPr/>
            <p:nvPr/>
          </p:nvSpPr>
          <p:spPr>
            <a:xfrm>
              <a:off x="6369120" y="232236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8" name="Oval 9"/>
            <p:cNvSpPr/>
            <p:nvPr/>
          </p:nvSpPr>
          <p:spPr>
            <a:xfrm>
              <a:off x="6400800" y="2333520"/>
              <a:ext cx="1739880" cy="176832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6470640" y="241596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0" name="Oval 11"/>
            <p:cNvSpPr/>
            <p:nvPr/>
          </p:nvSpPr>
          <p:spPr>
            <a:xfrm>
              <a:off x="755640" y="2174760"/>
              <a:ext cx="2001960" cy="203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>
              <a:off x="755640" y="2174760"/>
              <a:ext cx="2001960" cy="203364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2" name="Oval 13"/>
            <p:cNvSpPr/>
            <p:nvPr/>
          </p:nvSpPr>
          <p:spPr>
            <a:xfrm>
              <a:off x="896760" y="2315880"/>
              <a:ext cx="1740240" cy="176868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3" name="Oval 14"/>
            <p:cNvSpPr/>
            <p:nvPr/>
          </p:nvSpPr>
          <p:spPr>
            <a:xfrm>
              <a:off x="898560" y="231912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4" name="Oval 15"/>
            <p:cNvSpPr/>
            <p:nvPr/>
          </p:nvSpPr>
          <p:spPr>
            <a:xfrm>
              <a:off x="990720" y="240984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1017720" y="2435040"/>
              <a:ext cx="1515960" cy="1541520"/>
              <a:chOff x="1017720" y="2435040"/>
              <a:chExt cx="1515960" cy="1541520"/>
            </a:xfrm>
          </p:grpSpPr>
          <p:sp>
            <p:nvSpPr>
              <p:cNvPr id="366" name="Oval 17"/>
              <p:cNvSpPr/>
              <p:nvPr/>
            </p:nvSpPr>
            <p:spPr>
              <a:xfrm>
                <a:off x="101772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7" name="Oval 18"/>
              <p:cNvSpPr/>
              <p:nvPr/>
            </p:nvSpPr>
            <p:spPr>
              <a:xfrm>
                <a:off x="103716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8" name="Oval 19"/>
              <p:cNvSpPr/>
              <p:nvPr/>
            </p:nvSpPr>
            <p:spPr>
              <a:xfrm>
                <a:off x="105264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9" name="Oval 20"/>
              <p:cNvSpPr/>
              <p:nvPr/>
            </p:nvSpPr>
            <p:spPr>
              <a:xfrm>
                <a:off x="113508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70" name="Oval 21"/>
            <p:cNvSpPr/>
            <p:nvPr/>
          </p:nvSpPr>
          <p:spPr>
            <a:xfrm>
              <a:off x="349236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ba53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>
              <a:off x="3492360" y="2181240"/>
              <a:ext cx="2001960" cy="2033280"/>
            </a:xfrm>
            <a:prstGeom prst="ellipse">
              <a:avLst/>
            </a:prstGeom>
            <a:gradFill rotWithShape="0">
              <a:gsLst>
                <a:gs pos="0">
                  <a:srgbClr val="eba533">
                    <a:alpha val="32156"/>
                  </a:srgbClr>
                </a:gs>
                <a:gs pos="100000">
                  <a:srgbClr val="6d4c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2" name="Oval 23"/>
            <p:cNvSpPr/>
            <p:nvPr/>
          </p:nvSpPr>
          <p:spPr>
            <a:xfrm>
              <a:off x="3633840" y="2322360"/>
              <a:ext cx="1739880" cy="1768680"/>
            </a:xfrm>
            <a:prstGeom prst="ellipse">
              <a:avLst/>
            </a:prstGeom>
            <a:gradFill rotWithShape="0">
              <a:gsLst>
                <a:gs pos="0">
                  <a:srgbClr val="7f591c"/>
                </a:gs>
                <a:gs pos="50000">
                  <a:srgbClr val="eba533"/>
                </a:gs>
                <a:gs pos="100000">
                  <a:srgbClr val="7f59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3" name="Oval 24"/>
            <p:cNvSpPr/>
            <p:nvPr/>
          </p:nvSpPr>
          <p:spPr>
            <a:xfrm>
              <a:off x="3635280" y="2325600"/>
              <a:ext cx="1739880" cy="1768320"/>
            </a:xfrm>
            <a:prstGeom prst="ellipse">
              <a:avLst/>
            </a:prstGeom>
            <a:gradFill rotWithShape="0">
              <a:gsLst>
                <a:gs pos="0">
                  <a:srgbClr val="956920"/>
                </a:gs>
                <a:gs pos="100000">
                  <a:srgbClr val="eba53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4" name="Oval 25"/>
            <p:cNvSpPr/>
            <p:nvPr/>
          </p:nvSpPr>
          <p:spPr>
            <a:xfrm>
              <a:off x="3727440" y="2415960"/>
              <a:ext cx="1566720" cy="159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75" name="Group 26"/>
            <p:cNvGrpSpPr/>
            <p:nvPr/>
          </p:nvGrpSpPr>
          <p:grpSpPr>
            <a:xfrm>
              <a:off x="3754440" y="2435040"/>
              <a:ext cx="1515960" cy="1541520"/>
              <a:chOff x="3754440" y="2435040"/>
              <a:chExt cx="1515960" cy="1541520"/>
            </a:xfrm>
          </p:grpSpPr>
          <p:sp>
            <p:nvSpPr>
              <p:cNvPr id="376" name="Oval 27"/>
              <p:cNvSpPr/>
              <p:nvPr/>
            </p:nvSpPr>
            <p:spPr>
              <a:xfrm>
                <a:off x="375444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7" name="Oval 28"/>
              <p:cNvSpPr/>
              <p:nvPr/>
            </p:nvSpPr>
            <p:spPr>
              <a:xfrm>
                <a:off x="377388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8" name="Oval 29"/>
              <p:cNvSpPr/>
              <p:nvPr/>
            </p:nvSpPr>
            <p:spPr>
              <a:xfrm>
                <a:off x="378936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9" name="Oval 30"/>
              <p:cNvSpPr/>
              <p:nvPr/>
            </p:nvSpPr>
            <p:spPr>
              <a:xfrm>
                <a:off x="387180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1"/>
            <p:cNvGrpSpPr/>
            <p:nvPr/>
          </p:nvGrpSpPr>
          <p:grpSpPr>
            <a:xfrm>
              <a:off x="6500880" y="2435040"/>
              <a:ext cx="1515960" cy="1541520"/>
              <a:chOff x="6500880" y="2435040"/>
              <a:chExt cx="1515960" cy="1541520"/>
            </a:xfrm>
          </p:grpSpPr>
          <p:sp>
            <p:nvSpPr>
              <p:cNvPr id="381" name="Oval 32"/>
              <p:cNvSpPr/>
              <p:nvPr/>
            </p:nvSpPr>
            <p:spPr>
              <a:xfrm>
                <a:off x="6500880" y="2435040"/>
                <a:ext cx="1515960" cy="1541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2" name="Oval 33"/>
              <p:cNvSpPr/>
              <p:nvPr/>
            </p:nvSpPr>
            <p:spPr>
              <a:xfrm>
                <a:off x="6520320" y="2443680"/>
                <a:ext cx="1479240" cy="150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3" name="Oval 34"/>
              <p:cNvSpPr/>
              <p:nvPr/>
            </p:nvSpPr>
            <p:spPr>
              <a:xfrm>
                <a:off x="6535800" y="2458440"/>
                <a:ext cx="1406880" cy="1404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84" name="Oval 35"/>
              <p:cNvSpPr/>
              <p:nvPr/>
            </p:nvSpPr>
            <p:spPr>
              <a:xfrm>
                <a:off x="6618240" y="2497680"/>
                <a:ext cx="1250640" cy="113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6"/>
            <p:cNvSpPr/>
            <p:nvPr/>
          </p:nvSpPr>
          <p:spPr>
            <a:xfrm>
              <a:off x="80496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6" name="AutoShape 37"/>
            <p:cNvSpPr/>
            <p:nvPr/>
          </p:nvSpPr>
          <p:spPr>
            <a:xfrm>
              <a:off x="353844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7" name="AutoShape 38"/>
            <p:cNvSpPr/>
            <p:nvPr/>
          </p:nvSpPr>
          <p:spPr>
            <a:xfrm>
              <a:off x="6323040" y="4543200"/>
              <a:ext cx="1906560" cy="48600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8" name="Text Box 39"/>
            <p:cNvSpPr/>
            <p:nvPr/>
          </p:nvSpPr>
          <p:spPr>
            <a:xfrm>
              <a:off x="14252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9" name="Text Box 40"/>
            <p:cNvSpPr/>
            <p:nvPr/>
          </p:nvSpPr>
          <p:spPr>
            <a:xfrm>
              <a:off x="41684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0" name="Text Box 41"/>
            <p:cNvSpPr/>
            <p:nvPr/>
          </p:nvSpPr>
          <p:spPr>
            <a:xfrm>
              <a:off x="6911640" y="3039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219320" y="1219320"/>
            <a:ext cx="7010280" cy="4419000"/>
            <a:chOff x="1219320" y="1219320"/>
            <a:chExt cx="7010280" cy="4419000"/>
          </a:xfrm>
        </p:grpSpPr>
        <p:sp>
          <p:nvSpPr>
            <p:cNvPr id="394" name="未知"/>
            <p:cNvSpPr/>
            <p:nvPr/>
          </p:nvSpPr>
          <p:spPr>
            <a:xfrm>
              <a:off x="1219320" y="15998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ba533"/>
                </a:gs>
                <a:gs pos="100000">
                  <a:srgbClr val="3197b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5562720" y="29714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396" name="Group 6"/>
            <p:cNvGrpSpPr/>
            <p:nvPr/>
          </p:nvGrpSpPr>
          <p:grpSpPr>
            <a:xfrm>
              <a:off x="3248280" y="3428640"/>
              <a:ext cx="1704960" cy="2028240"/>
              <a:chOff x="3248280" y="3428640"/>
              <a:chExt cx="1704960" cy="2028240"/>
            </a:xfrm>
          </p:grpSpPr>
          <p:sp>
            <p:nvSpPr>
              <p:cNvPr id="397" name="Oval 7"/>
              <p:cNvSpPr/>
              <p:nvPr/>
            </p:nvSpPr>
            <p:spPr>
              <a:xfrm rot="20876400">
                <a:off x="3316680" y="4647600"/>
                <a:ext cx="143820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98" name="Oval 8"/>
              <p:cNvSpPr/>
              <p:nvPr/>
            </p:nvSpPr>
            <p:spPr>
              <a:xfrm>
                <a:off x="3248280" y="3428640"/>
                <a:ext cx="170496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99" name="Oval 9"/>
              <p:cNvSpPr/>
              <p:nvPr/>
            </p:nvSpPr>
            <p:spPr>
              <a:xfrm>
                <a:off x="3268800" y="3437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0" name="Oval 10"/>
              <p:cNvSpPr/>
              <p:nvPr/>
            </p:nvSpPr>
            <p:spPr>
              <a:xfrm>
                <a:off x="3286440" y="3453840"/>
                <a:ext cx="1584360" cy="1555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1" name="Oval 11"/>
              <p:cNvSpPr/>
              <p:nvPr/>
            </p:nvSpPr>
            <p:spPr>
              <a:xfrm>
                <a:off x="3378600" y="349812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02" name="Text Box 12"/>
              <p:cNvSpPr/>
              <p:nvPr/>
            </p:nvSpPr>
            <p:spPr>
              <a:xfrm>
                <a:off x="3665880" y="405540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3"/>
            <p:cNvGrpSpPr/>
            <p:nvPr/>
          </p:nvGrpSpPr>
          <p:grpSpPr>
            <a:xfrm>
              <a:off x="1397160" y="3047760"/>
              <a:ext cx="1371240" cy="1717920"/>
              <a:chOff x="1397160" y="3047760"/>
              <a:chExt cx="1371240" cy="1717920"/>
            </a:xfrm>
          </p:grpSpPr>
          <p:sp>
            <p:nvSpPr>
              <p:cNvPr id="404" name="Oval 14"/>
              <p:cNvSpPr/>
              <p:nvPr/>
            </p:nvSpPr>
            <p:spPr>
              <a:xfrm rot="20826600">
                <a:off x="1473480" y="403776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5" name="Group 15"/>
              <p:cNvGrpSpPr/>
              <p:nvPr/>
            </p:nvGrpSpPr>
            <p:grpSpPr>
              <a:xfrm>
                <a:off x="1397160" y="3047760"/>
                <a:ext cx="1371240" cy="1440720"/>
                <a:chOff x="1397160" y="3047760"/>
                <a:chExt cx="1371240" cy="1440720"/>
              </a:xfrm>
            </p:grpSpPr>
            <p:sp>
              <p:nvSpPr>
                <p:cNvPr id="406" name="Oval 16"/>
                <p:cNvSpPr/>
                <p:nvPr/>
              </p:nvSpPr>
              <p:spPr>
                <a:xfrm>
                  <a:off x="1397160" y="3047760"/>
                  <a:ext cx="13712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7" name="Oval 17"/>
                <p:cNvSpPr/>
                <p:nvPr/>
              </p:nvSpPr>
              <p:spPr>
                <a:xfrm>
                  <a:off x="1415160" y="3056040"/>
                  <a:ext cx="1337040" cy="140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8"/>
                <p:cNvSpPr/>
                <p:nvPr/>
              </p:nvSpPr>
              <p:spPr>
                <a:xfrm>
                  <a:off x="1428120" y="3069360"/>
                  <a:ext cx="1271880" cy="131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1499760" y="3106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20"/>
                <p:cNvSpPr/>
                <p:nvPr/>
              </p:nvSpPr>
              <p:spPr>
                <a:xfrm>
                  <a:off x="1677600" y="3553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6699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21"/>
            <p:cNvGrpSpPr/>
            <p:nvPr/>
          </p:nvGrpSpPr>
          <p:grpSpPr>
            <a:xfrm>
              <a:off x="1295640" y="1676160"/>
              <a:ext cx="1100160" cy="1139040"/>
              <a:chOff x="1295640" y="1676160"/>
              <a:chExt cx="1100160" cy="1139040"/>
            </a:xfrm>
          </p:grpSpPr>
          <p:sp>
            <p:nvSpPr>
              <p:cNvPr id="412" name="Oval 22"/>
              <p:cNvSpPr/>
              <p:nvPr/>
            </p:nvSpPr>
            <p:spPr>
              <a:xfrm>
                <a:off x="1295640" y="2282400"/>
                <a:ext cx="914400" cy="5328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3" name="Oval 23"/>
              <p:cNvSpPr/>
              <p:nvPr/>
            </p:nvSpPr>
            <p:spPr>
              <a:xfrm>
                <a:off x="1371960" y="1676160"/>
                <a:ext cx="1023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4" name="Oval 24"/>
              <p:cNvSpPr/>
              <p:nvPr/>
            </p:nvSpPr>
            <p:spPr>
              <a:xfrm>
                <a:off x="1384560" y="1680480"/>
                <a:ext cx="100008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5" name="Oval 25"/>
              <p:cNvSpPr/>
              <p:nvPr/>
            </p:nvSpPr>
            <p:spPr>
              <a:xfrm>
                <a:off x="1395720" y="1691640"/>
                <a:ext cx="950760" cy="933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6" name="Oval 26"/>
              <p:cNvSpPr/>
              <p:nvPr/>
            </p:nvSpPr>
            <p:spPr>
              <a:xfrm>
                <a:off x="1449720" y="1717200"/>
                <a:ext cx="84780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17" name="Text Box 27"/>
              <p:cNvSpPr/>
              <p:nvPr/>
            </p:nvSpPr>
            <p:spPr>
              <a:xfrm>
                <a:off x="1568880" y="20250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8"/>
            <p:cNvGrpSpPr/>
            <p:nvPr/>
          </p:nvGrpSpPr>
          <p:grpSpPr>
            <a:xfrm>
              <a:off x="2562480" y="1219320"/>
              <a:ext cx="804240" cy="761400"/>
              <a:chOff x="2562480" y="1219320"/>
              <a:chExt cx="804240" cy="761400"/>
            </a:xfrm>
          </p:grpSpPr>
          <p:sp>
            <p:nvSpPr>
              <p:cNvPr id="419" name="Oval 29"/>
              <p:cNvSpPr/>
              <p:nvPr/>
            </p:nvSpPr>
            <p:spPr>
              <a:xfrm>
                <a:off x="2562480" y="17524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0" name="Oval 30"/>
              <p:cNvSpPr/>
              <p:nvPr/>
            </p:nvSpPr>
            <p:spPr>
              <a:xfrm>
                <a:off x="2684520" y="121932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1" name="Oval 31"/>
              <p:cNvSpPr/>
              <p:nvPr/>
            </p:nvSpPr>
            <p:spPr>
              <a:xfrm>
                <a:off x="2693880" y="12222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2" name="Oval 32"/>
              <p:cNvSpPr/>
              <p:nvPr/>
            </p:nvSpPr>
            <p:spPr>
              <a:xfrm>
                <a:off x="2700360" y="12283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3" name="Oval 33"/>
              <p:cNvSpPr/>
              <p:nvPr/>
            </p:nvSpPr>
            <p:spPr>
              <a:xfrm>
                <a:off x="2736720" y="1247400"/>
                <a:ext cx="56340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24" name="Text Box 34"/>
              <p:cNvSpPr/>
              <p:nvPr/>
            </p:nvSpPr>
            <p:spPr>
              <a:xfrm>
                <a:off x="2754720" y="1442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28" name="AutoShape 4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9" name="AutoShape 5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0" name="AutoShape 6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2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3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ddd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4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5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6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7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0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1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2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3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4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5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6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4c8ec"/>
                </a:gs>
                <a:gs pos="100000">
                  <a:srgbClr val="c78d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7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197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8" name="Oval 24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197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9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5265"/>
                </a:gs>
                <a:gs pos="50000">
                  <a:srgbClr val="3197bb"/>
                </a:gs>
                <a:gs pos="100000">
                  <a:srgbClr val="1b52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f6077"/>
                </a:gs>
                <a:gs pos="100000">
                  <a:srgbClr val="3197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52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53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4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5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56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457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1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4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7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1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2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6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7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8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90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2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3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494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95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6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7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8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9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3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04" name="Text Box 6"/>
          <p:cNvSpPr/>
          <p:nvPr/>
        </p:nvSpPr>
        <p:spPr>
          <a:xfrm>
            <a:off x="609480" y="623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0" y="1512720"/>
            <a:ext cx="9144000" cy="4057920"/>
            <a:chOff x="0" y="1512720"/>
            <a:chExt cx="9144000" cy="4057920"/>
          </a:xfrm>
        </p:grpSpPr>
        <p:sp>
          <p:nvSpPr>
            <p:cNvPr id="508" name="Rectangle 4"/>
            <p:cNvSpPr/>
            <p:nvPr/>
          </p:nvSpPr>
          <p:spPr>
            <a:xfrm>
              <a:off x="0" y="28018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0" y="28540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10" name="Group 6"/>
            <p:cNvGrpSpPr/>
            <p:nvPr/>
          </p:nvGrpSpPr>
          <p:grpSpPr>
            <a:xfrm>
              <a:off x="609480" y="2046240"/>
              <a:ext cx="7914960" cy="3524400"/>
              <a:chOff x="609480" y="2046240"/>
              <a:chExt cx="7914960" cy="352440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4848480" y="3033720"/>
                <a:ext cx="1582200" cy="2469600"/>
                <a:chOff x="4848480" y="3033720"/>
                <a:chExt cx="1582200" cy="246960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4848480" y="3201120"/>
                  <a:ext cx="1458720" cy="2302200"/>
                  <a:chOff x="4848480" y="3201120"/>
                  <a:chExt cx="1458720" cy="2302200"/>
                </a:xfrm>
              </p:grpSpPr>
              <p:sp>
                <p:nvSpPr>
                  <p:cNvPr id="513" name="未知"/>
                  <p:cNvSpPr/>
                  <p:nvPr/>
                </p:nvSpPr>
                <p:spPr>
                  <a:xfrm rot="3876600">
                    <a:off x="4427640" y="409068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未知"/>
                  <p:cNvSpPr/>
                  <p:nvPr/>
                </p:nvSpPr>
                <p:spPr>
                  <a:xfrm rot="3876600">
                    <a:off x="5810400" y="498132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Group 11"/>
                <p:cNvGrpSpPr/>
                <p:nvPr/>
              </p:nvGrpSpPr>
              <p:grpSpPr>
                <a:xfrm>
                  <a:off x="5311800" y="3033720"/>
                  <a:ext cx="1118880" cy="1766520"/>
                  <a:chOff x="5311800" y="3033720"/>
                  <a:chExt cx="1118880" cy="1766520"/>
                </a:xfrm>
              </p:grpSpPr>
              <p:sp>
                <p:nvSpPr>
                  <p:cNvPr id="516" name="未知"/>
                  <p:cNvSpPr/>
                  <p:nvPr/>
                </p:nvSpPr>
                <p:spPr>
                  <a:xfrm flipV="1" rot="3876600">
                    <a:off x="4988520" y="371592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未知"/>
                  <p:cNvSpPr/>
                  <p:nvPr/>
                </p:nvSpPr>
                <p:spPr>
                  <a:xfrm flipV="1" rot="3876600">
                    <a:off x="603360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14"/>
              <p:cNvGrpSpPr/>
              <p:nvPr/>
            </p:nvGrpSpPr>
            <p:grpSpPr>
              <a:xfrm>
                <a:off x="4390560" y="2192040"/>
                <a:ext cx="1350720" cy="1323360"/>
                <a:chOff x="4390560" y="2192040"/>
                <a:chExt cx="1350720" cy="1323360"/>
              </a:xfrm>
            </p:grpSpPr>
            <p:sp>
              <p:nvSpPr>
                <p:cNvPr id="519" name="Oval 15"/>
                <p:cNvSpPr/>
                <p:nvPr/>
              </p:nvSpPr>
              <p:spPr>
                <a:xfrm>
                  <a:off x="439056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0" name="Oval 16"/>
                <p:cNvSpPr/>
                <p:nvPr/>
              </p:nvSpPr>
              <p:spPr>
                <a:xfrm>
                  <a:off x="439056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1" name="Oval 17"/>
                <p:cNvSpPr/>
                <p:nvPr/>
              </p:nvSpPr>
              <p:spPr>
                <a:xfrm>
                  <a:off x="447984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2" name="Oval 18"/>
                <p:cNvSpPr/>
                <p:nvPr/>
              </p:nvSpPr>
              <p:spPr>
                <a:xfrm>
                  <a:off x="447984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23" name="Oval 19"/>
                <p:cNvSpPr/>
                <p:nvPr/>
              </p:nvSpPr>
              <p:spPr>
                <a:xfrm>
                  <a:off x="4537800" y="2336400"/>
                  <a:ext cx="105552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20"/>
                <p:cNvGrpSpPr/>
                <p:nvPr/>
              </p:nvGrpSpPr>
              <p:grpSpPr>
                <a:xfrm>
                  <a:off x="4554000" y="2352240"/>
                  <a:ext cx="1023120" cy="1003680"/>
                  <a:chOff x="4554000" y="2352240"/>
                  <a:chExt cx="1023120" cy="1003680"/>
                </a:xfrm>
              </p:grpSpPr>
              <p:sp>
                <p:nvSpPr>
                  <p:cNvPr id="525" name="Oval 21"/>
                  <p:cNvSpPr/>
                  <p:nvPr/>
                </p:nvSpPr>
                <p:spPr>
                  <a:xfrm>
                    <a:off x="4554000" y="2352240"/>
                    <a:ext cx="102312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Oval 22"/>
                  <p:cNvSpPr/>
                  <p:nvPr/>
                </p:nvSpPr>
                <p:spPr>
                  <a:xfrm>
                    <a:off x="4566960" y="2357640"/>
                    <a:ext cx="99864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Oval 23"/>
                  <p:cNvSpPr/>
                  <p:nvPr/>
                </p:nvSpPr>
                <p:spPr>
                  <a:xfrm>
                    <a:off x="4577400" y="2367360"/>
                    <a:ext cx="94968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Oval 24"/>
                  <p:cNvSpPr/>
                  <p:nvPr/>
                </p:nvSpPr>
                <p:spPr>
                  <a:xfrm>
                    <a:off x="4633200" y="2392920"/>
                    <a:ext cx="84420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Group 25"/>
              <p:cNvGrpSpPr/>
              <p:nvPr/>
            </p:nvGrpSpPr>
            <p:grpSpPr>
              <a:xfrm>
                <a:off x="6942240" y="3101040"/>
                <a:ext cx="1582200" cy="2469600"/>
                <a:chOff x="6942240" y="3101040"/>
                <a:chExt cx="1582200" cy="2469600"/>
              </a:xfrm>
            </p:grpSpPr>
            <p:grpSp>
              <p:nvGrpSpPr>
                <p:cNvPr id="530" name="Group 26"/>
                <p:cNvGrpSpPr/>
                <p:nvPr/>
              </p:nvGrpSpPr>
              <p:grpSpPr>
                <a:xfrm>
                  <a:off x="6942240" y="3268440"/>
                  <a:ext cx="1458720" cy="2302200"/>
                  <a:chOff x="6942240" y="3268440"/>
                  <a:chExt cx="1458720" cy="2302200"/>
                </a:xfrm>
              </p:grpSpPr>
              <p:sp>
                <p:nvSpPr>
                  <p:cNvPr id="531" name="未知"/>
                  <p:cNvSpPr/>
                  <p:nvPr/>
                </p:nvSpPr>
                <p:spPr>
                  <a:xfrm rot="3876600">
                    <a:off x="6521400" y="415800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未知"/>
                  <p:cNvSpPr/>
                  <p:nvPr/>
                </p:nvSpPr>
                <p:spPr>
                  <a:xfrm rot="3876600">
                    <a:off x="7904160" y="504864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29"/>
                <p:cNvGrpSpPr/>
                <p:nvPr/>
              </p:nvGrpSpPr>
              <p:grpSpPr>
                <a:xfrm>
                  <a:off x="7405560" y="3101040"/>
                  <a:ext cx="1118880" cy="1766520"/>
                  <a:chOff x="7405560" y="3101040"/>
                  <a:chExt cx="1118880" cy="1766520"/>
                </a:xfrm>
              </p:grpSpPr>
              <p:sp>
                <p:nvSpPr>
                  <p:cNvPr id="534" name="未知"/>
                  <p:cNvSpPr/>
                  <p:nvPr/>
                </p:nvSpPr>
                <p:spPr>
                  <a:xfrm flipV="1" rot="3876600">
                    <a:off x="7082280" y="378324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未知"/>
                  <p:cNvSpPr/>
                  <p:nvPr/>
                </p:nvSpPr>
                <p:spPr>
                  <a:xfrm flipV="1" rot="3876600">
                    <a:off x="8127360" y="447408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Oval 32"/>
              <p:cNvSpPr/>
              <p:nvPr/>
            </p:nvSpPr>
            <p:spPr>
              <a:xfrm>
                <a:off x="6280560" y="2046240"/>
                <a:ext cx="1623240" cy="158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7" name="Oval 33"/>
              <p:cNvSpPr/>
              <p:nvPr/>
            </p:nvSpPr>
            <p:spPr>
              <a:xfrm>
                <a:off x="6280560" y="2046240"/>
                <a:ext cx="1623240" cy="15872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8" name="Oval 34"/>
              <p:cNvSpPr/>
              <p:nvPr/>
            </p:nvSpPr>
            <p:spPr>
              <a:xfrm>
                <a:off x="6389280" y="2149560"/>
                <a:ext cx="1408680" cy="137844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9" name="Oval 35"/>
              <p:cNvSpPr/>
              <p:nvPr/>
            </p:nvSpPr>
            <p:spPr>
              <a:xfrm>
                <a:off x="6390720" y="2152440"/>
                <a:ext cx="1408320" cy="13784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0" name="Oval 36"/>
              <p:cNvSpPr/>
              <p:nvPr/>
            </p:nvSpPr>
            <p:spPr>
              <a:xfrm>
                <a:off x="6459120" y="2219760"/>
                <a:ext cx="1268640" cy="123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541" name="Group 37"/>
              <p:cNvGrpSpPr/>
              <p:nvPr/>
            </p:nvGrpSpPr>
            <p:grpSpPr>
              <a:xfrm>
                <a:off x="6478560" y="2238480"/>
                <a:ext cx="1229760" cy="1203480"/>
                <a:chOff x="6478560" y="2238480"/>
                <a:chExt cx="1229760" cy="1203480"/>
              </a:xfrm>
            </p:grpSpPr>
            <p:sp>
              <p:nvSpPr>
                <p:cNvPr id="542" name="Oval 38"/>
                <p:cNvSpPr/>
                <p:nvPr/>
              </p:nvSpPr>
              <p:spPr>
                <a:xfrm>
                  <a:off x="6478560" y="2238480"/>
                  <a:ext cx="1229760" cy="120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3" name="Oval 39"/>
                <p:cNvSpPr/>
                <p:nvPr/>
              </p:nvSpPr>
              <p:spPr>
                <a:xfrm>
                  <a:off x="6494040" y="2244960"/>
                  <a:ext cx="1200240" cy="117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4" name="Oval 40"/>
                <p:cNvSpPr/>
                <p:nvPr/>
              </p:nvSpPr>
              <p:spPr>
                <a:xfrm>
                  <a:off x="6507000" y="2256480"/>
                  <a:ext cx="1141200" cy="109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5" name="Oval 41"/>
                <p:cNvSpPr/>
                <p:nvPr/>
              </p:nvSpPr>
              <p:spPr>
                <a:xfrm>
                  <a:off x="6573600" y="2287440"/>
                  <a:ext cx="1014480" cy="88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Group 42"/>
              <p:cNvGrpSpPr/>
              <p:nvPr/>
            </p:nvGrpSpPr>
            <p:grpSpPr>
              <a:xfrm>
                <a:off x="2927520" y="3033360"/>
                <a:ext cx="1582560" cy="2470320"/>
                <a:chOff x="2927520" y="3033360"/>
                <a:chExt cx="1582560" cy="2470320"/>
              </a:xfrm>
            </p:grpSpPr>
            <p:grpSp>
              <p:nvGrpSpPr>
                <p:cNvPr id="547" name="Group 43"/>
                <p:cNvGrpSpPr/>
                <p:nvPr/>
              </p:nvGrpSpPr>
              <p:grpSpPr>
                <a:xfrm>
                  <a:off x="2927520" y="3201120"/>
                  <a:ext cx="1459080" cy="2302560"/>
                  <a:chOff x="2927520" y="3201120"/>
                  <a:chExt cx="1459080" cy="2302560"/>
                </a:xfrm>
              </p:grpSpPr>
              <p:sp>
                <p:nvSpPr>
                  <p:cNvPr id="548" name="未知"/>
                  <p:cNvSpPr/>
                  <p:nvPr/>
                </p:nvSpPr>
                <p:spPr>
                  <a:xfrm rot="3876600">
                    <a:off x="2506680" y="4090680"/>
                    <a:ext cx="230040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未知"/>
                  <p:cNvSpPr/>
                  <p:nvPr/>
                </p:nvSpPr>
                <p:spPr>
                  <a:xfrm rot="3876600">
                    <a:off x="3889800" y="498096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Group 46"/>
                <p:cNvGrpSpPr/>
                <p:nvPr/>
              </p:nvGrpSpPr>
              <p:grpSpPr>
                <a:xfrm>
                  <a:off x="3391200" y="3033360"/>
                  <a:ext cx="1118880" cy="1766520"/>
                  <a:chOff x="3391200" y="3033360"/>
                  <a:chExt cx="1118880" cy="1766520"/>
                </a:xfrm>
              </p:grpSpPr>
              <p:sp>
                <p:nvSpPr>
                  <p:cNvPr id="551" name="未知"/>
                  <p:cNvSpPr/>
                  <p:nvPr/>
                </p:nvSpPr>
                <p:spPr>
                  <a:xfrm flipV="1" rot="3876600">
                    <a:off x="3067920" y="371556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未知"/>
                  <p:cNvSpPr/>
                  <p:nvPr/>
                </p:nvSpPr>
                <p:spPr>
                  <a:xfrm flipV="1" rot="3876600">
                    <a:off x="411300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3" name="Group 49"/>
              <p:cNvGrpSpPr/>
              <p:nvPr/>
            </p:nvGrpSpPr>
            <p:grpSpPr>
              <a:xfrm>
                <a:off x="2469600" y="2192040"/>
                <a:ext cx="1350360" cy="1323360"/>
                <a:chOff x="2469600" y="2192040"/>
                <a:chExt cx="1350360" cy="1323360"/>
              </a:xfrm>
            </p:grpSpPr>
            <p:sp>
              <p:nvSpPr>
                <p:cNvPr id="554" name="Oval 50"/>
                <p:cNvSpPr/>
                <p:nvPr/>
              </p:nvSpPr>
              <p:spPr>
                <a:xfrm>
                  <a:off x="2469600" y="2192040"/>
                  <a:ext cx="135036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1"/>
                <p:cNvSpPr/>
                <p:nvPr/>
              </p:nvSpPr>
              <p:spPr>
                <a:xfrm>
                  <a:off x="2469600" y="2192040"/>
                  <a:ext cx="135036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2"/>
                <p:cNvSpPr/>
                <p:nvPr/>
              </p:nvSpPr>
              <p:spPr>
                <a:xfrm>
                  <a:off x="255888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3"/>
                <p:cNvSpPr/>
                <p:nvPr/>
              </p:nvSpPr>
              <p:spPr>
                <a:xfrm>
                  <a:off x="255888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4"/>
                <p:cNvSpPr/>
                <p:nvPr/>
              </p:nvSpPr>
              <p:spPr>
                <a:xfrm>
                  <a:off x="2616840" y="2336400"/>
                  <a:ext cx="105516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59" name="Group 55"/>
                <p:cNvGrpSpPr/>
                <p:nvPr/>
              </p:nvGrpSpPr>
              <p:grpSpPr>
                <a:xfrm>
                  <a:off x="2633040" y="2352240"/>
                  <a:ext cx="1022760" cy="1003680"/>
                  <a:chOff x="2633040" y="2352240"/>
                  <a:chExt cx="1022760" cy="1003680"/>
                </a:xfrm>
              </p:grpSpPr>
              <p:sp>
                <p:nvSpPr>
                  <p:cNvPr id="560" name="Oval 56"/>
                  <p:cNvSpPr/>
                  <p:nvPr/>
                </p:nvSpPr>
                <p:spPr>
                  <a:xfrm>
                    <a:off x="2633040" y="2352240"/>
                    <a:ext cx="102276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Oval 57"/>
                  <p:cNvSpPr/>
                  <p:nvPr/>
                </p:nvSpPr>
                <p:spPr>
                  <a:xfrm>
                    <a:off x="2646000" y="2357640"/>
                    <a:ext cx="99828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Oval 58"/>
                  <p:cNvSpPr/>
                  <p:nvPr/>
                </p:nvSpPr>
                <p:spPr>
                  <a:xfrm>
                    <a:off x="2656440" y="2367360"/>
                    <a:ext cx="94932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Oval 59"/>
                  <p:cNvSpPr/>
                  <p:nvPr/>
                </p:nvSpPr>
                <p:spPr>
                  <a:xfrm>
                    <a:off x="2712240" y="2392920"/>
                    <a:ext cx="84384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4" name="Group 60"/>
              <p:cNvGrpSpPr/>
              <p:nvPr/>
            </p:nvGrpSpPr>
            <p:grpSpPr>
              <a:xfrm>
                <a:off x="1067040" y="3033720"/>
                <a:ext cx="1582200" cy="2469600"/>
                <a:chOff x="1067040" y="3033720"/>
                <a:chExt cx="1582200" cy="2469600"/>
              </a:xfrm>
            </p:grpSpPr>
            <p:grpSp>
              <p:nvGrpSpPr>
                <p:cNvPr id="565" name="Group 61"/>
                <p:cNvGrpSpPr/>
                <p:nvPr/>
              </p:nvGrpSpPr>
              <p:grpSpPr>
                <a:xfrm>
                  <a:off x="1067040" y="3201120"/>
                  <a:ext cx="1458720" cy="2302200"/>
                  <a:chOff x="1067040" y="3201120"/>
                  <a:chExt cx="1458720" cy="2302200"/>
                </a:xfrm>
              </p:grpSpPr>
              <p:sp>
                <p:nvSpPr>
                  <p:cNvPr id="566" name="未知"/>
                  <p:cNvSpPr/>
                  <p:nvPr/>
                </p:nvSpPr>
                <p:spPr>
                  <a:xfrm rot="3876600">
                    <a:off x="646200" y="4090680"/>
                    <a:ext cx="2300400" cy="52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未知"/>
                  <p:cNvSpPr/>
                  <p:nvPr/>
                </p:nvSpPr>
                <p:spPr>
                  <a:xfrm rot="3876600">
                    <a:off x="2028960" y="4981320"/>
                    <a:ext cx="36144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Group 64"/>
                <p:cNvGrpSpPr/>
                <p:nvPr/>
              </p:nvGrpSpPr>
              <p:grpSpPr>
                <a:xfrm>
                  <a:off x="1530360" y="3033720"/>
                  <a:ext cx="1118880" cy="1766520"/>
                  <a:chOff x="1530360" y="3033720"/>
                  <a:chExt cx="1118880" cy="1766520"/>
                </a:xfrm>
              </p:grpSpPr>
              <p:sp>
                <p:nvSpPr>
                  <p:cNvPr id="569" name="未知"/>
                  <p:cNvSpPr/>
                  <p:nvPr/>
                </p:nvSpPr>
                <p:spPr>
                  <a:xfrm flipV="1" rot="3876600">
                    <a:off x="1207080" y="3715920"/>
                    <a:ext cx="17650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未知"/>
                  <p:cNvSpPr/>
                  <p:nvPr/>
                </p:nvSpPr>
                <p:spPr>
                  <a:xfrm flipV="1" rot="3876600">
                    <a:off x="2252160" y="4406760"/>
                    <a:ext cx="2772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1" name="Group 67"/>
              <p:cNvGrpSpPr/>
              <p:nvPr/>
            </p:nvGrpSpPr>
            <p:grpSpPr>
              <a:xfrm>
                <a:off x="609480" y="2192040"/>
                <a:ext cx="1350720" cy="1323360"/>
                <a:chOff x="609480" y="2192040"/>
                <a:chExt cx="1350720" cy="1323360"/>
              </a:xfrm>
            </p:grpSpPr>
            <p:sp>
              <p:nvSpPr>
                <p:cNvPr id="572" name="Oval 68"/>
                <p:cNvSpPr/>
                <p:nvPr/>
              </p:nvSpPr>
              <p:spPr>
                <a:xfrm>
                  <a:off x="60948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3" name="Oval 69"/>
                <p:cNvSpPr/>
                <p:nvPr/>
              </p:nvSpPr>
              <p:spPr>
                <a:xfrm>
                  <a:off x="609480" y="2192040"/>
                  <a:ext cx="1350720" cy="132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4" name="Oval 70"/>
                <p:cNvSpPr/>
                <p:nvPr/>
              </p:nvSpPr>
              <p:spPr>
                <a:xfrm>
                  <a:off x="698760" y="227772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1"/>
                <p:cNvSpPr/>
                <p:nvPr/>
              </p:nvSpPr>
              <p:spPr>
                <a:xfrm>
                  <a:off x="698760" y="2280960"/>
                  <a:ext cx="1171440" cy="11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6" name="Oval 72"/>
                <p:cNvSpPr/>
                <p:nvPr/>
              </p:nvSpPr>
              <p:spPr>
                <a:xfrm>
                  <a:off x="756720" y="2336400"/>
                  <a:ext cx="1055520" cy="1033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Group 73"/>
                <p:cNvGrpSpPr/>
                <p:nvPr/>
              </p:nvGrpSpPr>
              <p:grpSpPr>
                <a:xfrm>
                  <a:off x="772920" y="2352240"/>
                  <a:ext cx="1023120" cy="1003680"/>
                  <a:chOff x="772920" y="2352240"/>
                  <a:chExt cx="1023120" cy="1003680"/>
                </a:xfrm>
              </p:grpSpPr>
              <p:sp>
                <p:nvSpPr>
                  <p:cNvPr id="578" name="Oval 74"/>
                  <p:cNvSpPr/>
                  <p:nvPr/>
                </p:nvSpPr>
                <p:spPr>
                  <a:xfrm>
                    <a:off x="772920" y="2352240"/>
                    <a:ext cx="1023120" cy="100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Oval 75"/>
                  <p:cNvSpPr/>
                  <p:nvPr/>
                </p:nvSpPr>
                <p:spPr>
                  <a:xfrm>
                    <a:off x="785880" y="2357640"/>
                    <a:ext cx="998640" cy="9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Oval 76"/>
                  <p:cNvSpPr/>
                  <p:nvPr/>
                </p:nvSpPr>
                <p:spPr>
                  <a:xfrm>
                    <a:off x="796320" y="2367360"/>
                    <a:ext cx="949680" cy="91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Oval 77"/>
                  <p:cNvSpPr/>
                  <p:nvPr/>
                </p:nvSpPr>
                <p:spPr>
                  <a:xfrm>
                    <a:off x="852120" y="2392920"/>
                    <a:ext cx="844200" cy="742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2" name="Text Box 78"/>
              <p:cNvSpPr/>
              <p:nvPr/>
            </p:nvSpPr>
            <p:spPr>
              <a:xfrm rot="3925800">
                <a:off x="1046160" y="4013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3" name="Text Box 79"/>
              <p:cNvSpPr/>
              <p:nvPr/>
            </p:nvSpPr>
            <p:spPr>
              <a:xfrm rot="3925800">
                <a:off x="152856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4" name="Text Box 80"/>
              <p:cNvSpPr/>
              <p:nvPr/>
            </p:nvSpPr>
            <p:spPr>
              <a:xfrm rot="3925800">
                <a:off x="2900160" y="40150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5" name="Text Box 81"/>
              <p:cNvSpPr/>
              <p:nvPr/>
            </p:nvSpPr>
            <p:spPr>
              <a:xfrm rot="3925800">
                <a:off x="338256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6" name="Text Box 82"/>
              <p:cNvSpPr/>
              <p:nvPr/>
            </p:nvSpPr>
            <p:spPr>
              <a:xfrm rot="3925800">
                <a:off x="4829040" y="40132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7" name="Text Box 83"/>
              <p:cNvSpPr/>
              <p:nvPr/>
            </p:nvSpPr>
            <p:spPr>
              <a:xfrm rot="3925800">
                <a:off x="5311440" y="3742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8" name="Text Box 84"/>
              <p:cNvSpPr/>
              <p:nvPr/>
            </p:nvSpPr>
            <p:spPr>
              <a:xfrm rot="3925800">
                <a:off x="6908040" y="4160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9" name="Text Box 85"/>
              <p:cNvSpPr/>
              <p:nvPr/>
            </p:nvSpPr>
            <p:spPr>
              <a:xfrm rot="3925800">
                <a:off x="7389000" y="3889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6699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90" name="Text Box 86"/>
            <p:cNvSpPr/>
            <p:nvPr/>
          </p:nvSpPr>
          <p:spPr>
            <a:xfrm>
              <a:off x="77796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1" name="Text Box 87"/>
            <p:cNvSpPr/>
            <p:nvPr/>
          </p:nvSpPr>
          <p:spPr>
            <a:xfrm>
              <a:off x="276840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2" name="Text Box 88"/>
            <p:cNvSpPr/>
            <p:nvPr/>
          </p:nvSpPr>
          <p:spPr>
            <a:xfrm>
              <a:off x="4749840" y="15555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3" name="Text Box 89"/>
            <p:cNvSpPr/>
            <p:nvPr/>
          </p:nvSpPr>
          <p:spPr>
            <a:xfrm>
              <a:off x="6795000" y="15127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cxnSp>
          <p:nvCxnSpPr>
            <p:cNvPr id="594" name="AutoShape 90"/>
            <p:cNvCxnSpPr>
              <a:stCxn id="590" idx="3"/>
              <a:endCxn id="591" idx="1"/>
            </p:cNvCxnSpPr>
            <p:nvPr/>
          </p:nvCxnSpPr>
          <p:spPr>
            <a:xfrm>
              <a:off x="1514160" y="1739520"/>
              <a:ext cx="122292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595" name="AutoShape 91"/>
            <p:cNvCxnSpPr>
              <a:stCxn id="591" idx="3"/>
              <a:endCxn id="592" idx="1"/>
            </p:cNvCxnSpPr>
            <p:nvPr/>
          </p:nvCxnSpPr>
          <p:spPr>
            <a:xfrm>
              <a:off x="3504960" y="1739520"/>
              <a:ext cx="121356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  <p:cxnSp>
          <p:nvCxnSpPr>
            <p:cNvPr id="596" name="AutoShape 92"/>
            <p:cNvCxnSpPr>
              <a:stCxn id="592" idx="3"/>
              <a:endCxn id="593" idx="1"/>
            </p:cNvCxnSpPr>
            <p:nvPr/>
          </p:nvCxnSpPr>
          <p:spPr>
            <a:xfrm>
              <a:off x="5486040" y="1739880"/>
              <a:ext cx="1220040" cy="216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ddbae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0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97bb"/>
              </a:gs>
              <a:gs pos="100000">
                <a:srgbClr val="82c0d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ba533"/>
              </a:gs>
              <a:gs pos="100000">
                <a:srgbClr val="f3c88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7bb"/>
              </a:gs>
              <a:gs pos="100000">
                <a:srgbClr val="17465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8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9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0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12" name="Group 8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613" name="Oval 9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2363760" y="1723320"/>
              <a:ext cx="673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16" name="Oval 12"/>
            <p:cNvSpPr/>
            <p:nvPr/>
          </p:nvSpPr>
          <p:spPr>
            <a:xfrm>
              <a:off x="30412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17" name="Rectangle 13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18" name="Group 14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619" name="Oval 15"/>
            <p:cNvSpPr/>
            <p:nvPr/>
          </p:nvSpPr>
          <p:spPr>
            <a:xfrm>
              <a:off x="4008600" y="1722600"/>
              <a:ext cx="13644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4086360" y="1723320"/>
              <a:ext cx="6721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1" name="Oval 17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2" name="Oval 18"/>
            <p:cNvSpPr/>
            <p:nvPr/>
          </p:nvSpPr>
          <p:spPr>
            <a:xfrm>
              <a:off x="476208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23" name="Rectangle 19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eba533"/>
              </a:gs>
              <a:gs pos="100000">
                <a:srgbClr val="6d4c1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24" name="Group 20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625" name="Oval 21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6" name="Rectangle 22"/>
            <p:cNvSpPr/>
            <p:nvPr/>
          </p:nvSpPr>
          <p:spPr>
            <a:xfrm>
              <a:off x="5830920" y="1723320"/>
              <a:ext cx="88020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7" name="Oval 23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671580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29" name="Rectangle 25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c78dd7"/>
              </a:gs>
              <a:gs pos="100000">
                <a:srgbClr val="5c416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0" name="Rectangle 26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1" name="Rectangle 27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2" name="Rectangle 28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3" name="Rectangle 29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4" name="Rectangle 30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5" name="Rectangle 31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6" name="Rectangle 32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7" name="Rectangle 33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209520" y="65451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640" name="Group 2"/>
          <p:cNvGrpSpPr/>
          <p:nvPr/>
        </p:nvGrpSpPr>
        <p:grpSpPr>
          <a:xfrm>
            <a:off x="1025640" y="1280880"/>
            <a:ext cx="6599160" cy="4675320"/>
            <a:chOff x="1025640" y="1280880"/>
            <a:chExt cx="6599160" cy="4675320"/>
          </a:xfrm>
        </p:grpSpPr>
        <p:sp>
          <p:nvSpPr>
            <p:cNvPr id="641" name="Oval 3"/>
            <p:cNvSpPr/>
            <p:nvPr/>
          </p:nvSpPr>
          <p:spPr>
            <a:xfrm>
              <a:off x="2062080" y="4291200"/>
              <a:ext cx="5562720" cy="1325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2" name="Oval 4"/>
            <p:cNvSpPr/>
            <p:nvPr/>
          </p:nvSpPr>
          <p:spPr>
            <a:xfrm rot="20601600">
              <a:off x="1336680" y="21776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3" name="Oval 5"/>
            <p:cNvSpPr/>
            <p:nvPr/>
          </p:nvSpPr>
          <p:spPr>
            <a:xfrm rot="20601600">
              <a:off x="1393200" y="20160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4" name="Arc 6"/>
            <p:cNvSpPr/>
            <p:nvPr/>
          </p:nvSpPr>
          <p:spPr>
            <a:xfrm rot="20601600">
              <a:off x="404928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7cbdd4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5" name="Arc 7"/>
            <p:cNvSpPr/>
            <p:nvPr/>
          </p:nvSpPr>
          <p:spPr>
            <a:xfrm flipH="1" rot="20602200">
              <a:off x="1637280" y="37800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a47324"/>
                </a:gs>
                <a:gs pos="100000">
                  <a:srgbClr val="eba53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6" name="Arc 8"/>
            <p:cNvSpPr/>
            <p:nvPr/>
          </p:nvSpPr>
          <p:spPr>
            <a:xfrm rot="20601600">
              <a:off x="2646360" y="19508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197bb"/>
                </a:gs>
                <a:gs pos="100000">
                  <a:srgbClr val="246e8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7" name="Arc 9"/>
            <p:cNvSpPr/>
            <p:nvPr/>
          </p:nvSpPr>
          <p:spPr>
            <a:xfrm flipH="1" rot="20602200">
              <a:off x="1294920" y="2544840"/>
              <a:ext cx="285120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78dd7"/>
                </a:gs>
                <a:gs pos="100000">
                  <a:srgbClr val="5c416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5387760" y="34480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ccd6"/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9" name="Arc 11"/>
            <p:cNvSpPr/>
            <p:nvPr/>
          </p:nvSpPr>
          <p:spPr>
            <a:xfrm rot="20539200">
              <a:off x="4431960" y="2837160"/>
              <a:ext cx="272880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424c"/>
                </a:gs>
                <a:gs pos="100000">
                  <a:srgbClr val="878fa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4398840" y="37879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ccd6"/>
                </a:gs>
                <a:gs pos="100000">
                  <a:srgbClr val="878f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1" name="Oval 13"/>
            <p:cNvSpPr/>
            <p:nvPr/>
          </p:nvSpPr>
          <p:spPr>
            <a:xfrm rot="20601600">
              <a:off x="285408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2" name="Text Box 14"/>
            <p:cNvSpPr/>
            <p:nvPr/>
          </p:nvSpPr>
          <p:spPr>
            <a:xfrm>
              <a:off x="184500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3" name="Text Box 15"/>
            <p:cNvSpPr/>
            <p:nvPr/>
          </p:nvSpPr>
          <p:spPr>
            <a:xfrm>
              <a:off x="375012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4" name="Text Box 16"/>
            <p:cNvSpPr/>
            <p:nvPr/>
          </p:nvSpPr>
          <p:spPr>
            <a:xfrm>
              <a:off x="557892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5" name="Text Box 17"/>
            <p:cNvSpPr/>
            <p:nvPr/>
          </p:nvSpPr>
          <p:spPr>
            <a:xfrm>
              <a:off x="5274000" y="3714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6" name="Text Box 18"/>
            <p:cNvSpPr/>
            <p:nvPr/>
          </p:nvSpPr>
          <p:spPr>
            <a:xfrm>
              <a:off x="306432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4317840" y="40039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 rot="20601600">
              <a:off x="2955960" y="29829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2209680" y="2133720"/>
            <a:ext cx="4724280" cy="685800"/>
            <a:chOff x="2209680" y="2133720"/>
            <a:chExt cx="4724280" cy="685800"/>
          </a:xfrm>
        </p:grpSpPr>
        <p:sp>
          <p:nvSpPr>
            <p:cNvPr id="118" name="AutoShape 5"/>
            <p:cNvSpPr/>
            <p:nvPr/>
          </p:nvSpPr>
          <p:spPr>
            <a:xfrm>
              <a:off x="259056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a533"/>
                </a:gs>
                <a:gs pos="50000">
                  <a:srgbClr val="fbecd4"/>
                </a:gs>
                <a:gs pos="100000">
                  <a:srgbClr val="eba53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9" name="AutoShape 6"/>
            <p:cNvSpPr/>
            <p:nvPr/>
          </p:nvSpPr>
          <p:spPr>
            <a:xfrm>
              <a:off x="2209680" y="2133720"/>
              <a:ext cx="685800" cy="685800"/>
            </a:xfrm>
            <a:prstGeom prst="diamond">
              <a:avLst/>
            </a:prstGeom>
            <a:solidFill>
              <a:srgbClr val="eba53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281916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236556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2209680" y="2971800"/>
            <a:ext cx="4724280" cy="685800"/>
            <a:chOff x="2209680" y="2971800"/>
            <a:chExt cx="4724280" cy="685800"/>
          </a:xfrm>
        </p:grpSpPr>
        <p:sp>
          <p:nvSpPr>
            <p:cNvPr id="123" name="AutoShape 10"/>
            <p:cNvSpPr/>
            <p:nvPr/>
          </p:nvSpPr>
          <p:spPr>
            <a:xfrm>
              <a:off x="259056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78dd7"/>
                </a:gs>
                <a:gs pos="50000">
                  <a:srgbClr val="f3e7f7"/>
                </a:gs>
                <a:gs pos="100000">
                  <a:srgbClr val="c78dd7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" name="AutoShape 11"/>
            <p:cNvSpPr/>
            <p:nvPr/>
          </p:nvSpPr>
          <p:spPr>
            <a:xfrm>
              <a:off x="2209680" y="2971800"/>
              <a:ext cx="685800" cy="685800"/>
            </a:xfrm>
            <a:prstGeom prst="diamond">
              <a:avLst/>
            </a:prstGeom>
            <a:solidFill>
              <a:srgbClr val="c78d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281916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236556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2209680" y="3809880"/>
            <a:ext cx="4724280" cy="685800"/>
            <a:chOff x="2209680" y="3809880"/>
            <a:chExt cx="4724280" cy="685800"/>
          </a:xfrm>
        </p:grpSpPr>
        <p:sp>
          <p:nvSpPr>
            <p:cNvPr id="128" name="AutoShape 15"/>
            <p:cNvSpPr/>
            <p:nvPr/>
          </p:nvSpPr>
          <p:spPr>
            <a:xfrm>
              <a:off x="25905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197bb"/>
                </a:gs>
                <a:gs pos="50000">
                  <a:srgbClr val="d3e9f1"/>
                </a:gs>
                <a:gs pos="100000">
                  <a:srgbClr val="3197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9" name="AutoShape 16"/>
            <p:cNvSpPr/>
            <p:nvPr/>
          </p:nvSpPr>
          <p:spPr>
            <a:xfrm>
              <a:off x="2209680" y="3809880"/>
              <a:ext cx="685800" cy="685800"/>
            </a:xfrm>
            <a:prstGeom prst="diamond">
              <a:avLst/>
            </a:prstGeom>
            <a:solidFill>
              <a:srgbClr val="3197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281916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2365560" y="39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2209680" y="4724280"/>
            <a:ext cx="4724280" cy="685800"/>
            <a:chOff x="2209680" y="4724280"/>
            <a:chExt cx="4724280" cy="685800"/>
          </a:xfrm>
        </p:grpSpPr>
        <p:sp>
          <p:nvSpPr>
            <p:cNvPr id="133" name="AutoShape 20"/>
            <p:cNvSpPr/>
            <p:nvPr/>
          </p:nvSpPr>
          <p:spPr>
            <a:xfrm>
              <a:off x="259056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78fa5"/>
                </a:gs>
                <a:gs pos="50000">
                  <a:srgbClr val="e6e7ec"/>
                </a:gs>
                <a:gs pos="100000">
                  <a:srgbClr val="878fa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2209680" y="47242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281916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236556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2209680" y="5105520"/>
            <a:ext cx="4800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3197b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ddddd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3197bb"/>
                  </a:gs>
                </a:gsLst>
                <a:lin ang="5400000"/>
              </a:gradFill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2209680" y="5562720"/>
            <a:ext cx="49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197bb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197bb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197bb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eba533"/>
              </a:solidFill>
              <a:latin typeface="Verdana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800" y="1447920"/>
            <a:ext cx="8366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197b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a53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eba533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eba53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53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a5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eba53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5334120" y="2971800"/>
            <a:ext cx="2286000" cy="2666880"/>
            <a:chOff x="5334120" y="2971800"/>
            <a:chExt cx="2286000" cy="2666880"/>
          </a:xfrm>
        </p:grpSpPr>
        <p:sp>
          <p:nvSpPr>
            <p:cNvPr id="143" name="AutoShape 4"/>
            <p:cNvSpPr/>
            <p:nvPr/>
          </p:nvSpPr>
          <p:spPr>
            <a:xfrm>
              <a:off x="533412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5562720" y="3166920"/>
              <a:ext cx="19810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45" name="Group 6"/>
          <p:cNvGrpSpPr/>
          <p:nvPr/>
        </p:nvGrpSpPr>
        <p:grpSpPr>
          <a:xfrm>
            <a:off x="1066680" y="2971800"/>
            <a:ext cx="2286000" cy="2666880"/>
            <a:chOff x="1066680" y="2971800"/>
            <a:chExt cx="2286000" cy="2666880"/>
          </a:xfrm>
        </p:grpSpPr>
        <p:sp>
          <p:nvSpPr>
            <p:cNvPr id="146" name="AutoShape 7"/>
            <p:cNvSpPr/>
            <p:nvPr/>
          </p:nvSpPr>
          <p:spPr>
            <a:xfrm>
              <a:off x="10666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1162080" y="3171960"/>
              <a:ext cx="203832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>
            <a:off x="3070080" y="287496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78dd7"/>
              </a:gs>
              <a:gs pos="100000">
                <a:srgbClr val="eddb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 flipH="1">
            <a:off x="4715640" y="287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flipH="1">
            <a:off x="4647600" y="28954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ba533"/>
              </a:gs>
              <a:gs pos="100000">
                <a:srgbClr val="f9e2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2895480" y="1247760"/>
            <a:ext cx="2998440" cy="1601280"/>
            <a:chOff x="2895480" y="1247760"/>
            <a:chExt cx="2998440" cy="1601280"/>
          </a:xfrm>
        </p:grpSpPr>
        <p:grpSp>
          <p:nvGrpSpPr>
            <p:cNvPr id="152" name="Group 13"/>
            <p:cNvGrpSpPr/>
            <p:nvPr/>
          </p:nvGrpSpPr>
          <p:grpSpPr>
            <a:xfrm>
              <a:off x="2895480" y="1247760"/>
              <a:ext cx="2998440" cy="1601280"/>
              <a:chOff x="2895480" y="1247760"/>
              <a:chExt cx="2998440" cy="1601280"/>
            </a:xfrm>
          </p:grpSpPr>
          <p:grpSp>
            <p:nvGrpSpPr>
              <p:cNvPr id="153" name="Group 14"/>
              <p:cNvGrpSpPr/>
              <p:nvPr/>
            </p:nvGrpSpPr>
            <p:grpSpPr>
              <a:xfrm>
                <a:off x="2895480" y="1390680"/>
                <a:ext cx="2998440" cy="1458360"/>
                <a:chOff x="2895480" y="1390680"/>
                <a:chExt cx="2998440" cy="1458360"/>
              </a:xfrm>
            </p:grpSpPr>
            <p:sp>
              <p:nvSpPr>
                <p:cNvPr id="154" name="Oval 15"/>
                <p:cNvSpPr/>
                <p:nvPr/>
              </p:nvSpPr>
              <p:spPr>
                <a:xfrm>
                  <a:off x="2928240" y="14371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97bb"/>
                    </a:gs>
                    <a:gs pos="100000">
                      <a:srgbClr val="18495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6"/>
                <p:cNvSpPr/>
                <p:nvPr/>
              </p:nvSpPr>
              <p:spPr>
                <a:xfrm>
                  <a:off x="2895480" y="13906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cdd7"/>
                    </a:gs>
                    <a:gs pos="100000">
                      <a:srgbClr val="878fa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Oval 17"/>
              <p:cNvSpPr/>
              <p:nvPr/>
            </p:nvSpPr>
            <p:spPr>
              <a:xfrm>
                <a:off x="3036600" y="12477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d4c18"/>
                  </a:gs>
                  <a:gs pos="100000">
                    <a:srgbClr val="eba53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7" name="Oval 18"/>
              <p:cNvSpPr/>
              <p:nvPr/>
            </p:nvSpPr>
            <p:spPr>
              <a:xfrm>
                <a:off x="3071520" y="12556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ba533">
                      <a:alpha val="0"/>
                    </a:srgbClr>
                  </a:gs>
                  <a:gs pos="100000">
                    <a:srgbClr val="f8e0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8" name="Oval 19"/>
              <p:cNvSpPr/>
              <p:nvPr/>
            </p:nvSpPr>
            <p:spPr>
              <a:xfrm>
                <a:off x="3098520" y="12682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a8328"/>
                  </a:gs>
                  <a:gs pos="100000">
                    <a:srgbClr val="eba53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59" name="Oval 20"/>
              <p:cNvSpPr/>
              <p:nvPr/>
            </p:nvSpPr>
            <p:spPr>
              <a:xfrm>
                <a:off x="3230280" y="12952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a53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60" name="Text Box 21"/>
            <p:cNvSpPr/>
            <p:nvPr/>
          </p:nvSpPr>
          <p:spPr>
            <a:xfrm>
              <a:off x="3730320" y="14479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914400" y="1219320"/>
            <a:ext cx="7315200" cy="5019120"/>
            <a:chOff x="914400" y="1219320"/>
            <a:chExt cx="7315200" cy="5019120"/>
          </a:xfrm>
        </p:grpSpPr>
        <p:sp>
          <p:nvSpPr>
            <p:cNvPr id="164" name="AutoShape 4"/>
            <p:cNvSpPr/>
            <p:nvPr/>
          </p:nvSpPr>
          <p:spPr>
            <a:xfrm>
              <a:off x="914400" y="30826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1130400" y="29397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 flipH="1">
              <a:off x="2813760" y="301140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 flipH="1">
              <a:off x="1231200" y="301140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69" name="AutoShape 9"/>
            <p:cNvSpPr/>
            <p:nvPr/>
          </p:nvSpPr>
          <p:spPr>
            <a:xfrm>
              <a:off x="3639960" y="250956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 flipH="1">
              <a:off x="5323680" y="258120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5" name="AutoShape 15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8" name="Text Box 18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1" name="Text Box 21"/>
            <p:cNvSpPr/>
            <p:nvPr/>
          </p:nvSpPr>
          <p:spPr>
            <a:xfrm>
              <a:off x="990720" y="334296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78dd7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  <a:ea typeface="宋体"/>
                </a:rPr>
                <a:t> 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3505320" y="288576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78fa5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6019920" y="235260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ba533"/>
                  </a:solidFill>
                  <a:latin typeface="Arial"/>
                  <a:ea typeface="宋体"/>
                </a:rPr>
                <a:t>ThemeGallery </a:t>
              </a:r>
              <a:r>
                <a:rPr b="0" lang="en-US" sz="1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87" name="Group 4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88" name="Rectangle 5"/>
              <p:cNvSpPr/>
              <p:nvPr/>
            </p:nvSpPr>
            <p:spPr>
              <a:xfrm>
                <a:off x="0" y="4536360"/>
                <a:ext cx="551124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9" name="Group 6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90" name="Oval 7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1" name="未知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9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6699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0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94" name="Rectangle 11"/>
              <p:cNvSpPr/>
              <p:nvPr/>
            </p:nvSpPr>
            <p:spPr>
              <a:xfrm>
                <a:off x="0" y="275580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5" name="Group 12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96" name="Group 13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97" name="Oval 14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未知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16"/>
                <p:cNvSpPr/>
                <p:nvPr/>
              </p:nvSpPr>
              <p:spPr>
                <a:xfrm>
                  <a:off x="398844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17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201" name="Rectangle 18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02" name="Group 19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203" name="Group 20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204" name="Oval 21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Text Box 23"/>
                <p:cNvSpPr/>
                <p:nvPr/>
              </p:nvSpPr>
              <p:spPr>
                <a:xfrm>
                  <a:off x="466812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24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208" name="Rectangle 25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09" name="Group 26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210" name="Group 27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211" name="Oval 28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未知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30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6699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Text Box 31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8" name="AutoShape 35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631800" y="60897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336699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197b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452600" y="1265400"/>
            <a:ext cx="5769000" cy="4983120"/>
            <a:chOff x="1452600" y="1265400"/>
            <a:chExt cx="5769000" cy="4983120"/>
          </a:xfrm>
        </p:grpSpPr>
        <p:grpSp>
          <p:nvGrpSpPr>
            <p:cNvPr id="223" name="Group 4"/>
            <p:cNvGrpSpPr/>
            <p:nvPr/>
          </p:nvGrpSpPr>
          <p:grpSpPr>
            <a:xfrm>
              <a:off x="5276880" y="1265400"/>
              <a:ext cx="891720" cy="861840"/>
              <a:chOff x="5276880" y="1265400"/>
              <a:chExt cx="891720" cy="861840"/>
            </a:xfrm>
          </p:grpSpPr>
          <p:grpSp>
            <p:nvGrpSpPr>
              <p:cNvPr id="224" name="Group 5"/>
              <p:cNvGrpSpPr/>
              <p:nvPr/>
            </p:nvGrpSpPr>
            <p:grpSpPr>
              <a:xfrm>
                <a:off x="5276880" y="1265400"/>
                <a:ext cx="871560" cy="861840"/>
                <a:chOff x="5276880" y="1265400"/>
                <a:chExt cx="871560" cy="861840"/>
              </a:xfrm>
            </p:grpSpPr>
            <p:sp>
              <p:nvSpPr>
                <p:cNvPr id="225" name="Oval 6"/>
                <p:cNvSpPr/>
                <p:nvPr/>
              </p:nvSpPr>
              <p:spPr>
                <a:xfrm>
                  <a:off x="5276880" y="126540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未知"/>
                <p:cNvSpPr/>
                <p:nvPr/>
              </p:nvSpPr>
              <p:spPr>
                <a:xfrm>
                  <a:off x="5376240" y="127944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8"/>
              <p:cNvSpPr/>
              <p:nvPr/>
            </p:nvSpPr>
            <p:spPr>
              <a:xfrm>
                <a:off x="5297400" y="15973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9"/>
            <p:cNvGrpSpPr/>
            <p:nvPr/>
          </p:nvGrpSpPr>
          <p:grpSpPr>
            <a:xfrm>
              <a:off x="1452600" y="1948320"/>
              <a:ext cx="5769000" cy="4300200"/>
              <a:chOff x="1452600" y="1948320"/>
              <a:chExt cx="5769000" cy="4300200"/>
            </a:xfrm>
          </p:grpSpPr>
          <p:sp>
            <p:nvSpPr>
              <p:cNvPr id="229" name="Oval 10"/>
              <p:cNvSpPr/>
              <p:nvPr/>
            </p:nvSpPr>
            <p:spPr>
              <a:xfrm>
                <a:off x="5559480" y="5837400"/>
                <a:ext cx="1481040" cy="411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0" name="Oval 11"/>
              <p:cNvSpPr/>
              <p:nvPr/>
            </p:nvSpPr>
            <p:spPr>
              <a:xfrm>
                <a:off x="5367240" y="2125800"/>
                <a:ext cx="743040" cy="206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1" name="Oval 12"/>
              <p:cNvSpPr/>
              <p:nvPr/>
            </p:nvSpPr>
            <p:spPr>
              <a:xfrm>
                <a:off x="4081680" y="3811680"/>
                <a:ext cx="1257120" cy="349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2" name="Oval 13"/>
              <p:cNvSpPr/>
              <p:nvPr/>
            </p:nvSpPr>
            <p:spPr>
              <a:xfrm>
                <a:off x="1681200" y="4473720"/>
                <a:ext cx="1481040" cy="411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 rot="13770000">
                <a:off x="4916160" y="3705120"/>
                <a:ext cx="960480" cy="19224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23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 rot="20856000">
                <a:off x="2928600" y="3254400"/>
                <a:ext cx="1009800" cy="1731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61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35" name="Group 16"/>
              <p:cNvGrpSpPr/>
              <p:nvPr/>
            </p:nvGrpSpPr>
            <p:grpSpPr>
              <a:xfrm>
                <a:off x="3867120" y="1948320"/>
                <a:ext cx="1704600" cy="1836000"/>
                <a:chOff x="3867120" y="1948320"/>
                <a:chExt cx="1704600" cy="1836000"/>
              </a:xfrm>
            </p:grpSpPr>
            <p:sp>
              <p:nvSpPr>
                <p:cNvPr id="236" name="Rectangle 17"/>
                <p:cNvSpPr/>
                <p:nvPr/>
              </p:nvSpPr>
              <p:spPr>
                <a:xfrm rot="18394200">
                  <a:off x="5042880" y="2161080"/>
                  <a:ext cx="596160" cy="13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54545"/>
                    </a:gs>
                    <a:gs pos="50000">
                      <a:srgbClr val="969696"/>
                    </a:gs>
                    <a:gs pos="100000">
                      <a:srgbClr val="454545"/>
                    </a:gs>
                  </a:gsLst>
                  <a:lin ang="860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Group 18"/>
                <p:cNvGrpSpPr/>
                <p:nvPr/>
              </p:nvGrpSpPr>
              <p:grpSpPr>
                <a:xfrm>
                  <a:off x="3867120" y="2194920"/>
                  <a:ext cx="1609560" cy="1589400"/>
                  <a:chOff x="3867120" y="2194920"/>
                  <a:chExt cx="1609560" cy="1589400"/>
                </a:xfrm>
              </p:grpSpPr>
              <p:sp>
                <p:nvSpPr>
                  <p:cNvPr id="238" name="Oval 19"/>
                  <p:cNvSpPr/>
                  <p:nvPr/>
                </p:nvSpPr>
                <p:spPr>
                  <a:xfrm>
                    <a:off x="3867120" y="2194920"/>
                    <a:ext cx="1609560" cy="1589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2464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未知"/>
                  <p:cNvSpPr/>
                  <p:nvPr/>
                </p:nvSpPr>
                <p:spPr>
                  <a:xfrm>
                    <a:off x="4051080" y="2221200"/>
                    <a:ext cx="1241640" cy="59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Text Box 21"/>
                <p:cNvSpPr/>
                <p:nvPr/>
              </p:nvSpPr>
              <p:spPr>
                <a:xfrm>
                  <a:off x="3953880" y="2886480"/>
                  <a:ext cx="139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4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2"/>
              <p:cNvGrpSpPr/>
              <p:nvPr/>
            </p:nvGrpSpPr>
            <p:grpSpPr>
              <a:xfrm>
                <a:off x="1452600" y="2590920"/>
                <a:ext cx="1744560" cy="1790640"/>
                <a:chOff x="1452600" y="2590920"/>
                <a:chExt cx="1744560" cy="1790640"/>
              </a:xfrm>
            </p:grpSpPr>
            <p:grpSp>
              <p:nvGrpSpPr>
                <p:cNvPr id="242" name="Group 23"/>
                <p:cNvGrpSpPr/>
                <p:nvPr/>
              </p:nvGrpSpPr>
              <p:grpSpPr>
                <a:xfrm>
                  <a:off x="1452600" y="2590920"/>
                  <a:ext cx="1744560" cy="1790640"/>
                  <a:chOff x="1452600" y="2590920"/>
                  <a:chExt cx="1744560" cy="1790640"/>
                </a:xfrm>
              </p:grpSpPr>
              <p:sp>
                <p:nvSpPr>
                  <p:cNvPr id="243" name="Oval 24"/>
                  <p:cNvSpPr/>
                  <p:nvPr/>
                </p:nvSpPr>
                <p:spPr>
                  <a:xfrm>
                    <a:off x="1452600" y="2590920"/>
                    <a:ext cx="1744560" cy="1790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66"/>
                      </a:gs>
                      <a:gs pos="100000">
                        <a:srgbClr val="b9944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未知"/>
                  <p:cNvSpPr/>
                  <p:nvPr/>
                </p:nvSpPr>
                <p:spPr>
                  <a:xfrm>
                    <a:off x="1652040" y="2620440"/>
                    <a:ext cx="134568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Text Box 26"/>
                <p:cNvSpPr/>
                <p:nvPr/>
              </p:nvSpPr>
              <p:spPr>
                <a:xfrm>
                  <a:off x="1546920" y="3386160"/>
                  <a:ext cx="1543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27"/>
              <p:cNvGrpSpPr/>
              <p:nvPr/>
            </p:nvGrpSpPr>
            <p:grpSpPr>
              <a:xfrm>
                <a:off x="5208480" y="3851280"/>
                <a:ext cx="2013120" cy="1989000"/>
                <a:chOff x="5208480" y="3851280"/>
                <a:chExt cx="2013120" cy="1989000"/>
              </a:xfrm>
            </p:grpSpPr>
            <p:grpSp>
              <p:nvGrpSpPr>
                <p:cNvPr id="247" name="Group 28"/>
                <p:cNvGrpSpPr/>
                <p:nvPr/>
              </p:nvGrpSpPr>
              <p:grpSpPr>
                <a:xfrm>
                  <a:off x="5208480" y="3851280"/>
                  <a:ext cx="2013120" cy="1989000"/>
                  <a:chOff x="5208480" y="3851280"/>
                  <a:chExt cx="2013120" cy="1989000"/>
                </a:xfrm>
              </p:grpSpPr>
              <p:sp>
                <p:nvSpPr>
                  <p:cNvPr id="248" name="Oval 29"/>
                  <p:cNvSpPr/>
                  <p:nvPr/>
                </p:nvSpPr>
                <p:spPr>
                  <a:xfrm>
                    <a:off x="5208480" y="3851280"/>
                    <a:ext cx="2013120" cy="1989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42e0"/>
                      </a:gs>
                      <a:gs pos="100000">
                        <a:srgbClr val="53247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未知"/>
                  <p:cNvSpPr/>
                  <p:nvPr/>
                </p:nvSpPr>
                <p:spPr>
                  <a:xfrm>
                    <a:off x="5438520" y="3884040"/>
                    <a:ext cx="1553040" cy="75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42e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Text Box 31"/>
                <p:cNvSpPr/>
                <p:nvPr/>
              </p:nvSpPr>
              <p:spPr>
                <a:xfrm>
                  <a:off x="5496840" y="4713120"/>
                  <a:ext cx="1600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页脚占位符 4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98440" y="1325160"/>
            <a:ext cx="8595000" cy="4827600"/>
            <a:chOff x="298440" y="1325160"/>
            <a:chExt cx="8595000" cy="4827600"/>
          </a:xfrm>
        </p:grpSpPr>
        <p:sp>
          <p:nvSpPr>
            <p:cNvPr id="254" name="Rectangle 4"/>
            <p:cNvSpPr/>
            <p:nvPr/>
          </p:nvSpPr>
          <p:spPr>
            <a:xfrm rot="3418800">
              <a:off x="1410840" y="21920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5" name="Text Box 5"/>
            <p:cNvSpPr/>
            <p:nvPr/>
          </p:nvSpPr>
          <p:spPr>
            <a:xfrm>
              <a:off x="1507680" y="25509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3418800">
              <a:off x="2846160" y="409716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2943000" y="44560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 rot="3418800">
              <a:off x="4916160" y="294444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5013000" y="3303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 rot="3418800">
              <a:off x="7265520" y="148392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7362360" y="184284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2210040" y="3146400"/>
              <a:ext cx="761760" cy="106668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V="1">
              <a:off x="3810240" y="3679560"/>
              <a:ext cx="1066680" cy="60984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 flipV="1">
              <a:off x="5943600" y="2295360"/>
              <a:ext cx="1295640" cy="774720"/>
            </a:xfrm>
            <a:prstGeom prst="line">
              <a:avLst/>
            </a:prstGeom>
            <a:ln cap="rnd" w="57240">
              <a:solidFill>
                <a:srgbClr val="3366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2514600" y="17301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ompany History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2432160" y="541944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1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718160" y="435276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2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6775560" y="2828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3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69" name="Text Box 19"/>
            <p:cNvSpPr/>
            <p:nvPr/>
          </p:nvSpPr>
          <p:spPr>
            <a:xfrm>
              <a:off x="298440" y="35146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2000.10   Add Your Text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3"/>
          <p:cNvSpPr/>
          <p:nvPr/>
        </p:nvSpPr>
        <p:spPr>
          <a:xfrm>
            <a:off x="5943600" y="6519960"/>
            <a:ext cx="2895480" cy="29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330120" y="1068480"/>
            <a:ext cx="8294400" cy="5187960"/>
            <a:chOff x="330120" y="1068480"/>
            <a:chExt cx="8294400" cy="5187960"/>
          </a:xfrm>
        </p:grpSpPr>
        <p:sp>
          <p:nvSpPr>
            <p:cNvPr id="273" name="未知"/>
            <p:cNvSpPr/>
            <p:nvPr/>
          </p:nvSpPr>
          <p:spPr>
            <a:xfrm rot="20241600">
              <a:off x="104328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5" name="Oval 6"/>
            <p:cNvSpPr/>
            <p:nvPr/>
          </p:nvSpPr>
          <p:spPr>
            <a:xfrm rot="20056200">
              <a:off x="7402320" y="2396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6" name="Oval 7"/>
            <p:cNvSpPr/>
            <p:nvPr/>
          </p:nvSpPr>
          <p:spPr>
            <a:xfrm rot="20056200">
              <a:off x="2830680" y="5329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 rot="20056200">
              <a:off x="5677560" y="469620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79" name="Oval 10"/>
            <p:cNvSpPr/>
            <p:nvPr/>
          </p:nvSpPr>
          <p:spPr>
            <a:xfrm>
              <a:off x="379296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197bb"/>
                </a:gs>
                <a:gs pos="100000">
                  <a:srgbClr val="1134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0" name="Oval 11"/>
            <p:cNvSpPr/>
            <p:nvPr/>
          </p:nvSpPr>
          <p:spPr>
            <a:xfrm>
              <a:off x="1262520" y="2939040"/>
              <a:ext cx="1291680" cy="1245240"/>
            </a:xfrm>
            <a:prstGeom prst="ellipse">
              <a:avLst/>
            </a:prstGeom>
            <a:gradFill rotWithShape="0">
              <a:gsLst>
                <a:gs pos="0">
                  <a:srgbClr val="eba533"/>
                </a:gs>
                <a:gs pos="100000">
                  <a:srgbClr val="4a34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1" name="Oval 12"/>
            <p:cNvSpPr/>
            <p:nvPr/>
          </p:nvSpPr>
          <p:spPr>
            <a:xfrm>
              <a:off x="2150280" y="459972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78dd7"/>
                </a:gs>
                <a:gs pos="100000">
                  <a:srgbClr val="4732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2" name="Oval 13"/>
            <p:cNvSpPr/>
            <p:nvPr/>
          </p:nvSpPr>
          <p:spPr>
            <a:xfrm>
              <a:off x="4944600" y="398304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3" name="Oval 14"/>
            <p:cNvSpPr/>
            <p:nvPr/>
          </p:nvSpPr>
          <p:spPr>
            <a:xfrm>
              <a:off x="6784560" y="167076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cxnSp>
          <p:nvCxnSpPr>
            <p:cNvPr id="291" name="AutoShape 22"/>
            <p:cNvCxnSpPr/>
            <p:nvPr/>
          </p:nvCxnSpPr>
          <p:spPr>
            <a:xfrm flipH="1">
              <a:off x="471600" y="1894680"/>
              <a:ext cx="195372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</a:ln>
          </p:spPr>
        </p:cxnSp>
        <p:sp>
          <p:nvSpPr>
            <p:cNvPr id="29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99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yu wang</cp:lastModifiedBy>
  <cp:lastPrinted>1899-12-30T00:00:00Z</cp:lastPrinted>
  <dcterms:modified xsi:type="dcterms:W3CDTF">2015-08-12T14:53:54Z</dcterms:modified>
  <cp:revision>4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