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f6201"/>
            </a:solidFill>
            <a:ln cap="rnd" w="28440">
              <a:solidFill>
                <a:srgbClr val="ff6201"/>
              </a:solidFill>
              <a:round/>
            </a:ln>
          </c:spPr>
          <c:marker>
            <c:symbol val="circle"/>
            <c:size val="12"/>
            <c:spPr>
              <a:solidFill>
                <a:srgbClr val="ff6201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ffc000"/>
            </a:solidFill>
            <a:ln cap="rnd" w="28440">
              <a:solidFill>
                <a:srgbClr val="ffc000"/>
              </a:solidFill>
              <a:round/>
            </a:ln>
          </c:spPr>
          <c:marker>
            <c:symbol val="circle"/>
            <c:size val="12"/>
            <c:spPr>
              <a:solidFill>
                <a:srgbClr val="ffc00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a0dc00"/>
            </a:solidFill>
            <a:ln cap="rnd" w="28440">
              <a:solidFill>
                <a:srgbClr val="a0dc00"/>
              </a:solidFill>
              <a:round/>
            </a:ln>
          </c:spPr>
          <c:marker>
            <c:symbol val="circle"/>
            <c:size val="12"/>
            <c:spPr>
              <a:solidFill>
                <a:srgbClr val="a0dc00"/>
              </a:solidFill>
            </c:spPr>
          </c:marke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18576083"/>
        <c:axId val="871237"/>
      </c:lineChart>
      <c:catAx>
        <c:axId val="18576083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1237"/>
        <c:auto val="1"/>
        <c:lblAlgn val="ctr"/>
        <c:lblOffset val="100"/>
        <c:noMultiLvlLbl val="0"/>
      </c:catAx>
      <c:valAx>
        <c:axId val="871237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>
                  <a:alpha val="27000"/>
                </a:srgbClr>
              </a:solidFill>
              <a:prstDash val="dash"/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600" spc="-1" strike="noStrike">
                <a:solidFill>
                  <a:srgbClr val="d9d9d9"/>
                </a:solidFill>
                <a:latin typeface="微软雅黑"/>
                <a:ea typeface="微软雅黑"/>
              </a:defRPr>
            </a:pPr>
          </a:p>
        </c:txPr>
        <c:crossAx val="18576083"/>
        <c:crosses val="autoZero"/>
        <c:crossBetween val="between"/>
      </c:valAx>
      <c:spPr>
        <a:noFill/>
        <a:ln w="2556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ff6201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 3</c:v>
                </c:pt>
              </c:strCache>
            </c:strRef>
          </c:tx>
          <c:spPr>
            <a:solidFill>
              <a:srgbClr val="a0dc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219"/>
        <c:overlap val="-27"/>
        <c:axId val="96321059"/>
        <c:axId val="96519901"/>
      </c:barChart>
      <c:catAx>
        <c:axId val="96321059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648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6519901"/>
        <c:auto val="1"/>
        <c:lblAlgn val="ctr"/>
        <c:lblOffset val="100"/>
        <c:noMultiLvlLbl val="0"/>
      </c:catAx>
      <c:valAx>
        <c:axId val="96519901"/>
        <c:scaling>
          <c:orientation val="minMax"/>
        </c:scaling>
        <c:delete val="0"/>
        <c:axPos val="l"/>
        <c:majorGridlines>
          <c:spPr>
            <a:ln w="9360">
              <a:solidFill>
                <a:srgbClr val="d9d9d9">
                  <a:alpha val="27000"/>
                </a:srgbClr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600" spc="-1" strike="noStrike">
                <a:solidFill>
                  <a:srgbClr val="f2f2f2"/>
                </a:solidFill>
                <a:latin typeface="微软雅黑"/>
                <a:ea typeface="微软雅黑"/>
              </a:defRPr>
            </a:pPr>
          </a:p>
        </c:txPr>
        <c:crossAx val="96321059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82B5A5-7C60-4147-BC0A-50A7D5485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7C0CAB-92DF-4A53-9CEC-D067645072B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6F4A24-127D-4E63-B0BC-A99B797A60D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F641-1559-413C-BD86-3366F1DA6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7AD-A2A1-41A9-97BC-61E0F5E7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E412-B59E-4007-BDC3-1CB625F5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AB5B-3BC5-41AA-9DF4-15F55144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6CB-0CB2-421A-B5D1-F715FC45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122A-F274-4F5A-9960-4007BCE0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EB2F-A220-4DF2-BDC6-7D4FB929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BE8-A063-4B4A-A8E4-72E1D455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D29-3830-4AA1-8D2A-C20E5694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DE30-39B4-4837-A66A-A339AA37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F07-204A-47F8-BB50-50821930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B70-9FD2-477B-B0B6-9B3E097F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41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41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29" descr=""/>
          <p:cNvPicPr/>
          <p:nvPr/>
        </p:nvPicPr>
        <p:blipFill>
          <a:blip r:embed="rId2"/>
          <a:stretch/>
        </p:blipFill>
        <p:spPr>
          <a:xfrm>
            <a:off x="0" y="-221760"/>
            <a:ext cx="12564720" cy="7144920"/>
          </a:xfrm>
          <a:prstGeom prst="rect">
            <a:avLst/>
          </a:prstGeom>
          <a:ln w="0">
            <a:noFill/>
          </a:ln>
        </p:spPr>
      </p:pic>
      <p:sp>
        <p:nvSpPr>
          <p:cNvPr id="39" name="矩形 4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0" name="图片 32" descr=""/>
          <p:cNvPicPr/>
          <p:nvPr/>
        </p:nvPicPr>
        <p:blipFill>
          <a:blip r:embed="rId3"/>
          <a:stretch/>
        </p:blipFill>
        <p:spPr>
          <a:xfrm>
            <a:off x="4715280" y="-20149200"/>
            <a:ext cx="2761200" cy="47156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79D480-D0A0-4D00-B268-2A6E63EE879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5" descr=""/>
          <p:cNvPicPr/>
          <p:nvPr/>
        </p:nvPicPr>
        <p:blipFill>
          <a:blip r:embed="rId1"/>
          <a:srcRect l="0" t="5247" r="0" b="0"/>
          <a:stretch/>
        </p:blipFill>
        <p:spPr>
          <a:xfrm>
            <a:off x="0" y="-38160"/>
            <a:ext cx="12191760" cy="6895800"/>
          </a:xfrm>
          <a:prstGeom prst="rect">
            <a:avLst/>
          </a:prstGeom>
          <a:ln w="0">
            <a:noFill/>
          </a:ln>
        </p:spPr>
      </p:pic>
      <p:sp>
        <p:nvSpPr>
          <p:cNvPr id="127" name="矩形 35"/>
          <p:cNvSpPr/>
          <p:nvPr/>
        </p:nvSpPr>
        <p:spPr>
          <a:xfrm>
            <a:off x="0" y="3067200"/>
            <a:ext cx="12191760" cy="2704680"/>
          </a:xfrm>
          <a:prstGeom prst="rect">
            <a:avLst/>
          </a:prstGeom>
          <a:solidFill>
            <a:srgbClr val="a0dc00">
              <a:alpha val="64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文本框 34"/>
          <p:cNvSpPr/>
          <p:nvPr/>
        </p:nvSpPr>
        <p:spPr>
          <a:xfrm>
            <a:off x="82080" y="3067200"/>
            <a:ext cx="12027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简洁大气扁平立体视觉感背景商务</a:t>
            </a:r>
            <a:r>
              <a:rPr b="0" lang="en-US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文本框 7"/>
          <p:cNvSpPr/>
          <p:nvPr/>
        </p:nvSpPr>
        <p:spPr>
          <a:xfrm>
            <a:off x="9345600" y="4766040"/>
            <a:ext cx="2774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一抹小</a:t>
            </a:r>
            <a:r>
              <a:rPr b="0" lang="en-US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k </a:t>
            </a: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作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9433080" y="5275440"/>
            <a:ext cx="2827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仅供学习，请勿商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组合 24"/>
          <p:cNvGrpSpPr/>
          <p:nvPr/>
        </p:nvGrpSpPr>
        <p:grpSpPr>
          <a:xfrm>
            <a:off x="5161320" y="4658040"/>
            <a:ext cx="1671840" cy="1671840"/>
            <a:chOff x="5161320" y="4658040"/>
            <a:chExt cx="1671840" cy="1671840"/>
          </a:xfrm>
        </p:grpSpPr>
        <p:sp>
          <p:nvSpPr>
            <p:cNvPr id="250" name="任意多边形 5"/>
            <p:cNvSpPr/>
            <p:nvPr/>
          </p:nvSpPr>
          <p:spPr>
            <a:xfrm>
              <a:off x="5161320" y="4658040"/>
              <a:ext cx="1671840" cy="1671840"/>
            </a:xfrm>
            <a:custGeom>
              <a:avLst/>
              <a:gdLst>
                <a:gd name="textAreaLeft" fmla="*/ 0 w 1671840"/>
                <a:gd name="textAreaRight" fmla="*/ 1672200 w 1671840"/>
                <a:gd name="textAreaTop" fmla="*/ 0 h 1671840"/>
                <a:gd name="textAreaBottom" fmla="*/ 1672200 h 1671840"/>
              </a:gdLst>
              <a:ahLst/>
              <a:rect l="textAreaLeft" t="textAreaTop" r="textAreaRight" b="textAreaBottom"/>
              <a:pathLst>
                <a:path w="2379980" h="2379980">
                  <a:moveTo>
                    <a:pt x="0" y="1189990"/>
                  </a:moveTo>
                  <a:cubicBezTo>
                    <a:pt x="0" y="532777"/>
                    <a:pt x="532777" y="0"/>
                    <a:pt x="1189990" y="0"/>
                  </a:cubicBezTo>
                  <a:cubicBezTo>
                    <a:pt x="1847203" y="0"/>
                    <a:pt x="2379980" y="532777"/>
                    <a:pt x="2379980" y="1189990"/>
                  </a:cubicBezTo>
                  <a:cubicBezTo>
                    <a:pt x="2379980" y="1847203"/>
                    <a:pt x="1847203" y="2379980"/>
                    <a:pt x="1189990" y="2379980"/>
                  </a:cubicBezTo>
                  <a:cubicBezTo>
                    <a:pt x="532777" y="2379980"/>
                    <a:pt x="0" y="1847203"/>
                    <a:pt x="0" y="1189990"/>
                  </a:cubicBez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83400" rIns="383400" tIns="383400" bIns="383400" anchor="ctr">
              <a:noAutofit/>
            </a:bodyPr>
            <a:p>
              <a:pPr algn="ctr">
                <a:lnSpc>
                  <a:spcPct val="90000"/>
                </a:lnSpc>
                <a:spcAft>
                  <a:spcPts val="1925"/>
                </a:spcAft>
              </a:pPr>
              <a:endParaRPr b="0" lang="en-US" sz="55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同心圆 23"/>
            <p:cNvSpPr/>
            <p:nvPr/>
          </p:nvSpPr>
          <p:spPr>
            <a:xfrm>
              <a:off x="5203080" y="4703040"/>
              <a:ext cx="1581480" cy="1581480"/>
            </a:xfrm>
            <a:prstGeom prst="donut">
              <a:avLst>
                <a:gd name="adj" fmla="val 3425"/>
              </a:avLst>
            </a:prstGeom>
            <a:solidFill>
              <a:srgbClr val="ff62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2" name="左箭头 6"/>
          <p:cNvSpPr/>
          <p:nvPr/>
        </p:nvSpPr>
        <p:spPr>
          <a:xfrm rot="12900000">
            <a:off x="3958200" y="4323240"/>
            <a:ext cx="1414440" cy="476280"/>
          </a:xfrm>
          <a:prstGeom prst="leftArrow">
            <a:avLst>
              <a:gd name="adj1" fmla="val 60000"/>
              <a:gd name="adj2" fmla="val 50000"/>
            </a:avLst>
          </a:prstGeom>
          <a:solidFill>
            <a:srgbClr val="b5cae6"/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7"/>
          <p:cNvSpPr/>
          <p:nvPr/>
        </p:nvSpPr>
        <p:spPr>
          <a:xfrm>
            <a:off x="3291840" y="3520440"/>
            <a:ext cx="1588320" cy="1270800"/>
          </a:xfrm>
          <a:custGeom>
            <a:avLst/>
            <a:gdLst>
              <a:gd name="textAreaLeft" fmla="*/ 0 w 1588320"/>
              <a:gd name="textAreaRight" fmla="*/ 1588680 w 1588320"/>
              <a:gd name="textAreaTop" fmla="*/ 0 h 1270800"/>
              <a:gd name="textAreaBottom" fmla="*/ 1271160 h 1270800"/>
            </a:gdLst>
            <a:ahLst/>
            <a:rect l="textAreaLeft" t="textAreaTop" r="textAreaRight" b="textAreaBottom"/>
            <a:pathLst>
              <a:path w="2260981" h="1808784">
                <a:moveTo>
                  <a:pt x="0" y="180878"/>
                </a:moveTo>
                <a:cubicBezTo>
                  <a:pt x="0" y="80982"/>
                  <a:pt x="80982" y="0"/>
                  <a:pt x="180878" y="0"/>
                </a:cubicBezTo>
                <a:lnTo>
                  <a:pt x="2080103" y="0"/>
                </a:lnTo>
                <a:cubicBezTo>
                  <a:pt x="2179999" y="0"/>
                  <a:pt x="2260981" y="80982"/>
                  <a:pt x="2260981" y="180878"/>
                </a:cubicBezTo>
                <a:lnTo>
                  <a:pt x="2260981" y="1627906"/>
                </a:lnTo>
                <a:cubicBezTo>
                  <a:pt x="2260981" y="1727802"/>
                  <a:pt x="2179999" y="1808784"/>
                  <a:pt x="2080103" y="1808784"/>
                </a:cubicBezTo>
                <a:lnTo>
                  <a:pt x="180878" y="1808784"/>
                </a:lnTo>
                <a:cubicBezTo>
                  <a:pt x="80982" y="1808784"/>
                  <a:pt x="0" y="1727802"/>
                  <a:pt x="0" y="1627906"/>
                </a:cubicBezTo>
                <a:lnTo>
                  <a:pt x="0" y="180878"/>
                </a:lnTo>
                <a:close/>
              </a:path>
            </a:pathLst>
          </a:custGeom>
          <a:solidFill>
            <a:srgbClr val="ff6201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左箭头 8"/>
          <p:cNvSpPr/>
          <p:nvPr/>
        </p:nvSpPr>
        <p:spPr>
          <a:xfrm rot="16200000">
            <a:off x="5290200" y="3630240"/>
            <a:ext cx="1414440" cy="476280"/>
          </a:xfrm>
          <a:prstGeom prst="leftArrow">
            <a:avLst>
              <a:gd name="adj1" fmla="val 60000"/>
              <a:gd name="adj2" fmla="val 50000"/>
            </a:avLst>
          </a:prstGeom>
          <a:solidFill>
            <a:srgbClr val="b5cae6"/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9"/>
          <p:cNvSpPr/>
          <p:nvPr/>
        </p:nvSpPr>
        <p:spPr>
          <a:xfrm>
            <a:off x="5203080" y="2525400"/>
            <a:ext cx="1588320" cy="1270800"/>
          </a:xfrm>
          <a:custGeom>
            <a:avLst/>
            <a:gdLst>
              <a:gd name="textAreaLeft" fmla="*/ 0 w 1588320"/>
              <a:gd name="textAreaRight" fmla="*/ 1588680 w 1588320"/>
              <a:gd name="textAreaTop" fmla="*/ 0 h 1270800"/>
              <a:gd name="textAreaBottom" fmla="*/ 1271160 h 1270800"/>
            </a:gdLst>
            <a:ahLst/>
            <a:rect l="textAreaLeft" t="textAreaTop" r="textAreaRight" b="textAreaBottom"/>
            <a:pathLst>
              <a:path w="2260981" h="1808784">
                <a:moveTo>
                  <a:pt x="0" y="180878"/>
                </a:moveTo>
                <a:cubicBezTo>
                  <a:pt x="0" y="80982"/>
                  <a:pt x="80982" y="0"/>
                  <a:pt x="180878" y="0"/>
                </a:cubicBezTo>
                <a:lnTo>
                  <a:pt x="2080103" y="0"/>
                </a:lnTo>
                <a:cubicBezTo>
                  <a:pt x="2179999" y="0"/>
                  <a:pt x="2260981" y="80982"/>
                  <a:pt x="2260981" y="180878"/>
                </a:cubicBezTo>
                <a:lnTo>
                  <a:pt x="2260981" y="1627906"/>
                </a:lnTo>
                <a:cubicBezTo>
                  <a:pt x="2260981" y="1727802"/>
                  <a:pt x="2179999" y="1808784"/>
                  <a:pt x="2080103" y="1808784"/>
                </a:cubicBezTo>
                <a:lnTo>
                  <a:pt x="180878" y="1808784"/>
                </a:lnTo>
                <a:cubicBezTo>
                  <a:pt x="80982" y="1808784"/>
                  <a:pt x="0" y="1727802"/>
                  <a:pt x="0" y="1627906"/>
                </a:cubicBezTo>
                <a:lnTo>
                  <a:pt x="0" y="180878"/>
                </a:lnTo>
                <a:close/>
              </a:path>
            </a:pathLst>
          </a:custGeom>
          <a:solidFill>
            <a:srgbClr val="ffc00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左箭头 10"/>
          <p:cNvSpPr/>
          <p:nvPr/>
        </p:nvSpPr>
        <p:spPr>
          <a:xfrm rot="19500000">
            <a:off x="6621840" y="4323240"/>
            <a:ext cx="1414440" cy="476280"/>
          </a:xfrm>
          <a:prstGeom prst="leftArrow">
            <a:avLst>
              <a:gd name="adj1" fmla="val 60000"/>
              <a:gd name="adj2" fmla="val 50000"/>
            </a:avLst>
          </a:prstGeom>
          <a:solidFill>
            <a:srgbClr val="b5cae6"/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任意多边形 11"/>
          <p:cNvSpPr/>
          <p:nvPr/>
        </p:nvSpPr>
        <p:spPr>
          <a:xfrm>
            <a:off x="7114320" y="3520440"/>
            <a:ext cx="1588320" cy="1270800"/>
          </a:xfrm>
          <a:custGeom>
            <a:avLst/>
            <a:gdLst>
              <a:gd name="textAreaLeft" fmla="*/ 0 w 1588320"/>
              <a:gd name="textAreaRight" fmla="*/ 1588680 w 1588320"/>
              <a:gd name="textAreaTop" fmla="*/ 0 h 1270800"/>
              <a:gd name="textAreaBottom" fmla="*/ 1271160 h 1270800"/>
            </a:gdLst>
            <a:ahLst/>
            <a:rect l="textAreaLeft" t="textAreaTop" r="textAreaRight" b="textAreaBottom"/>
            <a:pathLst>
              <a:path w="2260981" h="1808784">
                <a:moveTo>
                  <a:pt x="0" y="180878"/>
                </a:moveTo>
                <a:cubicBezTo>
                  <a:pt x="0" y="80982"/>
                  <a:pt x="80982" y="0"/>
                  <a:pt x="180878" y="0"/>
                </a:cubicBezTo>
                <a:lnTo>
                  <a:pt x="2080103" y="0"/>
                </a:lnTo>
                <a:cubicBezTo>
                  <a:pt x="2179999" y="0"/>
                  <a:pt x="2260981" y="80982"/>
                  <a:pt x="2260981" y="180878"/>
                </a:cubicBezTo>
                <a:lnTo>
                  <a:pt x="2260981" y="1627906"/>
                </a:lnTo>
                <a:cubicBezTo>
                  <a:pt x="2260981" y="1727802"/>
                  <a:pt x="2179999" y="1808784"/>
                  <a:pt x="2080103" y="1808784"/>
                </a:cubicBezTo>
                <a:lnTo>
                  <a:pt x="180878" y="1808784"/>
                </a:lnTo>
                <a:cubicBezTo>
                  <a:pt x="80982" y="1808784"/>
                  <a:pt x="0" y="1727802"/>
                  <a:pt x="0" y="1627906"/>
                </a:cubicBezTo>
                <a:lnTo>
                  <a:pt x="0" y="180878"/>
                </a:lnTo>
                <a:close/>
              </a:path>
            </a:pathLst>
          </a:custGeom>
          <a:solidFill>
            <a:srgbClr val="a0dc0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76760" rIns="176760" tIns="176760" bIns="1767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矩形 12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文本框 13"/>
          <p:cNvSpPr/>
          <p:nvPr/>
        </p:nvSpPr>
        <p:spPr>
          <a:xfrm>
            <a:off x="3443040" y="370368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矩形 14"/>
          <p:cNvSpPr/>
          <p:nvPr/>
        </p:nvSpPr>
        <p:spPr>
          <a:xfrm>
            <a:off x="1001880" y="3394440"/>
            <a:ext cx="227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文本框 15"/>
          <p:cNvSpPr/>
          <p:nvPr/>
        </p:nvSpPr>
        <p:spPr>
          <a:xfrm>
            <a:off x="5327280" y="268380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文本框 16"/>
          <p:cNvSpPr/>
          <p:nvPr/>
        </p:nvSpPr>
        <p:spPr>
          <a:xfrm>
            <a:off x="7266600" y="367884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矩形 17"/>
          <p:cNvSpPr/>
          <p:nvPr/>
        </p:nvSpPr>
        <p:spPr>
          <a:xfrm>
            <a:off x="8983800" y="3394440"/>
            <a:ext cx="22712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矩形 18"/>
          <p:cNvSpPr/>
          <p:nvPr/>
        </p:nvSpPr>
        <p:spPr>
          <a:xfrm>
            <a:off x="4319640" y="1291680"/>
            <a:ext cx="3355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Box 26"/>
          <p:cNvSpPr/>
          <p:nvPr/>
        </p:nvSpPr>
        <p:spPr>
          <a:xfrm>
            <a:off x="1218960" y="2478960"/>
            <a:ext cx="1900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31"/>
          <p:cNvSpPr/>
          <p:nvPr/>
        </p:nvSpPr>
        <p:spPr>
          <a:xfrm>
            <a:off x="4719600" y="62208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32"/>
          <p:cNvSpPr/>
          <p:nvPr/>
        </p:nvSpPr>
        <p:spPr>
          <a:xfrm>
            <a:off x="8958240" y="240120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文本框 22"/>
          <p:cNvSpPr/>
          <p:nvPr/>
        </p:nvSpPr>
        <p:spPr>
          <a:xfrm>
            <a:off x="5345280" y="508536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图片 25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5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任意多边形 6"/>
          <p:cNvSpPr/>
          <p:nvPr/>
        </p:nvSpPr>
        <p:spPr>
          <a:xfrm>
            <a:off x="5028120" y="2477520"/>
            <a:ext cx="2259720" cy="2259720"/>
          </a:xfrm>
          <a:custGeom>
            <a:avLst/>
            <a:gdLst>
              <a:gd name="textAreaLeft" fmla="*/ 0 w 2259720"/>
              <a:gd name="textAreaRight" fmla="*/ 2260080 w 2259720"/>
              <a:gd name="textAreaTop" fmla="*/ 0 h 2259720"/>
              <a:gd name="textAreaBottom" fmla="*/ 2260080 h 2259720"/>
            </a:gdLst>
            <a:ahLst/>
            <a:rect l="textAreaLeft" t="textAreaTop" r="textAreaRight" b="textAreaBottom"/>
            <a:pathLst>
              <a:path w="3251200" h="3251200">
                <a:moveTo>
                  <a:pt x="0" y="1625600"/>
                </a:moveTo>
                <a:cubicBezTo>
                  <a:pt x="0" y="727806"/>
                  <a:pt x="727806" y="0"/>
                  <a:pt x="1625600" y="0"/>
                </a:cubicBezTo>
                <a:cubicBezTo>
                  <a:pt x="2523394" y="0"/>
                  <a:pt x="3251200" y="727806"/>
                  <a:pt x="3251200" y="1625600"/>
                </a:cubicBezTo>
                <a:cubicBezTo>
                  <a:pt x="3251200" y="2523394"/>
                  <a:pt x="2523394" y="3251200"/>
                  <a:pt x="1625600" y="3251200"/>
                </a:cubicBezTo>
                <a:cubicBezTo>
                  <a:pt x="727806" y="3251200"/>
                  <a:pt x="0" y="2523394"/>
                  <a:pt x="0" y="1625600"/>
                </a:cubicBezTo>
                <a:close/>
              </a:path>
            </a:pathLst>
          </a:custGeom>
          <a:solidFill>
            <a:srgbClr val="ff6201">
              <a:alpha val="65000"/>
            </a:srgbClr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5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433440" rIns="433440" tIns="568800" bIns="121932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任意多边形 7"/>
          <p:cNvSpPr/>
          <p:nvPr/>
        </p:nvSpPr>
        <p:spPr>
          <a:xfrm>
            <a:off x="5843520" y="3889800"/>
            <a:ext cx="2259720" cy="2259720"/>
          </a:xfrm>
          <a:custGeom>
            <a:avLst/>
            <a:gdLst>
              <a:gd name="textAreaLeft" fmla="*/ 0 w 2259720"/>
              <a:gd name="textAreaRight" fmla="*/ 2260080 w 2259720"/>
              <a:gd name="textAreaTop" fmla="*/ 0 h 2259720"/>
              <a:gd name="textAreaBottom" fmla="*/ 2260080 h 2259720"/>
            </a:gdLst>
            <a:ahLst/>
            <a:rect l="textAreaLeft" t="textAreaTop" r="textAreaRight" b="textAreaBottom"/>
            <a:pathLst>
              <a:path w="3251200" h="3251200">
                <a:moveTo>
                  <a:pt x="0" y="1625600"/>
                </a:moveTo>
                <a:cubicBezTo>
                  <a:pt x="0" y="727806"/>
                  <a:pt x="727806" y="0"/>
                  <a:pt x="1625600" y="0"/>
                </a:cubicBezTo>
                <a:cubicBezTo>
                  <a:pt x="2523394" y="0"/>
                  <a:pt x="3251200" y="727806"/>
                  <a:pt x="3251200" y="1625600"/>
                </a:cubicBezTo>
                <a:cubicBezTo>
                  <a:pt x="3251200" y="2523394"/>
                  <a:pt x="2523394" y="3251200"/>
                  <a:pt x="1625600" y="3251200"/>
                </a:cubicBezTo>
                <a:cubicBezTo>
                  <a:pt x="727806" y="3251200"/>
                  <a:pt x="0" y="2523394"/>
                  <a:pt x="0" y="1625600"/>
                </a:cubicBezTo>
                <a:close/>
              </a:path>
            </a:pathLst>
          </a:custGeom>
          <a:solidFill>
            <a:srgbClr val="a0dc00">
              <a:alpha val="65000"/>
            </a:srgbClr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5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994320" rIns="306000" tIns="839880" bIns="6231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任意多边形 8"/>
          <p:cNvSpPr/>
          <p:nvPr/>
        </p:nvSpPr>
        <p:spPr>
          <a:xfrm>
            <a:off x="4212360" y="3889800"/>
            <a:ext cx="2259720" cy="2259720"/>
          </a:xfrm>
          <a:custGeom>
            <a:avLst/>
            <a:gdLst>
              <a:gd name="textAreaLeft" fmla="*/ 0 w 2259720"/>
              <a:gd name="textAreaRight" fmla="*/ 2260080 w 2259720"/>
              <a:gd name="textAreaTop" fmla="*/ 0 h 2259720"/>
              <a:gd name="textAreaBottom" fmla="*/ 2260080 h 2259720"/>
            </a:gdLst>
            <a:ahLst/>
            <a:rect l="textAreaLeft" t="textAreaTop" r="textAreaRight" b="textAreaBottom"/>
            <a:pathLst>
              <a:path w="3251200" h="3251200">
                <a:moveTo>
                  <a:pt x="0" y="1625600"/>
                </a:moveTo>
                <a:cubicBezTo>
                  <a:pt x="0" y="727806"/>
                  <a:pt x="727806" y="0"/>
                  <a:pt x="1625600" y="0"/>
                </a:cubicBezTo>
                <a:cubicBezTo>
                  <a:pt x="2523394" y="0"/>
                  <a:pt x="3251200" y="727806"/>
                  <a:pt x="3251200" y="1625600"/>
                </a:cubicBezTo>
                <a:cubicBezTo>
                  <a:pt x="3251200" y="2523394"/>
                  <a:pt x="2523394" y="3251200"/>
                  <a:pt x="1625600" y="3251200"/>
                </a:cubicBezTo>
                <a:cubicBezTo>
                  <a:pt x="727806" y="3251200"/>
                  <a:pt x="0" y="2523394"/>
                  <a:pt x="0" y="1625600"/>
                </a:cubicBezTo>
                <a:close/>
              </a:path>
            </a:pathLst>
          </a:custGeom>
          <a:solidFill>
            <a:srgbClr val="ffc000">
              <a:alpha val="65000"/>
            </a:srgbClr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5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5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306000" rIns="994320" tIns="839880" bIns="623160" anchor="ctr">
            <a:noAutofit/>
          </a:bodyPr>
          <a:p>
            <a:pPr algn="ctr">
              <a:lnSpc>
                <a:spcPct val="90000"/>
              </a:lnSpc>
              <a:spcAft>
                <a:spcPts val="2276"/>
              </a:spcAft>
            </a:pP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矩形 9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矩形 10"/>
          <p:cNvSpPr/>
          <p:nvPr/>
        </p:nvSpPr>
        <p:spPr>
          <a:xfrm>
            <a:off x="3881520" y="1664640"/>
            <a:ext cx="48762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26"/>
          <p:cNvSpPr/>
          <p:nvPr/>
        </p:nvSpPr>
        <p:spPr>
          <a:xfrm>
            <a:off x="5207400" y="802080"/>
            <a:ext cx="1900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矩形 12"/>
          <p:cNvSpPr/>
          <p:nvPr/>
        </p:nvSpPr>
        <p:spPr>
          <a:xfrm>
            <a:off x="1380600" y="4597200"/>
            <a:ext cx="2493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Box 31"/>
          <p:cNvSpPr/>
          <p:nvPr/>
        </p:nvSpPr>
        <p:spPr>
          <a:xfrm>
            <a:off x="1641240" y="3760560"/>
            <a:ext cx="24015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矩形 16"/>
          <p:cNvSpPr/>
          <p:nvPr/>
        </p:nvSpPr>
        <p:spPr>
          <a:xfrm>
            <a:off x="8497800" y="4597200"/>
            <a:ext cx="2493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Box 31"/>
          <p:cNvSpPr/>
          <p:nvPr/>
        </p:nvSpPr>
        <p:spPr>
          <a:xfrm>
            <a:off x="8758080" y="3760560"/>
            <a:ext cx="24015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文本框 18"/>
          <p:cNvSpPr/>
          <p:nvPr/>
        </p:nvSpPr>
        <p:spPr>
          <a:xfrm>
            <a:off x="5513400" y="280620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文本框 19"/>
          <p:cNvSpPr/>
          <p:nvPr/>
        </p:nvSpPr>
        <p:spPr>
          <a:xfrm>
            <a:off x="4461480" y="466848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文本框 20"/>
          <p:cNvSpPr/>
          <p:nvPr/>
        </p:nvSpPr>
        <p:spPr>
          <a:xfrm>
            <a:off x="6573960" y="4668480"/>
            <a:ext cx="1424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图片 21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594000" y="62258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组合 1"/>
          <p:cNvGrpSpPr/>
          <p:nvPr/>
        </p:nvGrpSpPr>
        <p:grpSpPr>
          <a:xfrm>
            <a:off x="8038440" y="-267840"/>
            <a:ext cx="4471200" cy="5816880"/>
            <a:chOff x="8038440" y="-267840"/>
            <a:chExt cx="4471200" cy="5816880"/>
          </a:xfrm>
        </p:grpSpPr>
        <p:sp>
          <p:nvSpPr>
            <p:cNvPr id="286" name="任意多边形 6"/>
            <p:cNvSpPr/>
            <p:nvPr/>
          </p:nvSpPr>
          <p:spPr>
            <a:xfrm>
              <a:off x="9566640" y="116208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6201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" name="任意多边形 8"/>
            <p:cNvSpPr/>
            <p:nvPr/>
          </p:nvSpPr>
          <p:spPr>
            <a:xfrm>
              <a:off x="8038440" y="116208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a0dc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72160" rIns="272160" tIns="312840" bIns="31284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" name="任意多边形 9"/>
            <p:cNvSpPr/>
            <p:nvPr/>
          </p:nvSpPr>
          <p:spPr>
            <a:xfrm>
              <a:off x="8799480" y="254268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" name="任意多边形 11"/>
            <p:cNvSpPr/>
            <p:nvPr/>
          </p:nvSpPr>
          <p:spPr>
            <a:xfrm>
              <a:off x="10327680" y="254268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a0dc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72160" rIns="272160" tIns="312840" bIns="31284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" name="任意多边形 12"/>
            <p:cNvSpPr/>
            <p:nvPr/>
          </p:nvSpPr>
          <p:spPr>
            <a:xfrm>
              <a:off x="9566640" y="392292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6201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" name="任意多边形 14"/>
            <p:cNvSpPr/>
            <p:nvPr/>
          </p:nvSpPr>
          <p:spPr>
            <a:xfrm>
              <a:off x="8038440" y="392292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a0dc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72160" rIns="272160" tIns="312840" bIns="31284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任意多边形 15"/>
            <p:cNvSpPr/>
            <p:nvPr/>
          </p:nvSpPr>
          <p:spPr>
            <a:xfrm>
              <a:off x="11094840" y="113724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任意多边形 16"/>
            <p:cNvSpPr/>
            <p:nvPr/>
          </p:nvSpPr>
          <p:spPr>
            <a:xfrm>
              <a:off x="10274040" y="-26784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a0dc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72160" rIns="272160" tIns="312840" bIns="312840" anchor="ctr">
              <a:noAutofit/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endParaRPr b="0" lang="en-US" sz="3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任意多边形 17"/>
            <p:cNvSpPr/>
            <p:nvPr/>
          </p:nvSpPr>
          <p:spPr>
            <a:xfrm>
              <a:off x="8745840" y="-231120"/>
              <a:ext cx="1414800" cy="1626120"/>
            </a:xfrm>
            <a:custGeom>
              <a:avLst/>
              <a:gdLst>
                <a:gd name="textAreaLeft" fmla="*/ 0 w 1414800"/>
                <a:gd name="textAreaRight" fmla="*/ 1415160 w 1414800"/>
                <a:gd name="textAreaTop" fmla="*/ 0 h 1626120"/>
                <a:gd name="textAreaBottom" fmla="*/ 1626480 h 1626120"/>
              </a:gdLst>
              <a:ahLst/>
              <a:rect l="textAreaLeft" t="textAreaTop" r="textAreaRight" b="textAreaBottom"/>
              <a:pathLst>
                <a:path w="2008628" h="1747506">
                  <a:moveTo>
                    <a:pt x="1004314" y="0"/>
                  </a:moveTo>
                  <a:lnTo>
                    <a:pt x="2008627" y="380083"/>
                  </a:lnTo>
                  <a:lnTo>
                    <a:pt x="2008627" y="1367424"/>
                  </a:lnTo>
                  <a:lnTo>
                    <a:pt x="1004314" y="1747506"/>
                  </a:lnTo>
                  <a:lnTo>
                    <a:pt x="1" y="1367424"/>
                  </a:lnTo>
                  <a:lnTo>
                    <a:pt x="1" y="380083"/>
                  </a:lnTo>
                  <a:lnTo>
                    <a:pt x="1004314" y="0"/>
                  </a:lnTo>
                  <a:close/>
                </a:path>
              </a:pathLst>
            </a:custGeom>
            <a:solidFill>
              <a:srgbClr val="ffc000">
                <a:alpha val="65000"/>
              </a:srgbClr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394200" rIns="394200" tIns="434880" bIns="434880" anchor="ctr">
              <a:noAutofit/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endParaRPr b="0" lang="en-US" sz="32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95" name="文本框 18"/>
          <p:cNvSpPr/>
          <p:nvPr/>
        </p:nvSpPr>
        <p:spPr>
          <a:xfrm>
            <a:off x="905040" y="1628280"/>
            <a:ext cx="71272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感谢您的聆听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文本框 19"/>
          <p:cNvSpPr/>
          <p:nvPr/>
        </p:nvSpPr>
        <p:spPr>
          <a:xfrm>
            <a:off x="1169640" y="5329800"/>
            <a:ext cx="352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一抹小</a:t>
            </a:r>
            <a:r>
              <a:rPr b="0" lang="en-US" sz="32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k  </a:t>
            </a:r>
            <a:r>
              <a:rPr b="0" lang="zh-CN" sz="32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荣誉出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图片 20" descr=""/>
          <p:cNvPicPr/>
          <p:nvPr/>
        </p:nvPicPr>
        <p:blipFill>
          <a:blip r:embed="rId1"/>
          <a:stretch/>
        </p:blipFill>
        <p:spPr>
          <a:xfrm>
            <a:off x="1047960" y="4123800"/>
            <a:ext cx="3646800" cy="12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8"/>
          <p:cNvGrpSpPr/>
          <p:nvPr/>
        </p:nvGrpSpPr>
        <p:grpSpPr>
          <a:xfrm>
            <a:off x="1173960" y="1945080"/>
            <a:ext cx="2967480" cy="2967480"/>
            <a:chOff x="1173960" y="1945080"/>
            <a:chExt cx="2967480" cy="2967480"/>
          </a:xfrm>
        </p:grpSpPr>
        <p:sp>
          <p:nvSpPr>
            <p:cNvPr id="133" name="椭圆 5"/>
            <p:cNvSpPr/>
            <p:nvPr/>
          </p:nvSpPr>
          <p:spPr>
            <a:xfrm>
              <a:off x="1173960" y="1945080"/>
              <a:ext cx="2967480" cy="2967480"/>
            </a:xfrm>
            <a:prstGeom prst="ellipse">
              <a:avLst/>
            </a:prstGeom>
            <a:solidFill>
              <a:srgbClr val="0aa1d0">
                <a:alpha val="45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椭圆 6"/>
            <p:cNvSpPr/>
            <p:nvPr/>
          </p:nvSpPr>
          <p:spPr>
            <a:xfrm>
              <a:off x="1707480" y="2478600"/>
              <a:ext cx="1900800" cy="1900800"/>
            </a:xfrm>
            <a:prstGeom prst="ellipse">
              <a:avLst/>
            </a:prstGeom>
            <a:solidFill>
              <a:srgbClr val="ff620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文本框 7"/>
            <p:cNvSpPr/>
            <p:nvPr/>
          </p:nvSpPr>
          <p:spPr>
            <a:xfrm>
              <a:off x="1892880" y="3061800"/>
              <a:ext cx="16581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800" spc="599" strike="noStrike">
                  <a:solidFill>
                    <a:srgbClr val="ffffff"/>
                  </a:solidFill>
                  <a:latin typeface="张海山草泥马体"/>
                  <a:ea typeface="张海山草泥马体"/>
                </a:rPr>
                <a:t>目录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组合 22"/>
          <p:cNvGrpSpPr/>
          <p:nvPr/>
        </p:nvGrpSpPr>
        <p:grpSpPr>
          <a:xfrm>
            <a:off x="5273280" y="1499040"/>
            <a:ext cx="6918480" cy="820800"/>
            <a:chOff x="5273280" y="1499040"/>
            <a:chExt cx="6918480" cy="820800"/>
          </a:xfrm>
        </p:grpSpPr>
        <p:sp>
          <p:nvSpPr>
            <p:cNvPr id="137" name="文本框 14"/>
            <p:cNvSpPr/>
            <p:nvPr/>
          </p:nvSpPr>
          <p:spPr>
            <a:xfrm>
              <a:off x="5273280" y="1499040"/>
              <a:ext cx="1326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6201"/>
                  </a:solidFill>
                  <a:latin typeface="张海山草泥马体"/>
                  <a:ea typeface="张海山草泥马体"/>
                </a:rPr>
                <a:t>01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文本框 15"/>
            <p:cNvSpPr/>
            <p:nvPr/>
          </p:nvSpPr>
          <p:spPr>
            <a:xfrm>
              <a:off x="6600960" y="1499040"/>
              <a:ext cx="55908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6201"/>
                  </a:solidFill>
                  <a:latin typeface="张海山草泥马体"/>
                  <a:ea typeface="张海山草泥马体"/>
                </a:rPr>
                <a:t>点击添加标题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组合 21"/>
          <p:cNvGrpSpPr/>
          <p:nvPr/>
        </p:nvGrpSpPr>
        <p:grpSpPr>
          <a:xfrm>
            <a:off x="5273280" y="3013560"/>
            <a:ext cx="6918480" cy="820800"/>
            <a:chOff x="5273280" y="3013560"/>
            <a:chExt cx="6918480" cy="820800"/>
          </a:xfrm>
        </p:grpSpPr>
        <p:sp>
          <p:nvSpPr>
            <p:cNvPr id="140" name="文本框 16"/>
            <p:cNvSpPr/>
            <p:nvPr/>
          </p:nvSpPr>
          <p:spPr>
            <a:xfrm>
              <a:off x="5273280" y="3013560"/>
              <a:ext cx="1326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6201"/>
                  </a:solidFill>
                  <a:latin typeface="张海山草泥马体"/>
                  <a:ea typeface="张海山草泥马体"/>
                </a:rPr>
                <a:t>02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文本框 17"/>
            <p:cNvSpPr/>
            <p:nvPr/>
          </p:nvSpPr>
          <p:spPr>
            <a:xfrm>
              <a:off x="6600960" y="3013560"/>
              <a:ext cx="55908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6201"/>
                  </a:solidFill>
                  <a:latin typeface="张海山草泥马体"/>
                  <a:ea typeface="张海山草泥马体"/>
                </a:rPr>
                <a:t>点击添加标题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组合 20"/>
          <p:cNvGrpSpPr/>
          <p:nvPr/>
        </p:nvGrpSpPr>
        <p:grpSpPr>
          <a:xfrm>
            <a:off x="5273280" y="4527720"/>
            <a:ext cx="6918480" cy="820800"/>
            <a:chOff x="5273280" y="4527720"/>
            <a:chExt cx="6918480" cy="820800"/>
          </a:xfrm>
        </p:grpSpPr>
        <p:sp>
          <p:nvSpPr>
            <p:cNvPr id="143" name="文本框 18"/>
            <p:cNvSpPr/>
            <p:nvPr/>
          </p:nvSpPr>
          <p:spPr>
            <a:xfrm>
              <a:off x="5273280" y="4527720"/>
              <a:ext cx="132696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ff6201"/>
                  </a:solidFill>
                  <a:latin typeface="张海山草泥马体"/>
                  <a:ea typeface="张海山草泥马体"/>
                </a:rPr>
                <a:t>03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文本框 19"/>
            <p:cNvSpPr/>
            <p:nvPr/>
          </p:nvSpPr>
          <p:spPr>
            <a:xfrm>
              <a:off x="6600960" y="4527720"/>
              <a:ext cx="55908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6201"/>
                  </a:solidFill>
                  <a:latin typeface="张海山草泥马体"/>
                  <a:ea typeface="张海山草泥马体"/>
                </a:rPr>
                <a:t>点击添加标题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5" name="图片 1" descr=""/>
          <p:cNvPicPr/>
          <p:nvPr/>
        </p:nvPicPr>
        <p:blipFill>
          <a:blip r:embed="rId1"/>
          <a:stretch/>
        </p:blipFill>
        <p:spPr>
          <a:xfrm>
            <a:off x="1432800" y="5076000"/>
            <a:ext cx="24998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组合 4"/>
          <p:cNvGrpSpPr/>
          <p:nvPr/>
        </p:nvGrpSpPr>
        <p:grpSpPr>
          <a:xfrm>
            <a:off x="252720" y="723600"/>
            <a:ext cx="4949280" cy="5568480"/>
            <a:chOff x="252720" y="723600"/>
            <a:chExt cx="4949280" cy="5568480"/>
          </a:xfrm>
        </p:grpSpPr>
        <p:sp>
          <p:nvSpPr>
            <p:cNvPr id="147" name="任意多边形 5"/>
            <p:cNvSpPr/>
            <p:nvPr/>
          </p:nvSpPr>
          <p:spPr>
            <a:xfrm rot="595200">
              <a:off x="1973160" y="3237480"/>
              <a:ext cx="2464920" cy="2464920"/>
            </a:xfrm>
            <a:custGeom>
              <a:avLst/>
              <a:gdLst>
                <a:gd name="textAreaLeft" fmla="*/ 0 w 2464920"/>
                <a:gd name="textAreaRight" fmla="*/ 2465280 w 2464920"/>
                <a:gd name="textAreaTop" fmla="*/ 0 h 2464920"/>
                <a:gd name="textAreaBottom" fmla="*/ 2465280 h 2464920"/>
              </a:gdLst>
              <a:ahLst/>
              <a:rect l="textAreaLeft" t="textAreaTop" r="textAreaRight" b="textAreaBottom"/>
              <a:pathLst>
                <a:path w="2980266" h="2980266">
                  <a:moveTo>
                    <a:pt x="2115406" y="475169"/>
                  </a:moveTo>
                  <a:lnTo>
                    <a:pt x="2347223" y="280641"/>
                  </a:lnTo>
                  <a:lnTo>
                    <a:pt x="2532418" y="436038"/>
                  </a:lnTo>
                  <a:lnTo>
                    <a:pt x="2381100" y="698113"/>
                  </a:lnTo>
                  <a:cubicBezTo>
                    <a:pt x="2488696" y="819151"/>
                    <a:pt x="2570502" y="960843"/>
                    <a:pt x="2621526" y="1114543"/>
                  </a:cubicBezTo>
                  <a:lnTo>
                    <a:pt x="2924149" y="1114535"/>
                  </a:lnTo>
                  <a:lnTo>
                    <a:pt x="2966129" y="1352617"/>
                  </a:lnTo>
                  <a:lnTo>
                    <a:pt x="2681754" y="1456113"/>
                  </a:lnTo>
                  <a:cubicBezTo>
                    <a:pt x="2686376" y="1617995"/>
                    <a:pt x="2657965" y="1779121"/>
                    <a:pt x="2598255" y="1929659"/>
                  </a:cubicBezTo>
                  <a:lnTo>
                    <a:pt x="2830082" y="2124176"/>
                  </a:lnTo>
                  <a:lnTo>
                    <a:pt x="2709205" y="2333542"/>
                  </a:lnTo>
                  <a:lnTo>
                    <a:pt x="2424835" y="2230031"/>
                  </a:lnTo>
                  <a:cubicBezTo>
                    <a:pt x="2324320" y="2357010"/>
                    <a:pt x="2198986" y="2462178"/>
                    <a:pt x="2056481" y="2539116"/>
                  </a:cubicBezTo>
                  <a:lnTo>
                    <a:pt x="2109039" y="2837141"/>
                  </a:lnTo>
                  <a:lnTo>
                    <a:pt x="1881863" y="2919826"/>
                  </a:lnTo>
                  <a:lnTo>
                    <a:pt x="1730559" y="2657743"/>
                  </a:lnTo>
                  <a:cubicBezTo>
                    <a:pt x="1571939" y="2690405"/>
                    <a:pt x="1408327" y="2690405"/>
                    <a:pt x="1249707" y="2657743"/>
                  </a:cubicBezTo>
                  <a:lnTo>
                    <a:pt x="1098403" y="2919826"/>
                  </a:lnTo>
                  <a:lnTo>
                    <a:pt x="871227" y="2837141"/>
                  </a:lnTo>
                  <a:lnTo>
                    <a:pt x="923785" y="2539117"/>
                  </a:lnTo>
                  <a:cubicBezTo>
                    <a:pt x="781280" y="2462179"/>
                    <a:pt x="655947" y="2357011"/>
                    <a:pt x="555431" y="2230032"/>
                  </a:cubicBezTo>
                  <a:lnTo>
                    <a:pt x="271061" y="2333542"/>
                  </a:lnTo>
                  <a:lnTo>
                    <a:pt x="150184" y="2124176"/>
                  </a:lnTo>
                  <a:lnTo>
                    <a:pt x="382011" y="1929660"/>
                  </a:lnTo>
                  <a:cubicBezTo>
                    <a:pt x="322301" y="1779122"/>
                    <a:pt x="293890" y="1617995"/>
                    <a:pt x="298512" y="1456114"/>
                  </a:cubicBezTo>
                  <a:lnTo>
                    <a:pt x="14137" y="1352617"/>
                  </a:lnTo>
                  <a:lnTo>
                    <a:pt x="56117" y="1114535"/>
                  </a:lnTo>
                  <a:lnTo>
                    <a:pt x="358740" y="1114543"/>
                  </a:lnTo>
                  <a:cubicBezTo>
                    <a:pt x="409764" y="960843"/>
                    <a:pt x="491570" y="819151"/>
                    <a:pt x="599166" y="698113"/>
                  </a:cubicBezTo>
                  <a:lnTo>
                    <a:pt x="447848" y="436038"/>
                  </a:lnTo>
                  <a:lnTo>
                    <a:pt x="633043" y="280641"/>
                  </a:lnTo>
                  <a:lnTo>
                    <a:pt x="864860" y="475169"/>
                  </a:lnTo>
                  <a:cubicBezTo>
                    <a:pt x="1002743" y="390226"/>
                    <a:pt x="1156488" y="334267"/>
                    <a:pt x="1316713" y="310708"/>
                  </a:cubicBezTo>
                  <a:lnTo>
                    <a:pt x="1369255" y="12681"/>
                  </a:lnTo>
                  <a:lnTo>
                    <a:pt x="1611011" y="12681"/>
                  </a:lnTo>
                  <a:lnTo>
                    <a:pt x="1663553" y="310708"/>
                  </a:lnTo>
                  <a:cubicBezTo>
                    <a:pt x="1823778" y="334267"/>
                    <a:pt x="1977523" y="390226"/>
                    <a:pt x="2115406" y="475169"/>
                  </a:cubicBezTo>
                  <a:close/>
                </a:path>
              </a:pathLst>
            </a:custGeom>
            <a:solidFill>
              <a:schemeClr val="accent4"/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661320" rIns="661320" tIns="760320" bIns="812520" anchor="ctr">
              <a:noAutofit/>
            </a:bodyPr>
            <a:p>
              <a:pPr algn="ctr">
                <a:lnSpc>
                  <a:spcPct val="90000"/>
                </a:lnSpc>
                <a:spcAft>
                  <a:spcPts val="1715"/>
                </a:spcAft>
              </a:pPr>
              <a:endParaRPr b="0" lang="en-US" sz="49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任意多边形 6"/>
            <p:cNvSpPr/>
            <p:nvPr/>
          </p:nvSpPr>
          <p:spPr>
            <a:xfrm rot="595200">
              <a:off x="723240" y="2363400"/>
              <a:ext cx="1792800" cy="1792800"/>
            </a:xfrm>
            <a:custGeom>
              <a:avLst/>
              <a:gdLst>
                <a:gd name="textAreaLeft" fmla="*/ 0 w 1792800"/>
                <a:gd name="textAreaRight" fmla="*/ 1793160 w 1792800"/>
                <a:gd name="textAreaTop" fmla="*/ 0 h 1792800"/>
                <a:gd name="textAreaBottom" fmla="*/ 1793160 h 1792800"/>
              </a:gdLst>
              <a:ahLst/>
              <a:rect l="textAreaLeft" t="textAreaTop" r="textAreaRight" b="textAreaBottom"/>
              <a:pathLst>
                <a:path w="2167466" h="2167466">
                  <a:moveTo>
                    <a:pt x="1621800" y="548964"/>
                  </a:moveTo>
                  <a:lnTo>
                    <a:pt x="1941574" y="452590"/>
                  </a:lnTo>
                  <a:lnTo>
                    <a:pt x="2059240" y="656392"/>
                  </a:lnTo>
                  <a:lnTo>
                    <a:pt x="1815890" y="885138"/>
                  </a:lnTo>
                  <a:cubicBezTo>
                    <a:pt x="1851165" y="1015185"/>
                    <a:pt x="1851165" y="1152281"/>
                    <a:pt x="1815890" y="1282328"/>
                  </a:cubicBezTo>
                  <a:lnTo>
                    <a:pt x="2059240" y="1511074"/>
                  </a:lnTo>
                  <a:lnTo>
                    <a:pt x="1941574" y="1714876"/>
                  </a:lnTo>
                  <a:lnTo>
                    <a:pt x="1621800" y="1618502"/>
                  </a:lnTo>
                  <a:cubicBezTo>
                    <a:pt x="1526813" y="1714075"/>
                    <a:pt x="1408085" y="1782623"/>
                    <a:pt x="1277823" y="1817097"/>
                  </a:cubicBezTo>
                  <a:lnTo>
                    <a:pt x="1201398" y="2142217"/>
                  </a:lnTo>
                  <a:lnTo>
                    <a:pt x="966068" y="2142217"/>
                  </a:lnTo>
                  <a:lnTo>
                    <a:pt x="889643" y="1817097"/>
                  </a:lnTo>
                  <a:cubicBezTo>
                    <a:pt x="759381" y="1782622"/>
                    <a:pt x="640653" y="1714074"/>
                    <a:pt x="545666" y="1618502"/>
                  </a:cubicBezTo>
                  <a:lnTo>
                    <a:pt x="225892" y="1714876"/>
                  </a:lnTo>
                  <a:lnTo>
                    <a:pt x="108226" y="1511074"/>
                  </a:lnTo>
                  <a:lnTo>
                    <a:pt x="351576" y="1282328"/>
                  </a:lnTo>
                  <a:cubicBezTo>
                    <a:pt x="316301" y="1152281"/>
                    <a:pt x="316301" y="1015185"/>
                    <a:pt x="351576" y="885138"/>
                  </a:cubicBezTo>
                  <a:lnTo>
                    <a:pt x="108226" y="656392"/>
                  </a:lnTo>
                  <a:lnTo>
                    <a:pt x="225892" y="452590"/>
                  </a:lnTo>
                  <a:lnTo>
                    <a:pt x="545666" y="548964"/>
                  </a:lnTo>
                  <a:cubicBezTo>
                    <a:pt x="640653" y="453391"/>
                    <a:pt x="759381" y="384843"/>
                    <a:pt x="889643" y="350369"/>
                  </a:cubicBezTo>
                  <a:lnTo>
                    <a:pt x="966068" y="25249"/>
                  </a:lnTo>
                  <a:lnTo>
                    <a:pt x="1201398" y="25249"/>
                  </a:lnTo>
                  <a:lnTo>
                    <a:pt x="1277823" y="350369"/>
                  </a:lnTo>
                  <a:cubicBezTo>
                    <a:pt x="1408085" y="384844"/>
                    <a:pt x="1526813" y="453392"/>
                    <a:pt x="1621800" y="548964"/>
                  </a:cubicBezTo>
                  <a:close/>
                </a:path>
              </a:pathLst>
            </a:custGeom>
            <a:solidFill>
              <a:srgbClr val="ff6201"/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583920" rIns="583920" tIns="587160" bIns="5871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</a:pPr>
              <a:endParaRPr b="0" lang="en-US" sz="30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任意多边形 7"/>
            <p:cNvSpPr/>
            <p:nvPr/>
          </p:nvSpPr>
          <p:spPr>
            <a:xfrm rot="595200">
              <a:off x="1731600" y="1117800"/>
              <a:ext cx="2151360" cy="2151360"/>
            </a:xfrm>
            <a:custGeom>
              <a:avLst/>
              <a:gdLst>
                <a:gd name="textAreaLeft" fmla="*/ 0 w 2151360"/>
                <a:gd name="textAreaRight" fmla="*/ 2151720 w 2151360"/>
                <a:gd name="textAreaTop" fmla="*/ 0 h 2151360"/>
                <a:gd name="textAreaBottom" fmla="*/ 2151720 h 2151360"/>
              </a:gdLst>
              <a:ahLst/>
              <a:rect l="textAreaLeft" t="textAreaTop" r="textAreaRight" b="textAreaBottom"/>
              <a:pathLst>
                <a:path w="2123675" h="2123675">
                  <a:moveTo>
                    <a:pt x="1366897" y="537190"/>
                  </a:moveTo>
                  <a:lnTo>
                    <a:pt x="1594045" y="396507"/>
                  </a:lnTo>
                  <a:lnTo>
                    <a:pt x="1727168" y="529630"/>
                  </a:lnTo>
                  <a:lnTo>
                    <a:pt x="1586485" y="756778"/>
                  </a:lnTo>
                  <a:cubicBezTo>
                    <a:pt x="1640670" y="849967"/>
                    <a:pt x="1669056" y="955907"/>
                    <a:pt x="1668725" y="1063703"/>
                  </a:cubicBezTo>
                  <a:lnTo>
                    <a:pt x="1904134" y="1190078"/>
                  </a:lnTo>
                  <a:lnTo>
                    <a:pt x="1855408" y="1371927"/>
                  </a:lnTo>
                  <a:lnTo>
                    <a:pt x="1588350" y="1363666"/>
                  </a:lnTo>
                  <a:cubicBezTo>
                    <a:pt x="1534739" y="1457186"/>
                    <a:pt x="1457186" y="1534739"/>
                    <a:pt x="1363666" y="1588351"/>
                  </a:cubicBezTo>
                  <a:lnTo>
                    <a:pt x="1371926" y="1855408"/>
                  </a:lnTo>
                  <a:lnTo>
                    <a:pt x="1190078" y="1904134"/>
                  </a:lnTo>
                  <a:lnTo>
                    <a:pt x="1063703" y="1668725"/>
                  </a:lnTo>
                  <a:cubicBezTo>
                    <a:pt x="955907" y="1669057"/>
                    <a:pt x="849967" y="1640670"/>
                    <a:pt x="756778" y="1586485"/>
                  </a:cubicBezTo>
                  <a:lnTo>
                    <a:pt x="529630" y="1727168"/>
                  </a:lnTo>
                  <a:lnTo>
                    <a:pt x="396507" y="1594045"/>
                  </a:lnTo>
                  <a:lnTo>
                    <a:pt x="537190" y="1366897"/>
                  </a:lnTo>
                  <a:cubicBezTo>
                    <a:pt x="483005" y="1273708"/>
                    <a:pt x="454619" y="1167768"/>
                    <a:pt x="454950" y="1059972"/>
                  </a:cubicBezTo>
                  <a:lnTo>
                    <a:pt x="219541" y="933597"/>
                  </a:lnTo>
                  <a:lnTo>
                    <a:pt x="268267" y="751748"/>
                  </a:lnTo>
                  <a:lnTo>
                    <a:pt x="535325" y="760009"/>
                  </a:lnTo>
                  <a:cubicBezTo>
                    <a:pt x="588936" y="666489"/>
                    <a:pt x="666489" y="588936"/>
                    <a:pt x="760009" y="535324"/>
                  </a:cubicBezTo>
                  <a:lnTo>
                    <a:pt x="751749" y="268267"/>
                  </a:lnTo>
                  <a:lnTo>
                    <a:pt x="933597" y="219541"/>
                  </a:lnTo>
                  <a:lnTo>
                    <a:pt x="1059972" y="454950"/>
                  </a:lnTo>
                  <a:cubicBezTo>
                    <a:pt x="1167768" y="454618"/>
                    <a:pt x="1273708" y="483005"/>
                    <a:pt x="1366897" y="537190"/>
                  </a:cubicBezTo>
                  <a:close/>
                </a:path>
              </a:pathLst>
            </a:custGeom>
            <a:solidFill>
              <a:srgbClr val="a0dc00"/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746280" rIns="746280" tIns="746280" bIns="746280" anchor="ctr">
              <a:noAutofit/>
            </a:bodyPr>
            <a:p>
              <a:pPr algn="ctr">
                <a:lnSpc>
                  <a:spcPct val="90000"/>
                </a:lnSpc>
                <a:spcAft>
                  <a:spcPts val="1154"/>
                </a:spcAft>
              </a:pPr>
              <a:endParaRPr b="0" lang="en-US" sz="33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环形箭头 8"/>
            <p:cNvSpPr/>
            <p:nvPr/>
          </p:nvSpPr>
          <p:spPr>
            <a:xfrm rot="595200">
              <a:off x="1798200" y="2888280"/>
              <a:ext cx="3155400" cy="3155400"/>
            </a:xfrm>
            <a:prstGeom prst="circularArrow">
              <a:avLst>
                <a:gd name="adj1" fmla="val 4688"/>
                <a:gd name="adj2" fmla="val 299029"/>
                <a:gd name="adj3" fmla="val 2539295"/>
                <a:gd name="adj4" fmla="val 15812321"/>
                <a:gd name="adj5" fmla="val 5469"/>
              </a:avLst>
            </a:prstGeom>
            <a:solidFill>
              <a:srgbClr val="ff6201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形状 9"/>
            <p:cNvSpPr/>
            <p:nvPr/>
          </p:nvSpPr>
          <p:spPr>
            <a:xfrm rot="595200">
              <a:off x="432720" y="1952640"/>
              <a:ext cx="2292480" cy="2292480"/>
            </a:xfrm>
            <a:prstGeom prst="leftCircularArrow">
              <a:avLst>
                <a:gd name="adj1" fmla="val 6452"/>
                <a:gd name="adj2" fmla="val 429999"/>
                <a:gd name="adj3" fmla="val 10489124"/>
                <a:gd name="adj4" fmla="val 14837806"/>
                <a:gd name="adj5" fmla="val 7527"/>
              </a:avLst>
            </a:prstGeom>
            <a:solidFill>
              <a:srgbClr val="a0dc00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环形箭头 10"/>
            <p:cNvSpPr/>
            <p:nvPr/>
          </p:nvSpPr>
          <p:spPr>
            <a:xfrm rot="595200">
              <a:off x="1528920" y="918000"/>
              <a:ext cx="2471760" cy="2471760"/>
            </a:xfrm>
            <a:prstGeom prst="circularArrow">
              <a:avLst>
                <a:gd name="adj1" fmla="val 5984"/>
                <a:gd name="adj2" fmla="val 394124"/>
                <a:gd name="adj3" fmla="val 13313824"/>
                <a:gd name="adj4" fmla="val 10508221"/>
                <a:gd name="adj5" fmla="val 6981"/>
              </a:avLst>
            </a:prstGeom>
            <a:solidFill>
              <a:schemeClr val="accent4"/>
            </a:solidFill>
            <a:ln w="0">
              <a:noFill/>
            </a:ln>
          </p:spPr>
          <p:style>
            <a:ln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tint val="6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tint val="6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文本框 13"/>
          <p:cNvSpPr/>
          <p:nvPr/>
        </p:nvSpPr>
        <p:spPr>
          <a:xfrm>
            <a:off x="5419800" y="1188720"/>
            <a:ext cx="3876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点击添加标题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文本框 14"/>
          <p:cNvSpPr/>
          <p:nvPr/>
        </p:nvSpPr>
        <p:spPr>
          <a:xfrm>
            <a:off x="5419800" y="2116440"/>
            <a:ext cx="6257520" cy="8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。诞生于</a:t>
            </a: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设计、锐普</a:t>
            </a: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论坛、锐普</a:t>
            </a: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城、锐普</a:t>
            </a:r>
            <a:r>
              <a:rPr b="0" lang="en-US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市场等资源组建成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文本框 15"/>
          <p:cNvSpPr/>
          <p:nvPr/>
        </p:nvSpPr>
        <p:spPr>
          <a:xfrm>
            <a:off x="5419800" y="4710600"/>
            <a:ext cx="62575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。诞生于</a:t>
            </a:r>
            <a:r>
              <a:rPr b="0" lang="en-US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2013</a:t>
            </a: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设计、锐普</a:t>
            </a:r>
            <a:r>
              <a:rPr b="0" lang="en-US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6201"/>
                </a:solidFill>
                <a:latin typeface="微软雅黑"/>
                <a:ea typeface="微软雅黑"/>
              </a:rPr>
              <a:t>市场等资源组建成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图片 11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6"/>
          <p:cNvSpPr/>
          <p:nvPr/>
        </p:nvSpPr>
        <p:spPr>
          <a:xfrm>
            <a:off x="919440" y="3705480"/>
            <a:ext cx="1900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717840" y="4546080"/>
            <a:ext cx="2668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燕尾形 7"/>
          <p:cNvSpPr/>
          <p:nvPr/>
        </p:nvSpPr>
        <p:spPr>
          <a:xfrm>
            <a:off x="3114720" y="2748960"/>
            <a:ext cx="287640" cy="287640"/>
          </a:xfrm>
          <a:prstGeom prst="chevron">
            <a:avLst>
              <a:gd name="adj" fmla="val 50000"/>
            </a:avLst>
          </a:prstGeom>
          <a:solidFill>
            <a:srgbClr val="ff62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1"/>
          <p:cNvSpPr/>
          <p:nvPr/>
        </p:nvSpPr>
        <p:spPr>
          <a:xfrm>
            <a:off x="3747240" y="370548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矩形 11"/>
          <p:cNvSpPr/>
          <p:nvPr/>
        </p:nvSpPr>
        <p:spPr>
          <a:xfrm>
            <a:off x="3551040" y="4546080"/>
            <a:ext cx="2668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6580080" y="370548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5"/>
          <p:cNvSpPr/>
          <p:nvPr/>
        </p:nvSpPr>
        <p:spPr>
          <a:xfrm>
            <a:off x="6384240" y="4546080"/>
            <a:ext cx="2668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33"/>
          <p:cNvSpPr/>
          <p:nvPr/>
        </p:nvSpPr>
        <p:spPr>
          <a:xfrm>
            <a:off x="9372960" y="370548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4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19"/>
          <p:cNvSpPr/>
          <p:nvPr/>
        </p:nvSpPr>
        <p:spPr>
          <a:xfrm>
            <a:off x="9176760" y="4546080"/>
            <a:ext cx="2668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燕尾形 20"/>
          <p:cNvSpPr/>
          <p:nvPr/>
        </p:nvSpPr>
        <p:spPr>
          <a:xfrm>
            <a:off x="5871600" y="2748960"/>
            <a:ext cx="287640" cy="287640"/>
          </a:xfrm>
          <a:prstGeom prst="chevron">
            <a:avLst>
              <a:gd name="adj" fmla="val 50000"/>
            </a:avLst>
          </a:prstGeom>
          <a:solidFill>
            <a:srgbClr val="ff62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燕尾形 21"/>
          <p:cNvSpPr/>
          <p:nvPr/>
        </p:nvSpPr>
        <p:spPr>
          <a:xfrm>
            <a:off x="8665200" y="2748960"/>
            <a:ext cx="287640" cy="287640"/>
          </a:xfrm>
          <a:prstGeom prst="chevron">
            <a:avLst>
              <a:gd name="adj" fmla="val 50000"/>
            </a:avLst>
          </a:prstGeom>
          <a:solidFill>
            <a:srgbClr val="ff620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 22"/>
          <p:cNvSpPr/>
          <p:nvPr/>
        </p:nvSpPr>
        <p:spPr>
          <a:xfrm>
            <a:off x="736200" y="1751400"/>
            <a:ext cx="2289600" cy="22896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椭圆 23"/>
          <p:cNvSpPr/>
          <p:nvPr/>
        </p:nvSpPr>
        <p:spPr>
          <a:xfrm>
            <a:off x="3505320" y="1751400"/>
            <a:ext cx="2289600" cy="2289600"/>
          </a:xfrm>
          <a:prstGeom prst="ellipse">
            <a:avLst/>
          </a:prstGeom>
          <a:solidFill>
            <a:srgbClr val="a0d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椭圆 24"/>
          <p:cNvSpPr/>
          <p:nvPr/>
        </p:nvSpPr>
        <p:spPr>
          <a:xfrm>
            <a:off x="6274440" y="1751400"/>
            <a:ext cx="2289600" cy="2289600"/>
          </a:xfrm>
          <a:prstGeom prst="ellipse">
            <a:avLst/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椭圆 25"/>
          <p:cNvSpPr/>
          <p:nvPr/>
        </p:nvSpPr>
        <p:spPr>
          <a:xfrm>
            <a:off x="9043200" y="1751400"/>
            <a:ext cx="2289600" cy="2289600"/>
          </a:xfrm>
          <a:prstGeom prst="ellipse">
            <a:avLst/>
          </a:prstGeom>
          <a:solidFill>
            <a:srgbClr val="a0dc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文本框 26"/>
          <p:cNvSpPr/>
          <p:nvPr/>
        </p:nvSpPr>
        <p:spPr>
          <a:xfrm>
            <a:off x="970920" y="2282040"/>
            <a:ext cx="1856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文本框 27"/>
          <p:cNvSpPr/>
          <p:nvPr/>
        </p:nvSpPr>
        <p:spPr>
          <a:xfrm>
            <a:off x="3722040" y="2282040"/>
            <a:ext cx="1856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文本框 28"/>
          <p:cNvSpPr/>
          <p:nvPr/>
        </p:nvSpPr>
        <p:spPr>
          <a:xfrm>
            <a:off x="6490800" y="2282040"/>
            <a:ext cx="1856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文本框 29"/>
          <p:cNvSpPr/>
          <p:nvPr/>
        </p:nvSpPr>
        <p:spPr>
          <a:xfrm>
            <a:off x="9257760" y="2282040"/>
            <a:ext cx="1856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加标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矩形 30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图片 31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5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图表 4"/>
          <p:cNvGraphicFramePr/>
          <p:nvPr/>
        </p:nvGraphicFramePr>
        <p:xfrm>
          <a:off x="1818360" y="1415520"/>
          <a:ext cx="7693200" cy="3804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79" name="矩形 6"/>
          <p:cNvSpPr/>
          <p:nvPr/>
        </p:nvSpPr>
        <p:spPr>
          <a:xfrm>
            <a:off x="1687320" y="5537520"/>
            <a:ext cx="877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诞生于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设计、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市场等资源组建成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矩形 3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图片 5" descr=""/>
          <p:cNvPicPr/>
          <p:nvPr/>
        </p:nvPicPr>
        <p:blipFill>
          <a:blip r:embed="rId2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3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图表 5"/>
          <p:cNvGraphicFramePr/>
          <p:nvPr/>
        </p:nvGraphicFramePr>
        <p:xfrm>
          <a:off x="2326320" y="1529640"/>
          <a:ext cx="7539480" cy="3997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84" name="矩形 10"/>
          <p:cNvSpPr/>
          <p:nvPr/>
        </p:nvSpPr>
        <p:spPr>
          <a:xfrm>
            <a:off x="1687320" y="5523480"/>
            <a:ext cx="877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诞生于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设计、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d9d9d9"/>
                </a:solidFill>
                <a:latin typeface="微软雅黑"/>
                <a:ea typeface="微软雅黑"/>
              </a:rPr>
              <a:t>市场等资源组建成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图片 4" descr=""/>
          <p:cNvPicPr/>
          <p:nvPr/>
        </p:nvPicPr>
        <p:blipFill>
          <a:blip r:embed="rId2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75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任意多边形 5"/>
          <p:cNvSpPr/>
          <p:nvPr/>
        </p:nvSpPr>
        <p:spPr>
          <a:xfrm>
            <a:off x="3883680" y="1674000"/>
            <a:ext cx="2238840" cy="1119240"/>
          </a:xfrm>
          <a:custGeom>
            <a:avLst/>
            <a:gdLst>
              <a:gd name="textAreaLeft" fmla="*/ 0 w 2238840"/>
              <a:gd name="textAreaRight" fmla="*/ 2239200 w 223884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2805906" h="1402953">
                <a:moveTo>
                  <a:pt x="0" y="140295"/>
                </a:moveTo>
                <a:cubicBezTo>
                  <a:pt x="0" y="62812"/>
                  <a:pt x="62812" y="0"/>
                  <a:pt x="140295" y="0"/>
                </a:cubicBezTo>
                <a:lnTo>
                  <a:pt x="2665611" y="0"/>
                </a:lnTo>
                <a:cubicBezTo>
                  <a:pt x="2743094" y="0"/>
                  <a:pt x="2805906" y="62812"/>
                  <a:pt x="2805906" y="140295"/>
                </a:cubicBezTo>
                <a:lnTo>
                  <a:pt x="2805906" y="1262658"/>
                </a:lnTo>
                <a:cubicBezTo>
                  <a:pt x="2805906" y="1340141"/>
                  <a:pt x="2743094" y="1402953"/>
                  <a:pt x="2665611" y="1402953"/>
                </a:cubicBezTo>
                <a:lnTo>
                  <a:pt x="140295" y="1402953"/>
                </a:lnTo>
                <a:cubicBezTo>
                  <a:pt x="62812" y="1402953"/>
                  <a:pt x="0" y="1340141"/>
                  <a:pt x="0" y="1262658"/>
                </a:cubicBezTo>
                <a:lnTo>
                  <a:pt x="0" y="140295"/>
                </a:lnTo>
                <a:close/>
              </a:path>
            </a:pathLst>
          </a:custGeom>
          <a:solidFill>
            <a:srgbClr val="ff6201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62080" rIns="262080" tIns="262080" bIns="262080" anchor="ctr">
            <a:noAutofit/>
          </a:bodyPr>
          <a:p>
            <a:pPr algn="ctr">
              <a:lnSpc>
                <a:spcPct val="90000"/>
              </a:lnSpc>
              <a:spcAft>
                <a:spcPts val="2030"/>
              </a:spcAft>
            </a:pPr>
            <a:endParaRPr b="0" lang="en-US" sz="5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任意多边形 6"/>
          <p:cNvSpPr/>
          <p:nvPr/>
        </p:nvSpPr>
        <p:spPr>
          <a:xfrm rot="3600000">
            <a:off x="5344200" y="3638520"/>
            <a:ext cx="1166400" cy="391680"/>
          </a:xfrm>
          <a:custGeom>
            <a:avLst/>
            <a:gdLst>
              <a:gd name="textAreaLeft" fmla="*/ 0 w 1166400"/>
              <a:gd name="textAreaRight" fmla="*/ 1166760 w 116640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1461927" h="491033">
                <a:moveTo>
                  <a:pt x="0" y="245517"/>
                </a:moveTo>
                <a:lnTo>
                  <a:pt x="245517" y="0"/>
                </a:lnTo>
                <a:lnTo>
                  <a:pt x="245517" y="98207"/>
                </a:lnTo>
                <a:lnTo>
                  <a:pt x="1216411" y="98207"/>
                </a:lnTo>
                <a:lnTo>
                  <a:pt x="1216411" y="0"/>
                </a:lnTo>
                <a:lnTo>
                  <a:pt x="1461927" y="245517"/>
                </a:lnTo>
                <a:lnTo>
                  <a:pt x="1216411" y="491033"/>
                </a:lnTo>
                <a:lnTo>
                  <a:pt x="1216411" y="392826"/>
                </a:lnTo>
                <a:lnTo>
                  <a:pt x="245517" y="392826"/>
                </a:lnTo>
                <a:lnTo>
                  <a:pt x="245517" y="491033"/>
                </a:lnTo>
                <a:lnTo>
                  <a:pt x="0" y="245517"/>
                </a:lnTo>
                <a:close/>
              </a:path>
            </a:pathLst>
          </a:custGeom>
          <a:solidFill>
            <a:srgbClr val="b5cae6"/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47240" rIns="147240" tIns="98280" bIns="98280" anchor="ctr">
            <a:noAutofit/>
          </a:bodyPr>
          <a:p>
            <a:pPr algn="ctr">
              <a:lnSpc>
                <a:spcPct val="90000"/>
              </a:lnSpc>
              <a:spcAft>
                <a:spcPts val="734"/>
              </a:spcAft>
            </a:pPr>
            <a:endParaRPr b="0" lang="en-US" sz="21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任意多边形 7"/>
          <p:cNvSpPr/>
          <p:nvPr/>
        </p:nvSpPr>
        <p:spPr>
          <a:xfrm>
            <a:off x="5732280" y="4876560"/>
            <a:ext cx="2238840" cy="1119240"/>
          </a:xfrm>
          <a:custGeom>
            <a:avLst/>
            <a:gdLst>
              <a:gd name="textAreaLeft" fmla="*/ 0 w 2238840"/>
              <a:gd name="textAreaRight" fmla="*/ 2239200 w 223884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2805906" h="1402953">
                <a:moveTo>
                  <a:pt x="0" y="140295"/>
                </a:moveTo>
                <a:cubicBezTo>
                  <a:pt x="0" y="62812"/>
                  <a:pt x="62812" y="0"/>
                  <a:pt x="140295" y="0"/>
                </a:cubicBezTo>
                <a:lnTo>
                  <a:pt x="2665611" y="0"/>
                </a:lnTo>
                <a:cubicBezTo>
                  <a:pt x="2743094" y="0"/>
                  <a:pt x="2805906" y="62812"/>
                  <a:pt x="2805906" y="140295"/>
                </a:cubicBezTo>
                <a:lnTo>
                  <a:pt x="2805906" y="1262658"/>
                </a:lnTo>
                <a:cubicBezTo>
                  <a:pt x="2805906" y="1340141"/>
                  <a:pt x="2743094" y="1402953"/>
                  <a:pt x="2665611" y="1402953"/>
                </a:cubicBezTo>
                <a:lnTo>
                  <a:pt x="140295" y="1402953"/>
                </a:lnTo>
                <a:cubicBezTo>
                  <a:pt x="62812" y="1402953"/>
                  <a:pt x="0" y="1340141"/>
                  <a:pt x="0" y="1262658"/>
                </a:cubicBezTo>
                <a:lnTo>
                  <a:pt x="0" y="140295"/>
                </a:lnTo>
                <a:close/>
              </a:path>
            </a:pathLst>
          </a:custGeom>
          <a:solidFill>
            <a:srgbClr val="a0dc0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62080" rIns="262080" tIns="262080" bIns="262080" anchor="ctr">
            <a:noAutofit/>
          </a:bodyPr>
          <a:p>
            <a:pPr algn="ctr">
              <a:lnSpc>
                <a:spcPct val="90000"/>
              </a:lnSpc>
              <a:spcAft>
                <a:spcPts val="2030"/>
              </a:spcAft>
            </a:pPr>
            <a:endParaRPr b="0" lang="en-US" sz="5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任意多边形 8"/>
          <p:cNvSpPr/>
          <p:nvPr/>
        </p:nvSpPr>
        <p:spPr>
          <a:xfrm>
            <a:off x="4419720" y="5240160"/>
            <a:ext cx="1166400" cy="391680"/>
          </a:xfrm>
          <a:custGeom>
            <a:avLst/>
            <a:gdLst>
              <a:gd name="textAreaLeft" fmla="*/ 0 w 1166400"/>
              <a:gd name="textAreaRight" fmla="*/ 1166760 w 116640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1461927" h="491033">
                <a:moveTo>
                  <a:pt x="1461927" y="245516"/>
                </a:moveTo>
                <a:lnTo>
                  <a:pt x="1216410" y="491032"/>
                </a:lnTo>
                <a:lnTo>
                  <a:pt x="1216410" y="392825"/>
                </a:lnTo>
                <a:lnTo>
                  <a:pt x="245516" y="392825"/>
                </a:lnTo>
                <a:lnTo>
                  <a:pt x="245516" y="491032"/>
                </a:lnTo>
                <a:lnTo>
                  <a:pt x="0" y="245516"/>
                </a:lnTo>
                <a:lnTo>
                  <a:pt x="245516" y="1"/>
                </a:lnTo>
                <a:lnTo>
                  <a:pt x="245516" y="98208"/>
                </a:lnTo>
                <a:lnTo>
                  <a:pt x="1216410" y="98208"/>
                </a:lnTo>
                <a:lnTo>
                  <a:pt x="1216410" y="1"/>
                </a:lnTo>
                <a:lnTo>
                  <a:pt x="1461927" y="245516"/>
                </a:lnTo>
                <a:close/>
              </a:path>
            </a:pathLst>
          </a:custGeom>
          <a:solidFill>
            <a:srgbClr val="b5cae6"/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47240" rIns="147240" tIns="98280" bIns="98280" anchor="ctr">
            <a:noAutofit/>
          </a:bodyPr>
          <a:p>
            <a:pPr algn="ctr">
              <a:lnSpc>
                <a:spcPct val="90000"/>
              </a:lnSpc>
              <a:spcAft>
                <a:spcPts val="734"/>
              </a:spcAft>
            </a:pPr>
            <a:endParaRPr b="0" lang="en-US" sz="21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任意多边形 9"/>
          <p:cNvSpPr/>
          <p:nvPr/>
        </p:nvSpPr>
        <p:spPr>
          <a:xfrm>
            <a:off x="2034720" y="4876560"/>
            <a:ext cx="2238840" cy="1119240"/>
          </a:xfrm>
          <a:custGeom>
            <a:avLst/>
            <a:gdLst>
              <a:gd name="textAreaLeft" fmla="*/ 0 w 2238840"/>
              <a:gd name="textAreaRight" fmla="*/ 2239200 w 2238840"/>
              <a:gd name="textAreaTop" fmla="*/ 0 h 1119240"/>
              <a:gd name="textAreaBottom" fmla="*/ 1119600 h 1119240"/>
            </a:gdLst>
            <a:ahLst/>
            <a:rect l="textAreaLeft" t="textAreaTop" r="textAreaRight" b="textAreaBottom"/>
            <a:pathLst>
              <a:path w="2805906" h="1402953">
                <a:moveTo>
                  <a:pt x="0" y="140295"/>
                </a:moveTo>
                <a:cubicBezTo>
                  <a:pt x="0" y="62812"/>
                  <a:pt x="62812" y="0"/>
                  <a:pt x="140295" y="0"/>
                </a:cubicBezTo>
                <a:lnTo>
                  <a:pt x="2665611" y="0"/>
                </a:lnTo>
                <a:cubicBezTo>
                  <a:pt x="2743094" y="0"/>
                  <a:pt x="2805906" y="62812"/>
                  <a:pt x="2805906" y="140295"/>
                </a:cubicBezTo>
                <a:lnTo>
                  <a:pt x="2805906" y="1262658"/>
                </a:lnTo>
                <a:cubicBezTo>
                  <a:pt x="2805906" y="1340141"/>
                  <a:pt x="2743094" y="1402953"/>
                  <a:pt x="2665611" y="1402953"/>
                </a:cubicBezTo>
                <a:lnTo>
                  <a:pt x="140295" y="1402953"/>
                </a:lnTo>
                <a:cubicBezTo>
                  <a:pt x="62812" y="1402953"/>
                  <a:pt x="0" y="1340141"/>
                  <a:pt x="0" y="1262658"/>
                </a:cubicBezTo>
                <a:lnTo>
                  <a:pt x="0" y="140295"/>
                </a:lnTo>
                <a:close/>
              </a:path>
            </a:pathLst>
          </a:custGeom>
          <a:solidFill>
            <a:srgbClr val="ffc00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62080" rIns="262080" tIns="262080" bIns="262080" anchor="ctr">
            <a:noAutofit/>
          </a:bodyPr>
          <a:p>
            <a:pPr algn="ctr">
              <a:lnSpc>
                <a:spcPct val="90000"/>
              </a:lnSpc>
              <a:spcAft>
                <a:spcPts val="2030"/>
              </a:spcAft>
            </a:pPr>
            <a:endParaRPr b="0" lang="en-US" sz="5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任意多边形 10"/>
          <p:cNvSpPr/>
          <p:nvPr/>
        </p:nvSpPr>
        <p:spPr>
          <a:xfrm rot="18000000">
            <a:off x="3495240" y="3639240"/>
            <a:ext cx="1166400" cy="391680"/>
          </a:xfrm>
          <a:custGeom>
            <a:avLst/>
            <a:gdLst>
              <a:gd name="textAreaLeft" fmla="*/ 0 w 1166400"/>
              <a:gd name="textAreaRight" fmla="*/ 1166760 w 1166400"/>
              <a:gd name="textAreaTop" fmla="*/ 0 h 391680"/>
              <a:gd name="textAreaBottom" fmla="*/ 392040 h 391680"/>
            </a:gdLst>
            <a:ahLst/>
            <a:rect l="textAreaLeft" t="textAreaTop" r="textAreaRight" b="textAreaBottom"/>
            <a:pathLst>
              <a:path w="1461927" h="491033">
                <a:moveTo>
                  <a:pt x="0" y="245517"/>
                </a:moveTo>
                <a:lnTo>
                  <a:pt x="245517" y="0"/>
                </a:lnTo>
                <a:lnTo>
                  <a:pt x="245517" y="98207"/>
                </a:lnTo>
                <a:lnTo>
                  <a:pt x="1216411" y="98207"/>
                </a:lnTo>
                <a:lnTo>
                  <a:pt x="1216411" y="0"/>
                </a:lnTo>
                <a:lnTo>
                  <a:pt x="1461927" y="245517"/>
                </a:lnTo>
                <a:lnTo>
                  <a:pt x="1216411" y="491033"/>
                </a:lnTo>
                <a:lnTo>
                  <a:pt x="1216411" y="392826"/>
                </a:lnTo>
                <a:lnTo>
                  <a:pt x="245517" y="392826"/>
                </a:lnTo>
                <a:lnTo>
                  <a:pt x="245517" y="491033"/>
                </a:lnTo>
                <a:lnTo>
                  <a:pt x="0" y="245517"/>
                </a:lnTo>
                <a:close/>
              </a:path>
            </a:pathLst>
          </a:custGeom>
          <a:solidFill>
            <a:srgbClr val="b5cae6"/>
          </a:solidFill>
          <a:ln w="0">
            <a:noFill/>
          </a:ln>
        </p:spPr>
        <p:style>
          <a:lnRef idx="0">
            <a:schemeClr val="accent1">
              <a:tint val="60000"/>
              <a:hueOff val="0"/>
              <a:satOff val="0"/>
              <a:lumOff val="0"/>
              <a:alphaOff val="0"/>
            </a:schemeClr>
          </a:lnRef>
          <a:fillRef idx="1">
            <a:schemeClr val="accent1">
              <a:tint val="6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tint val="6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47240" rIns="147240" tIns="98280" bIns="98280" anchor="ctr">
            <a:noAutofit/>
          </a:bodyPr>
          <a:p>
            <a:pPr algn="ctr">
              <a:lnSpc>
                <a:spcPct val="90000"/>
              </a:lnSpc>
              <a:spcAft>
                <a:spcPts val="734"/>
              </a:spcAft>
            </a:pPr>
            <a:endParaRPr b="0" lang="en-US" sz="21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矩形 11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文本框 12"/>
          <p:cNvSpPr/>
          <p:nvPr/>
        </p:nvSpPr>
        <p:spPr>
          <a:xfrm>
            <a:off x="4078800" y="1695240"/>
            <a:ext cx="2009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此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文本框 13"/>
          <p:cNvSpPr/>
          <p:nvPr/>
        </p:nvSpPr>
        <p:spPr>
          <a:xfrm>
            <a:off x="2177640" y="4889160"/>
            <a:ext cx="2009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此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文本框 14"/>
          <p:cNvSpPr/>
          <p:nvPr/>
        </p:nvSpPr>
        <p:spPr>
          <a:xfrm>
            <a:off x="5945760" y="4889160"/>
            <a:ext cx="20091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此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添加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26"/>
          <p:cNvSpPr/>
          <p:nvPr/>
        </p:nvSpPr>
        <p:spPr>
          <a:xfrm>
            <a:off x="7401240" y="1309680"/>
            <a:ext cx="1900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矩形 16"/>
          <p:cNvSpPr/>
          <p:nvPr/>
        </p:nvSpPr>
        <p:spPr>
          <a:xfrm>
            <a:off x="6669360" y="2150640"/>
            <a:ext cx="3364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1"/>
          <p:cNvSpPr/>
          <p:nvPr/>
        </p:nvSpPr>
        <p:spPr>
          <a:xfrm>
            <a:off x="971640" y="230076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矩形 18"/>
          <p:cNvSpPr/>
          <p:nvPr/>
        </p:nvSpPr>
        <p:spPr>
          <a:xfrm>
            <a:off x="775440" y="3141720"/>
            <a:ext cx="2668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32"/>
          <p:cNvSpPr/>
          <p:nvPr/>
        </p:nvSpPr>
        <p:spPr>
          <a:xfrm>
            <a:off x="8663400" y="394524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20"/>
          <p:cNvSpPr/>
          <p:nvPr/>
        </p:nvSpPr>
        <p:spPr>
          <a:xfrm>
            <a:off x="8117640" y="4786200"/>
            <a:ext cx="3405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图片 21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444960" y="64684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环形箭头 5"/>
          <p:cNvSpPr/>
          <p:nvPr/>
        </p:nvSpPr>
        <p:spPr>
          <a:xfrm>
            <a:off x="4802760" y="1308240"/>
            <a:ext cx="2283840" cy="2284200"/>
          </a:xfrm>
          <a:prstGeom prst="circularArrow">
            <a:avLst>
              <a:gd name="adj1" fmla="val 10980"/>
              <a:gd name="adj2" fmla="val 1142322"/>
              <a:gd name="adj3" fmla="val 4500000"/>
              <a:gd name="adj4" fmla="val 10800000"/>
              <a:gd name="adj5" fmla="val 12500"/>
            </a:avLst>
          </a:prstGeom>
          <a:solidFill>
            <a:srgbClr val="ff6201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任意多边形 6"/>
          <p:cNvSpPr/>
          <p:nvPr/>
        </p:nvSpPr>
        <p:spPr>
          <a:xfrm>
            <a:off x="5307840" y="2133000"/>
            <a:ext cx="1269000" cy="633960"/>
          </a:xfrm>
          <a:custGeom>
            <a:avLst/>
            <a:gdLst>
              <a:gd name="textAreaLeft" fmla="*/ 0 w 1269000"/>
              <a:gd name="textAreaRight" fmla="*/ 1269360 w 1269000"/>
              <a:gd name="textAreaTop" fmla="*/ 0 h 633960"/>
              <a:gd name="textAreaBottom" fmla="*/ 634320 h 633960"/>
            </a:gdLst>
            <a:ahLst/>
            <a:rect l="textAreaLeft" t="textAreaTop" r="textAreaRight" b="textAreaBottom"/>
            <a:pathLst>
              <a:path w="1449298" h="724475">
                <a:moveTo>
                  <a:pt x="0" y="0"/>
                </a:moveTo>
                <a:lnTo>
                  <a:pt x="1449298" y="0"/>
                </a:lnTo>
                <a:lnTo>
                  <a:pt x="1449298" y="724475"/>
                </a:lnTo>
                <a:lnTo>
                  <a:pt x="0" y="7244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8080" rIns="28080" tIns="28080" bIns="28080" anchor="ctr">
            <a:noAutofit/>
          </a:bodyPr>
          <a:p>
            <a:pPr algn="ctr">
              <a:lnSpc>
                <a:spcPct val="90000"/>
              </a:lnSpc>
              <a:spcAft>
                <a:spcPts val="1539"/>
              </a:spcAf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形状 7"/>
          <p:cNvSpPr/>
          <p:nvPr/>
        </p:nvSpPr>
        <p:spPr>
          <a:xfrm>
            <a:off x="4168440" y="2620800"/>
            <a:ext cx="2283840" cy="2284200"/>
          </a:xfrm>
          <a:prstGeom prst="leftCircularArrow">
            <a:avLst>
              <a:gd name="adj1" fmla="val 10980"/>
              <a:gd name="adj2" fmla="val 1142322"/>
              <a:gd name="adj3" fmla="val 6300000"/>
              <a:gd name="adj4" fmla="val 18900000"/>
              <a:gd name="adj5" fmla="val 125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任意多边形 8"/>
          <p:cNvSpPr/>
          <p:nvPr/>
        </p:nvSpPr>
        <p:spPr>
          <a:xfrm>
            <a:off x="4675680" y="3453480"/>
            <a:ext cx="1269000" cy="633960"/>
          </a:xfrm>
          <a:custGeom>
            <a:avLst/>
            <a:gdLst>
              <a:gd name="textAreaLeft" fmla="*/ 0 w 1269000"/>
              <a:gd name="textAreaRight" fmla="*/ 1269360 w 1269000"/>
              <a:gd name="textAreaTop" fmla="*/ 0 h 633960"/>
              <a:gd name="textAreaBottom" fmla="*/ 634320 h 633960"/>
            </a:gdLst>
            <a:ahLst/>
            <a:rect l="textAreaLeft" t="textAreaTop" r="textAreaRight" b="textAreaBottom"/>
            <a:pathLst>
              <a:path w="1449298" h="724475">
                <a:moveTo>
                  <a:pt x="0" y="0"/>
                </a:moveTo>
                <a:lnTo>
                  <a:pt x="1449298" y="0"/>
                </a:lnTo>
                <a:lnTo>
                  <a:pt x="1449298" y="724475"/>
                </a:lnTo>
                <a:lnTo>
                  <a:pt x="0" y="7244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8080" rIns="28080" tIns="28080" bIns="28080" anchor="ctr">
            <a:noAutofit/>
          </a:bodyPr>
          <a:p>
            <a:pPr algn="ctr">
              <a:lnSpc>
                <a:spcPct val="90000"/>
              </a:lnSpc>
              <a:spcAft>
                <a:spcPts val="1539"/>
              </a:spcAf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空心弧 9"/>
          <p:cNvSpPr/>
          <p:nvPr/>
        </p:nvSpPr>
        <p:spPr>
          <a:xfrm>
            <a:off x="4965480" y="4090680"/>
            <a:ext cx="1962000" cy="1963080"/>
          </a:xfrm>
          <a:prstGeom prst="blockArc">
            <a:avLst>
              <a:gd name="adj1" fmla="val 13500000"/>
              <a:gd name="adj2" fmla="val 10800000"/>
              <a:gd name="adj3" fmla="val 12740"/>
            </a:avLst>
          </a:prstGeom>
          <a:solidFill>
            <a:srgbClr val="a0dc00"/>
          </a:solidFill>
          <a:ln>
            <a:noFill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5310720" y="4775400"/>
            <a:ext cx="1269000" cy="633960"/>
          </a:xfrm>
          <a:custGeom>
            <a:avLst/>
            <a:gdLst>
              <a:gd name="textAreaLeft" fmla="*/ 0 w 1269000"/>
              <a:gd name="textAreaRight" fmla="*/ 1269360 w 1269000"/>
              <a:gd name="textAreaTop" fmla="*/ 0 h 633960"/>
              <a:gd name="textAreaBottom" fmla="*/ 634320 h 633960"/>
            </a:gdLst>
            <a:ahLst/>
            <a:rect l="textAreaLeft" t="textAreaTop" r="textAreaRight" b="textAreaBottom"/>
            <a:pathLst>
              <a:path w="1449298" h="724475">
                <a:moveTo>
                  <a:pt x="0" y="0"/>
                </a:moveTo>
                <a:lnTo>
                  <a:pt x="1449298" y="0"/>
                </a:lnTo>
                <a:lnTo>
                  <a:pt x="1449298" y="724475"/>
                </a:lnTo>
                <a:lnTo>
                  <a:pt x="0" y="72447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28080" rIns="28080" tIns="28080" bIns="28080" anchor="ctr">
            <a:noAutofit/>
          </a:bodyPr>
          <a:p>
            <a:pPr algn="ctr">
              <a:lnSpc>
                <a:spcPct val="90000"/>
              </a:lnSpc>
              <a:spcAft>
                <a:spcPts val="1539"/>
              </a:spcAf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1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5442480" y="1978200"/>
            <a:ext cx="1326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6201"/>
                </a:solidFill>
                <a:latin typeface="张海山草泥马体"/>
                <a:ea typeface="张海山草泥马体"/>
              </a:rPr>
              <a:t>0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文本框 13"/>
          <p:cNvSpPr/>
          <p:nvPr/>
        </p:nvSpPr>
        <p:spPr>
          <a:xfrm>
            <a:off x="4690440" y="3297240"/>
            <a:ext cx="1326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c000"/>
                </a:solidFill>
                <a:latin typeface="张海山草泥马体"/>
                <a:ea typeface="张海山草泥马体"/>
              </a:rPr>
              <a:t>0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文本框 14"/>
          <p:cNvSpPr/>
          <p:nvPr/>
        </p:nvSpPr>
        <p:spPr>
          <a:xfrm>
            <a:off x="5362920" y="4677120"/>
            <a:ext cx="1326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c000"/>
                </a:solidFill>
                <a:latin typeface="张海山草泥马体"/>
                <a:ea typeface="张海山草泥马体"/>
              </a:rPr>
              <a:t>0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文本框 15"/>
          <p:cNvSpPr/>
          <p:nvPr/>
        </p:nvSpPr>
        <p:spPr>
          <a:xfrm>
            <a:off x="7092000" y="1657080"/>
            <a:ext cx="269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矩形 16"/>
          <p:cNvSpPr/>
          <p:nvPr/>
        </p:nvSpPr>
        <p:spPr>
          <a:xfrm>
            <a:off x="7092000" y="2081520"/>
            <a:ext cx="3364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文本框 17"/>
          <p:cNvSpPr/>
          <p:nvPr/>
        </p:nvSpPr>
        <p:spPr>
          <a:xfrm>
            <a:off x="7092000" y="4252680"/>
            <a:ext cx="269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矩形 18"/>
          <p:cNvSpPr/>
          <p:nvPr/>
        </p:nvSpPr>
        <p:spPr>
          <a:xfrm>
            <a:off x="7092000" y="4677120"/>
            <a:ext cx="3364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文本框 19"/>
          <p:cNvSpPr/>
          <p:nvPr/>
        </p:nvSpPr>
        <p:spPr>
          <a:xfrm>
            <a:off x="912240" y="2872800"/>
            <a:ext cx="26985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张海山草泥马体"/>
                <a:ea typeface="张海山草泥马体"/>
              </a:rPr>
              <a:t>点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矩形 20"/>
          <p:cNvSpPr/>
          <p:nvPr/>
        </p:nvSpPr>
        <p:spPr>
          <a:xfrm>
            <a:off x="912240" y="3297240"/>
            <a:ext cx="33645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51" strike="noStrike">
                <a:solidFill>
                  <a:srgbClr val="d9d9d9"/>
                </a:solidFill>
                <a:latin typeface="微软雅黑"/>
                <a:ea typeface="微软雅黑"/>
              </a:rPr>
              <a:t>演界网，中国首家演示设计交易平台。基于演示设计的一站式在线演示、素材销售、服务交易系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26"/>
          <p:cNvSpPr/>
          <p:nvPr/>
        </p:nvSpPr>
        <p:spPr>
          <a:xfrm>
            <a:off x="7500960" y="895680"/>
            <a:ext cx="1900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31"/>
          <p:cNvSpPr/>
          <p:nvPr/>
        </p:nvSpPr>
        <p:spPr>
          <a:xfrm>
            <a:off x="1445400" y="213156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32"/>
          <p:cNvSpPr/>
          <p:nvPr/>
        </p:nvSpPr>
        <p:spPr>
          <a:xfrm>
            <a:off x="7403040" y="355248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图片 24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26"/>
          <p:cNvSpPr/>
          <p:nvPr/>
        </p:nvSpPr>
        <p:spPr>
          <a:xfrm>
            <a:off x="2068200" y="1611000"/>
            <a:ext cx="1900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1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5105520" y="161100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2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32"/>
          <p:cNvSpPr/>
          <p:nvPr/>
        </p:nvSpPr>
        <p:spPr>
          <a:xfrm>
            <a:off x="8275680" y="1611000"/>
            <a:ext cx="191196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500" spc="-1" strike="noStrike">
                <a:solidFill>
                  <a:srgbClr val="44a4bc">
                    <a:alpha val="18000"/>
                  </a:srgbClr>
                </a:solidFill>
                <a:latin typeface="微软雅黑"/>
                <a:ea typeface="微软雅黑"/>
              </a:rPr>
              <a:t>03</a:t>
            </a:r>
            <a:endParaRPr b="0" lang="en-US" sz="1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矩形 13"/>
          <p:cNvSpPr/>
          <p:nvPr/>
        </p:nvSpPr>
        <p:spPr>
          <a:xfrm>
            <a:off x="444960" y="428760"/>
            <a:ext cx="53596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44a4bc"/>
                </a:solidFill>
                <a:latin typeface="微软雅黑"/>
                <a:ea typeface="微软雅黑"/>
              </a:rPr>
              <a:t>演界网，中国首家演示设计交易平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组合 24"/>
          <p:cNvGrpSpPr/>
          <p:nvPr/>
        </p:nvGrpSpPr>
        <p:grpSpPr>
          <a:xfrm>
            <a:off x="1700280" y="2783160"/>
            <a:ext cx="2646720" cy="3176280"/>
            <a:chOff x="1700280" y="2783160"/>
            <a:chExt cx="2646720" cy="3176280"/>
          </a:xfrm>
        </p:grpSpPr>
        <p:sp>
          <p:nvSpPr>
            <p:cNvPr id="229" name="任意多边形 5"/>
            <p:cNvSpPr/>
            <p:nvPr/>
          </p:nvSpPr>
          <p:spPr>
            <a:xfrm rot="16200000">
              <a:off x="1435320" y="3047760"/>
              <a:ext cx="3176280" cy="2646720"/>
            </a:xfrm>
            <a:custGeom>
              <a:avLst/>
              <a:gdLst>
                <a:gd name="textAreaLeft" fmla="*/ 0 w 3176280"/>
                <a:gd name="textAreaRight" fmla="*/ 3176640 w 3176280"/>
                <a:gd name="textAreaTop" fmla="*/ 0 h 2646720"/>
                <a:gd name="textAreaBottom" fmla="*/ 2647080 h 2646720"/>
              </a:gdLst>
              <a:ahLst/>
              <a:rect l="textAreaLeft" t="textAreaTop" r="textAreaRight" b="textAreaBottom"/>
              <a:pathLst>
                <a:path w="2647156" h="3176587">
                  <a:moveTo>
                    <a:pt x="2536857" y="1"/>
                  </a:moveTo>
                  <a:cubicBezTo>
                    <a:pt x="2597773" y="1"/>
                    <a:pt x="2647156" y="71111"/>
                    <a:pt x="2647156" y="158830"/>
                  </a:cubicBezTo>
                  <a:lnTo>
                    <a:pt x="2647156" y="3017757"/>
                  </a:lnTo>
                  <a:cubicBezTo>
                    <a:pt x="2647156" y="3105476"/>
                    <a:pt x="2597773" y="3176586"/>
                    <a:pt x="2536857" y="3176586"/>
                  </a:cubicBezTo>
                  <a:lnTo>
                    <a:pt x="110299" y="3176586"/>
                  </a:lnTo>
                  <a:cubicBezTo>
                    <a:pt x="49383" y="3176586"/>
                    <a:pt x="0" y="3105476"/>
                    <a:pt x="0" y="3017757"/>
                  </a:cubicBezTo>
                  <a:lnTo>
                    <a:pt x="0" y="158830"/>
                  </a:lnTo>
                  <a:cubicBezTo>
                    <a:pt x="0" y="71111"/>
                    <a:pt x="49383" y="1"/>
                    <a:pt x="110299" y="1"/>
                  </a:cubicBezTo>
                  <a:lnTo>
                    <a:pt x="2536857" y="1"/>
                  </a:lnTo>
                  <a:close/>
                </a:path>
              </a:pathLst>
            </a:custGeom>
            <a:solidFill>
              <a:srgbClr val="ff6201"/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571680" rIns="124560" tIns="96120" bIns="2117880" anchor="t">
              <a:noAutofit/>
            </a:bodyPr>
            <a:p>
              <a:pPr algn="r">
                <a:lnSpc>
                  <a:spcPct val="90000"/>
                </a:lnSpc>
                <a:spcAft>
                  <a:spcPts val="981"/>
                </a:spcAft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任意多边形 6"/>
            <p:cNvSpPr/>
            <p:nvPr/>
          </p:nvSpPr>
          <p:spPr>
            <a:xfrm>
              <a:off x="2229840" y="2783160"/>
              <a:ext cx="1971720" cy="3176280"/>
            </a:xfrm>
            <a:custGeom>
              <a:avLst/>
              <a:gdLst>
                <a:gd name="textAreaLeft" fmla="*/ 0 w 1971720"/>
                <a:gd name="textAreaRight" fmla="*/ 1972080 w 1971720"/>
                <a:gd name="textAreaTop" fmla="*/ 0 h 3176280"/>
                <a:gd name="textAreaBottom" fmla="*/ 3176640 h 3176280"/>
              </a:gdLst>
              <a:ahLst/>
              <a:rect l="textAreaLeft" t="textAreaTop" r="textAreaRight" b="textAreaBottom"/>
              <a:pathLst>
                <a:path w="1972131" h="3176587">
                  <a:moveTo>
                    <a:pt x="0" y="0"/>
                  </a:moveTo>
                  <a:lnTo>
                    <a:pt x="1972131" y="0"/>
                  </a:lnTo>
                  <a:lnTo>
                    <a:pt x="1972131" y="3176587"/>
                  </a:lnTo>
                  <a:lnTo>
                    <a:pt x="0" y="3176587"/>
                  </a:lnTo>
                  <a:lnTo>
                    <a:pt x="0" y="0"/>
                  </a:lnTo>
                  <a:close/>
                </a:path>
              </a:pathLst>
            </a:custGeom>
            <a:noFill/>
            <a:ln>
              <a:noFill/>
            </a:ln>
          </p:spPr>
          <p:style>
            <a:lnRef idx="2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0" tIns="222840" bIns="0" anchor="t">
              <a:noAutofit/>
            </a:bodyPr>
            <a:p>
              <a:pPr>
                <a:lnSpc>
                  <a:spcPct val="90000"/>
                </a:lnSpc>
                <a:spcAft>
                  <a:spcPts val="2276"/>
                </a:spcAft>
              </a:pPr>
              <a:endParaRPr b="0" lang="en-US" sz="65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文本框 14"/>
            <p:cNvSpPr/>
            <p:nvPr/>
          </p:nvSpPr>
          <p:spPr>
            <a:xfrm>
              <a:off x="1866240" y="3048480"/>
              <a:ext cx="23353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张海山草泥马体"/>
                  <a:ea typeface="张海山草泥马体"/>
                </a:rPr>
                <a:t>点击添加标题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矩形 15"/>
            <p:cNvSpPr/>
            <p:nvPr/>
          </p:nvSpPr>
          <p:spPr>
            <a:xfrm>
              <a:off x="1911960" y="3861720"/>
              <a:ext cx="2271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800" spc="-15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演界网，中国首家演示设计交易平台。基于演示设计的一站式在线演示、素材销售、服务交易系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3" name="直接连接符 17"/>
            <p:cNvCxnSpPr/>
            <p:nvPr/>
          </p:nvCxnSpPr>
          <p:spPr>
            <a:xfrm>
              <a:off x="1855800" y="3671280"/>
              <a:ext cx="233604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34" name="组合 26"/>
          <p:cNvGrpSpPr/>
          <p:nvPr/>
        </p:nvGrpSpPr>
        <p:grpSpPr>
          <a:xfrm>
            <a:off x="4798440" y="2783160"/>
            <a:ext cx="2646720" cy="3176280"/>
            <a:chOff x="4798440" y="2783160"/>
            <a:chExt cx="2646720" cy="3176280"/>
          </a:xfrm>
        </p:grpSpPr>
        <p:sp>
          <p:nvSpPr>
            <p:cNvPr id="235" name="任意多边形 7"/>
            <p:cNvSpPr/>
            <p:nvPr/>
          </p:nvSpPr>
          <p:spPr>
            <a:xfrm rot="16200000">
              <a:off x="4533480" y="3047760"/>
              <a:ext cx="3176280" cy="2646720"/>
            </a:xfrm>
            <a:custGeom>
              <a:avLst/>
              <a:gdLst>
                <a:gd name="textAreaLeft" fmla="*/ 0 w 3176280"/>
                <a:gd name="textAreaRight" fmla="*/ 3176640 w 3176280"/>
                <a:gd name="textAreaTop" fmla="*/ 0 h 2646720"/>
                <a:gd name="textAreaBottom" fmla="*/ 2647080 h 2646720"/>
              </a:gdLst>
              <a:ahLst/>
              <a:rect l="textAreaLeft" t="textAreaTop" r="textAreaRight" b="textAreaBottom"/>
              <a:pathLst>
                <a:path w="2647156" h="3176587">
                  <a:moveTo>
                    <a:pt x="2536857" y="1"/>
                  </a:moveTo>
                  <a:cubicBezTo>
                    <a:pt x="2597773" y="1"/>
                    <a:pt x="2647156" y="71111"/>
                    <a:pt x="2647156" y="158830"/>
                  </a:cubicBezTo>
                  <a:lnTo>
                    <a:pt x="2647156" y="3017757"/>
                  </a:lnTo>
                  <a:cubicBezTo>
                    <a:pt x="2647156" y="3105476"/>
                    <a:pt x="2597773" y="3176586"/>
                    <a:pt x="2536857" y="3176586"/>
                  </a:cubicBezTo>
                  <a:lnTo>
                    <a:pt x="110299" y="3176586"/>
                  </a:lnTo>
                  <a:cubicBezTo>
                    <a:pt x="49383" y="3176586"/>
                    <a:pt x="0" y="3105476"/>
                    <a:pt x="0" y="3017757"/>
                  </a:cubicBezTo>
                  <a:lnTo>
                    <a:pt x="0" y="158830"/>
                  </a:lnTo>
                  <a:cubicBezTo>
                    <a:pt x="0" y="71111"/>
                    <a:pt x="49383" y="1"/>
                    <a:pt x="110299" y="1"/>
                  </a:cubicBezTo>
                  <a:lnTo>
                    <a:pt x="2536857" y="1"/>
                  </a:lnTo>
                  <a:close/>
                </a:path>
              </a:pathLst>
            </a:custGeom>
            <a:solidFill>
              <a:srgbClr val="ffc000"/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571680" rIns="124560" tIns="96120" bIns="2117880" anchor="t">
              <a:noAutofit/>
            </a:bodyPr>
            <a:p>
              <a:pPr algn="r">
                <a:lnSpc>
                  <a:spcPct val="90000"/>
                </a:lnSpc>
                <a:spcAft>
                  <a:spcPts val="981"/>
                </a:spcAft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任意多边形 9"/>
            <p:cNvSpPr/>
            <p:nvPr/>
          </p:nvSpPr>
          <p:spPr>
            <a:xfrm>
              <a:off x="5327640" y="2783160"/>
              <a:ext cx="1971720" cy="3176280"/>
            </a:xfrm>
            <a:custGeom>
              <a:avLst/>
              <a:gdLst>
                <a:gd name="textAreaLeft" fmla="*/ 0 w 1971720"/>
                <a:gd name="textAreaRight" fmla="*/ 1972080 w 1971720"/>
                <a:gd name="textAreaTop" fmla="*/ 0 h 3176280"/>
                <a:gd name="textAreaBottom" fmla="*/ 3176640 h 3176280"/>
              </a:gdLst>
              <a:ahLst/>
              <a:rect l="textAreaLeft" t="textAreaTop" r="textAreaRight" b="textAreaBottom"/>
              <a:pathLst>
                <a:path w="1972131" h="3176587">
                  <a:moveTo>
                    <a:pt x="0" y="0"/>
                  </a:moveTo>
                  <a:lnTo>
                    <a:pt x="1972131" y="0"/>
                  </a:lnTo>
                  <a:lnTo>
                    <a:pt x="1972131" y="3176587"/>
                  </a:lnTo>
                  <a:lnTo>
                    <a:pt x="0" y="3176587"/>
                  </a:lnTo>
                  <a:lnTo>
                    <a:pt x="0" y="0"/>
                  </a:lnTo>
                  <a:close/>
                </a:path>
              </a:pathLst>
            </a:custGeom>
            <a:noFill/>
            <a:ln>
              <a:noFill/>
            </a:ln>
          </p:spPr>
          <p:style>
            <a:lnRef idx="2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0" tIns="222840" bIns="0" anchor="t">
              <a:noAutofit/>
            </a:bodyPr>
            <a:p>
              <a:pPr>
                <a:lnSpc>
                  <a:spcPct val="90000"/>
                </a:lnSpc>
                <a:spcAft>
                  <a:spcPts val="2276"/>
                </a:spcAft>
              </a:pPr>
              <a:endParaRPr b="0" lang="en-US" sz="65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文本框 18"/>
            <p:cNvSpPr/>
            <p:nvPr/>
          </p:nvSpPr>
          <p:spPr>
            <a:xfrm>
              <a:off x="4964400" y="3048480"/>
              <a:ext cx="23353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张海山草泥马体"/>
                  <a:ea typeface="张海山草泥马体"/>
                </a:rPr>
                <a:t>点击添加标题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矩形 19"/>
            <p:cNvSpPr/>
            <p:nvPr/>
          </p:nvSpPr>
          <p:spPr>
            <a:xfrm>
              <a:off x="5010120" y="3861720"/>
              <a:ext cx="2271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800" spc="-15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演界网，中国首家演示设计交易平台。基于演示设计的一站式在线演示、素材销售、服务交易系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9" name="直接连接符 20"/>
            <p:cNvCxnSpPr/>
            <p:nvPr/>
          </p:nvCxnSpPr>
          <p:spPr>
            <a:xfrm>
              <a:off x="4953960" y="3671280"/>
              <a:ext cx="233568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240" name="组合 25"/>
          <p:cNvGrpSpPr/>
          <p:nvPr/>
        </p:nvGrpSpPr>
        <p:grpSpPr>
          <a:xfrm>
            <a:off x="7896240" y="2783160"/>
            <a:ext cx="2646720" cy="3176280"/>
            <a:chOff x="7896240" y="2783160"/>
            <a:chExt cx="2646720" cy="3176280"/>
          </a:xfrm>
        </p:grpSpPr>
        <p:sp>
          <p:nvSpPr>
            <p:cNvPr id="241" name="任意多边形 10"/>
            <p:cNvSpPr/>
            <p:nvPr/>
          </p:nvSpPr>
          <p:spPr>
            <a:xfrm rot="16200000">
              <a:off x="7631280" y="3047760"/>
              <a:ext cx="3176280" cy="2646720"/>
            </a:xfrm>
            <a:custGeom>
              <a:avLst/>
              <a:gdLst>
                <a:gd name="textAreaLeft" fmla="*/ 0 w 3176280"/>
                <a:gd name="textAreaRight" fmla="*/ 3176640 w 3176280"/>
                <a:gd name="textAreaTop" fmla="*/ 0 h 2646720"/>
                <a:gd name="textAreaBottom" fmla="*/ 2647080 h 2646720"/>
              </a:gdLst>
              <a:ahLst/>
              <a:rect l="textAreaLeft" t="textAreaTop" r="textAreaRight" b="textAreaBottom"/>
              <a:pathLst>
                <a:path w="2647156" h="3176587">
                  <a:moveTo>
                    <a:pt x="2536857" y="1"/>
                  </a:moveTo>
                  <a:cubicBezTo>
                    <a:pt x="2597773" y="1"/>
                    <a:pt x="2647156" y="71111"/>
                    <a:pt x="2647156" y="158830"/>
                  </a:cubicBezTo>
                  <a:lnTo>
                    <a:pt x="2647156" y="3017757"/>
                  </a:lnTo>
                  <a:cubicBezTo>
                    <a:pt x="2647156" y="3105476"/>
                    <a:pt x="2597773" y="3176586"/>
                    <a:pt x="2536857" y="3176586"/>
                  </a:cubicBezTo>
                  <a:lnTo>
                    <a:pt x="110299" y="3176586"/>
                  </a:lnTo>
                  <a:cubicBezTo>
                    <a:pt x="49383" y="3176586"/>
                    <a:pt x="0" y="3105476"/>
                    <a:pt x="0" y="3017757"/>
                  </a:cubicBezTo>
                  <a:lnTo>
                    <a:pt x="0" y="158830"/>
                  </a:lnTo>
                  <a:cubicBezTo>
                    <a:pt x="0" y="71111"/>
                    <a:pt x="49383" y="1"/>
                    <a:pt x="110299" y="1"/>
                  </a:cubicBezTo>
                  <a:lnTo>
                    <a:pt x="2536857" y="1"/>
                  </a:lnTo>
                  <a:close/>
                </a:path>
              </a:pathLst>
            </a:custGeom>
            <a:solidFill>
              <a:srgbClr val="a0dc00"/>
            </a:solidFill>
            <a:ln>
              <a:noFill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571680" rIns="124560" tIns="96120" bIns="2117880" anchor="t">
              <a:noAutofit/>
            </a:bodyPr>
            <a:p>
              <a:pPr algn="r">
                <a:lnSpc>
                  <a:spcPct val="90000"/>
                </a:lnSpc>
                <a:spcAft>
                  <a:spcPts val="981"/>
                </a:spcAft>
              </a:pPr>
              <a:endParaRPr b="0" lang="en-US" sz="2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任意多边形 12"/>
            <p:cNvSpPr/>
            <p:nvPr/>
          </p:nvSpPr>
          <p:spPr>
            <a:xfrm>
              <a:off x="8425800" y="2783160"/>
              <a:ext cx="1971720" cy="3176280"/>
            </a:xfrm>
            <a:custGeom>
              <a:avLst/>
              <a:gdLst>
                <a:gd name="textAreaLeft" fmla="*/ 0 w 1971720"/>
                <a:gd name="textAreaRight" fmla="*/ 1972080 w 1971720"/>
                <a:gd name="textAreaTop" fmla="*/ 0 h 3176280"/>
                <a:gd name="textAreaBottom" fmla="*/ 3176640 h 3176280"/>
              </a:gdLst>
              <a:ahLst/>
              <a:rect l="textAreaLeft" t="textAreaTop" r="textAreaRight" b="textAreaBottom"/>
              <a:pathLst>
                <a:path w="1972131" h="3176587">
                  <a:moveTo>
                    <a:pt x="0" y="0"/>
                  </a:moveTo>
                  <a:lnTo>
                    <a:pt x="1972131" y="0"/>
                  </a:lnTo>
                  <a:lnTo>
                    <a:pt x="1972131" y="3176587"/>
                  </a:lnTo>
                  <a:lnTo>
                    <a:pt x="0" y="3176587"/>
                  </a:lnTo>
                  <a:lnTo>
                    <a:pt x="0" y="0"/>
                  </a:lnTo>
                  <a:close/>
                </a:path>
              </a:pathLst>
            </a:custGeom>
            <a:noFill/>
            <a:ln>
              <a:noFill/>
            </a:ln>
          </p:spPr>
          <p:style>
            <a:lnRef idx="2"/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0" tIns="222840" bIns="0" anchor="t">
              <a:noAutofit/>
            </a:bodyPr>
            <a:p>
              <a:pPr>
                <a:lnSpc>
                  <a:spcPct val="90000"/>
                </a:lnSpc>
                <a:spcAft>
                  <a:spcPts val="2276"/>
                </a:spcAft>
              </a:pPr>
              <a:endParaRPr b="0" lang="en-US" sz="65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文本框 21"/>
            <p:cNvSpPr/>
            <p:nvPr/>
          </p:nvSpPr>
          <p:spPr>
            <a:xfrm>
              <a:off x="8064000" y="3048480"/>
              <a:ext cx="233532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ffffff"/>
                  </a:solidFill>
                  <a:latin typeface="张海山草泥马体"/>
                  <a:ea typeface="张海山草泥马体"/>
                </a:rPr>
                <a:t>点击添加标题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矩形 22"/>
            <p:cNvSpPr/>
            <p:nvPr/>
          </p:nvSpPr>
          <p:spPr>
            <a:xfrm>
              <a:off x="8109720" y="3861720"/>
              <a:ext cx="2271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800" spc="-15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演界网，中国首家演示设计交易平台。基于演示设计的一站式在线演示、素材销售、服务交易系统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45" name="直接连接符 23"/>
            <p:cNvCxnSpPr/>
            <p:nvPr/>
          </p:nvCxnSpPr>
          <p:spPr>
            <a:xfrm>
              <a:off x="8053560" y="3671280"/>
              <a:ext cx="2336040" cy="3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246" name="流程图: 摘录 8"/>
          <p:cNvSpPr/>
          <p:nvPr/>
        </p:nvSpPr>
        <p:spPr>
          <a:xfrm rot="5400000">
            <a:off x="4176000" y="5067360"/>
            <a:ext cx="816120" cy="694080"/>
          </a:xfrm>
          <a:prstGeom prst="flowChartExtra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流程图: 摘录 11"/>
          <p:cNvSpPr/>
          <p:nvPr/>
        </p:nvSpPr>
        <p:spPr>
          <a:xfrm rot="5400000">
            <a:off x="7239240" y="5067360"/>
            <a:ext cx="816120" cy="694080"/>
          </a:xfrm>
          <a:prstGeom prst="flowChartExtra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图片 30" descr=""/>
          <p:cNvPicPr/>
          <p:nvPr/>
        </p:nvPicPr>
        <p:blipFill>
          <a:blip r:embed="rId1"/>
          <a:stretch/>
        </p:blipFill>
        <p:spPr>
          <a:xfrm>
            <a:off x="9620280" y="378000"/>
            <a:ext cx="205704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  <Words>1141</Words>
  <Paragraphs>13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3:21:38Z</dcterms:created>
  <dc:creator>一抹小k</dc:creator>
  <dc:description/>
  <cp:keywords>仅供学习参考使用</cp:keywords>
  <dc:language>en-US</dc:language>
  <cp:lastModifiedBy>yu wang</cp:lastModifiedBy>
  <dcterms:modified xsi:type="dcterms:W3CDTF">2015-08-14T12:53:02Z</dcterms:modified>
  <cp:revision>68</cp:revision>
  <dc:subject/>
  <dc:title>免费赠送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宽屏</vt:lpwstr>
  </property>
  <property fmtid="{D5CDD505-2E9C-101B-9397-08002B2CF9AE}" pid="4" name="Slides">
    <vt:r8>13</vt:r8>
  </property>
</Properties>
</file>