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3.png" ContentType="image/png"/>
  <Override PartName="/ppt/media/image8.png" ContentType="image/png"/>
  <Override PartName="/ppt/media/image19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4.png" ContentType="image/png"/>
  <Override PartName="/ppt/media/image5.png" ContentType="image/png"/>
  <Override PartName="/ppt/media/image3.jpeg" ContentType="image/jpeg"/>
  <Override PartName="/ppt/media/image15.png" ContentType="image/png"/>
  <Override PartName="/ppt/media/image10.png" ContentType="image/png"/>
  <Override PartName="/ppt/media/image6.jpeg" ContentType="image/jpeg"/>
  <Override PartName="/ppt/embeddings/oleObject1.xls" ContentType="application/vnd.ms-exce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12192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doughnutChart>
        <c:varyColors val="1"/>
        <c:ser>
          <c:idx val="0"/>
          <c:order val="0"/>
          <c:spPr>
            <a:solidFill>
              <a:srgbClr val="01b0f1"/>
            </a:solidFill>
            <a:ln w="0">
              <a:noFill/>
            </a:ln>
          </c:spPr>
          <c:explosion val="0"/>
          <c:dPt>
            <c:idx val="0"/>
            <c:spPr>
              <a:solidFill>
                <a:srgbClr val="01b0f1"/>
              </a:solidFill>
              <a:ln w="22320">
                <a:solidFill>
                  <a:srgbClr val="ffffff"/>
                </a:solidFill>
                <a:round/>
              </a:ln>
            </c:spPr>
          </c:dPt>
          <c:dPt>
            <c:idx val="1"/>
            <c:spPr>
              <a:solidFill>
                <a:srgbClr val="01b0f1"/>
              </a:solidFill>
              <a:ln w="22320">
                <a:solidFill>
                  <a:srgbClr val="ffffff"/>
                </a:solidFill>
                <a:round/>
              </a:ln>
            </c:spPr>
          </c:dPt>
          <c:dPt>
            <c:idx val="2"/>
            <c:spPr>
              <a:solidFill>
                <a:srgbClr val="01b0f1"/>
              </a:solidFill>
              <a:ln w="22320">
                <a:solidFill>
                  <a:srgbClr val="ffffff"/>
                </a:solidFill>
                <a:round/>
              </a:ln>
            </c:spPr>
          </c:dPt>
          <c:dPt>
            <c:idx val="3"/>
            <c:spPr>
              <a:solidFill>
                <a:srgbClr val="01b0f1"/>
              </a:solidFill>
              <a:ln w="22320">
                <a:solidFill>
                  <a:srgbClr val="ffffff"/>
                </a:solidFill>
                <a:round/>
              </a:ln>
            </c:spPr>
          </c:dPt>
          <c:dLbls>
            <c:dLbl>
              <c:idx val="0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1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2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3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; </c:separator>
            </c:dLbl>
            <c:txPr>
              <a:bodyPr wrap="squar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; </c:separator>
            <c:showLeaderLines val="1"/>
          </c:dLbls>
          <c:cat>
            <c:strRef>
              <c:f>categories</c:f>
              <c:strCache>
                <c:ptCount val="4"/>
                <c:pt idx="0">
                  <c:v>1</c:v>
                </c:pt>
                <c:pt idx="1">
                  <c:v>2</c:v>
                </c:pt>
                <c:pt idx="2">
                  <c:v>3</c:v>
                </c:pt>
                <c:pt idx="3">
                  <c:v>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8.2</c:v>
                </c:pt>
                <c:pt idx="1">
                  <c:v>3.2</c:v>
                </c:pt>
                <c:pt idx="2">
                  <c:v>1.4</c:v>
                </c:pt>
                <c:pt idx="3">
                  <c:v>1.2</c:v>
                </c:pt>
              </c:numCache>
            </c:numRef>
          </c:val>
        </c:ser>
        <c:firstSliceAng val="0"/>
        <c:holeSize val="50"/>
      </c:doughnutChart>
      <c:spPr>
        <a:noFill/>
        <a:ln w="29880">
          <a:noFill/>
        </a:ln>
      </c:spPr>
    </c:plotArea>
    <c:plotVisOnly val="1"/>
    <c:dispBlanksAs val="gap"/>
  </c:chart>
  <c:spPr>
    <a:noFill/>
    <a:ln w="0">
      <a:noFill/>
    </a:ln>
  </c:spPr>
</c:chartSpace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dt" idx="7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8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9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44E82F4-9947-47DF-93E0-65A522AB7A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sldNum" idx="10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68723D6-4516-4084-A0E5-DF49A07A4CEB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531960-DCC9-4D3C-8DE1-75D7BF6E1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167845-0963-47DB-AD5E-7313D5BAB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FF6207-174E-4F6B-AB3F-D0FC2378C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22720E-BEB5-4EA9-8F8E-2C79A6D03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97D19-86AE-443C-AF0A-E0297F99F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57A1A-8792-4DCE-8C85-0664C3F37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6ADF3-604D-4162-8B56-3E28EE13D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CD46A-4712-49D6-AA5D-BC0A0B0C0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23040-A98E-4ED0-BA18-1CD77CECC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24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3DF80-7FD3-4A36-BF06-F55057095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A8467-65BF-451A-8A2C-4037A2433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885914-6CDF-495A-A3E9-05F1810A1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AB435-6971-4CE9-9653-EAC46A2F1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3A32A-78E5-4BAA-BFED-A1882E911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696AD-B3E2-42C8-8781-02CBB820F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1BBB2-C808-41B0-9039-7B17AB54D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11955-7A44-47BA-869C-2E2F9922E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5076D8-96E9-4E19-B8FF-06A058A6F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D39E88-22B7-4BE5-B27D-0DE23299C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CDF0F2-1327-42FB-AF77-C2EAD4210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24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495F2E-72F7-490C-90F0-0CA4138E4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A21597-6B86-4A89-88B0-1617DB3D5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9ECC91-0DBE-412D-ACFF-FF24D5481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F63603-4BFC-4B24-8183-C1D31D47E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9037800" y="63817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2400" spc="-1" strike="noStrike">
                <a:solidFill>
                  <a:srgbClr val="01b0f1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A933F7D-5232-4904-94CA-1D4A319AB58E}" type="slidenum">
              <a:rPr b="0" lang="en-US" sz="2400" spc="-1" strike="noStrike">
                <a:solidFill>
                  <a:srgbClr val="01b0f1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2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3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 Light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单击此处编辑母版文本样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第二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三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第四级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第五级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9037800" y="640548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2400" spc="-1" strike="noStrike">
                <a:solidFill>
                  <a:srgbClr val="01b0f1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DC586AF-C1CF-4279-A7F4-094642A5B1F9}" type="slidenum">
              <a:rPr b="0" lang="en-US" sz="2400" spc="-1" strike="noStrike">
                <a:solidFill>
                  <a:srgbClr val="01b0f1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oleObject" Target="../embeddings/oleObject1.xls"/><Relationship Id="rId3" Type="http://schemas.openxmlformats.org/officeDocument/2006/relationships/image" Target="../media/image19.png"/><Relationship Id="rId4" Type="http://schemas.openxmlformats.org/officeDocument/2006/relationships/hyperlink" Target="http://www.eeppt.com/moban/" TargetMode="Externa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hyperlink" Target="http://www.eeppt.com/moban/huiyi/" TargetMode="External"/><Relationship Id="rId20" Type="http://schemas.openxmlformats.org/officeDocument/2006/relationships/hyperlink" Target="http://www.eeppt.com/moban/jiaoyu/" TargetMode="External"/><Relationship Id="rId21" Type="http://schemas.openxmlformats.org/officeDocument/2006/relationships/hyperlink" Target="http://www.eeppt.com/moban/keji/" TargetMode="External"/><Relationship Id="rId22" Type="http://schemas.openxmlformats.org/officeDocument/2006/relationships/hyperlink" Target="http://www.eeppt.com/moban/lunwen/" TargetMode="External"/><Relationship Id="rId23" Type="http://schemas.openxmlformats.org/officeDocument/2006/relationships/hyperlink" Target="http://www.eeppt.com/moban/tongyong/" TargetMode="External"/><Relationship Id="rId24" Type="http://schemas.openxmlformats.org/officeDocument/2006/relationships/hyperlink" Target="http://www.eeppt.com/moban/yiliao/" TargetMode="External"/><Relationship Id="rId2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xls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矩形 1"/>
          <p:cNvSpPr/>
          <p:nvPr/>
        </p:nvSpPr>
        <p:spPr>
          <a:xfrm>
            <a:off x="0" y="0"/>
            <a:ext cx="12191760" cy="4536720"/>
          </a:xfrm>
          <a:prstGeom prst="rect">
            <a:avLst/>
          </a:prstGeom>
          <a:solidFill>
            <a:srgbClr val="01b0f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89" name="文本框 3"/>
          <p:cNvSpPr/>
          <p:nvPr/>
        </p:nvSpPr>
        <p:spPr>
          <a:xfrm>
            <a:off x="3638520" y="5605560"/>
            <a:ext cx="491472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1b0f1"/>
                </a:solidFill>
                <a:latin typeface="造字工房悦黑体验版纤细体"/>
                <a:ea typeface="造字工房悦黑体验版纤细体"/>
              </a:rPr>
              <a:t>Presenter</a:t>
            </a:r>
            <a:r>
              <a:rPr b="0" lang="en-US" sz="2400" spc="-1" strike="noStrike">
                <a:solidFill>
                  <a:srgbClr val="01b0f1"/>
                </a:solidFill>
                <a:latin typeface="造字工房悦黑体验版纤细体"/>
                <a:ea typeface="造字工房悦黑体验版纤细体"/>
              </a:rPr>
              <a:t>:  Jigs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2"/>
          <p:cNvSpPr/>
          <p:nvPr/>
        </p:nvSpPr>
        <p:spPr>
          <a:xfrm>
            <a:off x="4183200" y="1560600"/>
            <a:ext cx="485172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  <a:ea typeface="宋体"/>
              </a:rPr>
              <a:t>简洁精美企业年终总结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  <a:ea typeface="宋体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7" name="图表 4"/>
          <p:cNvGraphicFramePr/>
          <p:nvPr/>
        </p:nvGraphicFramePr>
        <p:xfrm>
          <a:off x="-466560" y="1904760"/>
          <a:ext cx="5693760" cy="397296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sp>
        <p:nvSpPr>
          <p:cNvPr id="258" name="文本框 5"/>
          <p:cNvSpPr/>
          <p:nvPr/>
        </p:nvSpPr>
        <p:spPr>
          <a:xfrm>
            <a:off x="2861280" y="4482000"/>
            <a:ext cx="11239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造字工房悦黑体验版纤细体"/>
                <a:ea typeface="造字工房悦黑体验版纤细体"/>
              </a:rPr>
              <a:t>1st  Qt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文本框 6"/>
          <p:cNvSpPr/>
          <p:nvPr/>
        </p:nvSpPr>
        <p:spPr>
          <a:xfrm>
            <a:off x="737280" y="3785760"/>
            <a:ext cx="8416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造字工房悦黑体验版纤细体"/>
                <a:ea typeface="造字工房悦黑体验版纤细体"/>
              </a:rPr>
              <a:t>2st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造字工房悦黑体验版纤细体"/>
                <a:ea typeface="造字工房悦黑体验版纤细体"/>
              </a:rPr>
              <a:t>Qt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文本框 7"/>
          <p:cNvSpPr/>
          <p:nvPr/>
        </p:nvSpPr>
        <p:spPr>
          <a:xfrm>
            <a:off x="1106280" y="2652120"/>
            <a:ext cx="11239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造字工房悦黑体验版纤细体"/>
                <a:ea typeface="造字工房悦黑体验版纤细体"/>
              </a:rPr>
              <a:t>3st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造字工房悦黑体验版纤细体"/>
                <a:ea typeface="造字工房悦黑体验版纤细体"/>
              </a:rPr>
              <a:t>Qt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文本框 8"/>
          <p:cNvSpPr/>
          <p:nvPr/>
        </p:nvSpPr>
        <p:spPr>
          <a:xfrm>
            <a:off x="1668240" y="2150640"/>
            <a:ext cx="7232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造字工房悦黑体验版纤细体"/>
                <a:ea typeface="造字工房悦黑体验版纤细体"/>
              </a:rPr>
              <a:t>4st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造字工房悦黑体验版纤细体"/>
                <a:ea typeface="造字工房悦黑体验版纤细体"/>
              </a:rPr>
              <a:t>Qt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2" name="组合 28"/>
          <p:cNvGrpSpPr/>
          <p:nvPr/>
        </p:nvGrpSpPr>
        <p:grpSpPr>
          <a:xfrm>
            <a:off x="4249800" y="2063880"/>
            <a:ext cx="8229240" cy="2474640"/>
            <a:chOff x="4249800" y="2063880"/>
            <a:chExt cx="8229240" cy="2474640"/>
          </a:xfrm>
        </p:grpSpPr>
        <p:graphicFrame>
          <p:nvGraphicFramePr>
            <p:cNvPr id="263" name="图表 14"/>
            <p:cNvGraphicFramePr/>
            <p:nvPr/>
          </p:nvGraphicFramePr>
          <p:xfrm>
            <a:off x="4249800" y="2063880"/>
            <a:ext cx="8229240" cy="2474640"/>
          </p:xfrm>
          <a:graphic>
            <a:graphicData uri="http://schemas.openxmlformats.org/presentationml/2006/ole">
              <p:oleObj progId="Excel.Chart.8" r:id="rId2" spid="">
                <p:embed/>
                <p:pic>
                  <p:nvPicPr>
                    <p:cNvPr id="264" name="图表 14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4249800" y="2063880"/>
                      <a:ext cx="8229240" cy="2474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65" name="文本框 15"/>
            <p:cNvSpPr/>
            <p:nvPr/>
          </p:nvSpPr>
          <p:spPr>
            <a:xfrm>
              <a:off x="5308560" y="2625120"/>
              <a:ext cx="58140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000000"/>
                  </a:solidFill>
                  <a:latin typeface="造字工房悦黑体验版纤细体"/>
                  <a:ea typeface="造字工房悦黑体验版纤细体"/>
                </a:rPr>
                <a:t>10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文本框 16"/>
            <p:cNvSpPr/>
            <p:nvPr/>
          </p:nvSpPr>
          <p:spPr>
            <a:xfrm>
              <a:off x="6229800" y="3145320"/>
              <a:ext cx="58140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000000"/>
                  </a:solidFill>
                  <a:latin typeface="造字工房悦黑体验版纤细体"/>
                  <a:ea typeface="造字工房悦黑体验版纤细体"/>
                </a:rPr>
                <a:t>10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文本框 17"/>
            <p:cNvSpPr/>
            <p:nvPr/>
          </p:nvSpPr>
          <p:spPr>
            <a:xfrm>
              <a:off x="7152840" y="3249360"/>
              <a:ext cx="58140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000000"/>
                  </a:solidFill>
                  <a:latin typeface="造字工房悦黑体验版纤细体"/>
                  <a:ea typeface="造字工房悦黑体验版纤细体"/>
                </a:rPr>
                <a:t>10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文本框 18"/>
            <p:cNvSpPr/>
            <p:nvPr/>
          </p:nvSpPr>
          <p:spPr>
            <a:xfrm>
              <a:off x="8070480" y="2181600"/>
              <a:ext cx="58140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000000"/>
                  </a:solidFill>
                  <a:latin typeface="造字工房悦黑体验版纤细体"/>
                  <a:ea typeface="造字工房悦黑体验版纤细体"/>
                </a:rPr>
                <a:t>10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文本框 19"/>
            <p:cNvSpPr/>
            <p:nvPr/>
          </p:nvSpPr>
          <p:spPr>
            <a:xfrm>
              <a:off x="8985960" y="2963160"/>
              <a:ext cx="58140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000000"/>
                  </a:solidFill>
                  <a:latin typeface="造字工房悦黑体验版纤细体"/>
                  <a:ea typeface="造字工房悦黑体验版纤细体"/>
                </a:rPr>
                <a:t>10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文本框 20"/>
            <p:cNvSpPr/>
            <p:nvPr/>
          </p:nvSpPr>
          <p:spPr>
            <a:xfrm>
              <a:off x="9938880" y="3247200"/>
              <a:ext cx="58140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000000"/>
                  </a:solidFill>
                  <a:latin typeface="造字工房悦黑体验版纤细体"/>
                  <a:ea typeface="造字工房悦黑体验版纤细体"/>
                </a:rPr>
                <a:t>10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文本框 21"/>
            <p:cNvSpPr/>
            <p:nvPr/>
          </p:nvSpPr>
          <p:spPr>
            <a:xfrm>
              <a:off x="10843560" y="2696400"/>
              <a:ext cx="58140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000000"/>
                  </a:solidFill>
                  <a:latin typeface="造字工房悦黑体验版纤细体"/>
                  <a:ea typeface="造字工房悦黑体验版纤细体"/>
                </a:rPr>
                <a:t>10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2" name="文本框 7"/>
          <p:cNvSpPr/>
          <p:nvPr/>
        </p:nvSpPr>
        <p:spPr>
          <a:xfrm>
            <a:off x="5126040" y="4851360"/>
            <a:ext cx="646380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I want to play a game. I want to play a game. I want to play a game. I want to play a game. I want to play a gam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文本框 2"/>
          <p:cNvSpPr/>
          <p:nvPr/>
        </p:nvSpPr>
        <p:spPr>
          <a:xfrm>
            <a:off x="3726720" y="555480"/>
            <a:ext cx="4738320" cy="14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1b0f1"/>
                </a:solidFill>
                <a:latin typeface="造字工房悦黑体验版纤细体"/>
                <a:ea typeface="造字工房悦黑体验版纤细体"/>
              </a:rPr>
              <a:t>Add Your Title he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文本框 1"/>
          <p:cNvSpPr/>
          <p:nvPr/>
        </p:nvSpPr>
        <p:spPr>
          <a:xfrm>
            <a:off x="5388120" y="4471920"/>
            <a:ext cx="4154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文本框 20"/>
          <p:cNvSpPr/>
          <p:nvPr/>
        </p:nvSpPr>
        <p:spPr>
          <a:xfrm>
            <a:off x="6297120" y="4471920"/>
            <a:ext cx="4154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文本框 21"/>
          <p:cNvSpPr/>
          <p:nvPr/>
        </p:nvSpPr>
        <p:spPr>
          <a:xfrm>
            <a:off x="7205760" y="4471920"/>
            <a:ext cx="4154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文本框 22"/>
          <p:cNvSpPr/>
          <p:nvPr/>
        </p:nvSpPr>
        <p:spPr>
          <a:xfrm>
            <a:off x="8114760" y="4471920"/>
            <a:ext cx="4154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文本框 23"/>
          <p:cNvSpPr/>
          <p:nvPr/>
        </p:nvSpPr>
        <p:spPr>
          <a:xfrm>
            <a:off x="9059040" y="4471920"/>
            <a:ext cx="4154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文本框 24"/>
          <p:cNvSpPr/>
          <p:nvPr/>
        </p:nvSpPr>
        <p:spPr>
          <a:xfrm>
            <a:off x="9979920" y="4471920"/>
            <a:ext cx="4154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文本框 25"/>
          <p:cNvSpPr/>
          <p:nvPr/>
        </p:nvSpPr>
        <p:spPr>
          <a:xfrm>
            <a:off x="10888560" y="4471920"/>
            <a:ext cx="4154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6"/>
          <p:cNvSpPr/>
          <p:nvPr/>
        </p:nvSpPr>
        <p:spPr>
          <a:xfrm>
            <a:off x="1669320" y="6523200"/>
            <a:ext cx="582732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模板打包下载</a:t>
            </a:r>
            <a:r>
              <a:rPr b="0" lang="en-US" sz="1600" spc="-1" strike="noStrike" u="sng">
                <a:solidFill>
                  <a:srgbClr val="0563c1"/>
                </a:solidFill>
                <a:uFillTx/>
                <a:latin typeface="Arial"/>
                <a:ea typeface="宋体"/>
                <a:hlinkClick r:id="rId4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125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b0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文本框 3"/>
          <p:cNvSpPr/>
          <p:nvPr/>
        </p:nvSpPr>
        <p:spPr>
          <a:xfrm>
            <a:off x="3792600" y="4168800"/>
            <a:ext cx="460656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ffffff"/>
                </a:solidFill>
                <a:latin typeface="造字工房悦黑体验版纤细体"/>
                <a:ea typeface="造字工房悦黑体验版纤细体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icture 5"/>
          <p:cNvSpPr/>
          <p:nvPr/>
        </p:nvSpPr>
        <p:spPr>
          <a:xfrm>
            <a:off x="5040360" y="1700640"/>
            <a:ext cx="2111040" cy="211104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992240" y="189000"/>
            <a:ext cx="8206920" cy="5742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 Light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631880" y="1270080"/>
            <a:ext cx="8927640" cy="52192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en-US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en-US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1" lang="en-US" sz="14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http://</a:t>
            </a:r>
            <a:r>
              <a:rPr b="1" lang="en-US" sz="14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www.eeppt.com/new.html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3"/>
              </a:rPr>
              <a:t>好看的ppt背景图片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4"/>
              </a:rPr>
              <a:t>动态ppt模板下载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US" sz="1200" spc="-1" strike="noStrike" u="sng">
                <a:solidFill>
                  <a:srgbClr val="0563c1"/>
                </a:solidFill>
                <a:uFillTx/>
                <a:latin typeface="Calibri"/>
                <a:hlinkClick r:id="rId5"/>
              </a:rPr>
              <a:t>ppt模板下载 免费完整版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en-US" sz="1200" spc="-1" strike="noStrike" u="sng">
                <a:solidFill>
                  <a:srgbClr val="0563c1"/>
                </a:solidFill>
                <a:uFillTx/>
                <a:latin typeface="Calibri"/>
                <a:hlinkClick r:id="rId6"/>
              </a:rPr>
              <a:t> 毕业设计ppt模板下载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7"/>
              </a:rPr>
              <a:t>答辩ppt模板下载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8"/>
              </a:rPr>
              <a:t>月总结ppt模板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9"/>
              </a:rPr>
              <a:t>精美ppt模板下载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10"/>
              </a:rPr>
              <a:t>说课ppt模板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11"/>
              </a:rPr>
              <a:t>企业介绍ppt模板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12"/>
              </a:rPr>
              <a:t>商务ppt模板下载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13"/>
              </a:rPr>
              <a:t>市场营销策划ppt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en-US" sz="1200" spc="-1" strike="noStrike" u="sng">
                <a:solidFill>
                  <a:srgbClr val="0563c1"/>
                </a:solidFill>
                <a:uFillTx/>
                <a:latin typeface="Calibri"/>
                <a:hlinkClick r:id="rId14"/>
              </a:rPr>
              <a:t>ppt素材图片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US" sz="1200" spc="-1" strike="noStrike" u="sng">
                <a:solidFill>
                  <a:srgbClr val="0563c1"/>
                </a:solidFill>
                <a:uFillTx/>
                <a:latin typeface="Calibri"/>
                <a:hlinkClick r:id="rId15"/>
              </a:rPr>
              <a:t>ppt图表下载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16"/>
              </a:rPr>
              <a:t>自然风景ppt模板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17"/>
              </a:rPr>
              <a:t>国外ppt模板下载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18"/>
              </a:rPr>
              <a:t>简洁ppt模板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19"/>
              </a:rPr>
              <a:t>公司会议ppt模板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20"/>
              </a:rPr>
              <a:t>教育教学ppt模板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21"/>
              </a:rPr>
              <a:t>网络科技ppt模板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22"/>
              </a:rPr>
              <a:t>论文答辩ppt模板免费下载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23"/>
              </a:rPr>
              <a:t>通用ppt模板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24"/>
              </a:rPr>
              <a:t>医疗卫生ppt模板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Rectangle 7"/>
          <p:cNvSpPr/>
          <p:nvPr/>
        </p:nvSpPr>
        <p:spPr>
          <a:xfrm>
            <a:off x="8810640" y="333360"/>
            <a:ext cx="1388880" cy="348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525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文本框 2"/>
          <p:cNvSpPr/>
          <p:nvPr/>
        </p:nvSpPr>
        <p:spPr>
          <a:xfrm>
            <a:off x="3610080" y="555480"/>
            <a:ext cx="4738320" cy="14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1b0f1"/>
                </a:solidFill>
                <a:latin typeface="造字工房悦黑体验版纤细体"/>
                <a:ea typeface="造字工房悦黑体验版纤细体"/>
              </a:rPr>
              <a:t>Add Your Title he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组合 1"/>
          <p:cNvGrpSpPr/>
          <p:nvPr/>
        </p:nvGrpSpPr>
        <p:grpSpPr>
          <a:xfrm>
            <a:off x="1169640" y="2363760"/>
            <a:ext cx="2927160" cy="3297240"/>
            <a:chOff x="1169640" y="2363760"/>
            <a:chExt cx="2927160" cy="3297240"/>
          </a:xfrm>
        </p:grpSpPr>
        <p:sp>
          <p:nvSpPr>
            <p:cNvPr id="94" name="椭圆 3"/>
            <p:cNvSpPr/>
            <p:nvPr/>
          </p:nvSpPr>
          <p:spPr>
            <a:xfrm>
              <a:off x="1805400" y="2363760"/>
              <a:ext cx="1655640" cy="1655640"/>
            </a:xfrm>
            <a:prstGeom prst="ellipse">
              <a:avLst/>
            </a:prstGeom>
            <a:noFill/>
            <a:ln w="19050">
              <a:solidFill>
                <a:srgbClr val="01b0f1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造字工房悦黑体验版纤细体"/>
                <a:ea typeface="造字工房悦黑体验版纤细体"/>
              </a:endParaRPr>
            </a:p>
          </p:txBody>
        </p:sp>
        <p:sp>
          <p:nvSpPr>
            <p:cNvPr id="95" name="椭圆 4"/>
            <p:cNvSpPr/>
            <p:nvPr/>
          </p:nvSpPr>
          <p:spPr>
            <a:xfrm>
              <a:off x="1912680" y="2471040"/>
              <a:ext cx="1441080" cy="144108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2000" spc="-1" strike="noStrike">
                <a:solidFill>
                  <a:schemeClr val="lt1"/>
                </a:solidFill>
                <a:latin typeface="造字工房悦黑体验版纤细体"/>
                <a:ea typeface="造字工房悦黑体验版纤细体"/>
              </a:endParaRPr>
            </a:p>
          </p:txBody>
        </p:sp>
        <p:sp>
          <p:nvSpPr>
            <p:cNvPr id="96" name="文本框 6"/>
            <p:cNvSpPr/>
            <p:nvPr/>
          </p:nvSpPr>
          <p:spPr>
            <a:xfrm>
              <a:off x="1659600" y="4278600"/>
              <a:ext cx="194724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000000"/>
                  </a:solidFill>
                  <a:latin typeface="造字工房悦黑体验版纤细体"/>
                  <a:ea typeface="造字工房悦黑体验版纤细体"/>
                </a:rPr>
                <a:t>TEXT He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文本框 7"/>
            <p:cNvSpPr/>
            <p:nvPr/>
          </p:nvSpPr>
          <p:spPr>
            <a:xfrm>
              <a:off x="1169640" y="4748400"/>
              <a:ext cx="2927160" cy="91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造字工房悦黑体验版纤细体"/>
                  <a:ea typeface="造字工房悦黑体验版纤细体"/>
                </a:rPr>
                <a:t>I want to play a game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造字工房悦黑体验版纤细体"/>
                  <a:ea typeface="造字工房悦黑体验版纤细体"/>
                </a:rPr>
                <a:t>Hello,I want to play a game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组合 27"/>
          <p:cNvGrpSpPr/>
          <p:nvPr/>
        </p:nvGrpSpPr>
        <p:grpSpPr>
          <a:xfrm>
            <a:off x="4634640" y="2363760"/>
            <a:ext cx="2927160" cy="3297240"/>
            <a:chOff x="4634640" y="2363760"/>
            <a:chExt cx="2927160" cy="3297240"/>
          </a:xfrm>
        </p:grpSpPr>
        <p:sp>
          <p:nvSpPr>
            <p:cNvPr id="99" name="椭圆 30"/>
            <p:cNvSpPr/>
            <p:nvPr/>
          </p:nvSpPr>
          <p:spPr>
            <a:xfrm>
              <a:off x="5270040" y="2363760"/>
              <a:ext cx="1655640" cy="1655640"/>
            </a:xfrm>
            <a:prstGeom prst="ellipse">
              <a:avLst/>
            </a:prstGeom>
            <a:noFill/>
            <a:ln w="19050">
              <a:solidFill>
                <a:srgbClr val="01b0f1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造字工房悦黑体验版纤细体"/>
                <a:ea typeface="造字工房悦黑体验版纤细体"/>
              </a:endParaRPr>
            </a:p>
          </p:txBody>
        </p:sp>
        <p:sp>
          <p:nvSpPr>
            <p:cNvPr id="100" name="椭圆 31"/>
            <p:cNvSpPr/>
            <p:nvPr/>
          </p:nvSpPr>
          <p:spPr>
            <a:xfrm>
              <a:off x="5377320" y="2471040"/>
              <a:ext cx="1441080" cy="144108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2000" spc="-1" strike="noStrike">
                <a:solidFill>
                  <a:schemeClr val="lt1"/>
                </a:solidFill>
                <a:latin typeface="造字工房悦黑体验版纤细体"/>
                <a:ea typeface="造字工房悦黑体验版纤细体"/>
              </a:endParaRPr>
            </a:p>
          </p:txBody>
        </p:sp>
        <p:sp>
          <p:nvSpPr>
            <p:cNvPr id="101" name="文本框 6"/>
            <p:cNvSpPr/>
            <p:nvPr/>
          </p:nvSpPr>
          <p:spPr>
            <a:xfrm>
              <a:off x="5124240" y="4278600"/>
              <a:ext cx="194724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000000"/>
                  </a:solidFill>
                  <a:latin typeface="造字工房悦黑体验版纤细体"/>
                  <a:ea typeface="造字工房悦黑体验版纤细体"/>
                </a:rPr>
                <a:t>TEXT He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文本框 7"/>
            <p:cNvSpPr/>
            <p:nvPr/>
          </p:nvSpPr>
          <p:spPr>
            <a:xfrm>
              <a:off x="4634640" y="4748400"/>
              <a:ext cx="2927160" cy="91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造字工房悦黑体验版纤细体"/>
                  <a:ea typeface="造字工房悦黑体验版纤细体"/>
                </a:rPr>
                <a:t>I want to play a game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造字工房悦黑体验版纤细体"/>
                  <a:ea typeface="造字工房悦黑体验版纤细体"/>
                </a:rPr>
                <a:t>Hello,I want to play a game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组合 36"/>
          <p:cNvGrpSpPr/>
          <p:nvPr/>
        </p:nvGrpSpPr>
        <p:grpSpPr>
          <a:xfrm>
            <a:off x="8099280" y="2363760"/>
            <a:ext cx="2927160" cy="3297240"/>
            <a:chOff x="8099280" y="2363760"/>
            <a:chExt cx="2927160" cy="3297240"/>
          </a:xfrm>
        </p:grpSpPr>
        <p:sp>
          <p:nvSpPr>
            <p:cNvPr id="104" name="椭圆 37"/>
            <p:cNvSpPr/>
            <p:nvPr/>
          </p:nvSpPr>
          <p:spPr>
            <a:xfrm>
              <a:off x="8735040" y="2363760"/>
              <a:ext cx="1655640" cy="1655640"/>
            </a:xfrm>
            <a:prstGeom prst="ellipse">
              <a:avLst/>
            </a:prstGeom>
            <a:noFill/>
            <a:ln w="19050">
              <a:solidFill>
                <a:srgbClr val="01b0f1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造字工房悦黑体验版纤细体"/>
                <a:ea typeface="造字工房悦黑体验版纤细体"/>
              </a:endParaRPr>
            </a:p>
          </p:txBody>
        </p:sp>
        <p:sp>
          <p:nvSpPr>
            <p:cNvPr id="105" name="椭圆 38"/>
            <p:cNvSpPr/>
            <p:nvPr/>
          </p:nvSpPr>
          <p:spPr>
            <a:xfrm>
              <a:off x="8842320" y="2471040"/>
              <a:ext cx="1441080" cy="144108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2000" spc="-1" strike="noStrike">
                <a:solidFill>
                  <a:schemeClr val="lt1"/>
                </a:solidFill>
                <a:latin typeface="造字工房悦黑体验版纤细体"/>
                <a:ea typeface="造字工房悦黑体验版纤细体"/>
              </a:endParaRPr>
            </a:p>
          </p:txBody>
        </p:sp>
        <p:sp>
          <p:nvSpPr>
            <p:cNvPr id="106" name="文本框 6"/>
            <p:cNvSpPr/>
            <p:nvPr/>
          </p:nvSpPr>
          <p:spPr>
            <a:xfrm>
              <a:off x="8589240" y="4278600"/>
              <a:ext cx="194724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000000"/>
                  </a:solidFill>
                  <a:latin typeface="造字工房悦黑体验版纤细体"/>
                  <a:ea typeface="造字工房悦黑体验版纤细体"/>
                </a:rPr>
                <a:t>TEXT He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文本框 7"/>
            <p:cNvSpPr/>
            <p:nvPr/>
          </p:nvSpPr>
          <p:spPr>
            <a:xfrm>
              <a:off x="8099280" y="4748400"/>
              <a:ext cx="2927160" cy="91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造字工房悦黑体验版纤细体"/>
                  <a:ea typeface="造字工房悦黑体验版纤细体"/>
                </a:rPr>
                <a:t>I want to play a game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造字工房悦黑体验版纤细体"/>
                  <a:ea typeface="造字工房悦黑体验版纤细体"/>
                </a:rPr>
                <a:t>Hello,I want to play a game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push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" name="组合 6"/>
          <p:cNvGrpSpPr/>
          <p:nvPr/>
        </p:nvGrpSpPr>
        <p:grpSpPr>
          <a:xfrm>
            <a:off x="1814760" y="1938240"/>
            <a:ext cx="3511080" cy="1701360"/>
            <a:chOff x="1814760" y="1938240"/>
            <a:chExt cx="3511080" cy="1701360"/>
          </a:xfrm>
        </p:grpSpPr>
        <p:sp>
          <p:nvSpPr>
            <p:cNvPr id="109" name="文本框 7"/>
            <p:cNvSpPr/>
            <p:nvPr/>
          </p:nvSpPr>
          <p:spPr>
            <a:xfrm>
              <a:off x="1814760" y="2315520"/>
              <a:ext cx="3511080" cy="13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5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造字工房悦黑体验版纤细体"/>
                  <a:ea typeface="造字工房悦黑体验版纤细体"/>
                </a:rPr>
                <a:t>I want to play a game. I want to play a game. I want to play a game. I want to play a game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文本框 5"/>
            <p:cNvSpPr/>
            <p:nvPr/>
          </p:nvSpPr>
          <p:spPr>
            <a:xfrm>
              <a:off x="1814760" y="1938240"/>
              <a:ext cx="2614320" cy="82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1b0f1"/>
                  </a:solidFill>
                  <a:latin typeface="造字工房悦黑体验版纤细体"/>
                  <a:ea typeface="造字工房悦黑体验版纤细体"/>
                </a:rPr>
                <a:t>Topic header on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文本框 2"/>
          <p:cNvSpPr/>
          <p:nvPr/>
        </p:nvSpPr>
        <p:spPr>
          <a:xfrm>
            <a:off x="3610080" y="555480"/>
            <a:ext cx="4738320" cy="14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1b0f1"/>
                </a:solidFill>
                <a:latin typeface="造字工房悦黑体验版纤细体"/>
                <a:ea typeface="造字工房悦黑体验版纤细体"/>
              </a:rPr>
              <a:t>Add Your Title he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17" descr="韩国商人在晚上"/>
          <p:cNvPicPr/>
          <p:nvPr/>
        </p:nvPicPr>
        <p:blipFill>
          <a:blip r:embed="rId1"/>
          <a:stretch/>
        </p:blipFill>
        <p:spPr>
          <a:xfrm>
            <a:off x="6098040" y="2065320"/>
            <a:ext cx="5378760" cy="3585960"/>
          </a:xfrm>
          <a:prstGeom prst="rect">
            <a:avLst/>
          </a:prstGeom>
          <a:ln w="0">
            <a:noFill/>
          </a:ln>
        </p:spPr>
      </p:pic>
      <p:grpSp>
        <p:nvGrpSpPr>
          <p:cNvPr id="113" name="组合 5"/>
          <p:cNvGrpSpPr/>
          <p:nvPr/>
        </p:nvGrpSpPr>
        <p:grpSpPr>
          <a:xfrm>
            <a:off x="669240" y="2068920"/>
            <a:ext cx="791640" cy="646560"/>
            <a:chOff x="669240" y="2068920"/>
            <a:chExt cx="791640" cy="646560"/>
          </a:xfrm>
        </p:grpSpPr>
        <p:sp>
          <p:nvSpPr>
            <p:cNvPr id="114" name="矩形 1"/>
            <p:cNvSpPr/>
            <p:nvPr/>
          </p:nvSpPr>
          <p:spPr>
            <a:xfrm>
              <a:off x="669240" y="2068920"/>
              <a:ext cx="791640" cy="397440"/>
            </a:xfrm>
            <a:prstGeom prst="rect">
              <a:avLst/>
            </a:prstGeom>
            <a:solidFill>
              <a:srgbClr val="01b0f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400" spc="-1" strike="noStrike">
                  <a:solidFill>
                    <a:schemeClr val="lt1"/>
                  </a:solidFill>
                  <a:latin typeface="Calibri"/>
                  <a:ea typeface="宋体"/>
                </a:rPr>
                <a:t>1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矩形 3"/>
            <p:cNvSpPr/>
            <p:nvPr/>
          </p:nvSpPr>
          <p:spPr>
            <a:xfrm>
              <a:off x="669240" y="2503440"/>
              <a:ext cx="791640" cy="212040"/>
            </a:xfrm>
            <a:prstGeom prst="rect">
              <a:avLst/>
            </a:prstGeom>
            <a:solidFill>
              <a:srgbClr val="262626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600" spc="-1" strike="noStrike">
                  <a:solidFill>
                    <a:schemeClr val="lt1"/>
                  </a:solidFill>
                  <a:latin typeface="Calibri"/>
                  <a:ea typeface="宋体"/>
                </a:rPr>
                <a:t>DEC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6" name="组合 6"/>
          <p:cNvGrpSpPr/>
          <p:nvPr/>
        </p:nvGrpSpPr>
        <p:grpSpPr>
          <a:xfrm>
            <a:off x="1814760" y="3996720"/>
            <a:ext cx="3511080" cy="1701360"/>
            <a:chOff x="1814760" y="3996720"/>
            <a:chExt cx="3511080" cy="1701360"/>
          </a:xfrm>
        </p:grpSpPr>
        <p:sp>
          <p:nvSpPr>
            <p:cNvPr id="117" name="文本框 7"/>
            <p:cNvSpPr/>
            <p:nvPr/>
          </p:nvSpPr>
          <p:spPr>
            <a:xfrm>
              <a:off x="1814760" y="4374000"/>
              <a:ext cx="3511080" cy="13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5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造字工房悦黑体验版纤细体"/>
                  <a:ea typeface="造字工房悦黑体验版纤细体"/>
                </a:rPr>
                <a:t>I want to play a game. I want to play a game. I want to play a game. I want to play a game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文本框 5"/>
            <p:cNvSpPr/>
            <p:nvPr/>
          </p:nvSpPr>
          <p:spPr>
            <a:xfrm>
              <a:off x="1814760" y="3996720"/>
              <a:ext cx="2614320" cy="82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1b0f1"/>
                  </a:solidFill>
                  <a:latin typeface="造字工房悦黑体验版纤细体"/>
                  <a:ea typeface="造字工房悦黑体验版纤细体"/>
                </a:rPr>
                <a:t>Topic header tw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组合 22"/>
          <p:cNvGrpSpPr/>
          <p:nvPr/>
        </p:nvGrpSpPr>
        <p:grpSpPr>
          <a:xfrm>
            <a:off x="669240" y="4127400"/>
            <a:ext cx="791640" cy="646560"/>
            <a:chOff x="669240" y="4127400"/>
            <a:chExt cx="791640" cy="646560"/>
          </a:xfrm>
        </p:grpSpPr>
        <p:sp>
          <p:nvSpPr>
            <p:cNvPr id="120" name="矩形 23"/>
            <p:cNvSpPr/>
            <p:nvPr/>
          </p:nvSpPr>
          <p:spPr>
            <a:xfrm>
              <a:off x="669240" y="4127400"/>
              <a:ext cx="791640" cy="397440"/>
            </a:xfrm>
            <a:prstGeom prst="rect">
              <a:avLst/>
            </a:prstGeom>
            <a:solidFill>
              <a:srgbClr val="01b0f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400" spc="-1" strike="noStrike">
                  <a:solidFill>
                    <a:schemeClr val="lt1"/>
                  </a:solidFill>
                  <a:latin typeface="Calibri"/>
                  <a:ea typeface="宋体"/>
                </a:rPr>
                <a:t>2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矩形 24"/>
            <p:cNvSpPr/>
            <p:nvPr/>
          </p:nvSpPr>
          <p:spPr>
            <a:xfrm>
              <a:off x="669240" y="4561920"/>
              <a:ext cx="791640" cy="212040"/>
            </a:xfrm>
            <a:prstGeom prst="rect">
              <a:avLst/>
            </a:prstGeom>
            <a:solidFill>
              <a:srgbClr val="262626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600" spc="-1" strike="noStrike">
                  <a:solidFill>
                    <a:schemeClr val="lt1"/>
                  </a:solidFill>
                  <a:latin typeface="Calibri"/>
                  <a:ea typeface="宋体"/>
                </a:rPr>
                <a:t>JAN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125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文本框 3"/>
          <p:cNvSpPr/>
          <p:nvPr/>
        </p:nvSpPr>
        <p:spPr>
          <a:xfrm>
            <a:off x="1195920" y="1974960"/>
            <a:ext cx="18982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1b0f1"/>
                </a:solidFill>
                <a:latin typeface="造字工房悦黑体验版纤细体"/>
                <a:ea typeface="造字工房悦黑体验版纤细体"/>
              </a:rPr>
              <a:t>$80,000.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文本框 7"/>
          <p:cNvSpPr/>
          <p:nvPr/>
        </p:nvSpPr>
        <p:spPr>
          <a:xfrm>
            <a:off x="546120" y="2355840"/>
            <a:ext cx="502236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I want to play a game. I want to play a game. I want to play a game. I want to play a ga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直接连接符 8"/>
          <p:cNvCxnSpPr/>
          <p:nvPr/>
        </p:nvCxnSpPr>
        <p:spPr>
          <a:xfrm>
            <a:off x="6086160" y="2415960"/>
            <a:ext cx="360" cy="1773720"/>
          </a:xfrm>
          <a:prstGeom prst="straightConnector1">
            <a:avLst/>
          </a:prstGeom>
          <a:ln>
            <a:solidFill>
              <a:srgbClr val="000000"/>
            </a:solidFill>
          </a:ln>
        </p:spPr>
      </p:cxnSp>
      <p:sp>
        <p:nvSpPr>
          <p:cNvPr id="125" name="矩形 9"/>
          <p:cNvSpPr/>
          <p:nvPr/>
        </p:nvSpPr>
        <p:spPr>
          <a:xfrm>
            <a:off x="5400720" y="4633920"/>
            <a:ext cx="1447560" cy="464760"/>
          </a:xfrm>
          <a:prstGeom prst="rect">
            <a:avLst/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造字工房悦黑体验版纤细体"/>
                <a:ea typeface="造字工房悦黑体验版纤细体"/>
              </a:rPr>
              <a:t>V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6" name="组合 10"/>
          <p:cNvGrpSpPr/>
          <p:nvPr/>
        </p:nvGrpSpPr>
        <p:grpSpPr>
          <a:xfrm>
            <a:off x="6905520" y="1974960"/>
            <a:ext cx="5022360" cy="1293480"/>
            <a:chOff x="6905520" y="1974960"/>
            <a:chExt cx="5022360" cy="1293480"/>
          </a:xfrm>
        </p:grpSpPr>
        <p:sp>
          <p:nvSpPr>
            <p:cNvPr id="127" name="文本框 12"/>
            <p:cNvSpPr/>
            <p:nvPr/>
          </p:nvSpPr>
          <p:spPr>
            <a:xfrm>
              <a:off x="7686000" y="1974960"/>
              <a:ext cx="189828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1b0f1"/>
                  </a:solidFill>
                  <a:latin typeface="造字工房悦黑体验版纤细体"/>
                  <a:ea typeface="造字工房悦黑体验版纤细体"/>
                </a:rPr>
                <a:t>$60,000.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文本框 7"/>
            <p:cNvSpPr/>
            <p:nvPr/>
          </p:nvSpPr>
          <p:spPr>
            <a:xfrm>
              <a:off x="6905520" y="2355840"/>
              <a:ext cx="5022360" cy="91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5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造字工房悦黑体验版纤细体"/>
                  <a:ea typeface="造字工房悦黑体验版纤细体"/>
                </a:rPr>
                <a:t>I want to play a game. I want to play a game. I want to play a game. I want to play a game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" name="组合 55"/>
          <p:cNvGrpSpPr/>
          <p:nvPr/>
        </p:nvGrpSpPr>
        <p:grpSpPr>
          <a:xfrm>
            <a:off x="485640" y="4146480"/>
            <a:ext cx="1898280" cy="1990080"/>
            <a:chOff x="485640" y="4146480"/>
            <a:chExt cx="1898280" cy="1990080"/>
          </a:xfrm>
        </p:grpSpPr>
        <p:grpSp>
          <p:nvGrpSpPr>
            <p:cNvPr id="130" name="组合 46"/>
            <p:cNvGrpSpPr/>
            <p:nvPr/>
          </p:nvGrpSpPr>
          <p:grpSpPr>
            <a:xfrm>
              <a:off x="714240" y="4146480"/>
              <a:ext cx="1441080" cy="1439640"/>
              <a:chOff x="714240" y="4146480"/>
              <a:chExt cx="1441080" cy="1439640"/>
            </a:xfrm>
          </p:grpSpPr>
          <p:sp>
            <p:nvSpPr>
              <p:cNvPr id="131" name="任意多边形 19"/>
              <p:cNvSpPr/>
              <p:nvPr/>
            </p:nvSpPr>
            <p:spPr>
              <a:xfrm>
                <a:off x="714240" y="4146480"/>
                <a:ext cx="1441080" cy="1439640"/>
              </a:xfrm>
              <a:custGeom>
                <a:avLst/>
                <a:gdLst>
                  <a:gd name="textAreaLeft" fmla="*/ 0 w 1441080"/>
                  <a:gd name="textAreaRight" fmla="*/ 1441440 w 1441080"/>
                  <a:gd name="textAreaTop" fmla="*/ 0 h 1439640"/>
                  <a:gd name="textAreaBottom" fmla="*/ 1440000 h 1439640"/>
                </a:gdLst>
                <a:ahLst/>
                <a:rect l="textAreaLeft" t="textAreaTop" r="textAreaRight" b="textAreaBottom"/>
                <a:pathLst>
                  <a:path w="1440000" h="1440000">
                    <a:moveTo>
                      <a:pt x="720000" y="180000"/>
                    </a:moveTo>
                    <a:cubicBezTo>
                      <a:pt x="421766" y="180000"/>
                      <a:pt x="180000" y="421766"/>
                      <a:pt x="180000" y="720000"/>
                    </a:cubicBezTo>
                    <a:cubicBezTo>
                      <a:pt x="180000" y="1018234"/>
                      <a:pt x="421766" y="1260000"/>
                      <a:pt x="720000" y="1260000"/>
                    </a:cubicBezTo>
                    <a:cubicBezTo>
                      <a:pt x="1018234" y="1260000"/>
                      <a:pt x="1260000" y="1018234"/>
                      <a:pt x="1260000" y="720000"/>
                    </a:cubicBezTo>
                    <a:cubicBezTo>
                      <a:pt x="1260000" y="421766"/>
                      <a:pt x="1018234" y="180000"/>
                      <a:pt x="720000" y="180000"/>
                    </a:cubicBezTo>
                    <a:close/>
                    <a:moveTo>
                      <a:pt x="720000" y="0"/>
                    </a:moveTo>
                    <a:cubicBezTo>
                      <a:pt x="1117645" y="0"/>
                      <a:pt x="1440000" y="322355"/>
                      <a:pt x="1440000" y="720000"/>
                    </a:cubicBezTo>
                    <a:cubicBezTo>
                      <a:pt x="1440000" y="1117645"/>
                      <a:pt x="1117645" y="1440000"/>
                      <a:pt x="720000" y="1440000"/>
                    </a:cubicBezTo>
                    <a:cubicBezTo>
                      <a:pt x="322355" y="1440000"/>
                      <a:pt x="0" y="1117645"/>
                      <a:pt x="0" y="720000"/>
                    </a:cubicBezTo>
                    <a:cubicBezTo>
                      <a:pt x="0" y="322355"/>
                      <a:pt x="322355" y="0"/>
                      <a:pt x="720000" y="0"/>
                    </a:cubicBezTo>
                    <a:close/>
                  </a:path>
                </a:pathLst>
              </a:custGeom>
              <a:solidFill>
                <a:srgbClr val="404040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132" name="任意多边形 42"/>
              <p:cNvSpPr/>
              <p:nvPr/>
            </p:nvSpPr>
            <p:spPr>
              <a:xfrm>
                <a:off x="714240" y="4146480"/>
                <a:ext cx="1441080" cy="1439640"/>
              </a:xfrm>
              <a:custGeom>
                <a:avLst/>
                <a:gdLst>
                  <a:gd name="textAreaLeft" fmla="*/ 0 w 1441080"/>
                  <a:gd name="textAreaRight" fmla="*/ 1441440 w 1441080"/>
                  <a:gd name="textAreaTop" fmla="*/ 0 h 1439640"/>
                  <a:gd name="textAreaBottom" fmla="*/ 1440000 h 1439640"/>
                </a:gdLst>
                <a:ahLst/>
                <a:rect l="textAreaLeft" t="textAreaTop" r="textAreaRight" b="textAreaBottom"/>
                <a:pathLst>
                  <a:path w="1440000" h="1440000">
                    <a:moveTo>
                      <a:pt x="133765" y="304351"/>
                    </a:moveTo>
                    <a:lnTo>
                      <a:pt x="119464" y="323891"/>
                    </a:lnTo>
                    <a:lnTo>
                      <a:pt x="122965" y="317441"/>
                    </a:lnTo>
                    <a:close/>
                    <a:moveTo>
                      <a:pt x="218055" y="204966"/>
                    </a:moveTo>
                    <a:lnTo>
                      <a:pt x="200261" y="223758"/>
                    </a:lnTo>
                    <a:lnTo>
                      <a:pt x="210883" y="210883"/>
                    </a:lnTo>
                    <a:close/>
                    <a:moveTo>
                      <a:pt x="332546" y="114766"/>
                    </a:moveTo>
                    <a:lnTo>
                      <a:pt x="310528" y="128669"/>
                    </a:lnTo>
                    <a:lnTo>
                      <a:pt x="317441" y="122965"/>
                    </a:lnTo>
                    <a:close/>
                    <a:moveTo>
                      <a:pt x="446740" y="54410"/>
                    </a:moveTo>
                    <a:lnTo>
                      <a:pt x="424470" y="64871"/>
                    </a:lnTo>
                    <a:lnTo>
                      <a:pt x="439744" y="56581"/>
                    </a:lnTo>
                    <a:close/>
                    <a:moveTo>
                      <a:pt x="613292" y="8768"/>
                    </a:moveTo>
                    <a:lnTo>
                      <a:pt x="562112" y="18596"/>
                    </a:lnTo>
                    <a:lnTo>
                      <a:pt x="574895" y="14628"/>
                    </a:lnTo>
                    <a:close/>
                    <a:moveTo>
                      <a:pt x="720000" y="0"/>
                    </a:moveTo>
                    <a:lnTo>
                      <a:pt x="635657" y="5354"/>
                    </a:lnTo>
                    <a:lnTo>
                      <a:pt x="646384" y="3717"/>
                    </a:lnTo>
                    <a:cubicBezTo>
                      <a:pt x="670588" y="1259"/>
                      <a:pt x="695147" y="0"/>
                      <a:pt x="720000" y="0"/>
                    </a:cubicBezTo>
                    <a:close/>
                    <a:moveTo>
                      <a:pt x="720000" y="0"/>
                    </a:moveTo>
                    <a:cubicBezTo>
                      <a:pt x="1117645" y="0"/>
                      <a:pt x="1440000" y="322355"/>
                      <a:pt x="1440000" y="720000"/>
                    </a:cubicBezTo>
                    <a:cubicBezTo>
                      <a:pt x="1440000" y="1117645"/>
                      <a:pt x="1117645" y="1440000"/>
                      <a:pt x="720000" y="1440000"/>
                    </a:cubicBezTo>
                    <a:cubicBezTo>
                      <a:pt x="322355" y="1440000"/>
                      <a:pt x="0" y="1117645"/>
                      <a:pt x="0" y="720000"/>
                    </a:cubicBezTo>
                    <a:cubicBezTo>
                      <a:pt x="0" y="620589"/>
                      <a:pt x="20147" y="525883"/>
                      <a:pt x="56581" y="439744"/>
                    </a:cubicBezTo>
                    <a:lnTo>
                      <a:pt x="114416" y="333192"/>
                    </a:lnTo>
                    <a:lnTo>
                      <a:pt x="265812" y="429894"/>
                    </a:lnTo>
                    <a:lnTo>
                      <a:pt x="222436" y="509808"/>
                    </a:lnTo>
                    <a:cubicBezTo>
                      <a:pt x="195110" y="574412"/>
                      <a:pt x="180000" y="645442"/>
                      <a:pt x="180000" y="720000"/>
                    </a:cubicBezTo>
                    <a:cubicBezTo>
                      <a:pt x="180000" y="1018234"/>
                      <a:pt x="421766" y="1260000"/>
                      <a:pt x="720000" y="1260000"/>
                    </a:cubicBezTo>
                    <a:cubicBezTo>
                      <a:pt x="1018234" y="1260000"/>
                      <a:pt x="1260000" y="1018234"/>
                      <a:pt x="1260000" y="720000"/>
                    </a:cubicBezTo>
                    <a:cubicBezTo>
                      <a:pt x="1260000" y="421766"/>
                      <a:pt x="1018234" y="180000"/>
                      <a:pt x="720000" y="180000"/>
                    </a:cubicBezTo>
                    <a:close/>
                  </a:path>
                </a:pathLst>
              </a:custGeom>
              <a:solidFill>
                <a:srgbClr val="01b0f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宋体"/>
                </a:endParaRPr>
              </a:p>
            </p:txBody>
          </p:sp>
        </p:grpSp>
        <p:sp>
          <p:nvSpPr>
            <p:cNvPr id="133" name="文本框 50"/>
            <p:cNvSpPr/>
            <p:nvPr/>
          </p:nvSpPr>
          <p:spPr>
            <a:xfrm>
              <a:off x="485640" y="5772600"/>
              <a:ext cx="189828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造字工房悦黑体验版纤细体"/>
                  <a:ea typeface="造字工房悦黑体验版纤细体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组合 56"/>
          <p:cNvGrpSpPr/>
          <p:nvPr/>
        </p:nvGrpSpPr>
        <p:grpSpPr>
          <a:xfrm>
            <a:off x="2979720" y="4146480"/>
            <a:ext cx="1898280" cy="1990080"/>
            <a:chOff x="2979720" y="4146480"/>
            <a:chExt cx="1898280" cy="1990080"/>
          </a:xfrm>
        </p:grpSpPr>
        <p:grpSp>
          <p:nvGrpSpPr>
            <p:cNvPr id="135" name="组合 48"/>
            <p:cNvGrpSpPr/>
            <p:nvPr/>
          </p:nvGrpSpPr>
          <p:grpSpPr>
            <a:xfrm>
              <a:off x="3208320" y="4146480"/>
              <a:ext cx="1441080" cy="1439640"/>
              <a:chOff x="3208320" y="4146480"/>
              <a:chExt cx="1441080" cy="1439640"/>
            </a:xfrm>
          </p:grpSpPr>
          <p:sp>
            <p:nvSpPr>
              <p:cNvPr id="136" name="任意多边形 34"/>
              <p:cNvSpPr/>
              <p:nvPr/>
            </p:nvSpPr>
            <p:spPr>
              <a:xfrm>
                <a:off x="3208320" y="4146480"/>
                <a:ext cx="1441080" cy="1439640"/>
              </a:xfrm>
              <a:custGeom>
                <a:avLst/>
                <a:gdLst>
                  <a:gd name="textAreaLeft" fmla="*/ 0 w 1441080"/>
                  <a:gd name="textAreaRight" fmla="*/ 1441440 w 1441080"/>
                  <a:gd name="textAreaTop" fmla="*/ 0 h 1439640"/>
                  <a:gd name="textAreaBottom" fmla="*/ 1440000 h 1439640"/>
                </a:gdLst>
                <a:ahLst/>
                <a:rect l="textAreaLeft" t="textAreaTop" r="textAreaRight" b="textAreaBottom"/>
                <a:pathLst>
                  <a:path w="1440000" h="1440000">
                    <a:moveTo>
                      <a:pt x="720000" y="180000"/>
                    </a:moveTo>
                    <a:cubicBezTo>
                      <a:pt x="421766" y="180000"/>
                      <a:pt x="180000" y="421766"/>
                      <a:pt x="180000" y="720000"/>
                    </a:cubicBezTo>
                    <a:cubicBezTo>
                      <a:pt x="180000" y="1018234"/>
                      <a:pt x="421766" y="1260000"/>
                      <a:pt x="720000" y="1260000"/>
                    </a:cubicBezTo>
                    <a:cubicBezTo>
                      <a:pt x="1018234" y="1260000"/>
                      <a:pt x="1260000" y="1018234"/>
                      <a:pt x="1260000" y="720000"/>
                    </a:cubicBezTo>
                    <a:cubicBezTo>
                      <a:pt x="1260000" y="421766"/>
                      <a:pt x="1018234" y="180000"/>
                      <a:pt x="720000" y="180000"/>
                    </a:cubicBezTo>
                    <a:close/>
                    <a:moveTo>
                      <a:pt x="720000" y="0"/>
                    </a:moveTo>
                    <a:cubicBezTo>
                      <a:pt x="1117645" y="0"/>
                      <a:pt x="1440000" y="322355"/>
                      <a:pt x="1440000" y="720000"/>
                    </a:cubicBezTo>
                    <a:cubicBezTo>
                      <a:pt x="1440000" y="1117645"/>
                      <a:pt x="1117645" y="1440000"/>
                      <a:pt x="720000" y="1440000"/>
                    </a:cubicBezTo>
                    <a:cubicBezTo>
                      <a:pt x="322355" y="1440000"/>
                      <a:pt x="0" y="1117645"/>
                      <a:pt x="0" y="720000"/>
                    </a:cubicBezTo>
                    <a:cubicBezTo>
                      <a:pt x="0" y="322355"/>
                      <a:pt x="322355" y="0"/>
                      <a:pt x="720000" y="0"/>
                    </a:cubicBezTo>
                    <a:close/>
                  </a:path>
                </a:pathLst>
              </a:custGeom>
              <a:solidFill>
                <a:srgbClr val="404040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137" name="任意多边形 45"/>
              <p:cNvSpPr/>
              <p:nvPr/>
            </p:nvSpPr>
            <p:spPr>
              <a:xfrm>
                <a:off x="3208320" y="4146480"/>
                <a:ext cx="1441080" cy="1439640"/>
              </a:xfrm>
              <a:custGeom>
                <a:avLst/>
                <a:gdLst>
                  <a:gd name="textAreaLeft" fmla="*/ 0 w 1441080"/>
                  <a:gd name="textAreaRight" fmla="*/ 1441440 w 1441080"/>
                  <a:gd name="textAreaTop" fmla="*/ 0 h 1439640"/>
                  <a:gd name="textAreaBottom" fmla="*/ 1440000 h 1439640"/>
                </a:gdLst>
                <a:ahLst/>
                <a:rect l="textAreaLeft" t="textAreaTop" r="textAreaRight" b="textAreaBottom"/>
                <a:pathLst>
                  <a:path w="1440000" h="1440000">
                    <a:moveTo>
                      <a:pt x="567170" y="1422974"/>
                    </a:moveTo>
                    <a:lnTo>
                      <a:pt x="694165" y="1438696"/>
                    </a:lnTo>
                    <a:lnTo>
                      <a:pt x="646384" y="1436283"/>
                    </a:lnTo>
                    <a:cubicBezTo>
                      <a:pt x="622180" y="1433825"/>
                      <a:pt x="598330" y="1430168"/>
                      <a:pt x="574895" y="1425372"/>
                    </a:cubicBezTo>
                    <a:close/>
                    <a:moveTo>
                      <a:pt x="433213" y="1379874"/>
                    </a:moveTo>
                    <a:lnTo>
                      <a:pt x="498269" y="1401586"/>
                    </a:lnTo>
                    <a:lnTo>
                      <a:pt x="439744" y="1383419"/>
                    </a:lnTo>
                    <a:close/>
                    <a:moveTo>
                      <a:pt x="312177" y="1312692"/>
                    </a:moveTo>
                    <a:lnTo>
                      <a:pt x="369950" y="1345536"/>
                    </a:lnTo>
                    <a:lnTo>
                      <a:pt x="317441" y="1317035"/>
                    </a:lnTo>
                    <a:close/>
                    <a:moveTo>
                      <a:pt x="206852" y="1224231"/>
                    </a:moveTo>
                    <a:lnTo>
                      <a:pt x="256870" y="1267060"/>
                    </a:lnTo>
                    <a:lnTo>
                      <a:pt x="210883" y="1229117"/>
                    </a:lnTo>
                    <a:close/>
                    <a:moveTo>
                      <a:pt x="120161" y="1117393"/>
                    </a:moveTo>
                    <a:lnTo>
                      <a:pt x="161572" y="1169352"/>
                    </a:lnTo>
                    <a:lnTo>
                      <a:pt x="122965" y="1122559"/>
                    </a:lnTo>
                    <a:close/>
                    <a:moveTo>
                      <a:pt x="54996" y="995149"/>
                    </a:moveTo>
                    <a:lnTo>
                      <a:pt x="86075" y="1054595"/>
                    </a:lnTo>
                    <a:lnTo>
                      <a:pt x="56581" y="1000257"/>
                    </a:lnTo>
                    <a:close/>
                    <a:moveTo>
                      <a:pt x="13648" y="858685"/>
                    </a:moveTo>
                    <a:lnTo>
                      <a:pt x="33108" y="924637"/>
                    </a:lnTo>
                    <a:lnTo>
                      <a:pt x="14628" y="865105"/>
                    </a:lnTo>
                    <a:close/>
                    <a:moveTo>
                      <a:pt x="290" y="714267"/>
                    </a:moveTo>
                    <a:lnTo>
                      <a:pt x="12174" y="849027"/>
                    </a:lnTo>
                    <a:lnTo>
                      <a:pt x="3717" y="793616"/>
                    </a:lnTo>
                    <a:cubicBezTo>
                      <a:pt x="1259" y="769412"/>
                      <a:pt x="0" y="744853"/>
                      <a:pt x="0" y="720000"/>
                    </a:cubicBezTo>
                    <a:close/>
                    <a:moveTo>
                      <a:pt x="15743" y="571301"/>
                    </a:moveTo>
                    <a:lnTo>
                      <a:pt x="736" y="705417"/>
                    </a:lnTo>
                    <a:lnTo>
                      <a:pt x="3717" y="646384"/>
                    </a:lnTo>
                    <a:cubicBezTo>
                      <a:pt x="6175" y="622180"/>
                      <a:pt x="9832" y="598330"/>
                      <a:pt x="14628" y="574895"/>
                    </a:cubicBezTo>
                    <a:close/>
                    <a:moveTo>
                      <a:pt x="58099" y="436948"/>
                    </a:moveTo>
                    <a:lnTo>
                      <a:pt x="37937" y="499805"/>
                    </a:lnTo>
                    <a:lnTo>
                      <a:pt x="56581" y="439744"/>
                    </a:lnTo>
                    <a:close/>
                    <a:moveTo>
                      <a:pt x="124633" y="315420"/>
                    </a:moveTo>
                    <a:lnTo>
                      <a:pt x="93986" y="370830"/>
                    </a:lnTo>
                    <a:lnTo>
                      <a:pt x="122965" y="317441"/>
                    </a:lnTo>
                    <a:close/>
                    <a:moveTo>
                      <a:pt x="212515" y="209537"/>
                    </a:moveTo>
                    <a:lnTo>
                      <a:pt x="173106" y="256670"/>
                    </a:lnTo>
                    <a:lnTo>
                      <a:pt x="210883" y="210883"/>
                    </a:lnTo>
                    <a:close/>
                    <a:moveTo>
                      <a:pt x="318883" y="122182"/>
                    </a:moveTo>
                    <a:lnTo>
                      <a:pt x="272086" y="160386"/>
                    </a:lnTo>
                    <a:lnTo>
                      <a:pt x="317441" y="122965"/>
                    </a:lnTo>
                    <a:close/>
                    <a:moveTo>
                      <a:pt x="440840" y="56241"/>
                    </a:moveTo>
                    <a:lnTo>
                      <a:pt x="389127" y="84055"/>
                    </a:lnTo>
                    <a:lnTo>
                      <a:pt x="439744" y="56581"/>
                    </a:lnTo>
                    <a:close/>
                    <a:moveTo>
                      <a:pt x="575693" y="14506"/>
                    </a:moveTo>
                    <a:lnTo>
                      <a:pt x="526480" y="29657"/>
                    </a:lnTo>
                    <a:lnTo>
                      <a:pt x="574895" y="14628"/>
                    </a:lnTo>
                    <a:close/>
                    <a:moveTo>
                      <a:pt x="720001" y="0"/>
                    </a:moveTo>
                    <a:lnTo>
                      <a:pt x="793616" y="3717"/>
                    </a:lnTo>
                    <a:cubicBezTo>
                      <a:pt x="1156680" y="40589"/>
                      <a:pt x="1440000" y="347208"/>
                      <a:pt x="1440000" y="720000"/>
                    </a:cubicBezTo>
                    <a:cubicBezTo>
                      <a:pt x="1440000" y="1117645"/>
                      <a:pt x="1117645" y="1440000"/>
                      <a:pt x="720000" y="1440000"/>
                    </a:cubicBezTo>
                    <a:lnTo>
                      <a:pt x="703119" y="1439148"/>
                    </a:lnTo>
                    <a:lnTo>
                      <a:pt x="707354" y="1258725"/>
                    </a:lnTo>
                    <a:lnTo>
                      <a:pt x="720000" y="1260000"/>
                    </a:lnTo>
                    <a:cubicBezTo>
                      <a:pt x="1018234" y="1260000"/>
                      <a:pt x="1260000" y="1018234"/>
                      <a:pt x="1260000" y="720000"/>
                    </a:cubicBezTo>
                    <a:cubicBezTo>
                      <a:pt x="1260000" y="459045"/>
                      <a:pt x="1074898" y="241324"/>
                      <a:pt x="828829" y="190971"/>
                    </a:cubicBezTo>
                    <a:lnTo>
                      <a:pt x="720001" y="180000"/>
                    </a:lnTo>
                    <a:close/>
                    <a:moveTo>
                      <a:pt x="720000" y="0"/>
                    </a:moveTo>
                    <a:lnTo>
                      <a:pt x="720001" y="0"/>
                    </a:lnTo>
                    <a:lnTo>
                      <a:pt x="577040" y="14300"/>
                    </a:lnTo>
                    <a:lnTo>
                      <a:pt x="646384" y="3717"/>
                    </a:lnTo>
                    <a:cubicBezTo>
                      <a:pt x="670588" y="1259"/>
                      <a:pt x="695147" y="0"/>
                      <a:pt x="720000" y="0"/>
                    </a:cubicBezTo>
                    <a:close/>
                  </a:path>
                </a:pathLst>
              </a:custGeom>
              <a:solidFill>
                <a:srgbClr val="01b0f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宋体"/>
                </a:endParaRPr>
              </a:p>
            </p:txBody>
          </p:sp>
        </p:grpSp>
        <p:sp>
          <p:nvSpPr>
            <p:cNvPr id="138" name="文本框 52"/>
            <p:cNvSpPr/>
            <p:nvPr/>
          </p:nvSpPr>
          <p:spPr>
            <a:xfrm>
              <a:off x="2979720" y="5772600"/>
              <a:ext cx="189828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造字工房悦黑体验版纤细体"/>
                  <a:ea typeface="造字工房悦黑体验版纤细体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" name="组合 57"/>
          <p:cNvGrpSpPr/>
          <p:nvPr/>
        </p:nvGrpSpPr>
        <p:grpSpPr>
          <a:xfrm>
            <a:off x="7288200" y="4146480"/>
            <a:ext cx="1898280" cy="1990080"/>
            <a:chOff x="7288200" y="4146480"/>
            <a:chExt cx="1898280" cy="1990080"/>
          </a:xfrm>
        </p:grpSpPr>
        <p:grpSp>
          <p:nvGrpSpPr>
            <p:cNvPr id="140" name="组合 47"/>
            <p:cNvGrpSpPr/>
            <p:nvPr/>
          </p:nvGrpSpPr>
          <p:grpSpPr>
            <a:xfrm>
              <a:off x="7516440" y="4146480"/>
              <a:ext cx="1441440" cy="1439640"/>
              <a:chOff x="7516440" y="4146480"/>
              <a:chExt cx="1441440" cy="1439640"/>
            </a:xfrm>
          </p:grpSpPr>
          <p:sp>
            <p:nvSpPr>
              <p:cNvPr id="141" name="任意多边形 28"/>
              <p:cNvSpPr/>
              <p:nvPr/>
            </p:nvSpPr>
            <p:spPr>
              <a:xfrm>
                <a:off x="7516800" y="4146480"/>
                <a:ext cx="1441080" cy="1439640"/>
              </a:xfrm>
              <a:custGeom>
                <a:avLst/>
                <a:gdLst>
                  <a:gd name="textAreaLeft" fmla="*/ 0 w 1441080"/>
                  <a:gd name="textAreaRight" fmla="*/ 1441440 w 1441080"/>
                  <a:gd name="textAreaTop" fmla="*/ 0 h 1439640"/>
                  <a:gd name="textAreaBottom" fmla="*/ 1440000 h 1439640"/>
                </a:gdLst>
                <a:ahLst/>
                <a:rect l="textAreaLeft" t="textAreaTop" r="textAreaRight" b="textAreaBottom"/>
                <a:pathLst>
                  <a:path w="1440000" h="1440000">
                    <a:moveTo>
                      <a:pt x="720000" y="180000"/>
                    </a:moveTo>
                    <a:cubicBezTo>
                      <a:pt x="421766" y="180000"/>
                      <a:pt x="180000" y="421766"/>
                      <a:pt x="180000" y="720000"/>
                    </a:cubicBezTo>
                    <a:cubicBezTo>
                      <a:pt x="180000" y="1018234"/>
                      <a:pt x="421766" y="1260000"/>
                      <a:pt x="720000" y="1260000"/>
                    </a:cubicBezTo>
                    <a:cubicBezTo>
                      <a:pt x="1018234" y="1260000"/>
                      <a:pt x="1260000" y="1018234"/>
                      <a:pt x="1260000" y="720000"/>
                    </a:cubicBezTo>
                    <a:cubicBezTo>
                      <a:pt x="1260000" y="421766"/>
                      <a:pt x="1018234" y="180000"/>
                      <a:pt x="720000" y="180000"/>
                    </a:cubicBezTo>
                    <a:close/>
                    <a:moveTo>
                      <a:pt x="720000" y="0"/>
                    </a:moveTo>
                    <a:cubicBezTo>
                      <a:pt x="1117645" y="0"/>
                      <a:pt x="1440000" y="322355"/>
                      <a:pt x="1440000" y="720000"/>
                    </a:cubicBezTo>
                    <a:cubicBezTo>
                      <a:pt x="1440000" y="1117645"/>
                      <a:pt x="1117645" y="1440000"/>
                      <a:pt x="720000" y="1440000"/>
                    </a:cubicBezTo>
                    <a:cubicBezTo>
                      <a:pt x="322355" y="1440000"/>
                      <a:pt x="0" y="1117645"/>
                      <a:pt x="0" y="720000"/>
                    </a:cubicBezTo>
                    <a:cubicBezTo>
                      <a:pt x="0" y="322355"/>
                      <a:pt x="322355" y="0"/>
                      <a:pt x="720000" y="0"/>
                    </a:cubicBezTo>
                    <a:close/>
                  </a:path>
                </a:pathLst>
              </a:custGeom>
              <a:solidFill>
                <a:srgbClr val="404040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142" name="任意多边形 30"/>
              <p:cNvSpPr/>
              <p:nvPr/>
            </p:nvSpPr>
            <p:spPr>
              <a:xfrm flipH="1">
                <a:off x="7516080" y="4146480"/>
                <a:ext cx="1441080" cy="1439640"/>
              </a:xfrm>
              <a:custGeom>
                <a:avLst/>
                <a:gdLst>
                  <a:gd name="textAreaLeft" fmla="*/ -360 w 1441080"/>
                  <a:gd name="textAreaRight" fmla="*/ 1441080 w 1441080"/>
                  <a:gd name="textAreaTop" fmla="*/ 0 h 1439640"/>
                  <a:gd name="textAreaBottom" fmla="*/ 1440000 h 1439640"/>
                </a:gdLst>
                <a:ahLst/>
                <a:rect l="textAreaLeft" t="textAreaTop" r="textAreaRight" b="textAreaBottom"/>
                <a:pathLst>
                  <a:path w="1440000" h="1440000">
                    <a:moveTo>
                      <a:pt x="720000" y="0"/>
                    </a:moveTo>
                    <a:lnTo>
                      <a:pt x="720000" y="180000"/>
                    </a:lnTo>
                    <a:cubicBezTo>
                      <a:pt x="421766" y="180000"/>
                      <a:pt x="180000" y="421766"/>
                      <a:pt x="180000" y="720000"/>
                    </a:cubicBezTo>
                    <a:cubicBezTo>
                      <a:pt x="180000" y="1018234"/>
                      <a:pt x="421766" y="1260000"/>
                      <a:pt x="720000" y="1260000"/>
                    </a:cubicBezTo>
                    <a:cubicBezTo>
                      <a:pt x="1018234" y="1260000"/>
                      <a:pt x="1260000" y="1018234"/>
                      <a:pt x="1260000" y="720000"/>
                    </a:cubicBezTo>
                    <a:lnTo>
                      <a:pt x="1440000" y="720000"/>
                    </a:lnTo>
                    <a:cubicBezTo>
                      <a:pt x="1440000" y="1117645"/>
                      <a:pt x="1117645" y="1440000"/>
                      <a:pt x="720000" y="1440000"/>
                    </a:cubicBezTo>
                    <a:cubicBezTo>
                      <a:pt x="322355" y="1440000"/>
                      <a:pt x="0" y="1117645"/>
                      <a:pt x="0" y="720000"/>
                    </a:cubicBezTo>
                    <a:cubicBezTo>
                      <a:pt x="0" y="322355"/>
                      <a:pt x="322355" y="0"/>
                      <a:pt x="720000" y="0"/>
                    </a:cubicBezTo>
                    <a:close/>
                  </a:path>
                </a:pathLst>
              </a:custGeom>
              <a:solidFill>
                <a:srgbClr val="01b0f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  <a:ea typeface="宋体"/>
                </a:endParaRPr>
              </a:p>
            </p:txBody>
          </p:sp>
        </p:grpSp>
        <p:sp>
          <p:nvSpPr>
            <p:cNvPr id="143" name="文本框 53"/>
            <p:cNvSpPr/>
            <p:nvPr/>
          </p:nvSpPr>
          <p:spPr>
            <a:xfrm>
              <a:off x="7288200" y="5772600"/>
              <a:ext cx="189828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造字工房悦黑体验版纤细体"/>
                  <a:ea typeface="造字工房悦黑体验版纤细体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组合 58"/>
          <p:cNvGrpSpPr/>
          <p:nvPr/>
        </p:nvGrpSpPr>
        <p:grpSpPr>
          <a:xfrm>
            <a:off x="9850320" y="4146480"/>
            <a:ext cx="1898280" cy="1990080"/>
            <a:chOff x="9850320" y="4146480"/>
            <a:chExt cx="1898280" cy="1990080"/>
          </a:xfrm>
        </p:grpSpPr>
        <p:grpSp>
          <p:nvGrpSpPr>
            <p:cNvPr id="145" name="组合 49"/>
            <p:cNvGrpSpPr/>
            <p:nvPr/>
          </p:nvGrpSpPr>
          <p:grpSpPr>
            <a:xfrm>
              <a:off x="10078560" y="4146480"/>
              <a:ext cx="1441440" cy="1439640"/>
              <a:chOff x="10078560" y="4146480"/>
              <a:chExt cx="1441440" cy="1439640"/>
            </a:xfrm>
          </p:grpSpPr>
          <p:sp>
            <p:nvSpPr>
              <p:cNvPr id="146" name="任意多边形 36"/>
              <p:cNvSpPr/>
              <p:nvPr/>
            </p:nvSpPr>
            <p:spPr>
              <a:xfrm>
                <a:off x="10078920" y="4146480"/>
                <a:ext cx="1441080" cy="1439640"/>
              </a:xfrm>
              <a:custGeom>
                <a:avLst/>
                <a:gdLst>
                  <a:gd name="textAreaLeft" fmla="*/ 0 w 1441080"/>
                  <a:gd name="textAreaRight" fmla="*/ 1441440 w 1441080"/>
                  <a:gd name="textAreaTop" fmla="*/ 0 h 1439640"/>
                  <a:gd name="textAreaBottom" fmla="*/ 1440000 h 1439640"/>
                </a:gdLst>
                <a:ahLst/>
                <a:rect l="textAreaLeft" t="textAreaTop" r="textAreaRight" b="textAreaBottom"/>
                <a:pathLst>
                  <a:path w="1440000" h="1440000">
                    <a:moveTo>
                      <a:pt x="720000" y="180000"/>
                    </a:moveTo>
                    <a:cubicBezTo>
                      <a:pt x="421766" y="180000"/>
                      <a:pt x="180000" y="421766"/>
                      <a:pt x="180000" y="720000"/>
                    </a:cubicBezTo>
                    <a:cubicBezTo>
                      <a:pt x="180000" y="1018234"/>
                      <a:pt x="421766" y="1260000"/>
                      <a:pt x="720000" y="1260000"/>
                    </a:cubicBezTo>
                    <a:cubicBezTo>
                      <a:pt x="1018234" y="1260000"/>
                      <a:pt x="1260000" y="1018234"/>
                      <a:pt x="1260000" y="720000"/>
                    </a:cubicBezTo>
                    <a:cubicBezTo>
                      <a:pt x="1260000" y="421766"/>
                      <a:pt x="1018234" y="180000"/>
                      <a:pt x="720000" y="180000"/>
                    </a:cubicBezTo>
                    <a:close/>
                    <a:moveTo>
                      <a:pt x="720000" y="0"/>
                    </a:moveTo>
                    <a:cubicBezTo>
                      <a:pt x="1117645" y="0"/>
                      <a:pt x="1440000" y="322355"/>
                      <a:pt x="1440000" y="720000"/>
                    </a:cubicBezTo>
                    <a:cubicBezTo>
                      <a:pt x="1440000" y="1117645"/>
                      <a:pt x="1117645" y="1440000"/>
                      <a:pt x="720000" y="1440000"/>
                    </a:cubicBezTo>
                    <a:cubicBezTo>
                      <a:pt x="322355" y="1440000"/>
                      <a:pt x="0" y="1117645"/>
                      <a:pt x="0" y="720000"/>
                    </a:cubicBezTo>
                    <a:cubicBezTo>
                      <a:pt x="0" y="322355"/>
                      <a:pt x="322355" y="0"/>
                      <a:pt x="720000" y="0"/>
                    </a:cubicBezTo>
                    <a:close/>
                  </a:path>
                </a:pathLst>
              </a:custGeom>
              <a:solidFill>
                <a:srgbClr val="404040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147" name="任意多边形 38"/>
              <p:cNvSpPr/>
              <p:nvPr/>
            </p:nvSpPr>
            <p:spPr>
              <a:xfrm flipH="1">
                <a:off x="10078200" y="4146480"/>
                <a:ext cx="1441080" cy="1439640"/>
              </a:xfrm>
              <a:custGeom>
                <a:avLst/>
                <a:gdLst>
                  <a:gd name="textAreaLeft" fmla="*/ -360 w 1441080"/>
                  <a:gd name="textAreaRight" fmla="*/ 1441080 w 1441080"/>
                  <a:gd name="textAreaTop" fmla="*/ 0 h 1439640"/>
                  <a:gd name="textAreaBottom" fmla="*/ 1440000 h 1439640"/>
                </a:gdLst>
                <a:ahLst/>
                <a:rect l="textAreaLeft" t="textAreaTop" r="textAreaRight" b="textAreaBottom"/>
                <a:pathLst>
                  <a:path w="1440000" h="1440000">
                    <a:moveTo>
                      <a:pt x="1130888" y="1310164"/>
                    </a:moveTo>
                    <a:lnTo>
                      <a:pt x="1122559" y="1317036"/>
                    </a:lnTo>
                    <a:lnTo>
                      <a:pt x="1087754" y="1335927"/>
                    </a:lnTo>
                    <a:close/>
                    <a:moveTo>
                      <a:pt x="1230561" y="1227367"/>
                    </a:moveTo>
                    <a:lnTo>
                      <a:pt x="1229117" y="1229117"/>
                    </a:lnTo>
                    <a:lnTo>
                      <a:pt x="1213503" y="1242000"/>
                    </a:lnTo>
                    <a:close/>
                    <a:moveTo>
                      <a:pt x="1332387" y="1094276"/>
                    </a:moveTo>
                    <a:lnTo>
                      <a:pt x="1317035" y="1122559"/>
                    </a:lnTo>
                    <a:lnTo>
                      <a:pt x="1313098" y="1127331"/>
                    </a:lnTo>
                    <a:close/>
                    <a:moveTo>
                      <a:pt x="1393667" y="967242"/>
                    </a:moveTo>
                    <a:lnTo>
                      <a:pt x="1383419" y="1000257"/>
                    </a:lnTo>
                    <a:lnTo>
                      <a:pt x="1375718" y="1014445"/>
                    </a:lnTo>
                    <a:close/>
                    <a:moveTo>
                      <a:pt x="1433756" y="810172"/>
                    </a:moveTo>
                    <a:lnTo>
                      <a:pt x="1425372" y="865105"/>
                    </a:lnTo>
                    <a:lnTo>
                      <a:pt x="1417984" y="888905"/>
                    </a:lnTo>
                    <a:close/>
                    <a:moveTo>
                      <a:pt x="1438638" y="693019"/>
                    </a:moveTo>
                    <a:lnTo>
                      <a:pt x="1440000" y="720000"/>
                    </a:lnTo>
                    <a:cubicBezTo>
                      <a:pt x="1440000" y="744853"/>
                      <a:pt x="1438741" y="769412"/>
                      <a:pt x="1436283" y="793616"/>
                    </a:cubicBezTo>
                    <a:lnTo>
                      <a:pt x="1435478" y="798886"/>
                    </a:lnTo>
                    <a:close/>
                    <a:moveTo>
                      <a:pt x="1422786" y="566565"/>
                    </a:moveTo>
                    <a:lnTo>
                      <a:pt x="1425372" y="574895"/>
                    </a:lnTo>
                    <a:cubicBezTo>
                      <a:pt x="1430168" y="598330"/>
                      <a:pt x="1433825" y="622180"/>
                      <a:pt x="1436283" y="646384"/>
                    </a:cubicBezTo>
                    <a:lnTo>
                      <a:pt x="1437493" y="670344"/>
                    </a:lnTo>
                    <a:close/>
                    <a:moveTo>
                      <a:pt x="1376951" y="427827"/>
                    </a:moveTo>
                    <a:lnTo>
                      <a:pt x="1383419" y="439744"/>
                    </a:lnTo>
                    <a:lnTo>
                      <a:pt x="1384969" y="444738"/>
                    </a:lnTo>
                    <a:lnTo>
                      <a:pt x="1383620" y="440557"/>
                    </a:lnTo>
                    <a:close/>
                    <a:moveTo>
                      <a:pt x="1295525" y="291370"/>
                    </a:moveTo>
                    <a:lnTo>
                      <a:pt x="1317035" y="317441"/>
                    </a:lnTo>
                    <a:lnTo>
                      <a:pt x="1321191" y="325099"/>
                    </a:lnTo>
                    <a:close/>
                    <a:moveTo>
                      <a:pt x="1204049" y="190200"/>
                    </a:moveTo>
                    <a:lnTo>
                      <a:pt x="1229117" y="210883"/>
                    </a:lnTo>
                    <a:lnTo>
                      <a:pt x="1239744" y="223763"/>
                    </a:lnTo>
                    <a:close/>
                    <a:moveTo>
                      <a:pt x="1098642" y="109983"/>
                    </a:moveTo>
                    <a:lnTo>
                      <a:pt x="1122559" y="122965"/>
                    </a:lnTo>
                    <a:lnTo>
                      <a:pt x="1141964" y="138975"/>
                    </a:lnTo>
                    <a:close/>
                    <a:moveTo>
                      <a:pt x="981520" y="50765"/>
                    </a:moveTo>
                    <a:lnTo>
                      <a:pt x="1000256" y="56581"/>
                    </a:lnTo>
                    <a:lnTo>
                      <a:pt x="1029214" y="72299"/>
                    </a:lnTo>
                    <a:close/>
                    <a:moveTo>
                      <a:pt x="849922" y="12311"/>
                    </a:moveTo>
                    <a:lnTo>
                      <a:pt x="865105" y="14628"/>
                    </a:lnTo>
                    <a:lnTo>
                      <a:pt x="899392" y="25271"/>
                    </a:lnTo>
                    <a:close/>
                    <a:moveTo>
                      <a:pt x="720000" y="0"/>
                    </a:moveTo>
                    <a:cubicBezTo>
                      <a:pt x="744853" y="0"/>
                      <a:pt x="769412" y="1259"/>
                      <a:pt x="793616" y="3717"/>
                    </a:cubicBezTo>
                    <a:lnTo>
                      <a:pt x="832590" y="9666"/>
                    </a:lnTo>
                    <a:lnTo>
                      <a:pt x="720000" y="1"/>
                    </a:lnTo>
                    <a:lnTo>
                      <a:pt x="720000" y="180000"/>
                    </a:lnTo>
                    <a:cubicBezTo>
                      <a:pt x="421766" y="180000"/>
                      <a:pt x="180000" y="421766"/>
                      <a:pt x="180000" y="720000"/>
                    </a:cubicBezTo>
                    <a:cubicBezTo>
                      <a:pt x="180000" y="1018234"/>
                      <a:pt x="421766" y="1260000"/>
                      <a:pt x="720000" y="1260000"/>
                    </a:cubicBezTo>
                    <a:cubicBezTo>
                      <a:pt x="794559" y="1260000"/>
                      <a:pt x="865588" y="1244890"/>
                      <a:pt x="930192" y="1217564"/>
                    </a:cubicBezTo>
                    <a:lnTo>
                      <a:pt x="955410" y="1203877"/>
                    </a:lnTo>
                    <a:lnTo>
                      <a:pt x="1033880" y="1365169"/>
                    </a:lnTo>
                    <a:lnTo>
                      <a:pt x="1000256" y="1383419"/>
                    </a:lnTo>
                    <a:cubicBezTo>
                      <a:pt x="914117" y="1419853"/>
                      <a:pt x="819411" y="1440000"/>
                      <a:pt x="720000" y="1440000"/>
                    </a:cubicBezTo>
                    <a:cubicBezTo>
                      <a:pt x="322355" y="1440000"/>
                      <a:pt x="0" y="1117645"/>
                      <a:pt x="0" y="720000"/>
                    </a:cubicBezTo>
                    <a:cubicBezTo>
                      <a:pt x="0" y="322355"/>
                      <a:pt x="322355" y="0"/>
                      <a:pt x="720000" y="0"/>
                    </a:cubicBezTo>
                    <a:close/>
                  </a:path>
                </a:pathLst>
              </a:custGeom>
              <a:solidFill>
                <a:srgbClr val="01b0f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宋体"/>
                </a:endParaRPr>
              </a:p>
            </p:txBody>
          </p:sp>
        </p:grpSp>
        <p:sp>
          <p:nvSpPr>
            <p:cNvPr id="148" name="文本框 54"/>
            <p:cNvSpPr/>
            <p:nvPr/>
          </p:nvSpPr>
          <p:spPr>
            <a:xfrm>
              <a:off x="9850320" y="5772600"/>
              <a:ext cx="189828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造字工房悦黑体验版纤细体"/>
                  <a:ea typeface="造字工房悦黑体验版纤细体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" name="文本框 59"/>
          <p:cNvSpPr/>
          <p:nvPr/>
        </p:nvSpPr>
        <p:spPr>
          <a:xfrm>
            <a:off x="781200" y="4649760"/>
            <a:ext cx="13348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8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文本框 60"/>
          <p:cNvSpPr/>
          <p:nvPr/>
        </p:nvSpPr>
        <p:spPr>
          <a:xfrm>
            <a:off x="3267000" y="4649760"/>
            <a:ext cx="13348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5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文本框 61"/>
          <p:cNvSpPr/>
          <p:nvPr/>
        </p:nvSpPr>
        <p:spPr>
          <a:xfrm>
            <a:off x="7570800" y="4649760"/>
            <a:ext cx="13348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7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文本框 62"/>
          <p:cNvSpPr/>
          <p:nvPr/>
        </p:nvSpPr>
        <p:spPr>
          <a:xfrm>
            <a:off x="10132920" y="4633920"/>
            <a:ext cx="13348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5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文本框 2"/>
          <p:cNvSpPr/>
          <p:nvPr/>
        </p:nvSpPr>
        <p:spPr>
          <a:xfrm>
            <a:off x="3610080" y="555480"/>
            <a:ext cx="4738320" cy="14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1b0f1"/>
                </a:solidFill>
                <a:latin typeface="造字工房悦黑体验版纤细体"/>
                <a:ea typeface="造字工房悦黑体验版纤细体"/>
              </a:rPr>
              <a:t>Add Your Title he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组合 23"/>
          <p:cNvGrpSpPr/>
          <p:nvPr/>
        </p:nvGrpSpPr>
        <p:grpSpPr>
          <a:xfrm>
            <a:off x="724320" y="1849320"/>
            <a:ext cx="359640" cy="515880"/>
            <a:chOff x="724320" y="1849320"/>
            <a:chExt cx="359640" cy="515880"/>
          </a:xfrm>
        </p:grpSpPr>
        <p:sp>
          <p:nvSpPr>
            <p:cNvPr id="155" name="圆角矩形 6"/>
            <p:cNvSpPr/>
            <p:nvPr/>
          </p:nvSpPr>
          <p:spPr>
            <a:xfrm>
              <a:off x="724320" y="1849320"/>
              <a:ext cx="359640" cy="509040"/>
            </a:xfrm>
            <a:prstGeom prst="roundRect">
              <a:avLst>
                <a:gd name="adj" fmla="val 16667"/>
              </a:avLst>
            </a:prstGeom>
            <a:noFill/>
            <a:ln w="57150">
              <a:solidFill>
                <a:srgbClr val="000000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56" name="圆角矩形 10"/>
            <p:cNvSpPr/>
            <p:nvPr/>
          </p:nvSpPr>
          <p:spPr>
            <a:xfrm>
              <a:off x="724320" y="2238120"/>
              <a:ext cx="359640" cy="127080"/>
            </a:xfrm>
            <a:prstGeom prst="roundRect">
              <a:avLst>
                <a:gd name="adj" fmla="val 16667"/>
              </a:avLst>
            </a:prstGeom>
            <a:solidFill>
              <a:schemeClr val="tx1"/>
            </a:solidFill>
            <a:ln>
              <a:solidFill>
                <a:srgbClr val="000000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57" name="椭圆 12"/>
            <p:cNvSpPr/>
            <p:nvPr/>
          </p:nvSpPr>
          <p:spPr>
            <a:xfrm>
              <a:off x="862920" y="2273760"/>
              <a:ext cx="71640" cy="71640"/>
            </a:xfrm>
            <a:prstGeom prst="ellipse">
              <a:avLst/>
            </a:prstGeom>
            <a:solidFill>
              <a:schemeClr val="bg1"/>
            </a:solidFill>
            <a:ln>
              <a:solidFill>
                <a:srgbClr val="000000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</p:grpSp>
      <p:grpSp>
        <p:nvGrpSpPr>
          <p:cNvPr id="158" name="组合 22"/>
          <p:cNvGrpSpPr/>
          <p:nvPr/>
        </p:nvGrpSpPr>
        <p:grpSpPr>
          <a:xfrm>
            <a:off x="7005240" y="1946880"/>
            <a:ext cx="570960" cy="437040"/>
            <a:chOff x="7005240" y="1946880"/>
            <a:chExt cx="570960" cy="437040"/>
          </a:xfrm>
        </p:grpSpPr>
        <p:sp>
          <p:nvSpPr>
            <p:cNvPr id="159" name="矩形 14"/>
            <p:cNvSpPr/>
            <p:nvPr/>
          </p:nvSpPr>
          <p:spPr>
            <a:xfrm>
              <a:off x="7005240" y="1946880"/>
              <a:ext cx="570960" cy="333720"/>
            </a:xfrm>
            <a:prstGeom prst="rect">
              <a:avLst/>
            </a:prstGeom>
            <a:noFill/>
            <a:ln w="38100">
              <a:solidFill>
                <a:srgbClr val="000000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cxnSp>
          <p:nvCxnSpPr>
            <p:cNvPr id="160" name="直接连接符 18"/>
            <p:cNvCxnSpPr>
              <a:stCxn id="159" idx="2"/>
            </p:cNvCxnSpPr>
            <p:nvPr/>
          </p:nvCxnSpPr>
          <p:spPr>
            <a:xfrm flipH="1">
              <a:off x="7290000" y="2280600"/>
              <a:ext cx="1080" cy="103680"/>
            </a:xfrm>
            <a:prstGeom prst="straightConnector1">
              <a:avLst/>
            </a:prstGeom>
            <a:ln w="38100">
              <a:solidFill>
                <a:srgbClr val="000000"/>
              </a:solidFill>
            </a:ln>
          </p:spPr>
        </p:cxnSp>
        <p:cxnSp>
          <p:nvCxnSpPr>
            <p:cNvPr id="161" name="直接连接符 21"/>
            <p:cNvCxnSpPr/>
            <p:nvPr/>
          </p:nvCxnSpPr>
          <p:spPr>
            <a:xfrm>
              <a:off x="7075440" y="2383920"/>
              <a:ext cx="429840" cy="360"/>
            </a:xfrm>
            <a:prstGeom prst="straightConnector1">
              <a:avLst/>
            </a:prstGeom>
            <a:ln w="38100">
              <a:solidFill>
                <a:srgbClr val="000000"/>
              </a:solidFill>
            </a:ln>
          </p:spPr>
        </p:cxnSp>
      </p:grpSp>
    </p:spTree>
  </p:cSld>
  <mc:AlternateContent>
    <mc:Choice Requires="p14">
      <p:transition spd="med" p14:dur="900"/>
    </mc:Choice>
    <mc:Fallback>
      <p:transition spd="med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椭圆 4"/>
          <p:cNvSpPr/>
          <p:nvPr/>
        </p:nvSpPr>
        <p:spPr>
          <a:xfrm>
            <a:off x="1706400" y="2141640"/>
            <a:ext cx="3239640" cy="3239640"/>
          </a:xfrm>
          <a:prstGeom prst="ellipse">
            <a:avLst/>
          </a:prstGeom>
          <a:noFill/>
          <a:ln>
            <a:solidFill>
              <a:srgbClr val="01b0f1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造字工房悦黑体验版纤细体"/>
              <a:ea typeface="造字工房悦黑体验版纤细体"/>
            </a:endParaRPr>
          </a:p>
        </p:txBody>
      </p:sp>
      <p:grpSp>
        <p:nvGrpSpPr>
          <p:cNvPr id="163" name="组合 8"/>
          <p:cNvGrpSpPr/>
          <p:nvPr/>
        </p:nvGrpSpPr>
        <p:grpSpPr>
          <a:xfrm>
            <a:off x="6564240" y="2457360"/>
            <a:ext cx="3511080" cy="2590200"/>
            <a:chOff x="6564240" y="2457360"/>
            <a:chExt cx="3511080" cy="2590200"/>
          </a:xfrm>
        </p:grpSpPr>
        <p:sp>
          <p:nvSpPr>
            <p:cNvPr id="164" name="文本框 7"/>
            <p:cNvSpPr/>
            <p:nvPr/>
          </p:nvSpPr>
          <p:spPr>
            <a:xfrm>
              <a:off x="6564240" y="3312000"/>
              <a:ext cx="3511080" cy="173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5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造字工房悦黑体验版纤细体"/>
                  <a:ea typeface="造字工房悦黑体验版纤细体"/>
                </a:rPr>
                <a:t>Hello,I want to play a game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造字工房悦黑体验版纤细体"/>
                  <a:ea typeface="造字工房悦黑体验版纤细体"/>
                </a:rPr>
                <a:t>Hello,I want to play a game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造字工房悦黑体验版纤细体"/>
                  <a:ea typeface="造字工房悦黑体验版纤细体"/>
                </a:rPr>
                <a:t>Hello,I want to play a game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造字工房悦黑体验版纤细体"/>
                  <a:ea typeface="造字工房悦黑体验版纤细体"/>
                </a:rPr>
                <a:t>Hello,I want to play a game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文本框 10"/>
            <p:cNvSpPr/>
            <p:nvPr/>
          </p:nvSpPr>
          <p:spPr>
            <a:xfrm>
              <a:off x="6564240" y="2457360"/>
              <a:ext cx="189864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1b0f1"/>
                  </a:solidFill>
                  <a:latin typeface="造字工房悦黑体验版纤细体"/>
                  <a:ea typeface="造字工房悦黑体验版纤细体"/>
                </a:rPr>
                <a:t>Text He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" name="文本框 2"/>
          <p:cNvSpPr/>
          <p:nvPr/>
        </p:nvSpPr>
        <p:spPr>
          <a:xfrm>
            <a:off x="3610080" y="555480"/>
            <a:ext cx="4738320" cy="14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1b0f1"/>
                </a:solidFill>
                <a:latin typeface="造字工房悦黑体验版纤细体"/>
                <a:ea typeface="造字工房悦黑体验版纤细体"/>
              </a:rPr>
              <a:t>Add Your Title he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icture 12"/>
          <p:cNvSpPr/>
          <p:nvPr/>
        </p:nvSpPr>
        <p:spPr>
          <a:xfrm>
            <a:off x="1868760" y="2303640"/>
            <a:ext cx="2915640" cy="291564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6"/>
          <p:cNvSpPr/>
          <p:nvPr/>
        </p:nvSpPr>
        <p:spPr>
          <a:xfrm>
            <a:off x="1027800" y="6418440"/>
            <a:ext cx="582732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模板打包下载</a:t>
            </a:r>
            <a:r>
              <a:rPr b="0" lang="en-US" sz="1600" spc="-1" strike="noStrike" u="sng">
                <a:solidFill>
                  <a:srgbClr val="0563c1"/>
                </a:solidFill>
                <a:uFillTx/>
                <a:latin typeface="Arial"/>
                <a:ea typeface="宋体"/>
                <a:hlinkClick r:id="rId2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p14:dur="900"/>
    </mc:Choice>
    <mc:Fallback>
      <p:transition spd="med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0" descr="手机"/>
          <p:cNvPicPr/>
          <p:nvPr/>
        </p:nvPicPr>
        <p:blipFill>
          <a:blip r:embed="rId1"/>
          <a:stretch/>
        </p:blipFill>
        <p:spPr>
          <a:xfrm>
            <a:off x="695160" y="474120"/>
            <a:ext cx="3939840" cy="5510520"/>
          </a:xfrm>
          <a:prstGeom prst="rect">
            <a:avLst/>
          </a:prstGeom>
          <a:ln w="0">
            <a:noFill/>
          </a:ln>
        </p:spPr>
      </p:pic>
      <p:grpSp>
        <p:nvGrpSpPr>
          <p:cNvPr id="170" name="组合 5"/>
          <p:cNvGrpSpPr/>
          <p:nvPr/>
        </p:nvGrpSpPr>
        <p:grpSpPr>
          <a:xfrm>
            <a:off x="6528240" y="1989000"/>
            <a:ext cx="5047560" cy="1290600"/>
            <a:chOff x="6528240" y="1989000"/>
            <a:chExt cx="5047560" cy="1290600"/>
          </a:xfrm>
        </p:grpSpPr>
        <p:sp>
          <p:nvSpPr>
            <p:cNvPr id="171" name="文本框 7"/>
            <p:cNvSpPr/>
            <p:nvPr/>
          </p:nvSpPr>
          <p:spPr>
            <a:xfrm>
              <a:off x="6528240" y="2367000"/>
              <a:ext cx="5047560" cy="91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5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造字工房悦黑体验版纤细体"/>
                  <a:ea typeface="造字工房悦黑体验版纤细体"/>
                </a:rPr>
                <a:t>I want to play a game. I want to play a game. I want to play a game. I want to play a game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文本框 7"/>
            <p:cNvSpPr/>
            <p:nvPr/>
          </p:nvSpPr>
          <p:spPr>
            <a:xfrm>
              <a:off x="6528240" y="1989000"/>
              <a:ext cx="272952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1b0f1"/>
                  </a:solidFill>
                  <a:latin typeface="造字工房悦黑体验版纤细体"/>
                  <a:ea typeface="造字工房悦黑体验版纤细体"/>
                </a:rPr>
                <a:t>Topic header on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组合 10"/>
          <p:cNvGrpSpPr/>
          <p:nvPr/>
        </p:nvGrpSpPr>
        <p:grpSpPr>
          <a:xfrm>
            <a:off x="6528240" y="3400560"/>
            <a:ext cx="5047560" cy="1266120"/>
            <a:chOff x="6528240" y="3400560"/>
            <a:chExt cx="5047560" cy="1266120"/>
          </a:xfrm>
        </p:grpSpPr>
        <p:sp>
          <p:nvSpPr>
            <p:cNvPr id="174" name="文本框 7"/>
            <p:cNvSpPr/>
            <p:nvPr/>
          </p:nvSpPr>
          <p:spPr>
            <a:xfrm>
              <a:off x="6528240" y="3754080"/>
              <a:ext cx="5047560" cy="91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5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造字工房悦黑体验版纤细体"/>
                  <a:ea typeface="造字工房悦黑体验版纤细体"/>
                </a:rPr>
                <a:t>I want to play a game. I want to play a game. I want to play a game. I want to play a game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文本框 12"/>
            <p:cNvSpPr/>
            <p:nvPr/>
          </p:nvSpPr>
          <p:spPr>
            <a:xfrm>
              <a:off x="6528240" y="3400560"/>
              <a:ext cx="272952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1b0f1"/>
                  </a:solidFill>
                  <a:latin typeface="造字工房悦黑体验版纤细体"/>
                  <a:ea typeface="造字工房悦黑体验版纤细体"/>
                </a:rPr>
                <a:t>Topic header tw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组合 15"/>
          <p:cNvGrpSpPr/>
          <p:nvPr/>
        </p:nvGrpSpPr>
        <p:grpSpPr>
          <a:xfrm>
            <a:off x="6528240" y="4821840"/>
            <a:ext cx="5047560" cy="1230840"/>
            <a:chOff x="6528240" y="4821840"/>
            <a:chExt cx="5047560" cy="1230840"/>
          </a:xfrm>
        </p:grpSpPr>
        <p:sp>
          <p:nvSpPr>
            <p:cNvPr id="177" name="文本框 7"/>
            <p:cNvSpPr/>
            <p:nvPr/>
          </p:nvSpPr>
          <p:spPr>
            <a:xfrm>
              <a:off x="6528240" y="5140080"/>
              <a:ext cx="5047560" cy="91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5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造字工房悦黑体验版纤细体"/>
                  <a:ea typeface="造字工房悦黑体验版纤细体"/>
                </a:rPr>
                <a:t>I want to play a game. I want to play a game. I want to play a game. I want to play a game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文本框 17"/>
            <p:cNvSpPr/>
            <p:nvPr/>
          </p:nvSpPr>
          <p:spPr>
            <a:xfrm>
              <a:off x="6528240" y="4821840"/>
              <a:ext cx="2729520" cy="82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1b0f1"/>
                  </a:solidFill>
                  <a:latin typeface="造字工房悦黑体验版纤细体"/>
                  <a:ea typeface="造字工房悦黑体验版纤细体"/>
                </a:rPr>
                <a:t>Topic header thre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文本框 2"/>
          <p:cNvSpPr/>
          <p:nvPr/>
        </p:nvSpPr>
        <p:spPr>
          <a:xfrm>
            <a:off x="6056280" y="555480"/>
            <a:ext cx="4738320" cy="14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1b0f1"/>
                </a:solidFill>
                <a:latin typeface="造字工房悦黑体验版纤细体"/>
                <a:ea typeface="造字工房悦黑体验版纤细体"/>
              </a:rPr>
              <a:t>Add Your Title he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图片 2"/>
          <p:cNvSpPr/>
          <p:nvPr/>
        </p:nvSpPr>
        <p:spPr>
          <a:xfrm>
            <a:off x="5880960" y="1989000"/>
            <a:ext cx="539640" cy="53964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图片 3"/>
          <p:cNvSpPr/>
          <p:nvPr/>
        </p:nvSpPr>
        <p:spPr>
          <a:xfrm>
            <a:off x="5880960" y="3400560"/>
            <a:ext cx="539640" cy="53964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图片 5"/>
          <p:cNvSpPr/>
          <p:nvPr/>
        </p:nvSpPr>
        <p:spPr>
          <a:xfrm>
            <a:off x="5880960" y="4746600"/>
            <a:ext cx="539640" cy="53964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125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3" name="组合 14"/>
          <p:cNvGrpSpPr/>
          <p:nvPr/>
        </p:nvGrpSpPr>
        <p:grpSpPr>
          <a:xfrm>
            <a:off x="4095720" y="2190600"/>
            <a:ext cx="8229240" cy="4128840"/>
            <a:chOff x="4095720" y="2190600"/>
            <a:chExt cx="8229240" cy="4128840"/>
          </a:xfrm>
        </p:grpSpPr>
        <p:grpSp>
          <p:nvGrpSpPr>
            <p:cNvPr id="184" name="组合 3"/>
            <p:cNvGrpSpPr/>
            <p:nvPr/>
          </p:nvGrpSpPr>
          <p:grpSpPr>
            <a:xfrm>
              <a:off x="5143680" y="2190600"/>
              <a:ext cx="1331640" cy="1331640"/>
              <a:chOff x="5143680" y="2190600"/>
              <a:chExt cx="1331640" cy="1331640"/>
            </a:xfrm>
          </p:grpSpPr>
          <p:sp>
            <p:nvSpPr>
              <p:cNvPr id="185" name="椭圆 1"/>
              <p:cNvSpPr/>
              <p:nvPr/>
            </p:nvSpPr>
            <p:spPr>
              <a:xfrm>
                <a:off x="5143680" y="2190600"/>
                <a:ext cx="1331640" cy="1331640"/>
              </a:xfrm>
              <a:prstGeom prst="ellipse">
                <a:avLst/>
              </a:prstGeom>
              <a:noFill/>
              <a:ln w="76200">
                <a:solidFill>
                  <a:srgbClr val="01b0f1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1b0f1"/>
                  </a:solidFill>
                  <a:latin typeface="造字工房悦黑体验版纤细体"/>
                  <a:ea typeface="造字工房悦黑体验版纤细体"/>
                </a:endParaRPr>
              </a:p>
            </p:txBody>
          </p:sp>
          <p:sp>
            <p:nvSpPr>
              <p:cNvPr id="186" name="文本框 2"/>
              <p:cNvSpPr/>
              <p:nvPr/>
            </p:nvSpPr>
            <p:spPr>
              <a:xfrm>
                <a:off x="5226840" y="2502720"/>
                <a:ext cx="1163520" cy="69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2000" spc="-1" strike="noStrike">
                    <a:solidFill>
                      <a:srgbClr val="01b0f1"/>
                    </a:solidFill>
                    <a:latin typeface="造字工房悦黑体验版纤细体"/>
                    <a:ea typeface="造字工房悦黑体验版纤细体"/>
                  </a:rPr>
                  <a:t>Text Her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7" name="组合 5"/>
            <p:cNvGrpSpPr/>
            <p:nvPr/>
          </p:nvGrpSpPr>
          <p:grpSpPr>
            <a:xfrm>
              <a:off x="7529400" y="2190600"/>
              <a:ext cx="1331640" cy="1331640"/>
              <a:chOff x="7529400" y="2190600"/>
              <a:chExt cx="1331640" cy="1331640"/>
            </a:xfrm>
          </p:grpSpPr>
          <p:sp>
            <p:nvSpPr>
              <p:cNvPr id="188" name="椭圆 6"/>
              <p:cNvSpPr/>
              <p:nvPr/>
            </p:nvSpPr>
            <p:spPr>
              <a:xfrm>
                <a:off x="7529400" y="2190600"/>
                <a:ext cx="1331640" cy="1331640"/>
              </a:xfrm>
              <a:prstGeom prst="ellipse">
                <a:avLst/>
              </a:prstGeom>
              <a:noFill/>
              <a:ln w="76200">
                <a:solidFill>
                  <a:srgbClr val="01b0f1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1b0f1"/>
                  </a:solidFill>
                  <a:latin typeface="造字工房悦黑体验版纤细体"/>
                  <a:ea typeface="造字工房悦黑体验版纤细体"/>
                </a:endParaRPr>
              </a:p>
            </p:txBody>
          </p:sp>
          <p:sp>
            <p:nvSpPr>
              <p:cNvPr id="189" name="文本框 7"/>
              <p:cNvSpPr/>
              <p:nvPr/>
            </p:nvSpPr>
            <p:spPr>
              <a:xfrm>
                <a:off x="7613640" y="2502720"/>
                <a:ext cx="1163520" cy="69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2000" spc="-1" strike="noStrike">
                    <a:solidFill>
                      <a:srgbClr val="01b0f1"/>
                    </a:solidFill>
                    <a:latin typeface="造字工房悦黑体验版纤细体"/>
                    <a:ea typeface="造字工房悦黑体验版纤细体"/>
                  </a:rPr>
                  <a:t>Text Her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0" name="组合 8"/>
            <p:cNvGrpSpPr/>
            <p:nvPr/>
          </p:nvGrpSpPr>
          <p:grpSpPr>
            <a:xfrm>
              <a:off x="9917280" y="2190600"/>
              <a:ext cx="1331640" cy="1331640"/>
              <a:chOff x="9917280" y="2190600"/>
              <a:chExt cx="1331640" cy="1331640"/>
            </a:xfrm>
          </p:grpSpPr>
          <p:sp>
            <p:nvSpPr>
              <p:cNvPr id="191" name="椭圆 9"/>
              <p:cNvSpPr/>
              <p:nvPr/>
            </p:nvSpPr>
            <p:spPr>
              <a:xfrm>
                <a:off x="9917280" y="2190600"/>
                <a:ext cx="1331640" cy="1331640"/>
              </a:xfrm>
              <a:prstGeom prst="ellipse">
                <a:avLst/>
              </a:prstGeom>
              <a:noFill/>
              <a:ln w="76200">
                <a:solidFill>
                  <a:srgbClr val="01b0f1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1b0f1"/>
                  </a:solidFill>
                  <a:latin typeface="造字工房悦黑体验版纤细体"/>
                  <a:ea typeface="造字工房悦黑体验版纤细体"/>
                </a:endParaRPr>
              </a:p>
            </p:txBody>
          </p:sp>
          <p:sp>
            <p:nvSpPr>
              <p:cNvPr id="192" name="文本框 10"/>
              <p:cNvSpPr/>
              <p:nvPr/>
            </p:nvSpPr>
            <p:spPr>
              <a:xfrm>
                <a:off x="10000800" y="2502720"/>
                <a:ext cx="1163520" cy="69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2000" spc="-1" strike="noStrike">
                    <a:solidFill>
                      <a:srgbClr val="01b0f1"/>
                    </a:solidFill>
                    <a:latin typeface="造字工房悦黑体验版纤细体"/>
                    <a:ea typeface="造字工房悦黑体验版纤细体"/>
                  </a:rPr>
                  <a:t>Text Her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aphicFrame>
          <p:nvGraphicFramePr>
            <p:cNvPr id="193" name="图表 12"/>
            <p:cNvGraphicFramePr/>
            <p:nvPr/>
          </p:nvGraphicFramePr>
          <p:xfrm>
            <a:off x="4095720" y="3844080"/>
            <a:ext cx="8229240" cy="2475360"/>
          </p:xfrm>
          <a:graphic>
            <a:graphicData uri="http://schemas.openxmlformats.org/presentationml/2006/ole">
              <p:oleObj progId="Excel.Chart.8" r:id="rId1" spid="">
                <p:embed/>
                <p:pic>
                  <p:nvPicPr>
                    <p:cNvPr id="194" name="图表 12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095720" y="3844080"/>
                      <a:ext cx="8229240" cy="2475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95" name="文本框 13"/>
            <p:cNvSpPr/>
            <p:nvPr/>
          </p:nvSpPr>
          <p:spPr>
            <a:xfrm>
              <a:off x="5154480" y="4476960"/>
              <a:ext cx="58140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000000"/>
                  </a:solidFill>
                  <a:latin typeface="造字工房悦黑体验版纤细体"/>
                  <a:ea typeface="造字工房悦黑体验版纤细体"/>
                </a:rPr>
                <a:t>10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文本框 15"/>
            <p:cNvSpPr/>
            <p:nvPr/>
          </p:nvSpPr>
          <p:spPr>
            <a:xfrm>
              <a:off x="6076080" y="5045040"/>
              <a:ext cx="58140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000000"/>
                  </a:solidFill>
                  <a:latin typeface="造字工房悦黑体验版纤细体"/>
                  <a:ea typeface="造字工房悦黑体验版纤细体"/>
                </a:rPr>
                <a:t>10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文本框 16"/>
            <p:cNvSpPr/>
            <p:nvPr/>
          </p:nvSpPr>
          <p:spPr>
            <a:xfrm>
              <a:off x="6998760" y="5160960"/>
              <a:ext cx="58140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000000"/>
                  </a:solidFill>
                  <a:latin typeface="造字工房悦黑体验版纤细体"/>
                  <a:ea typeface="造字工房悦黑体验版纤细体"/>
                </a:rPr>
                <a:t>10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文本框 17"/>
            <p:cNvSpPr/>
            <p:nvPr/>
          </p:nvSpPr>
          <p:spPr>
            <a:xfrm>
              <a:off x="7916760" y="3962160"/>
              <a:ext cx="58140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000000"/>
                  </a:solidFill>
                  <a:latin typeface="造字工房悦黑体验版纤细体"/>
                  <a:ea typeface="造字工房悦黑体验版纤细体"/>
                </a:rPr>
                <a:t>10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文本框 18"/>
            <p:cNvSpPr/>
            <p:nvPr/>
          </p:nvSpPr>
          <p:spPr>
            <a:xfrm>
              <a:off x="8831880" y="4850640"/>
              <a:ext cx="58140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000000"/>
                  </a:solidFill>
                  <a:latin typeface="造字工房悦黑体验版纤细体"/>
                  <a:ea typeface="造字工房悦黑体验版纤细体"/>
                </a:rPr>
                <a:t>10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文本框 19"/>
            <p:cNvSpPr/>
            <p:nvPr/>
          </p:nvSpPr>
          <p:spPr>
            <a:xfrm>
              <a:off x="9737640" y="5146920"/>
              <a:ext cx="58140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000000"/>
                  </a:solidFill>
                  <a:latin typeface="造字工房悦黑体验版纤细体"/>
                  <a:ea typeface="造字工房悦黑体验版纤细体"/>
                </a:rPr>
                <a:t>10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文本框 20"/>
            <p:cNvSpPr/>
            <p:nvPr/>
          </p:nvSpPr>
          <p:spPr>
            <a:xfrm>
              <a:off x="10665720" y="4548240"/>
              <a:ext cx="58140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000000"/>
                  </a:solidFill>
                  <a:latin typeface="造字工房悦黑体验版纤细体"/>
                  <a:ea typeface="造字工房悦黑体验版纤细体"/>
                </a:rPr>
                <a:t>10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组合 10"/>
          <p:cNvGrpSpPr/>
          <p:nvPr/>
        </p:nvGrpSpPr>
        <p:grpSpPr>
          <a:xfrm>
            <a:off x="584280" y="2675520"/>
            <a:ext cx="4114440" cy="1317600"/>
            <a:chOff x="584280" y="2675520"/>
            <a:chExt cx="4114440" cy="1317600"/>
          </a:xfrm>
        </p:grpSpPr>
        <p:sp>
          <p:nvSpPr>
            <p:cNvPr id="203" name="文本框 12"/>
            <p:cNvSpPr/>
            <p:nvPr/>
          </p:nvSpPr>
          <p:spPr>
            <a:xfrm>
              <a:off x="584280" y="2675520"/>
              <a:ext cx="280008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1b0f1"/>
                  </a:solidFill>
                  <a:latin typeface="造字工房悦黑体验版纤细体"/>
                  <a:ea typeface="造字工房悦黑体验版纤细体"/>
                </a:rPr>
                <a:t>Topic header on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文本框 7"/>
            <p:cNvSpPr/>
            <p:nvPr/>
          </p:nvSpPr>
          <p:spPr>
            <a:xfrm>
              <a:off x="646920" y="3080520"/>
              <a:ext cx="4051800" cy="91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5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造字工房悦黑体验版纤细体"/>
                  <a:ea typeface="造字工房悦黑体验版纤细体"/>
                </a:rPr>
                <a:t>I want to play a game. I want to play a game. I want to play a game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组合 10"/>
          <p:cNvGrpSpPr/>
          <p:nvPr/>
        </p:nvGrpSpPr>
        <p:grpSpPr>
          <a:xfrm>
            <a:off x="631800" y="4680000"/>
            <a:ext cx="4114440" cy="1317600"/>
            <a:chOff x="631800" y="4680000"/>
            <a:chExt cx="4114440" cy="1317600"/>
          </a:xfrm>
        </p:grpSpPr>
        <p:sp>
          <p:nvSpPr>
            <p:cNvPr id="206" name="文本框 12"/>
            <p:cNvSpPr/>
            <p:nvPr/>
          </p:nvSpPr>
          <p:spPr>
            <a:xfrm>
              <a:off x="631800" y="4680000"/>
              <a:ext cx="287100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1b0f1"/>
                  </a:solidFill>
                  <a:latin typeface="造字工房悦黑体验版纤细体"/>
                  <a:ea typeface="造字工房悦黑体验版纤细体"/>
                </a:rPr>
                <a:t>Topic header tw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文本框 7"/>
            <p:cNvSpPr/>
            <p:nvPr/>
          </p:nvSpPr>
          <p:spPr>
            <a:xfrm>
              <a:off x="694440" y="5085000"/>
              <a:ext cx="4051800" cy="91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5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造字工房悦黑体验版纤细体"/>
                  <a:ea typeface="造字工房悦黑体验版纤细体"/>
                </a:rPr>
                <a:t>I want to play a game. I want to play a game. I want to play a game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8" name="文本框 2"/>
          <p:cNvSpPr/>
          <p:nvPr/>
        </p:nvSpPr>
        <p:spPr>
          <a:xfrm>
            <a:off x="3610080" y="555480"/>
            <a:ext cx="4738320" cy="14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1b0f1"/>
                </a:solidFill>
                <a:latin typeface="造字工房悦黑体验版纤细体"/>
                <a:ea typeface="造字工房悦黑体验版纤细体"/>
              </a:rPr>
              <a:t>Add Your Title he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125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09" name="直接连接符 14"/>
          <p:cNvCxnSpPr/>
          <p:nvPr/>
        </p:nvCxnSpPr>
        <p:spPr>
          <a:xfrm flipV="1">
            <a:off x="1763640" y="3427200"/>
            <a:ext cx="8649000" cy="10080"/>
          </a:xfrm>
          <a:prstGeom prst="straightConnector1">
            <a:avLst/>
          </a:prstGeom>
          <a:ln w="38100">
            <a:solidFill>
              <a:srgbClr val="01b0f1"/>
            </a:solidFill>
          </a:ln>
        </p:spPr>
      </p:cxnSp>
      <p:sp>
        <p:nvSpPr>
          <p:cNvPr id="210" name="椭圆 2"/>
          <p:cNvSpPr/>
          <p:nvPr/>
        </p:nvSpPr>
        <p:spPr>
          <a:xfrm>
            <a:off x="5375160" y="2708280"/>
            <a:ext cx="1441080" cy="1439640"/>
          </a:xfrm>
          <a:prstGeom prst="ellipse">
            <a:avLst/>
          </a:prstGeom>
          <a:solidFill>
            <a:schemeClr val="bg1"/>
          </a:solidFill>
          <a:ln w="57150">
            <a:solidFill>
              <a:srgbClr val="01b0f1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1b0f1"/>
                </a:solidFill>
                <a:latin typeface="造字工房悦黑体验版纤细体"/>
                <a:ea typeface="造字工房悦黑体验版纤细体"/>
              </a:rPr>
              <a:t>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1" name="直接连接符 11"/>
          <p:cNvCxnSpPr/>
          <p:nvPr/>
        </p:nvCxnSpPr>
        <p:spPr>
          <a:xfrm>
            <a:off x="1780920" y="3100320"/>
            <a:ext cx="360" cy="654120"/>
          </a:xfrm>
          <a:prstGeom prst="straightConnector1">
            <a:avLst/>
          </a:prstGeom>
          <a:ln w="38100">
            <a:solidFill>
              <a:srgbClr val="01b0f1"/>
            </a:solidFill>
          </a:ln>
        </p:spPr>
      </p:cxnSp>
      <p:cxnSp>
        <p:nvCxnSpPr>
          <p:cNvPr id="212" name="直接连接符 12"/>
          <p:cNvCxnSpPr/>
          <p:nvPr/>
        </p:nvCxnSpPr>
        <p:spPr>
          <a:xfrm>
            <a:off x="10412280" y="3100320"/>
            <a:ext cx="360" cy="654120"/>
          </a:xfrm>
          <a:prstGeom prst="straightConnector1">
            <a:avLst/>
          </a:prstGeom>
          <a:ln w="38100">
            <a:solidFill>
              <a:srgbClr val="01b0f1"/>
            </a:solidFill>
          </a:ln>
        </p:spPr>
      </p:cxnSp>
      <p:sp>
        <p:nvSpPr>
          <p:cNvPr id="213" name="文本框 2"/>
          <p:cNvSpPr/>
          <p:nvPr/>
        </p:nvSpPr>
        <p:spPr>
          <a:xfrm>
            <a:off x="3610080" y="555480"/>
            <a:ext cx="4738320" cy="14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1b0f1"/>
                </a:solidFill>
                <a:latin typeface="造字工房悦黑体验版纤细体"/>
                <a:ea typeface="造字工房悦黑体验版纤细体"/>
              </a:rPr>
              <a:t>Add Your Title he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组合 21"/>
          <p:cNvGrpSpPr/>
          <p:nvPr/>
        </p:nvGrpSpPr>
        <p:grpSpPr>
          <a:xfrm>
            <a:off x="1423800" y="1593720"/>
            <a:ext cx="731520" cy="1117440"/>
            <a:chOff x="1423800" y="1593720"/>
            <a:chExt cx="731520" cy="1117440"/>
          </a:xfrm>
        </p:grpSpPr>
        <p:sp>
          <p:nvSpPr>
            <p:cNvPr id="215" name="椭圆 15"/>
            <p:cNvSpPr/>
            <p:nvPr/>
          </p:nvSpPr>
          <p:spPr>
            <a:xfrm>
              <a:off x="1425600" y="1992240"/>
              <a:ext cx="718920" cy="718920"/>
            </a:xfrm>
            <a:prstGeom prst="ellipse">
              <a:avLst/>
            </a:prstGeom>
            <a:solidFill>
              <a:schemeClr val="bg1"/>
            </a:solidFill>
            <a:ln w="38100">
              <a:solidFill>
                <a:srgbClr val="000000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造字工房悦黑体验版纤细体"/>
                <a:ea typeface="造字工房悦黑体验版纤细体"/>
              </a:endParaRPr>
            </a:p>
          </p:txBody>
        </p:sp>
        <p:sp>
          <p:nvSpPr>
            <p:cNvPr id="216" name="文本框 19"/>
            <p:cNvSpPr/>
            <p:nvPr/>
          </p:nvSpPr>
          <p:spPr>
            <a:xfrm>
              <a:off x="1434960" y="1593720"/>
              <a:ext cx="72036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造字工房悦黑体验版纤细体"/>
                  <a:ea typeface="造字工房悦黑体验版纤细体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图片 1"/>
            <p:cNvSpPr/>
            <p:nvPr/>
          </p:nvSpPr>
          <p:spPr>
            <a:xfrm>
              <a:off x="1423800" y="1982520"/>
              <a:ext cx="719640" cy="71964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8" name="组合 22"/>
          <p:cNvGrpSpPr/>
          <p:nvPr/>
        </p:nvGrpSpPr>
        <p:grpSpPr>
          <a:xfrm>
            <a:off x="10063080" y="1582560"/>
            <a:ext cx="720360" cy="1116000"/>
            <a:chOff x="10063080" y="1582560"/>
            <a:chExt cx="720360" cy="1116000"/>
          </a:xfrm>
        </p:grpSpPr>
        <p:sp>
          <p:nvSpPr>
            <p:cNvPr id="219" name="椭圆 18"/>
            <p:cNvSpPr/>
            <p:nvPr/>
          </p:nvSpPr>
          <p:spPr>
            <a:xfrm>
              <a:off x="10063080" y="1978200"/>
              <a:ext cx="720360" cy="720360"/>
            </a:xfrm>
            <a:prstGeom prst="ellipse">
              <a:avLst/>
            </a:prstGeom>
            <a:solidFill>
              <a:schemeClr val="bg1"/>
            </a:solidFill>
            <a:ln w="38100">
              <a:solidFill>
                <a:srgbClr val="000000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造字工房悦黑体验版纤细体"/>
                <a:ea typeface="造字工房悦黑体验版纤细体"/>
              </a:endParaRPr>
            </a:p>
          </p:txBody>
        </p:sp>
        <p:sp>
          <p:nvSpPr>
            <p:cNvPr id="220" name="文本框 20"/>
            <p:cNvSpPr/>
            <p:nvPr/>
          </p:nvSpPr>
          <p:spPr>
            <a:xfrm>
              <a:off x="10063080" y="1582560"/>
              <a:ext cx="72036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造字工房悦黑体验版纤细体"/>
                  <a:ea typeface="造字工房悦黑体验版纤细体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图片 3"/>
            <p:cNvSpPr/>
            <p:nvPr/>
          </p:nvSpPr>
          <p:spPr>
            <a:xfrm>
              <a:off x="10063800" y="1969200"/>
              <a:ext cx="719640" cy="71964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2" name="组合 20"/>
          <p:cNvGrpSpPr/>
          <p:nvPr/>
        </p:nvGrpSpPr>
        <p:grpSpPr>
          <a:xfrm>
            <a:off x="1409760" y="4152960"/>
            <a:ext cx="729000" cy="1127520"/>
            <a:chOff x="1409760" y="4152960"/>
            <a:chExt cx="729000" cy="1127520"/>
          </a:xfrm>
        </p:grpSpPr>
        <p:sp>
          <p:nvSpPr>
            <p:cNvPr id="223" name="椭圆 16"/>
            <p:cNvSpPr/>
            <p:nvPr/>
          </p:nvSpPr>
          <p:spPr>
            <a:xfrm>
              <a:off x="1419120" y="4152960"/>
              <a:ext cx="718920" cy="720360"/>
            </a:xfrm>
            <a:prstGeom prst="ellipse">
              <a:avLst/>
            </a:prstGeom>
            <a:solidFill>
              <a:schemeClr val="bg1"/>
            </a:solidFill>
            <a:ln w="38100">
              <a:solidFill>
                <a:srgbClr val="000000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造字工房悦黑体验版纤细体"/>
                <a:ea typeface="造字工房悦黑体验版纤细体"/>
              </a:endParaRPr>
            </a:p>
          </p:txBody>
        </p:sp>
        <p:sp>
          <p:nvSpPr>
            <p:cNvPr id="224" name="文本框 22"/>
            <p:cNvSpPr/>
            <p:nvPr/>
          </p:nvSpPr>
          <p:spPr>
            <a:xfrm>
              <a:off x="1409760" y="4916520"/>
              <a:ext cx="72036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造字工房悦黑体验版纤细体"/>
                  <a:ea typeface="造字工房悦黑体验版纤细体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图片 5"/>
            <p:cNvSpPr/>
            <p:nvPr/>
          </p:nvSpPr>
          <p:spPr>
            <a:xfrm>
              <a:off x="1419120" y="4155840"/>
              <a:ext cx="719640" cy="71964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6" name="组合 23"/>
          <p:cNvGrpSpPr/>
          <p:nvPr/>
        </p:nvGrpSpPr>
        <p:grpSpPr>
          <a:xfrm>
            <a:off x="10051920" y="4157640"/>
            <a:ext cx="731520" cy="1132200"/>
            <a:chOff x="10051920" y="4157640"/>
            <a:chExt cx="731520" cy="1132200"/>
          </a:xfrm>
        </p:grpSpPr>
        <p:sp>
          <p:nvSpPr>
            <p:cNvPr id="227" name="椭圆 17"/>
            <p:cNvSpPr/>
            <p:nvPr/>
          </p:nvSpPr>
          <p:spPr>
            <a:xfrm>
              <a:off x="10051920" y="4157640"/>
              <a:ext cx="720360" cy="718920"/>
            </a:xfrm>
            <a:prstGeom prst="ellipse">
              <a:avLst/>
            </a:prstGeom>
            <a:solidFill>
              <a:schemeClr val="bg1"/>
            </a:solidFill>
            <a:ln w="38100">
              <a:solidFill>
                <a:srgbClr val="000000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造字工房悦黑体验版纤细体"/>
                <a:ea typeface="造字工房悦黑体验版纤细体"/>
              </a:endParaRPr>
            </a:p>
          </p:txBody>
        </p:sp>
        <p:sp>
          <p:nvSpPr>
            <p:cNvPr id="228" name="文本框 21"/>
            <p:cNvSpPr/>
            <p:nvPr/>
          </p:nvSpPr>
          <p:spPr>
            <a:xfrm>
              <a:off x="10063080" y="4925880"/>
              <a:ext cx="72036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造字工房悦黑体验版纤细体"/>
                  <a:ea typeface="造字工房悦黑体验版纤细体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图片 7"/>
            <p:cNvSpPr/>
            <p:nvPr/>
          </p:nvSpPr>
          <p:spPr>
            <a:xfrm>
              <a:off x="10063080" y="4173480"/>
              <a:ext cx="719640" cy="71964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组合 4"/>
          <p:cNvGrpSpPr/>
          <p:nvPr/>
        </p:nvGrpSpPr>
        <p:grpSpPr>
          <a:xfrm>
            <a:off x="3393720" y="2881080"/>
            <a:ext cx="1082520" cy="1085760"/>
            <a:chOff x="3393720" y="2881080"/>
            <a:chExt cx="1082520" cy="1085760"/>
          </a:xfrm>
        </p:grpSpPr>
        <p:sp>
          <p:nvSpPr>
            <p:cNvPr id="231" name="椭圆 8"/>
            <p:cNvSpPr/>
            <p:nvPr/>
          </p:nvSpPr>
          <p:spPr>
            <a:xfrm>
              <a:off x="3395520" y="2887560"/>
              <a:ext cx="1080720" cy="1079280"/>
            </a:xfrm>
            <a:prstGeom prst="ellipse">
              <a:avLst/>
            </a:prstGeom>
            <a:solidFill>
              <a:schemeClr val="bg1"/>
            </a:solidFill>
            <a:ln w="38100">
              <a:solidFill>
                <a:srgbClr val="000000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造字工房悦黑体验版纤细体"/>
                <a:ea typeface="造字工房悦黑体验版纤细体"/>
              </a:endParaRPr>
            </a:p>
          </p:txBody>
        </p:sp>
        <p:sp>
          <p:nvSpPr>
            <p:cNvPr id="232" name="图片 10"/>
            <p:cNvSpPr/>
            <p:nvPr/>
          </p:nvSpPr>
          <p:spPr>
            <a:xfrm>
              <a:off x="3393720" y="2881080"/>
              <a:ext cx="1079640" cy="107964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" name="组合 6"/>
          <p:cNvGrpSpPr/>
          <p:nvPr/>
        </p:nvGrpSpPr>
        <p:grpSpPr>
          <a:xfrm>
            <a:off x="7718400" y="2881080"/>
            <a:ext cx="1083600" cy="1085760"/>
            <a:chOff x="7718400" y="2881080"/>
            <a:chExt cx="1083600" cy="1085760"/>
          </a:xfrm>
        </p:grpSpPr>
        <p:sp>
          <p:nvSpPr>
            <p:cNvPr id="234" name="椭圆 9"/>
            <p:cNvSpPr/>
            <p:nvPr/>
          </p:nvSpPr>
          <p:spPr>
            <a:xfrm>
              <a:off x="7718400" y="2887560"/>
              <a:ext cx="1080720" cy="1079280"/>
            </a:xfrm>
            <a:prstGeom prst="ellipse">
              <a:avLst/>
            </a:prstGeom>
            <a:solidFill>
              <a:schemeClr val="bg1"/>
            </a:solidFill>
            <a:ln w="38100">
              <a:solidFill>
                <a:srgbClr val="000000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造字工房悦黑体验版纤细体"/>
                <a:ea typeface="造字工房悦黑体验版纤细体"/>
              </a:endParaRPr>
            </a:p>
          </p:txBody>
        </p:sp>
        <p:sp>
          <p:nvSpPr>
            <p:cNvPr id="235" name="图片 13"/>
            <p:cNvSpPr/>
            <p:nvPr/>
          </p:nvSpPr>
          <p:spPr>
            <a:xfrm>
              <a:off x="7722360" y="2881080"/>
              <a:ext cx="1079640" cy="1079640"/>
            </a:xfrm>
            <a:prstGeom prst="ellipse">
              <a:avLst/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med" p14:dur="900"/>
    </mc:Choice>
    <mc:Fallback>
      <p:transition spd="med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6" name="组合 21"/>
          <p:cNvGrpSpPr/>
          <p:nvPr/>
        </p:nvGrpSpPr>
        <p:grpSpPr>
          <a:xfrm>
            <a:off x="2028960" y="2887560"/>
            <a:ext cx="8133840" cy="1166400"/>
            <a:chOff x="2028960" y="2887560"/>
            <a:chExt cx="8133840" cy="1166400"/>
          </a:xfrm>
        </p:grpSpPr>
        <p:grpSp>
          <p:nvGrpSpPr>
            <p:cNvPr id="237" name="组合 10"/>
            <p:cNvGrpSpPr/>
            <p:nvPr/>
          </p:nvGrpSpPr>
          <p:grpSpPr>
            <a:xfrm>
              <a:off x="2523240" y="3357360"/>
              <a:ext cx="7402320" cy="143640"/>
              <a:chOff x="2523240" y="3357360"/>
              <a:chExt cx="7402320" cy="143640"/>
            </a:xfrm>
          </p:grpSpPr>
          <p:sp>
            <p:nvSpPr>
              <p:cNvPr id="238" name="椭圆 2"/>
              <p:cNvSpPr/>
              <p:nvPr/>
            </p:nvSpPr>
            <p:spPr>
              <a:xfrm>
                <a:off x="2523240" y="3357360"/>
                <a:ext cx="143640" cy="143640"/>
              </a:xfrm>
              <a:prstGeom prst="ellipse">
                <a:avLst/>
              </a:prstGeom>
              <a:solidFill>
                <a:schemeClr val="bg1">
                  <a:lumMod val="50000"/>
                </a:schemeClr>
              </a:solidFill>
              <a:ln>
                <a:solidFill>
                  <a:srgbClr val="ffffff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造字工房悦黑体验版纤细体"/>
                  <a:ea typeface="造字工房悦黑体验版纤细体"/>
                </a:endParaRPr>
              </a:p>
            </p:txBody>
          </p:sp>
          <p:cxnSp>
            <p:nvCxnSpPr>
              <p:cNvPr id="239" name="直接连接符 4"/>
              <p:cNvCxnSpPr/>
              <p:nvPr/>
            </p:nvCxnSpPr>
            <p:spPr>
              <a:xfrm>
                <a:off x="2595240" y="3423600"/>
                <a:ext cx="7237080" cy="1116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</a:ln>
            </p:spPr>
          </p:cxnSp>
          <p:sp>
            <p:nvSpPr>
              <p:cNvPr id="240" name="椭圆 5"/>
              <p:cNvSpPr/>
              <p:nvPr/>
            </p:nvSpPr>
            <p:spPr>
              <a:xfrm>
                <a:off x="3979800" y="3357360"/>
                <a:ext cx="143640" cy="143640"/>
              </a:xfrm>
              <a:prstGeom prst="ellipse">
                <a:avLst/>
              </a:prstGeom>
              <a:solidFill>
                <a:schemeClr val="bg1">
                  <a:lumMod val="50000"/>
                </a:schemeClr>
              </a:solidFill>
              <a:ln>
                <a:solidFill>
                  <a:srgbClr val="ffffff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造字工房悦黑体验版纤细体"/>
                  <a:ea typeface="造字工房悦黑体验版纤细体"/>
                </a:endParaRPr>
              </a:p>
            </p:txBody>
          </p:sp>
          <p:sp>
            <p:nvSpPr>
              <p:cNvPr id="241" name="椭圆 6"/>
              <p:cNvSpPr/>
              <p:nvPr/>
            </p:nvSpPr>
            <p:spPr>
              <a:xfrm>
                <a:off x="5436360" y="3357360"/>
                <a:ext cx="143640" cy="143640"/>
              </a:xfrm>
              <a:prstGeom prst="ellipse">
                <a:avLst/>
              </a:prstGeom>
              <a:solidFill>
                <a:schemeClr val="bg1">
                  <a:lumMod val="50000"/>
                </a:schemeClr>
              </a:solidFill>
              <a:ln>
                <a:solidFill>
                  <a:srgbClr val="ffffff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造字工房悦黑体验版纤细体"/>
                  <a:ea typeface="造字工房悦黑体验版纤细体"/>
                </a:endParaRPr>
              </a:p>
            </p:txBody>
          </p:sp>
          <p:sp>
            <p:nvSpPr>
              <p:cNvPr id="242" name="椭圆 7"/>
              <p:cNvSpPr/>
              <p:nvPr/>
            </p:nvSpPr>
            <p:spPr>
              <a:xfrm>
                <a:off x="6868800" y="3357360"/>
                <a:ext cx="143640" cy="143640"/>
              </a:xfrm>
              <a:prstGeom prst="ellipse">
                <a:avLst/>
              </a:prstGeom>
              <a:solidFill>
                <a:schemeClr val="bg1">
                  <a:lumMod val="50000"/>
                </a:schemeClr>
              </a:solidFill>
              <a:ln>
                <a:solidFill>
                  <a:srgbClr val="ffffff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造字工房悦黑体验版纤细体"/>
                  <a:ea typeface="造字工房悦黑体验版纤细体"/>
                </a:endParaRPr>
              </a:p>
            </p:txBody>
          </p:sp>
          <p:sp>
            <p:nvSpPr>
              <p:cNvPr id="243" name="椭圆 8"/>
              <p:cNvSpPr/>
              <p:nvPr/>
            </p:nvSpPr>
            <p:spPr>
              <a:xfrm>
                <a:off x="8325360" y="3357360"/>
                <a:ext cx="143640" cy="143640"/>
              </a:xfrm>
              <a:prstGeom prst="ellipse">
                <a:avLst/>
              </a:prstGeom>
              <a:solidFill>
                <a:schemeClr val="bg1">
                  <a:lumMod val="50000"/>
                </a:schemeClr>
              </a:solidFill>
              <a:ln>
                <a:solidFill>
                  <a:srgbClr val="ffffff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造字工房悦黑体验版纤细体"/>
                  <a:ea typeface="造字工房悦黑体验版纤细体"/>
                </a:endParaRPr>
              </a:p>
            </p:txBody>
          </p:sp>
          <p:sp>
            <p:nvSpPr>
              <p:cNvPr id="244" name="椭圆 9"/>
              <p:cNvSpPr/>
              <p:nvPr/>
            </p:nvSpPr>
            <p:spPr>
              <a:xfrm>
                <a:off x="9781920" y="3357360"/>
                <a:ext cx="143640" cy="143640"/>
              </a:xfrm>
              <a:prstGeom prst="ellipse">
                <a:avLst/>
              </a:prstGeom>
              <a:solidFill>
                <a:schemeClr val="bg1">
                  <a:lumMod val="50000"/>
                </a:schemeClr>
              </a:solidFill>
              <a:ln>
                <a:solidFill>
                  <a:srgbClr val="ffffff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造字工房悦黑体验版纤细体"/>
                  <a:ea typeface="造字工房悦黑体验版纤细体"/>
                </a:endParaRPr>
              </a:p>
            </p:txBody>
          </p:sp>
        </p:grpSp>
        <p:sp>
          <p:nvSpPr>
            <p:cNvPr id="245" name="矩形 11"/>
            <p:cNvSpPr/>
            <p:nvPr/>
          </p:nvSpPr>
          <p:spPr>
            <a:xfrm>
              <a:off x="2251080" y="2890800"/>
              <a:ext cx="761760" cy="272520"/>
            </a:xfrm>
            <a:prstGeom prst="rect">
              <a:avLst/>
            </a:prstGeom>
            <a:solidFill>
              <a:srgbClr val="01b0f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chemeClr val="lt1"/>
                  </a:solidFill>
                  <a:latin typeface="造字工房悦黑体验版纤细体"/>
                  <a:ea typeface="造字工房悦黑体验版纤细体"/>
                </a:rPr>
                <a:t>200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矩形 12"/>
            <p:cNvSpPr/>
            <p:nvPr/>
          </p:nvSpPr>
          <p:spPr>
            <a:xfrm>
              <a:off x="3683160" y="2890800"/>
              <a:ext cx="761760" cy="272520"/>
            </a:xfrm>
            <a:prstGeom prst="rect">
              <a:avLst/>
            </a:prstGeom>
            <a:solidFill>
              <a:srgbClr val="01b0f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chemeClr val="lt1"/>
                  </a:solidFill>
                  <a:latin typeface="造字工房悦黑体验版纤细体"/>
                  <a:ea typeface="造字工房悦黑体验版纤细体"/>
                </a:rPr>
                <a:t>200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矩形 13"/>
            <p:cNvSpPr/>
            <p:nvPr/>
          </p:nvSpPr>
          <p:spPr>
            <a:xfrm>
              <a:off x="6559560" y="2890800"/>
              <a:ext cx="761760" cy="272520"/>
            </a:xfrm>
            <a:prstGeom prst="rect">
              <a:avLst/>
            </a:prstGeom>
            <a:solidFill>
              <a:srgbClr val="376193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ffffff"/>
                  </a:solidFill>
                  <a:latin typeface="造字工房悦黑体验版纤细体"/>
                  <a:ea typeface="造字工房悦黑体验版纤细体"/>
                </a:rPr>
                <a:t>200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矩形 14"/>
            <p:cNvSpPr/>
            <p:nvPr/>
          </p:nvSpPr>
          <p:spPr>
            <a:xfrm>
              <a:off x="8016840" y="2890800"/>
              <a:ext cx="761760" cy="272520"/>
            </a:xfrm>
            <a:prstGeom prst="rect">
              <a:avLst/>
            </a:prstGeom>
            <a:solidFill>
              <a:srgbClr val="01b0f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chemeClr val="lt1"/>
                  </a:solidFill>
                  <a:latin typeface="造字工房悦黑体验版纤细体"/>
                  <a:ea typeface="造字工房悦黑体验版纤细体"/>
                </a:rPr>
                <a:t>201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矩形 15"/>
            <p:cNvSpPr/>
            <p:nvPr/>
          </p:nvSpPr>
          <p:spPr>
            <a:xfrm>
              <a:off x="9401040" y="2890800"/>
              <a:ext cx="761760" cy="272520"/>
            </a:xfrm>
            <a:prstGeom prst="rect">
              <a:avLst/>
            </a:prstGeom>
            <a:solidFill>
              <a:srgbClr val="01b0f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chemeClr val="lt1"/>
                  </a:solidFill>
                  <a:latin typeface="造字工房悦黑体验版纤细体"/>
                  <a:ea typeface="造字工房悦黑体验版纤细体"/>
                </a:rPr>
                <a:t>201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矩形 16"/>
            <p:cNvSpPr/>
            <p:nvPr/>
          </p:nvSpPr>
          <p:spPr>
            <a:xfrm>
              <a:off x="5126040" y="3763800"/>
              <a:ext cx="763200" cy="272520"/>
            </a:xfrm>
            <a:prstGeom prst="rect">
              <a:avLst/>
            </a:prstGeom>
            <a:solidFill>
              <a:srgbClr val="01b0f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chemeClr val="lt1"/>
                  </a:solidFill>
                  <a:latin typeface="造字工房悦黑体验版纤细体"/>
                  <a:ea typeface="造字工房悦黑体验版纤细体"/>
                </a:rPr>
                <a:t>200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文本框 7"/>
            <p:cNvSpPr/>
            <p:nvPr/>
          </p:nvSpPr>
          <p:spPr>
            <a:xfrm>
              <a:off x="2028960" y="3695040"/>
              <a:ext cx="120240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000000"/>
                  </a:solidFill>
                  <a:latin typeface="造字工房悦黑体验版纤细体"/>
                  <a:ea typeface="造字工房悦黑体验版纤细体"/>
                </a:rPr>
                <a:t>Text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文本框 7"/>
            <p:cNvSpPr/>
            <p:nvPr/>
          </p:nvSpPr>
          <p:spPr>
            <a:xfrm>
              <a:off x="4916520" y="2887560"/>
              <a:ext cx="120240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000000"/>
                  </a:solidFill>
                  <a:latin typeface="造字工房悦黑体验版纤细体"/>
                  <a:ea typeface="造字工房悦黑体验版纤细体"/>
                </a:rPr>
                <a:t>Text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文本框 7"/>
            <p:cNvSpPr/>
            <p:nvPr/>
          </p:nvSpPr>
          <p:spPr>
            <a:xfrm>
              <a:off x="7795440" y="3720960"/>
              <a:ext cx="120240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000000"/>
                  </a:solidFill>
                  <a:latin typeface="造字工房悦黑体验版纤细体"/>
                  <a:ea typeface="造字工房悦黑体验版纤细体"/>
                </a:rPr>
                <a:t>Text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4" name="文本框 2"/>
          <p:cNvSpPr/>
          <p:nvPr/>
        </p:nvSpPr>
        <p:spPr>
          <a:xfrm>
            <a:off x="3610080" y="555480"/>
            <a:ext cx="4738320" cy="14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1b0f1"/>
                </a:solidFill>
                <a:latin typeface="造字工房悦黑体验版纤细体"/>
                <a:ea typeface="造字工房悦黑体验版纤细体"/>
              </a:rPr>
              <a:t>Add Your Title he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图片 3"/>
          <p:cNvSpPr/>
          <p:nvPr/>
        </p:nvSpPr>
        <p:spPr>
          <a:xfrm>
            <a:off x="6580440" y="3673440"/>
            <a:ext cx="719640" cy="71964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图片 17"/>
          <p:cNvSpPr/>
          <p:nvPr/>
        </p:nvSpPr>
        <p:spPr>
          <a:xfrm>
            <a:off x="9565920" y="3673440"/>
            <a:ext cx="719640" cy="71964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p14:dur="900"/>
    </mc:Choice>
    <mc:Fallback>
      <p:transition spd="med"/>
    </mc:Fallback>
  </mc:AlternateContent>
</p:sld>
</file>

<file path=ppt/theme/theme1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3</TotalTime>
  <Application>LibreOffice/7.4.7.2$Linux_X86_64 LibreOffice_project/40$Build-2</Application>
  <AppVersion>15.0000</AppVersion>
  <Words>692</Words>
  <Paragraphs>136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28T06:23:10Z</dcterms:created>
  <dc:creator>liu peng</dc:creator>
  <dc:description/>
  <dc:language>en-US</dc:language>
  <cp:lastModifiedBy>yu wang</cp:lastModifiedBy>
  <dcterms:modified xsi:type="dcterms:W3CDTF">2015-08-14T12:53:04Z</dcterms:modified>
  <cp:revision>46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</vt:r8>
  </property>
  <property fmtid="{D5CDD505-2E9C-101B-9397-08002B2CF9AE}" pid="3" name="PresentationFormat">
    <vt:lpwstr>宽屏</vt:lpwstr>
  </property>
  <property fmtid="{D5CDD505-2E9C-101B-9397-08002B2CF9AE}" pid="4" name="Slides">
    <vt:r8>12</vt:r8>
  </property>
</Properties>
</file>