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8ABF-6D47-477F-A862-938DE6CB399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449-CEF3-48B7-9428-2D7A39159656}" type="slidenum">
              <a:rPr b="0" lang="zh-CN" sz="1200" spc="-1" strike="noStrike">
                <a:solidFill>
                  <a:srgbClr val="66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28D-01F1-4C6E-8C28-326D936E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E2A-C024-4388-A9B4-71F30EBB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1ED-9432-481A-A141-DF3CDE98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7BD-FB22-4EA6-80C2-FB322A18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5547-83F1-4281-8939-FBF4CD78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48B3-5311-417A-9782-1079C50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DCBE-6883-4A0B-B1F6-01AD3102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BBD1-61C4-4E84-A8E2-CC9CE71E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350D-2929-4E6F-9149-9CC897D2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4770-6722-4716-B53C-1D66922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E263-F5CD-41D8-8F7F-8C0C8745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C8A-95CA-422C-93AC-0529209E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7B69-0B47-4DC1-9857-DE1A9E3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1580-C5F0-4647-AFC9-09F0908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32A0-E4B0-48CB-A97C-E848F256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AF77-DA51-44B8-B6C0-F0CE92E8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9531-AC0E-4475-BF4F-2EBEC99F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DB7-EBF3-4A8A-9CCB-57A485D8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73A-8E63-401F-AA19-8426B8D5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DF7-49E7-4788-AD23-E3D08088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665-C401-46D9-9DD0-2619D9F8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BDF-A0BD-42D7-BD8A-0A02ACC6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872-FC6F-4617-8431-FBBA45A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56F-875C-4D3A-A5FE-E4804C5E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rown_p"/>
          <p:cNvPicPr/>
          <p:nvPr/>
        </p:nvPicPr>
        <p:blipFill>
          <a:blip r:embed="rId2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276720" y="6400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96C9-214B-4F23-8A65-5F403EADA0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914400"/>
            <a:ext cx="9144000" cy="304920"/>
          </a:xfrm>
          <a:prstGeom prst="rect">
            <a:avLst/>
          </a:prstGeom>
          <a:gradFill rotWithShape="0">
            <a:gsLst>
              <a:gs pos="0">
                <a:srgbClr val="244028"/>
              </a:gs>
              <a:gs pos="50000">
                <a:srgbClr val="54985e"/>
              </a:gs>
              <a:gs pos="100000">
                <a:srgbClr val="244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6564240"/>
            <a:ext cx="9144000" cy="304920"/>
          </a:xfrm>
          <a:prstGeom prst="rect">
            <a:avLst/>
          </a:prstGeom>
          <a:gradFill rotWithShape="0">
            <a:gsLst>
              <a:gs pos="0">
                <a:srgbClr val="244028"/>
              </a:gs>
              <a:gs pos="50000">
                <a:srgbClr val="54985e"/>
              </a:gs>
              <a:gs pos="100000">
                <a:srgbClr val="244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44" name="Picture 3" descr="brown"/>
          <p:cNvPicPr/>
          <p:nvPr/>
        </p:nvPicPr>
        <p:blipFill>
          <a:blip r:embed="rId2"/>
          <a:stretch/>
        </p:blipFill>
        <p:spPr>
          <a:xfrm>
            <a:off x="0" y="0"/>
            <a:ext cx="9144000" cy="5159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295200" y="228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Lucida Sans Unicode"/>
                <a:ea typeface="Gulim"/>
              </a:rPr>
              <a:t>LOGO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8AFE-53C8-492A-B9A4-4343D71B0A1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1333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Gulim"/>
              </a:rPr>
              <a:t>简洁清晰大方漂亮的毕业答辩</a:t>
            </a:r>
            <a:r>
              <a:rPr b="1" lang="en-US" sz="4000" spc="-1" strike="noStrike">
                <a:solidFill>
                  <a:srgbClr val="ffffcc"/>
                </a:solidFill>
                <a:latin typeface="Verdana"/>
                <a:ea typeface="Gulim"/>
              </a:rPr>
              <a:t>PP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594360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宋体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462c"/>
              </a:gs>
              <a:gs pos="50000">
                <a:srgbClr val="54985e"/>
              </a:gs>
              <a:gs pos="100000">
                <a:srgbClr val="27462c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44c56"/>
              </a:gs>
              <a:gs pos="50000">
                <a:srgbClr val="71a4b9"/>
              </a:gs>
              <a:gs pos="100000">
                <a:srgbClr val="344c5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33b5d"/>
              </a:gs>
              <a:gs pos="50000">
                <a:srgbClr val="917fc9"/>
              </a:gs>
              <a:gs pos="100000">
                <a:srgbClr val="433b5d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3. Challenges Forward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2f47"/>
              </a:gs>
              <a:gs pos="50000">
                <a:srgbClr val="666699"/>
              </a:gs>
              <a:gs pos="100000">
                <a:srgbClr val="2f2f4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594360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宋体"/>
              </a:rPr>
              <a:t>Click to edit Master title style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a4b9"/>
                </a:solidFill>
                <a:latin typeface="Verdana"/>
                <a:ea typeface="宋体"/>
              </a:rPr>
              <a:t>Competitors 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  <a:ea typeface="宋体"/>
              </a:rPr>
              <a:t>Strengths</a:t>
            </a:r>
            <a:r>
              <a:rPr b="1" lang="en-US" sz="2800" spc="-1" strike="noStrike">
                <a:solidFill>
                  <a:srgbClr val="71a4b9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498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85e"/>
                </a:solidFill>
                <a:latin typeface="Verdana"/>
                <a:ea typeface="宋体"/>
              </a:rPr>
              <a:t>Weaknesses</a:t>
            </a: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04920" y="6507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54985e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594360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  <a:ea typeface="宋体"/>
              </a:rPr>
              <a:t>Chart Documents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1676520" y="1676520"/>
          <a:ext cx="553392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53392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594360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Lucida Sans Unicode"/>
                <a:ea typeface="Gulim"/>
              </a:rPr>
              <a:t>Company Logo</a:t>
            </a:r>
            <a:endParaRPr b="0" lang="en-US" sz="1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2590920" y="1828800"/>
          <a:ext cx="3708360" cy="36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37083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WordArt 3"/>
          <p:cNvSpPr txBox="1"/>
          <p:nvPr/>
        </p:nvSpPr>
        <p:spPr>
          <a:xfrm>
            <a:off x="1692360" y="3141720"/>
            <a:ext cx="58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54985e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54985e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Verdana"/>
              </a:rPr>
              <a:t>使用规范说明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54985e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54985e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54985e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71a4b9"/>
              </a:solidFill>
              <a:latin typeface="Verdan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/>
  <dc:description/>
  <cp:keywords/>
  <dc:language>en-US</dc:language>
  <cp:lastModifiedBy>yu wang</cp:lastModifiedBy>
  <cp:lastPrinted>1899-12-30T00:00:00Z</cp:lastPrinted>
  <dcterms:modified xsi:type="dcterms:W3CDTF">2015-08-12T14:54:13Z</dcterms:modified>
  <cp:revision>10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