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A9D-B7BF-4D8F-A1ED-0F9ADB7E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004-8278-448A-BAFA-8015552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6F9-4210-470C-96A6-BB076591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51B-DC4E-4D93-BABC-66E1693F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8162-E849-430A-BEB3-A770A013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711F-5187-4029-AF62-73D89609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78E7-123D-4A37-83A0-80C537D8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FFC5-3463-49A5-817A-1EE8D978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BAE3-6C7D-46B4-8DDC-A27585C5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746B-5610-4898-B7A0-BD2F2089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CF4D-F464-4C5E-BB65-08C72FA1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7AD-4623-4B75-864B-C52E0521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DCA0-56B4-4B22-B51F-D04047E0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EA6E-5709-45E4-848B-06228553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48C8-4FA1-4A63-97B5-A28EE0BA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DA56-1F07-4E69-8DA6-1012AB5C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1A11-9A11-4CBF-8EA3-8AED1312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3EF-1A3B-436F-BF6D-3AEE519F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21B-26CB-4184-B293-75ED02A5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C37-73A6-472F-8C94-1A665A23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BBA-C703-4F45-82D3-61BFE4C3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920-AB1C-414E-B4F9-596B928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198-4EE9-44B7-9EAA-79025F8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FBF-CA2A-4C8C-B471-294D288C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D08D-4097-4BCC-9928-D9652B4F834D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92E1-A17E-4693-ADF8-97256A834613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4419360"/>
            <a:ext cx="73915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简介业务关系企业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business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business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11120" y="6324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 </a:t>
            </a:r>
            <a:r>
              <a:rPr b="1" lang="zh-CN" sz="1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9"/>
              </a:rPr>
              <a:t>公司会议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6:51:36Z</dcterms:created>
  <dc:creator>eclipse</dc:creator>
  <dc:description/>
  <dc:language>en-US</dc:language>
  <cp:lastModifiedBy>yu wang</cp:lastModifiedBy>
  <dcterms:modified xsi:type="dcterms:W3CDTF">2015-08-14T12:52:56Z</dcterms:modified>
  <cp:revision>3</cp:revision>
  <dc:subject/>
  <dc:title>BUSINESS RELATIONS</dc:title>
</cp:coreProperties>
</file>