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856-5FBF-49D9-B056-D317D961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15F-372A-4209-B25B-38669C9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EE9-01C1-4323-9C05-8FA85E97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70F-F981-4ABE-A1A9-A35685B1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5EE-44B3-4CA3-B81B-0F8F66E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DF5-625E-4E1E-8D25-4FB60DF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782-8D52-45A2-BAEC-15A3D04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42E-42C5-4F62-B72C-D92C1C9C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9C2-D5F9-4C30-94B5-5FAFE24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AC0-2EE9-4089-8EE3-8AA253F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FBF-0F8F-4981-AD83-E019A7D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EA7-DFAB-4265-8514-5D563FF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422-D336-4EAD-B05F-761A41D8D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75600" y="115920"/>
            <a:ext cx="54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胖娃"/>
                <a:ea typeface="迷你简胖娃"/>
              </a:rPr>
              <a:t>精美风景旅游管理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迷你简胖娃"/>
                <a:ea typeface="迷你简胖娃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9528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cp:keywords/>
  <dc:language>en-US</dc:language>
  <cp:lastModifiedBy>yu wang</cp:lastModifiedBy>
  <cp:lastPrinted>1899-12-30T00:00:00Z</cp:lastPrinted>
  <dcterms:modified xsi:type="dcterms:W3CDTF">2015-08-12T14:54:2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