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BE2E0C-02D1-4B84-86DF-1E7096E9B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8CABF0-1102-4BBB-9616-6BF0BDF97F8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3AD7B1-B7BD-418E-800D-2799C72206B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7640" y="8690040"/>
            <a:ext cx="2970000" cy="45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</a:pPr>
            <a:fld id="{0AEA81AD-4D33-48ED-87A3-BE5DC09A2762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080" cy="34300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4680" rIns="9468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68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96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40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68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96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BAD-8755-4327-90ED-6023B4AB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7DE-DCA6-4B76-840E-5DCF5C90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69F-7866-4EE3-AD1C-2D37EF54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88B-7532-4784-AF4C-C1238EC3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EA5-56DD-43D1-8133-24CEB1F2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4960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78B-F8A4-4211-A112-C1003E5C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8E2-CC19-467C-93EC-AE070F7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60E-9A76-45D5-B659-C7080EDA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C47-A16C-47D8-8384-C4334590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469-5A4C-426D-A4FB-23FCA5AC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EC6-141D-4785-8FB7-2409E238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68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96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40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68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96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5B0-8404-4814-8349-61DFEBB3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304E-2FED-4B02-910F-F2E9386E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BB77-A865-487B-961E-2B71FD2D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6165-D928-45BB-AA2F-71C62400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B38B-7C6A-4065-839C-DCDF058F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C514-42A0-4FE7-938D-D185DD86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4960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3CD8-26CE-450E-8710-801F4E27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1679-C752-4DE1-99A0-CC9E42D9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DE41-61F5-4D3C-9B9A-5900D58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0F30-092E-4CE7-A68E-9BD47F00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5F45-63C3-4FD4-9927-619E5ED7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69D6-2385-4202-B739-B8B2B681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68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696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240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68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696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1F8D-6F24-4224-8AD0-1FB9E782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6500-4FC7-4EF8-A2EF-E96AE725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6469-0065-4EEE-BDF4-44AB4165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3F6B7-CA2C-497A-88A3-FB020C57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029D-D436-4CD3-922D-872A762A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71C8-DA85-4DF6-9296-E0B4DD6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4960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9511-AE44-44C8-A008-7FD73F2D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2CB7-074C-462B-8831-AC5277EE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1633-CEC3-4436-A83F-0F6A31F3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1C63-9BC0-4A6E-B915-5CB9BD22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A9ED-1FAB-4531-BDF9-227CC94C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3819-1E91-4C00-9F6E-6D8F96CA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968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696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240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968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696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3AB7-671E-42EE-9B9A-CA435DB9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4960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38680"/>
            <a:ext cx="8496720" cy="615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24000" y="855000"/>
            <a:ext cx="8496000" cy="335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rmAutofit/>
          </a:bodyPr>
          <a:p>
            <a:pPr marL="17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xtmasterformate durch Klicken bearbeiten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8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531D54-10A7-48DD-96B4-CFA3DF192625}" type="slidenum">
              <a:rPr b="0" lang="de-D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238680"/>
            <a:ext cx="8496720" cy="615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324000" y="855000"/>
            <a:ext cx="8496000" cy="335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17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xtmasterformate durch Klicken bearbeiten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3240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2457360" y="6356520"/>
            <a:ext cx="4228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68664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77A9CA-1E73-4DA0-BC22-EE6BB67D8703}" type="slidenum">
              <a:rPr b="0" lang="de-D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176040" indent="-1760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8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/>
              <a:buChar char="-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2" marL="536400" indent="-1760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3" marL="720720" indent="-18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/>
              <a:buChar char="-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4" marL="896760" indent="-1760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3240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2457360" y="6356520"/>
            <a:ext cx="4228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68664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16B87A-8F45-4B16-B9CF-60D79D101E5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lukas.o\Desktop\Neuer Ordner\Mobility\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430600"/>
          </a:xfrm>
          <a:prstGeom prst="rect">
            <a:avLst/>
          </a:prstGeom>
          <a:ln w="9525">
            <a:noFill/>
          </a:ln>
        </p:spPr>
      </p:pic>
      <p:sp>
        <p:nvSpPr>
          <p:cNvPr id="168" name="Rechteck 1"/>
          <p:cNvSpPr/>
          <p:nvPr/>
        </p:nvSpPr>
        <p:spPr>
          <a:xfrm flipH="1">
            <a:off x="-720" y="4562640"/>
            <a:ext cx="9143640" cy="2295000"/>
          </a:xfrm>
          <a:prstGeom prst="rect">
            <a:avLst/>
          </a:prstGeom>
          <a:gradFill rotWithShape="0">
            <a:gsLst>
              <a:gs pos="36000">
                <a:srgbClr val="ffffff"/>
              </a:gs>
              <a:gs pos="100000">
                <a:srgbClr val="d7d7d7"/>
              </a:gs>
            </a:gsLst>
            <a:lin ang="108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Rechteck 2"/>
          <p:cNvSpPr/>
          <p:nvPr/>
        </p:nvSpPr>
        <p:spPr>
          <a:xfrm flipH="1" flipV="1" rot="10800000">
            <a:off x="-360" y="4383000"/>
            <a:ext cx="9143640" cy="178920"/>
          </a:xfrm>
          <a:prstGeom prst="rect">
            <a:avLst/>
          </a:prstGeom>
          <a:solidFill>
            <a:schemeClr val="accent1">
              <a:lumMod val="75000"/>
              <a:alpha val="7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hteck 3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精美配图商务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uppieren 6"/>
          <p:cNvGrpSpPr/>
          <p:nvPr/>
        </p:nvGrpSpPr>
        <p:grpSpPr>
          <a:xfrm>
            <a:off x="-360" y="-9360"/>
            <a:ext cx="9144000" cy="6867000"/>
            <a:chOff x="-360" y="-9360"/>
            <a:chExt cx="9144000" cy="6867000"/>
          </a:xfrm>
        </p:grpSpPr>
        <p:pic>
          <p:nvPicPr>
            <p:cNvPr id="345" name="Picture 7" descr="\\NAS\charteo\07 Produktion\05_Vorlagen_und_Designs\zur_Veröffentlichung\Nach Thema\Architektur\T0153.jpg"/>
            <p:cNvPicPr/>
            <p:nvPr/>
          </p:nvPicPr>
          <p:blipFill>
            <a:blip r:embed="rId1"/>
            <a:stretch/>
          </p:blipFill>
          <p:spPr>
            <a:xfrm>
              <a:off x="0" y="-9360"/>
              <a:ext cx="9143640" cy="457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46" name="Rechteck 8"/>
            <p:cNvSpPr/>
            <p:nvPr/>
          </p:nvSpPr>
          <p:spPr>
            <a:xfrm flipH="1">
              <a:off x="-720" y="4563000"/>
              <a:ext cx="9143640" cy="2294640"/>
            </a:xfrm>
            <a:prstGeom prst="rect">
              <a:avLst/>
            </a:prstGeom>
            <a:gradFill rotWithShape="0">
              <a:gsLst>
                <a:gs pos="3600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7" name="Rechteck 9"/>
            <p:cNvSpPr/>
            <p:nvPr/>
          </p:nvSpPr>
          <p:spPr>
            <a:xfrm flipH="1" flipV="1" rot="10800000">
              <a:off x="-360" y="4383000"/>
              <a:ext cx="9143640" cy="178920"/>
            </a:xfrm>
            <a:prstGeom prst="rect">
              <a:avLst/>
            </a:prstGeom>
            <a:solidFill>
              <a:schemeClr val="accent1">
                <a:lumMod val="75000"/>
                <a:alpha val="70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Rechteck 5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C:\Users\lukas.o\Desktop\Neuer Ordner\Abstract\1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52" name="Rechteck 6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tel 1"/>
          <p:cNvSpPr/>
          <p:nvPr/>
        </p:nvSpPr>
        <p:spPr>
          <a:xfrm>
            <a:off x="647640" y="322200"/>
            <a:ext cx="81766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Untertitel 2"/>
          <p:cNvSpPr/>
          <p:nvPr/>
        </p:nvSpPr>
        <p:spPr>
          <a:xfrm>
            <a:off x="647640" y="2224080"/>
            <a:ext cx="8176680" cy="167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uppieren 4"/>
          <p:cNvGrpSpPr/>
          <p:nvPr/>
        </p:nvGrpSpPr>
        <p:grpSpPr>
          <a:xfrm>
            <a:off x="-6480" y="-9360"/>
            <a:ext cx="9156240" cy="6867000"/>
            <a:chOff x="-6480" y="-9360"/>
            <a:chExt cx="9156240" cy="6867000"/>
          </a:xfrm>
        </p:grpSpPr>
        <p:grpSp>
          <p:nvGrpSpPr>
            <p:cNvPr id="356" name="Gruppieren 13"/>
            <p:cNvGrpSpPr/>
            <p:nvPr/>
          </p:nvGrpSpPr>
          <p:grpSpPr>
            <a:xfrm>
              <a:off x="-720" y="-9360"/>
              <a:ext cx="9144720" cy="6867000"/>
              <a:chOff x="-720" y="-9360"/>
              <a:chExt cx="9144720" cy="6867000"/>
            </a:xfrm>
          </p:grpSpPr>
          <p:pic>
            <p:nvPicPr>
              <p:cNvPr id="357" name="Picture 3" descr="\\NAS\CH_Produktion\05_Vorlagen_und_Designs\zur_Veröffentlichung\Nach Thema\Netzwerk\T0212.jpg"/>
              <p:cNvPicPr/>
              <p:nvPr/>
            </p:nvPicPr>
            <p:blipFill>
              <a:blip r:embed="rId1"/>
              <a:srcRect l="0" t="0" r="2728" b="0"/>
              <a:stretch/>
            </p:blipFill>
            <p:spPr>
              <a:xfrm>
                <a:off x="-720" y="-9360"/>
                <a:ext cx="9144720" cy="45720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358" name="Rechteck 9"/>
              <p:cNvSpPr/>
              <p:nvPr/>
            </p:nvSpPr>
            <p:spPr>
              <a:xfrm flipH="1">
                <a:off x="-720" y="4563000"/>
                <a:ext cx="9144720" cy="2294640"/>
              </a:xfrm>
              <a:prstGeom prst="rect">
                <a:avLst/>
              </a:prstGeom>
              <a:gradFill rotWithShape="0">
                <a:gsLst>
                  <a:gs pos="36000">
                    <a:srgbClr val="ffffff"/>
                  </a:gs>
                  <a:gs pos="100000">
                    <a:srgbClr val="d7d7d7"/>
                  </a:gs>
                </a:gsLst>
                <a:lin ang="108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9" name="Rechteck 10"/>
              <p:cNvSpPr/>
              <p:nvPr/>
            </p:nvSpPr>
            <p:spPr>
              <a:xfrm flipH="1" flipV="1" rot="10800000">
                <a:off x="-360" y="4383000"/>
                <a:ext cx="9143640" cy="178920"/>
              </a:xfrm>
              <a:prstGeom prst="rect">
                <a:avLst/>
              </a:prstGeom>
              <a:solidFill>
                <a:schemeClr val="accent1">
                  <a:lumMod val="75000"/>
                  <a:alpha val="70000"/>
                </a:scheme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0" name="Freihandform 7"/>
            <p:cNvSpPr/>
            <p:nvPr/>
          </p:nvSpPr>
          <p:spPr>
            <a:xfrm flipH="1">
              <a:off x="-6480" y="3432960"/>
              <a:ext cx="9156240" cy="3424680"/>
            </a:xfrm>
            <a:custGeom>
              <a:avLst/>
              <a:gdLst>
                <a:gd name="textAreaLeft" fmla="*/ 360 w 9156240"/>
                <a:gd name="textAreaRight" fmla="*/ 9156960 w 9156240"/>
                <a:gd name="textAreaTop" fmla="*/ 0 h 3424680"/>
                <a:gd name="textAreaBottom" fmla="*/ 3425040 h 3424680"/>
              </a:gdLst>
              <a:ahLst/>
              <a:rect l="textAreaLeft" t="textAreaTop" r="textAreaRight" b="textAreaBottom"/>
              <a:pathLst>
                <a:path w="9155501" h="3424787">
                  <a:moveTo>
                    <a:pt x="8626" y="3424787"/>
                  </a:moveTo>
                  <a:cubicBezTo>
                    <a:pt x="5751" y="2426998"/>
                    <a:pt x="2875" y="997790"/>
                    <a:pt x="0" y="1"/>
                  </a:cubicBezTo>
                  <a:cubicBezTo>
                    <a:pt x="2233582" y="858921"/>
                    <a:pt x="7175437" y="896128"/>
                    <a:pt x="9152626" y="0"/>
                  </a:cubicBezTo>
                  <a:cubicBezTo>
                    <a:pt x="9155501" y="997789"/>
                    <a:pt x="9149751" y="2426998"/>
                    <a:pt x="9152626" y="3424787"/>
                  </a:cubicBezTo>
                  <a:lnTo>
                    <a:pt x="8626" y="3424787"/>
                  </a:lnTo>
                  <a:close/>
                </a:path>
              </a:pathLst>
            </a:custGeom>
            <a:gradFill rotWithShape="0">
              <a:gsLst>
                <a:gs pos="3600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12700">
              <a:noFill/>
            </a:ln>
            <a:effectLst>
              <a:innerShdw blurRad="190500" dir="16200000" dist="25400">
                <a:srgbClr val="000000">
                  <a:alpha val="50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Rechteck 5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51640" y="64555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4000" y="237960"/>
            <a:ext cx="8496000" cy="61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ridge Chart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24000" y="855720"/>
            <a:ext cx="8496000" cy="33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17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your subheadline her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uppieren 12"/>
          <p:cNvGrpSpPr/>
          <p:nvPr/>
        </p:nvGrpSpPr>
        <p:grpSpPr>
          <a:xfrm>
            <a:off x="0" y="1550880"/>
            <a:ext cx="9143640" cy="5306760"/>
            <a:chOff x="0" y="1550880"/>
            <a:chExt cx="9143640" cy="5306760"/>
          </a:xfrm>
        </p:grpSpPr>
        <p:sp>
          <p:nvSpPr>
            <p:cNvPr id="368" name="Freeform 3"/>
            <p:cNvSpPr/>
            <p:nvPr/>
          </p:nvSpPr>
          <p:spPr>
            <a:xfrm>
              <a:off x="0" y="5766840"/>
              <a:ext cx="9143640" cy="10908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5768" h="216">
                  <a:moveTo>
                    <a:pt x="0" y="0"/>
                  </a:moveTo>
                  <a:lnTo>
                    <a:pt x="5768" y="8"/>
                  </a:lnTo>
                  <a:lnTo>
                    <a:pt x="5768" y="216"/>
                  </a:lnTo>
                  <a:lnTo>
                    <a:pt x="0" y="21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5c5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9" name="Freeform 4"/>
            <p:cNvSpPr/>
            <p:nvPr/>
          </p:nvSpPr>
          <p:spPr>
            <a:xfrm>
              <a:off x="0" y="5108040"/>
              <a:ext cx="2828520" cy="725040"/>
            </a:xfrm>
            <a:custGeom>
              <a:avLst/>
              <a:gdLst>
                <a:gd name="textAreaLeft" fmla="*/ 0 w 2828520"/>
                <a:gd name="textAreaRight" fmla="*/ 2828880 w 2828520"/>
                <a:gd name="textAreaTop" fmla="*/ 0 h 725040"/>
                <a:gd name="textAreaBottom" fmla="*/ 725400 h 725040"/>
              </a:gdLst>
              <a:ahLst/>
              <a:rect l="textAreaLeft" t="textAreaTop" r="textAreaRight" b="textAreaBottom"/>
              <a:pathLst>
                <a:path w="1508" h="387">
                  <a:moveTo>
                    <a:pt x="0" y="361"/>
                  </a:moveTo>
                  <a:cubicBezTo>
                    <a:pt x="160" y="268"/>
                    <a:pt x="312" y="176"/>
                    <a:pt x="366" y="122"/>
                  </a:cubicBezTo>
                  <a:cubicBezTo>
                    <a:pt x="420" y="68"/>
                    <a:pt x="601" y="0"/>
                    <a:pt x="676" y="24"/>
                  </a:cubicBezTo>
                  <a:cubicBezTo>
                    <a:pt x="751" y="47"/>
                    <a:pt x="1089" y="70"/>
                    <a:pt x="1173" y="103"/>
                  </a:cubicBezTo>
                  <a:cubicBezTo>
                    <a:pt x="1258" y="136"/>
                    <a:pt x="1452" y="331"/>
                    <a:pt x="1480" y="359"/>
                  </a:cubicBezTo>
                  <a:cubicBezTo>
                    <a:pt x="1508" y="387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c0c0c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0" name="Freeform 5"/>
            <p:cNvSpPr/>
            <p:nvPr/>
          </p:nvSpPr>
          <p:spPr>
            <a:xfrm>
              <a:off x="2471760" y="5522400"/>
              <a:ext cx="2199960" cy="350280"/>
            </a:xfrm>
            <a:custGeom>
              <a:avLst/>
              <a:gdLst>
                <a:gd name="textAreaLeft" fmla="*/ 0 w 2199960"/>
                <a:gd name="textAreaRight" fmla="*/ 2200320 w 219996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173" h="187">
                  <a:moveTo>
                    <a:pt x="165" y="159"/>
                  </a:moveTo>
                  <a:cubicBezTo>
                    <a:pt x="0" y="159"/>
                    <a:pt x="465" y="0"/>
                    <a:pt x="620" y="0"/>
                  </a:cubicBezTo>
                  <a:cubicBezTo>
                    <a:pt x="774" y="0"/>
                    <a:pt x="1098" y="112"/>
                    <a:pt x="1136" y="150"/>
                  </a:cubicBezTo>
                  <a:cubicBezTo>
                    <a:pt x="1173" y="187"/>
                    <a:pt x="212" y="159"/>
                    <a:pt x="165" y="159"/>
                  </a:cubicBezTo>
                  <a:close/>
                </a:path>
              </a:pathLst>
            </a:custGeom>
            <a:solidFill>
              <a:srgbClr val="c0c0c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1" name="Freeform 6"/>
            <p:cNvSpPr/>
            <p:nvPr/>
          </p:nvSpPr>
          <p:spPr>
            <a:xfrm>
              <a:off x="3009960" y="1550880"/>
              <a:ext cx="6133680" cy="4410720"/>
            </a:xfrm>
            <a:custGeom>
              <a:avLst/>
              <a:gdLst>
                <a:gd name="textAreaLeft" fmla="*/ 0 w 6133680"/>
                <a:gd name="textAreaRight" fmla="*/ 6134040 w 6133680"/>
                <a:gd name="textAreaTop" fmla="*/ 0 h 4410720"/>
                <a:gd name="textAreaBottom" fmla="*/ 4411080 h 4410720"/>
              </a:gdLst>
              <a:ahLst/>
              <a:rect l="textAreaLeft" t="textAreaTop" r="textAreaRight" b="textAreaBottom"/>
              <a:pathLst>
                <a:path w="3270" h="2352">
                  <a:moveTo>
                    <a:pt x="273" y="2256"/>
                  </a:moveTo>
                  <a:cubicBezTo>
                    <a:pt x="290" y="2239"/>
                    <a:pt x="290" y="2239"/>
                    <a:pt x="290" y="2239"/>
                  </a:cubicBezTo>
                  <a:cubicBezTo>
                    <a:pt x="290" y="2239"/>
                    <a:pt x="290" y="2239"/>
                    <a:pt x="290" y="2239"/>
                  </a:cubicBezTo>
                  <a:cubicBezTo>
                    <a:pt x="290" y="2239"/>
                    <a:pt x="290" y="2239"/>
                    <a:pt x="290" y="2239"/>
                  </a:cubicBezTo>
                  <a:cubicBezTo>
                    <a:pt x="290" y="2131"/>
                    <a:pt x="290" y="2131"/>
                    <a:pt x="290" y="2131"/>
                  </a:cubicBezTo>
                  <a:cubicBezTo>
                    <a:pt x="87" y="2223"/>
                    <a:pt x="87" y="2223"/>
                    <a:pt x="87" y="2223"/>
                  </a:cubicBezTo>
                  <a:cubicBezTo>
                    <a:pt x="0" y="2231"/>
                    <a:pt x="0" y="2231"/>
                    <a:pt x="0" y="2231"/>
                  </a:cubicBezTo>
                  <a:cubicBezTo>
                    <a:pt x="164" y="2127"/>
                    <a:pt x="164" y="2127"/>
                    <a:pt x="164" y="2127"/>
                  </a:cubicBezTo>
                  <a:cubicBezTo>
                    <a:pt x="256" y="1999"/>
                    <a:pt x="273" y="1882"/>
                    <a:pt x="305" y="1595"/>
                  </a:cubicBezTo>
                  <a:cubicBezTo>
                    <a:pt x="305" y="1575"/>
                    <a:pt x="307" y="1556"/>
                    <a:pt x="307" y="1536"/>
                  </a:cubicBezTo>
                  <a:cubicBezTo>
                    <a:pt x="313" y="1542"/>
                    <a:pt x="325" y="1554"/>
                    <a:pt x="330" y="1560"/>
                  </a:cubicBezTo>
                  <a:cubicBezTo>
                    <a:pt x="388" y="1560"/>
                    <a:pt x="388" y="1560"/>
                    <a:pt x="388" y="1560"/>
                  </a:cubicBezTo>
                  <a:cubicBezTo>
                    <a:pt x="407" y="1540"/>
                    <a:pt x="407" y="1540"/>
                    <a:pt x="407" y="1540"/>
                  </a:cubicBezTo>
                  <a:cubicBezTo>
                    <a:pt x="407" y="1560"/>
                    <a:pt x="407" y="1560"/>
                    <a:pt x="407" y="1560"/>
                  </a:cubicBezTo>
                  <a:cubicBezTo>
                    <a:pt x="409" y="1569"/>
                    <a:pt x="412" y="1577"/>
                    <a:pt x="414" y="1587"/>
                  </a:cubicBezTo>
                  <a:cubicBezTo>
                    <a:pt x="453" y="1688"/>
                    <a:pt x="518" y="1833"/>
                    <a:pt x="604" y="1882"/>
                  </a:cubicBezTo>
                  <a:cubicBezTo>
                    <a:pt x="605" y="1880"/>
                    <a:pt x="605" y="1880"/>
                    <a:pt x="605" y="1880"/>
                  </a:cubicBezTo>
                  <a:cubicBezTo>
                    <a:pt x="827" y="1743"/>
                    <a:pt x="1326" y="484"/>
                    <a:pt x="1465" y="129"/>
                  </a:cubicBezTo>
                  <a:cubicBezTo>
                    <a:pt x="1467" y="125"/>
                    <a:pt x="1469" y="121"/>
                    <a:pt x="1469" y="118"/>
                  </a:cubicBezTo>
                  <a:cubicBezTo>
                    <a:pt x="1471" y="75"/>
                    <a:pt x="1471" y="75"/>
                    <a:pt x="1471" y="75"/>
                  </a:cubicBezTo>
                  <a:cubicBezTo>
                    <a:pt x="1494" y="51"/>
                    <a:pt x="1494" y="51"/>
                    <a:pt x="1494" y="51"/>
                  </a:cubicBezTo>
                  <a:cubicBezTo>
                    <a:pt x="1492" y="47"/>
                    <a:pt x="1483" y="2"/>
                    <a:pt x="1483" y="2"/>
                  </a:cubicBezTo>
                  <a:cubicBezTo>
                    <a:pt x="1483" y="0"/>
                    <a:pt x="1483" y="0"/>
                    <a:pt x="1483" y="0"/>
                  </a:cubicBezTo>
                  <a:cubicBezTo>
                    <a:pt x="1511" y="0"/>
                    <a:pt x="1511" y="0"/>
                    <a:pt x="1511" y="0"/>
                  </a:cubicBezTo>
                  <a:cubicBezTo>
                    <a:pt x="1511" y="28"/>
                    <a:pt x="1511" y="28"/>
                    <a:pt x="1511" y="28"/>
                  </a:cubicBezTo>
                  <a:cubicBezTo>
                    <a:pt x="1511" y="30"/>
                    <a:pt x="1521" y="47"/>
                    <a:pt x="1521" y="49"/>
                  </a:cubicBezTo>
                  <a:cubicBezTo>
                    <a:pt x="1523" y="51"/>
                    <a:pt x="1523" y="51"/>
                    <a:pt x="1523" y="51"/>
                  </a:cubicBezTo>
                  <a:cubicBezTo>
                    <a:pt x="1523" y="51"/>
                    <a:pt x="1523" y="51"/>
                    <a:pt x="1523" y="51"/>
                  </a:cubicBezTo>
                  <a:cubicBezTo>
                    <a:pt x="1548" y="77"/>
                    <a:pt x="1548" y="77"/>
                    <a:pt x="1548" y="77"/>
                  </a:cubicBezTo>
                  <a:cubicBezTo>
                    <a:pt x="1548" y="77"/>
                    <a:pt x="1548" y="77"/>
                    <a:pt x="1548" y="77"/>
                  </a:cubicBezTo>
                  <a:cubicBezTo>
                    <a:pt x="1611" y="77"/>
                    <a:pt x="1611" y="77"/>
                    <a:pt x="1611" y="77"/>
                  </a:cubicBezTo>
                  <a:cubicBezTo>
                    <a:pt x="1630" y="59"/>
                    <a:pt x="1630" y="59"/>
                    <a:pt x="1630" y="59"/>
                  </a:cubicBezTo>
                  <a:cubicBezTo>
                    <a:pt x="1632" y="61"/>
                    <a:pt x="1645" y="73"/>
                    <a:pt x="1645" y="75"/>
                  </a:cubicBezTo>
                  <a:cubicBezTo>
                    <a:pt x="1645" y="75"/>
                    <a:pt x="1645" y="75"/>
                    <a:pt x="1645" y="75"/>
                  </a:cubicBezTo>
                  <a:cubicBezTo>
                    <a:pt x="1645" y="75"/>
                    <a:pt x="1645" y="75"/>
                    <a:pt x="1645" y="75"/>
                  </a:cubicBezTo>
                  <a:cubicBezTo>
                    <a:pt x="1645" y="92"/>
                    <a:pt x="1645" y="92"/>
                    <a:pt x="1645" y="92"/>
                  </a:cubicBezTo>
                  <a:cubicBezTo>
                    <a:pt x="1651" y="92"/>
                    <a:pt x="1651" y="92"/>
                    <a:pt x="1651" y="92"/>
                  </a:cubicBezTo>
                  <a:cubicBezTo>
                    <a:pt x="1651" y="92"/>
                    <a:pt x="1651" y="92"/>
                    <a:pt x="1651" y="92"/>
                  </a:cubicBezTo>
                  <a:cubicBezTo>
                    <a:pt x="1729" y="92"/>
                    <a:pt x="1729" y="92"/>
                    <a:pt x="1729" y="92"/>
                  </a:cubicBezTo>
                  <a:cubicBezTo>
                    <a:pt x="1731" y="86"/>
                    <a:pt x="1735" y="73"/>
                    <a:pt x="1739" y="67"/>
                  </a:cubicBezTo>
                  <a:cubicBezTo>
                    <a:pt x="1741" y="63"/>
                    <a:pt x="1741" y="63"/>
                    <a:pt x="1741" y="63"/>
                  </a:cubicBezTo>
                  <a:cubicBezTo>
                    <a:pt x="1741" y="36"/>
                    <a:pt x="1741" y="36"/>
                    <a:pt x="1741" y="36"/>
                  </a:cubicBezTo>
                  <a:cubicBezTo>
                    <a:pt x="1773" y="36"/>
                    <a:pt x="1773" y="36"/>
                    <a:pt x="1773" y="36"/>
                  </a:cubicBezTo>
                  <a:cubicBezTo>
                    <a:pt x="1773" y="59"/>
                    <a:pt x="1773" y="59"/>
                    <a:pt x="1773" y="59"/>
                  </a:cubicBezTo>
                  <a:cubicBezTo>
                    <a:pt x="1777" y="59"/>
                    <a:pt x="1813" y="84"/>
                    <a:pt x="1819" y="88"/>
                  </a:cubicBezTo>
                  <a:cubicBezTo>
                    <a:pt x="2255" y="360"/>
                    <a:pt x="2759" y="564"/>
                    <a:pt x="3268" y="631"/>
                  </a:cubicBezTo>
                  <a:cubicBezTo>
                    <a:pt x="3266" y="641"/>
                    <a:pt x="3266" y="641"/>
                    <a:pt x="3266" y="641"/>
                  </a:cubicBezTo>
                  <a:cubicBezTo>
                    <a:pt x="3111" y="619"/>
                    <a:pt x="2954" y="586"/>
                    <a:pt x="2801" y="543"/>
                  </a:cubicBezTo>
                  <a:cubicBezTo>
                    <a:pt x="2799" y="605"/>
                    <a:pt x="2799" y="605"/>
                    <a:pt x="2799" y="605"/>
                  </a:cubicBezTo>
                  <a:cubicBezTo>
                    <a:pt x="2968" y="650"/>
                    <a:pt x="3128" y="683"/>
                    <a:pt x="3266" y="691"/>
                  </a:cubicBezTo>
                  <a:cubicBezTo>
                    <a:pt x="3266" y="701"/>
                    <a:pt x="3266" y="701"/>
                    <a:pt x="3266" y="701"/>
                  </a:cubicBezTo>
                  <a:cubicBezTo>
                    <a:pt x="3121" y="693"/>
                    <a:pt x="2962" y="660"/>
                    <a:pt x="2799" y="615"/>
                  </a:cubicBezTo>
                  <a:cubicBezTo>
                    <a:pt x="2794" y="1128"/>
                    <a:pt x="2794" y="1128"/>
                    <a:pt x="2794" y="1128"/>
                  </a:cubicBezTo>
                  <a:cubicBezTo>
                    <a:pt x="2995" y="1064"/>
                    <a:pt x="3170" y="1005"/>
                    <a:pt x="3270" y="972"/>
                  </a:cubicBezTo>
                  <a:cubicBezTo>
                    <a:pt x="3270" y="1331"/>
                    <a:pt x="3270" y="1331"/>
                    <a:pt x="3270" y="1331"/>
                  </a:cubicBezTo>
                  <a:cubicBezTo>
                    <a:pt x="1794" y="1667"/>
                    <a:pt x="1794" y="1667"/>
                    <a:pt x="1794" y="1667"/>
                  </a:cubicBezTo>
                  <a:cubicBezTo>
                    <a:pt x="1794" y="2135"/>
                    <a:pt x="1794" y="2135"/>
                    <a:pt x="1794" y="2135"/>
                  </a:cubicBezTo>
                  <a:cubicBezTo>
                    <a:pt x="1813" y="2157"/>
                    <a:pt x="1813" y="2157"/>
                    <a:pt x="1813" y="2157"/>
                  </a:cubicBezTo>
                  <a:cubicBezTo>
                    <a:pt x="1813" y="2225"/>
                    <a:pt x="1813" y="2225"/>
                    <a:pt x="1813" y="2225"/>
                  </a:cubicBezTo>
                  <a:cubicBezTo>
                    <a:pt x="1836" y="2225"/>
                    <a:pt x="1836" y="2225"/>
                    <a:pt x="1836" y="2225"/>
                  </a:cubicBezTo>
                  <a:cubicBezTo>
                    <a:pt x="1836" y="2309"/>
                    <a:pt x="1836" y="2309"/>
                    <a:pt x="1836" y="2309"/>
                  </a:cubicBezTo>
                  <a:cubicBezTo>
                    <a:pt x="2067" y="2309"/>
                    <a:pt x="2067" y="2309"/>
                    <a:pt x="2067" y="2309"/>
                  </a:cubicBezTo>
                  <a:cubicBezTo>
                    <a:pt x="2067" y="2352"/>
                    <a:pt x="2067" y="2352"/>
                    <a:pt x="2067" y="2352"/>
                  </a:cubicBezTo>
                  <a:cubicBezTo>
                    <a:pt x="1164" y="2352"/>
                    <a:pt x="1164" y="2352"/>
                    <a:pt x="1164" y="2352"/>
                  </a:cubicBezTo>
                  <a:cubicBezTo>
                    <a:pt x="1164" y="2319"/>
                    <a:pt x="1164" y="2319"/>
                    <a:pt x="1164" y="2319"/>
                  </a:cubicBezTo>
                  <a:cubicBezTo>
                    <a:pt x="1410" y="2319"/>
                    <a:pt x="1410" y="2319"/>
                    <a:pt x="1410" y="2319"/>
                  </a:cubicBezTo>
                  <a:cubicBezTo>
                    <a:pt x="1410" y="2221"/>
                    <a:pt x="1410" y="2221"/>
                    <a:pt x="1410" y="2221"/>
                  </a:cubicBezTo>
                  <a:cubicBezTo>
                    <a:pt x="1410" y="2219"/>
                    <a:pt x="1425" y="2205"/>
                    <a:pt x="1427" y="2204"/>
                  </a:cubicBezTo>
                  <a:cubicBezTo>
                    <a:pt x="1427" y="2202"/>
                    <a:pt x="1427" y="2202"/>
                    <a:pt x="1427" y="2202"/>
                  </a:cubicBezTo>
                  <a:cubicBezTo>
                    <a:pt x="1429" y="2202"/>
                    <a:pt x="1429" y="2202"/>
                    <a:pt x="1429" y="2202"/>
                  </a:cubicBezTo>
                  <a:cubicBezTo>
                    <a:pt x="1429" y="2147"/>
                    <a:pt x="1429" y="2147"/>
                    <a:pt x="1429" y="2147"/>
                  </a:cubicBezTo>
                  <a:cubicBezTo>
                    <a:pt x="1446" y="2129"/>
                    <a:pt x="1446" y="2129"/>
                    <a:pt x="1446" y="2129"/>
                  </a:cubicBezTo>
                  <a:cubicBezTo>
                    <a:pt x="1446" y="1749"/>
                    <a:pt x="1446" y="1749"/>
                    <a:pt x="1446" y="1749"/>
                  </a:cubicBezTo>
                  <a:cubicBezTo>
                    <a:pt x="1066" y="1844"/>
                    <a:pt x="793" y="1927"/>
                    <a:pt x="565" y="2010"/>
                  </a:cubicBezTo>
                  <a:cubicBezTo>
                    <a:pt x="512" y="2030"/>
                    <a:pt x="462" y="2057"/>
                    <a:pt x="411" y="2081"/>
                  </a:cubicBezTo>
                  <a:cubicBezTo>
                    <a:pt x="411" y="2248"/>
                    <a:pt x="411" y="2248"/>
                    <a:pt x="411" y="2248"/>
                  </a:cubicBezTo>
                  <a:cubicBezTo>
                    <a:pt x="424" y="2260"/>
                    <a:pt x="424" y="2260"/>
                    <a:pt x="424" y="2260"/>
                  </a:cubicBezTo>
                  <a:cubicBezTo>
                    <a:pt x="424" y="2280"/>
                    <a:pt x="424" y="2280"/>
                    <a:pt x="424" y="2280"/>
                  </a:cubicBezTo>
                  <a:cubicBezTo>
                    <a:pt x="491" y="2280"/>
                    <a:pt x="491" y="2280"/>
                    <a:pt x="491" y="2280"/>
                  </a:cubicBezTo>
                  <a:cubicBezTo>
                    <a:pt x="491" y="2301"/>
                    <a:pt x="491" y="2301"/>
                    <a:pt x="491" y="2301"/>
                  </a:cubicBezTo>
                  <a:cubicBezTo>
                    <a:pt x="216" y="2301"/>
                    <a:pt x="216" y="2301"/>
                    <a:pt x="216" y="2301"/>
                  </a:cubicBezTo>
                  <a:cubicBezTo>
                    <a:pt x="216" y="2295"/>
                    <a:pt x="216" y="2291"/>
                    <a:pt x="216" y="2285"/>
                  </a:cubicBezTo>
                  <a:cubicBezTo>
                    <a:pt x="216" y="2285"/>
                    <a:pt x="216" y="2285"/>
                    <a:pt x="216" y="2285"/>
                  </a:cubicBezTo>
                  <a:cubicBezTo>
                    <a:pt x="216" y="2285"/>
                    <a:pt x="216" y="2285"/>
                    <a:pt x="216" y="2285"/>
                  </a:cubicBezTo>
                  <a:cubicBezTo>
                    <a:pt x="216" y="2285"/>
                    <a:pt x="216" y="2285"/>
                    <a:pt x="216" y="2285"/>
                  </a:cubicBezTo>
                  <a:cubicBezTo>
                    <a:pt x="273" y="2285"/>
                    <a:pt x="273" y="2285"/>
                    <a:pt x="273" y="2285"/>
                  </a:cubicBezTo>
                  <a:cubicBezTo>
                    <a:pt x="273" y="2256"/>
                    <a:pt x="273" y="2256"/>
                    <a:pt x="273" y="2256"/>
                  </a:cubicBezTo>
                  <a:close/>
                  <a:moveTo>
                    <a:pt x="300" y="1731"/>
                  </a:moveTo>
                  <a:cubicBezTo>
                    <a:pt x="288" y="2034"/>
                    <a:pt x="288" y="2034"/>
                    <a:pt x="288" y="2034"/>
                  </a:cubicBezTo>
                  <a:cubicBezTo>
                    <a:pt x="286" y="2040"/>
                    <a:pt x="286" y="2040"/>
                    <a:pt x="286" y="2040"/>
                  </a:cubicBezTo>
                  <a:cubicBezTo>
                    <a:pt x="298" y="1712"/>
                    <a:pt x="298" y="1712"/>
                    <a:pt x="298" y="1712"/>
                  </a:cubicBezTo>
                  <a:cubicBezTo>
                    <a:pt x="298" y="1712"/>
                    <a:pt x="298" y="1712"/>
                    <a:pt x="298" y="1712"/>
                  </a:cubicBezTo>
                  <a:cubicBezTo>
                    <a:pt x="298" y="1696"/>
                    <a:pt x="300" y="1681"/>
                    <a:pt x="302" y="1667"/>
                  </a:cubicBezTo>
                  <a:cubicBezTo>
                    <a:pt x="300" y="1731"/>
                    <a:pt x="300" y="1731"/>
                    <a:pt x="300" y="1731"/>
                  </a:cubicBezTo>
                  <a:cubicBezTo>
                    <a:pt x="300" y="1731"/>
                    <a:pt x="300" y="1731"/>
                    <a:pt x="300" y="1731"/>
                  </a:cubicBezTo>
                  <a:close/>
                  <a:moveTo>
                    <a:pt x="344" y="1599"/>
                  </a:moveTo>
                  <a:cubicBezTo>
                    <a:pt x="340" y="1669"/>
                    <a:pt x="340" y="1669"/>
                    <a:pt x="340" y="1669"/>
                  </a:cubicBezTo>
                  <a:cubicBezTo>
                    <a:pt x="338" y="1669"/>
                    <a:pt x="338" y="1669"/>
                    <a:pt x="338" y="1669"/>
                  </a:cubicBezTo>
                  <a:cubicBezTo>
                    <a:pt x="340" y="1599"/>
                    <a:pt x="340" y="1599"/>
                    <a:pt x="340" y="1599"/>
                  </a:cubicBezTo>
                  <a:cubicBezTo>
                    <a:pt x="342" y="1599"/>
                    <a:pt x="342" y="1599"/>
                    <a:pt x="344" y="1599"/>
                  </a:cubicBezTo>
                  <a:close/>
                  <a:moveTo>
                    <a:pt x="340" y="1694"/>
                  </a:moveTo>
                  <a:cubicBezTo>
                    <a:pt x="336" y="1766"/>
                    <a:pt x="336" y="1766"/>
                    <a:pt x="336" y="1766"/>
                  </a:cubicBezTo>
                  <a:cubicBezTo>
                    <a:pt x="334" y="1766"/>
                    <a:pt x="334" y="1766"/>
                    <a:pt x="334" y="1766"/>
                  </a:cubicBezTo>
                  <a:cubicBezTo>
                    <a:pt x="336" y="1694"/>
                    <a:pt x="336" y="1694"/>
                    <a:pt x="336" y="1694"/>
                  </a:cubicBezTo>
                  <a:cubicBezTo>
                    <a:pt x="340" y="1694"/>
                    <a:pt x="340" y="1694"/>
                    <a:pt x="340" y="1694"/>
                  </a:cubicBezTo>
                  <a:close/>
                  <a:moveTo>
                    <a:pt x="334" y="1811"/>
                  </a:moveTo>
                  <a:cubicBezTo>
                    <a:pt x="332" y="1897"/>
                    <a:pt x="332" y="1897"/>
                    <a:pt x="332" y="1897"/>
                  </a:cubicBezTo>
                  <a:cubicBezTo>
                    <a:pt x="330" y="1897"/>
                    <a:pt x="330" y="1895"/>
                    <a:pt x="328" y="1895"/>
                  </a:cubicBezTo>
                  <a:cubicBezTo>
                    <a:pt x="332" y="1811"/>
                    <a:pt x="332" y="1811"/>
                    <a:pt x="332" y="1811"/>
                  </a:cubicBezTo>
                  <a:cubicBezTo>
                    <a:pt x="334" y="1811"/>
                    <a:pt x="334" y="1811"/>
                    <a:pt x="334" y="1811"/>
                  </a:cubicBezTo>
                  <a:close/>
                  <a:moveTo>
                    <a:pt x="328" y="1958"/>
                  </a:moveTo>
                  <a:cubicBezTo>
                    <a:pt x="326" y="2028"/>
                    <a:pt x="326" y="2028"/>
                    <a:pt x="326" y="2028"/>
                  </a:cubicBezTo>
                  <a:cubicBezTo>
                    <a:pt x="325" y="2028"/>
                    <a:pt x="325" y="2028"/>
                    <a:pt x="325" y="2028"/>
                  </a:cubicBezTo>
                  <a:cubicBezTo>
                    <a:pt x="326" y="1966"/>
                    <a:pt x="326" y="1966"/>
                    <a:pt x="326" y="1966"/>
                  </a:cubicBezTo>
                  <a:cubicBezTo>
                    <a:pt x="326" y="1962"/>
                    <a:pt x="328" y="1960"/>
                    <a:pt x="328" y="1958"/>
                  </a:cubicBezTo>
                  <a:close/>
                  <a:moveTo>
                    <a:pt x="332" y="2024"/>
                  </a:moveTo>
                  <a:cubicBezTo>
                    <a:pt x="334" y="1942"/>
                    <a:pt x="334" y="1942"/>
                    <a:pt x="334" y="1942"/>
                  </a:cubicBezTo>
                  <a:cubicBezTo>
                    <a:pt x="347" y="1942"/>
                    <a:pt x="357" y="1942"/>
                    <a:pt x="363" y="1942"/>
                  </a:cubicBezTo>
                  <a:cubicBezTo>
                    <a:pt x="361" y="2010"/>
                    <a:pt x="361" y="2010"/>
                    <a:pt x="361" y="2010"/>
                  </a:cubicBezTo>
                  <a:cubicBezTo>
                    <a:pt x="353" y="2014"/>
                    <a:pt x="340" y="2020"/>
                    <a:pt x="332" y="2024"/>
                  </a:cubicBezTo>
                  <a:close/>
                  <a:moveTo>
                    <a:pt x="336" y="1897"/>
                  </a:moveTo>
                  <a:cubicBezTo>
                    <a:pt x="340" y="1811"/>
                    <a:pt x="340" y="1811"/>
                    <a:pt x="340" y="1811"/>
                  </a:cubicBezTo>
                  <a:cubicBezTo>
                    <a:pt x="351" y="1811"/>
                    <a:pt x="359" y="1811"/>
                    <a:pt x="365" y="1811"/>
                  </a:cubicBezTo>
                  <a:cubicBezTo>
                    <a:pt x="359" y="1842"/>
                    <a:pt x="353" y="1872"/>
                    <a:pt x="344" y="1897"/>
                  </a:cubicBezTo>
                  <a:cubicBezTo>
                    <a:pt x="342" y="1897"/>
                    <a:pt x="340" y="1897"/>
                    <a:pt x="336" y="1897"/>
                  </a:cubicBezTo>
                  <a:close/>
                  <a:moveTo>
                    <a:pt x="342" y="1766"/>
                  </a:moveTo>
                  <a:cubicBezTo>
                    <a:pt x="344" y="1694"/>
                    <a:pt x="344" y="1694"/>
                    <a:pt x="344" y="1694"/>
                  </a:cubicBezTo>
                  <a:cubicBezTo>
                    <a:pt x="357" y="1696"/>
                    <a:pt x="367" y="1696"/>
                    <a:pt x="372" y="1696"/>
                  </a:cubicBezTo>
                  <a:cubicBezTo>
                    <a:pt x="370" y="1766"/>
                    <a:pt x="370" y="1766"/>
                    <a:pt x="370" y="1766"/>
                  </a:cubicBezTo>
                  <a:cubicBezTo>
                    <a:pt x="359" y="1766"/>
                    <a:pt x="349" y="1766"/>
                    <a:pt x="342" y="1766"/>
                  </a:cubicBezTo>
                  <a:close/>
                  <a:moveTo>
                    <a:pt x="346" y="1669"/>
                  </a:moveTo>
                  <a:cubicBezTo>
                    <a:pt x="347" y="1601"/>
                    <a:pt x="347" y="1601"/>
                    <a:pt x="347" y="1601"/>
                  </a:cubicBezTo>
                  <a:cubicBezTo>
                    <a:pt x="355" y="1601"/>
                    <a:pt x="365" y="1601"/>
                    <a:pt x="376" y="1603"/>
                  </a:cubicBezTo>
                  <a:cubicBezTo>
                    <a:pt x="376" y="1603"/>
                    <a:pt x="376" y="1603"/>
                    <a:pt x="376" y="1603"/>
                  </a:cubicBezTo>
                  <a:cubicBezTo>
                    <a:pt x="374" y="1671"/>
                    <a:pt x="374" y="1671"/>
                    <a:pt x="374" y="1671"/>
                  </a:cubicBezTo>
                  <a:cubicBezTo>
                    <a:pt x="367" y="1671"/>
                    <a:pt x="355" y="1671"/>
                    <a:pt x="346" y="1669"/>
                  </a:cubicBezTo>
                  <a:close/>
                  <a:moveTo>
                    <a:pt x="386" y="1610"/>
                  </a:moveTo>
                  <a:cubicBezTo>
                    <a:pt x="384" y="1669"/>
                    <a:pt x="384" y="1669"/>
                    <a:pt x="384" y="1669"/>
                  </a:cubicBezTo>
                  <a:cubicBezTo>
                    <a:pt x="382" y="1669"/>
                    <a:pt x="382" y="1669"/>
                    <a:pt x="380" y="1669"/>
                  </a:cubicBezTo>
                  <a:cubicBezTo>
                    <a:pt x="382" y="1604"/>
                    <a:pt x="382" y="1604"/>
                    <a:pt x="382" y="1604"/>
                  </a:cubicBezTo>
                  <a:cubicBezTo>
                    <a:pt x="384" y="1606"/>
                    <a:pt x="386" y="1608"/>
                    <a:pt x="386" y="1610"/>
                  </a:cubicBezTo>
                  <a:close/>
                  <a:moveTo>
                    <a:pt x="382" y="1704"/>
                  </a:moveTo>
                  <a:cubicBezTo>
                    <a:pt x="382" y="1716"/>
                    <a:pt x="382" y="1716"/>
                    <a:pt x="382" y="1716"/>
                  </a:cubicBezTo>
                  <a:cubicBezTo>
                    <a:pt x="380" y="1729"/>
                    <a:pt x="378" y="1741"/>
                    <a:pt x="376" y="1753"/>
                  </a:cubicBezTo>
                  <a:cubicBezTo>
                    <a:pt x="378" y="1700"/>
                    <a:pt x="378" y="1700"/>
                    <a:pt x="378" y="1700"/>
                  </a:cubicBezTo>
                  <a:cubicBezTo>
                    <a:pt x="380" y="1700"/>
                    <a:pt x="382" y="1702"/>
                    <a:pt x="382" y="1704"/>
                  </a:cubicBezTo>
                  <a:close/>
                  <a:moveTo>
                    <a:pt x="380" y="1761"/>
                  </a:moveTo>
                  <a:cubicBezTo>
                    <a:pt x="380" y="1764"/>
                    <a:pt x="380" y="1764"/>
                    <a:pt x="380" y="1764"/>
                  </a:cubicBezTo>
                  <a:cubicBezTo>
                    <a:pt x="378" y="1764"/>
                    <a:pt x="378" y="1764"/>
                    <a:pt x="378" y="1764"/>
                  </a:cubicBezTo>
                  <a:cubicBezTo>
                    <a:pt x="380" y="1761"/>
                    <a:pt x="380" y="1761"/>
                    <a:pt x="380" y="1761"/>
                  </a:cubicBezTo>
                  <a:close/>
                  <a:moveTo>
                    <a:pt x="378" y="1819"/>
                  </a:moveTo>
                  <a:cubicBezTo>
                    <a:pt x="374" y="1895"/>
                    <a:pt x="374" y="1895"/>
                    <a:pt x="374" y="1895"/>
                  </a:cubicBezTo>
                  <a:cubicBezTo>
                    <a:pt x="372" y="1895"/>
                    <a:pt x="372" y="1897"/>
                    <a:pt x="370" y="1897"/>
                  </a:cubicBezTo>
                  <a:cubicBezTo>
                    <a:pt x="374" y="1815"/>
                    <a:pt x="374" y="1815"/>
                    <a:pt x="374" y="1815"/>
                  </a:cubicBezTo>
                  <a:cubicBezTo>
                    <a:pt x="376" y="1815"/>
                    <a:pt x="376" y="1817"/>
                    <a:pt x="378" y="1819"/>
                  </a:cubicBezTo>
                  <a:close/>
                  <a:moveTo>
                    <a:pt x="372" y="1944"/>
                  </a:moveTo>
                  <a:cubicBezTo>
                    <a:pt x="369" y="2007"/>
                    <a:pt x="369" y="2007"/>
                    <a:pt x="369" y="2007"/>
                  </a:cubicBezTo>
                  <a:cubicBezTo>
                    <a:pt x="369" y="2007"/>
                    <a:pt x="369" y="2007"/>
                    <a:pt x="367" y="2007"/>
                  </a:cubicBezTo>
                  <a:cubicBezTo>
                    <a:pt x="369" y="1944"/>
                    <a:pt x="369" y="1944"/>
                    <a:pt x="369" y="1944"/>
                  </a:cubicBezTo>
                  <a:cubicBezTo>
                    <a:pt x="370" y="1944"/>
                    <a:pt x="370" y="1944"/>
                    <a:pt x="372" y="1944"/>
                  </a:cubicBezTo>
                  <a:close/>
                  <a:moveTo>
                    <a:pt x="374" y="2001"/>
                  </a:moveTo>
                  <a:cubicBezTo>
                    <a:pt x="376" y="1948"/>
                    <a:pt x="376" y="1948"/>
                    <a:pt x="376" y="1948"/>
                  </a:cubicBezTo>
                  <a:cubicBezTo>
                    <a:pt x="382" y="1954"/>
                    <a:pt x="380" y="1966"/>
                    <a:pt x="380" y="1989"/>
                  </a:cubicBezTo>
                  <a:cubicBezTo>
                    <a:pt x="380" y="1995"/>
                    <a:pt x="378" y="1999"/>
                    <a:pt x="374" y="2001"/>
                  </a:cubicBezTo>
                  <a:close/>
                  <a:moveTo>
                    <a:pt x="384" y="1755"/>
                  </a:moveTo>
                  <a:cubicBezTo>
                    <a:pt x="384" y="1747"/>
                    <a:pt x="384" y="1747"/>
                    <a:pt x="384" y="1747"/>
                  </a:cubicBezTo>
                  <a:cubicBezTo>
                    <a:pt x="384" y="1749"/>
                    <a:pt x="384" y="1751"/>
                    <a:pt x="384" y="1753"/>
                  </a:cubicBezTo>
                  <a:cubicBezTo>
                    <a:pt x="384" y="1753"/>
                    <a:pt x="384" y="1753"/>
                    <a:pt x="384" y="1753"/>
                  </a:cubicBezTo>
                  <a:cubicBezTo>
                    <a:pt x="384" y="1755"/>
                    <a:pt x="384" y="1755"/>
                    <a:pt x="384" y="1755"/>
                  </a:cubicBezTo>
                  <a:close/>
                  <a:moveTo>
                    <a:pt x="290" y="1768"/>
                  </a:moveTo>
                  <a:cubicBezTo>
                    <a:pt x="281" y="2051"/>
                    <a:pt x="281" y="2051"/>
                    <a:pt x="281" y="2051"/>
                  </a:cubicBezTo>
                  <a:cubicBezTo>
                    <a:pt x="279" y="2055"/>
                    <a:pt x="279" y="2055"/>
                    <a:pt x="279" y="2055"/>
                  </a:cubicBezTo>
                  <a:cubicBezTo>
                    <a:pt x="258" y="2069"/>
                    <a:pt x="258" y="2069"/>
                    <a:pt x="258" y="2069"/>
                  </a:cubicBezTo>
                  <a:cubicBezTo>
                    <a:pt x="261" y="1928"/>
                    <a:pt x="261" y="1928"/>
                    <a:pt x="261" y="1928"/>
                  </a:cubicBezTo>
                  <a:cubicBezTo>
                    <a:pt x="275" y="1876"/>
                    <a:pt x="282" y="1823"/>
                    <a:pt x="290" y="1768"/>
                  </a:cubicBezTo>
                  <a:close/>
                  <a:moveTo>
                    <a:pt x="334" y="1599"/>
                  </a:moveTo>
                  <a:cubicBezTo>
                    <a:pt x="332" y="1667"/>
                    <a:pt x="332" y="1667"/>
                    <a:pt x="332" y="1667"/>
                  </a:cubicBezTo>
                  <a:cubicBezTo>
                    <a:pt x="325" y="1665"/>
                    <a:pt x="321" y="1661"/>
                    <a:pt x="321" y="1655"/>
                  </a:cubicBezTo>
                  <a:cubicBezTo>
                    <a:pt x="321" y="1608"/>
                    <a:pt x="319" y="1599"/>
                    <a:pt x="334" y="1599"/>
                  </a:cubicBezTo>
                  <a:close/>
                  <a:moveTo>
                    <a:pt x="330" y="1696"/>
                  </a:moveTo>
                  <a:cubicBezTo>
                    <a:pt x="328" y="1764"/>
                    <a:pt x="328" y="1764"/>
                    <a:pt x="328" y="1764"/>
                  </a:cubicBezTo>
                  <a:cubicBezTo>
                    <a:pt x="317" y="1761"/>
                    <a:pt x="321" y="1749"/>
                    <a:pt x="321" y="1712"/>
                  </a:cubicBezTo>
                  <a:cubicBezTo>
                    <a:pt x="321" y="1704"/>
                    <a:pt x="325" y="1698"/>
                    <a:pt x="330" y="1696"/>
                  </a:cubicBezTo>
                  <a:close/>
                  <a:moveTo>
                    <a:pt x="326" y="1813"/>
                  </a:moveTo>
                  <a:cubicBezTo>
                    <a:pt x="323" y="1891"/>
                    <a:pt x="323" y="1891"/>
                    <a:pt x="323" y="1891"/>
                  </a:cubicBezTo>
                  <a:cubicBezTo>
                    <a:pt x="317" y="1886"/>
                    <a:pt x="321" y="1868"/>
                    <a:pt x="321" y="1831"/>
                  </a:cubicBezTo>
                  <a:cubicBezTo>
                    <a:pt x="321" y="1825"/>
                    <a:pt x="323" y="1817"/>
                    <a:pt x="326" y="1813"/>
                  </a:cubicBezTo>
                  <a:close/>
                  <a:moveTo>
                    <a:pt x="321" y="1946"/>
                  </a:moveTo>
                  <a:cubicBezTo>
                    <a:pt x="321" y="1964"/>
                    <a:pt x="321" y="1964"/>
                    <a:pt x="321" y="1964"/>
                  </a:cubicBezTo>
                  <a:cubicBezTo>
                    <a:pt x="319" y="1967"/>
                    <a:pt x="319" y="1971"/>
                    <a:pt x="317" y="1975"/>
                  </a:cubicBezTo>
                  <a:cubicBezTo>
                    <a:pt x="317" y="1964"/>
                    <a:pt x="317" y="1952"/>
                    <a:pt x="321" y="1946"/>
                  </a:cubicBezTo>
                  <a:close/>
                  <a:moveTo>
                    <a:pt x="321" y="1981"/>
                  </a:moveTo>
                  <a:cubicBezTo>
                    <a:pt x="319" y="2024"/>
                    <a:pt x="319" y="2024"/>
                    <a:pt x="319" y="2024"/>
                  </a:cubicBezTo>
                  <a:cubicBezTo>
                    <a:pt x="317" y="2020"/>
                    <a:pt x="317" y="2014"/>
                    <a:pt x="317" y="2008"/>
                  </a:cubicBezTo>
                  <a:cubicBezTo>
                    <a:pt x="317" y="2005"/>
                    <a:pt x="317" y="1997"/>
                    <a:pt x="317" y="1989"/>
                  </a:cubicBezTo>
                  <a:cubicBezTo>
                    <a:pt x="317" y="1987"/>
                    <a:pt x="319" y="1983"/>
                    <a:pt x="321" y="1981"/>
                  </a:cubicBezTo>
                  <a:close/>
                  <a:moveTo>
                    <a:pt x="326" y="1948"/>
                  </a:moveTo>
                  <a:cubicBezTo>
                    <a:pt x="326" y="1942"/>
                    <a:pt x="326" y="1942"/>
                    <a:pt x="326" y="1942"/>
                  </a:cubicBezTo>
                  <a:cubicBezTo>
                    <a:pt x="328" y="1942"/>
                    <a:pt x="328" y="1942"/>
                    <a:pt x="328" y="1942"/>
                  </a:cubicBezTo>
                  <a:cubicBezTo>
                    <a:pt x="330" y="1942"/>
                    <a:pt x="330" y="1942"/>
                    <a:pt x="330" y="1942"/>
                  </a:cubicBezTo>
                  <a:cubicBezTo>
                    <a:pt x="328" y="1944"/>
                    <a:pt x="328" y="1946"/>
                    <a:pt x="326" y="1948"/>
                  </a:cubicBezTo>
                  <a:close/>
                  <a:moveTo>
                    <a:pt x="369" y="1819"/>
                  </a:moveTo>
                  <a:cubicBezTo>
                    <a:pt x="365" y="1897"/>
                    <a:pt x="365" y="1897"/>
                    <a:pt x="365" y="1897"/>
                  </a:cubicBezTo>
                  <a:cubicBezTo>
                    <a:pt x="361" y="1897"/>
                    <a:pt x="355" y="1897"/>
                    <a:pt x="349" y="1897"/>
                  </a:cubicBezTo>
                  <a:cubicBezTo>
                    <a:pt x="347" y="1897"/>
                    <a:pt x="347" y="1897"/>
                    <a:pt x="347" y="1897"/>
                  </a:cubicBezTo>
                  <a:cubicBezTo>
                    <a:pt x="355" y="1872"/>
                    <a:pt x="363" y="1847"/>
                    <a:pt x="369" y="1819"/>
                  </a:cubicBezTo>
                  <a:close/>
                  <a:moveTo>
                    <a:pt x="208" y="2071"/>
                  </a:moveTo>
                  <a:cubicBezTo>
                    <a:pt x="206" y="2100"/>
                    <a:pt x="206" y="2100"/>
                    <a:pt x="206" y="2100"/>
                  </a:cubicBezTo>
                  <a:cubicBezTo>
                    <a:pt x="181" y="2116"/>
                    <a:pt x="181" y="2116"/>
                    <a:pt x="181" y="2116"/>
                  </a:cubicBezTo>
                  <a:cubicBezTo>
                    <a:pt x="181" y="2114"/>
                    <a:pt x="181" y="2114"/>
                    <a:pt x="181" y="2114"/>
                  </a:cubicBezTo>
                  <a:cubicBezTo>
                    <a:pt x="191" y="2100"/>
                    <a:pt x="198" y="2086"/>
                    <a:pt x="208" y="2071"/>
                  </a:cubicBezTo>
                  <a:close/>
                  <a:moveTo>
                    <a:pt x="217" y="2092"/>
                  </a:moveTo>
                  <a:cubicBezTo>
                    <a:pt x="219" y="2046"/>
                    <a:pt x="219" y="2046"/>
                    <a:pt x="219" y="2046"/>
                  </a:cubicBezTo>
                  <a:cubicBezTo>
                    <a:pt x="231" y="2026"/>
                    <a:pt x="238" y="2005"/>
                    <a:pt x="246" y="1983"/>
                  </a:cubicBezTo>
                  <a:cubicBezTo>
                    <a:pt x="242" y="2077"/>
                    <a:pt x="242" y="2077"/>
                    <a:pt x="242" y="2077"/>
                  </a:cubicBezTo>
                  <a:cubicBezTo>
                    <a:pt x="217" y="2092"/>
                    <a:pt x="217" y="2092"/>
                    <a:pt x="217" y="2092"/>
                  </a:cubicBezTo>
                  <a:close/>
                  <a:moveTo>
                    <a:pt x="216" y="2057"/>
                  </a:moveTo>
                  <a:cubicBezTo>
                    <a:pt x="212" y="2094"/>
                    <a:pt x="212" y="2094"/>
                    <a:pt x="212" y="2094"/>
                  </a:cubicBezTo>
                  <a:cubicBezTo>
                    <a:pt x="214" y="2061"/>
                    <a:pt x="214" y="2061"/>
                    <a:pt x="214" y="2061"/>
                  </a:cubicBezTo>
                  <a:cubicBezTo>
                    <a:pt x="216" y="2057"/>
                    <a:pt x="216" y="2057"/>
                    <a:pt x="216" y="2057"/>
                  </a:cubicBezTo>
                  <a:close/>
                  <a:moveTo>
                    <a:pt x="248" y="2073"/>
                  </a:moveTo>
                  <a:cubicBezTo>
                    <a:pt x="252" y="1964"/>
                    <a:pt x="252" y="1964"/>
                    <a:pt x="252" y="1964"/>
                  </a:cubicBezTo>
                  <a:cubicBezTo>
                    <a:pt x="254" y="1960"/>
                    <a:pt x="254" y="1954"/>
                    <a:pt x="256" y="1950"/>
                  </a:cubicBezTo>
                  <a:cubicBezTo>
                    <a:pt x="252" y="2071"/>
                    <a:pt x="252" y="2071"/>
                    <a:pt x="252" y="2071"/>
                  </a:cubicBezTo>
                  <a:cubicBezTo>
                    <a:pt x="248" y="2073"/>
                    <a:pt x="248" y="2073"/>
                    <a:pt x="248" y="2073"/>
                  </a:cubicBezTo>
                  <a:close/>
                  <a:moveTo>
                    <a:pt x="420" y="1626"/>
                  </a:moveTo>
                  <a:cubicBezTo>
                    <a:pt x="412" y="1819"/>
                    <a:pt x="412" y="1819"/>
                    <a:pt x="412" y="1819"/>
                  </a:cubicBezTo>
                  <a:cubicBezTo>
                    <a:pt x="411" y="1813"/>
                    <a:pt x="409" y="1809"/>
                    <a:pt x="407" y="1803"/>
                  </a:cubicBezTo>
                  <a:cubicBezTo>
                    <a:pt x="407" y="1591"/>
                    <a:pt x="407" y="1591"/>
                    <a:pt x="407" y="1591"/>
                  </a:cubicBezTo>
                  <a:cubicBezTo>
                    <a:pt x="411" y="1603"/>
                    <a:pt x="414" y="1614"/>
                    <a:pt x="420" y="1626"/>
                  </a:cubicBezTo>
                  <a:close/>
                  <a:moveTo>
                    <a:pt x="412" y="1833"/>
                  </a:moveTo>
                  <a:cubicBezTo>
                    <a:pt x="407" y="1985"/>
                    <a:pt x="407" y="1985"/>
                    <a:pt x="407" y="1985"/>
                  </a:cubicBezTo>
                  <a:cubicBezTo>
                    <a:pt x="407" y="1985"/>
                    <a:pt x="407" y="1985"/>
                    <a:pt x="407" y="1985"/>
                  </a:cubicBezTo>
                  <a:cubicBezTo>
                    <a:pt x="407" y="1825"/>
                    <a:pt x="407" y="1825"/>
                    <a:pt x="407" y="1825"/>
                  </a:cubicBezTo>
                  <a:cubicBezTo>
                    <a:pt x="409" y="1829"/>
                    <a:pt x="411" y="1831"/>
                    <a:pt x="412" y="1833"/>
                  </a:cubicBezTo>
                  <a:close/>
                  <a:moveTo>
                    <a:pt x="412" y="1983"/>
                  </a:moveTo>
                  <a:cubicBezTo>
                    <a:pt x="418" y="1841"/>
                    <a:pt x="418" y="1841"/>
                    <a:pt x="418" y="1841"/>
                  </a:cubicBezTo>
                  <a:cubicBezTo>
                    <a:pt x="426" y="1850"/>
                    <a:pt x="435" y="1860"/>
                    <a:pt x="445" y="1868"/>
                  </a:cubicBezTo>
                  <a:cubicBezTo>
                    <a:pt x="439" y="1969"/>
                    <a:pt x="439" y="1969"/>
                    <a:pt x="439" y="1969"/>
                  </a:cubicBezTo>
                  <a:cubicBezTo>
                    <a:pt x="428" y="1975"/>
                    <a:pt x="418" y="1979"/>
                    <a:pt x="412" y="1983"/>
                  </a:cubicBezTo>
                  <a:close/>
                  <a:moveTo>
                    <a:pt x="418" y="1827"/>
                  </a:moveTo>
                  <a:cubicBezTo>
                    <a:pt x="426" y="1640"/>
                    <a:pt x="426" y="1640"/>
                    <a:pt x="426" y="1640"/>
                  </a:cubicBezTo>
                  <a:cubicBezTo>
                    <a:pt x="435" y="1667"/>
                    <a:pt x="449" y="1696"/>
                    <a:pt x="464" y="1725"/>
                  </a:cubicBezTo>
                  <a:cubicBezTo>
                    <a:pt x="458" y="1868"/>
                    <a:pt x="458" y="1868"/>
                    <a:pt x="458" y="1868"/>
                  </a:cubicBezTo>
                  <a:cubicBezTo>
                    <a:pt x="443" y="1856"/>
                    <a:pt x="428" y="1842"/>
                    <a:pt x="418" y="1827"/>
                  </a:cubicBezTo>
                  <a:close/>
                  <a:moveTo>
                    <a:pt x="458" y="1880"/>
                  </a:moveTo>
                  <a:cubicBezTo>
                    <a:pt x="454" y="1962"/>
                    <a:pt x="454" y="1962"/>
                    <a:pt x="454" y="1962"/>
                  </a:cubicBezTo>
                  <a:cubicBezTo>
                    <a:pt x="445" y="1966"/>
                    <a:pt x="445" y="1966"/>
                    <a:pt x="445" y="1966"/>
                  </a:cubicBezTo>
                  <a:cubicBezTo>
                    <a:pt x="449" y="1872"/>
                    <a:pt x="449" y="1872"/>
                    <a:pt x="449" y="1872"/>
                  </a:cubicBezTo>
                  <a:cubicBezTo>
                    <a:pt x="453" y="1874"/>
                    <a:pt x="454" y="1878"/>
                    <a:pt x="458" y="1880"/>
                  </a:cubicBezTo>
                  <a:close/>
                  <a:moveTo>
                    <a:pt x="460" y="1958"/>
                  </a:moveTo>
                  <a:cubicBezTo>
                    <a:pt x="464" y="1882"/>
                    <a:pt x="464" y="1882"/>
                    <a:pt x="464" y="1882"/>
                  </a:cubicBezTo>
                  <a:cubicBezTo>
                    <a:pt x="472" y="1889"/>
                    <a:pt x="483" y="1893"/>
                    <a:pt x="493" y="1897"/>
                  </a:cubicBezTo>
                  <a:cubicBezTo>
                    <a:pt x="493" y="1942"/>
                    <a:pt x="493" y="1942"/>
                    <a:pt x="493" y="1942"/>
                  </a:cubicBezTo>
                  <a:cubicBezTo>
                    <a:pt x="481" y="1948"/>
                    <a:pt x="470" y="1954"/>
                    <a:pt x="460" y="1958"/>
                  </a:cubicBezTo>
                  <a:close/>
                  <a:moveTo>
                    <a:pt x="464" y="1872"/>
                  </a:moveTo>
                  <a:cubicBezTo>
                    <a:pt x="470" y="1735"/>
                    <a:pt x="470" y="1735"/>
                    <a:pt x="470" y="1735"/>
                  </a:cubicBezTo>
                  <a:cubicBezTo>
                    <a:pt x="483" y="1761"/>
                    <a:pt x="498" y="1786"/>
                    <a:pt x="514" y="1809"/>
                  </a:cubicBezTo>
                  <a:cubicBezTo>
                    <a:pt x="512" y="1808"/>
                    <a:pt x="512" y="1808"/>
                    <a:pt x="512" y="1808"/>
                  </a:cubicBezTo>
                  <a:cubicBezTo>
                    <a:pt x="508" y="1895"/>
                    <a:pt x="508" y="1895"/>
                    <a:pt x="508" y="1895"/>
                  </a:cubicBezTo>
                  <a:cubicBezTo>
                    <a:pt x="504" y="1893"/>
                    <a:pt x="500" y="1891"/>
                    <a:pt x="497" y="1891"/>
                  </a:cubicBezTo>
                  <a:cubicBezTo>
                    <a:pt x="497" y="1889"/>
                    <a:pt x="497" y="1889"/>
                    <a:pt x="497" y="1889"/>
                  </a:cubicBezTo>
                  <a:cubicBezTo>
                    <a:pt x="493" y="1889"/>
                    <a:pt x="493" y="1889"/>
                    <a:pt x="493" y="1889"/>
                  </a:cubicBezTo>
                  <a:cubicBezTo>
                    <a:pt x="483" y="1884"/>
                    <a:pt x="474" y="1878"/>
                    <a:pt x="464" y="1872"/>
                  </a:cubicBezTo>
                  <a:close/>
                  <a:moveTo>
                    <a:pt x="508" y="1903"/>
                  </a:moveTo>
                  <a:cubicBezTo>
                    <a:pt x="506" y="1934"/>
                    <a:pt x="506" y="1934"/>
                    <a:pt x="506" y="1934"/>
                  </a:cubicBezTo>
                  <a:cubicBezTo>
                    <a:pt x="498" y="1940"/>
                    <a:pt x="498" y="1940"/>
                    <a:pt x="498" y="1940"/>
                  </a:cubicBezTo>
                  <a:cubicBezTo>
                    <a:pt x="497" y="1901"/>
                    <a:pt x="497" y="1901"/>
                    <a:pt x="497" y="1901"/>
                  </a:cubicBezTo>
                  <a:cubicBezTo>
                    <a:pt x="500" y="1901"/>
                    <a:pt x="504" y="1903"/>
                    <a:pt x="508" y="1903"/>
                  </a:cubicBezTo>
                  <a:close/>
                  <a:moveTo>
                    <a:pt x="512" y="1932"/>
                  </a:moveTo>
                  <a:cubicBezTo>
                    <a:pt x="514" y="1905"/>
                    <a:pt x="514" y="1905"/>
                    <a:pt x="514" y="1905"/>
                  </a:cubicBezTo>
                  <a:cubicBezTo>
                    <a:pt x="525" y="1909"/>
                    <a:pt x="537" y="1911"/>
                    <a:pt x="548" y="1909"/>
                  </a:cubicBezTo>
                  <a:cubicBezTo>
                    <a:pt x="548" y="1915"/>
                    <a:pt x="548" y="1915"/>
                    <a:pt x="548" y="1915"/>
                  </a:cubicBezTo>
                  <a:cubicBezTo>
                    <a:pt x="539" y="1919"/>
                    <a:pt x="527" y="1925"/>
                    <a:pt x="512" y="1932"/>
                  </a:cubicBezTo>
                  <a:close/>
                  <a:moveTo>
                    <a:pt x="514" y="1897"/>
                  </a:moveTo>
                  <a:cubicBezTo>
                    <a:pt x="518" y="1813"/>
                    <a:pt x="518" y="1813"/>
                    <a:pt x="518" y="1813"/>
                  </a:cubicBezTo>
                  <a:cubicBezTo>
                    <a:pt x="533" y="1833"/>
                    <a:pt x="548" y="1850"/>
                    <a:pt x="565" y="1864"/>
                  </a:cubicBezTo>
                  <a:cubicBezTo>
                    <a:pt x="561" y="1899"/>
                    <a:pt x="561" y="1899"/>
                    <a:pt x="561" y="1899"/>
                  </a:cubicBezTo>
                  <a:cubicBezTo>
                    <a:pt x="560" y="1899"/>
                    <a:pt x="556" y="1899"/>
                    <a:pt x="554" y="1899"/>
                  </a:cubicBezTo>
                  <a:cubicBezTo>
                    <a:pt x="554" y="1899"/>
                    <a:pt x="552" y="1899"/>
                    <a:pt x="552" y="1901"/>
                  </a:cubicBezTo>
                  <a:cubicBezTo>
                    <a:pt x="552" y="1899"/>
                    <a:pt x="552" y="1899"/>
                    <a:pt x="552" y="1899"/>
                  </a:cubicBezTo>
                  <a:cubicBezTo>
                    <a:pt x="546" y="1901"/>
                    <a:pt x="546" y="1901"/>
                    <a:pt x="546" y="1901"/>
                  </a:cubicBezTo>
                  <a:cubicBezTo>
                    <a:pt x="546" y="1901"/>
                    <a:pt x="546" y="1901"/>
                    <a:pt x="546" y="1901"/>
                  </a:cubicBezTo>
                  <a:cubicBezTo>
                    <a:pt x="537" y="1901"/>
                    <a:pt x="525" y="1899"/>
                    <a:pt x="514" y="1897"/>
                  </a:cubicBezTo>
                  <a:close/>
                  <a:moveTo>
                    <a:pt x="567" y="1897"/>
                  </a:moveTo>
                  <a:cubicBezTo>
                    <a:pt x="569" y="1868"/>
                    <a:pt x="569" y="1868"/>
                    <a:pt x="569" y="1868"/>
                  </a:cubicBezTo>
                  <a:cubicBezTo>
                    <a:pt x="571" y="1870"/>
                    <a:pt x="575" y="1872"/>
                    <a:pt x="577" y="1874"/>
                  </a:cubicBezTo>
                  <a:cubicBezTo>
                    <a:pt x="594" y="1887"/>
                    <a:pt x="594" y="1887"/>
                    <a:pt x="594" y="1887"/>
                  </a:cubicBezTo>
                  <a:cubicBezTo>
                    <a:pt x="590" y="1891"/>
                    <a:pt x="579" y="1895"/>
                    <a:pt x="567" y="1897"/>
                  </a:cubicBezTo>
                  <a:close/>
                  <a:moveTo>
                    <a:pt x="628" y="1878"/>
                  </a:moveTo>
                  <a:cubicBezTo>
                    <a:pt x="628" y="1876"/>
                    <a:pt x="628" y="1876"/>
                    <a:pt x="628" y="1876"/>
                  </a:cubicBezTo>
                  <a:cubicBezTo>
                    <a:pt x="651" y="1856"/>
                    <a:pt x="670" y="1835"/>
                    <a:pt x="688" y="1813"/>
                  </a:cubicBezTo>
                  <a:cubicBezTo>
                    <a:pt x="686" y="1852"/>
                    <a:pt x="686" y="1852"/>
                    <a:pt x="686" y="1852"/>
                  </a:cubicBezTo>
                  <a:cubicBezTo>
                    <a:pt x="667" y="1860"/>
                    <a:pt x="647" y="1870"/>
                    <a:pt x="628" y="1878"/>
                  </a:cubicBezTo>
                  <a:close/>
                  <a:moveTo>
                    <a:pt x="693" y="1848"/>
                  </a:moveTo>
                  <a:cubicBezTo>
                    <a:pt x="691" y="1848"/>
                    <a:pt x="691" y="1848"/>
                    <a:pt x="691" y="1848"/>
                  </a:cubicBezTo>
                  <a:cubicBezTo>
                    <a:pt x="695" y="1805"/>
                    <a:pt x="695" y="1805"/>
                    <a:pt x="695" y="1805"/>
                  </a:cubicBezTo>
                  <a:cubicBezTo>
                    <a:pt x="718" y="1774"/>
                    <a:pt x="739" y="1743"/>
                    <a:pt x="760" y="1708"/>
                  </a:cubicBezTo>
                  <a:cubicBezTo>
                    <a:pt x="754" y="1823"/>
                    <a:pt x="754" y="1823"/>
                    <a:pt x="754" y="1823"/>
                  </a:cubicBezTo>
                  <a:cubicBezTo>
                    <a:pt x="735" y="1831"/>
                    <a:pt x="714" y="1841"/>
                    <a:pt x="693" y="1848"/>
                  </a:cubicBezTo>
                  <a:close/>
                  <a:moveTo>
                    <a:pt x="764" y="1819"/>
                  </a:moveTo>
                  <a:cubicBezTo>
                    <a:pt x="760" y="1819"/>
                    <a:pt x="760" y="1819"/>
                    <a:pt x="760" y="1819"/>
                  </a:cubicBezTo>
                  <a:cubicBezTo>
                    <a:pt x="768" y="1698"/>
                    <a:pt x="768" y="1698"/>
                    <a:pt x="768" y="1698"/>
                  </a:cubicBezTo>
                  <a:cubicBezTo>
                    <a:pt x="774" y="1688"/>
                    <a:pt x="779" y="1679"/>
                    <a:pt x="785" y="1669"/>
                  </a:cubicBezTo>
                  <a:cubicBezTo>
                    <a:pt x="798" y="1645"/>
                    <a:pt x="812" y="1622"/>
                    <a:pt x="827" y="1597"/>
                  </a:cubicBezTo>
                  <a:cubicBezTo>
                    <a:pt x="829" y="1794"/>
                    <a:pt x="829" y="1794"/>
                    <a:pt x="829" y="1794"/>
                  </a:cubicBezTo>
                  <a:cubicBezTo>
                    <a:pt x="806" y="1802"/>
                    <a:pt x="785" y="1809"/>
                    <a:pt x="764" y="1819"/>
                  </a:cubicBezTo>
                  <a:close/>
                  <a:moveTo>
                    <a:pt x="833" y="1792"/>
                  </a:moveTo>
                  <a:cubicBezTo>
                    <a:pt x="831" y="1587"/>
                    <a:pt x="831" y="1587"/>
                    <a:pt x="831" y="1587"/>
                  </a:cubicBezTo>
                  <a:cubicBezTo>
                    <a:pt x="861" y="1532"/>
                    <a:pt x="894" y="1474"/>
                    <a:pt x="925" y="1411"/>
                  </a:cubicBezTo>
                  <a:cubicBezTo>
                    <a:pt x="915" y="1716"/>
                    <a:pt x="915" y="1716"/>
                    <a:pt x="915" y="1716"/>
                  </a:cubicBezTo>
                  <a:cubicBezTo>
                    <a:pt x="886" y="1749"/>
                    <a:pt x="860" y="1780"/>
                    <a:pt x="850" y="1784"/>
                  </a:cubicBezTo>
                  <a:cubicBezTo>
                    <a:pt x="846" y="1784"/>
                    <a:pt x="846" y="1784"/>
                    <a:pt x="846" y="1784"/>
                  </a:cubicBezTo>
                  <a:cubicBezTo>
                    <a:pt x="846" y="1786"/>
                    <a:pt x="846" y="1786"/>
                    <a:pt x="846" y="1786"/>
                  </a:cubicBezTo>
                  <a:cubicBezTo>
                    <a:pt x="842" y="1788"/>
                    <a:pt x="837" y="1790"/>
                    <a:pt x="833" y="1792"/>
                  </a:cubicBezTo>
                  <a:close/>
                  <a:moveTo>
                    <a:pt x="913" y="1729"/>
                  </a:moveTo>
                  <a:cubicBezTo>
                    <a:pt x="913" y="1762"/>
                    <a:pt x="913" y="1762"/>
                    <a:pt x="913" y="1762"/>
                  </a:cubicBezTo>
                  <a:cubicBezTo>
                    <a:pt x="871" y="1778"/>
                    <a:pt x="871" y="1778"/>
                    <a:pt x="871" y="1778"/>
                  </a:cubicBezTo>
                  <a:cubicBezTo>
                    <a:pt x="884" y="1762"/>
                    <a:pt x="900" y="1747"/>
                    <a:pt x="913" y="1729"/>
                  </a:cubicBezTo>
                  <a:close/>
                  <a:moveTo>
                    <a:pt x="919" y="1761"/>
                  </a:moveTo>
                  <a:cubicBezTo>
                    <a:pt x="919" y="1723"/>
                    <a:pt x="919" y="1723"/>
                    <a:pt x="919" y="1723"/>
                  </a:cubicBezTo>
                  <a:cubicBezTo>
                    <a:pt x="927" y="1716"/>
                    <a:pt x="932" y="1708"/>
                    <a:pt x="940" y="1700"/>
                  </a:cubicBezTo>
                  <a:cubicBezTo>
                    <a:pt x="936" y="1753"/>
                    <a:pt x="936" y="1753"/>
                    <a:pt x="936" y="1753"/>
                  </a:cubicBezTo>
                  <a:cubicBezTo>
                    <a:pt x="919" y="1761"/>
                    <a:pt x="919" y="1761"/>
                    <a:pt x="919" y="1761"/>
                  </a:cubicBezTo>
                  <a:close/>
                  <a:moveTo>
                    <a:pt x="921" y="1708"/>
                  </a:moveTo>
                  <a:cubicBezTo>
                    <a:pt x="930" y="1400"/>
                    <a:pt x="930" y="1400"/>
                    <a:pt x="930" y="1400"/>
                  </a:cubicBezTo>
                  <a:cubicBezTo>
                    <a:pt x="963" y="1333"/>
                    <a:pt x="997" y="1265"/>
                    <a:pt x="1030" y="1195"/>
                  </a:cubicBezTo>
                  <a:cubicBezTo>
                    <a:pt x="1011" y="1591"/>
                    <a:pt x="1011" y="1591"/>
                    <a:pt x="1011" y="1591"/>
                  </a:cubicBezTo>
                  <a:cubicBezTo>
                    <a:pt x="1003" y="1601"/>
                    <a:pt x="997" y="1608"/>
                    <a:pt x="992" y="1618"/>
                  </a:cubicBezTo>
                  <a:cubicBezTo>
                    <a:pt x="980" y="1634"/>
                    <a:pt x="949" y="1671"/>
                    <a:pt x="921" y="1708"/>
                  </a:cubicBezTo>
                  <a:close/>
                  <a:moveTo>
                    <a:pt x="1009" y="1610"/>
                  </a:moveTo>
                  <a:cubicBezTo>
                    <a:pt x="1005" y="1727"/>
                    <a:pt x="1005" y="1727"/>
                    <a:pt x="1005" y="1727"/>
                  </a:cubicBezTo>
                  <a:cubicBezTo>
                    <a:pt x="942" y="1751"/>
                    <a:pt x="942" y="1751"/>
                    <a:pt x="942" y="1751"/>
                  </a:cubicBezTo>
                  <a:cubicBezTo>
                    <a:pt x="946" y="1692"/>
                    <a:pt x="946" y="1692"/>
                    <a:pt x="946" y="1692"/>
                  </a:cubicBezTo>
                  <a:cubicBezTo>
                    <a:pt x="967" y="1665"/>
                    <a:pt x="990" y="1638"/>
                    <a:pt x="1009" y="1610"/>
                  </a:cubicBezTo>
                  <a:close/>
                  <a:moveTo>
                    <a:pt x="1009" y="1725"/>
                  </a:moveTo>
                  <a:cubicBezTo>
                    <a:pt x="1015" y="1603"/>
                    <a:pt x="1015" y="1603"/>
                    <a:pt x="1015" y="1603"/>
                  </a:cubicBezTo>
                  <a:cubicBezTo>
                    <a:pt x="1024" y="1591"/>
                    <a:pt x="1032" y="1579"/>
                    <a:pt x="1039" y="1569"/>
                  </a:cubicBezTo>
                  <a:cubicBezTo>
                    <a:pt x="1034" y="1716"/>
                    <a:pt x="1034" y="1716"/>
                    <a:pt x="1034" y="1716"/>
                  </a:cubicBezTo>
                  <a:cubicBezTo>
                    <a:pt x="1009" y="1725"/>
                    <a:pt x="1009" y="1725"/>
                    <a:pt x="1009" y="1725"/>
                  </a:cubicBezTo>
                  <a:close/>
                  <a:moveTo>
                    <a:pt x="1016" y="1583"/>
                  </a:moveTo>
                  <a:cubicBezTo>
                    <a:pt x="1036" y="1183"/>
                    <a:pt x="1036" y="1183"/>
                    <a:pt x="1036" y="1183"/>
                  </a:cubicBezTo>
                  <a:cubicBezTo>
                    <a:pt x="1066" y="1115"/>
                    <a:pt x="1097" y="1047"/>
                    <a:pt x="1127" y="976"/>
                  </a:cubicBezTo>
                  <a:cubicBezTo>
                    <a:pt x="1112" y="1437"/>
                    <a:pt x="1112" y="1437"/>
                    <a:pt x="1112" y="1437"/>
                  </a:cubicBezTo>
                  <a:cubicBezTo>
                    <a:pt x="1081" y="1487"/>
                    <a:pt x="1049" y="1536"/>
                    <a:pt x="1016" y="1583"/>
                  </a:cubicBezTo>
                  <a:close/>
                  <a:moveTo>
                    <a:pt x="1112" y="1460"/>
                  </a:moveTo>
                  <a:cubicBezTo>
                    <a:pt x="1102" y="1690"/>
                    <a:pt x="1102" y="1690"/>
                    <a:pt x="1102" y="1690"/>
                  </a:cubicBezTo>
                  <a:cubicBezTo>
                    <a:pt x="1039" y="1714"/>
                    <a:pt x="1039" y="1714"/>
                    <a:pt x="1039" y="1714"/>
                  </a:cubicBezTo>
                  <a:cubicBezTo>
                    <a:pt x="1045" y="1560"/>
                    <a:pt x="1045" y="1560"/>
                    <a:pt x="1045" y="1560"/>
                  </a:cubicBezTo>
                  <a:cubicBezTo>
                    <a:pt x="1068" y="1528"/>
                    <a:pt x="1089" y="1493"/>
                    <a:pt x="1112" y="1460"/>
                  </a:cubicBezTo>
                  <a:close/>
                  <a:moveTo>
                    <a:pt x="1108" y="1688"/>
                  </a:moveTo>
                  <a:cubicBezTo>
                    <a:pt x="1118" y="1450"/>
                    <a:pt x="1118" y="1450"/>
                    <a:pt x="1118" y="1450"/>
                  </a:cubicBezTo>
                  <a:cubicBezTo>
                    <a:pt x="1129" y="1431"/>
                    <a:pt x="1141" y="1411"/>
                    <a:pt x="1152" y="1390"/>
                  </a:cubicBezTo>
                  <a:cubicBezTo>
                    <a:pt x="1144" y="1675"/>
                    <a:pt x="1144" y="1675"/>
                    <a:pt x="1144" y="1675"/>
                  </a:cubicBezTo>
                  <a:cubicBezTo>
                    <a:pt x="1108" y="1688"/>
                    <a:pt x="1108" y="1688"/>
                    <a:pt x="1108" y="1688"/>
                  </a:cubicBezTo>
                  <a:close/>
                  <a:moveTo>
                    <a:pt x="1118" y="1427"/>
                  </a:moveTo>
                  <a:cubicBezTo>
                    <a:pt x="1135" y="962"/>
                    <a:pt x="1135" y="962"/>
                    <a:pt x="1135" y="962"/>
                  </a:cubicBezTo>
                  <a:cubicBezTo>
                    <a:pt x="1169" y="882"/>
                    <a:pt x="1204" y="801"/>
                    <a:pt x="1238" y="719"/>
                  </a:cubicBezTo>
                  <a:cubicBezTo>
                    <a:pt x="1223" y="1244"/>
                    <a:pt x="1223" y="1244"/>
                    <a:pt x="1223" y="1244"/>
                  </a:cubicBezTo>
                  <a:cubicBezTo>
                    <a:pt x="1188" y="1306"/>
                    <a:pt x="1154" y="1368"/>
                    <a:pt x="1118" y="1427"/>
                  </a:cubicBezTo>
                  <a:close/>
                  <a:moveTo>
                    <a:pt x="1223" y="1269"/>
                  </a:moveTo>
                  <a:cubicBezTo>
                    <a:pt x="1211" y="1649"/>
                    <a:pt x="1211" y="1649"/>
                    <a:pt x="1211" y="1649"/>
                  </a:cubicBezTo>
                  <a:cubicBezTo>
                    <a:pt x="1148" y="1673"/>
                    <a:pt x="1148" y="1673"/>
                    <a:pt x="1148" y="1673"/>
                  </a:cubicBezTo>
                  <a:cubicBezTo>
                    <a:pt x="1158" y="1386"/>
                    <a:pt x="1158" y="1386"/>
                    <a:pt x="1158" y="1386"/>
                  </a:cubicBezTo>
                  <a:cubicBezTo>
                    <a:pt x="1156" y="1386"/>
                    <a:pt x="1156" y="1386"/>
                    <a:pt x="1156" y="1386"/>
                  </a:cubicBezTo>
                  <a:cubicBezTo>
                    <a:pt x="1179" y="1347"/>
                    <a:pt x="1202" y="1308"/>
                    <a:pt x="1223" y="1269"/>
                  </a:cubicBezTo>
                  <a:close/>
                  <a:moveTo>
                    <a:pt x="1217" y="1647"/>
                  </a:moveTo>
                  <a:cubicBezTo>
                    <a:pt x="1228" y="1259"/>
                    <a:pt x="1228" y="1259"/>
                    <a:pt x="1228" y="1259"/>
                  </a:cubicBezTo>
                  <a:cubicBezTo>
                    <a:pt x="1244" y="1226"/>
                    <a:pt x="1261" y="1195"/>
                    <a:pt x="1278" y="1164"/>
                  </a:cubicBezTo>
                  <a:cubicBezTo>
                    <a:pt x="1265" y="1630"/>
                    <a:pt x="1265" y="1630"/>
                    <a:pt x="1265" y="1630"/>
                  </a:cubicBezTo>
                  <a:cubicBezTo>
                    <a:pt x="1250" y="1636"/>
                    <a:pt x="1234" y="1642"/>
                    <a:pt x="1217" y="1647"/>
                  </a:cubicBezTo>
                  <a:close/>
                  <a:moveTo>
                    <a:pt x="1228" y="1234"/>
                  </a:moveTo>
                  <a:cubicBezTo>
                    <a:pt x="1242" y="707"/>
                    <a:pt x="1242" y="707"/>
                    <a:pt x="1242" y="707"/>
                  </a:cubicBezTo>
                  <a:cubicBezTo>
                    <a:pt x="1284" y="607"/>
                    <a:pt x="1324" y="510"/>
                    <a:pt x="1362" y="416"/>
                  </a:cubicBezTo>
                  <a:cubicBezTo>
                    <a:pt x="1347" y="998"/>
                    <a:pt x="1347" y="998"/>
                    <a:pt x="1347" y="998"/>
                  </a:cubicBezTo>
                  <a:cubicBezTo>
                    <a:pt x="1311" y="1076"/>
                    <a:pt x="1271" y="1156"/>
                    <a:pt x="1228" y="1234"/>
                  </a:cubicBezTo>
                  <a:close/>
                  <a:moveTo>
                    <a:pt x="1347" y="1023"/>
                  </a:moveTo>
                  <a:cubicBezTo>
                    <a:pt x="1334" y="1604"/>
                    <a:pt x="1334" y="1604"/>
                    <a:pt x="1334" y="1604"/>
                  </a:cubicBezTo>
                  <a:cubicBezTo>
                    <a:pt x="1314" y="1610"/>
                    <a:pt x="1293" y="1618"/>
                    <a:pt x="1271" y="1628"/>
                  </a:cubicBezTo>
                  <a:cubicBezTo>
                    <a:pt x="1284" y="1152"/>
                    <a:pt x="1284" y="1152"/>
                    <a:pt x="1284" y="1152"/>
                  </a:cubicBezTo>
                  <a:cubicBezTo>
                    <a:pt x="1305" y="1109"/>
                    <a:pt x="1326" y="1066"/>
                    <a:pt x="1347" y="1023"/>
                  </a:cubicBezTo>
                  <a:close/>
                  <a:moveTo>
                    <a:pt x="1339" y="1603"/>
                  </a:moveTo>
                  <a:cubicBezTo>
                    <a:pt x="1353" y="1011"/>
                    <a:pt x="1353" y="1011"/>
                    <a:pt x="1353" y="1011"/>
                  </a:cubicBezTo>
                  <a:cubicBezTo>
                    <a:pt x="1374" y="968"/>
                    <a:pt x="1393" y="927"/>
                    <a:pt x="1412" y="886"/>
                  </a:cubicBezTo>
                  <a:cubicBezTo>
                    <a:pt x="1400" y="1579"/>
                    <a:pt x="1400" y="1579"/>
                    <a:pt x="1400" y="1579"/>
                  </a:cubicBezTo>
                  <a:cubicBezTo>
                    <a:pt x="1389" y="1583"/>
                    <a:pt x="1366" y="1591"/>
                    <a:pt x="1339" y="1603"/>
                  </a:cubicBezTo>
                  <a:close/>
                  <a:moveTo>
                    <a:pt x="1353" y="986"/>
                  </a:moveTo>
                  <a:cubicBezTo>
                    <a:pt x="1368" y="401"/>
                    <a:pt x="1368" y="401"/>
                    <a:pt x="1368" y="401"/>
                  </a:cubicBezTo>
                  <a:cubicBezTo>
                    <a:pt x="1404" y="311"/>
                    <a:pt x="1439" y="225"/>
                    <a:pt x="1469" y="145"/>
                  </a:cubicBezTo>
                  <a:cubicBezTo>
                    <a:pt x="1469" y="203"/>
                    <a:pt x="1460" y="752"/>
                    <a:pt x="1460" y="758"/>
                  </a:cubicBezTo>
                  <a:cubicBezTo>
                    <a:pt x="1458" y="762"/>
                    <a:pt x="1421" y="843"/>
                    <a:pt x="1416" y="855"/>
                  </a:cubicBezTo>
                  <a:cubicBezTo>
                    <a:pt x="1412" y="855"/>
                    <a:pt x="1412" y="855"/>
                    <a:pt x="1412" y="855"/>
                  </a:cubicBezTo>
                  <a:cubicBezTo>
                    <a:pt x="1412" y="861"/>
                    <a:pt x="1412" y="861"/>
                    <a:pt x="1412" y="861"/>
                  </a:cubicBezTo>
                  <a:cubicBezTo>
                    <a:pt x="1393" y="902"/>
                    <a:pt x="1374" y="945"/>
                    <a:pt x="1353" y="986"/>
                  </a:cubicBezTo>
                  <a:close/>
                  <a:moveTo>
                    <a:pt x="1643" y="196"/>
                  </a:moveTo>
                  <a:cubicBezTo>
                    <a:pt x="1641" y="323"/>
                    <a:pt x="1641" y="323"/>
                    <a:pt x="1641" y="323"/>
                  </a:cubicBezTo>
                  <a:cubicBezTo>
                    <a:pt x="1618" y="381"/>
                    <a:pt x="1618" y="381"/>
                    <a:pt x="1618" y="381"/>
                  </a:cubicBezTo>
                  <a:cubicBezTo>
                    <a:pt x="1618" y="381"/>
                    <a:pt x="1618" y="381"/>
                    <a:pt x="1618" y="381"/>
                  </a:cubicBezTo>
                  <a:cubicBezTo>
                    <a:pt x="1592" y="379"/>
                    <a:pt x="1542" y="379"/>
                    <a:pt x="1529" y="360"/>
                  </a:cubicBezTo>
                  <a:cubicBezTo>
                    <a:pt x="1525" y="354"/>
                    <a:pt x="1525" y="348"/>
                    <a:pt x="1525" y="344"/>
                  </a:cubicBezTo>
                  <a:cubicBezTo>
                    <a:pt x="1525" y="178"/>
                    <a:pt x="1509" y="182"/>
                    <a:pt x="1643" y="196"/>
                  </a:cubicBezTo>
                  <a:close/>
                  <a:moveTo>
                    <a:pt x="1641" y="350"/>
                  </a:moveTo>
                  <a:cubicBezTo>
                    <a:pt x="1641" y="383"/>
                    <a:pt x="1641" y="383"/>
                    <a:pt x="1641" y="383"/>
                  </a:cubicBezTo>
                  <a:cubicBezTo>
                    <a:pt x="1634" y="383"/>
                    <a:pt x="1630" y="381"/>
                    <a:pt x="1628" y="381"/>
                  </a:cubicBezTo>
                  <a:cubicBezTo>
                    <a:pt x="1632" y="371"/>
                    <a:pt x="1638" y="360"/>
                    <a:pt x="1641" y="350"/>
                  </a:cubicBezTo>
                  <a:close/>
                  <a:moveTo>
                    <a:pt x="1639" y="488"/>
                  </a:moveTo>
                  <a:cubicBezTo>
                    <a:pt x="1636" y="697"/>
                    <a:pt x="1636" y="697"/>
                    <a:pt x="1636" y="697"/>
                  </a:cubicBezTo>
                  <a:cubicBezTo>
                    <a:pt x="1613" y="695"/>
                    <a:pt x="1588" y="693"/>
                    <a:pt x="1574" y="693"/>
                  </a:cubicBezTo>
                  <a:cubicBezTo>
                    <a:pt x="1576" y="514"/>
                    <a:pt x="1576" y="514"/>
                    <a:pt x="1576" y="514"/>
                  </a:cubicBezTo>
                  <a:cubicBezTo>
                    <a:pt x="1574" y="514"/>
                    <a:pt x="1574" y="514"/>
                    <a:pt x="1574" y="514"/>
                  </a:cubicBezTo>
                  <a:cubicBezTo>
                    <a:pt x="1580" y="500"/>
                    <a:pt x="1586" y="490"/>
                    <a:pt x="1588" y="484"/>
                  </a:cubicBezTo>
                  <a:cubicBezTo>
                    <a:pt x="1594" y="484"/>
                    <a:pt x="1617" y="486"/>
                    <a:pt x="1639" y="488"/>
                  </a:cubicBezTo>
                  <a:close/>
                  <a:moveTo>
                    <a:pt x="1632" y="824"/>
                  </a:moveTo>
                  <a:cubicBezTo>
                    <a:pt x="1628" y="1093"/>
                    <a:pt x="1628" y="1093"/>
                    <a:pt x="1628" y="1093"/>
                  </a:cubicBezTo>
                  <a:cubicBezTo>
                    <a:pt x="1603" y="1093"/>
                    <a:pt x="1576" y="1093"/>
                    <a:pt x="1567" y="1091"/>
                  </a:cubicBezTo>
                  <a:cubicBezTo>
                    <a:pt x="1571" y="822"/>
                    <a:pt x="1571" y="822"/>
                    <a:pt x="1571" y="822"/>
                  </a:cubicBezTo>
                  <a:cubicBezTo>
                    <a:pt x="1574" y="822"/>
                    <a:pt x="1576" y="822"/>
                    <a:pt x="1580" y="822"/>
                  </a:cubicBezTo>
                  <a:cubicBezTo>
                    <a:pt x="1586" y="822"/>
                    <a:pt x="1609" y="824"/>
                    <a:pt x="1632" y="824"/>
                  </a:cubicBezTo>
                  <a:close/>
                  <a:moveTo>
                    <a:pt x="1626" y="1230"/>
                  </a:moveTo>
                  <a:cubicBezTo>
                    <a:pt x="1620" y="1513"/>
                    <a:pt x="1620" y="1513"/>
                    <a:pt x="1620" y="1513"/>
                  </a:cubicBezTo>
                  <a:cubicBezTo>
                    <a:pt x="1597" y="1521"/>
                    <a:pt x="1574" y="1528"/>
                    <a:pt x="1557" y="1534"/>
                  </a:cubicBezTo>
                  <a:cubicBezTo>
                    <a:pt x="1563" y="1230"/>
                    <a:pt x="1563" y="1230"/>
                    <a:pt x="1563" y="1230"/>
                  </a:cubicBezTo>
                  <a:cubicBezTo>
                    <a:pt x="1565" y="1230"/>
                    <a:pt x="1567" y="1230"/>
                    <a:pt x="1569" y="1230"/>
                  </a:cubicBezTo>
                  <a:cubicBezTo>
                    <a:pt x="1626" y="1230"/>
                    <a:pt x="1626" y="1230"/>
                    <a:pt x="1626" y="1230"/>
                  </a:cubicBezTo>
                  <a:close/>
                  <a:moveTo>
                    <a:pt x="1626" y="1511"/>
                  </a:moveTo>
                  <a:cubicBezTo>
                    <a:pt x="1632" y="1230"/>
                    <a:pt x="1632" y="1230"/>
                    <a:pt x="1632" y="1230"/>
                  </a:cubicBezTo>
                  <a:cubicBezTo>
                    <a:pt x="1682" y="1230"/>
                    <a:pt x="1682" y="1230"/>
                    <a:pt x="1682" y="1230"/>
                  </a:cubicBezTo>
                  <a:cubicBezTo>
                    <a:pt x="1706" y="1232"/>
                    <a:pt x="1722" y="1271"/>
                    <a:pt x="1722" y="1292"/>
                  </a:cubicBezTo>
                  <a:cubicBezTo>
                    <a:pt x="1722" y="1478"/>
                    <a:pt x="1722" y="1478"/>
                    <a:pt x="1722" y="1478"/>
                  </a:cubicBezTo>
                  <a:cubicBezTo>
                    <a:pt x="1720" y="1478"/>
                    <a:pt x="1672" y="1495"/>
                    <a:pt x="1626" y="1511"/>
                  </a:cubicBezTo>
                  <a:close/>
                  <a:moveTo>
                    <a:pt x="1634" y="1093"/>
                  </a:moveTo>
                  <a:cubicBezTo>
                    <a:pt x="1638" y="824"/>
                    <a:pt x="1638" y="824"/>
                    <a:pt x="1638" y="824"/>
                  </a:cubicBezTo>
                  <a:cubicBezTo>
                    <a:pt x="1662" y="826"/>
                    <a:pt x="1685" y="828"/>
                    <a:pt x="1691" y="830"/>
                  </a:cubicBezTo>
                  <a:cubicBezTo>
                    <a:pt x="1712" y="840"/>
                    <a:pt x="1724" y="863"/>
                    <a:pt x="1724" y="886"/>
                  </a:cubicBezTo>
                  <a:cubicBezTo>
                    <a:pt x="1724" y="1037"/>
                    <a:pt x="1724" y="1037"/>
                    <a:pt x="1724" y="1037"/>
                  </a:cubicBezTo>
                  <a:cubicBezTo>
                    <a:pt x="1724" y="1060"/>
                    <a:pt x="1712" y="1093"/>
                    <a:pt x="1685" y="1093"/>
                  </a:cubicBezTo>
                  <a:cubicBezTo>
                    <a:pt x="1680" y="1093"/>
                    <a:pt x="1657" y="1093"/>
                    <a:pt x="1634" y="1093"/>
                  </a:cubicBezTo>
                  <a:close/>
                  <a:moveTo>
                    <a:pt x="1639" y="697"/>
                  </a:moveTo>
                  <a:cubicBezTo>
                    <a:pt x="1643" y="488"/>
                    <a:pt x="1643" y="488"/>
                    <a:pt x="1643" y="488"/>
                  </a:cubicBezTo>
                  <a:cubicBezTo>
                    <a:pt x="1670" y="490"/>
                    <a:pt x="1693" y="492"/>
                    <a:pt x="1697" y="494"/>
                  </a:cubicBezTo>
                  <a:cubicBezTo>
                    <a:pt x="1714" y="500"/>
                    <a:pt x="1724" y="518"/>
                    <a:pt x="1724" y="537"/>
                  </a:cubicBezTo>
                  <a:cubicBezTo>
                    <a:pt x="1724" y="537"/>
                    <a:pt x="1724" y="537"/>
                    <a:pt x="1724" y="537"/>
                  </a:cubicBezTo>
                  <a:cubicBezTo>
                    <a:pt x="1724" y="557"/>
                    <a:pt x="1725" y="658"/>
                    <a:pt x="1724" y="670"/>
                  </a:cubicBezTo>
                  <a:cubicBezTo>
                    <a:pt x="1720" y="701"/>
                    <a:pt x="1697" y="699"/>
                    <a:pt x="1672" y="699"/>
                  </a:cubicBezTo>
                  <a:cubicBezTo>
                    <a:pt x="1666" y="697"/>
                    <a:pt x="1655" y="697"/>
                    <a:pt x="1639" y="697"/>
                  </a:cubicBezTo>
                  <a:close/>
                  <a:moveTo>
                    <a:pt x="1645" y="383"/>
                  </a:moveTo>
                  <a:cubicBezTo>
                    <a:pt x="1647" y="334"/>
                    <a:pt x="1647" y="334"/>
                    <a:pt x="1647" y="334"/>
                  </a:cubicBezTo>
                  <a:cubicBezTo>
                    <a:pt x="1664" y="291"/>
                    <a:pt x="1682" y="246"/>
                    <a:pt x="1699" y="201"/>
                  </a:cubicBezTo>
                  <a:cubicBezTo>
                    <a:pt x="1716" y="206"/>
                    <a:pt x="1727" y="215"/>
                    <a:pt x="1727" y="235"/>
                  </a:cubicBezTo>
                  <a:cubicBezTo>
                    <a:pt x="1727" y="358"/>
                    <a:pt x="1727" y="358"/>
                    <a:pt x="1727" y="358"/>
                  </a:cubicBezTo>
                  <a:cubicBezTo>
                    <a:pt x="1725" y="379"/>
                    <a:pt x="1701" y="387"/>
                    <a:pt x="1683" y="387"/>
                  </a:cubicBezTo>
                  <a:cubicBezTo>
                    <a:pt x="1678" y="387"/>
                    <a:pt x="1661" y="385"/>
                    <a:pt x="1645" y="383"/>
                  </a:cubicBezTo>
                  <a:close/>
                  <a:moveTo>
                    <a:pt x="1647" y="307"/>
                  </a:moveTo>
                  <a:cubicBezTo>
                    <a:pt x="1649" y="196"/>
                    <a:pt x="1649" y="196"/>
                    <a:pt x="1649" y="196"/>
                  </a:cubicBezTo>
                  <a:cubicBezTo>
                    <a:pt x="1661" y="196"/>
                    <a:pt x="1674" y="198"/>
                    <a:pt x="1689" y="200"/>
                  </a:cubicBezTo>
                  <a:cubicBezTo>
                    <a:pt x="1647" y="307"/>
                    <a:pt x="1647" y="307"/>
                    <a:pt x="1647" y="307"/>
                  </a:cubicBezTo>
                  <a:close/>
                  <a:moveTo>
                    <a:pt x="1815" y="96"/>
                  </a:moveTo>
                  <a:cubicBezTo>
                    <a:pt x="1813" y="231"/>
                    <a:pt x="1813" y="231"/>
                    <a:pt x="1813" y="231"/>
                  </a:cubicBezTo>
                  <a:cubicBezTo>
                    <a:pt x="1800" y="225"/>
                    <a:pt x="1787" y="219"/>
                    <a:pt x="1775" y="213"/>
                  </a:cubicBezTo>
                  <a:cubicBezTo>
                    <a:pt x="1775" y="71"/>
                    <a:pt x="1775" y="71"/>
                    <a:pt x="1775" y="71"/>
                  </a:cubicBezTo>
                  <a:cubicBezTo>
                    <a:pt x="1779" y="73"/>
                    <a:pt x="1798" y="84"/>
                    <a:pt x="1815" y="96"/>
                  </a:cubicBezTo>
                  <a:close/>
                  <a:moveTo>
                    <a:pt x="1813" y="242"/>
                  </a:moveTo>
                  <a:cubicBezTo>
                    <a:pt x="1792" y="1433"/>
                    <a:pt x="1792" y="1433"/>
                    <a:pt x="1792" y="1433"/>
                  </a:cubicBezTo>
                  <a:cubicBezTo>
                    <a:pt x="1790" y="1372"/>
                    <a:pt x="1790" y="1310"/>
                    <a:pt x="1790" y="1249"/>
                  </a:cubicBezTo>
                  <a:cubicBezTo>
                    <a:pt x="1785" y="908"/>
                    <a:pt x="1781" y="566"/>
                    <a:pt x="1773" y="225"/>
                  </a:cubicBezTo>
                  <a:cubicBezTo>
                    <a:pt x="1813" y="242"/>
                    <a:pt x="1813" y="242"/>
                    <a:pt x="1813" y="242"/>
                  </a:cubicBezTo>
                  <a:close/>
                  <a:moveTo>
                    <a:pt x="1798" y="1448"/>
                  </a:moveTo>
                  <a:cubicBezTo>
                    <a:pt x="1817" y="245"/>
                    <a:pt x="1817" y="245"/>
                    <a:pt x="1817" y="245"/>
                  </a:cubicBezTo>
                  <a:cubicBezTo>
                    <a:pt x="1857" y="262"/>
                    <a:pt x="1896" y="279"/>
                    <a:pt x="1934" y="297"/>
                  </a:cubicBezTo>
                  <a:cubicBezTo>
                    <a:pt x="1932" y="297"/>
                    <a:pt x="1932" y="297"/>
                    <a:pt x="1932" y="297"/>
                  </a:cubicBezTo>
                  <a:cubicBezTo>
                    <a:pt x="1920" y="1409"/>
                    <a:pt x="1920" y="1409"/>
                    <a:pt x="1920" y="1409"/>
                  </a:cubicBezTo>
                  <a:cubicBezTo>
                    <a:pt x="1874" y="1423"/>
                    <a:pt x="1832" y="1437"/>
                    <a:pt x="1798" y="1448"/>
                  </a:cubicBezTo>
                  <a:close/>
                  <a:moveTo>
                    <a:pt x="1819" y="233"/>
                  </a:moveTo>
                  <a:cubicBezTo>
                    <a:pt x="1821" y="100"/>
                    <a:pt x="1821" y="100"/>
                    <a:pt x="1821" y="100"/>
                  </a:cubicBezTo>
                  <a:cubicBezTo>
                    <a:pt x="1836" y="110"/>
                    <a:pt x="1850" y="118"/>
                    <a:pt x="1855" y="121"/>
                  </a:cubicBezTo>
                  <a:cubicBezTo>
                    <a:pt x="1907" y="153"/>
                    <a:pt x="1959" y="182"/>
                    <a:pt x="2010" y="211"/>
                  </a:cubicBezTo>
                  <a:cubicBezTo>
                    <a:pt x="2008" y="318"/>
                    <a:pt x="2008" y="318"/>
                    <a:pt x="2008" y="318"/>
                  </a:cubicBezTo>
                  <a:cubicBezTo>
                    <a:pt x="1941" y="289"/>
                    <a:pt x="1876" y="260"/>
                    <a:pt x="1819" y="233"/>
                  </a:cubicBezTo>
                  <a:close/>
                  <a:moveTo>
                    <a:pt x="2008" y="328"/>
                  </a:moveTo>
                  <a:cubicBezTo>
                    <a:pt x="1991" y="1386"/>
                    <a:pt x="1991" y="1386"/>
                    <a:pt x="1991" y="1386"/>
                  </a:cubicBezTo>
                  <a:cubicBezTo>
                    <a:pt x="1926" y="1407"/>
                    <a:pt x="1926" y="1407"/>
                    <a:pt x="1926" y="1407"/>
                  </a:cubicBezTo>
                  <a:cubicBezTo>
                    <a:pt x="1938" y="297"/>
                    <a:pt x="1938" y="297"/>
                    <a:pt x="1938" y="297"/>
                  </a:cubicBezTo>
                  <a:cubicBezTo>
                    <a:pt x="1962" y="309"/>
                    <a:pt x="1985" y="318"/>
                    <a:pt x="2008" y="328"/>
                  </a:cubicBezTo>
                  <a:close/>
                  <a:moveTo>
                    <a:pt x="1995" y="1384"/>
                  </a:moveTo>
                  <a:cubicBezTo>
                    <a:pt x="2014" y="330"/>
                    <a:pt x="2014" y="330"/>
                    <a:pt x="2014" y="330"/>
                  </a:cubicBezTo>
                  <a:cubicBezTo>
                    <a:pt x="2048" y="346"/>
                    <a:pt x="2085" y="362"/>
                    <a:pt x="2121" y="375"/>
                  </a:cubicBezTo>
                  <a:cubicBezTo>
                    <a:pt x="2136" y="381"/>
                    <a:pt x="2150" y="387"/>
                    <a:pt x="2165" y="393"/>
                  </a:cubicBezTo>
                  <a:cubicBezTo>
                    <a:pt x="2148" y="1335"/>
                    <a:pt x="2148" y="1335"/>
                    <a:pt x="2148" y="1335"/>
                  </a:cubicBezTo>
                  <a:cubicBezTo>
                    <a:pt x="1995" y="1384"/>
                    <a:pt x="1995" y="1384"/>
                    <a:pt x="1995" y="1384"/>
                  </a:cubicBezTo>
                  <a:close/>
                  <a:moveTo>
                    <a:pt x="2014" y="321"/>
                  </a:moveTo>
                  <a:cubicBezTo>
                    <a:pt x="2016" y="213"/>
                    <a:pt x="2016" y="213"/>
                    <a:pt x="2016" y="213"/>
                  </a:cubicBezTo>
                  <a:cubicBezTo>
                    <a:pt x="2087" y="252"/>
                    <a:pt x="2159" y="289"/>
                    <a:pt x="2234" y="325"/>
                  </a:cubicBezTo>
                  <a:cubicBezTo>
                    <a:pt x="2232" y="410"/>
                    <a:pt x="2232" y="410"/>
                    <a:pt x="2232" y="410"/>
                  </a:cubicBezTo>
                  <a:cubicBezTo>
                    <a:pt x="2211" y="403"/>
                    <a:pt x="2192" y="395"/>
                    <a:pt x="2171" y="385"/>
                  </a:cubicBezTo>
                  <a:cubicBezTo>
                    <a:pt x="2171" y="385"/>
                    <a:pt x="2171" y="385"/>
                    <a:pt x="2171" y="385"/>
                  </a:cubicBezTo>
                  <a:cubicBezTo>
                    <a:pt x="2167" y="383"/>
                    <a:pt x="2167" y="383"/>
                    <a:pt x="2167" y="383"/>
                  </a:cubicBezTo>
                  <a:cubicBezTo>
                    <a:pt x="2113" y="364"/>
                    <a:pt x="2064" y="342"/>
                    <a:pt x="2014" y="321"/>
                  </a:cubicBezTo>
                  <a:close/>
                  <a:moveTo>
                    <a:pt x="2232" y="420"/>
                  </a:moveTo>
                  <a:cubicBezTo>
                    <a:pt x="2217" y="1314"/>
                    <a:pt x="2217" y="1314"/>
                    <a:pt x="2217" y="1314"/>
                  </a:cubicBezTo>
                  <a:cubicBezTo>
                    <a:pt x="2153" y="1335"/>
                    <a:pt x="2153" y="1335"/>
                    <a:pt x="2153" y="1335"/>
                  </a:cubicBezTo>
                  <a:cubicBezTo>
                    <a:pt x="2171" y="395"/>
                    <a:pt x="2171" y="395"/>
                    <a:pt x="2171" y="395"/>
                  </a:cubicBezTo>
                  <a:cubicBezTo>
                    <a:pt x="2190" y="403"/>
                    <a:pt x="2211" y="412"/>
                    <a:pt x="2232" y="420"/>
                  </a:cubicBezTo>
                  <a:close/>
                  <a:moveTo>
                    <a:pt x="2222" y="1312"/>
                  </a:moveTo>
                  <a:cubicBezTo>
                    <a:pt x="2238" y="422"/>
                    <a:pt x="2238" y="422"/>
                    <a:pt x="2238" y="422"/>
                  </a:cubicBezTo>
                  <a:cubicBezTo>
                    <a:pt x="2297" y="445"/>
                    <a:pt x="2360" y="469"/>
                    <a:pt x="2425" y="492"/>
                  </a:cubicBezTo>
                  <a:cubicBezTo>
                    <a:pt x="2421" y="818"/>
                    <a:pt x="2419" y="888"/>
                    <a:pt x="2417" y="980"/>
                  </a:cubicBezTo>
                  <a:cubicBezTo>
                    <a:pt x="2415" y="1040"/>
                    <a:pt x="2413" y="1107"/>
                    <a:pt x="2412" y="1251"/>
                  </a:cubicBezTo>
                  <a:cubicBezTo>
                    <a:pt x="2347" y="1273"/>
                    <a:pt x="2284" y="1292"/>
                    <a:pt x="2222" y="1312"/>
                  </a:cubicBezTo>
                  <a:close/>
                  <a:moveTo>
                    <a:pt x="2238" y="412"/>
                  </a:moveTo>
                  <a:cubicBezTo>
                    <a:pt x="2238" y="326"/>
                    <a:pt x="2238" y="326"/>
                    <a:pt x="2238" y="326"/>
                  </a:cubicBezTo>
                  <a:cubicBezTo>
                    <a:pt x="2241" y="328"/>
                    <a:pt x="2241" y="328"/>
                    <a:pt x="2241" y="328"/>
                  </a:cubicBezTo>
                  <a:cubicBezTo>
                    <a:pt x="2322" y="367"/>
                    <a:pt x="2406" y="404"/>
                    <a:pt x="2492" y="438"/>
                  </a:cubicBezTo>
                  <a:cubicBezTo>
                    <a:pt x="2492" y="463"/>
                    <a:pt x="2492" y="484"/>
                    <a:pt x="2492" y="508"/>
                  </a:cubicBezTo>
                  <a:cubicBezTo>
                    <a:pt x="2406" y="477"/>
                    <a:pt x="2320" y="445"/>
                    <a:pt x="2238" y="412"/>
                  </a:cubicBezTo>
                  <a:close/>
                  <a:moveTo>
                    <a:pt x="2492" y="516"/>
                  </a:moveTo>
                  <a:cubicBezTo>
                    <a:pt x="2488" y="781"/>
                    <a:pt x="2486" y="859"/>
                    <a:pt x="2484" y="957"/>
                  </a:cubicBezTo>
                  <a:cubicBezTo>
                    <a:pt x="2482" y="1023"/>
                    <a:pt x="2480" y="1095"/>
                    <a:pt x="2478" y="1230"/>
                  </a:cubicBezTo>
                  <a:cubicBezTo>
                    <a:pt x="2417" y="1249"/>
                    <a:pt x="2417" y="1249"/>
                    <a:pt x="2417" y="1249"/>
                  </a:cubicBezTo>
                  <a:cubicBezTo>
                    <a:pt x="2419" y="1105"/>
                    <a:pt x="2421" y="1040"/>
                    <a:pt x="2423" y="980"/>
                  </a:cubicBezTo>
                  <a:cubicBezTo>
                    <a:pt x="2425" y="888"/>
                    <a:pt x="2427" y="818"/>
                    <a:pt x="2431" y="494"/>
                  </a:cubicBezTo>
                  <a:cubicBezTo>
                    <a:pt x="2450" y="502"/>
                    <a:pt x="2471" y="510"/>
                    <a:pt x="2492" y="516"/>
                  </a:cubicBezTo>
                  <a:close/>
                  <a:moveTo>
                    <a:pt x="2484" y="1228"/>
                  </a:moveTo>
                  <a:cubicBezTo>
                    <a:pt x="2486" y="1095"/>
                    <a:pt x="2488" y="1023"/>
                    <a:pt x="2490" y="957"/>
                  </a:cubicBezTo>
                  <a:cubicBezTo>
                    <a:pt x="2492" y="859"/>
                    <a:pt x="2494" y="781"/>
                    <a:pt x="2498" y="518"/>
                  </a:cubicBezTo>
                  <a:cubicBezTo>
                    <a:pt x="2574" y="545"/>
                    <a:pt x="2652" y="572"/>
                    <a:pt x="2733" y="596"/>
                  </a:cubicBezTo>
                  <a:cubicBezTo>
                    <a:pt x="2727" y="596"/>
                    <a:pt x="2727" y="596"/>
                    <a:pt x="2727" y="596"/>
                  </a:cubicBezTo>
                  <a:cubicBezTo>
                    <a:pt x="2721" y="1152"/>
                    <a:pt x="2721" y="1152"/>
                    <a:pt x="2721" y="1152"/>
                  </a:cubicBezTo>
                  <a:cubicBezTo>
                    <a:pt x="2643" y="1177"/>
                    <a:pt x="2564" y="1203"/>
                    <a:pt x="2484" y="1228"/>
                  </a:cubicBezTo>
                  <a:close/>
                  <a:moveTo>
                    <a:pt x="2498" y="510"/>
                  </a:moveTo>
                  <a:cubicBezTo>
                    <a:pt x="2498" y="486"/>
                    <a:pt x="2498" y="465"/>
                    <a:pt x="2498" y="440"/>
                  </a:cubicBezTo>
                  <a:cubicBezTo>
                    <a:pt x="2595" y="479"/>
                    <a:pt x="2694" y="512"/>
                    <a:pt x="2796" y="541"/>
                  </a:cubicBezTo>
                  <a:cubicBezTo>
                    <a:pt x="2794" y="603"/>
                    <a:pt x="2794" y="603"/>
                    <a:pt x="2794" y="603"/>
                  </a:cubicBezTo>
                  <a:cubicBezTo>
                    <a:pt x="2696" y="576"/>
                    <a:pt x="2597" y="543"/>
                    <a:pt x="2498" y="510"/>
                  </a:cubicBezTo>
                  <a:close/>
                  <a:moveTo>
                    <a:pt x="2794" y="613"/>
                  </a:moveTo>
                  <a:cubicBezTo>
                    <a:pt x="2775" y="607"/>
                    <a:pt x="2754" y="602"/>
                    <a:pt x="2733" y="596"/>
                  </a:cubicBezTo>
                  <a:cubicBezTo>
                    <a:pt x="2727" y="1150"/>
                    <a:pt x="2727" y="1150"/>
                    <a:pt x="2727" y="1150"/>
                  </a:cubicBezTo>
                  <a:cubicBezTo>
                    <a:pt x="2788" y="1130"/>
                    <a:pt x="2788" y="1130"/>
                    <a:pt x="2788" y="1130"/>
                  </a:cubicBezTo>
                  <a:cubicBezTo>
                    <a:pt x="2794" y="613"/>
                    <a:pt x="2794" y="613"/>
                    <a:pt x="2794" y="613"/>
                  </a:cubicBezTo>
                  <a:close/>
                  <a:moveTo>
                    <a:pt x="554" y="1913"/>
                  </a:moveTo>
                  <a:cubicBezTo>
                    <a:pt x="552" y="1909"/>
                    <a:pt x="552" y="1909"/>
                    <a:pt x="552" y="1909"/>
                  </a:cubicBezTo>
                  <a:cubicBezTo>
                    <a:pt x="556" y="1909"/>
                    <a:pt x="558" y="1909"/>
                    <a:pt x="560" y="1909"/>
                  </a:cubicBezTo>
                  <a:cubicBezTo>
                    <a:pt x="560" y="1909"/>
                    <a:pt x="556" y="1911"/>
                    <a:pt x="554" y="1913"/>
                  </a:cubicBezTo>
                  <a:close/>
                  <a:moveTo>
                    <a:pt x="1406" y="1577"/>
                  </a:moveTo>
                  <a:cubicBezTo>
                    <a:pt x="1418" y="873"/>
                    <a:pt x="1418" y="873"/>
                    <a:pt x="1418" y="873"/>
                  </a:cubicBezTo>
                  <a:cubicBezTo>
                    <a:pt x="1431" y="843"/>
                    <a:pt x="1446" y="812"/>
                    <a:pt x="1460" y="781"/>
                  </a:cubicBezTo>
                  <a:cubicBezTo>
                    <a:pt x="1454" y="1035"/>
                    <a:pt x="1452" y="1286"/>
                    <a:pt x="1448" y="1538"/>
                  </a:cubicBezTo>
                  <a:cubicBezTo>
                    <a:pt x="1444" y="1538"/>
                    <a:pt x="1416" y="1548"/>
                    <a:pt x="1410" y="1550"/>
                  </a:cubicBezTo>
                  <a:cubicBezTo>
                    <a:pt x="1410" y="1577"/>
                    <a:pt x="1410" y="1577"/>
                    <a:pt x="1410" y="1577"/>
                  </a:cubicBezTo>
                  <a:cubicBezTo>
                    <a:pt x="1410" y="1577"/>
                    <a:pt x="1410" y="1577"/>
                    <a:pt x="1410" y="1577"/>
                  </a:cubicBezTo>
                  <a:cubicBezTo>
                    <a:pt x="1410" y="1577"/>
                    <a:pt x="1408" y="1577"/>
                    <a:pt x="1406" y="1577"/>
                  </a:cubicBezTo>
                  <a:close/>
                  <a:moveTo>
                    <a:pt x="1571" y="522"/>
                  </a:moveTo>
                  <a:cubicBezTo>
                    <a:pt x="1569" y="693"/>
                    <a:pt x="1569" y="693"/>
                    <a:pt x="1569" y="693"/>
                  </a:cubicBezTo>
                  <a:cubicBezTo>
                    <a:pt x="1565" y="693"/>
                    <a:pt x="1565" y="691"/>
                    <a:pt x="1563" y="691"/>
                  </a:cubicBezTo>
                  <a:cubicBezTo>
                    <a:pt x="1550" y="689"/>
                    <a:pt x="1534" y="678"/>
                    <a:pt x="1529" y="666"/>
                  </a:cubicBezTo>
                  <a:cubicBezTo>
                    <a:pt x="1525" y="658"/>
                    <a:pt x="1525" y="656"/>
                    <a:pt x="1525" y="650"/>
                  </a:cubicBezTo>
                  <a:cubicBezTo>
                    <a:pt x="1525" y="633"/>
                    <a:pt x="1525" y="633"/>
                    <a:pt x="1525" y="633"/>
                  </a:cubicBezTo>
                  <a:cubicBezTo>
                    <a:pt x="1525" y="631"/>
                    <a:pt x="1551" y="566"/>
                    <a:pt x="1571" y="522"/>
                  </a:cubicBezTo>
                  <a:close/>
                  <a:moveTo>
                    <a:pt x="1565" y="824"/>
                  </a:moveTo>
                  <a:cubicBezTo>
                    <a:pt x="1561" y="1091"/>
                    <a:pt x="1561" y="1091"/>
                    <a:pt x="1561" y="1091"/>
                  </a:cubicBezTo>
                  <a:cubicBezTo>
                    <a:pt x="1542" y="1081"/>
                    <a:pt x="1534" y="1058"/>
                    <a:pt x="1534" y="1037"/>
                  </a:cubicBezTo>
                  <a:cubicBezTo>
                    <a:pt x="1534" y="931"/>
                    <a:pt x="1534" y="931"/>
                    <a:pt x="1534" y="931"/>
                  </a:cubicBezTo>
                  <a:cubicBezTo>
                    <a:pt x="1534" y="898"/>
                    <a:pt x="1527" y="832"/>
                    <a:pt x="1565" y="824"/>
                  </a:cubicBezTo>
                  <a:close/>
                  <a:moveTo>
                    <a:pt x="1559" y="1232"/>
                  </a:moveTo>
                  <a:cubicBezTo>
                    <a:pt x="1553" y="1536"/>
                    <a:pt x="1553" y="1536"/>
                    <a:pt x="1553" y="1536"/>
                  </a:cubicBezTo>
                  <a:cubicBezTo>
                    <a:pt x="1536" y="1542"/>
                    <a:pt x="1536" y="1542"/>
                    <a:pt x="1536" y="1542"/>
                  </a:cubicBezTo>
                  <a:cubicBezTo>
                    <a:pt x="1536" y="1478"/>
                    <a:pt x="1538" y="1413"/>
                    <a:pt x="1534" y="1349"/>
                  </a:cubicBezTo>
                  <a:cubicBezTo>
                    <a:pt x="1532" y="1324"/>
                    <a:pt x="1529" y="1246"/>
                    <a:pt x="1559" y="1232"/>
                  </a:cubicBezTo>
                  <a:close/>
                  <a:moveTo>
                    <a:pt x="1741" y="92"/>
                  </a:moveTo>
                  <a:cubicBezTo>
                    <a:pt x="1741" y="84"/>
                    <a:pt x="1741" y="84"/>
                    <a:pt x="1741" y="84"/>
                  </a:cubicBezTo>
                  <a:cubicBezTo>
                    <a:pt x="1739" y="92"/>
                    <a:pt x="1739" y="92"/>
                    <a:pt x="1739" y="92"/>
                  </a:cubicBezTo>
                  <a:cubicBezTo>
                    <a:pt x="1741" y="92"/>
                    <a:pt x="1741" y="92"/>
                    <a:pt x="1741" y="92"/>
                  </a:cubicBezTo>
                  <a:close/>
                  <a:moveTo>
                    <a:pt x="1678" y="1842"/>
                  </a:moveTo>
                  <a:cubicBezTo>
                    <a:pt x="1678" y="1842"/>
                    <a:pt x="1678" y="1842"/>
                    <a:pt x="1678" y="1842"/>
                  </a:cubicBezTo>
                  <a:cubicBezTo>
                    <a:pt x="1678" y="1837"/>
                    <a:pt x="1645" y="1784"/>
                    <a:pt x="1628" y="1774"/>
                  </a:cubicBezTo>
                  <a:cubicBezTo>
                    <a:pt x="1597" y="1757"/>
                    <a:pt x="1576" y="1827"/>
                    <a:pt x="1569" y="1842"/>
                  </a:cubicBezTo>
                  <a:cubicBezTo>
                    <a:pt x="1678" y="1842"/>
                    <a:pt x="1678" y="1842"/>
                    <a:pt x="1678" y="1842"/>
                  </a:cubicBezTo>
                  <a:close/>
                  <a:moveTo>
                    <a:pt x="1569" y="1878"/>
                  </a:moveTo>
                  <a:cubicBezTo>
                    <a:pt x="1569" y="1878"/>
                    <a:pt x="1569" y="1878"/>
                    <a:pt x="1569" y="1878"/>
                  </a:cubicBezTo>
                  <a:cubicBezTo>
                    <a:pt x="1578" y="1897"/>
                    <a:pt x="1607" y="1954"/>
                    <a:pt x="1634" y="1940"/>
                  </a:cubicBezTo>
                  <a:cubicBezTo>
                    <a:pt x="1649" y="1932"/>
                    <a:pt x="1682" y="1884"/>
                    <a:pt x="1682" y="1878"/>
                  </a:cubicBezTo>
                  <a:cubicBezTo>
                    <a:pt x="1682" y="1878"/>
                    <a:pt x="1682" y="1878"/>
                    <a:pt x="1682" y="1878"/>
                  </a:cubicBezTo>
                  <a:cubicBezTo>
                    <a:pt x="1569" y="1878"/>
                    <a:pt x="1569" y="1878"/>
                    <a:pt x="1569" y="1878"/>
                  </a:cubicBezTo>
                  <a:close/>
                  <a:moveTo>
                    <a:pt x="1712" y="1792"/>
                  </a:moveTo>
                  <a:cubicBezTo>
                    <a:pt x="1712" y="1683"/>
                    <a:pt x="1712" y="1683"/>
                    <a:pt x="1712" y="1683"/>
                  </a:cubicBezTo>
                  <a:cubicBezTo>
                    <a:pt x="1712" y="1683"/>
                    <a:pt x="1712" y="1683"/>
                    <a:pt x="1712" y="1683"/>
                  </a:cubicBezTo>
                  <a:cubicBezTo>
                    <a:pt x="1706" y="1683"/>
                    <a:pt x="1649" y="1716"/>
                    <a:pt x="1659" y="1741"/>
                  </a:cubicBezTo>
                  <a:cubicBezTo>
                    <a:pt x="1664" y="1759"/>
                    <a:pt x="1699" y="1782"/>
                    <a:pt x="1712" y="1792"/>
                  </a:cubicBezTo>
                  <a:close/>
                  <a:moveTo>
                    <a:pt x="1716" y="2049"/>
                  </a:moveTo>
                  <a:cubicBezTo>
                    <a:pt x="1716" y="1934"/>
                    <a:pt x="1716" y="1934"/>
                    <a:pt x="1716" y="1934"/>
                  </a:cubicBezTo>
                  <a:cubicBezTo>
                    <a:pt x="1716" y="1934"/>
                    <a:pt x="1716" y="1934"/>
                    <a:pt x="1716" y="1934"/>
                  </a:cubicBezTo>
                  <a:cubicBezTo>
                    <a:pt x="1712" y="1938"/>
                    <a:pt x="1674" y="1956"/>
                    <a:pt x="1661" y="1979"/>
                  </a:cubicBezTo>
                  <a:cubicBezTo>
                    <a:pt x="1649" y="1997"/>
                    <a:pt x="1703" y="2040"/>
                    <a:pt x="1716" y="2049"/>
                  </a:cubicBezTo>
                  <a:close/>
                  <a:moveTo>
                    <a:pt x="1678" y="2098"/>
                  </a:moveTo>
                  <a:cubicBezTo>
                    <a:pt x="1678" y="2088"/>
                    <a:pt x="1638" y="2026"/>
                    <a:pt x="1624" y="2030"/>
                  </a:cubicBezTo>
                  <a:cubicBezTo>
                    <a:pt x="1601" y="2034"/>
                    <a:pt x="1567" y="2090"/>
                    <a:pt x="1559" y="2098"/>
                  </a:cubicBezTo>
                  <a:cubicBezTo>
                    <a:pt x="1678" y="2098"/>
                    <a:pt x="1678" y="2098"/>
                    <a:pt x="1678" y="2098"/>
                  </a:cubicBezTo>
                  <a:close/>
                  <a:moveTo>
                    <a:pt x="1532" y="2053"/>
                  </a:moveTo>
                  <a:cubicBezTo>
                    <a:pt x="1532" y="2053"/>
                    <a:pt x="1532" y="2053"/>
                    <a:pt x="1532" y="2053"/>
                  </a:cubicBezTo>
                  <a:cubicBezTo>
                    <a:pt x="1548" y="2040"/>
                    <a:pt x="1576" y="2016"/>
                    <a:pt x="1588" y="1999"/>
                  </a:cubicBezTo>
                  <a:cubicBezTo>
                    <a:pt x="1595" y="1989"/>
                    <a:pt x="1601" y="1987"/>
                    <a:pt x="1594" y="1973"/>
                  </a:cubicBezTo>
                  <a:cubicBezTo>
                    <a:pt x="1582" y="1956"/>
                    <a:pt x="1550" y="1930"/>
                    <a:pt x="1532" y="1917"/>
                  </a:cubicBezTo>
                  <a:cubicBezTo>
                    <a:pt x="1532" y="2053"/>
                    <a:pt x="1532" y="2053"/>
                    <a:pt x="1532" y="2053"/>
                  </a:cubicBezTo>
                  <a:close/>
                  <a:moveTo>
                    <a:pt x="1534" y="1809"/>
                  </a:moveTo>
                  <a:cubicBezTo>
                    <a:pt x="1557" y="1776"/>
                    <a:pt x="1582" y="1745"/>
                    <a:pt x="1605" y="1712"/>
                  </a:cubicBezTo>
                  <a:cubicBezTo>
                    <a:pt x="1605" y="1712"/>
                    <a:pt x="1605" y="1712"/>
                    <a:pt x="1605" y="1712"/>
                  </a:cubicBezTo>
                  <a:cubicBezTo>
                    <a:pt x="1607" y="1712"/>
                    <a:pt x="1607" y="1712"/>
                    <a:pt x="1607" y="1712"/>
                  </a:cubicBezTo>
                  <a:cubicBezTo>
                    <a:pt x="1592" y="1712"/>
                    <a:pt x="1551" y="1720"/>
                    <a:pt x="1530" y="1731"/>
                  </a:cubicBezTo>
                  <a:cubicBezTo>
                    <a:pt x="1532" y="1761"/>
                    <a:pt x="1530" y="1790"/>
                    <a:pt x="1534" y="1809"/>
                  </a:cubicBezTo>
                  <a:close/>
                  <a:moveTo>
                    <a:pt x="1525" y="609"/>
                  </a:moveTo>
                  <a:cubicBezTo>
                    <a:pt x="1542" y="568"/>
                    <a:pt x="1559" y="525"/>
                    <a:pt x="1576" y="483"/>
                  </a:cubicBezTo>
                  <a:cubicBezTo>
                    <a:pt x="1511" y="483"/>
                    <a:pt x="1525" y="529"/>
                    <a:pt x="1525" y="609"/>
                  </a:cubicBezTo>
                  <a:cubicBezTo>
                    <a:pt x="1525" y="609"/>
                    <a:pt x="1525" y="609"/>
                    <a:pt x="1525" y="609"/>
                  </a:cubicBezTo>
                  <a:close/>
                </a:path>
              </a:pathLst>
            </a:custGeom>
            <a:solidFill>
              <a:srgbClr val="c0c0c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2" name="Freeform 7"/>
            <p:cNvSpPr/>
            <p:nvPr/>
          </p:nvSpPr>
          <p:spPr>
            <a:xfrm>
              <a:off x="565200" y="4978080"/>
              <a:ext cx="2980800" cy="1007640"/>
            </a:xfrm>
            <a:custGeom>
              <a:avLst/>
              <a:gdLst>
                <a:gd name="textAreaLeft" fmla="*/ 0 w 2980800"/>
                <a:gd name="textAreaRight" fmla="*/ 2981160 w 298080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1590" h="538">
                  <a:moveTo>
                    <a:pt x="1520" y="474"/>
                  </a:moveTo>
                  <a:cubicBezTo>
                    <a:pt x="1520" y="458"/>
                    <a:pt x="1520" y="458"/>
                    <a:pt x="1520" y="458"/>
                  </a:cubicBezTo>
                  <a:cubicBezTo>
                    <a:pt x="1577" y="458"/>
                    <a:pt x="1577" y="458"/>
                    <a:pt x="1577" y="458"/>
                  </a:cubicBezTo>
                  <a:cubicBezTo>
                    <a:pt x="1577" y="429"/>
                    <a:pt x="1577" y="429"/>
                    <a:pt x="1577" y="429"/>
                  </a:cubicBezTo>
                  <a:cubicBezTo>
                    <a:pt x="1584" y="422"/>
                    <a:pt x="1588" y="418"/>
                    <a:pt x="1590" y="416"/>
                  </a:cubicBezTo>
                  <a:cubicBezTo>
                    <a:pt x="1561" y="398"/>
                    <a:pt x="1262" y="243"/>
                    <a:pt x="1210" y="220"/>
                  </a:cubicBezTo>
                  <a:cubicBezTo>
                    <a:pt x="1093" y="169"/>
                    <a:pt x="874" y="87"/>
                    <a:pt x="839" y="122"/>
                  </a:cubicBezTo>
                  <a:cubicBezTo>
                    <a:pt x="804" y="157"/>
                    <a:pt x="703" y="56"/>
                    <a:pt x="586" y="28"/>
                  </a:cubicBezTo>
                  <a:cubicBezTo>
                    <a:pt x="469" y="0"/>
                    <a:pt x="403" y="126"/>
                    <a:pt x="323" y="206"/>
                  </a:cubicBezTo>
                  <a:cubicBezTo>
                    <a:pt x="323" y="206"/>
                    <a:pt x="0" y="459"/>
                    <a:pt x="42" y="502"/>
                  </a:cubicBezTo>
                  <a:cubicBezTo>
                    <a:pt x="78" y="538"/>
                    <a:pt x="1254" y="511"/>
                    <a:pt x="1570" y="474"/>
                  </a:cubicBezTo>
                  <a:cubicBezTo>
                    <a:pt x="1520" y="474"/>
                    <a:pt x="1520" y="474"/>
                    <a:pt x="1520" y="474"/>
                  </a:cubicBezTo>
                  <a:close/>
                </a:path>
              </a:pathLst>
            </a:custGeom>
            <a:solidFill>
              <a:srgbClr val="c0c0c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73" name="_text"/>
          <p:cNvSpPr/>
          <p:nvPr/>
        </p:nvSpPr>
        <p:spPr>
          <a:xfrm>
            <a:off x="324000" y="1554120"/>
            <a:ext cx="4174920" cy="424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his is a placeholder text. This text can be replaced with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he text demonstrates how your own text will look when you replace the placeholder with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f you don’t want to use the style and size of the fonts as used in this placeholder it’s possible to replace it by selecting different o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uppieren 6"/>
          <p:cNvGrpSpPr/>
          <p:nvPr/>
        </p:nvGrpSpPr>
        <p:grpSpPr>
          <a:xfrm>
            <a:off x="-360" y="-9360"/>
            <a:ext cx="9144000" cy="6867000"/>
            <a:chOff x="-360" y="-9360"/>
            <a:chExt cx="9144000" cy="6867000"/>
          </a:xfrm>
        </p:grpSpPr>
        <p:pic>
          <p:nvPicPr>
            <p:cNvPr id="375" name="Picture 13" descr="\\NAS\CH_Produktion\05_Vorlagen_und_Designs\zur_Veröffentlichung\Nach Thema\Natur - Landschaft\T0227.jpg"/>
            <p:cNvPicPr/>
            <p:nvPr/>
          </p:nvPicPr>
          <p:blipFill>
            <a:blip r:embed="rId1"/>
            <a:stretch/>
          </p:blipFill>
          <p:spPr>
            <a:xfrm>
              <a:off x="0" y="-9360"/>
              <a:ext cx="9143640" cy="457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76" name="Rechteck 8"/>
            <p:cNvSpPr/>
            <p:nvPr/>
          </p:nvSpPr>
          <p:spPr>
            <a:xfrm flipH="1">
              <a:off x="-720" y="4563000"/>
              <a:ext cx="9143640" cy="2294640"/>
            </a:xfrm>
            <a:prstGeom prst="rect">
              <a:avLst/>
            </a:prstGeom>
            <a:gradFill rotWithShape="0">
              <a:gsLst>
                <a:gs pos="3600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7" name="Rechteck 9"/>
            <p:cNvSpPr/>
            <p:nvPr/>
          </p:nvSpPr>
          <p:spPr>
            <a:xfrm flipH="1" flipV="1" rot="10800000">
              <a:off x="-360" y="4383000"/>
              <a:ext cx="9143640" cy="178920"/>
            </a:xfrm>
            <a:prstGeom prst="rect">
              <a:avLst/>
            </a:prstGeom>
            <a:solidFill>
              <a:schemeClr val="accent1">
                <a:lumMod val="75000"/>
                <a:alpha val="70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Rechteck 5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de-DE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de-DE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de-DE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de-DE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de-DE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de-DE" sz="1050" spc="-1" strike="noStrike" u="sng">
                <a:solidFill>
                  <a:srgbClr val="c00000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c00000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c00000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c00000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c00000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c00000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X:\07 Produktion\06_Bilder_und_Hintergründe\Separation Slides\Photoshop\B0560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75" name="Rechteck 7"/>
          <p:cNvSpPr/>
          <p:nvPr/>
        </p:nvSpPr>
        <p:spPr>
          <a:xfrm>
            <a:off x="2376360" y="2357280"/>
            <a:ext cx="2158560" cy="2142720"/>
          </a:xfrm>
          <a:prstGeom prst="rect">
            <a:avLst/>
          </a:prstGeom>
          <a:solidFill>
            <a:srgbClr val="ffffff">
              <a:alpha val="2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Rechteck 8"/>
          <p:cNvSpPr/>
          <p:nvPr/>
        </p:nvSpPr>
        <p:spPr>
          <a:xfrm>
            <a:off x="4608360" y="144360"/>
            <a:ext cx="2158560" cy="2141280"/>
          </a:xfrm>
          <a:prstGeom prst="rect">
            <a:avLst/>
          </a:prstGeom>
          <a:solidFill>
            <a:srgbClr val="ffffff">
              <a:alpha val="2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77" name="Gruppieren 11"/>
          <p:cNvGrpSpPr/>
          <p:nvPr/>
        </p:nvGrpSpPr>
        <p:grpSpPr>
          <a:xfrm>
            <a:off x="0" y="-360"/>
            <a:ext cx="9143640" cy="6858000"/>
            <a:chOff x="0" y="-360"/>
            <a:chExt cx="9143640" cy="6858000"/>
          </a:xfrm>
        </p:grpSpPr>
        <p:sp>
          <p:nvSpPr>
            <p:cNvPr id="178" name="Rechteck 12"/>
            <p:cNvSpPr/>
            <p:nvPr/>
          </p:nvSpPr>
          <p:spPr>
            <a:xfrm flipV="1">
              <a:off x="0" y="-720"/>
              <a:ext cx="143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hteck 13"/>
            <p:cNvSpPr/>
            <p:nvPr/>
          </p:nvSpPr>
          <p:spPr>
            <a:xfrm flipV="1">
              <a:off x="9000000" y="-720"/>
              <a:ext cx="143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hteck 14"/>
            <p:cNvSpPr/>
            <p:nvPr/>
          </p:nvSpPr>
          <p:spPr>
            <a:xfrm flipV="1">
              <a:off x="6768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15"/>
            <p:cNvSpPr/>
            <p:nvPr/>
          </p:nvSpPr>
          <p:spPr>
            <a:xfrm flipV="1">
              <a:off x="4536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hteck 16"/>
            <p:cNvSpPr/>
            <p:nvPr/>
          </p:nvSpPr>
          <p:spPr>
            <a:xfrm flipV="1">
              <a:off x="2304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hteck 17"/>
            <p:cNvSpPr/>
            <p:nvPr/>
          </p:nvSpPr>
          <p:spPr>
            <a:xfrm flipV="1" rot="5400000">
              <a:off x="4518000" y="2231640"/>
              <a:ext cx="143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hteck 18"/>
            <p:cNvSpPr/>
            <p:nvPr/>
          </p:nvSpPr>
          <p:spPr>
            <a:xfrm flipV="1" rot="5400000">
              <a:off x="4518000" y="-4482360"/>
              <a:ext cx="143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hteck 19"/>
            <p:cNvSpPr/>
            <p:nvPr/>
          </p:nvSpPr>
          <p:spPr>
            <a:xfrm flipV="1" rot="5400000">
              <a:off x="4554000" y="-2232360"/>
              <a:ext cx="71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hteck 20"/>
            <p:cNvSpPr/>
            <p:nvPr/>
          </p:nvSpPr>
          <p:spPr>
            <a:xfrm flipV="1" rot="5400000">
              <a:off x="4554000" y="-18360"/>
              <a:ext cx="71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Rechteck 21"/>
          <p:cNvSpPr/>
          <p:nvPr/>
        </p:nvSpPr>
        <p:spPr>
          <a:xfrm>
            <a:off x="0" y="4572000"/>
            <a:ext cx="6767280" cy="2141280"/>
          </a:xfrm>
          <a:prstGeom prst="rect">
            <a:avLst/>
          </a:prstGeom>
          <a:solidFill>
            <a:srgbClr val="000000">
              <a:alpha val="61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8" name="Rechteck 22"/>
          <p:cNvSpPr/>
          <p:nvPr/>
        </p:nvSpPr>
        <p:spPr>
          <a:xfrm>
            <a:off x="144360" y="144360"/>
            <a:ext cx="2158560" cy="2141280"/>
          </a:xfrm>
          <a:prstGeom prst="rect">
            <a:avLst/>
          </a:prstGeom>
          <a:solidFill>
            <a:srgbClr val="ffffff">
              <a:alpha val="1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Rechteck 23"/>
          <p:cNvSpPr/>
          <p:nvPr/>
        </p:nvSpPr>
        <p:spPr>
          <a:xfrm flipH="1">
            <a:off x="6839280" y="4572000"/>
            <a:ext cx="2159640" cy="2141640"/>
          </a:xfrm>
          <a:prstGeom prst="rect">
            <a:avLst/>
          </a:prstGeom>
          <a:solidFill>
            <a:srgbClr val="ffffff"/>
          </a:solidFill>
          <a:ln w="12700">
            <a:noFill/>
          </a:ln>
          <a:effectLst>
            <a:innerShdw blurRad="419100">
              <a:srgbClr val="000000">
                <a:alpha val="41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el 1"/>
          <p:cNvSpPr/>
          <p:nvPr/>
        </p:nvSpPr>
        <p:spPr>
          <a:xfrm>
            <a:off x="647640" y="4562640"/>
            <a:ext cx="611928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Untertitel 2"/>
          <p:cNvSpPr/>
          <p:nvPr/>
        </p:nvSpPr>
        <p:spPr>
          <a:xfrm>
            <a:off x="647640" y="5643720"/>
            <a:ext cx="6119280" cy="1079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37960"/>
            <a:ext cx="8496000" cy="61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3D Stars ─ 5 Items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855720"/>
            <a:ext cx="8496000" cy="33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17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your subheadline her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uppieren 33"/>
          <p:cNvGrpSpPr/>
          <p:nvPr/>
        </p:nvGrpSpPr>
        <p:grpSpPr>
          <a:xfrm>
            <a:off x="861840" y="4618080"/>
            <a:ext cx="7451640" cy="1136160"/>
            <a:chOff x="861840" y="4618080"/>
            <a:chExt cx="7451640" cy="1136160"/>
          </a:xfrm>
        </p:grpSpPr>
        <p:pic>
          <p:nvPicPr>
            <p:cNvPr id="195" name="_effect" descr=""/>
            <p:cNvPicPr/>
            <p:nvPr/>
          </p:nvPicPr>
          <p:blipFill>
            <a:blip r:embed="rId1"/>
            <a:stretch/>
          </p:blipFill>
          <p:spPr>
            <a:xfrm>
              <a:off x="2984760" y="5242680"/>
              <a:ext cx="3393000" cy="511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96" name="_effect" descr=""/>
            <p:cNvPicPr/>
            <p:nvPr/>
          </p:nvPicPr>
          <p:blipFill>
            <a:blip r:embed="rId2"/>
            <a:stretch/>
          </p:blipFill>
          <p:spPr>
            <a:xfrm>
              <a:off x="5297040" y="5014800"/>
              <a:ext cx="3016440" cy="4550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97" name="_effect" descr=""/>
            <p:cNvPicPr/>
            <p:nvPr/>
          </p:nvPicPr>
          <p:blipFill>
            <a:blip r:embed="rId3"/>
            <a:stretch/>
          </p:blipFill>
          <p:spPr>
            <a:xfrm>
              <a:off x="861840" y="5014800"/>
              <a:ext cx="3016440" cy="4550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98" name="_effect" descr=""/>
            <p:cNvPicPr/>
            <p:nvPr/>
          </p:nvPicPr>
          <p:blipFill>
            <a:blip r:embed="rId4"/>
            <a:stretch/>
          </p:blipFill>
          <p:spPr>
            <a:xfrm>
              <a:off x="4414680" y="4618080"/>
              <a:ext cx="2671920" cy="4028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99" name="_effect" descr=""/>
            <p:cNvPicPr/>
            <p:nvPr/>
          </p:nvPicPr>
          <p:blipFill>
            <a:blip r:embed="rId5"/>
            <a:stretch/>
          </p:blipFill>
          <p:spPr>
            <a:xfrm>
              <a:off x="2436480" y="4618080"/>
              <a:ext cx="2671920" cy="40284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00" name="Gruppieren 26"/>
          <p:cNvGrpSpPr/>
          <p:nvPr/>
        </p:nvGrpSpPr>
        <p:grpSpPr>
          <a:xfrm>
            <a:off x="975960" y="2313000"/>
            <a:ext cx="7165440" cy="2518920"/>
            <a:chOff x="975960" y="2313000"/>
            <a:chExt cx="7165440" cy="2518920"/>
          </a:xfrm>
        </p:grpSpPr>
        <p:sp>
          <p:nvSpPr>
            <p:cNvPr id="201" name="Stern mit 5 Zacken 10"/>
            <p:cNvSpPr/>
            <p:nvPr/>
          </p:nvSpPr>
          <p:spPr>
            <a:xfrm>
              <a:off x="5029560" y="2374200"/>
              <a:ext cx="1765440" cy="1765440"/>
            </a:xfrm>
            <a:prstGeom prst="star5">
              <a:avLst>
                <a:gd name="adj" fmla="val 24671"/>
                <a:gd name="hf" fmla="val 105146"/>
                <a:gd name="vf" fmla="val 11055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2700000"/>
            </a:gradFill>
            <a:ln cap="rnd" w="19050">
              <a:solidFill>
                <a:srgbClr val="ffffff"/>
              </a:solidFill>
              <a:round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  <a:scene3d>
              <a:camera fov="4200000" prst="perspectiveFront">
                <a:rot lat="265807" lon="12104485" rev="21512581"/>
              </a:camera>
              <a:lightRig dir="t" rig="balanced">
                <a:rot lat="0" lon="0" rev="6600000"/>
              </a:lightRig>
            </a:scene3d>
            <a:sp3d extrusionH="381000">
              <a:contourClr>
                <a:schemeClr val="tx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Stern mit 5 Zacken 12"/>
            <p:cNvSpPr/>
            <p:nvPr/>
          </p:nvSpPr>
          <p:spPr>
            <a:xfrm rot="-600">
              <a:off x="5973480" y="2437920"/>
              <a:ext cx="2154240" cy="2153880"/>
            </a:xfrm>
            <a:prstGeom prst="star5">
              <a:avLst>
                <a:gd name="adj" fmla="val 24671"/>
                <a:gd name="hf" fmla="val 105146"/>
                <a:gd name="vf" fmla="val 11055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2700000"/>
            </a:gradFill>
            <a:ln cap="rnd" w="19050">
              <a:solidFill>
                <a:srgbClr val="ffffff"/>
              </a:solidFill>
              <a:round/>
            </a:ln>
            <a:scene3d>
              <a:camera fov="4200000" prst="perspectiveFront">
                <a:rot lat="256264" lon="17819240" rev="43007"/>
              </a:camera>
              <a:lightRig dir="t" rig="balanced">
                <a:rot lat="0" lon="0" rev="4200000"/>
              </a:lightRig>
            </a:scene3d>
            <a:sp3d extrusionH="381000">
              <a:contourClr>
                <a:schemeClr val="tx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Stern mit 5 Zacken 13"/>
            <p:cNvSpPr/>
            <p:nvPr/>
          </p:nvSpPr>
          <p:spPr>
            <a:xfrm rot="-600">
              <a:off x="2664000" y="2394360"/>
              <a:ext cx="1765440" cy="1765440"/>
            </a:xfrm>
            <a:prstGeom prst="star5">
              <a:avLst>
                <a:gd name="adj" fmla="val 24671"/>
                <a:gd name="hf" fmla="val 105146"/>
                <a:gd name="vf" fmla="val 11055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2700000"/>
            </a:gradFill>
            <a:ln cap="rnd" w="19050">
              <a:solidFill>
                <a:srgbClr val="ffffff"/>
              </a:solidFill>
              <a:round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  <a:scene3d>
              <a:camera fov="4200000" prst="perspectiveFront">
                <a:rot lat="147441" lon="9702764" rev="62134"/>
              </a:camera>
              <a:lightRig dir="t" rig="balanced">
                <a:rot lat="0" lon="0" rev="6600000"/>
              </a:lightRig>
            </a:scene3d>
            <a:sp3d extrusionH="381000">
              <a:contourClr>
                <a:schemeClr val="tx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Stern mit 5 Zacken 15"/>
            <p:cNvSpPr/>
            <p:nvPr/>
          </p:nvSpPr>
          <p:spPr>
            <a:xfrm>
              <a:off x="1015920" y="2356560"/>
              <a:ext cx="2341800" cy="2341440"/>
            </a:xfrm>
            <a:prstGeom prst="star5">
              <a:avLst>
                <a:gd name="adj" fmla="val 24671"/>
                <a:gd name="hf" fmla="val 105146"/>
                <a:gd name="vf" fmla="val 11055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2700000"/>
            </a:gradFill>
            <a:ln cap="rnd" w="19050">
              <a:solidFill>
                <a:srgbClr val="ffffff"/>
              </a:solidFill>
              <a:round/>
            </a:ln>
            <a:scene3d>
              <a:camera fov="4200000" prst="perspectiveFront">
                <a:rot lat="145784" lon="3432147" rev="21480000"/>
              </a:camera>
              <a:lightRig dir="t" rig="balanced">
                <a:rot lat="0" lon="0" rev="11400000"/>
              </a:lightRig>
            </a:scene3d>
            <a:sp3d extrusionH="381000">
              <a:contourClr>
                <a:schemeClr val="tx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Stern mit 5 Zacken 16"/>
            <p:cNvSpPr/>
            <p:nvPr/>
          </p:nvSpPr>
          <p:spPr>
            <a:xfrm>
              <a:off x="3486600" y="2313000"/>
              <a:ext cx="2519280" cy="2518920"/>
            </a:xfrm>
            <a:prstGeom prst="star5">
              <a:avLst>
                <a:gd name="adj" fmla="val 24671"/>
                <a:gd name="hf" fmla="val 105146"/>
                <a:gd name="vf" fmla="val 11055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2700000"/>
            </a:gradFill>
            <a:ln cap="rnd" w="19050">
              <a:solidFill>
                <a:srgbClr val="ffffff"/>
              </a:solidFill>
              <a:round/>
            </a:ln>
            <a:scene3d>
              <a:camera fov="4200000" prst="perspectiveFront">
                <a:rot lat="57223" lon="21132122" rev="0"/>
              </a:camera>
              <a:lightRig dir="t" rig="balanced">
                <a:rot lat="0" lon="0" rev="8400000"/>
              </a:lightRig>
            </a:scene3d>
            <a:sp3d extrusionH="381000">
              <a:contourClr>
                <a:schemeClr val="tx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5"/>
          <p:cNvSpPr/>
          <p:nvPr/>
        </p:nvSpPr>
        <p:spPr>
          <a:xfrm>
            <a:off x="311040" y="3493440"/>
            <a:ext cx="1368000" cy="261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spcAft>
                <a:spcPts val="7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873520" y="1787040"/>
            <a:ext cx="1368000" cy="261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spcAft>
                <a:spcPts val="7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5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035600" y="3376080"/>
            <a:ext cx="1368000" cy="261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spcAft>
                <a:spcPts val="7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108400" y="1787040"/>
            <a:ext cx="1368000" cy="261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spcAft>
                <a:spcPts val="7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4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7451640" y="3493440"/>
            <a:ext cx="1368000" cy="261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spcAft>
                <a:spcPts val="7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3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uppieren 6"/>
          <p:cNvGrpSpPr/>
          <p:nvPr/>
        </p:nvGrpSpPr>
        <p:grpSpPr>
          <a:xfrm>
            <a:off x="-360" y="-9360"/>
            <a:ext cx="9144000" cy="6867000"/>
            <a:chOff x="-360" y="-9360"/>
            <a:chExt cx="9144000" cy="6867000"/>
          </a:xfrm>
        </p:grpSpPr>
        <p:pic>
          <p:nvPicPr>
            <p:cNvPr id="212" name="Picture 9" descr="\\NAS\CH_Produktion\05_Vorlagen_und_Designs\zur_Veröffentlichung\Nach Thema\Konzepte - Objekte\T0195.jpg"/>
            <p:cNvPicPr/>
            <p:nvPr/>
          </p:nvPicPr>
          <p:blipFill>
            <a:blip r:embed="rId1"/>
            <a:stretch/>
          </p:blipFill>
          <p:spPr>
            <a:xfrm>
              <a:off x="0" y="-9360"/>
              <a:ext cx="9143640" cy="457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13" name="Rechteck 8"/>
            <p:cNvSpPr/>
            <p:nvPr/>
          </p:nvSpPr>
          <p:spPr>
            <a:xfrm flipH="1">
              <a:off x="-720" y="4563000"/>
              <a:ext cx="9143640" cy="2294640"/>
            </a:xfrm>
            <a:prstGeom prst="rect">
              <a:avLst/>
            </a:prstGeom>
            <a:gradFill rotWithShape="0">
              <a:gsLst>
                <a:gs pos="3600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4" name="Rechteck 9"/>
            <p:cNvSpPr/>
            <p:nvPr/>
          </p:nvSpPr>
          <p:spPr>
            <a:xfrm flipH="1" flipV="1" rot="10800000">
              <a:off x="-360" y="4383000"/>
              <a:ext cx="9143640" cy="178920"/>
            </a:xfrm>
            <a:prstGeom prst="rect">
              <a:avLst/>
            </a:prstGeom>
            <a:solidFill>
              <a:schemeClr val="accent1">
                <a:lumMod val="75000"/>
                <a:alpha val="70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Rechteck 5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X:\07 Produktion\06_Bilder_und_Hintergründe\Separation Slides\Photoshop\B057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9" name="Rechteck 7"/>
          <p:cNvSpPr/>
          <p:nvPr/>
        </p:nvSpPr>
        <p:spPr>
          <a:xfrm>
            <a:off x="2376360" y="2357280"/>
            <a:ext cx="2158560" cy="2142720"/>
          </a:xfrm>
          <a:prstGeom prst="rect">
            <a:avLst/>
          </a:prstGeom>
          <a:solidFill>
            <a:srgbClr val="ffffff">
              <a:alpha val="2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0" name="Rechteck 8"/>
          <p:cNvSpPr/>
          <p:nvPr/>
        </p:nvSpPr>
        <p:spPr>
          <a:xfrm>
            <a:off x="4608360" y="144360"/>
            <a:ext cx="2158560" cy="2141280"/>
          </a:xfrm>
          <a:prstGeom prst="rect">
            <a:avLst/>
          </a:prstGeom>
          <a:solidFill>
            <a:srgbClr val="ffffff">
              <a:alpha val="2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221" name="Gruppieren 11"/>
          <p:cNvGrpSpPr/>
          <p:nvPr/>
        </p:nvGrpSpPr>
        <p:grpSpPr>
          <a:xfrm>
            <a:off x="0" y="-360"/>
            <a:ext cx="9143640" cy="6858000"/>
            <a:chOff x="0" y="-360"/>
            <a:chExt cx="9143640" cy="6858000"/>
          </a:xfrm>
        </p:grpSpPr>
        <p:sp>
          <p:nvSpPr>
            <p:cNvPr id="222" name="Rechteck 12"/>
            <p:cNvSpPr/>
            <p:nvPr/>
          </p:nvSpPr>
          <p:spPr>
            <a:xfrm flipV="1">
              <a:off x="0" y="-720"/>
              <a:ext cx="143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hteck 13"/>
            <p:cNvSpPr/>
            <p:nvPr/>
          </p:nvSpPr>
          <p:spPr>
            <a:xfrm flipV="1">
              <a:off x="9000000" y="-720"/>
              <a:ext cx="143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hteck 14"/>
            <p:cNvSpPr/>
            <p:nvPr/>
          </p:nvSpPr>
          <p:spPr>
            <a:xfrm flipV="1">
              <a:off x="6768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hteck 15"/>
            <p:cNvSpPr/>
            <p:nvPr/>
          </p:nvSpPr>
          <p:spPr>
            <a:xfrm flipV="1">
              <a:off x="4536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hteck 16"/>
            <p:cNvSpPr/>
            <p:nvPr/>
          </p:nvSpPr>
          <p:spPr>
            <a:xfrm flipV="1">
              <a:off x="2304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hteck 17"/>
            <p:cNvSpPr/>
            <p:nvPr/>
          </p:nvSpPr>
          <p:spPr>
            <a:xfrm flipV="1" rot="5400000">
              <a:off x="4518000" y="2231640"/>
              <a:ext cx="143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hteck 18"/>
            <p:cNvSpPr/>
            <p:nvPr/>
          </p:nvSpPr>
          <p:spPr>
            <a:xfrm flipV="1" rot="5400000">
              <a:off x="4518000" y="-4482360"/>
              <a:ext cx="143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hteck 19"/>
            <p:cNvSpPr/>
            <p:nvPr/>
          </p:nvSpPr>
          <p:spPr>
            <a:xfrm flipV="1" rot="5400000">
              <a:off x="4554000" y="-2232360"/>
              <a:ext cx="71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hteck 20"/>
            <p:cNvSpPr/>
            <p:nvPr/>
          </p:nvSpPr>
          <p:spPr>
            <a:xfrm flipV="1" rot="5400000">
              <a:off x="4554000" y="-18360"/>
              <a:ext cx="71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Rechteck 21"/>
          <p:cNvSpPr/>
          <p:nvPr/>
        </p:nvSpPr>
        <p:spPr>
          <a:xfrm>
            <a:off x="0" y="4572000"/>
            <a:ext cx="6767280" cy="2141280"/>
          </a:xfrm>
          <a:prstGeom prst="rect">
            <a:avLst/>
          </a:prstGeom>
          <a:solidFill>
            <a:srgbClr val="000000">
              <a:alpha val="61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Rechteck 22"/>
          <p:cNvSpPr/>
          <p:nvPr/>
        </p:nvSpPr>
        <p:spPr>
          <a:xfrm>
            <a:off x="144360" y="144360"/>
            <a:ext cx="2158560" cy="2141280"/>
          </a:xfrm>
          <a:prstGeom prst="rect">
            <a:avLst/>
          </a:prstGeom>
          <a:solidFill>
            <a:srgbClr val="ffffff">
              <a:alpha val="1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3" name="Rechteck 23"/>
          <p:cNvSpPr/>
          <p:nvPr/>
        </p:nvSpPr>
        <p:spPr>
          <a:xfrm flipH="1">
            <a:off x="6839280" y="4572000"/>
            <a:ext cx="2159640" cy="2141640"/>
          </a:xfrm>
          <a:prstGeom prst="rect">
            <a:avLst/>
          </a:prstGeom>
          <a:solidFill>
            <a:srgbClr val="ffffff"/>
          </a:solidFill>
          <a:ln w="12700">
            <a:noFill/>
          </a:ln>
          <a:effectLst>
            <a:innerShdw blurRad="419100">
              <a:srgbClr val="000000">
                <a:alpha val="41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itel 1"/>
          <p:cNvSpPr/>
          <p:nvPr/>
        </p:nvSpPr>
        <p:spPr>
          <a:xfrm>
            <a:off x="647640" y="4562640"/>
            <a:ext cx="611928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Untertitel 2"/>
          <p:cNvSpPr/>
          <p:nvPr/>
        </p:nvSpPr>
        <p:spPr>
          <a:xfrm>
            <a:off x="647640" y="5643720"/>
            <a:ext cx="6119280" cy="1079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lukas.o\Desktop\Neuer Ordner\Abstract\20.jpg"/>
          <p:cNvPicPr/>
          <p:nvPr/>
        </p:nvPicPr>
        <p:blipFill>
          <a:blip r:embed="rId1"/>
          <a:stretch/>
        </p:blipFill>
        <p:spPr>
          <a:xfrm>
            <a:off x="0" y="-144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37" name="Rechteck 6"/>
          <p:cNvSpPr/>
          <p:nvPr/>
        </p:nvSpPr>
        <p:spPr>
          <a:xfrm>
            <a:off x="31896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el 1"/>
          <p:cNvSpPr/>
          <p:nvPr/>
        </p:nvSpPr>
        <p:spPr>
          <a:xfrm>
            <a:off x="647640" y="322200"/>
            <a:ext cx="81766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Untertitel 2"/>
          <p:cNvSpPr/>
          <p:nvPr/>
        </p:nvSpPr>
        <p:spPr>
          <a:xfrm>
            <a:off x="647640" y="2224080"/>
            <a:ext cx="8176680" cy="167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55640" y="65048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lukas.o\Desktop\Neuer Ordner\Abstract\2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42" name="Rechteck 9"/>
          <p:cNvSpPr/>
          <p:nvPr/>
        </p:nvSpPr>
        <p:spPr>
          <a:xfrm flipH="1">
            <a:off x="-720" y="965160"/>
            <a:ext cx="8824680" cy="2293560"/>
          </a:xfrm>
          <a:prstGeom prst="rect">
            <a:avLst/>
          </a:prstGeom>
          <a:solidFill>
            <a:schemeClr val="tx1">
              <a:alpha val="7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Rechteck 6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tel 1"/>
          <p:cNvSpPr/>
          <p:nvPr/>
        </p:nvSpPr>
        <p:spPr>
          <a:xfrm>
            <a:off x="647640" y="322200"/>
            <a:ext cx="81766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Untertitel 2"/>
          <p:cNvSpPr/>
          <p:nvPr/>
        </p:nvSpPr>
        <p:spPr>
          <a:xfrm>
            <a:off x="647640" y="2224080"/>
            <a:ext cx="8176680" cy="167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hteck 7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accent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247" name="Gruppieren 163"/>
          <p:cNvGrpSpPr/>
          <p:nvPr/>
        </p:nvGrpSpPr>
        <p:grpSpPr>
          <a:xfrm>
            <a:off x="1465200" y="-1440"/>
            <a:ext cx="7678440" cy="6856200"/>
            <a:chOff x="1465200" y="-1440"/>
            <a:chExt cx="7678440" cy="6856200"/>
          </a:xfrm>
        </p:grpSpPr>
        <p:sp>
          <p:nvSpPr>
            <p:cNvPr id="248" name="Freeform 6"/>
            <p:cNvSpPr/>
            <p:nvPr/>
          </p:nvSpPr>
          <p:spPr>
            <a:xfrm>
              <a:off x="1989000" y="2619360"/>
              <a:ext cx="209160" cy="207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37" h="137">
                  <a:moveTo>
                    <a:pt x="126" y="88"/>
                  </a:moveTo>
                  <a:cubicBezTo>
                    <a:pt x="115" y="120"/>
                    <a:pt x="81" y="137"/>
                    <a:pt x="49" y="126"/>
                  </a:cubicBezTo>
                  <a:cubicBezTo>
                    <a:pt x="17" y="115"/>
                    <a:pt x="0" y="80"/>
                    <a:pt x="11" y="49"/>
                  </a:cubicBezTo>
                  <a:cubicBezTo>
                    <a:pt x="22" y="17"/>
                    <a:pt x="56" y="0"/>
                    <a:pt x="88" y="10"/>
                  </a:cubicBezTo>
                  <a:cubicBezTo>
                    <a:pt x="120" y="21"/>
                    <a:pt x="137" y="56"/>
                    <a:pt x="126" y="8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2722680" y="2833560"/>
              <a:ext cx="293400" cy="2934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3" h="193">
                  <a:moveTo>
                    <a:pt x="178" y="124"/>
                  </a:moveTo>
                  <a:cubicBezTo>
                    <a:pt x="162" y="169"/>
                    <a:pt x="113" y="193"/>
                    <a:pt x="69" y="178"/>
                  </a:cubicBezTo>
                  <a:cubicBezTo>
                    <a:pt x="24" y="162"/>
                    <a:pt x="0" y="113"/>
                    <a:pt x="15" y="69"/>
                  </a:cubicBezTo>
                  <a:cubicBezTo>
                    <a:pt x="30" y="24"/>
                    <a:pt x="79" y="0"/>
                    <a:pt x="124" y="15"/>
                  </a:cubicBezTo>
                  <a:cubicBezTo>
                    <a:pt x="169" y="30"/>
                    <a:pt x="193" y="79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3454560" y="3048120"/>
              <a:ext cx="380520" cy="37908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50" h="249">
                  <a:moveTo>
                    <a:pt x="230" y="160"/>
                  </a:moveTo>
                  <a:cubicBezTo>
                    <a:pt x="210" y="218"/>
                    <a:pt x="147" y="249"/>
                    <a:pt x="89" y="229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40" y="31"/>
                    <a:pt x="103" y="0"/>
                    <a:pt x="161" y="19"/>
                  </a:cubicBezTo>
                  <a:cubicBezTo>
                    <a:pt x="219" y="39"/>
                    <a:pt x="250" y="102"/>
                    <a:pt x="230" y="16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4187880" y="3263760"/>
              <a:ext cx="463320" cy="4647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305" h="305">
                  <a:moveTo>
                    <a:pt x="281" y="196"/>
                  </a:moveTo>
                  <a:cubicBezTo>
                    <a:pt x="257" y="267"/>
                    <a:pt x="180" y="305"/>
                    <a:pt x="109" y="281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5" y="0"/>
                    <a:pt x="196" y="24"/>
                  </a:cubicBezTo>
                  <a:cubicBezTo>
                    <a:pt x="267" y="48"/>
                    <a:pt x="305" y="125"/>
                    <a:pt x="281" y="19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4919760" y="3478320"/>
              <a:ext cx="550440" cy="550440"/>
            </a:xfrm>
            <a:custGeom>
              <a:avLst/>
              <a:gdLst>
                <a:gd name="textAreaLeft" fmla="*/ 0 w 550440"/>
                <a:gd name="textAreaRight" fmla="*/ 550800 w 5504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1" h="361">
                  <a:moveTo>
                    <a:pt x="333" y="232"/>
                  </a:moveTo>
                  <a:cubicBezTo>
                    <a:pt x="304" y="316"/>
                    <a:pt x="213" y="361"/>
                    <a:pt x="129" y="333"/>
                  </a:cubicBezTo>
                  <a:cubicBezTo>
                    <a:pt x="45" y="304"/>
                    <a:pt x="0" y="213"/>
                    <a:pt x="28" y="129"/>
                  </a:cubicBezTo>
                  <a:cubicBezTo>
                    <a:pt x="57" y="45"/>
                    <a:pt x="148" y="0"/>
                    <a:pt x="232" y="28"/>
                  </a:cubicBezTo>
                  <a:cubicBezTo>
                    <a:pt x="316" y="57"/>
                    <a:pt x="361" y="148"/>
                    <a:pt x="333" y="232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5651640" y="3692520"/>
              <a:ext cx="636120" cy="6379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8"/>
                  </a:moveTo>
                  <a:cubicBezTo>
                    <a:pt x="352" y="366"/>
                    <a:pt x="247" y="418"/>
                    <a:pt x="149" y="385"/>
                  </a:cubicBezTo>
                  <a:cubicBezTo>
                    <a:pt x="52" y="352"/>
                    <a:pt x="0" y="246"/>
                    <a:pt x="33" y="149"/>
                  </a:cubicBezTo>
                  <a:cubicBezTo>
                    <a:pt x="66" y="52"/>
                    <a:pt x="172" y="0"/>
                    <a:pt x="269" y="33"/>
                  </a:cubicBezTo>
                  <a:cubicBezTo>
                    <a:pt x="366" y="66"/>
                    <a:pt x="418" y="171"/>
                    <a:pt x="385" y="26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384960" y="3908520"/>
              <a:ext cx="721800" cy="72180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6" y="305"/>
                  </a:moveTo>
                  <a:cubicBezTo>
                    <a:pt x="399" y="415"/>
                    <a:pt x="279" y="474"/>
                    <a:pt x="169" y="436"/>
                  </a:cubicBezTo>
                  <a:cubicBezTo>
                    <a:pt x="59" y="399"/>
                    <a:pt x="0" y="279"/>
                    <a:pt x="37" y="169"/>
                  </a:cubicBezTo>
                  <a:cubicBezTo>
                    <a:pt x="75" y="59"/>
                    <a:pt x="195" y="0"/>
                    <a:pt x="305" y="37"/>
                  </a:cubicBezTo>
                  <a:cubicBezTo>
                    <a:pt x="415" y="75"/>
                    <a:pt x="474" y="194"/>
                    <a:pt x="436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116840" y="4122720"/>
              <a:ext cx="807840" cy="80784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530" h="530">
                  <a:moveTo>
                    <a:pt x="488" y="341"/>
                  </a:moveTo>
                  <a:cubicBezTo>
                    <a:pt x="446" y="464"/>
                    <a:pt x="312" y="530"/>
                    <a:pt x="189" y="488"/>
                  </a:cubicBezTo>
                  <a:cubicBezTo>
                    <a:pt x="65" y="446"/>
                    <a:pt x="0" y="312"/>
                    <a:pt x="41" y="189"/>
                  </a:cubicBezTo>
                  <a:cubicBezTo>
                    <a:pt x="83" y="66"/>
                    <a:pt x="217" y="0"/>
                    <a:pt x="341" y="42"/>
                  </a:cubicBezTo>
                  <a:cubicBezTo>
                    <a:pt x="464" y="83"/>
                    <a:pt x="530" y="217"/>
                    <a:pt x="488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848720" y="4336920"/>
              <a:ext cx="894960" cy="893520"/>
            </a:xfrm>
            <a:custGeom>
              <a:avLst/>
              <a:gdLst>
                <a:gd name="textAreaLeft" fmla="*/ 0 w 894960"/>
                <a:gd name="textAreaRight" fmla="*/ 895320 w 89496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87" h="586">
                  <a:moveTo>
                    <a:pt x="540" y="377"/>
                  </a:moveTo>
                  <a:cubicBezTo>
                    <a:pt x="494" y="513"/>
                    <a:pt x="346" y="586"/>
                    <a:pt x="209" y="540"/>
                  </a:cubicBezTo>
                  <a:cubicBezTo>
                    <a:pt x="73" y="493"/>
                    <a:pt x="0" y="345"/>
                    <a:pt x="46" y="209"/>
                  </a:cubicBezTo>
                  <a:cubicBezTo>
                    <a:pt x="93" y="73"/>
                    <a:pt x="241" y="0"/>
                    <a:pt x="377" y="46"/>
                  </a:cubicBezTo>
                  <a:cubicBezTo>
                    <a:pt x="514" y="92"/>
                    <a:pt x="587" y="240"/>
                    <a:pt x="540" y="37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727280" y="338940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7" h="137">
                  <a:moveTo>
                    <a:pt x="126" y="88"/>
                  </a:moveTo>
                  <a:cubicBezTo>
                    <a:pt x="115" y="120"/>
                    <a:pt x="81" y="137"/>
                    <a:pt x="49" y="126"/>
                  </a:cubicBezTo>
                  <a:cubicBezTo>
                    <a:pt x="17" y="115"/>
                    <a:pt x="0" y="81"/>
                    <a:pt x="11" y="49"/>
                  </a:cubicBezTo>
                  <a:cubicBezTo>
                    <a:pt x="22" y="17"/>
                    <a:pt x="56" y="0"/>
                    <a:pt x="88" y="11"/>
                  </a:cubicBezTo>
                  <a:cubicBezTo>
                    <a:pt x="120" y="22"/>
                    <a:pt x="137" y="56"/>
                    <a:pt x="126" y="8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2459160" y="3605040"/>
              <a:ext cx="294840" cy="29340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4" h="193">
                  <a:moveTo>
                    <a:pt x="178" y="124"/>
                  </a:moveTo>
                  <a:cubicBezTo>
                    <a:pt x="163" y="169"/>
                    <a:pt x="114" y="193"/>
                    <a:pt x="69" y="178"/>
                  </a:cubicBezTo>
                  <a:cubicBezTo>
                    <a:pt x="25" y="163"/>
                    <a:pt x="0" y="114"/>
                    <a:pt x="16" y="69"/>
                  </a:cubicBezTo>
                  <a:cubicBezTo>
                    <a:pt x="31" y="24"/>
                    <a:pt x="80" y="0"/>
                    <a:pt x="125" y="15"/>
                  </a:cubicBezTo>
                  <a:cubicBezTo>
                    <a:pt x="170" y="31"/>
                    <a:pt x="194" y="79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192480" y="3819600"/>
              <a:ext cx="379080" cy="3790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49" h="249">
                  <a:moveTo>
                    <a:pt x="230" y="160"/>
                  </a:moveTo>
                  <a:cubicBezTo>
                    <a:pt x="210" y="218"/>
                    <a:pt x="147" y="249"/>
                    <a:pt x="89" y="230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40" y="31"/>
                    <a:pt x="103" y="0"/>
                    <a:pt x="160" y="20"/>
                  </a:cubicBezTo>
                  <a:cubicBezTo>
                    <a:pt x="218" y="39"/>
                    <a:pt x="249" y="102"/>
                    <a:pt x="230" y="16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3924360" y="4033800"/>
              <a:ext cx="464760" cy="4662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305" h="306">
                  <a:moveTo>
                    <a:pt x="281" y="197"/>
                  </a:moveTo>
                  <a:cubicBezTo>
                    <a:pt x="257" y="268"/>
                    <a:pt x="180" y="306"/>
                    <a:pt x="109" y="281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5" y="0"/>
                    <a:pt x="196" y="24"/>
                  </a:cubicBezTo>
                  <a:cubicBezTo>
                    <a:pt x="267" y="48"/>
                    <a:pt x="305" y="126"/>
                    <a:pt x="281" y="19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4656240" y="4249800"/>
              <a:ext cx="552240" cy="5504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2" h="362">
                  <a:moveTo>
                    <a:pt x="334" y="233"/>
                  </a:moveTo>
                  <a:cubicBezTo>
                    <a:pt x="305" y="317"/>
                    <a:pt x="214" y="362"/>
                    <a:pt x="130" y="333"/>
                  </a:cubicBezTo>
                  <a:cubicBezTo>
                    <a:pt x="45" y="305"/>
                    <a:pt x="0" y="213"/>
                    <a:pt x="29" y="129"/>
                  </a:cubicBezTo>
                  <a:cubicBezTo>
                    <a:pt x="58" y="45"/>
                    <a:pt x="149" y="0"/>
                    <a:pt x="233" y="29"/>
                  </a:cubicBezTo>
                  <a:cubicBezTo>
                    <a:pt x="317" y="57"/>
                    <a:pt x="362" y="149"/>
                    <a:pt x="334" y="23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5389560" y="4464000"/>
              <a:ext cx="636120" cy="6361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9"/>
                  </a:moveTo>
                  <a:cubicBezTo>
                    <a:pt x="352" y="366"/>
                    <a:pt x="246" y="418"/>
                    <a:pt x="149" y="385"/>
                  </a:cubicBezTo>
                  <a:cubicBezTo>
                    <a:pt x="52" y="352"/>
                    <a:pt x="0" y="246"/>
                    <a:pt x="33" y="149"/>
                  </a:cubicBezTo>
                  <a:cubicBezTo>
                    <a:pt x="66" y="52"/>
                    <a:pt x="172" y="0"/>
                    <a:pt x="269" y="33"/>
                  </a:cubicBezTo>
                  <a:cubicBezTo>
                    <a:pt x="366" y="66"/>
                    <a:pt x="418" y="172"/>
                    <a:pt x="385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122880" y="4678200"/>
              <a:ext cx="721800" cy="72180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6" y="305"/>
                  </a:moveTo>
                  <a:cubicBezTo>
                    <a:pt x="399" y="415"/>
                    <a:pt x="279" y="474"/>
                    <a:pt x="169" y="437"/>
                  </a:cubicBezTo>
                  <a:cubicBezTo>
                    <a:pt x="59" y="399"/>
                    <a:pt x="0" y="280"/>
                    <a:pt x="37" y="169"/>
                  </a:cubicBezTo>
                  <a:cubicBezTo>
                    <a:pt x="75" y="59"/>
                    <a:pt x="194" y="0"/>
                    <a:pt x="305" y="38"/>
                  </a:cubicBezTo>
                  <a:cubicBezTo>
                    <a:pt x="415" y="75"/>
                    <a:pt x="474" y="195"/>
                    <a:pt x="436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853320" y="4894200"/>
              <a:ext cx="809280" cy="80604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531" h="530">
                  <a:moveTo>
                    <a:pt x="489" y="341"/>
                  </a:moveTo>
                  <a:cubicBezTo>
                    <a:pt x="447" y="464"/>
                    <a:pt x="313" y="530"/>
                    <a:pt x="190" y="488"/>
                  </a:cubicBezTo>
                  <a:cubicBezTo>
                    <a:pt x="66" y="447"/>
                    <a:pt x="0" y="313"/>
                    <a:pt x="42" y="189"/>
                  </a:cubicBezTo>
                  <a:cubicBezTo>
                    <a:pt x="84" y="66"/>
                    <a:pt x="218" y="0"/>
                    <a:pt x="341" y="42"/>
                  </a:cubicBezTo>
                  <a:cubicBezTo>
                    <a:pt x="465" y="84"/>
                    <a:pt x="531" y="218"/>
                    <a:pt x="489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7586640" y="5108400"/>
              <a:ext cx="893520" cy="89352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86" h="587">
                  <a:moveTo>
                    <a:pt x="540" y="377"/>
                  </a:moveTo>
                  <a:cubicBezTo>
                    <a:pt x="494" y="514"/>
                    <a:pt x="346" y="587"/>
                    <a:pt x="209" y="540"/>
                  </a:cubicBezTo>
                  <a:cubicBezTo>
                    <a:pt x="73" y="494"/>
                    <a:pt x="0" y="346"/>
                    <a:pt x="46" y="209"/>
                  </a:cubicBezTo>
                  <a:cubicBezTo>
                    <a:pt x="93" y="73"/>
                    <a:pt x="241" y="0"/>
                    <a:pt x="377" y="46"/>
                  </a:cubicBezTo>
                  <a:cubicBezTo>
                    <a:pt x="513" y="93"/>
                    <a:pt x="586" y="241"/>
                    <a:pt x="540" y="37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465200" y="416088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7" h="137">
                  <a:moveTo>
                    <a:pt x="126" y="89"/>
                  </a:moveTo>
                  <a:cubicBezTo>
                    <a:pt x="115" y="120"/>
                    <a:pt x="80" y="137"/>
                    <a:pt x="49" y="127"/>
                  </a:cubicBezTo>
                  <a:cubicBezTo>
                    <a:pt x="17" y="116"/>
                    <a:pt x="0" y="81"/>
                    <a:pt x="11" y="49"/>
                  </a:cubicBezTo>
                  <a:cubicBezTo>
                    <a:pt x="21" y="18"/>
                    <a:pt x="56" y="0"/>
                    <a:pt x="88" y="11"/>
                  </a:cubicBezTo>
                  <a:cubicBezTo>
                    <a:pt x="120" y="22"/>
                    <a:pt x="137" y="57"/>
                    <a:pt x="126" y="8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2197080" y="4375080"/>
              <a:ext cx="293400" cy="296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93" h="194">
                  <a:moveTo>
                    <a:pt x="178" y="125"/>
                  </a:moveTo>
                  <a:cubicBezTo>
                    <a:pt x="163" y="170"/>
                    <a:pt x="114" y="194"/>
                    <a:pt x="69" y="178"/>
                  </a:cubicBezTo>
                  <a:cubicBezTo>
                    <a:pt x="24" y="163"/>
                    <a:pt x="0" y="114"/>
                    <a:pt x="16" y="69"/>
                  </a:cubicBezTo>
                  <a:cubicBezTo>
                    <a:pt x="31" y="25"/>
                    <a:pt x="80" y="0"/>
                    <a:pt x="125" y="16"/>
                  </a:cubicBezTo>
                  <a:cubicBezTo>
                    <a:pt x="169" y="31"/>
                    <a:pt x="193" y="80"/>
                    <a:pt x="178" y="1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2930400" y="4591080"/>
              <a:ext cx="379080" cy="38052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49" h="250">
                  <a:moveTo>
                    <a:pt x="230" y="161"/>
                  </a:moveTo>
                  <a:cubicBezTo>
                    <a:pt x="210" y="219"/>
                    <a:pt x="147" y="250"/>
                    <a:pt x="89" y="230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39" y="32"/>
                    <a:pt x="102" y="0"/>
                    <a:pt x="160" y="20"/>
                  </a:cubicBezTo>
                  <a:cubicBezTo>
                    <a:pt x="218" y="40"/>
                    <a:pt x="249" y="103"/>
                    <a:pt x="230" y="16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62280" y="4807080"/>
              <a:ext cx="464760" cy="46476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305" h="305">
                  <a:moveTo>
                    <a:pt x="281" y="196"/>
                  </a:moveTo>
                  <a:cubicBezTo>
                    <a:pt x="257" y="267"/>
                    <a:pt x="180" y="305"/>
                    <a:pt x="109" y="281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5" y="0"/>
                    <a:pt x="196" y="24"/>
                  </a:cubicBezTo>
                  <a:cubicBezTo>
                    <a:pt x="267" y="48"/>
                    <a:pt x="305" y="125"/>
                    <a:pt x="281" y="19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4394160" y="5021280"/>
              <a:ext cx="552240" cy="5504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2" h="361">
                  <a:moveTo>
                    <a:pt x="333" y="232"/>
                  </a:moveTo>
                  <a:cubicBezTo>
                    <a:pt x="305" y="316"/>
                    <a:pt x="213" y="361"/>
                    <a:pt x="129" y="333"/>
                  </a:cubicBezTo>
                  <a:cubicBezTo>
                    <a:pt x="45" y="304"/>
                    <a:pt x="0" y="213"/>
                    <a:pt x="29" y="129"/>
                  </a:cubicBezTo>
                  <a:cubicBezTo>
                    <a:pt x="57" y="45"/>
                    <a:pt x="149" y="0"/>
                    <a:pt x="233" y="28"/>
                  </a:cubicBezTo>
                  <a:cubicBezTo>
                    <a:pt x="317" y="57"/>
                    <a:pt x="362" y="148"/>
                    <a:pt x="333" y="232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5127480" y="5237280"/>
              <a:ext cx="636120" cy="63468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4680"/>
                <a:gd name="textAreaBottom" fmla="*/ 635040 h 634680"/>
              </a:gdLst>
              <a:ahLst/>
              <a:rect l="textAreaLeft" t="textAreaTop" r="textAreaRight" b="textAreaBottom"/>
              <a:pathLst>
                <a:path w="418" h="417">
                  <a:moveTo>
                    <a:pt x="385" y="268"/>
                  </a:moveTo>
                  <a:cubicBezTo>
                    <a:pt x="352" y="365"/>
                    <a:pt x="246" y="417"/>
                    <a:pt x="149" y="384"/>
                  </a:cubicBezTo>
                  <a:cubicBezTo>
                    <a:pt x="52" y="351"/>
                    <a:pt x="0" y="246"/>
                    <a:pt x="33" y="149"/>
                  </a:cubicBezTo>
                  <a:cubicBezTo>
                    <a:pt x="66" y="51"/>
                    <a:pt x="171" y="0"/>
                    <a:pt x="269" y="33"/>
                  </a:cubicBezTo>
                  <a:cubicBezTo>
                    <a:pt x="366" y="66"/>
                    <a:pt x="418" y="171"/>
                    <a:pt x="385" y="26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5861160" y="5451480"/>
              <a:ext cx="720360" cy="721800"/>
            </a:xfrm>
            <a:custGeom>
              <a:avLst/>
              <a:gdLst>
                <a:gd name="textAreaLeft" fmla="*/ 0 w 720360"/>
                <a:gd name="textAreaRight" fmla="*/ 720720 w 72036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6" y="304"/>
                  </a:moveTo>
                  <a:cubicBezTo>
                    <a:pt x="399" y="415"/>
                    <a:pt x="279" y="474"/>
                    <a:pt x="169" y="436"/>
                  </a:cubicBezTo>
                  <a:cubicBezTo>
                    <a:pt x="59" y="399"/>
                    <a:pt x="0" y="279"/>
                    <a:pt x="37" y="169"/>
                  </a:cubicBezTo>
                  <a:cubicBezTo>
                    <a:pt x="74" y="58"/>
                    <a:pt x="194" y="0"/>
                    <a:pt x="304" y="37"/>
                  </a:cubicBezTo>
                  <a:cubicBezTo>
                    <a:pt x="415" y="74"/>
                    <a:pt x="474" y="194"/>
                    <a:pt x="436" y="30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31"/>
            <p:cNvSpPr/>
            <p:nvPr/>
          </p:nvSpPr>
          <p:spPr>
            <a:xfrm>
              <a:off x="6591240" y="5665680"/>
              <a:ext cx="807840" cy="80784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530" h="530">
                  <a:moveTo>
                    <a:pt x="489" y="341"/>
                  </a:moveTo>
                  <a:cubicBezTo>
                    <a:pt x="447" y="464"/>
                    <a:pt x="313" y="530"/>
                    <a:pt x="189" y="488"/>
                  </a:cubicBezTo>
                  <a:cubicBezTo>
                    <a:pt x="66" y="446"/>
                    <a:pt x="0" y="312"/>
                    <a:pt x="42" y="189"/>
                  </a:cubicBezTo>
                  <a:cubicBezTo>
                    <a:pt x="84" y="65"/>
                    <a:pt x="218" y="0"/>
                    <a:pt x="341" y="41"/>
                  </a:cubicBezTo>
                  <a:cubicBezTo>
                    <a:pt x="464" y="83"/>
                    <a:pt x="530" y="217"/>
                    <a:pt x="489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2"/>
            <p:cNvSpPr/>
            <p:nvPr/>
          </p:nvSpPr>
          <p:spPr>
            <a:xfrm>
              <a:off x="7324560" y="5881680"/>
              <a:ext cx="891720" cy="89172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891720"/>
                <a:gd name="textAreaBottom" fmla="*/ 892080 h 891720"/>
              </a:gdLst>
              <a:ahLst/>
              <a:rect l="textAreaLeft" t="textAreaTop" r="textAreaRight" b="textAreaBottom"/>
              <a:pathLst>
                <a:path w="586" h="586">
                  <a:moveTo>
                    <a:pt x="540" y="377"/>
                  </a:moveTo>
                  <a:cubicBezTo>
                    <a:pt x="494" y="513"/>
                    <a:pt x="345" y="586"/>
                    <a:pt x="209" y="540"/>
                  </a:cubicBezTo>
                  <a:cubicBezTo>
                    <a:pt x="73" y="493"/>
                    <a:pt x="0" y="345"/>
                    <a:pt x="46" y="209"/>
                  </a:cubicBezTo>
                  <a:cubicBezTo>
                    <a:pt x="93" y="72"/>
                    <a:pt x="241" y="0"/>
                    <a:pt x="377" y="46"/>
                  </a:cubicBezTo>
                  <a:cubicBezTo>
                    <a:pt x="513" y="92"/>
                    <a:pt x="586" y="240"/>
                    <a:pt x="540" y="37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3"/>
            <p:cNvSpPr/>
            <p:nvPr/>
          </p:nvSpPr>
          <p:spPr>
            <a:xfrm>
              <a:off x="1935000" y="5148360"/>
              <a:ext cx="293400" cy="2934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3" h="193">
                  <a:moveTo>
                    <a:pt x="178" y="124"/>
                  </a:moveTo>
                  <a:cubicBezTo>
                    <a:pt x="163" y="169"/>
                    <a:pt x="114" y="193"/>
                    <a:pt x="69" y="178"/>
                  </a:cubicBezTo>
                  <a:cubicBezTo>
                    <a:pt x="24" y="163"/>
                    <a:pt x="0" y="114"/>
                    <a:pt x="15" y="69"/>
                  </a:cubicBezTo>
                  <a:cubicBezTo>
                    <a:pt x="31" y="24"/>
                    <a:pt x="79" y="0"/>
                    <a:pt x="124" y="15"/>
                  </a:cubicBezTo>
                  <a:cubicBezTo>
                    <a:pt x="169" y="30"/>
                    <a:pt x="193" y="79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4"/>
            <p:cNvSpPr/>
            <p:nvPr/>
          </p:nvSpPr>
          <p:spPr>
            <a:xfrm>
              <a:off x="2668680" y="5362560"/>
              <a:ext cx="379080" cy="3790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49" h="249">
                  <a:moveTo>
                    <a:pt x="229" y="160"/>
                  </a:moveTo>
                  <a:cubicBezTo>
                    <a:pt x="210" y="218"/>
                    <a:pt x="147" y="249"/>
                    <a:pt x="89" y="230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39" y="31"/>
                    <a:pt x="102" y="0"/>
                    <a:pt x="160" y="20"/>
                  </a:cubicBezTo>
                  <a:cubicBezTo>
                    <a:pt x="218" y="39"/>
                    <a:pt x="249" y="102"/>
                    <a:pt x="229" y="16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5"/>
            <p:cNvSpPr/>
            <p:nvPr/>
          </p:nvSpPr>
          <p:spPr>
            <a:xfrm>
              <a:off x="3398760" y="5578560"/>
              <a:ext cx="466200" cy="46332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06" h="305">
                  <a:moveTo>
                    <a:pt x="282" y="196"/>
                  </a:moveTo>
                  <a:cubicBezTo>
                    <a:pt x="258" y="267"/>
                    <a:pt x="181" y="305"/>
                    <a:pt x="109" y="281"/>
                  </a:cubicBezTo>
                  <a:cubicBezTo>
                    <a:pt x="38" y="257"/>
                    <a:pt x="0" y="180"/>
                    <a:pt x="25" y="109"/>
                  </a:cubicBezTo>
                  <a:cubicBezTo>
                    <a:pt x="49" y="38"/>
                    <a:pt x="126" y="0"/>
                    <a:pt x="197" y="24"/>
                  </a:cubicBezTo>
                  <a:cubicBezTo>
                    <a:pt x="268" y="48"/>
                    <a:pt x="306" y="125"/>
                    <a:pt x="282" y="19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6"/>
            <p:cNvSpPr/>
            <p:nvPr/>
          </p:nvSpPr>
          <p:spPr>
            <a:xfrm>
              <a:off x="4132440" y="5792760"/>
              <a:ext cx="552240" cy="5504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2" h="362">
                  <a:moveTo>
                    <a:pt x="333" y="233"/>
                  </a:moveTo>
                  <a:cubicBezTo>
                    <a:pt x="305" y="317"/>
                    <a:pt x="213" y="362"/>
                    <a:pt x="129" y="333"/>
                  </a:cubicBezTo>
                  <a:cubicBezTo>
                    <a:pt x="45" y="304"/>
                    <a:pt x="0" y="213"/>
                    <a:pt x="29" y="129"/>
                  </a:cubicBezTo>
                  <a:cubicBezTo>
                    <a:pt x="57" y="45"/>
                    <a:pt x="149" y="0"/>
                    <a:pt x="233" y="29"/>
                  </a:cubicBezTo>
                  <a:cubicBezTo>
                    <a:pt x="317" y="57"/>
                    <a:pt x="362" y="148"/>
                    <a:pt x="333" y="23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7"/>
            <p:cNvSpPr/>
            <p:nvPr/>
          </p:nvSpPr>
          <p:spPr>
            <a:xfrm>
              <a:off x="4865760" y="6006960"/>
              <a:ext cx="636120" cy="6379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9"/>
                  </a:moveTo>
                  <a:cubicBezTo>
                    <a:pt x="352" y="366"/>
                    <a:pt x="246" y="418"/>
                    <a:pt x="149" y="385"/>
                  </a:cubicBezTo>
                  <a:cubicBezTo>
                    <a:pt x="52" y="352"/>
                    <a:pt x="0" y="246"/>
                    <a:pt x="33" y="149"/>
                  </a:cubicBezTo>
                  <a:cubicBezTo>
                    <a:pt x="66" y="52"/>
                    <a:pt x="171" y="0"/>
                    <a:pt x="268" y="33"/>
                  </a:cubicBezTo>
                  <a:cubicBezTo>
                    <a:pt x="366" y="66"/>
                    <a:pt x="418" y="172"/>
                    <a:pt x="385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8"/>
            <p:cNvSpPr/>
            <p:nvPr/>
          </p:nvSpPr>
          <p:spPr>
            <a:xfrm>
              <a:off x="1681200" y="5897520"/>
              <a:ext cx="293400" cy="2948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93" h="193">
                  <a:moveTo>
                    <a:pt x="178" y="124"/>
                  </a:moveTo>
                  <a:cubicBezTo>
                    <a:pt x="162" y="169"/>
                    <a:pt x="114" y="193"/>
                    <a:pt x="69" y="178"/>
                  </a:cubicBezTo>
                  <a:cubicBezTo>
                    <a:pt x="24" y="163"/>
                    <a:pt x="0" y="114"/>
                    <a:pt x="15" y="69"/>
                  </a:cubicBezTo>
                  <a:cubicBezTo>
                    <a:pt x="30" y="24"/>
                    <a:pt x="79" y="0"/>
                    <a:pt x="124" y="15"/>
                  </a:cubicBezTo>
                  <a:cubicBezTo>
                    <a:pt x="169" y="31"/>
                    <a:pt x="193" y="80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9"/>
            <p:cNvSpPr/>
            <p:nvPr/>
          </p:nvSpPr>
          <p:spPr>
            <a:xfrm>
              <a:off x="2411280" y="6113520"/>
              <a:ext cx="380520" cy="3805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50" h="250">
                  <a:moveTo>
                    <a:pt x="230" y="161"/>
                  </a:moveTo>
                  <a:cubicBezTo>
                    <a:pt x="210" y="219"/>
                    <a:pt x="147" y="250"/>
                    <a:pt x="89" y="230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40" y="31"/>
                    <a:pt x="103" y="0"/>
                    <a:pt x="161" y="20"/>
                  </a:cubicBezTo>
                  <a:cubicBezTo>
                    <a:pt x="219" y="40"/>
                    <a:pt x="250" y="103"/>
                    <a:pt x="230" y="16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40"/>
            <p:cNvSpPr/>
            <p:nvPr/>
          </p:nvSpPr>
          <p:spPr>
            <a:xfrm>
              <a:off x="3144960" y="6327720"/>
              <a:ext cx="466200" cy="46620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306" h="306">
                  <a:moveTo>
                    <a:pt x="281" y="197"/>
                  </a:moveTo>
                  <a:cubicBezTo>
                    <a:pt x="257" y="268"/>
                    <a:pt x="180" y="306"/>
                    <a:pt x="109" y="282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6" y="0"/>
                    <a:pt x="197" y="24"/>
                  </a:cubicBezTo>
                  <a:cubicBezTo>
                    <a:pt x="268" y="49"/>
                    <a:pt x="306" y="126"/>
                    <a:pt x="281" y="19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41"/>
            <p:cNvSpPr/>
            <p:nvPr/>
          </p:nvSpPr>
          <p:spPr>
            <a:xfrm>
              <a:off x="2514600" y="1076400"/>
              <a:ext cx="207720" cy="20772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37" h="137">
                  <a:moveTo>
                    <a:pt x="126" y="88"/>
                  </a:moveTo>
                  <a:cubicBezTo>
                    <a:pt x="116" y="120"/>
                    <a:pt x="81" y="137"/>
                    <a:pt x="49" y="126"/>
                  </a:cubicBezTo>
                  <a:cubicBezTo>
                    <a:pt x="17" y="115"/>
                    <a:pt x="0" y="81"/>
                    <a:pt x="11" y="49"/>
                  </a:cubicBezTo>
                  <a:cubicBezTo>
                    <a:pt x="22" y="17"/>
                    <a:pt x="57" y="0"/>
                    <a:pt x="88" y="11"/>
                  </a:cubicBezTo>
                  <a:cubicBezTo>
                    <a:pt x="120" y="21"/>
                    <a:pt x="137" y="56"/>
                    <a:pt x="126" y="8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42"/>
            <p:cNvSpPr/>
            <p:nvPr/>
          </p:nvSpPr>
          <p:spPr>
            <a:xfrm>
              <a:off x="3246480" y="1290600"/>
              <a:ext cx="294840" cy="29340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3" h="193">
                  <a:moveTo>
                    <a:pt x="178" y="124"/>
                  </a:moveTo>
                  <a:cubicBezTo>
                    <a:pt x="163" y="169"/>
                    <a:pt x="114" y="193"/>
                    <a:pt x="69" y="178"/>
                  </a:cubicBezTo>
                  <a:cubicBezTo>
                    <a:pt x="24" y="162"/>
                    <a:pt x="0" y="114"/>
                    <a:pt x="15" y="69"/>
                  </a:cubicBezTo>
                  <a:cubicBezTo>
                    <a:pt x="31" y="24"/>
                    <a:pt x="79" y="0"/>
                    <a:pt x="124" y="15"/>
                  </a:cubicBezTo>
                  <a:cubicBezTo>
                    <a:pt x="169" y="30"/>
                    <a:pt x="193" y="79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43"/>
            <p:cNvSpPr/>
            <p:nvPr/>
          </p:nvSpPr>
          <p:spPr>
            <a:xfrm>
              <a:off x="3979800" y="1504800"/>
              <a:ext cx="379080" cy="3790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49" h="249">
                  <a:moveTo>
                    <a:pt x="229" y="160"/>
                  </a:moveTo>
                  <a:cubicBezTo>
                    <a:pt x="210" y="218"/>
                    <a:pt x="147" y="249"/>
                    <a:pt x="89" y="229"/>
                  </a:cubicBezTo>
                  <a:cubicBezTo>
                    <a:pt x="31" y="210"/>
                    <a:pt x="0" y="147"/>
                    <a:pt x="19" y="89"/>
                  </a:cubicBezTo>
                  <a:cubicBezTo>
                    <a:pt x="39" y="31"/>
                    <a:pt x="102" y="0"/>
                    <a:pt x="160" y="20"/>
                  </a:cubicBezTo>
                  <a:cubicBezTo>
                    <a:pt x="218" y="39"/>
                    <a:pt x="249" y="102"/>
                    <a:pt x="229" y="16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44"/>
            <p:cNvSpPr/>
            <p:nvPr/>
          </p:nvSpPr>
          <p:spPr>
            <a:xfrm>
              <a:off x="4711680" y="1720800"/>
              <a:ext cx="464760" cy="46332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06" h="305">
                  <a:moveTo>
                    <a:pt x="282" y="196"/>
                  </a:moveTo>
                  <a:cubicBezTo>
                    <a:pt x="257" y="267"/>
                    <a:pt x="180" y="305"/>
                    <a:pt x="109" y="281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9" y="38"/>
                    <a:pt x="126" y="0"/>
                    <a:pt x="197" y="24"/>
                  </a:cubicBezTo>
                  <a:cubicBezTo>
                    <a:pt x="268" y="48"/>
                    <a:pt x="306" y="125"/>
                    <a:pt x="282" y="19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45"/>
            <p:cNvSpPr/>
            <p:nvPr/>
          </p:nvSpPr>
          <p:spPr>
            <a:xfrm>
              <a:off x="5443560" y="1935000"/>
              <a:ext cx="552240" cy="5504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2" h="362">
                  <a:moveTo>
                    <a:pt x="333" y="232"/>
                  </a:moveTo>
                  <a:cubicBezTo>
                    <a:pt x="304" y="317"/>
                    <a:pt x="213" y="362"/>
                    <a:pt x="129" y="333"/>
                  </a:cubicBezTo>
                  <a:cubicBezTo>
                    <a:pt x="45" y="304"/>
                    <a:pt x="0" y="213"/>
                    <a:pt x="28" y="129"/>
                  </a:cubicBezTo>
                  <a:cubicBezTo>
                    <a:pt x="57" y="45"/>
                    <a:pt x="148" y="0"/>
                    <a:pt x="233" y="28"/>
                  </a:cubicBezTo>
                  <a:cubicBezTo>
                    <a:pt x="317" y="57"/>
                    <a:pt x="362" y="148"/>
                    <a:pt x="333" y="232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46"/>
            <p:cNvSpPr/>
            <p:nvPr/>
          </p:nvSpPr>
          <p:spPr>
            <a:xfrm>
              <a:off x="6176880" y="2149560"/>
              <a:ext cx="634680" cy="63612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417" h="418">
                  <a:moveTo>
                    <a:pt x="384" y="269"/>
                  </a:moveTo>
                  <a:cubicBezTo>
                    <a:pt x="351" y="366"/>
                    <a:pt x="246" y="418"/>
                    <a:pt x="149" y="385"/>
                  </a:cubicBezTo>
                  <a:cubicBezTo>
                    <a:pt x="52" y="352"/>
                    <a:pt x="0" y="246"/>
                    <a:pt x="33" y="149"/>
                  </a:cubicBezTo>
                  <a:cubicBezTo>
                    <a:pt x="66" y="52"/>
                    <a:pt x="171" y="0"/>
                    <a:pt x="268" y="33"/>
                  </a:cubicBezTo>
                  <a:cubicBezTo>
                    <a:pt x="365" y="66"/>
                    <a:pt x="417" y="171"/>
                    <a:pt x="384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47"/>
            <p:cNvSpPr/>
            <p:nvPr/>
          </p:nvSpPr>
          <p:spPr>
            <a:xfrm>
              <a:off x="6908760" y="2365200"/>
              <a:ext cx="721800" cy="72036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474" h="474">
                  <a:moveTo>
                    <a:pt x="437" y="305"/>
                  </a:moveTo>
                  <a:cubicBezTo>
                    <a:pt x="399" y="415"/>
                    <a:pt x="280" y="474"/>
                    <a:pt x="169" y="436"/>
                  </a:cubicBezTo>
                  <a:cubicBezTo>
                    <a:pt x="59" y="399"/>
                    <a:pt x="0" y="279"/>
                    <a:pt x="38" y="169"/>
                  </a:cubicBezTo>
                  <a:cubicBezTo>
                    <a:pt x="75" y="59"/>
                    <a:pt x="195" y="0"/>
                    <a:pt x="305" y="37"/>
                  </a:cubicBezTo>
                  <a:cubicBezTo>
                    <a:pt x="415" y="75"/>
                    <a:pt x="474" y="194"/>
                    <a:pt x="437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48"/>
            <p:cNvSpPr/>
            <p:nvPr/>
          </p:nvSpPr>
          <p:spPr>
            <a:xfrm>
              <a:off x="7642080" y="2579760"/>
              <a:ext cx="806040" cy="80784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530" h="530">
                  <a:moveTo>
                    <a:pt x="488" y="341"/>
                  </a:moveTo>
                  <a:cubicBezTo>
                    <a:pt x="446" y="464"/>
                    <a:pt x="312" y="530"/>
                    <a:pt x="189" y="488"/>
                  </a:cubicBezTo>
                  <a:cubicBezTo>
                    <a:pt x="66" y="446"/>
                    <a:pt x="0" y="312"/>
                    <a:pt x="42" y="189"/>
                  </a:cubicBezTo>
                  <a:cubicBezTo>
                    <a:pt x="84" y="66"/>
                    <a:pt x="218" y="0"/>
                    <a:pt x="341" y="42"/>
                  </a:cubicBezTo>
                  <a:cubicBezTo>
                    <a:pt x="464" y="84"/>
                    <a:pt x="530" y="218"/>
                    <a:pt x="488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49"/>
            <p:cNvSpPr/>
            <p:nvPr/>
          </p:nvSpPr>
          <p:spPr>
            <a:xfrm>
              <a:off x="2776680" y="303120"/>
              <a:ext cx="207720" cy="20772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37" h="137">
                  <a:moveTo>
                    <a:pt x="127" y="88"/>
                  </a:moveTo>
                  <a:cubicBezTo>
                    <a:pt x="116" y="120"/>
                    <a:pt x="81" y="137"/>
                    <a:pt x="49" y="127"/>
                  </a:cubicBezTo>
                  <a:cubicBezTo>
                    <a:pt x="18" y="116"/>
                    <a:pt x="0" y="81"/>
                    <a:pt x="11" y="49"/>
                  </a:cubicBezTo>
                  <a:cubicBezTo>
                    <a:pt x="22" y="17"/>
                    <a:pt x="57" y="0"/>
                    <a:pt x="89" y="11"/>
                  </a:cubicBezTo>
                  <a:cubicBezTo>
                    <a:pt x="120" y="22"/>
                    <a:pt x="137" y="57"/>
                    <a:pt x="127" y="8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50"/>
            <p:cNvSpPr/>
            <p:nvPr/>
          </p:nvSpPr>
          <p:spPr>
            <a:xfrm>
              <a:off x="3508200" y="517680"/>
              <a:ext cx="294840" cy="29484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93" h="194">
                  <a:moveTo>
                    <a:pt x="178" y="125"/>
                  </a:moveTo>
                  <a:cubicBezTo>
                    <a:pt x="163" y="169"/>
                    <a:pt x="114" y="194"/>
                    <a:pt x="69" y="178"/>
                  </a:cubicBezTo>
                  <a:cubicBezTo>
                    <a:pt x="24" y="163"/>
                    <a:pt x="0" y="114"/>
                    <a:pt x="15" y="69"/>
                  </a:cubicBezTo>
                  <a:cubicBezTo>
                    <a:pt x="31" y="24"/>
                    <a:pt x="79" y="0"/>
                    <a:pt x="124" y="16"/>
                  </a:cubicBezTo>
                  <a:cubicBezTo>
                    <a:pt x="169" y="31"/>
                    <a:pt x="193" y="80"/>
                    <a:pt x="178" y="1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51"/>
            <p:cNvSpPr/>
            <p:nvPr/>
          </p:nvSpPr>
          <p:spPr>
            <a:xfrm>
              <a:off x="4241880" y="733320"/>
              <a:ext cx="379080" cy="38052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49" h="250">
                  <a:moveTo>
                    <a:pt x="229" y="161"/>
                  </a:moveTo>
                  <a:cubicBezTo>
                    <a:pt x="210" y="219"/>
                    <a:pt x="147" y="250"/>
                    <a:pt x="89" y="230"/>
                  </a:cubicBezTo>
                  <a:cubicBezTo>
                    <a:pt x="31" y="210"/>
                    <a:pt x="0" y="147"/>
                    <a:pt x="19" y="89"/>
                  </a:cubicBezTo>
                  <a:cubicBezTo>
                    <a:pt x="39" y="31"/>
                    <a:pt x="102" y="0"/>
                    <a:pt x="160" y="20"/>
                  </a:cubicBezTo>
                  <a:cubicBezTo>
                    <a:pt x="218" y="40"/>
                    <a:pt x="249" y="103"/>
                    <a:pt x="229" y="16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52"/>
            <p:cNvSpPr/>
            <p:nvPr/>
          </p:nvSpPr>
          <p:spPr>
            <a:xfrm>
              <a:off x="4973760" y="947880"/>
              <a:ext cx="466200" cy="46620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306" h="306">
                  <a:moveTo>
                    <a:pt x="282" y="197"/>
                  </a:moveTo>
                  <a:cubicBezTo>
                    <a:pt x="258" y="268"/>
                    <a:pt x="180" y="306"/>
                    <a:pt x="109" y="282"/>
                  </a:cubicBezTo>
                  <a:cubicBezTo>
                    <a:pt x="38" y="258"/>
                    <a:pt x="0" y="180"/>
                    <a:pt x="25" y="109"/>
                  </a:cubicBezTo>
                  <a:cubicBezTo>
                    <a:pt x="49" y="38"/>
                    <a:pt x="126" y="0"/>
                    <a:pt x="197" y="25"/>
                  </a:cubicBezTo>
                  <a:cubicBezTo>
                    <a:pt x="268" y="49"/>
                    <a:pt x="306" y="126"/>
                    <a:pt x="282" y="19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53"/>
            <p:cNvSpPr/>
            <p:nvPr/>
          </p:nvSpPr>
          <p:spPr>
            <a:xfrm>
              <a:off x="5707080" y="1162080"/>
              <a:ext cx="550440" cy="552240"/>
            </a:xfrm>
            <a:custGeom>
              <a:avLst/>
              <a:gdLst>
                <a:gd name="textAreaLeft" fmla="*/ 0 w 550440"/>
                <a:gd name="textAreaRight" fmla="*/ 550800 w 55044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" h="362">
                  <a:moveTo>
                    <a:pt x="333" y="233"/>
                  </a:moveTo>
                  <a:cubicBezTo>
                    <a:pt x="305" y="317"/>
                    <a:pt x="213" y="362"/>
                    <a:pt x="129" y="334"/>
                  </a:cubicBezTo>
                  <a:cubicBezTo>
                    <a:pt x="45" y="305"/>
                    <a:pt x="0" y="214"/>
                    <a:pt x="29" y="129"/>
                  </a:cubicBezTo>
                  <a:cubicBezTo>
                    <a:pt x="57" y="45"/>
                    <a:pt x="149" y="0"/>
                    <a:pt x="233" y="29"/>
                  </a:cubicBezTo>
                  <a:cubicBezTo>
                    <a:pt x="317" y="58"/>
                    <a:pt x="362" y="149"/>
                    <a:pt x="333" y="23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54"/>
            <p:cNvSpPr/>
            <p:nvPr/>
          </p:nvSpPr>
          <p:spPr>
            <a:xfrm>
              <a:off x="6438960" y="1378080"/>
              <a:ext cx="636120" cy="6361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9"/>
                  </a:moveTo>
                  <a:cubicBezTo>
                    <a:pt x="352" y="366"/>
                    <a:pt x="246" y="418"/>
                    <a:pt x="149" y="385"/>
                  </a:cubicBezTo>
                  <a:cubicBezTo>
                    <a:pt x="52" y="352"/>
                    <a:pt x="0" y="247"/>
                    <a:pt x="33" y="150"/>
                  </a:cubicBezTo>
                  <a:cubicBezTo>
                    <a:pt x="66" y="52"/>
                    <a:pt x="171" y="0"/>
                    <a:pt x="268" y="33"/>
                  </a:cubicBezTo>
                  <a:cubicBezTo>
                    <a:pt x="366" y="66"/>
                    <a:pt x="418" y="172"/>
                    <a:pt x="385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55"/>
            <p:cNvSpPr/>
            <p:nvPr/>
          </p:nvSpPr>
          <p:spPr>
            <a:xfrm>
              <a:off x="7170840" y="1592280"/>
              <a:ext cx="721800" cy="72180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7" y="305"/>
                  </a:moveTo>
                  <a:cubicBezTo>
                    <a:pt x="399" y="416"/>
                    <a:pt x="280" y="474"/>
                    <a:pt x="170" y="437"/>
                  </a:cubicBezTo>
                  <a:cubicBezTo>
                    <a:pt x="59" y="400"/>
                    <a:pt x="0" y="280"/>
                    <a:pt x="38" y="170"/>
                  </a:cubicBezTo>
                  <a:cubicBezTo>
                    <a:pt x="75" y="59"/>
                    <a:pt x="195" y="0"/>
                    <a:pt x="305" y="38"/>
                  </a:cubicBezTo>
                  <a:cubicBezTo>
                    <a:pt x="415" y="75"/>
                    <a:pt x="474" y="195"/>
                    <a:pt x="437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56"/>
            <p:cNvSpPr/>
            <p:nvPr/>
          </p:nvSpPr>
          <p:spPr>
            <a:xfrm>
              <a:off x="7904160" y="1806480"/>
              <a:ext cx="806040" cy="80928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809280"/>
                <a:gd name="textAreaBottom" fmla="*/ 809640 h 809280"/>
              </a:gdLst>
              <a:ahLst/>
              <a:rect l="textAreaLeft" t="textAreaTop" r="textAreaRight" b="textAreaBottom"/>
              <a:pathLst>
                <a:path w="530" h="531">
                  <a:moveTo>
                    <a:pt x="488" y="341"/>
                  </a:moveTo>
                  <a:cubicBezTo>
                    <a:pt x="446" y="465"/>
                    <a:pt x="313" y="531"/>
                    <a:pt x="189" y="489"/>
                  </a:cubicBezTo>
                  <a:cubicBezTo>
                    <a:pt x="66" y="447"/>
                    <a:pt x="0" y="313"/>
                    <a:pt x="42" y="190"/>
                  </a:cubicBezTo>
                  <a:cubicBezTo>
                    <a:pt x="84" y="66"/>
                    <a:pt x="218" y="0"/>
                    <a:pt x="341" y="42"/>
                  </a:cubicBezTo>
                  <a:cubicBezTo>
                    <a:pt x="464" y="84"/>
                    <a:pt x="530" y="218"/>
                    <a:pt x="488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57"/>
            <p:cNvSpPr/>
            <p:nvPr/>
          </p:nvSpPr>
          <p:spPr>
            <a:xfrm>
              <a:off x="5237280" y="176040"/>
              <a:ext cx="464760" cy="46476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305" h="305">
                  <a:moveTo>
                    <a:pt x="281" y="196"/>
                  </a:moveTo>
                  <a:cubicBezTo>
                    <a:pt x="257" y="267"/>
                    <a:pt x="180" y="305"/>
                    <a:pt x="109" y="281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5" y="0"/>
                    <a:pt x="196" y="24"/>
                  </a:cubicBezTo>
                  <a:cubicBezTo>
                    <a:pt x="267" y="48"/>
                    <a:pt x="305" y="125"/>
                    <a:pt x="281" y="19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58"/>
            <p:cNvSpPr/>
            <p:nvPr/>
          </p:nvSpPr>
          <p:spPr>
            <a:xfrm>
              <a:off x="5969160" y="392040"/>
              <a:ext cx="550440" cy="550440"/>
            </a:xfrm>
            <a:custGeom>
              <a:avLst/>
              <a:gdLst>
                <a:gd name="textAreaLeft" fmla="*/ 0 w 550440"/>
                <a:gd name="textAreaRight" fmla="*/ 550800 w 5504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2" h="362">
                  <a:moveTo>
                    <a:pt x="333" y="233"/>
                  </a:moveTo>
                  <a:cubicBezTo>
                    <a:pt x="305" y="317"/>
                    <a:pt x="213" y="362"/>
                    <a:pt x="129" y="333"/>
                  </a:cubicBezTo>
                  <a:cubicBezTo>
                    <a:pt x="45" y="304"/>
                    <a:pt x="0" y="213"/>
                    <a:pt x="29" y="129"/>
                  </a:cubicBezTo>
                  <a:cubicBezTo>
                    <a:pt x="57" y="45"/>
                    <a:pt x="149" y="0"/>
                    <a:pt x="233" y="29"/>
                  </a:cubicBezTo>
                  <a:cubicBezTo>
                    <a:pt x="317" y="57"/>
                    <a:pt x="362" y="148"/>
                    <a:pt x="333" y="23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59"/>
            <p:cNvSpPr/>
            <p:nvPr/>
          </p:nvSpPr>
          <p:spPr>
            <a:xfrm>
              <a:off x="6700680" y="606600"/>
              <a:ext cx="637920" cy="6361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9"/>
                  </a:moveTo>
                  <a:cubicBezTo>
                    <a:pt x="352" y="366"/>
                    <a:pt x="246" y="418"/>
                    <a:pt x="149" y="385"/>
                  </a:cubicBezTo>
                  <a:cubicBezTo>
                    <a:pt x="52" y="352"/>
                    <a:pt x="0" y="246"/>
                    <a:pt x="33" y="149"/>
                  </a:cubicBezTo>
                  <a:cubicBezTo>
                    <a:pt x="66" y="52"/>
                    <a:pt x="171" y="0"/>
                    <a:pt x="269" y="33"/>
                  </a:cubicBezTo>
                  <a:cubicBezTo>
                    <a:pt x="366" y="66"/>
                    <a:pt x="418" y="172"/>
                    <a:pt x="385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60"/>
            <p:cNvSpPr/>
            <p:nvPr/>
          </p:nvSpPr>
          <p:spPr>
            <a:xfrm>
              <a:off x="7432560" y="820800"/>
              <a:ext cx="723600" cy="72180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5" h="474">
                  <a:moveTo>
                    <a:pt x="437" y="305"/>
                  </a:moveTo>
                  <a:cubicBezTo>
                    <a:pt x="400" y="415"/>
                    <a:pt x="280" y="474"/>
                    <a:pt x="170" y="437"/>
                  </a:cubicBezTo>
                  <a:cubicBezTo>
                    <a:pt x="59" y="399"/>
                    <a:pt x="0" y="279"/>
                    <a:pt x="38" y="169"/>
                  </a:cubicBezTo>
                  <a:cubicBezTo>
                    <a:pt x="75" y="59"/>
                    <a:pt x="195" y="0"/>
                    <a:pt x="305" y="37"/>
                  </a:cubicBezTo>
                  <a:cubicBezTo>
                    <a:pt x="416" y="75"/>
                    <a:pt x="475" y="195"/>
                    <a:pt x="437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61"/>
            <p:cNvSpPr/>
            <p:nvPr/>
          </p:nvSpPr>
          <p:spPr>
            <a:xfrm>
              <a:off x="8166240" y="1036800"/>
              <a:ext cx="806040" cy="80604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530" h="530">
                  <a:moveTo>
                    <a:pt x="489" y="341"/>
                  </a:moveTo>
                  <a:cubicBezTo>
                    <a:pt x="447" y="464"/>
                    <a:pt x="313" y="530"/>
                    <a:pt x="189" y="488"/>
                  </a:cubicBezTo>
                  <a:cubicBezTo>
                    <a:pt x="66" y="446"/>
                    <a:pt x="0" y="313"/>
                    <a:pt x="42" y="189"/>
                  </a:cubicBezTo>
                  <a:cubicBezTo>
                    <a:pt x="84" y="66"/>
                    <a:pt x="218" y="0"/>
                    <a:pt x="341" y="42"/>
                  </a:cubicBezTo>
                  <a:cubicBezTo>
                    <a:pt x="464" y="84"/>
                    <a:pt x="530" y="218"/>
                    <a:pt x="489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62"/>
            <p:cNvSpPr/>
            <p:nvPr/>
          </p:nvSpPr>
          <p:spPr>
            <a:xfrm>
              <a:off x="7696080" y="50760"/>
              <a:ext cx="721800" cy="72180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6" y="304"/>
                  </a:moveTo>
                  <a:cubicBezTo>
                    <a:pt x="399" y="415"/>
                    <a:pt x="279" y="474"/>
                    <a:pt x="169" y="436"/>
                  </a:cubicBezTo>
                  <a:cubicBezTo>
                    <a:pt x="59" y="399"/>
                    <a:pt x="0" y="279"/>
                    <a:pt x="37" y="169"/>
                  </a:cubicBezTo>
                  <a:cubicBezTo>
                    <a:pt x="75" y="59"/>
                    <a:pt x="194" y="0"/>
                    <a:pt x="305" y="37"/>
                  </a:cubicBezTo>
                  <a:cubicBezTo>
                    <a:pt x="415" y="74"/>
                    <a:pt x="474" y="194"/>
                    <a:pt x="436" y="30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63"/>
            <p:cNvSpPr/>
            <p:nvPr/>
          </p:nvSpPr>
          <p:spPr>
            <a:xfrm>
              <a:off x="2252520" y="1846440"/>
              <a:ext cx="207720" cy="2091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7" h="137">
                  <a:moveTo>
                    <a:pt x="126" y="88"/>
                  </a:moveTo>
                  <a:cubicBezTo>
                    <a:pt x="115" y="120"/>
                    <a:pt x="81" y="137"/>
                    <a:pt x="49" y="126"/>
                  </a:cubicBezTo>
                  <a:cubicBezTo>
                    <a:pt x="17" y="116"/>
                    <a:pt x="0" y="81"/>
                    <a:pt x="11" y="49"/>
                  </a:cubicBezTo>
                  <a:cubicBezTo>
                    <a:pt x="22" y="17"/>
                    <a:pt x="56" y="0"/>
                    <a:pt x="88" y="11"/>
                  </a:cubicBezTo>
                  <a:cubicBezTo>
                    <a:pt x="120" y="22"/>
                    <a:pt x="137" y="56"/>
                    <a:pt x="126" y="8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64"/>
            <p:cNvSpPr/>
            <p:nvPr/>
          </p:nvSpPr>
          <p:spPr>
            <a:xfrm>
              <a:off x="2984400" y="2062080"/>
              <a:ext cx="294840" cy="29340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3" h="193">
                  <a:moveTo>
                    <a:pt x="178" y="124"/>
                  </a:moveTo>
                  <a:cubicBezTo>
                    <a:pt x="162" y="169"/>
                    <a:pt x="114" y="193"/>
                    <a:pt x="69" y="178"/>
                  </a:cubicBezTo>
                  <a:cubicBezTo>
                    <a:pt x="24" y="163"/>
                    <a:pt x="0" y="114"/>
                    <a:pt x="15" y="69"/>
                  </a:cubicBezTo>
                  <a:cubicBezTo>
                    <a:pt x="30" y="24"/>
                    <a:pt x="79" y="0"/>
                    <a:pt x="124" y="15"/>
                  </a:cubicBezTo>
                  <a:cubicBezTo>
                    <a:pt x="169" y="31"/>
                    <a:pt x="193" y="80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65"/>
            <p:cNvSpPr/>
            <p:nvPr/>
          </p:nvSpPr>
          <p:spPr>
            <a:xfrm>
              <a:off x="3716280" y="2276640"/>
              <a:ext cx="380520" cy="3805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50" h="250">
                  <a:moveTo>
                    <a:pt x="230" y="161"/>
                  </a:moveTo>
                  <a:cubicBezTo>
                    <a:pt x="210" y="219"/>
                    <a:pt x="147" y="250"/>
                    <a:pt x="89" y="230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40" y="31"/>
                    <a:pt x="103" y="0"/>
                    <a:pt x="161" y="20"/>
                  </a:cubicBezTo>
                  <a:cubicBezTo>
                    <a:pt x="219" y="40"/>
                    <a:pt x="250" y="103"/>
                    <a:pt x="230" y="16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66"/>
            <p:cNvSpPr/>
            <p:nvPr/>
          </p:nvSpPr>
          <p:spPr>
            <a:xfrm>
              <a:off x="4449600" y="2490840"/>
              <a:ext cx="464760" cy="4662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306" h="306">
                  <a:moveTo>
                    <a:pt x="281" y="197"/>
                  </a:moveTo>
                  <a:cubicBezTo>
                    <a:pt x="257" y="268"/>
                    <a:pt x="180" y="306"/>
                    <a:pt x="109" y="282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6" y="0"/>
                    <a:pt x="197" y="24"/>
                  </a:cubicBezTo>
                  <a:cubicBezTo>
                    <a:pt x="268" y="49"/>
                    <a:pt x="306" y="126"/>
                    <a:pt x="281" y="19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67"/>
            <p:cNvSpPr/>
            <p:nvPr/>
          </p:nvSpPr>
          <p:spPr>
            <a:xfrm>
              <a:off x="5181480" y="2706840"/>
              <a:ext cx="550440" cy="550440"/>
            </a:xfrm>
            <a:custGeom>
              <a:avLst/>
              <a:gdLst>
                <a:gd name="textAreaLeft" fmla="*/ 0 w 550440"/>
                <a:gd name="textAreaRight" fmla="*/ 550800 w 5504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1" h="362">
                  <a:moveTo>
                    <a:pt x="333" y="233"/>
                  </a:moveTo>
                  <a:cubicBezTo>
                    <a:pt x="304" y="317"/>
                    <a:pt x="213" y="362"/>
                    <a:pt x="129" y="333"/>
                  </a:cubicBezTo>
                  <a:cubicBezTo>
                    <a:pt x="45" y="305"/>
                    <a:pt x="0" y="213"/>
                    <a:pt x="28" y="129"/>
                  </a:cubicBezTo>
                  <a:cubicBezTo>
                    <a:pt x="57" y="45"/>
                    <a:pt x="148" y="0"/>
                    <a:pt x="232" y="29"/>
                  </a:cubicBezTo>
                  <a:cubicBezTo>
                    <a:pt x="316" y="57"/>
                    <a:pt x="361" y="149"/>
                    <a:pt x="333" y="23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68"/>
            <p:cNvSpPr/>
            <p:nvPr/>
          </p:nvSpPr>
          <p:spPr>
            <a:xfrm>
              <a:off x="5913360" y="2921040"/>
              <a:ext cx="636120" cy="6361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9"/>
                  </a:moveTo>
                  <a:cubicBezTo>
                    <a:pt x="352" y="366"/>
                    <a:pt x="247" y="418"/>
                    <a:pt x="150" y="385"/>
                  </a:cubicBezTo>
                  <a:cubicBezTo>
                    <a:pt x="52" y="352"/>
                    <a:pt x="0" y="247"/>
                    <a:pt x="33" y="149"/>
                  </a:cubicBezTo>
                  <a:cubicBezTo>
                    <a:pt x="66" y="52"/>
                    <a:pt x="172" y="0"/>
                    <a:pt x="269" y="33"/>
                  </a:cubicBezTo>
                  <a:cubicBezTo>
                    <a:pt x="366" y="66"/>
                    <a:pt x="418" y="172"/>
                    <a:pt x="385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69"/>
            <p:cNvSpPr/>
            <p:nvPr/>
          </p:nvSpPr>
          <p:spPr>
            <a:xfrm>
              <a:off x="6647040" y="3135240"/>
              <a:ext cx="721800" cy="72180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7" y="305"/>
                  </a:moveTo>
                  <a:cubicBezTo>
                    <a:pt x="399" y="415"/>
                    <a:pt x="279" y="474"/>
                    <a:pt x="169" y="437"/>
                  </a:cubicBezTo>
                  <a:cubicBezTo>
                    <a:pt x="59" y="399"/>
                    <a:pt x="0" y="280"/>
                    <a:pt x="37" y="169"/>
                  </a:cubicBezTo>
                  <a:cubicBezTo>
                    <a:pt x="75" y="59"/>
                    <a:pt x="195" y="0"/>
                    <a:pt x="305" y="38"/>
                  </a:cubicBezTo>
                  <a:cubicBezTo>
                    <a:pt x="415" y="75"/>
                    <a:pt x="474" y="195"/>
                    <a:pt x="437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70"/>
            <p:cNvSpPr/>
            <p:nvPr/>
          </p:nvSpPr>
          <p:spPr>
            <a:xfrm>
              <a:off x="7378560" y="3351240"/>
              <a:ext cx="807840" cy="80784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530" h="531">
                  <a:moveTo>
                    <a:pt x="488" y="341"/>
                  </a:moveTo>
                  <a:cubicBezTo>
                    <a:pt x="446" y="465"/>
                    <a:pt x="312" y="531"/>
                    <a:pt x="189" y="489"/>
                  </a:cubicBezTo>
                  <a:cubicBezTo>
                    <a:pt x="66" y="447"/>
                    <a:pt x="0" y="313"/>
                    <a:pt x="42" y="189"/>
                  </a:cubicBezTo>
                  <a:cubicBezTo>
                    <a:pt x="83" y="66"/>
                    <a:pt x="217" y="0"/>
                    <a:pt x="341" y="42"/>
                  </a:cubicBezTo>
                  <a:cubicBezTo>
                    <a:pt x="464" y="84"/>
                    <a:pt x="530" y="218"/>
                    <a:pt x="488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71"/>
            <p:cNvSpPr/>
            <p:nvPr/>
          </p:nvSpPr>
          <p:spPr>
            <a:xfrm>
              <a:off x="8110440" y="3565440"/>
              <a:ext cx="894960" cy="893520"/>
            </a:xfrm>
            <a:custGeom>
              <a:avLst/>
              <a:gdLst>
                <a:gd name="textAreaLeft" fmla="*/ 0 w 894960"/>
                <a:gd name="textAreaRight" fmla="*/ 895320 w 89496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87" h="587">
                  <a:moveTo>
                    <a:pt x="540" y="377"/>
                  </a:moveTo>
                  <a:cubicBezTo>
                    <a:pt x="494" y="514"/>
                    <a:pt x="346" y="587"/>
                    <a:pt x="210" y="540"/>
                  </a:cubicBezTo>
                  <a:cubicBezTo>
                    <a:pt x="73" y="494"/>
                    <a:pt x="0" y="346"/>
                    <a:pt x="47" y="210"/>
                  </a:cubicBezTo>
                  <a:cubicBezTo>
                    <a:pt x="93" y="73"/>
                    <a:pt x="241" y="0"/>
                    <a:pt x="377" y="47"/>
                  </a:cubicBezTo>
                  <a:cubicBezTo>
                    <a:pt x="514" y="93"/>
                    <a:pt x="587" y="241"/>
                    <a:pt x="540" y="37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72"/>
            <p:cNvSpPr/>
            <p:nvPr/>
          </p:nvSpPr>
          <p:spPr>
            <a:xfrm>
              <a:off x="8085240" y="6095880"/>
              <a:ext cx="950400" cy="758520"/>
            </a:xfrm>
            <a:custGeom>
              <a:avLst/>
              <a:gdLst>
                <a:gd name="textAreaLeft" fmla="*/ 0 w 950400"/>
                <a:gd name="textAreaRight" fmla="*/ 950760 w 95040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624" h="498">
                  <a:moveTo>
                    <a:pt x="395" y="50"/>
                  </a:moveTo>
                  <a:cubicBezTo>
                    <a:pt x="245" y="0"/>
                    <a:pt x="83" y="79"/>
                    <a:pt x="32" y="229"/>
                  </a:cubicBezTo>
                  <a:cubicBezTo>
                    <a:pt x="0" y="324"/>
                    <a:pt x="21" y="425"/>
                    <a:pt x="79" y="498"/>
                  </a:cubicBezTo>
                  <a:cubicBezTo>
                    <a:pt x="527" y="498"/>
                    <a:pt x="527" y="498"/>
                    <a:pt x="527" y="498"/>
                  </a:cubicBezTo>
                  <a:cubicBezTo>
                    <a:pt x="547" y="473"/>
                    <a:pt x="563" y="445"/>
                    <a:pt x="573" y="413"/>
                  </a:cubicBezTo>
                  <a:cubicBezTo>
                    <a:pt x="624" y="263"/>
                    <a:pt x="544" y="101"/>
                    <a:pt x="395" y="5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73"/>
            <p:cNvSpPr/>
            <p:nvPr/>
          </p:nvSpPr>
          <p:spPr>
            <a:xfrm>
              <a:off x="8319960" y="5322960"/>
              <a:ext cx="823680" cy="961560"/>
            </a:xfrm>
            <a:custGeom>
              <a:avLst/>
              <a:gdLst>
                <a:gd name="textAreaLeft" fmla="*/ 0 w 823680"/>
                <a:gd name="textAreaRight" fmla="*/ 824040 w 823680"/>
                <a:gd name="textAreaTop" fmla="*/ 0 h 961560"/>
                <a:gd name="textAreaBottom" fmla="*/ 961920 h 961560"/>
              </a:gdLst>
              <a:ahLst/>
              <a:rect l="textAreaLeft" t="textAreaTop" r="textAreaRight" b="textAreaBottom"/>
              <a:pathLst>
                <a:path w="541" h="631">
                  <a:moveTo>
                    <a:pt x="413" y="51"/>
                  </a:moveTo>
                  <a:cubicBezTo>
                    <a:pt x="264" y="0"/>
                    <a:pt x="101" y="80"/>
                    <a:pt x="50" y="229"/>
                  </a:cubicBezTo>
                  <a:cubicBezTo>
                    <a:pt x="0" y="379"/>
                    <a:pt x="80" y="541"/>
                    <a:pt x="229" y="592"/>
                  </a:cubicBezTo>
                  <a:cubicBezTo>
                    <a:pt x="344" y="631"/>
                    <a:pt x="468" y="592"/>
                    <a:pt x="541" y="504"/>
                  </a:cubicBezTo>
                  <a:cubicBezTo>
                    <a:pt x="541" y="139"/>
                    <a:pt x="541" y="139"/>
                    <a:pt x="541" y="139"/>
                  </a:cubicBezTo>
                  <a:cubicBezTo>
                    <a:pt x="508" y="100"/>
                    <a:pt x="465" y="69"/>
                    <a:pt x="413" y="5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74"/>
            <p:cNvSpPr/>
            <p:nvPr/>
          </p:nvSpPr>
          <p:spPr>
            <a:xfrm>
              <a:off x="3905280" y="6541920"/>
              <a:ext cx="507600" cy="31248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333" h="205">
                  <a:moveTo>
                    <a:pt x="214" y="29"/>
                  </a:moveTo>
                  <a:cubicBezTo>
                    <a:pt x="130" y="0"/>
                    <a:pt x="39" y="45"/>
                    <a:pt x="10" y="129"/>
                  </a:cubicBezTo>
                  <a:cubicBezTo>
                    <a:pt x="2" y="155"/>
                    <a:pt x="0" y="180"/>
                    <a:pt x="4" y="205"/>
                  </a:cubicBezTo>
                  <a:cubicBezTo>
                    <a:pt x="322" y="205"/>
                    <a:pt x="322" y="205"/>
                    <a:pt x="322" y="205"/>
                  </a:cubicBezTo>
                  <a:cubicBezTo>
                    <a:pt x="333" y="129"/>
                    <a:pt x="289" y="54"/>
                    <a:pt x="214" y="2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75"/>
            <p:cNvSpPr/>
            <p:nvPr/>
          </p:nvSpPr>
          <p:spPr>
            <a:xfrm>
              <a:off x="4751280" y="6775560"/>
              <a:ext cx="352080" cy="788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2" h="52">
                  <a:moveTo>
                    <a:pt x="0" y="52"/>
                  </a:moveTo>
                  <a:cubicBezTo>
                    <a:pt x="232" y="52"/>
                    <a:pt x="232" y="52"/>
                    <a:pt x="232" y="52"/>
                  </a:cubicBezTo>
                  <a:cubicBezTo>
                    <a:pt x="216" y="39"/>
                    <a:pt x="197" y="28"/>
                    <a:pt x="176" y="21"/>
                  </a:cubicBezTo>
                  <a:cubicBezTo>
                    <a:pt x="114" y="0"/>
                    <a:pt x="48" y="14"/>
                    <a:pt x="0" y="52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76"/>
            <p:cNvSpPr/>
            <p:nvPr/>
          </p:nvSpPr>
          <p:spPr>
            <a:xfrm>
              <a:off x="8582040" y="4576680"/>
              <a:ext cx="561600" cy="9061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906120"/>
                <a:gd name="textAreaBottom" fmla="*/ 906480 h 906120"/>
              </a:gdLst>
              <a:ahLst/>
              <a:rect l="textAreaLeft" t="textAreaTop" r="textAreaRight" b="textAreaBottom"/>
              <a:pathLst>
                <a:path w="369" h="595">
                  <a:moveTo>
                    <a:pt x="51" y="213"/>
                  </a:moveTo>
                  <a:cubicBezTo>
                    <a:pt x="0" y="362"/>
                    <a:pt x="80" y="525"/>
                    <a:pt x="229" y="576"/>
                  </a:cubicBezTo>
                  <a:cubicBezTo>
                    <a:pt x="276" y="591"/>
                    <a:pt x="324" y="595"/>
                    <a:pt x="369" y="587"/>
                  </a:cubicBezTo>
                  <a:cubicBezTo>
                    <a:pt x="369" y="23"/>
                    <a:pt x="369" y="23"/>
                    <a:pt x="369" y="23"/>
                  </a:cubicBezTo>
                  <a:cubicBezTo>
                    <a:pt x="233" y="0"/>
                    <a:pt x="96" y="78"/>
                    <a:pt x="51" y="21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77"/>
            <p:cNvSpPr/>
            <p:nvPr/>
          </p:nvSpPr>
          <p:spPr>
            <a:xfrm>
              <a:off x="8929800" y="6488280"/>
              <a:ext cx="213840" cy="3664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1" h="241">
                  <a:moveTo>
                    <a:pt x="141" y="0"/>
                  </a:moveTo>
                  <a:cubicBezTo>
                    <a:pt x="84" y="33"/>
                    <a:pt x="38" y="87"/>
                    <a:pt x="15" y="154"/>
                  </a:cubicBezTo>
                  <a:cubicBezTo>
                    <a:pt x="5" y="183"/>
                    <a:pt x="0" y="212"/>
                    <a:pt x="0" y="241"/>
                  </a:cubicBezTo>
                  <a:cubicBezTo>
                    <a:pt x="141" y="241"/>
                    <a:pt x="141" y="241"/>
                    <a:pt x="141" y="241"/>
                  </a:cubicBezTo>
                  <a:lnTo>
                    <a:pt x="141" y="0"/>
                  </a:ln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78"/>
            <p:cNvSpPr/>
            <p:nvPr/>
          </p:nvSpPr>
          <p:spPr>
            <a:xfrm>
              <a:off x="5605560" y="6222960"/>
              <a:ext cx="712440" cy="6314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468" h="415">
                  <a:moveTo>
                    <a:pt x="431" y="305"/>
                  </a:moveTo>
                  <a:cubicBezTo>
                    <a:pt x="468" y="195"/>
                    <a:pt x="410" y="75"/>
                    <a:pt x="299" y="37"/>
                  </a:cubicBezTo>
                  <a:cubicBezTo>
                    <a:pt x="189" y="0"/>
                    <a:pt x="69" y="59"/>
                    <a:pt x="32" y="169"/>
                  </a:cubicBezTo>
                  <a:cubicBezTo>
                    <a:pt x="0" y="263"/>
                    <a:pt x="38" y="364"/>
                    <a:pt x="119" y="415"/>
                  </a:cubicBezTo>
                  <a:cubicBezTo>
                    <a:pt x="344" y="415"/>
                    <a:pt x="344" y="415"/>
                    <a:pt x="344" y="415"/>
                  </a:cubicBezTo>
                  <a:cubicBezTo>
                    <a:pt x="384" y="390"/>
                    <a:pt x="415" y="352"/>
                    <a:pt x="431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79"/>
            <p:cNvSpPr/>
            <p:nvPr/>
          </p:nvSpPr>
          <p:spPr>
            <a:xfrm>
              <a:off x="6372360" y="6437160"/>
              <a:ext cx="726840" cy="41724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477" h="274">
                  <a:moveTo>
                    <a:pt x="313" y="42"/>
                  </a:moveTo>
                  <a:cubicBezTo>
                    <a:pt x="190" y="0"/>
                    <a:pt x="56" y="66"/>
                    <a:pt x="14" y="189"/>
                  </a:cubicBezTo>
                  <a:cubicBezTo>
                    <a:pt x="4" y="217"/>
                    <a:pt x="0" y="246"/>
                    <a:pt x="2" y="274"/>
                  </a:cubicBezTo>
                  <a:cubicBezTo>
                    <a:pt x="473" y="274"/>
                    <a:pt x="473" y="274"/>
                    <a:pt x="473" y="274"/>
                  </a:cubicBezTo>
                  <a:cubicBezTo>
                    <a:pt x="477" y="172"/>
                    <a:pt x="414" y="76"/>
                    <a:pt x="313" y="42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0"/>
            <p:cNvSpPr/>
            <p:nvPr/>
          </p:nvSpPr>
          <p:spPr>
            <a:xfrm>
              <a:off x="7194600" y="6667560"/>
              <a:ext cx="628200" cy="18684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412" h="123">
                  <a:moveTo>
                    <a:pt x="290" y="36"/>
                  </a:moveTo>
                  <a:cubicBezTo>
                    <a:pt x="182" y="0"/>
                    <a:pt x="66" y="38"/>
                    <a:pt x="0" y="123"/>
                  </a:cubicBezTo>
                  <a:cubicBezTo>
                    <a:pt x="412" y="123"/>
                    <a:pt x="412" y="123"/>
                    <a:pt x="412" y="123"/>
                  </a:cubicBezTo>
                  <a:cubicBezTo>
                    <a:pt x="381" y="84"/>
                    <a:pt x="340" y="53"/>
                    <a:pt x="290" y="3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81"/>
            <p:cNvSpPr/>
            <p:nvPr/>
          </p:nvSpPr>
          <p:spPr>
            <a:xfrm>
              <a:off x="8850240" y="3878280"/>
              <a:ext cx="293400" cy="7837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93" h="515">
                  <a:moveTo>
                    <a:pt x="47" y="166"/>
                  </a:moveTo>
                  <a:cubicBezTo>
                    <a:pt x="0" y="304"/>
                    <a:pt x="65" y="453"/>
                    <a:pt x="193" y="515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26" y="32"/>
                    <a:pt x="72" y="90"/>
                    <a:pt x="47" y="16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82"/>
            <p:cNvSpPr/>
            <p:nvPr/>
          </p:nvSpPr>
          <p:spPr>
            <a:xfrm>
              <a:off x="8372520" y="2793960"/>
              <a:ext cx="771120" cy="880560"/>
            </a:xfrm>
            <a:custGeom>
              <a:avLst/>
              <a:gdLst>
                <a:gd name="textAreaLeft" fmla="*/ 0 w 771120"/>
                <a:gd name="textAreaRight" fmla="*/ 771480 w 77112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506" h="578">
                  <a:moveTo>
                    <a:pt x="378" y="46"/>
                  </a:moveTo>
                  <a:cubicBezTo>
                    <a:pt x="241" y="0"/>
                    <a:pt x="93" y="73"/>
                    <a:pt x="47" y="209"/>
                  </a:cubicBezTo>
                  <a:cubicBezTo>
                    <a:pt x="0" y="345"/>
                    <a:pt x="73" y="494"/>
                    <a:pt x="210" y="540"/>
                  </a:cubicBezTo>
                  <a:cubicBezTo>
                    <a:pt x="321" y="578"/>
                    <a:pt x="441" y="536"/>
                    <a:pt x="506" y="444"/>
                  </a:cubicBezTo>
                  <a:cubicBezTo>
                    <a:pt x="506" y="142"/>
                    <a:pt x="506" y="142"/>
                    <a:pt x="506" y="142"/>
                  </a:cubicBezTo>
                  <a:cubicBezTo>
                    <a:pt x="475" y="99"/>
                    <a:pt x="431" y="64"/>
                    <a:pt x="378" y="4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83"/>
            <p:cNvSpPr/>
            <p:nvPr/>
          </p:nvSpPr>
          <p:spPr>
            <a:xfrm>
              <a:off x="8636040" y="2048040"/>
              <a:ext cx="507600" cy="82368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823680"/>
                <a:gd name="textAreaBottom" fmla="*/ 824040 h 823680"/>
              </a:gdLst>
              <a:ahLst/>
              <a:rect l="textAreaLeft" t="textAreaTop" r="textAreaRight" b="textAreaBottom"/>
              <a:pathLst>
                <a:path w="333" h="541">
                  <a:moveTo>
                    <a:pt x="46" y="193"/>
                  </a:moveTo>
                  <a:cubicBezTo>
                    <a:pt x="0" y="329"/>
                    <a:pt x="73" y="477"/>
                    <a:pt x="209" y="524"/>
                  </a:cubicBezTo>
                  <a:cubicBezTo>
                    <a:pt x="250" y="538"/>
                    <a:pt x="293" y="541"/>
                    <a:pt x="333" y="534"/>
                  </a:cubicBezTo>
                  <a:cubicBezTo>
                    <a:pt x="333" y="19"/>
                    <a:pt x="333" y="19"/>
                    <a:pt x="333" y="19"/>
                  </a:cubicBezTo>
                  <a:cubicBezTo>
                    <a:pt x="210" y="0"/>
                    <a:pt x="87" y="71"/>
                    <a:pt x="46" y="19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84"/>
            <p:cNvSpPr/>
            <p:nvPr/>
          </p:nvSpPr>
          <p:spPr>
            <a:xfrm>
              <a:off x="8907480" y="1353960"/>
              <a:ext cx="236160" cy="6854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55" h="450">
                  <a:moveTo>
                    <a:pt x="40" y="141"/>
                  </a:moveTo>
                  <a:cubicBezTo>
                    <a:pt x="0" y="261"/>
                    <a:pt x="50" y="389"/>
                    <a:pt x="155" y="45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03" y="31"/>
                    <a:pt x="61" y="80"/>
                    <a:pt x="40" y="1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85"/>
            <p:cNvSpPr/>
            <p:nvPr/>
          </p:nvSpPr>
          <p:spPr>
            <a:xfrm>
              <a:off x="8427960" y="264960"/>
              <a:ext cx="715680" cy="79992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470" h="525">
                  <a:moveTo>
                    <a:pt x="341" y="41"/>
                  </a:moveTo>
                  <a:cubicBezTo>
                    <a:pt x="218" y="0"/>
                    <a:pt x="84" y="66"/>
                    <a:pt x="42" y="189"/>
                  </a:cubicBezTo>
                  <a:cubicBezTo>
                    <a:pt x="0" y="312"/>
                    <a:pt x="66" y="446"/>
                    <a:pt x="190" y="488"/>
                  </a:cubicBezTo>
                  <a:cubicBezTo>
                    <a:pt x="298" y="525"/>
                    <a:pt x="415" y="478"/>
                    <a:pt x="470" y="382"/>
                  </a:cubicBezTo>
                  <a:cubicBezTo>
                    <a:pt x="470" y="148"/>
                    <a:pt x="470" y="148"/>
                    <a:pt x="470" y="148"/>
                  </a:cubicBezTo>
                  <a:cubicBezTo>
                    <a:pt x="442" y="99"/>
                    <a:pt x="398" y="61"/>
                    <a:pt x="341" y="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86"/>
            <p:cNvSpPr/>
            <p:nvPr/>
          </p:nvSpPr>
          <p:spPr>
            <a:xfrm>
              <a:off x="8747280" y="-1440"/>
              <a:ext cx="396360" cy="26640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60" h="175">
                  <a:moveTo>
                    <a:pt x="0" y="0"/>
                  </a:moveTo>
                  <a:cubicBezTo>
                    <a:pt x="20" y="72"/>
                    <a:pt x="74" y="133"/>
                    <a:pt x="151" y="159"/>
                  </a:cubicBezTo>
                  <a:cubicBezTo>
                    <a:pt x="187" y="172"/>
                    <a:pt x="224" y="175"/>
                    <a:pt x="260" y="170"/>
                  </a:cubicBezTo>
                  <a:cubicBezTo>
                    <a:pt x="260" y="0"/>
                    <a:pt x="260" y="0"/>
                    <a:pt x="26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87"/>
            <p:cNvSpPr/>
            <p:nvPr/>
          </p:nvSpPr>
          <p:spPr>
            <a:xfrm>
              <a:off x="6962760" y="-1440"/>
              <a:ext cx="615600" cy="472680"/>
            </a:xfrm>
            <a:custGeom>
              <a:avLst/>
              <a:gdLst>
                <a:gd name="textAreaLeft" fmla="*/ 0 w 615600"/>
                <a:gd name="textAreaRight" fmla="*/ 615960 w 6156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404" h="310">
                  <a:moveTo>
                    <a:pt x="149" y="277"/>
                  </a:moveTo>
                  <a:cubicBezTo>
                    <a:pt x="246" y="310"/>
                    <a:pt x="352" y="258"/>
                    <a:pt x="385" y="161"/>
                  </a:cubicBezTo>
                  <a:cubicBezTo>
                    <a:pt x="404" y="105"/>
                    <a:pt x="395" y="46"/>
                    <a:pt x="365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5" y="13"/>
                    <a:pt x="38" y="27"/>
                    <a:pt x="33" y="42"/>
                  </a:cubicBezTo>
                  <a:cubicBezTo>
                    <a:pt x="0" y="139"/>
                    <a:pt x="52" y="244"/>
                    <a:pt x="149" y="27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88"/>
            <p:cNvSpPr/>
            <p:nvPr/>
          </p:nvSpPr>
          <p:spPr>
            <a:xfrm>
              <a:off x="6283440" y="-1440"/>
              <a:ext cx="445680" cy="1695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92" h="111">
                  <a:moveTo>
                    <a:pt x="94" y="85"/>
                  </a:moveTo>
                  <a:cubicBezTo>
                    <a:pt x="173" y="111"/>
                    <a:pt x="258" y="74"/>
                    <a:pt x="29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38"/>
                    <a:pt x="51" y="70"/>
                    <a:pt x="94" y="8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89"/>
            <p:cNvSpPr/>
            <p:nvPr/>
          </p:nvSpPr>
          <p:spPr>
            <a:xfrm>
              <a:off x="4503600" y="-1440"/>
              <a:ext cx="377640" cy="34272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48" h="225">
                  <a:moveTo>
                    <a:pt x="20" y="65"/>
                  </a:moveTo>
                  <a:cubicBezTo>
                    <a:pt x="0" y="123"/>
                    <a:pt x="31" y="186"/>
                    <a:pt x="89" y="206"/>
                  </a:cubicBezTo>
                  <a:cubicBezTo>
                    <a:pt x="147" y="225"/>
                    <a:pt x="210" y="194"/>
                    <a:pt x="230" y="136"/>
                  </a:cubicBezTo>
                  <a:cubicBezTo>
                    <a:pt x="248" y="82"/>
                    <a:pt x="222" y="23"/>
                    <a:pt x="171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52" y="12"/>
                    <a:pt x="30" y="35"/>
                    <a:pt x="20" y="6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90"/>
            <p:cNvSpPr/>
            <p:nvPr/>
          </p:nvSpPr>
          <p:spPr>
            <a:xfrm>
              <a:off x="3840120" y="-1440"/>
              <a:ext cx="158400" cy="331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04" h="22">
                  <a:moveTo>
                    <a:pt x="10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5"/>
                    <a:pt x="15" y="10"/>
                    <a:pt x="24" y="13"/>
                  </a:cubicBezTo>
                  <a:cubicBezTo>
                    <a:pt x="52" y="22"/>
                    <a:pt x="82" y="17"/>
                    <a:pt x="104" y="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Rechteck 95"/>
          <p:cNvSpPr/>
          <p:nvPr/>
        </p:nvSpPr>
        <p:spPr>
          <a:xfrm>
            <a:off x="0" y="0"/>
            <a:ext cx="9143640" cy="3901680"/>
          </a:xfrm>
          <a:prstGeom prst="rect">
            <a:avLst/>
          </a:prstGeom>
          <a:gradFill rotWithShape="0">
            <a:gsLst>
              <a:gs pos="0">
                <a:srgbClr val="003794"/>
              </a:gs>
              <a:gs pos="100000">
                <a:srgbClr val="2a79ff">
                  <a:alpha val="0"/>
                </a:srgbClr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hteck 79"/>
          <p:cNvSpPr/>
          <p:nvPr/>
        </p:nvSpPr>
        <p:spPr>
          <a:xfrm>
            <a:off x="7148520" y="32220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itel 1"/>
          <p:cNvSpPr/>
          <p:nvPr/>
        </p:nvSpPr>
        <p:spPr>
          <a:xfrm>
            <a:off x="647640" y="322200"/>
            <a:ext cx="81766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Untertitel 2"/>
          <p:cNvSpPr/>
          <p:nvPr/>
        </p:nvSpPr>
        <p:spPr>
          <a:xfrm>
            <a:off x="647640" y="2224080"/>
            <a:ext cx="8176680" cy="167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uppieren 6"/>
          <p:cNvGrpSpPr/>
          <p:nvPr/>
        </p:nvGrpSpPr>
        <p:grpSpPr>
          <a:xfrm>
            <a:off x="-360" y="-9360"/>
            <a:ext cx="9144000" cy="6867000"/>
            <a:chOff x="-360" y="-9360"/>
            <a:chExt cx="9144000" cy="6867000"/>
          </a:xfrm>
        </p:grpSpPr>
        <p:pic>
          <p:nvPicPr>
            <p:cNvPr id="338" name="Picture 10" descr="\\NAS\CH_Produktion\05_Vorlagen_und_Designs\zur_Veröffentlichung\Nach Thema\Büro - Einrichtung\T0182.jpg"/>
            <p:cNvPicPr/>
            <p:nvPr/>
          </p:nvPicPr>
          <p:blipFill>
            <a:blip r:embed="rId1"/>
            <a:stretch/>
          </p:blipFill>
          <p:spPr>
            <a:xfrm>
              <a:off x="0" y="-9360"/>
              <a:ext cx="9143640" cy="457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39" name="Rechteck 8"/>
            <p:cNvSpPr/>
            <p:nvPr/>
          </p:nvSpPr>
          <p:spPr>
            <a:xfrm flipH="1">
              <a:off x="-720" y="4563000"/>
              <a:ext cx="9143640" cy="2294640"/>
            </a:xfrm>
            <a:prstGeom prst="rect">
              <a:avLst/>
            </a:prstGeom>
            <a:gradFill rotWithShape="0">
              <a:gsLst>
                <a:gs pos="3600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0" name="Rechteck 9"/>
            <p:cNvSpPr/>
            <p:nvPr/>
          </p:nvSpPr>
          <p:spPr>
            <a:xfrm flipH="1" flipV="1" rot="10800000">
              <a:off x="-360" y="4383000"/>
              <a:ext cx="9143640" cy="178920"/>
            </a:xfrm>
            <a:prstGeom prst="rect">
              <a:avLst/>
            </a:prstGeom>
            <a:solidFill>
              <a:schemeClr val="accent1">
                <a:lumMod val="75000"/>
                <a:alpha val="70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Rechteck 5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01x">
  <a:themeElements>
    <a:clrScheme name="Standard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2a79ff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74747"/>
      </a:accent6>
      <a:hlink>
        <a:srgbClr val="c00000"/>
      </a:hlink>
      <a:folHlink>
        <a:srgbClr val="ffc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01x">
  <a:themeElements>
    <a:clrScheme name="Standard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2a79ff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74747"/>
      </a:accent6>
      <a:hlink>
        <a:srgbClr val="c00000"/>
      </a:hlink>
      <a:folHlink>
        <a:srgbClr val="ffc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01x">
  <a:themeElements>
    <a:clrScheme name="Standard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2a79ff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74747"/>
      </a:accent6>
      <a:hlink>
        <a:srgbClr val="c00000"/>
      </a:hlink>
      <a:folHlink>
        <a:srgbClr val="ffc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01x">
  <a:themeElements>
    <a:clrScheme name="Standard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2a79ff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74747"/>
      </a:accent6>
      <a:hlink>
        <a:srgbClr val="c00000"/>
      </a:hlink>
      <a:folHlink>
        <a:srgbClr val="ffc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8f8f8"/>
      </a:lt2>
      <a:accent1>
        <a:srgbClr val="2a79ff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74747"/>
      </a:accent6>
      <a:hlink>
        <a:srgbClr val="c00000"/>
      </a:hlink>
      <a:folHlink>
        <a:srgbClr val="ffc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</Template>
  <TotalTime>7</TotalTime>
  <Application>LibreOffice/7.4.7.2$Linux_X86_64 LibreOffice_project/40$Build-2</Application>
  <AppVersion>15.0000</AppVersion>
  <Words>398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7:08:27Z</dcterms:created>
  <dc:creator>Windows User</dc:creator>
  <dc:description/>
  <dc:language>en-US</dc:language>
  <cp:lastModifiedBy>yu wang</cp:lastModifiedBy>
  <dcterms:modified xsi:type="dcterms:W3CDTF">2015-08-12T14:54:25Z</dcterms:modified>
  <cp:revision>6</cp:revision>
  <dc:subject/>
  <dc:title>Divided 3D Cube 3x3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5</vt:r8>
  </property>
</Properties>
</file>