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1C0-1824-4018-B0F0-79E9303B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9F8-D0A3-428F-8472-8E8CC21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7A4-4C2B-44AB-8553-6A9DB6FE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C16-1365-4302-8DFB-B60E2620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1324-C5C7-4BA4-B403-0FB3C618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6C2D-D37C-4DBF-B29E-C3BC3400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D128-4C2E-4998-8ECF-294B11D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131E-FFA2-471D-972A-40A7922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795-260E-4FC1-810D-AECCD1CF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1B5-087D-4283-AD74-AC36749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AA90-0508-4B84-B5D0-8B5F4ED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D37-9853-4E7C-A093-5E6B079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79F6-D126-4020-A27D-F3C6E66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06A5-A2CA-4BF6-A6B1-854125F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3B4-FEE2-46A1-9653-980D39B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8EED-0575-4AD8-9B05-E6855051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4B8-2B18-47D4-9372-2162FEBD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B74-3317-44FD-88F1-D4BC196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C75-7288-4036-9D96-E386EBDC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29D-2AD8-41A3-8E3C-4496183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57F-1E9B-43A0-BA3D-BBEAC4E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A8E-2C2E-48A8-A39A-F4EEC6E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F9B-5B1C-499F-B0D7-82E22BC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AD4-99BC-4EE0-B813-7D2CACEB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10D627-3BC8-4AC9-9D77-137CA72E759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83C20-E420-4C19-BF1F-16AC5BF05A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12"/>
          <p:cNvSpPr/>
          <p:nvPr/>
        </p:nvSpPr>
        <p:spPr>
          <a:xfrm>
            <a:off x="0" y="3467160"/>
            <a:ext cx="12304080" cy="3455640"/>
          </a:xfrm>
          <a:custGeom>
            <a:avLst/>
            <a:gdLst>
              <a:gd name="textAreaLeft" fmla="*/ 0 w 12304080"/>
              <a:gd name="textAreaRight" fmla="*/ 12304440 w 12304080"/>
              <a:gd name="textAreaTop" fmla="*/ 0 h 3455640"/>
              <a:gd name="textAreaBottom" fmla="*/ 3456000 h 3455640"/>
            </a:gdLst>
            <a:ahLst/>
            <a:rect l="textAreaLeft" t="textAreaTop" r="textAreaRight" b="textAreaBottom"/>
            <a:pathLst>
              <a:path w="12304616" h="3455907">
                <a:moveTo>
                  <a:pt x="0" y="0"/>
                </a:moveTo>
                <a:lnTo>
                  <a:pt x="6152308" y="1631879"/>
                </a:lnTo>
                <a:lnTo>
                  <a:pt x="12304616" y="0"/>
                </a:lnTo>
                <a:lnTo>
                  <a:pt x="12304616" y="3455907"/>
                </a:lnTo>
                <a:lnTo>
                  <a:pt x="0" y="3455907"/>
                </a:lnTo>
                <a:lnTo>
                  <a:pt x="0" y="0"/>
                </a:lnTo>
                <a:close/>
              </a:path>
            </a:pathLst>
          </a:custGeom>
          <a:solidFill>
            <a:schemeClr val="accent5">
              <a:lumMod val="50000"/>
              <a:alpha val="1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任意多边形 25"/>
          <p:cNvSpPr/>
          <p:nvPr/>
        </p:nvSpPr>
        <p:spPr>
          <a:xfrm rot="16200000">
            <a:off x="3943800" y="905760"/>
            <a:ext cx="2828880" cy="101772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任意多边形 26"/>
          <p:cNvSpPr/>
          <p:nvPr/>
        </p:nvSpPr>
        <p:spPr>
          <a:xfrm rot="16200000">
            <a:off x="3260520" y="748440"/>
            <a:ext cx="2336400" cy="840240"/>
          </a:xfrm>
          <a:custGeom>
            <a:avLst/>
            <a:gdLst>
              <a:gd name="textAreaLeft" fmla="*/ 0 w 2336400"/>
              <a:gd name="textAreaRight" fmla="*/ 2336760 w 2336400"/>
              <a:gd name="textAreaTop" fmla="*/ 0 h 840240"/>
              <a:gd name="textAreaBottom" fmla="*/ 840600 h 84024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rgbClr val="fdf3b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任意多边形 27"/>
          <p:cNvSpPr/>
          <p:nvPr/>
        </p:nvSpPr>
        <p:spPr>
          <a:xfrm flipH="1" rot="5400000">
            <a:off x="4966200" y="655200"/>
            <a:ext cx="2828880" cy="1026720"/>
          </a:xfrm>
          <a:custGeom>
            <a:avLst/>
            <a:gdLst>
              <a:gd name="textAreaLeft" fmla="*/ 360 w 2828880"/>
              <a:gd name="textAreaRight" fmla="*/ 2829600 w 2828880"/>
              <a:gd name="textAreaTop" fmla="*/ 0 h 1026720"/>
              <a:gd name="textAreaBottom" fmla="*/ 1027080 h 102672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任意多边形 28"/>
          <p:cNvSpPr/>
          <p:nvPr/>
        </p:nvSpPr>
        <p:spPr>
          <a:xfrm flipH="1" rot="5400000">
            <a:off x="6149160" y="498240"/>
            <a:ext cx="2336400" cy="847800"/>
          </a:xfrm>
          <a:custGeom>
            <a:avLst/>
            <a:gdLst>
              <a:gd name="textAreaLeft" fmla="*/ 360 w 2336400"/>
              <a:gd name="textAreaRight" fmla="*/ 2337120 w 23364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rgbClr val="fdf3b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文本框 30"/>
          <p:cNvSpPr/>
          <p:nvPr/>
        </p:nvSpPr>
        <p:spPr>
          <a:xfrm>
            <a:off x="401220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1"/>
          <p:cNvSpPr/>
          <p:nvPr/>
        </p:nvSpPr>
        <p:spPr>
          <a:xfrm>
            <a:off x="493812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2"/>
          <p:cNvSpPr/>
          <p:nvPr/>
        </p:nvSpPr>
        <p:spPr>
          <a:xfrm>
            <a:off x="595620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3"/>
          <p:cNvSpPr/>
          <p:nvPr/>
        </p:nvSpPr>
        <p:spPr>
          <a:xfrm>
            <a:off x="6913440" y="42696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5"/>
          <p:cNvSpPr/>
          <p:nvPr/>
        </p:nvSpPr>
        <p:spPr>
          <a:xfrm>
            <a:off x="2808720" y="4641120"/>
            <a:ext cx="589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约清新扁平化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690120" y="-707040"/>
            <a:ext cx="1362600" cy="2049480"/>
            <a:chOff x="690120" y="-707040"/>
            <a:chExt cx="1362600" cy="2049480"/>
          </a:xfrm>
        </p:grpSpPr>
        <p:sp>
          <p:nvSpPr>
            <p:cNvPr id="96" name="任意多边形 25"/>
            <p:cNvSpPr/>
            <p:nvPr/>
          </p:nvSpPr>
          <p:spPr>
            <a:xfrm rot="16200000">
              <a:off x="86400" y="60840"/>
              <a:ext cx="1885320" cy="677880"/>
            </a:xfrm>
            <a:custGeom>
              <a:avLst/>
              <a:gdLst>
                <a:gd name="textAreaLeft" fmla="*/ 0 w 1885320"/>
                <a:gd name="textAreaRight" fmla="*/ 1885680 w 18853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任意多边形 27"/>
            <p:cNvSpPr/>
            <p:nvPr/>
          </p:nvSpPr>
          <p:spPr>
            <a:xfrm flipH="1" rot="5400000">
              <a:off x="767880" y="-106200"/>
              <a:ext cx="1885320" cy="684000"/>
            </a:xfrm>
            <a:custGeom>
              <a:avLst/>
              <a:gdLst>
                <a:gd name="textAreaLeft" fmla="*/ -360 w 1885320"/>
                <a:gd name="textAreaRight" fmla="*/ 1885320 w 18853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8" name="文本框 5"/>
          <p:cNvSpPr/>
          <p:nvPr/>
        </p:nvSpPr>
        <p:spPr>
          <a:xfrm>
            <a:off x="787680" y="-5760"/>
            <a:ext cx="6152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24"/>
          <p:cNvGrpSpPr/>
          <p:nvPr/>
        </p:nvGrpSpPr>
        <p:grpSpPr>
          <a:xfrm>
            <a:off x="9388080" y="5657760"/>
            <a:ext cx="2529360" cy="3803400"/>
            <a:chOff x="9388080" y="5657760"/>
            <a:chExt cx="2529360" cy="3803400"/>
          </a:xfrm>
        </p:grpSpPr>
        <p:sp>
          <p:nvSpPr>
            <p:cNvPr id="100" name="任意多边形 29"/>
            <p:cNvSpPr/>
            <p:nvPr/>
          </p:nvSpPr>
          <p:spPr>
            <a:xfrm rot="5400000">
              <a:off x="9538560" y="6777720"/>
              <a:ext cx="3498840" cy="1258560"/>
            </a:xfrm>
            <a:custGeom>
              <a:avLst/>
              <a:gdLst>
                <a:gd name="textAreaLeft" fmla="*/ 0 w 3498840"/>
                <a:gd name="textAreaRight" fmla="*/ 3499200 w 3498840"/>
                <a:gd name="textAreaTop" fmla="*/ 0 h 1258560"/>
                <a:gd name="textAreaBottom" fmla="*/ 1258920 h 125856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任意多边形 34"/>
            <p:cNvSpPr/>
            <p:nvPr/>
          </p:nvSpPr>
          <p:spPr>
            <a:xfrm flipH="1" rot="16200000">
              <a:off x="8273160" y="7076880"/>
              <a:ext cx="3498840" cy="1269720"/>
            </a:xfrm>
            <a:custGeom>
              <a:avLst/>
              <a:gdLst>
                <a:gd name="textAreaLeft" fmla="*/ -360 w 3498840"/>
                <a:gd name="textAreaRight" fmla="*/ 3498840 w 34988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" name="矩形 7"/>
          <p:cNvSpPr/>
          <p:nvPr/>
        </p:nvSpPr>
        <p:spPr>
          <a:xfrm>
            <a:off x="1368720" y="1342440"/>
            <a:ext cx="9289440" cy="4314960"/>
          </a:xfrm>
          <a:prstGeom prst="rect">
            <a:avLst/>
          </a:prstGeom>
          <a:solidFill>
            <a:schemeClr val="bg1">
              <a:alpha val="3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剪去对角的矩形 8"/>
          <p:cNvSpPr/>
          <p:nvPr/>
        </p:nvSpPr>
        <p:spPr>
          <a:xfrm>
            <a:off x="1368720" y="1342440"/>
            <a:ext cx="9289440" cy="431496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" name="组合 11"/>
          <p:cNvGrpSpPr/>
          <p:nvPr/>
        </p:nvGrpSpPr>
        <p:grpSpPr>
          <a:xfrm>
            <a:off x="2248200" y="1771200"/>
            <a:ext cx="633240" cy="616680"/>
            <a:chOff x="2248200" y="1771200"/>
            <a:chExt cx="633240" cy="616680"/>
          </a:xfrm>
        </p:grpSpPr>
        <p:sp>
          <p:nvSpPr>
            <p:cNvPr id="105" name="任意多边形 40"/>
            <p:cNvSpPr/>
            <p:nvPr/>
          </p:nvSpPr>
          <p:spPr>
            <a:xfrm rot="1981200">
              <a:off x="2541960" y="194616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任意多边形 37"/>
            <p:cNvSpPr/>
            <p:nvPr/>
          </p:nvSpPr>
          <p:spPr>
            <a:xfrm rot="1981200">
              <a:off x="2345040" y="180108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7" name="剪去单角的矩形 13"/>
          <p:cNvSpPr/>
          <p:nvPr/>
        </p:nvSpPr>
        <p:spPr>
          <a:xfrm>
            <a:off x="2881440" y="184140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8" name="组合 56"/>
          <p:cNvGrpSpPr/>
          <p:nvPr/>
        </p:nvGrpSpPr>
        <p:grpSpPr>
          <a:xfrm>
            <a:off x="2248200" y="2659320"/>
            <a:ext cx="633240" cy="616680"/>
            <a:chOff x="2248200" y="2659320"/>
            <a:chExt cx="633240" cy="616680"/>
          </a:xfrm>
        </p:grpSpPr>
        <p:sp>
          <p:nvSpPr>
            <p:cNvPr id="109" name="任意多边形 57"/>
            <p:cNvSpPr/>
            <p:nvPr/>
          </p:nvSpPr>
          <p:spPr>
            <a:xfrm rot="1981200">
              <a:off x="2541960" y="283428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任意多边形 58"/>
            <p:cNvSpPr/>
            <p:nvPr/>
          </p:nvSpPr>
          <p:spPr>
            <a:xfrm rot="1981200">
              <a:off x="2345040" y="268920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剪去单角的矩形 59"/>
          <p:cNvSpPr/>
          <p:nvPr/>
        </p:nvSpPr>
        <p:spPr>
          <a:xfrm>
            <a:off x="2881440" y="272952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2" name="组合 60"/>
          <p:cNvGrpSpPr/>
          <p:nvPr/>
        </p:nvGrpSpPr>
        <p:grpSpPr>
          <a:xfrm>
            <a:off x="2248200" y="3547440"/>
            <a:ext cx="633240" cy="616680"/>
            <a:chOff x="2248200" y="3547440"/>
            <a:chExt cx="633240" cy="616680"/>
          </a:xfrm>
        </p:grpSpPr>
        <p:sp>
          <p:nvSpPr>
            <p:cNvPr id="113" name="任意多边形 61"/>
            <p:cNvSpPr/>
            <p:nvPr/>
          </p:nvSpPr>
          <p:spPr>
            <a:xfrm rot="1981200">
              <a:off x="2541960" y="372240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任意多边形 62"/>
            <p:cNvSpPr/>
            <p:nvPr/>
          </p:nvSpPr>
          <p:spPr>
            <a:xfrm rot="1981200">
              <a:off x="2345040" y="357732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剪去单角的矩形 63"/>
          <p:cNvSpPr/>
          <p:nvPr/>
        </p:nvSpPr>
        <p:spPr>
          <a:xfrm>
            <a:off x="2881440" y="361764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6" name="组合 64"/>
          <p:cNvGrpSpPr/>
          <p:nvPr/>
        </p:nvGrpSpPr>
        <p:grpSpPr>
          <a:xfrm>
            <a:off x="2248200" y="4435560"/>
            <a:ext cx="633240" cy="616680"/>
            <a:chOff x="2248200" y="4435560"/>
            <a:chExt cx="633240" cy="616680"/>
          </a:xfrm>
        </p:grpSpPr>
        <p:sp>
          <p:nvSpPr>
            <p:cNvPr id="117" name="任意多边形 65"/>
            <p:cNvSpPr/>
            <p:nvPr/>
          </p:nvSpPr>
          <p:spPr>
            <a:xfrm rot="1981200">
              <a:off x="2541960" y="461052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任意多边形 66"/>
            <p:cNvSpPr/>
            <p:nvPr/>
          </p:nvSpPr>
          <p:spPr>
            <a:xfrm rot="1981200">
              <a:off x="2345040" y="446544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9" name="剪去单角的矩形 67"/>
          <p:cNvSpPr/>
          <p:nvPr/>
        </p:nvSpPr>
        <p:spPr>
          <a:xfrm>
            <a:off x="2881440" y="450576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剪去对角的矩形 8"/>
          <p:cNvSpPr/>
          <p:nvPr/>
        </p:nvSpPr>
        <p:spPr>
          <a:xfrm>
            <a:off x="0" y="0"/>
            <a:ext cx="12191760" cy="661752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1" name="组合 11"/>
          <p:cNvGrpSpPr/>
          <p:nvPr/>
        </p:nvGrpSpPr>
        <p:grpSpPr>
          <a:xfrm>
            <a:off x="9568080" y="4928760"/>
            <a:ext cx="3061800" cy="2980440"/>
            <a:chOff x="9568080" y="4928760"/>
            <a:chExt cx="3061800" cy="2980440"/>
          </a:xfrm>
        </p:grpSpPr>
        <p:sp>
          <p:nvSpPr>
            <p:cNvPr id="122" name="任意多边形 40"/>
            <p:cNvSpPr/>
            <p:nvPr/>
          </p:nvSpPr>
          <p:spPr>
            <a:xfrm rot="1981200">
              <a:off x="10989000" y="5775120"/>
              <a:ext cx="1202760" cy="1964880"/>
            </a:xfrm>
            <a:custGeom>
              <a:avLst/>
              <a:gdLst>
                <a:gd name="textAreaLeft" fmla="*/ 0 w 1202760"/>
                <a:gd name="textAreaRight" fmla="*/ 1203120 w 1202760"/>
                <a:gd name="textAreaTop" fmla="*/ 0 h 1964880"/>
                <a:gd name="textAreaBottom" fmla="*/ 1965240 h 196488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任意多边形 37"/>
            <p:cNvSpPr/>
            <p:nvPr/>
          </p:nvSpPr>
          <p:spPr>
            <a:xfrm rot="1981200">
              <a:off x="10037880" y="5074560"/>
              <a:ext cx="1147320" cy="206460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2064600"/>
                <a:gd name="textAreaBottom" fmla="*/ 2064960 h 206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4" name="组合 28"/>
          <p:cNvGrpSpPr/>
          <p:nvPr/>
        </p:nvGrpSpPr>
        <p:grpSpPr>
          <a:xfrm>
            <a:off x="10287720" y="4311000"/>
            <a:ext cx="1606680" cy="1519560"/>
            <a:chOff x="10287720" y="4311000"/>
            <a:chExt cx="1606680" cy="1519560"/>
          </a:xfrm>
        </p:grpSpPr>
        <p:sp>
          <p:nvSpPr>
            <p:cNvPr id="125" name="任意多边形 30"/>
            <p:cNvSpPr/>
            <p:nvPr/>
          </p:nvSpPr>
          <p:spPr>
            <a:xfrm rot="19981200">
              <a:off x="11050920" y="4399200"/>
              <a:ext cx="640800" cy="10472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任意多边形 31"/>
            <p:cNvSpPr/>
            <p:nvPr/>
          </p:nvSpPr>
          <p:spPr>
            <a:xfrm rot="19981200">
              <a:off x="10503720" y="4651200"/>
              <a:ext cx="611640" cy="1100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1100520"/>
                <a:gd name="textAreaBottom" fmla="*/ 1100880 h 110052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7" name="组合 32"/>
          <p:cNvGrpSpPr/>
          <p:nvPr/>
        </p:nvGrpSpPr>
        <p:grpSpPr>
          <a:xfrm>
            <a:off x="9822960" y="5047200"/>
            <a:ext cx="723600" cy="829080"/>
            <a:chOff x="9822960" y="5047200"/>
            <a:chExt cx="723600" cy="829080"/>
          </a:xfrm>
        </p:grpSpPr>
        <p:sp>
          <p:nvSpPr>
            <p:cNvPr id="128" name="任意多边形 33"/>
            <p:cNvSpPr/>
            <p:nvPr/>
          </p:nvSpPr>
          <p:spPr>
            <a:xfrm rot="16278000">
              <a:off x="9989640" y="4923000"/>
              <a:ext cx="416160" cy="68004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 rot="16278000">
              <a:off x="9986040" y="5312160"/>
              <a:ext cx="397080" cy="714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0" name="组合 38"/>
          <p:cNvGrpSpPr/>
          <p:nvPr/>
        </p:nvGrpSpPr>
        <p:grpSpPr>
          <a:xfrm>
            <a:off x="709560" y="406800"/>
            <a:ext cx="633240" cy="616680"/>
            <a:chOff x="709560" y="406800"/>
            <a:chExt cx="633240" cy="616680"/>
          </a:xfrm>
        </p:grpSpPr>
        <p:sp>
          <p:nvSpPr>
            <p:cNvPr id="131" name="任意多边形 39"/>
            <p:cNvSpPr/>
            <p:nvPr/>
          </p:nvSpPr>
          <p:spPr>
            <a:xfrm rot="1981200">
              <a:off x="1003320" y="58176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任意多边形 41"/>
            <p:cNvSpPr/>
            <p:nvPr/>
          </p:nvSpPr>
          <p:spPr>
            <a:xfrm rot="1981200">
              <a:off x="806400" y="43668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3" name="剪去单角的矩形 42"/>
          <p:cNvSpPr/>
          <p:nvPr/>
        </p:nvSpPr>
        <p:spPr>
          <a:xfrm>
            <a:off x="1343160" y="477360"/>
            <a:ext cx="9876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剪去对角的矩形 15"/>
          <p:cNvSpPr/>
          <p:nvPr/>
        </p:nvSpPr>
        <p:spPr>
          <a:xfrm>
            <a:off x="0" y="0"/>
            <a:ext cx="12191760" cy="6857640"/>
          </a:xfrm>
          <a:prstGeom prst="snip2DiagRect">
            <a:avLst>
              <a:gd name="adj1" fmla="val 0"/>
              <a:gd name="adj2" fmla="val 0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859280" y="2799000"/>
            <a:ext cx="2851200" cy="3014640"/>
            <a:chOff x="4859280" y="2799000"/>
            <a:chExt cx="2851200" cy="3014640"/>
          </a:xfrm>
        </p:grpSpPr>
        <p:sp>
          <p:nvSpPr>
            <p:cNvPr id="136" name="任意多边形 40"/>
            <p:cNvSpPr/>
            <p:nvPr/>
          </p:nvSpPr>
          <p:spPr>
            <a:xfrm rot="3781200">
              <a:off x="5960520" y="3849120"/>
              <a:ext cx="1202760" cy="1964880"/>
            </a:xfrm>
            <a:custGeom>
              <a:avLst/>
              <a:gdLst>
                <a:gd name="textAreaLeft" fmla="*/ 0 w 1202760"/>
                <a:gd name="textAreaRight" fmla="*/ 1203120 w 1202760"/>
                <a:gd name="textAreaTop" fmla="*/ 0 h 1964880"/>
                <a:gd name="textAreaBottom" fmla="*/ 1965240 h 196488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37"/>
            <p:cNvSpPr/>
            <p:nvPr/>
          </p:nvSpPr>
          <p:spPr>
            <a:xfrm rot="3781200">
              <a:off x="5465880" y="2746080"/>
              <a:ext cx="1147320" cy="206460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2064600"/>
                <a:gd name="textAreaBottom" fmla="*/ 2064960 h 206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8" name="组合 28"/>
          <p:cNvGrpSpPr/>
          <p:nvPr/>
        </p:nvGrpSpPr>
        <p:grpSpPr>
          <a:xfrm>
            <a:off x="5663520" y="1700640"/>
            <a:ext cx="1307520" cy="1144800"/>
            <a:chOff x="5663520" y="1700640"/>
            <a:chExt cx="1307520" cy="1144800"/>
          </a:xfrm>
        </p:grpSpPr>
        <p:sp>
          <p:nvSpPr>
            <p:cNvPr id="139" name="任意多边形 30"/>
            <p:cNvSpPr/>
            <p:nvPr/>
          </p:nvSpPr>
          <p:spPr>
            <a:xfrm rot="181200">
              <a:off x="6302880" y="1781640"/>
              <a:ext cx="640800" cy="10472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任意多边形 31"/>
            <p:cNvSpPr/>
            <p:nvPr/>
          </p:nvSpPr>
          <p:spPr>
            <a:xfrm rot="181200">
              <a:off x="5691960" y="1715760"/>
              <a:ext cx="611640" cy="1100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1100520"/>
                <a:gd name="textAreaBottom" fmla="*/ 1100880 h 110052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1" name="组合 32"/>
          <p:cNvGrpSpPr/>
          <p:nvPr/>
        </p:nvGrpSpPr>
        <p:grpSpPr>
          <a:xfrm>
            <a:off x="4809240" y="1657440"/>
            <a:ext cx="1031760" cy="1059840"/>
            <a:chOff x="4809240" y="1657440"/>
            <a:chExt cx="1031760" cy="1059840"/>
          </a:xfrm>
        </p:grpSpPr>
        <p:sp>
          <p:nvSpPr>
            <p:cNvPr id="142" name="任意多边形 33"/>
            <p:cNvSpPr/>
            <p:nvPr/>
          </p:nvSpPr>
          <p:spPr>
            <a:xfrm rot="18181200">
              <a:off x="5234040" y="1676880"/>
              <a:ext cx="416160" cy="68004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任意多边形 35"/>
            <p:cNvSpPr/>
            <p:nvPr/>
          </p:nvSpPr>
          <p:spPr>
            <a:xfrm rot="18181200">
              <a:off x="5018400" y="1998360"/>
              <a:ext cx="397080" cy="714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文本框 3"/>
          <p:cNvSpPr/>
          <p:nvPr/>
        </p:nvSpPr>
        <p:spPr>
          <a:xfrm>
            <a:off x="4502880" y="2806200"/>
            <a:ext cx="2831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5">
                    <a:lumMod val="50000"/>
                  </a:schemeClr>
                </a:solidFill>
                <a:latin typeface="Microsoft JhengHei Light"/>
                <a:ea typeface="Microsoft JhengHei Light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168c8c"/>
      </a:accent1>
      <a:accent2>
        <a:srgbClr val="f59e00"/>
      </a:accent2>
      <a:accent3>
        <a:srgbClr val="b5e6d9"/>
      </a:accent3>
      <a:accent4>
        <a:srgbClr val="b4d9c4"/>
      </a:accent4>
      <a:accent5>
        <a:srgbClr val="bcd97e"/>
      </a:accent5>
      <a:accent6>
        <a:srgbClr val="99c53b"/>
      </a:accent6>
      <a:hlink>
        <a:srgbClr val="f59e00"/>
      </a:hlink>
      <a:folHlink>
        <a:srgbClr val="42835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168c8c"/>
      </a:accent1>
      <a:accent2>
        <a:srgbClr val="f59e00"/>
      </a:accent2>
      <a:accent3>
        <a:srgbClr val="b5e6d9"/>
      </a:accent3>
      <a:accent4>
        <a:srgbClr val="b4d9c4"/>
      </a:accent4>
      <a:accent5>
        <a:srgbClr val="bcd97e"/>
      </a:accent5>
      <a:accent6>
        <a:srgbClr val="99c53b"/>
      </a:accent6>
      <a:hlink>
        <a:srgbClr val="f59e00"/>
      </a:hlink>
      <a:folHlink>
        <a:srgbClr val="42835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165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9:52:42Z</dcterms:created>
  <dc:creator>杨光</dc:creator>
  <dc:description/>
  <dc:language>en-US</dc:language>
  <cp:lastModifiedBy>yu wang</cp:lastModifiedBy>
  <dcterms:modified xsi:type="dcterms:W3CDTF">2015-08-12T14:54:18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