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71280" y="1267920"/>
            <a:ext cx="7885080" cy="5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蓝白色创意设计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122"/>
          <p:cNvSpPr/>
          <p:nvPr/>
        </p:nvSpPr>
        <p:spPr>
          <a:xfrm>
            <a:off x="3672000" y="1916280"/>
            <a:ext cx="518472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800" spc="-1" strike="noStrike">
                <a:solidFill>
                  <a:srgbClr val="ffffff"/>
                </a:solidFill>
                <a:latin typeface="Arial"/>
                <a:ea typeface="宋体"/>
              </a:rPr>
              <a:t>Your company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说课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简洁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公司会议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教育教学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网络科技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23"/>
              </a:rPr>
              <a:t>论文答辩ppt模板免费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24"/>
              </a:rPr>
              <a:t>通用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25"/>
              </a:rPr>
              <a:t>医疗卫生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yu wang</cp:lastModifiedBy>
  <dcterms:modified xsi:type="dcterms:W3CDTF">2015-08-23T07:17:13Z</dcterms:modified>
  <cp:revision>655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