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FB4-950B-4946-BC54-C3EDA70D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2E0-5D79-4130-9AE9-3F7D67F4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7D3-53DD-415F-B799-72A9398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6A3-421F-4BD4-9EA4-18B34EF2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C34C-B1AD-4E4C-9388-B17518CC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CEDE-6AD5-46D1-8C6B-44729310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27B-6CF0-4991-94E6-24981A2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5C13-D31E-4452-ADE0-FCF99588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2DF3-6ADC-414C-B8E4-11AF0DB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564B-2866-4059-86FF-427147F6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C8B7-B108-404B-B69B-48D8210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A34-DC0E-4E81-B617-E3F594C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BB19-DF6F-4B44-8AE4-9A13319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5316-6871-44D7-AC43-B808F72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7490-2149-43BE-9D24-12FAB1DA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496F-208E-4E1E-8E1F-4162D2FC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5D01-AF59-4AFB-88B3-FAD1C197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4E1-8D5A-4A80-A671-080F3E5F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A03-D207-4BFB-BDC3-5D85D4A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FB8-A9EE-4AE4-87BE-A43F2605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9BA-12B6-46E1-A4E1-A726008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641-67C2-42EC-99A2-0698991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251-6785-4FB4-90B7-1BE3E49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A5C-B439-477E-BE7C-6D6FDDD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nwebshow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85C1-CB42-41ED-A2C3-213087FB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nwebshow"/>
          <p:cNvPicPr/>
          <p:nvPr/>
        </p:nvPicPr>
        <p:blipFill>
          <a:blip r:embed="rId2"/>
          <a:srcRect l="0" t="25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FD2-D3DA-4A6F-9D37-050BB8651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0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蝴蝶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