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644-0782-4218-A574-EE49C754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9E5-A6F5-4B0A-9CD2-4C52CF3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D4B-119C-47B1-AE90-CEADCDC3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FE3-9902-4F42-BE0F-0BD6B18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4BA-1FFF-41A4-9B93-50D5EA6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C28-8AE3-40B8-A1F4-0E5100E5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FA8-8E1C-4B88-AA9A-FDB7E95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B05-C2E2-40B9-BB1D-FEFE58F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E59-D7EE-4914-BBAD-25DDEF1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112-C947-4B28-BEAE-7D61C18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F39-FB09-4E25-83C3-491ED83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6D5-45A1-430C-AB92-92EB8E5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E5D-4EC4-4C65-BC62-CC8626C3B8C9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hyperlink" Target="http://www.eeppt.com/moban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2540520" y="576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齿轮创意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301680" y="4989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49440" y="4897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1120" y="145800"/>
            <a:ext cx="6377040" cy="4474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01760" y="985320"/>
            <a:ext cx="6935760" cy="405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78520" y="258840"/>
            <a:ext cx="1079640" cy="27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50720" y="496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免费ppt模板</a:t>
            </a:r>
            <a:r>
              <a:rPr b="0" lang="zh-CN" sz="1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yu wang</cp:lastModifiedBy>
  <dcterms:modified xsi:type="dcterms:W3CDTF">2015-08-12T14:56:16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