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2473-23B6-452F-9BCF-A06EEA97EF8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4817-78DE-4746-8727-3CB11DAF887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347D2-D8A3-41BD-8B6D-7EE0358AF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99640" y="41155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CF6B-778F-45FA-BFA9-828FD3B54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636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801F-E0C9-410E-9C1F-F759ECD86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844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760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9964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844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760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5A23-2987-44EE-A135-346229769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8B19C-6FB2-4031-A6C2-F6C9A09B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FB3A2-2179-4EF8-B8EC-5ACB8F8C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A8069-7A24-4143-A163-EB50137F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5161B-FF05-4A9D-A2C7-9851DD21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68035-73C4-4FB2-ADAC-47B0E45D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76360" y="764640"/>
            <a:ext cx="5975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D06B6-0DB1-4456-AD22-2E4FB0AC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8B1C9-B827-4F6E-B603-F0BE152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D076-2FED-41CC-AA69-F5B5C2C5C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636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BE08C-50DF-40B7-8391-85935A9B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D5D60-EC5C-48FE-9FF2-019B782D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99640" y="41155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11FF0-CC8D-491E-89D2-362790D6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2636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42A9D-207C-4487-9AA8-33F2561A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844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17600" y="16999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9964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844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17600" y="4115520"/>
            <a:ext cx="234144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6879-67D6-4D33-8C1C-5F2C15A4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10437-F1E5-49AA-80DD-1D851BA09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C491-20AF-4AE9-9DBA-90797351E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784C-432E-49FA-BD26-B04783647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360" y="764640"/>
            <a:ext cx="5975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6B16-C485-4E05-BA28-ADCB654F3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050F-206A-42CF-B5F9-F2E785E43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6360" y="41155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3E56-82C8-42D9-B4CE-70D08A4E9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6360" y="1699920"/>
            <a:ext cx="354888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99640" y="4115520"/>
            <a:ext cx="7272360" cy="22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B259-F4C8-430C-AB79-5E5A6B900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08000" y="136440"/>
            <a:ext cx="8926560" cy="658512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1546-F36E-4398-8ECD-727B67C50B71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148320" y="101520"/>
            <a:ext cx="10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2"/>
          <p:cNvSpPr/>
          <p:nvPr/>
        </p:nvSpPr>
        <p:spPr>
          <a:xfrm>
            <a:off x="208080" y="4879800"/>
            <a:ext cx="838080" cy="785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6363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3"/>
          <p:cNvSpPr/>
          <p:nvPr/>
        </p:nvSpPr>
        <p:spPr>
          <a:xfrm>
            <a:off x="208080" y="4827600"/>
            <a:ext cx="838080" cy="785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Oval 4"/>
          <p:cNvSpPr/>
          <p:nvPr/>
        </p:nvSpPr>
        <p:spPr>
          <a:xfrm>
            <a:off x="208080" y="4827600"/>
            <a:ext cx="795240" cy="816120"/>
          </a:xfrm>
          <a:prstGeom prst="ellipse">
            <a:avLst/>
          </a:prstGeom>
          <a:gradFill rotWithShape="0">
            <a:gsLst>
              <a:gs pos="0">
                <a:srgbClr val="5794ed"/>
              </a:gs>
              <a:gs pos="100000">
                <a:srgbClr val="28446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Oval 5"/>
          <p:cNvSpPr/>
          <p:nvPr/>
        </p:nvSpPr>
        <p:spPr>
          <a:xfrm>
            <a:off x="1046160" y="5775480"/>
            <a:ext cx="533520" cy="500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6363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1046160" y="5742000"/>
            <a:ext cx="533520" cy="500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1046160" y="5742000"/>
            <a:ext cx="506520" cy="51912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Oval 8"/>
          <p:cNvSpPr/>
          <p:nvPr/>
        </p:nvSpPr>
        <p:spPr>
          <a:xfrm>
            <a:off x="1884240" y="6218280"/>
            <a:ext cx="304920" cy="2858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d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Oval 9"/>
          <p:cNvSpPr/>
          <p:nvPr/>
        </p:nvSpPr>
        <p:spPr>
          <a:xfrm>
            <a:off x="1884240" y="6199200"/>
            <a:ext cx="304920" cy="2858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d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1884240" y="6199200"/>
            <a:ext cx="289080" cy="2970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5e6d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671400" y="142920"/>
            <a:ext cx="8375760" cy="651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148320" y="333360"/>
            <a:ext cx="10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Gulim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9332-BCA9-46CF-9283-08B0F33BCEF5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133360"/>
            <a:ext cx="7570800" cy="1584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  <a:ea typeface="Gulim"/>
              </a:rPr>
              <a:t>蓝色大方的毕业答辩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  <a:ea typeface="Gulim"/>
              </a:rPr>
              <a:t>PPT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  <a:ea typeface="Gulim"/>
              </a:rPr>
              <a:t>模板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3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5975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Gulim"/>
              </a:rPr>
              <a:t>Click to add tit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27236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mpetitor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trength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9999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9999ff"/>
                </a:solidFill>
                <a:uFillTx/>
                <a:latin typeface="Verdana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1:56:19Z</dcterms:created>
  <dc:creator/>
  <dc:description/>
  <cp:keywords/>
  <dc:language>en-US</dc:language>
  <cp:lastModifiedBy>yu wang</cp:lastModifiedBy>
  <cp:lastPrinted>1899-12-30T00:00:00Z</cp:lastPrinted>
  <dcterms:modified xsi:type="dcterms:W3CDTF">2015-08-12T14:55:52Z</dcterms:modified>
  <cp:revision>4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