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7B6-7BA9-410B-8B43-34042E65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3B4-4D69-4395-9EDC-5E9EE106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C5E-2194-4282-AFD3-2CAD9ADC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D38-A389-417D-BDA7-20073C57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7096-7B9A-4DE3-B449-C051870A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EFE3-FEB3-4A64-B274-5C472AAB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DFEF-FD3A-4018-A8B0-D26F3C64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3FFA-A598-4CA1-915C-FFFCA50F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A86C-A0BD-49C3-BA25-19CC4E90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43EB-80F8-4E5F-893B-92EBBC3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DA53-3EF3-4A90-B5F8-0B3D802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0B4-DB8F-4FC0-90B7-D4161665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0EEF-6BB8-448D-ACD6-32C1AB74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C251-FA2C-4EE5-8E4C-E53906F4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3DB9-4566-43D2-B08B-0155879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96C-7E1E-4572-8668-AD87190C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F113-6D2F-4C98-80D4-C5A0FC33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562E-9CDB-48A3-AAD9-5E53632D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EE1D-F5BF-4A78-ABDF-2209C835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E7675-E571-43AD-93F8-67258DFE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B8C4-790B-4D24-9780-AEF170C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6DF3-1870-40D7-AAD2-9CFEE802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1FE-8346-4237-A294-DBD4D783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D26F-BBDF-42BD-911D-FEFE7E81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94D4-5BAB-4B6C-8606-9CB3615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8BE5-A450-4B5D-B09E-E9ADCA40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AD2F-2D52-4C05-8A27-F51A57F5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4EBC-B76D-47F3-8873-A2A0399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ABBA-4A73-4D6B-858D-050D1D27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C333-80B6-4652-8EE6-39BB2218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9A8-A017-4B42-9D96-C5E1C531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58B-D51A-45F2-97C8-23DFDC8B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BAC-AB94-4120-BE2C-91A3A25F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2AF-117C-4A14-9C33-222EB85A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679-C555-43A9-861B-101267EA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229-F1A9-42A5-9ADB-4EB07469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C164-6B92-4ED6-8FF1-D0198BDF5E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-23760"/>
            <a:ext cx="9144000" cy="43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B989-2AC4-4B12-8FB6-92A6756BA8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57BC-D2FD-4CC1-9AED-318C07BC7759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-33480" y="0"/>
            <a:ext cx="91774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17445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绿色简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3579840" y="2711520"/>
            <a:ext cx="2303280" cy="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3579840" y="3414600"/>
            <a:ext cx="2303280" cy="180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3595680" y="4094280"/>
            <a:ext cx="2303640" cy="144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568680" y="4791240"/>
            <a:ext cx="2303640" cy="144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561960" y="83808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9280" y="692280"/>
            <a:ext cx="16048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403280" y="1701720"/>
          <a:ext cx="6203880" cy="34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1720"/>
                    <a:ext cx="6203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9"/>
          <p:cNvSpPr/>
          <p:nvPr/>
        </p:nvSpPr>
        <p:spPr>
          <a:xfrm>
            <a:off x="39528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 flipH="1">
            <a:off x="2154240" y="3870360"/>
            <a:ext cx="4913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5827680" y="1849320"/>
            <a:ext cx="1239840" cy="2054160"/>
            <a:chOff x="5827680" y="1849320"/>
            <a:chExt cx="1239840" cy="2054160"/>
          </a:xfrm>
        </p:grpSpPr>
        <p:grpSp>
          <p:nvGrpSpPr>
            <p:cNvPr id="204" name="Group 5"/>
            <p:cNvGrpSpPr/>
            <p:nvPr/>
          </p:nvGrpSpPr>
          <p:grpSpPr>
            <a:xfrm>
              <a:off x="5827680" y="1849320"/>
              <a:ext cx="1239840" cy="2054160"/>
              <a:chOff x="5827680" y="1849320"/>
              <a:chExt cx="1239840" cy="2054160"/>
            </a:xfrm>
          </p:grpSpPr>
          <p:sp>
            <p:nvSpPr>
              <p:cNvPr id="205" name="Oval 6"/>
              <p:cNvSpPr/>
              <p:nvPr/>
            </p:nvSpPr>
            <p:spPr>
              <a:xfrm>
                <a:off x="6126480" y="1849320"/>
                <a:ext cx="644760" cy="6454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7"/>
              <p:cNvSpPr/>
              <p:nvPr/>
            </p:nvSpPr>
            <p:spPr>
              <a:xfrm>
                <a:off x="6243120" y="2377800"/>
                <a:ext cx="410040" cy="11160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8"/>
              <p:cNvSpPr/>
              <p:nvPr/>
            </p:nvSpPr>
            <p:spPr>
              <a:xfrm>
                <a:off x="6891840" y="253368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曲线 235"/>
              <p:cNvSpPr/>
              <p:nvPr/>
            </p:nvSpPr>
            <p:spPr>
              <a:xfrm rot="20520000">
                <a:off x="6515280" y="2658240"/>
                <a:ext cx="464040" cy="38160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曲线 238"/>
              <p:cNvSpPr/>
              <p:nvPr/>
            </p:nvSpPr>
            <p:spPr>
              <a:xfrm rot="660000">
                <a:off x="5915520" y="2459520"/>
                <a:ext cx="498240" cy="31716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1"/>
              <p:cNvSpPr/>
              <p:nvPr/>
            </p:nvSpPr>
            <p:spPr>
              <a:xfrm>
                <a:off x="5827680" y="23054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 flipH="1">
                <a:off x="6302160" y="3480480"/>
                <a:ext cx="11160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3"/>
              <p:cNvSpPr/>
              <p:nvPr/>
            </p:nvSpPr>
            <p:spPr>
              <a:xfrm>
                <a:off x="6501600" y="3467160"/>
                <a:ext cx="13536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14"/>
              <p:cNvSpPr/>
              <p:nvPr/>
            </p:nvSpPr>
            <p:spPr>
              <a:xfrm rot="6540000">
                <a:off x="6193800" y="366480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 rot="4020000">
                <a:off x="658440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6"/>
            <p:cNvSpPr/>
            <p:nvPr/>
          </p:nvSpPr>
          <p:spPr>
            <a:xfrm rot="6300000">
              <a:off x="6369840" y="2295360"/>
              <a:ext cx="9720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pt宝藏</dc:creator>
  <dc:description/>
  <dc:language>en-US</dc:language>
  <cp:lastModifiedBy>yu wang</cp:lastModifiedBy>
  <dcterms:modified xsi:type="dcterms:W3CDTF">2015-08-12T14:54:54Z</dcterms:modified>
  <cp:revision>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3953</vt:lpwstr>
  </property>
</Properties>
</file>