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9D6-074A-453D-B10E-B0495CB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D98-2666-4872-89FD-ED9727D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254-2423-4E5E-864F-AF1C6840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CB7-F863-4D8B-B5F8-75FED83F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B61-B167-45AB-AAD3-8EF4EC1F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F00-66CC-4D3E-B4D8-59AF4BD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84C-7FEE-47F5-89EE-BCC0DB04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A16-BFC1-4F28-9562-16CA26E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BF9-53BD-43DB-ACA6-CE36740D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787640" y="154080"/>
            <a:ext cx="3995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F898-94A3-4DC7-9E05-24AE072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46C-F8C5-4200-9D8A-DAEF1FE5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7CC-FD08-464E-9BCA-983D9392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10EE-C734-490A-B4EE-2D6F2BA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40B-CECA-496C-A399-5B909FE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4EFD-CDA1-4E63-8710-1715064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88CD-F45E-44B2-A332-08389707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79DA-8D1A-4F5E-B96E-18290259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69A-1FB3-4156-8016-41F3662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857-786C-46D3-8844-8884E3D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EBB-EF3B-4302-9B08-4FDC235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87640" y="154080"/>
            <a:ext cx="3995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23D-5649-4D5A-A6A9-6527E0F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8B0-0731-4367-B8B1-E03F7617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0B2-DAF5-4383-8B2D-57A80BB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68B-6DC1-4A25-A0D8-01885CB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86116" r="0" b="169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414720" y="22392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公司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及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E93-C56E-4109-ADE4-0BDB14E6C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28B-67A3-4A6D-92A1-05E97C002F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052640"/>
            <a:ext cx="810108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蓝色简洁完整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2565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黑体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87640" y="154080"/>
            <a:ext cx="399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rdArt 2" descr=""/>
          <p:cNvPicPr/>
          <p:nvPr/>
        </p:nvPicPr>
        <p:blipFill>
          <a:blip r:embed="rId1"/>
          <a:stretch/>
        </p:blipFill>
        <p:spPr>
          <a:xfrm>
            <a:off x="2657520" y="3005280"/>
            <a:ext cx="385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56:06Z</dcterms:created>
  <dc:creator>ppt宝藏</dc:creator>
  <dc:description/>
  <cp:keywords/>
  <dc:language>en-US</dc:language>
  <cp:lastModifiedBy>yu wang</cp:lastModifiedBy>
  <cp:lastPrinted>1899-12-30T00:00:00Z</cp:lastPrinted>
  <dcterms:modified xsi:type="dcterms:W3CDTF">2015-08-12T14:56:09Z</dcterms:modified>
  <cp:revision>8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