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2413-C1E1-49D2-A507-AD51EC48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3BFF-4FB2-41AC-885E-8FE8795B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01CB01-0F8B-41EF-9DF4-4F468BB8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D71275-2843-4491-BBBC-DCE20EA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90FCD6-2C1E-4814-8801-FE68F98D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6642B8-41EA-420D-9738-E3B93C0D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E4D271-0E4F-4623-BC2F-D2B409E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5768CD-490B-4313-B48E-8C62388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919E25-CA46-40F5-A208-B083898B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B1A250-353E-4CD5-8912-B354EBB6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AFC7A6-3A25-47E6-9114-60F77351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05B78-2F27-426D-A151-9E0640DF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35E5-D582-4D47-9A81-5169D261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F3BCF-DE7F-43AB-AE4F-99BD0648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BB16C-D081-4393-9A6A-D3A051B2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FC7EE-9E0A-45F8-9900-E5ABB2E7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2A5D0-F75C-414F-985D-4C995EEB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22102-331A-4C5F-8BB2-ED7612D4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BD3A3-1614-41CD-BBF1-37A1775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41DED-670B-4B5E-AF1C-E6FA2F1C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5F6F0-744D-449E-A7EE-C6C92845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26159-780B-40E9-90C9-8DDFCA5B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A0182-D2A0-4F46-936C-CF9F8FB6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753A-3223-49A8-AA5E-41F4908A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88FB1-DDB1-47BA-BB25-F6E98C84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0CACB-D29B-4F8F-9773-964C434D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EEDC2-CFCD-4F90-A32D-78423656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D9DAD-95BD-43AB-B57D-29BAD6F3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32CA6-5B81-4B41-BECB-ACFC7162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A071C-F12E-47BB-BDCF-06B3D57E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160FA-5F95-4588-B829-D277EC36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4FFBB-14DB-4BE5-A423-69964AD2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B73E2-9A5F-4DE0-9ADC-0D3D569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4AC38-C94E-4F5A-A94B-84DDB297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AD1E3-5EDF-4BE9-974B-F610D5FD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579A8-4F75-4BF9-B0A1-0B51CA6E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D9721-466A-4418-BADF-18D6FAD4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05C51A-6C7B-4E51-8DAC-1AF37C7E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77B00D-D874-47D3-AD61-15B332B4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612789-A3A7-48D2-AA3C-6DBFC072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9A98C7-8553-46CF-B176-20428E75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B231C0-35BC-4C42-A737-81531E10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687FFF-AF71-4379-B628-620B44D0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57E8B5-A6E3-489B-B961-852F3783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C1F1D5-CE05-4DF4-816D-8CF2A12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3CF2F9-1067-419E-99AD-913EA5DE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0CD6BB-7C02-4011-82FF-1D34DA9B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112165-7229-4E80-BC36-072A014C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14DD32-4EEA-4117-8F8F-4954C3E3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19E0B-4E47-4118-8CB5-BC127816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33E38-7521-4FE8-ADC2-C872C5BD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D1EF2-811B-4AFB-8F0C-4EF5A407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FAACF-0234-4A2E-A173-37800893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90E0A-BBD6-4282-9E7E-D7EF8921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CCB22-28CA-418C-97D4-8E976B08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6B5DC-0611-4682-80F6-4DAAEFD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172F0-2ACD-49B6-87D5-2A5E734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8840E-BE6A-46CD-BFE8-927D639E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11792-E6BD-479C-AD03-A51823A7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DBED2-D463-483B-A5DC-3CF49319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1C04C-AA0E-4F2D-82EB-308775D4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82E0-2CE9-4D80-8ABE-C004D1E5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D57E0-A0BF-42A0-9CDB-7C5D6374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ED7B2-9E8E-420D-9A64-9FE9DE13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69800-66E1-4581-8C5C-FC3905FE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ED566-A0EA-49BF-BA8B-1488C22A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BB98E-A4D6-492F-B4EF-AE507C1F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79A4-97DE-41CF-B5CF-87A34DCC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E2943-CD7E-407B-B804-E7F468A5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31696-5725-4775-A0EA-48DF845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10AB6-4DB3-432B-8AD1-001DCE1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CFE3B-7599-47AA-95C3-1AD6186B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B8032-002C-46B9-8949-9F1C8BAE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901A1-6896-4D63-A039-A18F347B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4BA20-5165-4979-962F-EB211925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D5659-1920-4BB0-BC48-DCA04497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0C3F8-B88B-434E-A0A0-25937BE8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C4B3A-3751-4023-B265-B01F123D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C4CA-3DE2-4080-BB2E-C3170A6D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64A2B-CE34-46DE-8350-7BB2FAA4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6CA0D-56A8-4E91-9DB1-17D2691E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1E4DA9-4173-4BC1-A2A5-A593DD8E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80FE1-AC1D-44E3-8556-08AA7E2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4E761-C7D0-45B5-9BFD-816DE34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B146B-BD10-4CEF-B266-511F0978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C2B922-B83F-4511-9EF4-6E832D6F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DF9F0-6326-4CC4-AB38-A98CCD9C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C7CCB3-225A-4BF2-8B01-E0E32A66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6E05C-836F-4B69-BAE1-AE0617BB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786F-C0C9-4E2D-8138-F1AF3AD1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F6E17-0A2D-4AD4-AAAA-46C189FB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8F516-9A31-4CF1-9495-3F0E5B1D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A1D91-2BC1-4927-B7CC-B7A26A60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4D70ED-28E1-416D-BBDA-2ACAD13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C2B9F-6171-4206-B68D-2BC2242E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FC107-043E-40F6-B7C0-9C33A93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E0B67-E705-4616-9BA9-FABEED44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1E292-D3A9-4C86-9FA2-94629430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D96BA-A8B7-44CA-8DF5-D613D5AA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90DCE-62D9-4FD5-8D9F-56EFAE9D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58DE-30F5-4116-8AD6-FF7624B9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45B4A-7FAC-4855-9C66-FF95049B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BEA22A-29F7-4E30-95B1-81A7F869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F6AC4-4F0A-4ADE-8968-0DE12D4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42BA14-4F64-401D-B17E-EE5F61AC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90142A-0E8F-4310-BBFB-DA2FF578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979B38-FAE7-48A1-A146-7F7FB703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FD4F0-C5C2-457F-AB80-4112855B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23E53D-A985-4829-B0C6-6E9F806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B78CA2-7BB0-4515-BCDB-298319B6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DD43A-F313-4328-BA3F-37C321AE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0CC5-E702-45D0-B96C-201EFC86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3BB3F-3B5A-4EA9-8061-D0B3D1D3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AB129E-7454-4597-A22E-E0BE4731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9DD7B6-0FD6-4F20-A8D4-7BE92626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528394-203F-4799-A3C3-1AE476E6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82AFC-6B40-44F5-9806-D2DDFE4F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32C54-3396-4BFE-9E47-68F7D448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40F222-7462-42D9-82BD-18A8E25D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0A4FD7-A2F2-4B7F-9A25-918C29E4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85E9DD-7988-4F54-B56C-3FED0E3E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8DE942-5079-4B15-AD15-1A1041AC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ED99-D611-44C8-9F16-5A22213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2DDE84-312E-4CF0-A2F1-A31C3DA1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85049E-AFEC-41C9-9658-A0D69944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3A9EFD-5327-4ADA-BF7B-7D931A8F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CE5874-191C-4B88-9E58-EDEDA926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5B99EF-06B5-4F52-AD68-00E97E9C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DADD1-6659-44A9-8573-783E4B3E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7EE4B-C228-495A-8084-C73695A5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90878F-910B-44F2-983D-72A4FF3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77251F-6DBC-495E-BFAD-FBFB82C6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4F6374-8EE3-45AF-AD05-D357CDDC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06D1-B028-42A5-9507-45A6F0F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D0DC59-47DD-4855-9B1A-4C03FA5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AF2060-4CF7-49B9-9A36-92208AE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BF9206-2F8A-4DD6-AC09-D9F28264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C80C22-19B3-4F10-8378-AF7906A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DBD535-8224-4739-ABD8-27DB854E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21F32B-1A00-4807-BA87-652FF0D4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F809C2-998A-496E-8D02-CDE61610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1F2A45-0FBD-41B1-BB09-2D7EB439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31554-7E06-4173-91EB-769A6E7C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B32262-6B4D-4677-A59D-05D48F30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F2F4-26A0-4AA9-A9F3-47DC9678D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76D8-0E87-4534-BE96-02EB615B7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dt" idx="26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7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8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E667-7847-4D42-BF70-5704C6FB5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dt" idx="29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0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EAA-D2EA-42D5-8D11-0FB5E730E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32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3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34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7A83-D981-46A7-B21C-40357B0B6E69}" type="slidenum">
              <a:rPr b="0" lang="en-US" sz="1400" spc="-1" strike="noStrike">
                <a:solidFill>
                  <a:srgbClr val="1d528d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dt" idx="35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6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m_02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07440" y="289080"/>
            <a:ext cx="1102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4F10-EE59-45DF-960D-1A4828CAF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7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E17-6DE2-498C-BE1E-39FB656DE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8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BB97-FBBF-41B8-AADD-64AC84596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1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3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EB43-CB5F-4D17-9E17-07F73354C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4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5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6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0802-7CE4-45D8-B363-A0A1CAF6A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dt" idx="17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8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9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A8F9-42B6-43CE-BA02-B94FB7ABA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dt" idx="20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1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2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BB9C-F2D6-45A0-A873-FE76C7D9F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23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4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4343040"/>
            <a:ext cx="86313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绿色科技风简洁</a:t>
            </a:r>
            <a:r>
              <a:rPr b="1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6" name="Picture 4" descr="original_metal_w(s)"/>
          <p:cNvPicPr/>
          <p:nvPr/>
        </p:nvPicPr>
        <p:blipFill>
          <a:blip r:embed="rId1"/>
          <a:stretch/>
        </p:blipFill>
        <p:spPr>
          <a:xfrm>
            <a:off x="6227640" y="5300640"/>
            <a:ext cx="1152720" cy="1117800"/>
          </a:xfrm>
          <a:prstGeom prst="rect">
            <a:avLst/>
          </a:prstGeom>
          <a:ln w="0">
            <a:noFill/>
          </a:ln>
        </p:spPr>
      </p:pic>
      <p:sp>
        <p:nvSpPr>
          <p:cNvPr id="5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9" name="Group 3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730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4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5" name="Group 1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746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7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8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9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50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32156"/>
                  </a:srgbClr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55" name="Group 29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756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7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8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9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3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761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62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63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64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65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页脚占位符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69" name="Group 2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770" name="Rectangle 3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1" name="Rectangle 4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2" name="Rectangle 5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3" name="Group 6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774" name="Group 7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775" name="Oval 8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76" name="未知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Text Box 10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1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779" name="Group 12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780" name="Oval 13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25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81" name="未知"/>
                <p:cNvSpPr/>
                <p:nvPr/>
              </p:nvSpPr>
              <p:spPr>
                <a:xfrm>
                  <a:off x="5192280" y="1158120"/>
                  <a:ext cx="68940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Text Box 15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16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784" name="Group 17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785" name="Oval 18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612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86" name="未知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 Box 20"/>
              <p:cNvSpPr/>
              <p:nvPr/>
            </p:nvSpPr>
            <p:spPr>
              <a:xfrm>
                <a:off x="148824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21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789" name="Group 22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790" name="Oval 23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42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91" name="未知"/>
                <p:cNvSpPr/>
                <p:nvPr/>
              </p:nvSpPr>
              <p:spPr>
                <a:xfrm>
                  <a:off x="5257080" y="3914640"/>
                  <a:ext cx="1591920" cy="795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Text Box 25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3" name="Oval 26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4" name="Oval 27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5" name="Oval 28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6" name="Oval 29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0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801" name="AutoShape 4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AutoShape 5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3" name="AutoShape 6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4" name="AutoShape 7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5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6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7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Oval 24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Oval 26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25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826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7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8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9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30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3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83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84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4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4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44" name="Oval 14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4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4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84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0" name="AutoShape 20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24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25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6" name="Oval 26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7" name="Oval 27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9" name="Text Box 29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0" name="AutoShape 30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1" name="AutoShape 31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6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863" name="AutoShape 33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AutoShape 35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6" name="AutoShape 36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67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868" name="Oval 38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Oval 39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0" name="Oval 40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1" name="Oval 41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2" name="Oval 42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46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3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880" name="Group 4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881" name="Rectangle 5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82" name="Rectangle 6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7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884" name="Group 8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885" name="Group 9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886" name="未知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未知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Group 12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889" name="未知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1" name="Group 15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892" name="Oval 16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93" name="Oval 17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94" name="Oval 18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95" name="Oval 19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96" name="Oval 20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21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898" name="Oval 22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Oval 23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Oval 24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Oval 25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02" name="Text Box 26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03" name="Text Box 27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04" name="Group 28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905" name="Group 29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906" name="Group 30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907" name="未知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未知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Group 33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910" name="未知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未知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2" name="Group 36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913" name="Oval 37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14" name="Oval 38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15" name="Oval 39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16" name="Oval 40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17" name="Oval 41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918" name="Group 42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919" name="Oval 43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Oval 44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Oval 45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Oval 46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3" name="Text Box 47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24" name="Text Box 48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25" name="Group 49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926" name="Group 50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927" name="Group 51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928" name="未知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未知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0" name="Group 54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931" name="未知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3" name="Group 57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934" name="Oval 58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35" name="Oval 59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36" name="Oval 60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37" name="Oval 61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38" name="Oval 62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939" name="Group 63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940" name="Oval 64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Oval 65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Oval 66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Oval 67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4" name="Text Box 68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45" name="Text Box 69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70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947" name="Group 71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948" name="Group 72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949" name="未知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未知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Group 75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952" name="未知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未知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54" name="Oval 78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5" name="Oval 79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6" name="Oval 80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81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8" name="Oval 82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959" name="Group 83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960" name="Oval 84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61" name="Oval 85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62" name="Oval 86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63" name="Oval 87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4" name="Text Box 88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5" name="Text Box 89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967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8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9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0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971" name="AutoShape 95"/>
              <p:cNvCxnSpPr>
                <a:stCxn id="967" idx="3"/>
                <a:endCxn id="968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72" name="AutoShape 96"/>
              <p:cNvCxnSpPr>
                <a:stCxn id="968" idx="3"/>
                <a:endCxn id="969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73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6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977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8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979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6b8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0" name="未知"/>
              <p:cNvSpPr/>
              <p:nvPr/>
            </p:nvSpPr>
            <p:spPr>
              <a:xfrm>
                <a:off x="1876680" y="1708920"/>
                <a:ext cx="566640" cy="533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c7e3"/>
                  </a:gs>
                  <a:gs pos="50000">
                    <a:srgbClr val="0099cc">
                      <a:alpha val="0"/>
                    </a:srgbClr>
                  </a:gs>
                  <a:gs pos="100000">
                    <a:srgbClr val="74c7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Text Box 8"/>
              <p:cNvSpPr/>
              <p:nvPr/>
            </p:nvSpPr>
            <p:spPr>
              <a:xfrm>
                <a:off x="1930680" y="1930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2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83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984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5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986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6a3a3"/>
                  </a:gs>
                  <a:gs pos="100000">
                    <a:srgbClr val="0080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7" name="未知"/>
              <p:cNvSpPr/>
              <p:nvPr/>
            </p:nvSpPr>
            <p:spPr>
              <a:xfrm>
                <a:off x="1876680" y="3239280"/>
                <a:ext cx="566640" cy="533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c9c9"/>
                  </a:gs>
                  <a:gs pos="100000">
                    <a:srgbClr val="00808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8" name="Text Box 15"/>
              <p:cNvSpPr/>
              <p:nvPr/>
            </p:nvSpPr>
            <p:spPr>
              <a:xfrm>
                <a:off x="193068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9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90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991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92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993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未知"/>
              <p:cNvSpPr/>
              <p:nvPr/>
            </p:nvSpPr>
            <p:spPr>
              <a:xfrm>
                <a:off x="1876680" y="4779360"/>
                <a:ext cx="566640" cy="533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5" name="Text Box 22"/>
              <p:cNvSpPr/>
              <p:nvPr/>
            </p:nvSpPr>
            <p:spPr>
              <a:xfrm>
                <a:off x="193068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6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页脚占位符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0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1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2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003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1004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05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1006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07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08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09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0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1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1012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3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6" name="Rectangle 20"/>
            <p:cNvSpPr/>
            <p:nvPr/>
          </p:nvSpPr>
          <p:spPr>
            <a:xfrm rot="3418800">
              <a:off x="459576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7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1018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9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0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1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2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23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4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5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6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7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8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9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0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1" name="Text Box 3"/>
          <p:cNvSpPr/>
          <p:nvPr/>
        </p:nvSpPr>
        <p:spPr>
          <a:xfrm>
            <a:off x="330120" y="6373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808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34" name=""/>
          <p:cNvGraphicFramePr/>
          <p:nvPr/>
        </p:nvGraphicFramePr>
        <p:xfrm>
          <a:off x="1066680" y="2209680"/>
          <a:ext cx="746784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7" name="Group 3"/>
          <p:cNvGrpSpPr/>
          <p:nvPr/>
        </p:nvGrpSpPr>
        <p:grpSpPr>
          <a:xfrm>
            <a:off x="1128600" y="1280880"/>
            <a:ext cx="6575400" cy="4665960"/>
            <a:chOff x="1128600" y="1280880"/>
            <a:chExt cx="6575400" cy="4665960"/>
          </a:xfrm>
        </p:grpSpPr>
        <p:sp>
          <p:nvSpPr>
            <p:cNvPr id="1038" name="Oval 4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9" name="Oval 5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0" name="Oval 6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1" name="Arc 7"/>
            <p:cNvSpPr/>
            <p:nvPr/>
          </p:nvSpPr>
          <p:spPr>
            <a:xfrm rot="20601600">
              <a:off x="412884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55aaa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2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5d7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3" name="Arc 9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4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531c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5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6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7" name="Text Box 13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8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Group 15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1050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b5b5b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Arc 17"/>
              <p:cNvSpPr/>
              <p:nvPr/>
            </p:nvSpPr>
            <p:spPr>
              <a:xfrm rot="20539200">
                <a:off x="4511520" y="28371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2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3" name="Text Box 19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4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6" name="Oval 22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页脚占位符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59" name="Group 3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1060" name="AutoShape 4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1" name="AutoShape 5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e4e"/>
                </a:gs>
                <a:gs pos="50000">
                  <a:srgbClr val="008080"/>
                </a:gs>
                <a:gs pos="100000">
                  <a:srgbClr val="004e4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2" name="Text Box 6"/>
            <p:cNvSpPr/>
            <p:nvPr/>
          </p:nvSpPr>
          <p:spPr>
            <a:xfrm>
              <a:off x="375588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Group 7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1064" name="Group 8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1065" name="Group 9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1066" name="Oval 10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3300"/>
                      </a:gs>
                      <a:gs pos="100000">
                        <a:srgbClr val="612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33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8" name="Text Box 12"/>
                <p:cNvSpPr/>
                <p:nvPr/>
              </p:nvSpPr>
              <p:spPr>
                <a:xfrm>
                  <a:off x="107280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9" name="Oval 13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0" name="Group 14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1071" name="Group 15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1072" name="Group 16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1073" name="Oval 17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5" name="Text Box 19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6" name="Oval 20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1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1078" name="Group 22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1079" name="Oval 23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42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080" name="未知"/>
                <p:cNvSpPr/>
                <p:nvPr/>
              </p:nvSpPr>
              <p:spPr>
                <a:xfrm>
                  <a:off x="2994480" y="4108320"/>
                  <a:ext cx="1174680" cy="573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1" name="Text Box 25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Oval 26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3" name="Group 27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1084" name="Group 28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1085" name="Group 29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1086" name="Oval 30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cc"/>
                      </a:gs>
                      <a:gs pos="100000">
                        <a:srgbClr val="004f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未知"/>
                  <p:cNvSpPr/>
                  <p:nvPr/>
                </p:nvSpPr>
                <p:spPr>
                  <a:xfrm>
                    <a:off x="5051880" y="4064040"/>
                    <a:ext cx="1174680" cy="57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Text Box 32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Oval 33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0" name="Group 3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551" name="Group 4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552" name="AutoShape 5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AutoShape 6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AutoShape 7"/>
              <p:cNvSpPr/>
              <p:nvPr/>
            </p:nvSpPr>
            <p:spPr>
              <a:xfrm>
                <a:off x="2025360" y="22161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003b3b"/>
                  </a:gs>
                  <a:gs pos="100000">
                    <a:srgbClr val="00808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55" name="Line 8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Text Box 9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10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58" name="Group 11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559" name="Group 12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560" name="AutoShape 13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AutoShape 14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15"/>
              <p:cNvSpPr/>
              <p:nvPr/>
            </p:nvSpPr>
            <p:spPr>
              <a:xfrm>
                <a:off x="2025360" y="31305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00475e"/>
                  </a:gs>
                  <a:gs pos="100000">
                    <a:srgbClr val="0099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3" name="Line 16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4" name="Text Box 17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Text Box 18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66" name="Group 19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567" name="Group 20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568" name="AutoShape 21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22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AutoShape 23"/>
              <p:cNvSpPr/>
              <p:nvPr/>
            </p:nvSpPr>
            <p:spPr>
              <a:xfrm>
                <a:off x="2025360" y="4022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003b3b"/>
                  </a:gs>
                  <a:gs pos="100000">
                    <a:srgbClr val="00808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1" name="Line 24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25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Text Box 26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575" name="Group 28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576" name="AutoShape 29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AutoShape 30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>
                <a:off x="2025360" y="49370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00475e"/>
                  </a:gs>
                  <a:gs pos="100000">
                    <a:srgbClr val="0099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Line 32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33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34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WordArt 2"/>
          <p:cNvSpPr txBox="1"/>
          <p:nvPr/>
        </p:nvSpPr>
        <p:spPr>
          <a:xfrm>
            <a:off x="2286000" y="3200400"/>
            <a:ext cx="4952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0099cc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0099cc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808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808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7" name="Group 3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588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0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be7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593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594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595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3e3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6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c7c7"/>
                    </a:gs>
                    <a:gs pos="100000">
                      <a:srgbClr val="00808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475e"/>
                  </a:gs>
                  <a:gs pos="100000">
                    <a:srgbClr val="0099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0"/>
                    </a:srgbClr>
                  </a:gs>
                  <a:gs pos="100000">
                    <a:srgbClr val="a6dbe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9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79a2"/>
                  </a:gs>
                  <a:gs pos="100000">
                    <a:srgbClr val="0099cc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cc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1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Group 18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603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Text Box 20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5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ae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30040" y="6370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808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页脚占位符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61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371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623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624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628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0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1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19"/>
            <p:cNvSpPr/>
            <p:nvPr/>
          </p:nvSpPr>
          <p:spPr>
            <a:xfrm>
              <a:off x="3125520" y="5288760"/>
              <a:ext cx="2816280" cy="575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649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650" name="AutoShape 5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1" name="AutoShape 6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2" name="AutoShape 7"/>
              <p:cNvSpPr/>
              <p:nvPr/>
            </p:nvSpPr>
            <p:spPr>
              <a:xfrm flipH="1" rot="10800000">
                <a:off x="42357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3" name="Oval 8"/>
              <p:cNvSpPr/>
              <p:nvPr/>
            </p:nvSpPr>
            <p:spPr>
              <a:xfrm>
                <a:off x="330300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4" name="Oval 9"/>
              <p:cNvSpPr/>
              <p:nvPr/>
            </p:nvSpPr>
            <p:spPr>
              <a:xfrm>
                <a:off x="343584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5" name="Oval 10"/>
              <p:cNvSpPr/>
              <p:nvPr/>
            </p:nvSpPr>
            <p:spPr>
              <a:xfrm>
                <a:off x="355824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808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Oval 11"/>
              <p:cNvSpPr/>
              <p:nvPr/>
            </p:nvSpPr>
            <p:spPr>
              <a:xfrm>
                <a:off x="355716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Oval 12"/>
              <p:cNvSpPr/>
              <p:nvPr/>
            </p:nvSpPr>
            <p:spPr>
              <a:xfrm>
                <a:off x="3676680" y="2595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04545"/>
                  </a:gs>
                  <a:gs pos="50000">
                    <a:srgbClr val="008080"/>
                  </a:gs>
                  <a:gs pos="100000">
                    <a:srgbClr val="00454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8" name="Oval 13"/>
              <p:cNvSpPr/>
              <p:nvPr/>
            </p:nvSpPr>
            <p:spPr>
              <a:xfrm>
                <a:off x="367668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5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16"/>
            <p:cNvSpPr/>
            <p:nvPr/>
          </p:nvSpPr>
          <p:spPr>
            <a:xfrm>
              <a:off x="1143000" y="2709000"/>
              <a:ext cx="16588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4" name="AutoShape 19"/>
            <p:cNvSpPr/>
            <p:nvPr/>
          </p:nvSpPr>
          <p:spPr>
            <a:xfrm>
              <a:off x="6120360" y="2709000"/>
              <a:ext cx="172836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5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676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690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3b"/>
                  </a:gs>
                  <a:gs pos="50000">
                    <a:srgbClr val="008080"/>
                  </a:gs>
                  <a:gs pos="100000">
                    <a:srgbClr val="003b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4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5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75e"/>
                  </a:gs>
                  <a:gs pos="50000">
                    <a:srgbClr val="0099cc"/>
                  </a:gs>
                  <a:gs pos="100000">
                    <a:srgbClr val="00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8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f2500"/>
                  </a:gs>
                  <a:gs pos="50000">
                    <a:srgbClr val="993300"/>
                  </a:gs>
                  <a:gs pos="100000">
                    <a:srgbClr val="6f25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9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5d5d"/>
                  </a:gs>
                  <a:gs pos="50000">
                    <a:srgbClr val="008080"/>
                  </a:gs>
                  <a:gs pos="100000">
                    <a:srgbClr val="005d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2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006f94"/>
                  </a:gs>
                  <a:gs pos="50000">
                    <a:srgbClr val="0099cc"/>
                  </a:gs>
                  <a:gs pos="100000">
                    <a:srgbClr val="006f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706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78b8b">
                    <a:alpha val="32156"/>
                  </a:srgbClr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1800"/>
                </a:gs>
                <a:gs pos="5000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14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8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719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2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3" name="Text Box 2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4" name="Text Box 22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25" name="Text Box 23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Text Box 2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yu wang</cp:lastModifiedBy>
  <cp:lastPrinted>1899-12-30T00:00:00Z</cp:lastPrinted>
  <dcterms:modified xsi:type="dcterms:W3CDTF">2015-08-12T14:54:50Z</dcterms:modified>
  <cp:revision>6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