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FBD-6A17-449A-A50E-C80B1582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B32-3FE3-4FEF-924E-C57C90C2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7C9-00DE-4A4D-A479-3DD32FBB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48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48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A50-8B04-47FC-8E19-7226B0EA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A521-32C7-4A30-9B39-93DC3941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5455-18EC-4A74-9782-6939DCB8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3E3B-DF37-491E-B046-D7CC6603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59A1-95E9-46F9-AA21-1281CC31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736D-C977-43DC-8B03-199C2810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4680"/>
            <a:ext cx="82260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F806-3E15-4CF3-987D-93CB2ED0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97FD-AE91-4BDF-9F74-9C129B6D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3A9-8D7B-4A38-8473-759E5E59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44DA-1E50-4E58-983F-20E9DA11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89D3-EC50-4AAD-96E3-098B25CE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F0AC-9D07-4724-B169-7DF30FBF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55E6-9479-486E-82E2-E3920CB5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48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48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7336-582B-4A10-ACF4-630F79E0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C46E-B1CD-4C45-A73E-89CF9448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BFD6C-0FC2-4FD2-A52A-1EB60841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5546-1E21-4AD2-99DF-39714C91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4BC96-CB18-4FCA-B9D9-E1D714B9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D6057-0DC6-4075-ACF9-8EE52A2A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4AC-BD44-4C96-A374-FCEFA1F4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5760" y="274680"/>
            <a:ext cx="82260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70BC-3DCE-4E0B-A1D4-4684B48A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F060D-4947-4381-953A-E0CE5D7D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20EC-05EC-4760-958E-254CD7D4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50BA2-98BB-4F7A-BE33-BF44707A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7EEC5-5982-4CBE-AEB4-58AB840F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F1F6-0C0E-4D98-BDF3-66CC266B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48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5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7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48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3D48F-6953-4B7E-9AB6-B411129F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B11DC-A1E3-4F3E-889B-7823B9AD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449B2-04DE-403D-9348-8FF01FFD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EB08F-FD03-4610-A998-FA88CAA2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3D5-B32C-4A79-B22A-ADC1B334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10841-C608-4E4C-A073-78EB1A88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78315-F648-46B4-B6AA-E068580D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274680"/>
            <a:ext cx="82260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07B56-7B9A-4347-9146-1F25BD6D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1801-299A-4177-B0D2-A0355121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1B6B-665D-42B3-BCDA-8A9F5D3E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620FE-EBA1-4622-B3B2-ABA2BFDF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89AB3-6D98-4C5A-8019-539B159E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30B8-E4B4-4C37-8A75-E02CDA4D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848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5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7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848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5074-8ABF-414F-81B4-C17C672E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BD4-FEB6-441F-BDE4-ED7BFA9C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4680"/>
            <a:ext cx="82260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116-36E7-47EF-B1DC-20ED2AC7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6C0-26F9-40B3-A45A-C8E3D40E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F82-2893-4CC5-B80A-63E6E783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EC5-713F-4152-A502-B251C0AC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1800" y="2130480"/>
            <a:ext cx="48002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983D91-753E-43CD-BBB3-9412EFB632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680"/>
            <a:ext cx="63162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880" y="1600200"/>
            <a:ext cx="6325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99D41A-8371-492E-AF51-74CCF3858D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 hidden="1"/>
          <p:cNvSpPr/>
          <p:nvPr/>
        </p:nvSpPr>
        <p:spPr>
          <a:xfrm>
            <a:off x="136440" y="136440"/>
            <a:ext cx="8865720" cy="6581520"/>
          </a:xfrm>
          <a:prstGeom prst="rect">
            <a:avLst/>
          </a:prstGeom>
          <a:solidFill>
            <a:schemeClr val="bg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6440" y="136440"/>
            <a:ext cx="8865720" cy="6581520"/>
          </a:xfrm>
          <a:prstGeom prst="rect">
            <a:avLst/>
          </a:prstGeom>
          <a:solidFill>
            <a:schemeClr val="bg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760" y="2130480"/>
            <a:ext cx="731340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16FA06-9B62-4E00-B677-54742A2ABA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36440" y="136440"/>
            <a:ext cx="8865720" cy="6581520"/>
          </a:xfrm>
          <a:prstGeom prst="rect">
            <a:avLst/>
          </a:prstGeom>
          <a:solidFill>
            <a:schemeClr val="bg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BBDD08-4071-4E7C-9707-9212ECB22B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520" y="1650240"/>
            <a:ext cx="841212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空间感设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03600" y="274680"/>
            <a:ext cx="63162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693880" y="1600200"/>
            <a:ext cx="6325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130480"/>
            <a:ext cx="731340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5760" y="3886200"/>
            <a:ext cx="731340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1" lang="en-US" sz="1050" spc="-1" strike="noStrike" u="sng">
                <a:solidFill>
                  <a:srgbClr val="224b73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224b73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224b73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en-US" sz="900" spc="-1" strike="noStrike" u="sng">
                <a:solidFill>
                  <a:srgbClr val="224b73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224b73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224b73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ind_0015_slide">
  <a:themeElements>
    <a:clrScheme name="Office 主题​​ 2">
      <a:dk1>
        <a:srgbClr val="000000"/>
      </a:dk1>
      <a:lt1>
        <a:srgbClr val="99ccff"/>
      </a:lt1>
      <a:dk2>
        <a:srgbClr val="000000"/>
      </a:dk2>
      <a:lt2>
        <a:srgbClr val="cccccc"/>
      </a:lt2>
      <a:accent1>
        <a:srgbClr val="48468c"/>
      </a:accent1>
      <a:accent2>
        <a:srgbClr val="1f6660"/>
      </a:accent2>
      <a:accent3>
        <a:srgbClr val="cae2ff"/>
      </a:accent3>
      <a:accent4>
        <a:srgbClr val="000000"/>
      </a:accent4>
      <a:accent5>
        <a:srgbClr val="b1b0c5"/>
      </a:accent5>
      <a:accent6>
        <a:srgbClr val="1b5c56"/>
      </a:accent6>
      <a:hlink>
        <a:srgbClr val="224b73"/>
      </a:hlink>
      <a:folHlink>
        <a:srgbClr val="58397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ind_0015_slide">
  <a:themeElements>
    <a:clrScheme name="Office 主题​​ 2">
      <a:dk1>
        <a:srgbClr val="000000"/>
      </a:dk1>
      <a:lt1>
        <a:srgbClr val="99ccff"/>
      </a:lt1>
      <a:dk2>
        <a:srgbClr val="000000"/>
      </a:dk2>
      <a:lt2>
        <a:srgbClr val="cccccc"/>
      </a:lt2>
      <a:accent1>
        <a:srgbClr val="48468c"/>
      </a:accent1>
      <a:accent2>
        <a:srgbClr val="1f6660"/>
      </a:accent2>
      <a:accent3>
        <a:srgbClr val="cae2ff"/>
      </a:accent3>
      <a:accent4>
        <a:srgbClr val="000000"/>
      </a:accent4>
      <a:accent5>
        <a:srgbClr val="b1b0c5"/>
      </a:accent5>
      <a:accent6>
        <a:srgbClr val="1b5c56"/>
      </a:accent6>
      <a:hlink>
        <a:srgbClr val="224b73"/>
      </a:hlink>
      <a:folHlink>
        <a:srgbClr val="58397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Default Design">
  <a:themeElements>
    <a:clrScheme name="1_Default Design 2">
      <a:dk1>
        <a:srgbClr val="000000"/>
      </a:dk1>
      <a:lt1>
        <a:srgbClr val="99ccff"/>
      </a:lt1>
      <a:dk2>
        <a:srgbClr val="000000"/>
      </a:dk2>
      <a:lt2>
        <a:srgbClr val="cccccc"/>
      </a:lt2>
      <a:accent1>
        <a:srgbClr val="48468c"/>
      </a:accent1>
      <a:accent2>
        <a:srgbClr val="1f6660"/>
      </a:accent2>
      <a:accent3>
        <a:srgbClr val="cae2ff"/>
      </a:accent3>
      <a:accent4>
        <a:srgbClr val="000000"/>
      </a:accent4>
      <a:accent5>
        <a:srgbClr val="b1b0c5"/>
      </a:accent5>
      <a:accent6>
        <a:srgbClr val="1b5c56"/>
      </a:accent6>
      <a:hlink>
        <a:srgbClr val="224b73"/>
      </a:hlink>
      <a:folHlink>
        <a:srgbClr val="58397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Default Design">
  <a:themeElements>
    <a:clrScheme name="1_Default Design 2">
      <a:dk1>
        <a:srgbClr val="000000"/>
      </a:dk1>
      <a:lt1>
        <a:srgbClr val="99ccff"/>
      </a:lt1>
      <a:dk2>
        <a:srgbClr val="000000"/>
      </a:dk2>
      <a:lt2>
        <a:srgbClr val="cccccc"/>
      </a:lt2>
      <a:accent1>
        <a:srgbClr val="48468c"/>
      </a:accent1>
      <a:accent2>
        <a:srgbClr val="1f6660"/>
      </a:accent2>
      <a:accent3>
        <a:srgbClr val="cae2ff"/>
      </a:accent3>
      <a:accent4>
        <a:srgbClr val="000000"/>
      </a:accent4>
      <a:accent5>
        <a:srgbClr val="b1b0c5"/>
      </a:accent5>
      <a:accent6>
        <a:srgbClr val="1b5c56"/>
      </a:accent6>
      <a:hlink>
        <a:srgbClr val="224b73"/>
      </a:hlink>
      <a:folHlink>
        <a:srgbClr val="58397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nd_0015_slide</Template>
  <TotalTime>3</TotalTime>
  <Application>LibreOffice/7.4.7.2$Linux_X86_64 LibreOffice_project/40$Build-2</Application>
  <AppVersion>15.0000</AppVersion>
  <Words>156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13:43:56Z</dcterms:created>
  <dc:creator>for_yang@qq.com</dc:creator>
  <dc:description/>
  <dc:language>en-US</dc:language>
  <cp:lastModifiedBy>yu wang</cp:lastModifiedBy>
  <dcterms:modified xsi:type="dcterms:W3CDTF">2015-08-12T14:56:03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