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8AD-D270-4CD6-BC77-DF90F052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ACD-BA82-4241-99D5-428F3AA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525-0B07-45B8-8F1E-D1D2F1C9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824-5919-491F-B15E-EC87EEB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8D3-16D8-4F7A-80F6-77D6BF93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6E11-3DCC-4405-A46A-B621FBA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3C06-63DB-46E4-B92C-5A06776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9877-A781-413F-90C4-C9169179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374-C74E-4B0A-8F99-121582A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1E6-9584-4897-BD85-B887FB4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3652-D9DE-4D48-A9B9-6F03709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EA2-43D5-4AC8-AD3F-F7281E9C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1A51-17D5-48BE-80C4-FDB60A6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885F-765C-414B-8483-95200FD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4C2-0037-4E03-B512-FFF9B5BA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8DD7-9AEE-4E17-B4B6-F52B92D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A5DD-3975-418E-9FA8-E19B00FD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675-4F11-44D3-B6AA-E9BD6E0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178-71B9-4BD3-B005-96FEE6D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DCA-35DB-44D9-B0D5-6D388FB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F1E-F430-4F9E-B703-861FF59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E3B-FB38-4087-96D1-C12FEE9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7D1-7FE9-4089-95AF-82224FA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D74-2372-49B2-92B2-EA1D8A2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6A985-A03B-4940-9166-6EAF4E9EAC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195FDD-E13C-423A-85DC-F6D7B739D5F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" y="404640"/>
            <a:ext cx="6994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蓝色立方体堆积创意</a:t>
            </a:r>
            <a:r>
              <a:rPr b="1" lang="en-US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模板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51811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678132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18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18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18</Template>
  <TotalTime>2</TotalTime>
  <Application>LibreOffice/7.4.7.2$Linux_X86_64 LibreOffice_project/40$Build-2</Application>
  <AppVersion>15.0000</AppVersion>
  <Words>241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3:18:20Z</dcterms:created>
  <dc:creator>for_yang@qq.com</dc:creator>
  <dc:description/>
  <dc:language>en-US</dc:language>
  <cp:lastModifiedBy>yu wang</cp:lastModifiedBy>
  <dcterms:modified xsi:type="dcterms:W3CDTF">2015-08-12T14:56:07Z</dcterms:modified>
  <cp:revision>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