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138-9D6C-4E6F-A9DF-5DE75676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185-57C3-4272-B412-5867B7CB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E98-2E53-4ED9-9EEE-C14FEAF6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776-2E39-40C0-BF99-796CBC59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014E-5716-4EEC-97BC-828F14FC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7C5F-7E06-4FB9-9671-C4BD74D0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5EB2-809E-403A-97BE-F039CD49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DBA5-4606-423C-9993-8123745E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3596-5547-4505-A5BD-E1C50317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ADEE-736B-455F-A869-5205D019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16CA-19DB-4FAE-A7DB-6739C9F5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141-2E46-4E73-9941-E5C14EE4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081F-0700-44C8-8611-1BBC5283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8D72-A253-491F-B440-720921C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E061-1CD6-4EF5-937D-6CB37783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B429-1A11-4DBD-9803-BE1F3E42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807D-5585-48F3-8C34-FE716D4C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AE7-EDF6-4603-B2DB-61AA477D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029-EE84-4741-826D-A3A21DC4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770-0073-4EE1-B78C-5924AD5B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D95-568C-4AA5-89B7-31C8486B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A67-E17C-4936-A7D8-D4A37CC6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DE7-615A-435F-B7B6-AFB8D8B6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8AA-CE32-4824-9494-1345DF5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Calibri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4D8B88-ED69-4FFA-9A65-1ACB07A63AD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1023E6-EE3A-4207-A46C-A10846C6122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112120" y="3501000"/>
            <a:ext cx="4241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蓝色立体方块企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640" y="2637000"/>
            <a:ext cx="83527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7200" spc="-1" strike="noStrike" cap="all">
                <a:solidFill>
                  <a:srgbClr val="255997"/>
                </a:solidFill>
                <a:latin typeface="微软雅黑"/>
                <a:ea typeface="微软雅黑"/>
              </a:rPr>
              <a:t>谢  谢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  <Words>164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00:52:49Z</dcterms:created>
  <dc:creator>ww</dc:creator>
  <dc:description/>
  <dc:language>en-US</dc:language>
  <cp:lastModifiedBy>yu wang</cp:lastModifiedBy>
  <dcterms:modified xsi:type="dcterms:W3CDTF">2015-08-12T14:56:0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