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E9B00-B3A0-454D-9613-3EB272913506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Ø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Arial"/>
              <a:buChar char="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清新简洁免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Arial Bold"/>
              </a:rPr>
              <a:t>使用规范说明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40404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40404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40404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 indent="-26496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1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4520" y="6523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49815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1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yu wang</cp:lastModifiedBy>
  <dcterms:modified xsi:type="dcterms:W3CDTF">2015-08-12T14:56:01Z</dcterms:modified>
  <cp:revision>1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