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" ContentType="application/vnd.ms-exce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54E4FF-AB10-4551-8194-63CCD942C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B6CDB9-EAF4-43A8-8A11-3DC81C5880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F6013B-D58C-431E-9423-D3EDC7776A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36B9E0-74B4-43B2-91DD-4B3A87E0A9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19D6B3-B352-49E8-B36C-B52D2F45D4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A048-FB9B-4B76-BBDD-123045E6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B12E-B355-480C-AEA2-289A016F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1B83-2BD5-4BA8-8FAA-B4D30D2D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20F8-927C-43DB-83ED-784B234F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D752-3211-438E-A906-823F9EC9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70D8-5D41-4866-819F-88E293BC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5376-EC71-42B7-BB8B-6F587977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5B33-720D-4DA9-86E4-F5D6FC49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71B0-D8CA-456C-8788-DBB24B39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180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1204-250D-4280-9E14-11A6FBC3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995A-7461-40E7-85A8-0EEE5129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500B-5315-4D68-BF66-D7E75058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C158-1BCE-44CF-BF26-846EEA47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AA1D-4E4A-47EA-83D7-2342943B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DF78-935A-4BD7-A036-69F6379E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6B5C-BCBE-48D8-8253-B0A37855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448F-4773-4AB0-91F1-4D8BA4B6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7D5CE-774F-460D-8251-9C3BFA72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AA7F3-6F6A-46B1-B45B-05098A06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A2F52-DAA6-4F1C-9C01-C71552DD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1C50C-7E08-4F9E-B02A-338F8ACD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A46B0-EF1B-4579-9DE9-7C34E656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5A24-6BA1-40F3-8EE8-B05500D5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180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73E35-5FEF-47BB-B1F7-C8DB3C45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1D542-2FBE-4F9D-A5DB-1364A6CF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BAF82-A89F-4D57-9610-568A9688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80D5E-9184-4A17-BFFC-F8B9ED72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451B6-C3BB-4558-BC7E-55CD2B0D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3E557-E793-4B37-BC17-788EAB53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8CD30-DC2B-4981-B663-220660B2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88E4-F174-49CF-92D3-E1A6002D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6FD5-81A5-4AE9-9142-DD4D354D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180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AB9A-E1B2-4515-B61D-33BDCF8A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8404-6406-483B-98B1-F184B3A3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4571-3B30-4CBC-BBB6-E8B46A11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28D9-AAE9-435A-9455-9D1401D2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5640" cy="1439640"/>
          </a:xfrm>
          <a:prstGeom prst="rect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000000">
                  <a:alpha val="85098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" name="Picture 10" descr=""/>
          <p:cNvPicPr/>
          <p:nvPr/>
        </p:nvPicPr>
        <p:blipFill>
          <a:blip r:embed="rId2"/>
          <a:srcRect l="6614" t="4486" r="3878" b="0"/>
          <a:stretch/>
        </p:blipFill>
        <p:spPr>
          <a:xfrm>
            <a:off x="7224840" y="0"/>
            <a:ext cx="1918800" cy="1439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0" descr=""/>
          <p:cNvPicPr/>
          <p:nvPr/>
        </p:nvPicPr>
        <p:blipFill>
          <a:blip r:embed="rId3"/>
          <a:srcRect l="6613" t="4488" r="3879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4"/>
          <p:cNvSpPr/>
          <p:nvPr/>
        </p:nvSpPr>
        <p:spPr>
          <a:xfrm>
            <a:off x="574560" y="0"/>
            <a:ext cx="8569080" cy="1368000"/>
          </a:xfrm>
          <a:prstGeom prst="rect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000000">
                  <a:alpha val="6000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36360" y="55800"/>
            <a:ext cx="7772040" cy="722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83fb27"/>
                </a:solidFill>
                <a:latin typeface="Arial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33872E-748A-4FFA-8950-697AA06D34A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0"/>
            <a:ext cx="7235640" cy="1439640"/>
          </a:xfrm>
          <a:prstGeom prst="rect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000000">
                  <a:alpha val="85098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6" name="Picture 10" descr=""/>
          <p:cNvPicPr/>
          <p:nvPr/>
        </p:nvPicPr>
        <p:blipFill>
          <a:blip r:embed="rId2"/>
          <a:srcRect l="6614" t="4486" r="3878" b="0"/>
          <a:stretch/>
        </p:blipFill>
        <p:spPr>
          <a:xfrm>
            <a:off x="7224840" y="0"/>
            <a:ext cx="1918800" cy="1439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83fb27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0CBE42-3520-4043-8534-6EF96F21CF9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0"/>
            <a:ext cx="7235640" cy="1439640"/>
          </a:xfrm>
          <a:prstGeom prst="rect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000000">
                  <a:alpha val="85098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2"/>
          <a:srcRect l="6614" t="4486" r="3878" b="0"/>
          <a:stretch/>
        </p:blipFill>
        <p:spPr>
          <a:xfrm>
            <a:off x="7224840" y="0"/>
            <a:ext cx="1918800" cy="143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83fb27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E62D2E-2735-4C8E-894B-EABB0030823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82560" y="777960"/>
            <a:ext cx="6400440" cy="479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GB" sz="2800" spc="-1" strike="noStrike">
                <a:solidFill>
                  <a:srgbClr val="83fb27"/>
                </a:solidFill>
                <a:latin typeface="Arial"/>
              </a:rPr>
              <a:t>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"/>
          <p:cNvSpPr/>
          <p:nvPr/>
        </p:nvSpPr>
        <p:spPr>
          <a:xfrm>
            <a:off x="2463840" y="74520"/>
            <a:ext cx="48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立体空间线条创意简洁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83fb27"/>
                </a:solidFill>
                <a:latin typeface="Arial"/>
              </a:rPr>
              <a:t>Example Bullet Poin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440" y="1663560"/>
            <a:ext cx="8229240" cy="4368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83fb27"/>
                </a:solidFill>
                <a:latin typeface="Arial"/>
              </a:rPr>
              <a:t>Sample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Content Placeholder 3"/>
          <p:cNvGraphicFramePr/>
          <p:nvPr/>
        </p:nvGraphicFramePr>
        <p:xfrm>
          <a:off x="901800" y="1790640"/>
          <a:ext cx="7340400" cy="3944520"/>
        </p:xfrm>
        <a:graphic>
          <a:graphicData uri="http://schemas.openxmlformats.org/presentationml/2006/ole">
            <p:oleObj progId="Excel.Chart.8" r:id="rId1" spid="">
              <p:embed/>
              <p:pic>
                <p:nvPicPr>
                  <p:cNvPr id="145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1790640"/>
                    <a:ext cx="7340400" cy="39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83fb27"/>
                </a:solidFill>
                <a:latin typeface="Arial"/>
              </a:rPr>
              <a:t>Colour sch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571920" y="2863800"/>
            <a:ext cx="826560" cy="61092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648320" y="2863800"/>
            <a:ext cx="826560" cy="610920"/>
          </a:xfrm>
          <a:prstGeom prst="rect">
            <a:avLst/>
          </a:prstGeom>
          <a:solidFill>
            <a:schemeClr val="bg2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519280" y="4478400"/>
            <a:ext cx="826560" cy="61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587760" y="4478400"/>
            <a:ext cx="826560" cy="610920"/>
          </a:xfrm>
          <a:prstGeom prst="rect">
            <a:avLst/>
          </a:prstGeom>
          <a:solidFill>
            <a:schemeClr val="accent2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656240" y="4478400"/>
            <a:ext cx="826560" cy="6109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5726160" y="4478400"/>
            <a:ext cx="826560" cy="61092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5708520" y="2863800"/>
            <a:ext cx="826560" cy="610920"/>
          </a:xfrm>
          <a:prstGeom prst="rect">
            <a:avLst/>
          </a:prstGeom>
          <a:solidFill>
            <a:schemeClr val="tx2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2503440" y="2863800"/>
            <a:ext cx="826560" cy="61092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2285280" y="2224080"/>
            <a:ext cx="1264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3614400" y="2101680"/>
            <a:ext cx="746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4553280" y="2224080"/>
            <a:ext cx="1016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ad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5843160" y="2101680"/>
            <a:ext cx="55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662200" y="3838680"/>
            <a:ext cx="542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3609000" y="3838680"/>
            <a:ext cx="802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4543560" y="3716280"/>
            <a:ext cx="102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5624640" y="3714840"/>
            <a:ext cx="102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llo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43640" y="658908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b6de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b6de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83fb27"/>
                </a:solidFill>
                <a:latin typeface="Arial"/>
              </a:rPr>
              <a:t>Pictur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69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IMG_9271"/>
          <p:cNvPicPr/>
          <p:nvPr/>
        </p:nvPicPr>
        <p:blipFill>
          <a:blip r:embed="rId1"/>
          <a:stretch/>
        </p:blipFill>
        <p:spPr>
          <a:xfrm>
            <a:off x="5256360" y="2205000"/>
            <a:ext cx="3096720" cy="3852360"/>
          </a:xfrm>
          <a:prstGeom prst="rect">
            <a:avLst/>
          </a:prstGeom>
          <a:ln w="5715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539640" y="1268280"/>
            <a:ext cx="8208720" cy="53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83fb27"/>
                </a:solidFill>
                <a:latin typeface="Arial"/>
              </a:rPr>
              <a:t>Use of templ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50920" y="1711440"/>
            <a:ext cx="69498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are free to use these templates for your personal and business presen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150920" y="3139920"/>
            <a:ext cx="3409560" cy="24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 these templates for your presen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play your presentation on a web site provided that it is not for the purpose of downloading the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you like these templates, we would always appreciate a link back to our website.  Many thank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4495680" y="3139920"/>
            <a:ext cx="3639600" cy="20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Don’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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ell or distribute these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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t these templates on a website for download.  This includes uploading them onto file sharing networks like Slideshare, Myspace, Facebook, bit torrent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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ss off any of our created content as your own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042920" y="5423040"/>
            <a:ext cx="716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can find many more free PowerPoint templates on the Presentation Magazine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150920" y="2608200"/>
            <a:ext cx="692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 have put a lot of work into developing all these templates and retain the copyright in them.  You can use them freely providing that you do not redistribute or sell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83fb27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1" lang="en-US" sz="1050" spc="-1" strike="noStrike" u="sng">
                <a:solidFill>
                  <a:srgbClr val="0b6def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b6de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b6def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en-US" sz="900" spc="-1" strike="noStrike" u="sng">
                <a:solidFill>
                  <a:srgbClr val="0b6def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b6def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b6def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b6def"/>
                </a:solidFill>
                <a:uFillTx/>
                <a:latin typeface="Arial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Custom 257">
      <a:dk1>
        <a:srgbClr val="000000"/>
      </a:dk1>
      <a:lt1>
        <a:srgbClr val="ffffff"/>
      </a:lt1>
      <a:dk2>
        <a:srgbClr val="000000"/>
      </a:dk2>
      <a:lt2>
        <a:srgbClr val="ffffff"/>
      </a:lt2>
      <a:accent1>
        <a:srgbClr val="000000"/>
      </a:accent1>
      <a:accent2>
        <a:srgbClr val="6ba7f8"/>
      </a:accent2>
      <a:accent3>
        <a:srgbClr val="c3dbfc"/>
      </a:accent3>
      <a:accent4>
        <a:srgbClr val="0a2793"/>
      </a:accent4>
      <a:accent5>
        <a:srgbClr val="c0e8fd"/>
      </a:accent5>
      <a:accent6>
        <a:srgbClr val="6097e1"/>
      </a:accent6>
      <a:hlink>
        <a:srgbClr val="0b6def"/>
      </a:hlink>
      <a:folHlink>
        <a:srgbClr val="237df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Custom 257">
      <a:dk1>
        <a:srgbClr val="000000"/>
      </a:dk1>
      <a:lt1>
        <a:srgbClr val="ffffff"/>
      </a:lt1>
      <a:dk2>
        <a:srgbClr val="000000"/>
      </a:dk2>
      <a:lt2>
        <a:srgbClr val="ffffff"/>
      </a:lt2>
      <a:accent1>
        <a:srgbClr val="000000"/>
      </a:accent1>
      <a:accent2>
        <a:srgbClr val="6ba7f8"/>
      </a:accent2>
      <a:accent3>
        <a:srgbClr val="c3dbfc"/>
      </a:accent3>
      <a:accent4>
        <a:srgbClr val="0a2793"/>
      </a:accent4>
      <a:accent5>
        <a:srgbClr val="c0e8fd"/>
      </a:accent5>
      <a:accent6>
        <a:srgbClr val="6097e1"/>
      </a:accent6>
      <a:hlink>
        <a:srgbClr val="0b6def"/>
      </a:hlink>
      <a:folHlink>
        <a:srgbClr val="237df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Custom 257">
      <a:dk1>
        <a:srgbClr val="000000"/>
      </a:dk1>
      <a:lt1>
        <a:srgbClr val="ffffff"/>
      </a:lt1>
      <a:dk2>
        <a:srgbClr val="000000"/>
      </a:dk2>
      <a:lt2>
        <a:srgbClr val="ffffff"/>
      </a:lt2>
      <a:accent1>
        <a:srgbClr val="000000"/>
      </a:accent1>
      <a:accent2>
        <a:srgbClr val="6ba7f8"/>
      </a:accent2>
      <a:accent3>
        <a:srgbClr val="c3dbfc"/>
      </a:accent3>
      <a:accent4>
        <a:srgbClr val="0a2793"/>
      </a:accent4>
      <a:accent5>
        <a:srgbClr val="c0e8fd"/>
      </a:accent5>
      <a:accent6>
        <a:srgbClr val="6097e1"/>
      </a:accent6>
      <a:hlink>
        <a:srgbClr val="0b6def"/>
      </a:hlink>
      <a:folHlink>
        <a:srgbClr val="237df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ffffff"/>
      </a:lt2>
      <a:accent1>
        <a:srgbClr val="000000"/>
      </a:accent1>
      <a:accent2>
        <a:srgbClr val="6ba7f8"/>
      </a:accent2>
      <a:accent3>
        <a:srgbClr val="c3dbfc"/>
      </a:accent3>
      <a:accent4>
        <a:srgbClr val="0a2793"/>
      </a:accent4>
      <a:accent5>
        <a:srgbClr val="c0e8fd"/>
      </a:accent5>
      <a:accent6>
        <a:srgbClr val="6097e1"/>
      </a:accent6>
      <a:hlink>
        <a:srgbClr val="0b6def"/>
      </a:hlink>
      <a:folHlink>
        <a:srgbClr val="237df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  <Words>362</Words>
  <Paragraphs>6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yu wang</cp:lastModifiedBy>
  <dcterms:modified xsi:type="dcterms:W3CDTF">2015-08-12T14:53:35Z</dcterms:modified>
  <cp:revision>13</cp:revision>
  <dc:subject/>
  <dc:title>Firework Swirls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全屏显示(4:3)</vt:lpwstr>
  </property>
  <property fmtid="{D5CDD505-2E9C-101B-9397-08002B2CF9AE}" pid="4" name="Slides">
    <vt:r8>7</vt:r8>
  </property>
</Properties>
</file>