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7B1F-B6FE-4793-8E34-214F12DFD34A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D3B-6915-434E-A91F-1274AC17B30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62A441-3B33-40BF-9F40-3B9B3063459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7E8-35E2-43E2-9C70-1F77F328810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FE57CD48-F9E0-4206-AA40-45CB2AA3640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蓝天与白云简洁</a:t>
            </a: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4050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40505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40505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yu wang</cp:lastModifiedBy>
  <dcterms:modified xsi:type="dcterms:W3CDTF">2015-08-12T14:55:29Z</dcterms:modified>
  <cp:revision>71</cp:revision>
  <dc:subject/>
  <dc:title>PowerPoint Template</dc:title>
</cp:coreProperties>
</file>