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FCE-9C9D-4B5C-8E58-B3DE3D86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6DF-A229-44EE-A163-ABF3B1F3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1CA-199C-45D1-A0E1-08815B4A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13D-2D2D-4A97-967D-9197D5BA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FA5-31BB-4E36-A4C7-C996AF65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519-E52E-4990-9A40-5D64C3B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801-524A-4450-AD74-2BA11A84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5E1-F63F-4C14-8AA3-1B51441B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062-105C-4EB6-9FFA-78920DBA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D29-D574-4A1C-9750-E61DABBA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547-A433-4358-BC7B-C4D08BA2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1B6-2347-4122-BA31-4144E81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B83D-21CE-4BAE-93CC-6328B139D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rbel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034720" y="83016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旅游印象简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8"/>
          <p:cNvPicPr/>
          <p:nvPr/>
        </p:nvPicPr>
        <p:blipFill>
          <a:blip r:embed="rId2"/>
          <a:stretch/>
        </p:blipFill>
        <p:spPr>
          <a:xfrm>
            <a:off x="36360" y="593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7808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6220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Candara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Candara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6462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www.pptbz.com</dc:creator>
  <dc:description/>
  <dc:language>en-US</dc:language>
  <cp:lastModifiedBy>yu wang</cp:lastModifiedBy>
  <dcterms:modified xsi:type="dcterms:W3CDTF">2015-08-12T14:52:12Z</dcterms:modified>
  <cp:revision>5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