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A6E-A968-4F6C-9F48-FB5086C1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046-F0C6-4CFC-ACA5-D789B44E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F929-F3BF-4455-88C9-03DC1059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7FE6-3E95-4B93-B74B-59492638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BAE-0BEC-4F2C-B0F3-142D390A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731-18AF-40D9-99D0-903C4F3C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D0C-0775-4947-A552-A0010C97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C03-E28C-465D-9C9B-10C4E6B9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866-BD6F-4A5E-8FE0-2A86A4B2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A193-E9F5-47D8-A9E6-2E00FA0E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F20-80B8-45DC-BCD6-233E4F58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F25-0597-4FD6-A61B-16103378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1A8D-ACC5-4C2E-96EE-696C4185A9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直接连接符 7"/>
          <p:cNvSpPr/>
          <p:nvPr/>
        </p:nvSpPr>
        <p:spPr>
          <a:xfrm>
            <a:off x="395280" y="692280"/>
            <a:ext cx="8569440" cy="0"/>
          </a:xfrm>
          <a:prstGeom prst="line">
            <a:avLst/>
          </a:prstGeom>
          <a:ln w="381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8"/>
          <p:cNvSpPr/>
          <p:nvPr/>
        </p:nvSpPr>
        <p:spPr>
          <a:xfrm>
            <a:off x="3348000" y="6237360"/>
            <a:ext cx="5616720" cy="0"/>
          </a:xfrm>
          <a:prstGeom prst="line">
            <a:avLst/>
          </a:prstGeom>
          <a:ln w="381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6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3095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"/>
          <p:cNvSpPr/>
          <p:nvPr/>
        </p:nvSpPr>
        <p:spPr>
          <a:xfrm>
            <a:off x="826920" y="1341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Calibri"/>
              </a:rPr>
              <a:t>梅花新年中国风</a:t>
            </a: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i="1" lang="zh-CN" sz="4000" spc="-1" strike="noStrike">
                <a:solidFill>
                  <a:srgbClr val="ffffff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395280" y="115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模板使用说明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"/>
          <p:cNvSpPr/>
          <p:nvPr/>
        </p:nvSpPr>
        <p:spPr>
          <a:xfrm>
            <a:off x="611280" y="1125360"/>
            <a:ext cx="78483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7937640" y="6308640"/>
            <a:ext cx="109836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 O G 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extBox 1" descr=""/>
          <p:cNvPicPr/>
          <p:nvPr/>
        </p:nvPicPr>
        <p:blipFill>
          <a:blip r:embed="rId1"/>
          <a:stretch/>
        </p:blipFill>
        <p:spPr>
          <a:xfrm>
            <a:off x="1116000" y="2779560"/>
            <a:ext cx="74851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12T14:52:30Z</dcterms:modified>
  <cp:revision>7</cp:revision>
  <dc:subject/>
  <dc:title>PowerPoint 演示文稿</dc:title>
</cp:coreProperties>
</file>