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A84-8BBA-476C-9EEE-1CD94DCC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B52-9777-4B9E-B92B-F4AC0CA4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274CE-3B0C-49A6-840E-BE63F1E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E332-EFA0-4192-B732-E00BE421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83B58-DEFE-4AA1-8FB5-115965B0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DFE9-2C89-46E3-A1CF-C2F11825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A65E-231E-41C7-B5B8-3DBE5EC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689A-D048-4207-AA06-775258B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E345-AA45-4887-8A21-43D7A0D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12C55-69AB-4D02-98E9-D9CE60DA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588D4-33DA-4897-87C4-90C34D07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1ABC4-095C-4BD0-972C-3C19A810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1C7-9453-45D7-A78A-723A4FC1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DACE7-5C1B-4D85-94CE-5B99671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62112-7196-4F1D-B4D9-6AF25D7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80F6F-1138-4EB7-BC48-CFD9579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C734F-70CF-4474-B019-C142334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3EC5-66F1-4569-8078-174601D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2049-09D4-4217-85C5-BE2904F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6ED7C-5471-49F2-9938-B79BCEF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A8FA6-0295-456D-AF33-32596A6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58E9B-D594-4789-BCA8-32D7D46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39F32-7709-4358-A376-56CEC6CC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2DE-1677-4C81-B782-AFB2E43F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9B58-61C1-455F-BC6B-F768CD2F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AB8F4-AEDD-418F-8EB8-1FEABBBC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F3A2-8424-4467-910A-86614C7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CB6D8-BC69-4B71-B405-768169B3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E719B-B7C2-4E09-B059-6C938D5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18BE-7206-41DA-AFAA-7B531B28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4036E-13A4-4E89-AE74-0737DFE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9AFD-E632-4279-9D08-DDDA123F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9CC6E-470D-4D49-B7A6-70D13E1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C6AD6-7657-4055-BA72-0B9BB64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483D-C109-4333-A26A-8657E089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0C7E-2B51-4276-B33D-264D7EA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02F1-16FD-4AEC-8A84-07A0BB43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83E5-6C95-45F0-AE32-5D26C2E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6E059-7D86-438E-9A39-A0077816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75B75-A361-406E-96AB-EC48849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90DDA-6954-4615-9AF8-3F68FD25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F97C-15F1-47EE-BE3A-CBB2FE4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49CD4-8DA5-41D6-88B2-D7E0F93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8344F-2EB5-47AD-9188-714D5F6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79E82-6C14-41BD-AA40-3F5D8D7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AF2-0C68-45F3-83B5-EFD05EE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DF09-EAE5-4C59-BEF7-673C23B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F70F4-4A21-4829-90EB-E8B3364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65D9E-BA90-4FB3-84A7-8581FEC9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28BF0-072B-4808-B180-516EEF3F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83B6B-E0AF-4F75-9A5C-D4AA4632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B7F-89B0-4366-8C3F-C2D6171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0BC-74E3-401C-9A31-5ED7983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D2E7-FBCE-4CE7-93E1-82AC7D6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E92-F4ED-4087-B0F7-9958AE89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B685-CDDB-4972-8ACA-2A699EE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5A-C5EF-48CF-942D-86BC978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8E5-BE99-48AD-88F1-1CF83772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F46-3E9D-4439-9773-FFE95C3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F62C-CA9D-4012-96DC-7F43A5CA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3E3B-27C5-4C21-85C1-EE236A98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4B1C-4A0B-4EE1-AC37-4A70E3C3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845B-2656-4819-A080-C8D1BEA8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EB93-3A98-49C3-8B13-D354EF69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212C-3CD2-4DCC-8241-C27A74B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5AFF1-9F0A-4D50-95C0-C905FE4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07D6-6F05-4B34-B80B-ED38A78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04F-0807-4DE2-97C6-3EFDF9D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2CC8-22EC-4592-8A03-F24EDCD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029D-281B-4C70-BB46-1BEEB18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8B1F-C247-4C8A-BC9F-6ADEFCF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10AE-7862-4B65-9608-80F237B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19EB-D832-4DCC-AE59-8880EBB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BA91-EFD0-458F-9AA9-70E07D1A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7C94-491F-4732-A1DA-3A95F3C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9058-BC2D-4A53-9C34-C19A3498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371F-ADF3-482B-ACE4-2BAB529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3DAB-0FC1-403A-B459-98B3D6D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888-6DCF-4C78-8889-11443B7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B564-76BE-4F76-B919-DD9E58F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7436-FF32-4C3E-B032-5360584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C705-A8A3-4CBD-85EE-D4BFC893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6985-62AE-496A-A1A9-4EE2471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35703-D004-4DA7-B6D8-42FDB4E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24E8-5DE9-4BF1-BB4D-5BFA8C0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9920-27C3-42D3-B665-9525A39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72F9-F3C1-43CB-B14C-770039F9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E510-B075-468D-A13E-CE5D44BD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2D8E9-8C9A-419E-BE74-EDE8573D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83E-C333-45EA-9F69-A1C87F3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ECAC-DCE6-4EA7-8298-CA1C365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9C66-F1D1-4D9A-9398-C0799FC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2581-2DBE-41A6-A8CF-65E570B8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82F4-A8F3-49D9-B362-1AC481A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6DD1-24B3-4DEE-AD45-5AD0861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2B23-3D4F-4585-9B7D-041679B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35BD-46EB-45AB-834E-CDD3C3C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16AF-0132-47E6-82A7-F7BEA66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F9B2-658C-4D48-8BEE-4D34DDD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B446-6349-4895-98BD-8C55974B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4E1-28CF-44A0-BB3D-995D322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7A16-4E48-4881-82A2-F5525FAE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D447-520E-4B59-928C-32A7EB1A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5C8B-C478-4998-8FF2-E3691908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F533-6F78-459C-807C-AE4C017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BA259-098A-42EB-87AA-8E7A218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B4A8-CFAB-49C2-8EEA-E61456A9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85FC2-3701-43F1-87C7-F8A1AAC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01E8-5763-4909-AF7D-40BB192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70D4-2F3A-4DA1-AC49-A66FDA5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CB5FD-8FDB-441E-8E46-06B6516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357-1B65-4145-B356-6915B20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9442-D239-4162-BF30-D24E6A9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F5E0-0A72-4452-8228-CDE2D654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7173-0EB3-433C-B8AB-F4BA025E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9645-3705-4CB6-823D-F2EDB88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E3C5-868B-4D86-90D1-184F638F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C5B5-58C1-4965-9021-3FC3200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C2A2-1D48-4681-A36D-34A2E291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1795-1463-45E3-B389-D16D05CB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E1493-093D-4B4B-B1FB-0B606899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3F12-379F-4E20-8AFB-7BC21AD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A7F-617C-4274-8ABB-A2DF777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3770-2192-4DA2-BC02-F1F685E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13C7-F014-48B5-B91F-AE62DFB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5443C-E327-4C64-AC23-EE3BDD6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5DAB-A15E-45AA-9EAC-968403D8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B216-FA87-4389-A004-1E6672E4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5984-FD73-4272-BD07-2066F4B3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7BD14-A3BC-49DA-9933-43D0049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EDFC-FC50-4F17-97D0-D41F6E2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ABE4D-2797-425D-B4DD-7BDD4EEA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AA2C-BD2F-4592-9B5C-900FC15A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DE0-4023-464C-9C71-2F03FC6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1042-7541-4D08-B517-4536B13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699F-E9D0-40DC-A570-31E091D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A8E0-4CF4-4E04-9F3F-D14A8C5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6391-FE79-40AE-B445-7DB22F7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66BF-3BB2-41DC-8504-D64906BF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388E-2953-4FE6-9441-D62DDD17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9B70-A2DF-408F-8755-E534656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602D0-F566-4DB8-9C24-94A9402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784B-636F-474F-9F3C-B89CD6B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FCA36-DD99-4E82-9260-78C8630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5AE5-68D2-4373-9011-E576E7A70E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6ED6-2294-4E79-9C8E-7C4937DD49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630-99E3-4895-B4E9-0E2F8DCA85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4E20-B25F-48A4-BFE0-2350E9E352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0095-5621-4483-87C6-0219BB8052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FA0-2518-4794-8C83-85035029C8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FD69-FAC8-417B-88DC-F147019337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D79-88C2-491E-AA13-870D5F3967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D46-2D34-4684-BF3A-2B1042265E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9AC-435A-4CCA-84D1-2A9004CF93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77E2-8B6C-4229-B505-77679BB310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D948-33DE-4E93-BE4E-0ADD5867ED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136-E866-452C-856E-65E7F68E43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DA41-B1D7-4E1A-A2C0-C4CF24E105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E65-9EB4-43AD-8DC8-AD462E7FD5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5370-33D3-44E9-B61A-6EF57457B6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314-E059-4628-8BE9-173F313B50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1425-400A-4BF4-A0E1-89E773D786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FAE-0F1A-45A8-B337-05445014CF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E62D-2756-411D-9642-4777BC1D51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BC3-F6F5-4755-81DD-B90516A0AF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A43-A828-4B73-8805-2BCB405719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85C6-FA04-4878-9A86-C1D4975169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A2D-69CD-4D8B-BEE1-9A2AA67868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rcRect l="0" t="2748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2920" y="157176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美女商务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2"/>
          <p:cNvSpPr/>
          <p:nvPr/>
        </p:nvSpPr>
        <p:spPr>
          <a:xfrm>
            <a:off x="33804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目 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Group 6"/>
          <p:cNvGrpSpPr/>
          <p:nvPr/>
        </p:nvGrpSpPr>
        <p:grpSpPr>
          <a:xfrm>
            <a:off x="2340000" y="1346040"/>
            <a:ext cx="4929120" cy="787680"/>
            <a:chOff x="2340000" y="1346040"/>
            <a:chExt cx="4929120" cy="787680"/>
          </a:xfrm>
        </p:grpSpPr>
        <p:sp>
          <p:nvSpPr>
            <p:cNvPr id="501" name="圆角矩形 3"/>
            <p:cNvSpPr/>
            <p:nvPr/>
          </p:nvSpPr>
          <p:spPr>
            <a:xfrm>
              <a:off x="2340000" y="1489680"/>
              <a:ext cx="4929120" cy="504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标题 1"/>
            <p:cNvSpPr/>
            <p:nvPr/>
          </p:nvSpPr>
          <p:spPr>
            <a:xfrm>
              <a:off x="3220200" y="134604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研究</a:t>
              </a:r>
              <a:r>
                <a:rPr b="0" lang="en-US" sz="1800" spc="-1" strike="noStrike">
                  <a:solidFill>
                    <a:srgbClr val="ffff00"/>
                  </a:solidFill>
                  <a:latin typeface="微软雅黑"/>
                </a:rPr>
                <a:t>PPT</a:t>
              </a: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模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9"/>
          <p:cNvGrpSpPr/>
          <p:nvPr/>
        </p:nvGrpSpPr>
        <p:grpSpPr>
          <a:xfrm>
            <a:off x="2340000" y="2162160"/>
            <a:ext cx="4929120" cy="787320"/>
            <a:chOff x="2340000" y="2162160"/>
            <a:chExt cx="4929120" cy="787320"/>
          </a:xfrm>
        </p:grpSpPr>
        <p:sp>
          <p:nvSpPr>
            <p:cNvPr id="504" name="圆角矩形 15"/>
            <p:cNvSpPr/>
            <p:nvPr/>
          </p:nvSpPr>
          <p:spPr>
            <a:xfrm>
              <a:off x="2340000" y="230580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标题 1"/>
            <p:cNvSpPr/>
            <p:nvPr/>
          </p:nvSpPr>
          <p:spPr>
            <a:xfrm>
              <a:off x="3220200" y="216216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不变的风格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2"/>
          <p:cNvGrpSpPr/>
          <p:nvPr/>
        </p:nvGrpSpPr>
        <p:grpSpPr>
          <a:xfrm>
            <a:off x="2340000" y="2978280"/>
            <a:ext cx="4929120" cy="787320"/>
            <a:chOff x="2340000" y="2978280"/>
            <a:chExt cx="4929120" cy="787320"/>
          </a:xfrm>
        </p:grpSpPr>
        <p:sp>
          <p:nvSpPr>
            <p:cNvPr id="507" name="圆角矩形 18"/>
            <p:cNvSpPr/>
            <p:nvPr/>
          </p:nvSpPr>
          <p:spPr>
            <a:xfrm>
              <a:off x="2340000" y="312192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标题 1"/>
            <p:cNvSpPr/>
            <p:nvPr/>
          </p:nvSpPr>
          <p:spPr>
            <a:xfrm>
              <a:off x="3220200" y="297828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求变求创新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5"/>
          <p:cNvGrpSpPr/>
          <p:nvPr/>
        </p:nvGrpSpPr>
        <p:grpSpPr>
          <a:xfrm>
            <a:off x="2359080" y="3794040"/>
            <a:ext cx="4929120" cy="787320"/>
            <a:chOff x="2359080" y="3794040"/>
            <a:chExt cx="4929120" cy="787320"/>
          </a:xfrm>
        </p:grpSpPr>
        <p:sp>
          <p:nvSpPr>
            <p:cNvPr id="510" name="圆角矩形 21"/>
            <p:cNvSpPr/>
            <p:nvPr/>
          </p:nvSpPr>
          <p:spPr>
            <a:xfrm>
              <a:off x="2359080" y="393768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标题 1"/>
            <p:cNvSpPr/>
            <p:nvPr/>
          </p:nvSpPr>
          <p:spPr>
            <a:xfrm>
              <a:off x="3239280" y="379404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微软雅黑"/>
                </a:rPr>
                <a:t>一天怎么这么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25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圆角矩形 3"/>
          <p:cNvSpPr/>
          <p:nvPr/>
        </p:nvSpPr>
        <p:spPr>
          <a:xfrm>
            <a:off x="324000" y="912960"/>
            <a:ext cx="8496000" cy="4608360"/>
          </a:xfrm>
          <a:prstGeom prst="roundRect">
            <a:avLst>
              <a:gd name="adj" fmla="val 2394"/>
            </a:avLst>
          </a:prstGeom>
          <a:solidFill>
            <a:srgbClr val="ffffff">
              <a:alpha val="25000"/>
            </a:srgbClr>
          </a:soli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4" descr=""/>
          <p:cNvPicPr/>
          <p:nvPr/>
        </p:nvPicPr>
        <p:blipFill>
          <a:blip r:embed="rId4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5" descr=""/>
          <p:cNvPicPr/>
          <p:nvPr/>
        </p:nvPicPr>
        <p:blipFill>
          <a:blip r:embed="rId5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4"/>
          <p:cNvSpPr/>
          <p:nvPr/>
        </p:nvSpPr>
        <p:spPr>
          <a:xfrm>
            <a:off x="1104840" y="148896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书到用时方恨少，年少有空的时间多积累些东西，待到用时信手拈来，即为快哉，图表这东西很多的了，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</a:rPr>
              <a:t>做了没用究竟有没有意义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7"/>
          <p:cNvSpPr/>
          <p:nvPr/>
        </p:nvSpPr>
        <p:spPr>
          <a:xfrm>
            <a:off x="4822920" y="25304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68"/>
          <p:cNvSpPr/>
          <p:nvPr/>
        </p:nvSpPr>
        <p:spPr>
          <a:xfrm>
            <a:off x="6665760" y="4481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69"/>
          <p:cNvSpPr/>
          <p:nvPr/>
        </p:nvSpPr>
        <p:spPr>
          <a:xfrm>
            <a:off x="7093080" y="32418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70"/>
          <p:cNvSpPr/>
          <p:nvPr/>
        </p:nvSpPr>
        <p:spPr>
          <a:xfrm>
            <a:off x="3386160" y="45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71"/>
          <p:cNvSpPr/>
          <p:nvPr/>
        </p:nvSpPr>
        <p:spPr>
          <a:xfrm>
            <a:off x="3475080" y="3429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14"/>
          <p:cNvGrpSpPr/>
          <p:nvPr/>
        </p:nvGrpSpPr>
        <p:grpSpPr>
          <a:xfrm>
            <a:off x="4765680" y="2473200"/>
            <a:ext cx="1933560" cy="1933560"/>
            <a:chOff x="4765680" y="2473200"/>
            <a:chExt cx="1933560" cy="1933560"/>
          </a:xfrm>
        </p:grpSpPr>
        <p:sp>
          <p:nvSpPr>
            <p:cNvPr id="530" name="Oval 14"/>
            <p:cNvSpPr/>
            <p:nvPr/>
          </p:nvSpPr>
          <p:spPr>
            <a:xfrm>
              <a:off x="4765680" y="2473200"/>
              <a:ext cx="1933560" cy="19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16"/>
            <p:cNvGrpSpPr/>
            <p:nvPr/>
          </p:nvGrpSpPr>
          <p:grpSpPr>
            <a:xfrm>
              <a:off x="4889520" y="2512800"/>
              <a:ext cx="1680120" cy="560160"/>
              <a:chOff x="4889520" y="2512800"/>
              <a:chExt cx="1680120" cy="560160"/>
            </a:xfrm>
          </p:grpSpPr>
          <p:sp>
            <p:nvSpPr>
              <p:cNvPr id="532" name="Oval 17"/>
              <p:cNvSpPr/>
              <p:nvPr/>
            </p:nvSpPr>
            <p:spPr>
              <a:xfrm>
                <a:off x="4889520" y="2512800"/>
                <a:ext cx="168012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Text Box 18"/>
            <p:cNvSpPr/>
            <p:nvPr/>
          </p:nvSpPr>
          <p:spPr>
            <a:xfrm>
              <a:off x="4958640" y="2927160"/>
              <a:ext cx="168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是否有点无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19"/>
          <p:cNvSpPr/>
          <p:nvPr/>
        </p:nvSpPr>
        <p:spPr>
          <a:xfrm>
            <a:off x="5940360" y="4562640"/>
            <a:ext cx="78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4745160" y="4632480"/>
            <a:ext cx="66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027320" y="3666960"/>
            <a:ext cx="52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4070520" y="2473200"/>
            <a:ext cx="55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6842160" y="3699000"/>
            <a:ext cx="5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 rot="1390800">
            <a:off x="5749920" y="1809720"/>
            <a:ext cx="118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6927840" y="262080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6"/>
          <p:cNvSpPr/>
          <p:nvPr/>
        </p:nvSpPr>
        <p:spPr>
          <a:xfrm>
            <a:off x="4784760" y="1733400"/>
            <a:ext cx="70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8"/>
          <p:cNvSpPr/>
          <p:nvPr/>
        </p:nvSpPr>
        <p:spPr>
          <a:xfrm>
            <a:off x="611280" y="1241280"/>
            <a:ext cx="188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</a:rPr>
              <a:t>主要原因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2f2f2"/>
                </a:solidFill>
                <a:latin typeface="微软雅黑"/>
              </a:rPr>
              <a:t>反正闲着也是闲着，让无聊进行到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000"/>
                </a:solidFill>
                <a:latin typeface="微软雅黑"/>
              </a:rPr>
              <a:t>主要原因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2f2f2"/>
                </a:solidFill>
                <a:latin typeface="微软雅黑"/>
              </a:rPr>
              <a:t>身在异地见不到女朋友，连女朋友生气了也没法哄，想发泄下</a:t>
            </a:r>
            <a:r>
              <a:rPr b="0" lang="en-US" sz="1200" spc="-1" strike="noStrike">
                <a:solidFill>
                  <a:srgbClr val="f2f2f2"/>
                </a:solidFill>
                <a:latin typeface="微软雅黑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3"/>
          <p:cNvSpPr/>
          <p:nvPr/>
        </p:nvSpPr>
        <p:spPr>
          <a:xfrm>
            <a:off x="2843280" y="1417680"/>
            <a:ext cx="1440" cy="224928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0" descr=""/>
          <p:cNvPicPr/>
          <p:nvPr/>
        </p:nvPicPr>
        <p:blipFill>
          <a:blip r:embed="rId1"/>
          <a:srcRect l="0" t="0" r="0" b="2437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2"/>
          <a:stretch/>
        </p:blipFill>
        <p:spPr>
          <a:xfrm>
            <a:off x="0" y="4513320"/>
            <a:ext cx="2629080" cy="12002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6" descr=""/>
          <p:cNvPicPr/>
          <p:nvPr/>
        </p:nvPicPr>
        <p:blipFill>
          <a:blip r:embed="rId3"/>
          <a:stretch/>
        </p:blipFill>
        <p:spPr>
          <a:xfrm>
            <a:off x="1116000" y="3843360"/>
            <a:ext cx="938160" cy="15620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书签有木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6"/>
          <p:cNvGrpSpPr/>
          <p:nvPr/>
        </p:nvGrpSpPr>
        <p:grpSpPr>
          <a:xfrm>
            <a:off x="811800" y="2226600"/>
            <a:ext cx="1227960" cy="1287000"/>
            <a:chOff x="811800" y="2226600"/>
            <a:chExt cx="1227960" cy="1287000"/>
          </a:xfrm>
        </p:grpSpPr>
        <p:grpSp>
          <p:nvGrpSpPr>
            <p:cNvPr id="549" name="Group 7"/>
            <p:cNvGrpSpPr/>
            <p:nvPr/>
          </p:nvGrpSpPr>
          <p:grpSpPr>
            <a:xfrm>
              <a:off x="811800" y="2226600"/>
              <a:ext cx="1227960" cy="1287000"/>
              <a:chOff x="811800" y="2226600"/>
              <a:chExt cx="1227960" cy="1287000"/>
            </a:xfrm>
          </p:grpSpPr>
          <p:sp>
            <p:nvSpPr>
              <p:cNvPr id="550" name="矩形 3"/>
              <p:cNvSpPr/>
              <p:nvPr/>
            </p:nvSpPr>
            <p:spPr>
              <a:xfrm rot="19432800">
                <a:off x="1043280" y="2352240"/>
                <a:ext cx="764640" cy="1035360"/>
              </a:xfrm>
              <a:prstGeom prst="rect">
                <a:avLst/>
              </a:prstGeom>
              <a:solidFill>
                <a:srgbClr val="598e88">
                  <a:alpha val="70000"/>
                </a:srgbClr>
              </a:solidFill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矩形 4"/>
              <p:cNvSpPr/>
              <p:nvPr/>
            </p:nvSpPr>
            <p:spPr>
              <a:xfrm rot="19432800">
                <a:off x="905400" y="2602800"/>
                <a:ext cx="90000" cy="2250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Box 5"/>
              <p:cNvSpPr/>
              <p:nvPr/>
            </p:nvSpPr>
            <p:spPr>
              <a:xfrm rot="19432800">
                <a:off x="909000" y="2642760"/>
                <a:ext cx="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Box 8"/>
            <p:cNvSpPr/>
            <p:nvPr/>
          </p:nvSpPr>
          <p:spPr>
            <a:xfrm rot="19508400">
              <a:off x="1136160" y="2666880"/>
              <a:ext cx="6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2"/>
          <p:cNvGrpSpPr/>
          <p:nvPr/>
        </p:nvGrpSpPr>
        <p:grpSpPr>
          <a:xfrm>
            <a:off x="2005560" y="2201040"/>
            <a:ext cx="1285200" cy="1371240"/>
            <a:chOff x="2005560" y="2201040"/>
            <a:chExt cx="1285200" cy="1371240"/>
          </a:xfrm>
        </p:grpSpPr>
        <p:sp>
          <p:nvSpPr>
            <p:cNvPr id="555" name="矩形 13"/>
            <p:cNvSpPr/>
            <p:nvPr/>
          </p:nvSpPr>
          <p:spPr>
            <a:xfrm rot="20086800">
              <a:off x="2278800" y="2347200"/>
              <a:ext cx="815400" cy="110376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0"/>
            <p:cNvSpPr/>
            <p:nvPr/>
          </p:nvSpPr>
          <p:spPr>
            <a:xfrm rot="20086800">
              <a:off x="2201760" y="2322000"/>
              <a:ext cx="815400" cy="110376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14"/>
            <p:cNvSpPr/>
            <p:nvPr/>
          </p:nvSpPr>
          <p:spPr>
            <a:xfrm rot="20163000">
              <a:off x="2315520" y="270936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6"/>
          <p:cNvGrpSpPr/>
          <p:nvPr/>
        </p:nvGrpSpPr>
        <p:grpSpPr>
          <a:xfrm>
            <a:off x="3375360" y="2280240"/>
            <a:ext cx="880920" cy="1119600"/>
            <a:chOff x="3375360" y="2280240"/>
            <a:chExt cx="880920" cy="1119600"/>
          </a:xfrm>
        </p:grpSpPr>
        <p:sp>
          <p:nvSpPr>
            <p:cNvPr id="559" name="矩形 17"/>
            <p:cNvSpPr/>
            <p:nvPr/>
          </p:nvSpPr>
          <p:spPr>
            <a:xfrm rot="396000">
              <a:off x="3432240" y="2320560"/>
              <a:ext cx="766800" cy="103824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16"/>
            <p:cNvSpPr/>
            <p:nvPr/>
          </p:nvSpPr>
          <p:spPr>
            <a:xfrm>
              <a:off x="3434400" y="2313000"/>
              <a:ext cx="766800" cy="1038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8"/>
            <p:cNvSpPr/>
            <p:nvPr/>
          </p:nvSpPr>
          <p:spPr>
            <a:xfrm>
              <a:off x="3534480" y="2644200"/>
              <a:ext cx="72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20"/>
          <p:cNvGrpSpPr/>
          <p:nvPr/>
        </p:nvGrpSpPr>
        <p:grpSpPr>
          <a:xfrm>
            <a:off x="6928920" y="2258280"/>
            <a:ext cx="1122120" cy="1334880"/>
            <a:chOff x="6928920" y="2258280"/>
            <a:chExt cx="1122120" cy="1334880"/>
          </a:xfrm>
        </p:grpSpPr>
        <p:sp>
          <p:nvSpPr>
            <p:cNvPr id="563" name="矩形 19"/>
            <p:cNvSpPr/>
            <p:nvPr/>
          </p:nvSpPr>
          <p:spPr>
            <a:xfrm rot="907200">
              <a:off x="7064280" y="2349000"/>
              <a:ext cx="851040" cy="115272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0"/>
            <p:cNvSpPr/>
            <p:nvPr/>
          </p:nvSpPr>
          <p:spPr>
            <a:xfrm rot="907200">
              <a:off x="7077240" y="2622960"/>
              <a:ext cx="105480" cy="41004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1"/>
            <p:cNvSpPr/>
            <p:nvPr/>
          </p:nvSpPr>
          <p:spPr>
            <a:xfrm rot="907200">
              <a:off x="7222680" y="2774520"/>
              <a:ext cx="6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24"/>
          <p:cNvGrpSpPr/>
          <p:nvPr/>
        </p:nvGrpSpPr>
        <p:grpSpPr>
          <a:xfrm>
            <a:off x="4491720" y="2240640"/>
            <a:ext cx="1091880" cy="1194480"/>
            <a:chOff x="4491720" y="2240640"/>
            <a:chExt cx="1091880" cy="1194480"/>
          </a:xfrm>
        </p:grpSpPr>
        <p:sp>
          <p:nvSpPr>
            <p:cNvPr id="567" name="矩形 23"/>
            <p:cNvSpPr/>
            <p:nvPr/>
          </p:nvSpPr>
          <p:spPr>
            <a:xfrm rot="714600">
              <a:off x="5188680" y="2313360"/>
              <a:ext cx="360000" cy="37548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4"/>
            <p:cNvSpPr/>
            <p:nvPr/>
          </p:nvSpPr>
          <p:spPr>
            <a:xfrm rot="714600">
              <a:off x="4526280" y="2990520"/>
              <a:ext cx="360000" cy="37548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22"/>
            <p:cNvSpPr/>
            <p:nvPr/>
          </p:nvSpPr>
          <p:spPr>
            <a:xfrm rot="714600">
              <a:off x="4643640" y="2309760"/>
              <a:ext cx="780840" cy="1056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Box 26"/>
          <p:cNvSpPr/>
          <p:nvPr/>
        </p:nvSpPr>
        <p:spPr>
          <a:xfrm rot="857400">
            <a:off x="4738680" y="2682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版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29"/>
          <p:cNvGrpSpPr/>
          <p:nvPr/>
        </p:nvGrpSpPr>
        <p:grpSpPr>
          <a:xfrm>
            <a:off x="5634720" y="2193840"/>
            <a:ext cx="1180800" cy="1297440"/>
            <a:chOff x="5634720" y="2193840"/>
            <a:chExt cx="1180800" cy="1297440"/>
          </a:xfrm>
        </p:grpSpPr>
        <p:sp>
          <p:nvSpPr>
            <p:cNvPr id="572" name="矩形 27"/>
            <p:cNvSpPr/>
            <p:nvPr/>
          </p:nvSpPr>
          <p:spPr>
            <a:xfrm rot="1645200">
              <a:off x="5834520" y="2314440"/>
              <a:ext cx="781560" cy="1056240"/>
            </a:xfrm>
            <a:prstGeom prst="rect">
              <a:avLst/>
            </a:prstGeom>
            <a:solidFill>
              <a:srgbClr val="598e88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角三角形 28"/>
            <p:cNvSpPr/>
            <p:nvPr/>
          </p:nvSpPr>
          <p:spPr>
            <a:xfrm rot="1645200">
              <a:off x="5671800" y="2979720"/>
              <a:ext cx="214200" cy="213840"/>
            </a:xfrm>
            <a:prstGeom prst="rtTriangle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直角三角形 29"/>
            <p:cNvSpPr/>
            <p:nvPr/>
          </p:nvSpPr>
          <p:spPr>
            <a:xfrm rot="12445800">
              <a:off x="6622920" y="2525400"/>
              <a:ext cx="145800" cy="145800"/>
            </a:xfrm>
            <a:prstGeom prst="rtTriangle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0"/>
            <p:cNvSpPr/>
            <p:nvPr/>
          </p:nvSpPr>
          <p:spPr>
            <a:xfrm rot="1645200">
              <a:off x="5947920" y="271944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版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7" descr=""/>
          <p:cNvPicPr/>
          <p:nvPr/>
        </p:nvPicPr>
        <p:blipFill>
          <a:blip r:embed="rId1"/>
          <a:srcRect l="0" t="2748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71640" y="1704960"/>
            <a:ext cx="74152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9640" y="494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2:51:00Z</dcterms:created>
  <dc:creator>ppt宝藏</dc:creator>
  <dc:description/>
  <dc:language>en-US</dc:language>
  <cp:lastModifiedBy>yu wang</cp:lastModifiedBy>
  <cp:lastPrinted>1899-12-30T00:00:00Z</cp:lastPrinted>
  <dcterms:modified xsi:type="dcterms:W3CDTF">2015-08-14T12:53:49Z</dcterms:modified>
  <cp:revision>1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